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3EF-CAAD-4715-9830-8B4CD2F4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C6E-BE90-4BDD-99D2-F8DB01F6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419-AF84-4691-B676-36A45AF4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B23-5070-4C78-BF56-22CA27DC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F6520-0BBB-4CEC-91C8-0C076C09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9DE15-DF25-443B-B3C2-01A6AA2C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C1EB6-D2D4-40A5-9E04-F69DD9F1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498C-E0E6-477C-A16A-BB2CD8CC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252D-0C5F-428C-990A-9B1E541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2C879-3A6D-400D-97E0-FDF0EAA9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024CF-9574-49A5-97C6-B6724ED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5AB-299C-461B-84E5-F2836271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38B8B-164E-4EB4-AFE1-8AEA09E3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ADF8B-B48D-4595-AD34-B78967E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B79F3-C156-4D1F-87A7-E019041E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AC998-6017-4784-9E6A-E1DD0153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40E5E-A0F4-4631-B1D3-534F75AA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F37-FB7A-4EBA-8DE5-5BDB123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EAB-328C-4DA2-BC53-0F11277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287-7784-48B6-BF1F-56CF1310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CA2-9C76-4C9C-9F8A-DA36C1A7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435-81D5-4D29-87D6-95E57F04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D74-15BC-4D96-98EB-CA3E6008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109-CA20-4724-8AEA-731E5341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251F2C-C118-402C-BAA8-1E5F8140F8E1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9ECE9-89D2-49EA-B47B-07F84E524C31}" type="slidenum">
              <a:rPr b="0" lang="pt-BR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java.inf.ufsc.br/games" TargetMode="External"/><Relationship Id="rId3" Type="http://schemas.openxmlformats.org/officeDocument/2006/relationships/hyperlink" Target="https://java.inf.ufsc.br/games" TargetMode="External"/><Relationship Id="rId4" Type="http://schemas.openxmlformats.org/officeDocument/2006/relationships/hyperlink" Target="https://java.inf.ufsc.br/games" TargetMode="External"/><Relationship Id="rId5" Type="http://schemas.openxmlformats.org/officeDocument/2006/relationships/hyperlink" Target="https://java.inf.ufsc.br/games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leobr@inf.ufsc.br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05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NetGamesNR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10920" y="4581000"/>
            <a:ext cx="45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Leonardo de Souza Brasi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Orientador: Ricardo Pereira e Silva, D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27880" y="3141720"/>
            <a:ext cx="70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mo utilizar o netgames para adaptar um j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GSer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Conexão de diferentes jogos (sem exigência de tempo real), ao mesmo tem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Desconhecimento da lógica dos jog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ossibilitar comunicação entre jogadores desses jogos através de parti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GSer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Jo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2781360"/>
            <a:ext cx="7200720" cy="36208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GSer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Parti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27280" y="2133720"/>
            <a:ext cx="5641920" cy="4441680"/>
          </a:xfrm>
          <a:prstGeom prst="rect">
            <a:avLst/>
          </a:prstGeom>
          <a:ln cap="sq" w="19080">
            <a:solidFill>
              <a:srgbClr val="ffcc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GSer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olocando o NGServer no 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-272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 – Download do arquivo servidor.j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-272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 – Executan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ha de comando “java –jar servidor.jar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-272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al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ocolo TCP/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sa por default a porta 109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nfigurações podem ser realizadas através do arquivo servidor.proper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GFra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bstração de um domínio de aplicações, adequada a ser especializada em aplicações deste domínio” [SILVA, 2000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27280" y="3933720"/>
          <a:ext cx="504828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3933720"/>
                    <a:ext cx="504828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GFra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tGamesNRT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mínio: Computação Distribuí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licações: Jogos digitais sem exigência de tempo r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nefí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ilitar implementação de rede para desenvolvedores de jogos (NR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conomia de mensagens de rede (trata um conjunto de regras de comunicação, e.g. tentar conectar duas vezes, desconectar sem estar conectad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GFra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Proxy e Ouvi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1840" indent="-26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Desenvolve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mo enviar mensagens e conectar-se?      Através de uma instância de Proxy (um Single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Possui métodos para: o jogador se conectar no servidor, iniciar partida com outro(s) jogador(es), finalizar partida, desconectar, etc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mo receber notificações do servido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nterface OuvidorProxy (padrão de projeto Observ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Possui métodos invocados pelo servidor. Métodos para finalizar uma partida com erro, receber jogada, tratar conexão perdida, etc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GFra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stados do Prox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2205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741672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imeiros pas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 - Download do frame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 - Download do arquivo de configuração no por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onexã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Proxy.</a:t>
            </a:r>
            <a:r>
              <a:rPr b="0" i="1" lang="pt-BR" sz="2000" spc="-1" strike="noStrike">
                <a:solidFill>
                  <a:srgbClr val="ffffff"/>
                </a:solidFill>
                <a:latin typeface="Comic Sans MS"/>
              </a:rPr>
              <a:t>getInstance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().conectar(ipServidor, nome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p padrão: “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venus.inf.ufsc.br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-258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ceções: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rquivoNaoExisteException, JahConectadoException, NaoPossivelConectarExcep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0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0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-293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Iniciar Parti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7200" indent="-24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xy.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getInstance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().</a:t>
            </a: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iniciarPartida(numJogadores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7200" indent="-24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mplementar no OuvidorProx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mic Sans MS"/>
              </a:rPr>
              <a:t>iniciarNovaPartida(posica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7200" indent="-244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ceções: NaoConectadoExce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3400" indent="-293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a uma classe se tornar uma “ouvidora" de Proxy é necessário, além de implementar a interface OuvidorProxy, chamar o méto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xy.getInstance().addOuvinte(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3400" indent="-293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e uma partida não for iniciada o método tratarPartidaNaoIniciada é chamado nos Ouvido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3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Tópic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Os artefa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NetGames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NetGamesFra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 Portal do Desenvolve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ando um jogo (*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ploy do Netg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onsiderações fin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Enviar Jogad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xy.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getInstance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().enviaJogada(jogada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omic Sans MS"/>
              </a:rPr>
              <a:t>jogada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pode ser qualquer objeto que implemente a interface Jog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Receber Joga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Implementar método do OuvidorProxy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ublic void receberJogada(Jogada jogada);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Desconexã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roxy.</a:t>
            </a:r>
            <a:r>
              <a:rPr b="0" i="1" lang="pt-BR" sz="2800" spc="-1" strike="noStrike">
                <a:solidFill>
                  <a:srgbClr val="ffffff"/>
                </a:solidFill>
                <a:latin typeface="Comic Sans MS"/>
              </a:rPr>
              <a:t>getInstance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().desconectar(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Adaptando um jog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-59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lem disso existem métodos pa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9120" indent="-520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rox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Enviar mensagens texto (String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iniciar uma partid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bter lista ordenada com nome dos jogadores de uma part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9120" indent="-520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uvidor Prox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Finalizar partida com err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ratar conexão perdid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9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Jogo da velh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Jogo criado pelo professor Ricardo para as aulas de análise e proje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7711920" cy="3678120"/>
          </a:xfrm>
          <a:prstGeom prst="rect">
            <a:avLst/>
          </a:prstGeom>
          <a:ln cap="sq" w="28440">
            <a:solidFill>
              <a:srgbClr val="ffcc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Jogo da velh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Jogo adaptad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4751280"/>
          </a:xfrm>
          <a:prstGeom prst="rect">
            <a:avLst/>
          </a:prstGeom>
          <a:ln cap="sq" w="28440">
            <a:solidFill>
              <a:srgbClr val="ffcc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O Portal do desenvolv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java.inf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ufsc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br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/net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ermitir download do arquivo de configuração (jogoMultiPlayer.properti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cesso a (link “Documentos”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cumentos (TCC, Apresentaçõ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esso a código fonte e executável de: NGServer, NGFramework e Jog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tori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ploy do NetGam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85080" cy="4219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2000" y="1484280"/>
            <a:ext cx="66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ervidor e Jogo(s) na mesma máqu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ploy do NetGam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569080" cy="3551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49000" y="1413000"/>
            <a:ext cx="70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ervidor e Jogo(s) em máquinas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ploy do Net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272360" cy="4740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9000" y="1341360"/>
            <a:ext cx="70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ervidor e Jogo(s) em máquinas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Considerações fina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umi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a adaptar um jogo é necessári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figurar ambiente (arquivo configuração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vocar a instância de Proxy para se conectar no servidor, desconectar, iniciar partidas, enviar e receber jogada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mplementar a interface OuvidorProxy para receber as jogadas, solicitação de inicio de partida, possíveis erros*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ão esquecer de adicionar no Proxy (design pattern Observ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mplementar os objetos trocados entre as aplicações com a interface Jogad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tar as Exceçõ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Jogos possibilitam diversão, educação, etc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Com o surgimento dos computadores e as primeiras redes surgem também os jogos multi-player on-line: Doom, CS, etc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ém de serem extremamente divertidos, esses jogos possuem algumas características em comum, como por exemplo, a c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xão com um servid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Considerações fina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úvidas 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gu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s nosso jogo não é multi-player, então nós não precisamos fazer nada diss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ples, um lado joga e o outro observa essas jog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 nosso jogo envolve uma “pequena” noção de tempo r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 o jogo “Corrida” no port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FIM ??? </a:t>
            </a: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http://www.inf.ufsc.br/~netg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eobr@inf.ufsc.b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leodemorgan@g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540072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rquitetura cliente servi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ois papéis distintos: cliente e servido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ão processos rodando normalmente em máquinas separad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liente é um ator ativo enquanto servidor é passivo na convers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nversação realizada através da troca de mensagen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2802240" cy="2879640"/>
          </a:xfrm>
          <a:prstGeom prst="rect">
            <a:avLst/>
          </a:prstGeom>
          <a:ln cap="sq" w="19080">
            <a:solidFill>
              <a:srgbClr val="ffcc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Nas aulas de Análise e Projeto um dos requisitos é a construção de um jo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servando os jogos dos semestres passados, algumas características foram observadas, e a principal delas é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ão possuem exigência de tempo r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a: Como jogar jogos multi-play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9520" indent="-252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mo PC?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ácil implement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cessidade dos jogadores no mesmo lug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is entedia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9520" indent="-252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ectar os jogos em red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fícil implementação, porém mais diverti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ogadores podem estar em qualquer parte do mundo, desde que conectados através da mesma re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is trabalho para o desenvolvedor do jo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hecimento de uma tecnologia que possibite essa conexão: CORBA, COM, Sockets Java, RMI, DualRP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1360" indent="-272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o possibilitar a conexão, de  um jogo multi-player, em rede, de maneira simp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tGamesNRT (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onjunto de artefatos desenvolvido para facilitar aos desenvolvedores a adaptação de seus jogos ao modo multi-jogado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NetGamesNRTServer e NetGamesNRTFramew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NetGamesNRTServer possibilita a interação de diferentes jogadores e possui a capacidade de manipular mais de um jo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NetGamesNRTFramework facilita a programação do desenvolvedor de jogos abstraindo todos os detalhes da comunicação via rede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734544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Os artefa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27640" y="1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Que informações devem ser trocadas entre jogo e servidor? Protocol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100720" cy="545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Leonardo</cp:lastModifiedBy>
  <dcterms:modified xsi:type="dcterms:W3CDTF">2008-09-03T16:59:34Z</dcterms:modified>
  <cp:revision>3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6</vt:lpwstr>
  </property>
</Properties>
</file>