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688-54E2-41CF-AA09-F42048C0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0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0640"/>
            <a:ext cx="7390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411-63AF-474E-8DE8-29283A8C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9ED-4790-46EE-A202-E9B28ED4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2640" y="129492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1040" y="129492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064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2640" y="404064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1040" y="404064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75D-CDC5-4E30-B9FA-9B4A7E71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0DDE-B317-4EF1-9B8B-9D6BE038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0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F7A1-33D6-4C2D-B339-F36DEF1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125-F6FA-4A90-8FC1-01EAAE30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CE57-C4FD-4E06-8493-0D4913C1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B4D8-5020-49AC-B15A-3F97445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75960"/>
            <a:ext cx="7380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D6D2-CA12-4993-8D45-1BA41CEF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7B5-200A-44E7-AB80-C5C2375E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0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C28-0313-4E02-BDBC-1B01A223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072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31CB-2731-4B8F-A92B-7C0EBB0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0640"/>
            <a:ext cx="7390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D48-7143-4E48-BB8E-D7E5F8B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0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0640"/>
            <a:ext cx="7390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1C84-A861-4548-9C8B-18F8142F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072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016-CC9A-4848-8E57-776EE688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2640" y="129492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1040" y="129492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064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2640" y="404064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1040" y="4040640"/>
            <a:ext cx="2379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8A81-D3CC-4210-82E6-2636DEEC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6DC-1156-4FB6-82AC-86ED3EE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2ED-8E6B-4860-8D9D-1A82304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6A2-F13B-43C2-B798-F94CCCCA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75960"/>
            <a:ext cx="7380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377-70DC-450E-A5E3-EAC3F60B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D6E-C5FA-4DB2-9841-F50AE6B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404064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72A-EEA0-4B91-A1A5-17FFCF8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294920"/>
            <a:ext cx="3606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0640"/>
            <a:ext cx="7390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CE8-B1FC-4424-A5A3-9DD296CE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380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0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1E9CAA-15D0-44EB-88E6-9838C81F6A53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32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ACAB-DF1A-43C5-9BF4-1A5C0BE98566}" type="slidenum">
              <a:rPr b="0" lang="pt-BR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.ufsc.br/leobr" TargetMode="External"/><Relationship Id="rId3" Type="http://schemas.openxmlformats.org/officeDocument/2006/relationships/hyperlink" Target="mailto:leobr@inf.ufsc.br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4000" y="1557000"/>
            <a:ext cx="590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80808"/>
                </a:solidFill>
                <a:latin typeface="Tahoma"/>
              </a:rPr>
              <a:t>NetGamesNRT</a:t>
            </a:r>
            <a:endParaRPr b="0" lang="en-US" sz="6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0920" y="4581000"/>
            <a:ext cx="45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377b89"/>
                </a:solidFill>
                <a:latin typeface="Tahoma"/>
              </a:rPr>
              <a:t>Leonardo de Souza Brasil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377b89"/>
                </a:solidFill>
                <a:latin typeface="Tahoma"/>
              </a:rPr>
              <a:t>Orientador: Ricardo Pereira e Silva, Dr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Serv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Jogo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92360" y="2097000"/>
            <a:ext cx="7200720" cy="362124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Serv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artida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771640" y="1938240"/>
            <a:ext cx="5642280" cy="4442040"/>
          </a:xfrm>
          <a:prstGeom prst="rect">
            <a:avLst/>
          </a:prstGeom>
          <a:ln cap="sq" w="19080">
            <a:solidFill>
              <a:srgbClr val="377b8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Serv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Colocando o NGServer no ar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1 – Download do arquivo servidor.jar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2 – Executando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Linha de comando “java –jar servidor.jar”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etalh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rotocolo TCP/IP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Usa por default a porta 1099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onfigurações podem ser realizadas através do arquivo servidor.properti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Framework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amewor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stração de um domínio de aplicações, adequada a ser especializada em aplicações deste domínio” [SILVA, 2000]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27280" y="3933720"/>
          <a:ext cx="504828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3933720"/>
                    <a:ext cx="504828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Framework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etGamesNRTFramewor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omínio: Computação Distribuída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plicações: Jogos digitais sem exigência de tempo real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Framework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roxy e Ouvin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Desenvolvedo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omo enviar mensagens e conectar-se?      Através de uma instância de Proxy (um Singleton)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Possui métodos para: o jogador se conectar no servidor, iniciar partida com outro(s) jogador(es), finalizar partida, desconectar, etc..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omo receber notificações do servidor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Interface OuvidorProxy (padrão de projeto Observer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Possui métodos invocados pelo servidor. Métodos para finalizar uma partida com erro, receber jogada, tratar conexão perdida, etc..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Framework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Estados do Prox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6034320" cy="4200480"/>
          </a:xfrm>
          <a:prstGeom prst="rect">
            <a:avLst/>
          </a:prstGeom>
          <a:ln cap="sq" w="19080">
            <a:solidFill>
              <a:srgbClr val="377b89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2286000" y="2214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imeiros passo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1 - Download do framework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2 - Download do arquivo de configuração no portal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Conexão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Proxy.</a:t>
            </a:r>
            <a:r>
              <a:rPr b="0" i="1" lang="pt-BR" sz="2000" spc="-1" strike="noStrike">
                <a:solidFill>
                  <a:srgbClr val="080808"/>
                </a:solidFill>
                <a:latin typeface="Tahoma"/>
              </a:rPr>
              <a:t>getInstance</a:t>
            </a: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().conectar(ipServidor, nome)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Ip padrão: 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150.162.60.33 (saturno.inf.ufsc.br)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xceções: 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ArquivoNaoExisteException, JahConectadoException, NaoPossivelConectarException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Iniciar Partida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33680" indent="-28116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roxy.</a:t>
            </a:r>
            <a:r>
              <a:rPr b="0" i="1" lang="pt-BR" sz="2400" spc="-1" strike="noStrike">
                <a:solidFill>
                  <a:srgbClr val="080808"/>
                </a:solidFill>
                <a:latin typeface="Tahoma"/>
              </a:rPr>
              <a:t>getInstance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().</a:t>
            </a: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iniciarPartida(numJogadores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33680" indent="-28116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Implementar no OuvidorProxy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Tahoma"/>
              </a:rPr>
              <a:t>iniciarNovaPartida(posicao)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33680" indent="-28116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xceções: NaoConectadoExcep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7680" indent="-3376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ara uma classe se tornar uma “ouvidora" de Proxy é necessário, além de implementar a interface OuvidorProxy, chamar o método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roxy.getInstance().addOuvinte(</a:t>
            </a:r>
            <a:r>
              <a:rPr b="0" i="1" lang="en-US" sz="2400" spc="-1" strike="noStrike">
                <a:solidFill>
                  <a:srgbClr val="080808"/>
                </a:solidFill>
                <a:latin typeface="Tahoma"/>
              </a:rPr>
              <a:t>this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Se uma partida não for iniciada o método tratarPartidaNaoIniciada é chamado nos Ouvidores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33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80808"/>
                </a:solidFill>
                <a:latin typeface="Tahoma"/>
              </a:rPr>
              <a:t>Enviar Jogada: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roxy.</a:t>
            </a:r>
            <a:r>
              <a:rPr b="0" i="1" lang="pt-BR" sz="2400" spc="-1" strike="noStrike">
                <a:solidFill>
                  <a:srgbClr val="080808"/>
                </a:solidFill>
                <a:latin typeface="Tahoma"/>
              </a:rPr>
              <a:t>getInstance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().enviaJogada(jogada)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t-BR" sz="2800" spc="-1" strike="noStrike">
                <a:solidFill>
                  <a:srgbClr val="080808"/>
                </a:solidFill>
                <a:latin typeface="Tahoma"/>
              </a:rPr>
              <a:t>jogada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 pode ser qualquer objeto que implemente a interface Jogada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Tópico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Os artefato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NetGamesServ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NetGamesFramewor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 Portal do Desenvolvedo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daptando um jogo (*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Considerações finai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Receber Jogada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988920" indent="-53172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Implementar método do OuvidorProxy 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ublic void receberJogada(Jogada jogada);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8040" indent="-608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Desconexão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988920" indent="-53172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roxy.</a:t>
            </a:r>
            <a:r>
              <a:rPr b="0" i="1" lang="pt-BR" sz="2800" spc="-1" strike="noStrike">
                <a:solidFill>
                  <a:srgbClr val="080808"/>
                </a:solidFill>
                <a:latin typeface="Tahoma"/>
              </a:rPr>
              <a:t>getInstance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().desconectar()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9889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lem disso existem métodos para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988920" indent="-53172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roxy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nviar mensagens texto (String)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Reiniciar uma partida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bter lista ordenada com nome dos jogadores de uma partid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988920" indent="-53172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uvidor Proxy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Finalizar partida com erro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Tratar conexão perdida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9889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9889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Jogo da velh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Jogo criado pelo professor Ricardo para as aulas de análise e projetos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7711920" cy="3678120"/>
          </a:xfrm>
          <a:prstGeom prst="rect">
            <a:avLst/>
          </a:prstGeom>
          <a:ln cap="sq" w="28440">
            <a:solidFill>
              <a:srgbClr val="377b89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Jogo da velh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Jogo adaptado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569080" cy="4751280"/>
          </a:xfrm>
          <a:prstGeom prst="rect">
            <a:avLst/>
          </a:prstGeom>
          <a:ln cap="sq" w="28440">
            <a:solidFill>
              <a:srgbClr val="377b89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 Portal do desenvolved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ermitir download do arquivo de configuração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Acesso aos artefatos (servidor e framework)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ahoma"/>
              </a:rPr>
              <a:t>http://java.inf.ufsc.br/netgam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Considerações finai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6648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sumind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ara adaptar um jogo é necessário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vocar a instância de Proxy para enviar as jogadas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mplementar a interface OuvidorProxy para receber as jogadas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Não esquecer de adicionar no Proxy (design pattern Observer)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mplementar as jogadas com a interface Jogada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ratar as Exceçõ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FI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inf.ufsc.br/leob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leobr@inf.ufsc.b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Tahoma"/>
              </a:rPr>
              <a:t>leodemorgan@gmail.co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Jogos possibilitam diversão, educação, etc..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Com o surgimento dos computadores e as primeiras redes surgem também os jogos multi-player on-lin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Nessa aula vocês irão construir um jogo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Esses jogos se caracterizam pela não exigência de tempo real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oblema: Como jogar jogos multi-player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6120" indent="-2782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smo PC?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ácil implementação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Necessidade dos jogadores no mesmo lugar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ais entediante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6120" indent="-2782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nectar os jogos em rede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ifícil implementaçã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Jogadores podem estar em qualquer parte do mundo, desde que conectados através da mesma rede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ais divertid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ais trabalho para o desenvolvedor do jog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Conhecimento de uma tecnologia que possibite essa conexã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mo possibilitar a conexão, de  um jogo multi-player, em rede, de maneira simples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NetGamesNRT (NG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Conjunto de artefatos desenvolvido para facilitar aos desenvolvedores a adaptação de seus jogos ao modo multi-jogador.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NetGamesNRTServer e NetGamesNRTFramework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NetGamesNRTServer possibilita a intereção de diferentes jogadores e possui a capacidade de manipular mais de um jogo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NetGamesNRTFramework facilita a programação do desenvolvedor de jogos abstraindo todos os detalhes da comunicação via rede. 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734544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68280"/>
            <a:ext cx="54244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rquitetura cliente servid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ois papéis distintos: cliente e servidor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São processos rodando normalmente em máquinas separadas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liente é um ator ativo enquanto servidor é passivo na conversação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onversação realizada através da troca de mensagens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77080" y="1773360"/>
            <a:ext cx="2031840" cy="2087280"/>
          </a:xfrm>
          <a:prstGeom prst="rect">
            <a:avLst/>
          </a:prstGeom>
          <a:ln cap="sq" w="19080">
            <a:solidFill>
              <a:srgbClr val="377b8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s artefato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12500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Que informações devem ser trocadas entre jogo e servidor? Protocolo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87280" y="1974960"/>
            <a:ext cx="7417080" cy="4762440"/>
          </a:xfrm>
          <a:prstGeom prst="rect">
            <a:avLst/>
          </a:prstGeom>
          <a:ln cap="sq" w="28440">
            <a:solidFill>
              <a:srgbClr val="377b8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NGServ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Conexão de diferentes jogos (sem exigência de tempo real), ao mesmo tempo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Desconhecimento da lógica dos jogos tratados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ossibilitar comunicação entre jogadores desses jogos através de partidas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Leonardo</cp:lastModifiedBy>
  <dcterms:modified xsi:type="dcterms:W3CDTF">2008-04-14T21:32:29Z</dcterms:modified>
  <cp:revision>3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6</vt:lpwstr>
  </property>
</Properties>
</file>