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46CB-DED3-4CB4-83D9-21D1AACA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B2CD-80E7-49DF-BE21-4C3B62F5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7B1C-4660-4351-B311-64FE894D4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CC74-80A0-41CF-BFC4-3D62C5F0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E1D7F-C054-45A8-AC3A-07146DA74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B1643-726A-47DD-A697-983988EA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C2B1B-6DE1-44E8-8B88-1D2A156A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9C6DA-886E-4279-82FB-A22E35DA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B2497-4B53-4EAF-9C86-C63BA16B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600"/>
            <a:ext cx="8228160" cy="64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20A79-0CCB-4582-9054-0FE209BF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C33E0-9B06-40A6-AB2C-C4E3FE5A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563B-6C84-456E-9AA0-9724F137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45022-26BE-40B0-8F71-90BBE0A2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293BA-A4CE-460A-9E91-134E3D4A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69943-1DAD-452F-BBD2-F44CC667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3A35C-0DD3-4870-9662-2D65E2A8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52B97-997D-49B6-BF9C-E3EE3D59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A842-1344-49B4-865C-4ACB57A4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C9A3-ECDD-49BA-93EC-37B4FF79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D38B-946D-495B-A65D-8BF01D7C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600"/>
            <a:ext cx="8228160" cy="64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C628-AEB5-41B5-9A40-33FE2EA8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25C2-F543-4DDD-AAB6-BB26E97F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018B-8489-4C5A-8BCC-524BB5E6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C048-C219-47FB-9A61-B08B23AA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01DD26-7922-4931-B58E-62AD0A7C17CD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0960" cy="14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68335-745B-4102-AD07-C2DED41391ED}" type="slidenum">
              <a:rPr b="0" lang="pt-BR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leobr@inf.ufsc.br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7056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NetGamesNRT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410920" y="4581000"/>
            <a:ext cx="4537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ffcc00"/>
                </a:solidFill>
                <a:latin typeface="Tahoma"/>
              </a:rPr>
              <a:t>Leonardo de Souza Brasil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ffcc00"/>
                </a:solidFill>
                <a:latin typeface="Tahoma"/>
              </a:rPr>
              <a:t>Orientador: Ricardo Pereira e Silva, D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1870920" y="3068640"/>
            <a:ext cx="55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odelagem do framework Net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ahoma"/>
              </a:rPr>
              <a:t>NGServ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Partid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27280" y="2133720"/>
            <a:ext cx="5641920" cy="4441680"/>
          </a:xfrm>
          <a:prstGeom prst="rect">
            <a:avLst/>
          </a:prstGeom>
          <a:ln cap="sq" w="19080">
            <a:solidFill>
              <a:srgbClr val="ffcc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ahoma"/>
              </a:rPr>
              <a:t>NGFramewor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GamesNRTFra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mínio: Computação Distribuí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licações: Jogos digitais sem exigência de tempo re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nefíci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ilitar implementação de rede para desenvolvedores de jogos (NRT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conomia de mensagens de rede (trata um conjunto de regras de comunicação, e.g. tentar conectar duas vezes, desconectar sem estar conectado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04232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NGFramework – Casos de Us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NGFramework – Diagrama de interaçã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-255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37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172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NGFramework – Diagrama de class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8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NGFramework – Máquina de estados do Prox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45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ahoma"/>
              </a:rPr>
              <a:t>NGFramework – Estado Jogand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900000" y="1676520"/>
            <a:ext cx="7272360" cy="45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930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NGFramework – Sequência conect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570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362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NGFramework – Sequência desconect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914400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NGFramework – Sequência receber jogad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8677080" cy="33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Tópic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Introduçã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Net games fra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ando um jogo (cookboo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delagem de aplicaçõ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Considerações fina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NGFramework – Enviando Jogad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50920" y="1716120"/>
            <a:ext cx="87138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NGFramework – Enviando Jogad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8360" y="981000"/>
            <a:ext cx="3349440" cy="5543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236000" y="4797360"/>
            <a:ext cx="1609560" cy="1290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140360" y="981000"/>
            <a:ext cx="46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981000"/>
            <a:ext cx="47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Prox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Classe que o jogo invoca sempre que desejar uma comunicação com o servido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Classe fachada do framewor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É possível obter apenas uma instancia (Singlet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00720" y="3573360"/>
            <a:ext cx="458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95840" y="4456080"/>
            <a:ext cx="203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67280" y="4309920"/>
            <a:ext cx="295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Jog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Interface que deve ser implementada pelos objetos trocados entre aplicaçõ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Sem méto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NGFramework – Recebendo Jogad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8604000" cy="48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NGFramework – Recebendo jogad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4897440" cy="3051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508720" y="1700280"/>
            <a:ext cx="33843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OuvidorProx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Classe implementada para receber as mensagens vindas do servido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É necessário se cadastrar no proxy (Observe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Todos seus métodos são abstra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É possível existirem mais de uma por aplicaçã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ahoma"/>
              </a:rPr>
              <a:t>NGFramework - Deplo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547640" y="1989000"/>
            <a:ext cx="6410520" cy="39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ahoma"/>
              </a:rPr>
              <a:t>NGFramework - Deplo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52320" y="1986120"/>
            <a:ext cx="7839360" cy="39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ahoma"/>
              </a:rPr>
              <a:t>NGFramework - Deplo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39640" y="1052640"/>
            <a:ext cx="8280360" cy="53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ahoma"/>
              </a:rPr>
              <a:t>Adaptando um jog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0320" indent="-3103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meiros pass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4280" indent="-2581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- Download do frame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4280" indent="-2581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- Download do arquivo de configuração no port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0320" indent="-3103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Conexã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4280" indent="-25812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roxy.</a:t>
            </a: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getInstance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).conectar(ipServidor, nome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4280" indent="-2581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p padrão: “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venus.inf.ufsc.br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4280" indent="-2581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ceções: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rquivoNaoExisteException, JahConectadoException, NaoPossivelConectarExceptio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032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032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4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ahoma"/>
              </a:rPr>
              <a:t>Adaptando um jog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3400" indent="-2934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Iniciar Partid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7200" indent="-244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roxy.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getInstance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().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iniciarPartida(numJogadores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7200" indent="-244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mplementar no OuvidorProx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iniciarNovaPartida(posicao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37200" indent="-244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ções: NaoConectadoExcep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3400" indent="-2934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a uma classe se tornar uma “ouvidora" de Proxy é necessário, além de implementar a interface OuvidorProxy, chamar o métod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xy.getInstance().addOuvinte(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hi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3400" indent="-2934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e uma partida não for iniciada o método tratarPartidaNaoIniciada é chamado nos Ouvidor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340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720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ahoma"/>
              </a:rPr>
              <a:t>Adaptando um jog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Enviar Jogada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roxy.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getInstance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().enviaJogada(jogada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ahoma"/>
              </a:rPr>
              <a:t>jogada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pode ser qualquer objeto que implemente a interface Jog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0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ahoma"/>
              </a:rPr>
              <a:t>Introduçã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Jogos possibilitam diversão, educação, etc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Com o surgimento dos computadores e as primeiras redes surgem também os jogos multi-player on-l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ahoma"/>
              </a:rPr>
              <a:t>Adaptando um jog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Receber Jogad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88920" indent="-5317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Implementar método do OuvidorProxy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ublic void receberJogada(Jogada jogada);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8040" indent="-608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Desconexã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88920" indent="-5317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roxy.</a:t>
            </a:r>
            <a:r>
              <a:rPr b="0" i="1" lang="pt-BR" sz="2800" spc="-1" strike="noStrike">
                <a:solidFill>
                  <a:srgbClr val="ffffff"/>
                </a:solidFill>
                <a:latin typeface="Tahoma"/>
              </a:rPr>
              <a:t>getInstance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().desconectar(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88920" indent="0"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ahoma"/>
              </a:rPr>
              <a:t>Adaptando um jog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5800" indent="-59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Alem disso existem métodos par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69120" indent="-5209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rox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nviar mensagens texto (String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Reiniciar uma partid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bter lista ordenada com nome dos jogadores de uma parti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9120" indent="-5209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Ouvidor Prox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inalizar partida com erro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ratar conexão perdid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0"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9120" indent="0"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580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69120" indent="0"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ahoma"/>
              </a:rPr>
              <a:t>Jogo da velh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Jogo criado pelo professor Ricardo para as aulas de análise e proje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971640" y="2924280"/>
            <a:ext cx="7711920" cy="3678120"/>
          </a:xfrm>
          <a:prstGeom prst="rect">
            <a:avLst/>
          </a:prstGeom>
          <a:ln cap="sq" w="28440">
            <a:solidFill>
              <a:srgbClr val="ffcc00"/>
            </a:solidFill>
            <a:miter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ahoma"/>
              </a:rPr>
              <a:t>Jogo da velh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Jogo adaptad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8569080" cy="4751280"/>
          </a:xfrm>
          <a:prstGeom prst="rect">
            <a:avLst/>
          </a:prstGeom>
          <a:ln cap="sq" w="28440">
            <a:solidFill>
              <a:srgbClr val="ffcc00"/>
            </a:solidFill>
            <a:miter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ahoma"/>
              </a:rPr>
              <a:t>Considerações fina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880" y="1557360"/>
            <a:ext cx="73915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umin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a adaptar um jogo é necessári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figurar ambiente (arquivo configuração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vocar a instância de Proxy para se conectar no servidor, desconectar, iniciar partidas, enviar e receber jogada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mplementar a interface OuvidorProxy para receber as jogadas, solicitação de inicio de partida, possíveis erros*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ão esquecer de adicionar no Proxy (design pattern Observe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mplementar os objetos trocados entre as aplicações com a interface Jogada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tar as Exceçõ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ahoma"/>
              </a:rPr>
              <a:t>FI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leobr@inf.ufsc.b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</a:rPr>
              <a:t>leodemorgan@gmail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ahoma"/>
              </a:rPr>
              <a:t>Introduçã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3920" indent="-313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lema: Como jogar jogos multi-play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1840" indent="-261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smo PC?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ácil implementaç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cessidade dos jogadores no mesmo lug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is entedia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1840" indent="-261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ectar os jogos em red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fícil implementaçã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ogadores podem estar em qualquer parte do mundo, desde que conectados através da mesma red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is diverti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is trabalho para o desenvolvedor do jog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hecimento de uma tecnologia que possibite essa conexã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3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ahoma"/>
              </a:rPr>
              <a:t>Introduçã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1360" indent="-272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o possibilitar a conexão, de  um jogo multi-player, em rede, de maneira simpl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tGamesNRT (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njunto de artefatos desenvolvido para facilitar aos desenvolvedores a adaptação de seus jogos ao modo multi-jogado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NetGamesNRTServer e NetGamesNRTFramewor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NetGamesNRTServer possibilita a intereção de diferentes jogadores e possui a capacidade de manipular mais de um jo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NetGamesNRTFramework facilita a programação do desenvolvedor de jogos abstraindo todos os detalhes da comunicação via rede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ahoma"/>
              </a:rPr>
              <a:t>Introduçã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734544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ahoma"/>
              </a:rPr>
              <a:t>Os artefat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8686800" cy="584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ahoma"/>
              </a:rPr>
              <a:t>NGServ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Característ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8920" indent="-2754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onexão de diferentes jogos (sem exigência de tempo real), ao mesmo temp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8920" indent="-2754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Desconhecimento da lógica dos jogos trat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8920" indent="-2754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ossibilitar comunicação entre jogadores desses jogos através de partid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ahoma"/>
              </a:rPr>
              <a:t>NGServ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Jog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258920" y="2781360"/>
            <a:ext cx="7200720" cy="362088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7T01:05:15Z</dcterms:created>
  <dc:creator/>
  <dc:description/>
  <dc:language>en-US</dc:language>
  <cp:lastModifiedBy>Leonardo</cp:lastModifiedBy>
  <dcterms:modified xsi:type="dcterms:W3CDTF">2008-09-03T18:28:56Z</dcterms:modified>
  <cp:revision>3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46</vt:lpwstr>
  </property>
</Properties>
</file>