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D05-A256-4539-86BE-02E629E9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7DD-2839-47A2-A495-12626EE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742-6298-4B3F-9FF0-29BB9C04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050-8E0C-44B0-BC19-3A70056A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67E-29BC-46DF-BAA4-8C35D31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9D74-5064-46E2-AC27-9376778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67E-4D50-4BAD-BFB9-B44B8AE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A04A-59E2-4528-B77E-C60BEE2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C7F-3CF0-41F5-8909-34FF57D4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308-050E-4F0D-85A0-5E83905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E2F9-1814-4F75-A480-04C920A1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110-443C-49AB-A2CD-DD78F9B9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F66-3E46-48E9-9CA1-2A2E6A9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6E2D-19F5-49D2-A281-7E896DBF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A1F-9274-4E54-A610-52B4BDB6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654-4132-449C-A4C9-D8A95667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B51-E9A1-4457-A93C-39E916E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4BB-A625-40D6-B700-D033AFA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AB5-9188-48B1-99BC-5ABB24A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3BF-4B7B-4199-B647-F3427F9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B5B-5142-4F80-9F6F-36935BE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C9E-EC12-48C7-90DB-7DD0BB8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954-9511-4714-852C-B7BB274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D5F-BBF3-4AD0-92E6-6DEBD15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3BD6-E887-4CF2-981F-67FC79FB64C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70D-6B91-4149-B5EA-356AF6D0135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19000" y="247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66"/>
                </a:solidFill>
                <a:latin typeface="Arial"/>
              </a:rPr>
              <a:t>XML &amp; Banco de Dad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onaldo dos Santos M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E / CTC / UF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onaldo@inf.ufsc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4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COM - UF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mana de Cursos e Palestras da Comput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ubro/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xemplo de Documento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0526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Courier New"/>
              </a:rPr>
              <a:t>&lt;?xml version =“1.0” encoding ="ISO-8859-1“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Courier New"/>
              </a:rPr>
              <a:t>&lt;!–- documento XML sobre livros --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Courier New"/>
              </a:rPr>
              <a:t>&lt;!DOCTYPE listaDeLivros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ffcc00"/>
                </a:solidFill>
                <a:latin typeface="Courier New"/>
              </a:rPr>
              <a:t>&lt;!ELEMENT listaLivros(livro+) ...]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livro </a:t>
            </a:r>
            <a:r>
              <a:rPr b="1" lang="it-IT" sz="1800" spc="-1" strike="noStrike">
                <a:solidFill>
                  <a:srgbClr val="ffff00"/>
                </a:solidFill>
                <a:latin typeface="Courier New"/>
              </a:rPr>
              <a:t>ISBN=“112”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66ff33"/>
                </a:solidFill>
                <a:latin typeface="Courier New"/>
              </a:rPr>
              <a:t>&lt;título&gt;Tecnologia XML&lt;/títul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99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&lt;auto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&lt;nome&gt;João da Silva&lt;/no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&lt;eMail&gt;js@hotmail.com&lt;/eMai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00ff"/>
                </a:solidFill>
                <a:latin typeface="Courier New"/>
              </a:rPr>
              <a:t>&lt;/auto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&lt;capítulo nome=“Introdução”&gt;A XML foi 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&lt;seção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&lt;nome&gt;Linguagens de Marcação&lt;/nome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&lt;/seção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ffff"/>
                </a:solidFill>
                <a:latin typeface="Courier New"/>
              </a:rPr>
              <a:t>&lt;/capítulo&gt;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...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livro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743200"/>
            <a:ext cx="285840" cy="2971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92"/>
                </a:lnTo>
                <a:cubicBezTo>
                  <a:pt x="10800" y="9192"/>
                  <a:pt x="5400" y="10092"/>
                  <a:pt x="0" y="10092"/>
                </a:cubicBezTo>
                <a:cubicBezTo>
                  <a:pt x="5400" y="10092"/>
                  <a:pt x="10800" y="10992"/>
                  <a:pt x="10800" y="118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7320" y="6203880"/>
            <a:ext cx="64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cc66"/>
                </a:solidFill>
                <a:latin typeface="Arial"/>
              </a:rPr>
              <a:t>dado XML: estrutura hierárquica, ordenada e comple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" y="6421320"/>
            <a:ext cx="228600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31400" y="4132440"/>
            <a:ext cx="26676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31760" y="4135320"/>
            <a:ext cx="7920" cy="229716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05960" y="24130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trib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78120" y="2617920"/>
            <a:ext cx="5137200" cy="2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64240" y="2673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ff33"/>
                </a:solidFill>
                <a:latin typeface="Arial"/>
              </a:rPr>
              <a:t>elemento (simp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46560" y="2878200"/>
            <a:ext cx="1408320" cy="32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75400" y="29653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ff"/>
                </a:solidFill>
                <a:latin typeface="Arial"/>
              </a:rPr>
              <a:t>elemento (compos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824120" y="3170160"/>
            <a:ext cx="4743360" cy="32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93040" y="345276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ffff"/>
                </a:solidFill>
                <a:latin typeface="Arial"/>
              </a:rPr>
              <a:t>elemento (mis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34720" y="3639960"/>
            <a:ext cx="4529160" cy="72108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166800" y="1103400"/>
            <a:ext cx="393480" cy="1071360"/>
          </a:xfrm>
          <a:custGeom>
            <a:avLst/>
            <a:gdLst>
              <a:gd name="textAreaLeft" fmla="*/ 250920 w 393480"/>
              <a:gd name="textAreaRight" fmla="*/ 393480 w 393480"/>
              <a:gd name="textAreaTop" fmla="*/ 27720 h 1071360"/>
              <a:gd name="textAreaBottom" fmla="*/ 104364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92"/>
                </a:lnTo>
                <a:cubicBezTo>
                  <a:pt x="10800" y="9192"/>
                  <a:pt x="5400" y="10092"/>
                  <a:pt x="0" y="10092"/>
                </a:cubicBezTo>
                <a:cubicBezTo>
                  <a:pt x="5400" y="10092"/>
                  <a:pt x="10800" y="10992"/>
                  <a:pt x="10800" y="118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7080" y="1276200"/>
            <a:ext cx="192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Arial"/>
              </a:rPr>
              <a:t>informações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Arial"/>
              </a:rPr>
              <a:t>docu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51760" y="21337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emento (rai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057400" y="2351160"/>
            <a:ext cx="5137200" cy="3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ecnologia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qu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TD (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Document Type Definition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XSD (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XML-Schema Definition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ns de consul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XPath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Is para processamento de dado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OM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TD e XS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9880" y="1401480"/>
            <a:ext cx="8686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em restrições para a organização hierárquica dos dados em um doc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ocumento bem-formado e vál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umento cuja estrutura d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stá correta e seus dados estão de acordo com um esqu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s validações são feitas por programas chamad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ar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XSD é uma recomendação mais recente da W3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ntaxe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e a diversos tip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rivação de novos tipos a partir de tipos já 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ursos adicionais para restrições de valore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5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XSD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200" y="733320"/>
            <a:ext cx="8409240" cy="603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?xml version=“1.0” encoding=“UTF-8”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schem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lang="pt-BR" sz="1600" spc="-1" strike="noStrike">
                <a:solidFill>
                  <a:srgbClr val="ff0033"/>
                </a:solidFill>
                <a:latin typeface="Courier New"/>
              </a:rPr>
              <a:t>xsd:simpleType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name=“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Tisbn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&lt;xsd:restriction base=“xsd:string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&lt;xsd:pattern value=“[0-9]{2}-[0-9]{3}-[0-9]{4}-[0-9]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simpeType&gt;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lang="pt-BR" sz="1600" spc="-1" strike="noStrike">
                <a:solidFill>
                  <a:srgbClr val="ff0033"/>
                </a:solidFill>
                <a:latin typeface="Courier New"/>
              </a:rPr>
              <a:t>xsd:complexType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name=“</a:t>
            </a:r>
            <a:r>
              <a:rPr b="1" lang="pt-BR" sz="1600" spc="-1" strike="noStrike">
                <a:solidFill>
                  <a:srgbClr val="f08f00"/>
                </a:solidFill>
                <a:latin typeface="Courier New"/>
              </a:rPr>
              <a:t>Tlivro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element name=“titulo” type=“xsd:</a:t>
            </a:r>
            <a:r>
              <a:rPr b="1" lang="pt-BR" sz="1600" spc="-1" strike="noStrike">
                <a:solidFill>
                  <a:srgbClr val="00ffff"/>
                </a:solidFill>
                <a:latin typeface="Courier New"/>
              </a:rPr>
              <a:t>string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element name=“autor” type=“Tauto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minOccurs=“1” maxOccurs=“unbounded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element name=“preço” type=“xsd:</a:t>
            </a:r>
            <a:r>
              <a:rPr b="1" lang="pt-BR" sz="1600" spc="-1" strike="noStrike">
                <a:solidFill>
                  <a:srgbClr val="00ffff"/>
                </a:solidFill>
                <a:latin typeface="Courier New"/>
              </a:rPr>
              <a:t>float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“/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attribute name=“isbn” type=“</a:t>
            </a:r>
            <a:r>
              <a:rPr b="1" lang="pt-BR" sz="1600" spc="-1" strike="noStrike">
                <a:solidFill>
                  <a:srgbClr val="ffff00"/>
                </a:solidFill>
                <a:latin typeface="Courier New"/>
              </a:rPr>
              <a:t>Tisbn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”/&gt;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complexType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lang="pt-BR" sz="1600" spc="-1" strike="noStrike">
                <a:solidFill>
                  <a:srgbClr val="ff0033"/>
                </a:solidFill>
                <a:latin typeface="Courier New"/>
              </a:rPr>
              <a:t>xsd:element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name=“listaLivros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xsd:complexType&gt;  &lt;xsd:element name=“livro” type=“</a:t>
            </a:r>
            <a:r>
              <a:rPr b="1" lang="pt-BR" sz="1600" spc="-1" strike="noStrike">
                <a:solidFill>
                  <a:srgbClr val="f08f00"/>
                </a:solidFill>
                <a:latin typeface="Courier New"/>
              </a:rPr>
              <a:t>Tlivro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minOccurs=“1” maxOccurs=“unbounded”/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Linguagens de Consul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4708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X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pressões de caminho para acesso a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s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/livro/tí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/livro[@ISBN=100]/a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XQu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nguagem declarativa de consul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unções, geração de novas estruturas de resultado, atributos calculados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for $liv in /liv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where $liv/autor/nome = “João Silv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Courier New"/>
              </a:rPr>
              <a:t>return { $liv/@ISBN, $liv/titulo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4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OM (</a:t>
            </a:r>
            <a:r>
              <a:rPr b="0" i="1" lang="pt-BR" sz="4400" spc="-1" strike="noStrike">
                <a:solidFill>
                  <a:srgbClr val="ffcc66"/>
                </a:solidFill>
                <a:latin typeface="Arial"/>
              </a:rPr>
              <a:t>Document Object Model</a:t>
            </a: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8440" y="1663200"/>
            <a:ext cx="865512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 de dados OO par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 hierárquico (árv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I 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cipais classes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documen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nod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nodelis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étodos de consulta e atualização de dados para cada uma dessas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91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lasses D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9240" y="21718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istaLiv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8440" y="2133720"/>
            <a:ext cx="1143000" cy="4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25000" y="31240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liv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14560" y="3121200"/>
            <a:ext cx="5713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4800" y="4035600"/>
            <a:ext cx="685440" cy="380880"/>
            <a:chOff x="604800" y="4035600"/>
            <a:chExt cx="685440" cy="380880"/>
          </a:xfrm>
        </p:grpSpPr>
        <p:sp>
          <p:nvSpPr>
            <p:cNvPr id="142" name=""/>
            <p:cNvSpPr/>
            <p:nvPr/>
          </p:nvSpPr>
          <p:spPr>
            <a:xfrm>
              <a:off x="614160" y="40384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títul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4800" y="4035600"/>
              <a:ext cx="6094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482200" y="4038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e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1760" y="4035600"/>
            <a:ext cx="7239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1520" y="2549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0960" y="312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B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4360" y="3121200"/>
            <a:ext cx="72360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04960" y="3311640"/>
            <a:ext cx="41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8800" y="3768840"/>
            <a:ext cx="5829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8800" y="376884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560" y="2778120"/>
            <a:ext cx="289548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9480" y="2778120"/>
            <a:ext cx="0" cy="34308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8160" y="4681440"/>
            <a:ext cx="1980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cnologia XM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33560" y="376884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0400" y="35020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40800" y="4681440"/>
            <a:ext cx="750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79.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8800" y="44164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3560" y="44164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5634000"/>
            <a:ext cx="1701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oão da Silv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536904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9080" y="5614920"/>
            <a:ext cx="1959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s@hotmail.com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8600" y="536904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4320" y="4991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33880" y="4987800"/>
            <a:ext cx="7236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300560" y="4987800"/>
            <a:ext cx="608400" cy="380880"/>
            <a:chOff x="4300560" y="4987800"/>
            <a:chExt cx="608400" cy="380880"/>
          </a:xfrm>
        </p:grpSpPr>
        <p:sp>
          <p:nvSpPr>
            <p:cNvPr id="167" name=""/>
            <p:cNvSpPr/>
            <p:nvPr/>
          </p:nvSpPr>
          <p:spPr>
            <a:xfrm>
              <a:off x="4310640" y="49910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0560" y="4987800"/>
              <a:ext cx="57132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738960" y="4057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28880" y="405432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91040" y="378792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38440" y="47401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0120" y="44355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7520" y="4740120"/>
            <a:ext cx="102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6400" y="47401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8840" y="534996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8400" y="49719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57960" y="496872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7120" y="4057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77040" y="405432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8840" y="378792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4355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03720" y="5595840"/>
            <a:ext cx="16135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ria Souz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3080" y="2778120"/>
            <a:ext cx="1828800" cy="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8320" y="31240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liv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57880" y="3121200"/>
            <a:ext cx="571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0" y="2778120"/>
            <a:ext cx="0" cy="34308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00200" y="25416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00cc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00" y="1720800"/>
            <a:ext cx="8896320" cy="4495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53680" y="12841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ffff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4600" y="2131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ff00"/>
                </a:solidFill>
                <a:latin typeface="Arial"/>
              </a:rPr>
              <a:t>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09680" y="2530440"/>
            <a:ext cx="647640" cy="647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1680" y="48182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672320" y="3596760"/>
            <a:ext cx="0" cy="1257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 rot="16200000">
            <a:off x="4632840" y="-95400"/>
            <a:ext cx="344520" cy="5470560"/>
          </a:xfrm>
          <a:custGeom>
            <a:avLst/>
            <a:gdLst>
              <a:gd name="textAreaLeft" fmla="*/ 219960 w 344520"/>
              <a:gd name="textAreaRight" fmla="*/ 344520 w 344520"/>
              <a:gd name="textAreaTop" fmla="*/ 142560 h 5470560"/>
              <a:gd name="textAreaBottom" fmla="*/ 5328000 h 547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092"/>
                </a:lnTo>
                <a:cubicBezTo>
                  <a:pt x="10800" y="2992"/>
                  <a:pt x="5400" y="3892"/>
                  <a:pt x="0" y="3892"/>
                </a:cubicBezTo>
                <a:cubicBezTo>
                  <a:pt x="5400" y="3892"/>
                  <a:pt x="10800" y="4792"/>
                  <a:pt x="10800" y="56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1440" y="2033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ff"/>
                </a:solidFill>
                <a:latin typeface="Arial"/>
              </a:rPr>
              <a:t>node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7176960" y="4397400"/>
            <a:ext cx="4953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Gerenciamento de Dados X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BDs Relacionais e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9396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ternativa adequada a docs XML fortemente estrutu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documentos orientados a dado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dequado a aplicações que realizam intercâmbio de dados convencionais em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dos de BD, arquivos, relatórios, docs bem formatados em g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BDs Relacionais e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09840"/>
            <a:ext cx="807732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nta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o de uma tecnologia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adur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de 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e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al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ns de consulta decla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pla utilização no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ários SGBDs já lidam com o formato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racle, DB2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estões básicas a re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rmazenamento dos doc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cesso aos dado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 de Dado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18000" y="342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rmazenamento Relacional de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mas aborda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rafo [Florescu9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íveis de granularidade [Graves03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bordagem Graf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9960" y="13208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c XML é visto como um grafo orientado rotu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uas alternativas em geral são ado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tabela de ar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tabela para cada ró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440" y="3355920"/>
            <a:ext cx="5143680" cy="341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?xml version =“1.0” encoding = ...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livro ISBN=“112”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título&gt;</a:t>
            </a: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XML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títul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auto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nome&gt;João Silva&lt;/no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eMail&gt;js@xxx.com&lt;/eMai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auto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capítulo nome=“Introdução”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capítulo&gt; ...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livro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&lt;/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211720" y="3244680"/>
            <a:ext cx="3932280" cy="3540240"/>
            <a:chOff x="5211720" y="3244680"/>
            <a:chExt cx="3932280" cy="3540240"/>
          </a:xfrm>
        </p:grpSpPr>
        <p:sp>
          <p:nvSpPr>
            <p:cNvPr id="210" name=""/>
            <p:cNvSpPr/>
            <p:nvPr/>
          </p:nvSpPr>
          <p:spPr>
            <a:xfrm>
              <a:off x="7227720" y="3984480"/>
              <a:ext cx="203400" cy="27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800760" y="6078240"/>
              <a:ext cx="434880" cy="444600"/>
              <a:chOff x="6800760" y="6078240"/>
              <a:chExt cx="434880" cy="4446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800760" y="6078240"/>
                <a:ext cx="434880" cy="444600"/>
                <a:chOff x="6800760" y="6078240"/>
                <a:chExt cx="434880" cy="4446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41800" y="6081480"/>
                  <a:ext cx="202680" cy="279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800760" y="6078240"/>
                  <a:ext cx="4348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6832440" y="6097320"/>
                <a:ext cx="203400" cy="279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321680" y="3338280"/>
              <a:ext cx="4680" cy="66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816240" y="4201920"/>
              <a:ext cx="420840" cy="38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21440" y="4843440"/>
              <a:ext cx="5508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92440" y="4843440"/>
              <a:ext cx="407880" cy="70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011720" y="5891040"/>
              <a:ext cx="34740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26240" y="4835520"/>
              <a:ext cx="584280" cy="75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05440" y="4795560"/>
              <a:ext cx="9781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31120" y="4076640"/>
              <a:ext cx="722160" cy="2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3960" y="414792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liv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2880" y="5246640"/>
              <a:ext cx="792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45400" y="384948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07280" y="3541680"/>
              <a:ext cx="122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listaLiv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15160" y="4694040"/>
              <a:ext cx="738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IS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11760" y="5744880"/>
              <a:ext cx="770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66080" y="5079960"/>
              <a:ext cx="779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au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3520" y="4690800"/>
              <a:ext cx="1185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capítu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7000" y="584676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XML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10640" y="5989320"/>
              <a:ext cx="1233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Introdução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93080" y="6430680"/>
              <a:ext cx="1404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s@xxx.com"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35800" y="5794200"/>
              <a:ext cx="646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eM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97480" y="5159160"/>
              <a:ext cx="76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112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91240" y="4545000"/>
              <a:ext cx="231840" cy="282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8920" y="4539960"/>
              <a:ext cx="4492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07200" y="3981240"/>
              <a:ext cx="38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923080" y="5084640"/>
              <a:ext cx="461880" cy="447480"/>
              <a:chOff x="5923080" y="5084640"/>
              <a:chExt cx="461880" cy="447480"/>
            </a:xfrm>
          </p:grpSpPr>
          <p:sp>
            <p:nvSpPr>
              <p:cNvPr id="241" name=""/>
              <p:cNvSpPr/>
              <p:nvPr/>
            </p:nvSpPr>
            <p:spPr>
              <a:xfrm>
                <a:off x="5923080" y="5084640"/>
                <a:ext cx="46188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3600" y="5100120"/>
                <a:ext cx="206640" cy="275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110280" y="5540400"/>
              <a:ext cx="420480" cy="444240"/>
              <a:chOff x="6110280" y="5540400"/>
              <a:chExt cx="420480" cy="4442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110280" y="5540400"/>
                <a:ext cx="420480" cy="444240"/>
                <a:chOff x="6110280" y="5540400"/>
                <a:chExt cx="420480" cy="444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136920" y="5544720"/>
                  <a:ext cx="203040" cy="2790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110280" y="5540400"/>
                  <a:ext cx="420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6134040" y="5576400"/>
                <a:ext cx="206280" cy="2761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575400" y="330804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4720" y="5594040"/>
              <a:ext cx="23364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2760" y="5586120"/>
              <a:ext cx="450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00680" y="6327720"/>
              <a:ext cx="12495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oão Silv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92960" y="5905440"/>
              <a:ext cx="3031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75560" y="6118200"/>
              <a:ext cx="222120" cy="276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53240" y="6110280"/>
              <a:ext cx="451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00840" y="4981320"/>
              <a:ext cx="22392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78880" y="4973400"/>
              <a:ext cx="450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66080" y="5268600"/>
              <a:ext cx="22716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97720" y="5416560"/>
              <a:ext cx="770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0160" y="5736960"/>
              <a:ext cx="28080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26280" y="5743440"/>
              <a:ext cx="4510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08920" y="5216400"/>
              <a:ext cx="722160" cy="2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52000" y="498924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829560" y="4655520"/>
              <a:ext cx="10983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68960" y="4437000"/>
              <a:ext cx="72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1720" y="3244680"/>
              <a:ext cx="3875040" cy="354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lternativa 1 – Tabela de Arest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019400" y="1920960"/>
          <a:ext cx="5086440" cy="4387680"/>
        </p:xfrm>
        <a:graphic>
          <a:graphicData uri="http://schemas.openxmlformats.org/drawingml/2006/table">
            <a:tbl>
              <a:tblPr/>
              <a:tblGrid>
                <a:gridCol w="895680"/>
                <a:gridCol w="838080"/>
                <a:gridCol w="990720"/>
                <a:gridCol w="761760"/>
                <a:gridCol w="895320"/>
                <a:gridCol w="70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v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SB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08f00"/>
                          </a:solidFill>
                          <a:latin typeface="Times New Roman"/>
                        </a:rPr>
                        <a:t>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u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cap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r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o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Sil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2044800" y="2265480"/>
            <a:ext cx="203040" cy="277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17840" y="4359240"/>
            <a:ext cx="434880" cy="444600"/>
            <a:chOff x="1617840" y="4359240"/>
            <a:chExt cx="434880" cy="444600"/>
          </a:xfrm>
        </p:grpSpPr>
        <p:grpSp>
          <p:nvGrpSpPr>
            <p:cNvPr id="270" name=""/>
            <p:cNvGrpSpPr/>
            <p:nvPr/>
          </p:nvGrpSpPr>
          <p:grpSpPr>
            <a:xfrm>
              <a:off x="1617840" y="4359240"/>
              <a:ext cx="434880" cy="444600"/>
              <a:chOff x="1617840" y="4359240"/>
              <a:chExt cx="434880" cy="444600"/>
            </a:xfrm>
          </p:grpSpPr>
          <p:sp>
            <p:nvSpPr>
              <p:cNvPr id="271" name=""/>
              <p:cNvSpPr/>
              <p:nvPr/>
            </p:nvSpPr>
            <p:spPr>
              <a:xfrm>
                <a:off x="1658880" y="4362480"/>
                <a:ext cx="20268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17840" y="4359240"/>
                <a:ext cx="43488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49520" y="4378320"/>
              <a:ext cx="203400" cy="279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8400" y="1619280"/>
            <a:ext cx="4680" cy="66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33680" y="2482920"/>
            <a:ext cx="420480" cy="3873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38160" y="3124080"/>
            <a:ext cx="550800" cy="3002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09520" y="3124080"/>
            <a:ext cx="408240" cy="704880"/>
          </a:xfrm>
          <a:prstGeom prst="line">
            <a:avLst/>
          </a:prstGeom>
          <a:ln w="12600">
            <a:solidFill>
              <a:srgbClr val="f08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828800" y="4172040"/>
            <a:ext cx="347760" cy="250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2960" y="3116160"/>
            <a:ext cx="584280" cy="75096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2520" y="3076560"/>
            <a:ext cx="977760" cy="29376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47840" y="2357280"/>
            <a:ext cx="722520" cy="223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90680" y="2428920"/>
            <a:ext cx="731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liv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09600" y="3527280"/>
            <a:ext cx="79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08f00"/>
                </a:solidFill>
                <a:latin typeface="Arial"/>
              </a:rPr>
              <a:t>tít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62120" y="2130480"/>
            <a:ext cx="72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1822320"/>
            <a:ext cx="1220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listaLiv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1880" y="2975040"/>
            <a:ext cx="7380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00"/>
                </a:solidFill>
                <a:latin typeface="Arial"/>
              </a:rPr>
              <a:t>ISB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28840" y="4025880"/>
            <a:ext cx="769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ff"/>
                </a:solidFill>
                <a:latin typeface="Arial"/>
              </a:rPr>
              <a:t>n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2800" y="3360600"/>
            <a:ext cx="779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ff"/>
                </a:solidFill>
                <a:latin typeface="Arial"/>
              </a:rPr>
              <a:t>au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00240" y="2971800"/>
            <a:ext cx="1185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33"/>
                </a:solidFill>
                <a:latin typeface="Arial"/>
              </a:rPr>
              <a:t>capítu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3720" y="4127400"/>
            <a:ext cx="8305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XML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27360" y="4270320"/>
            <a:ext cx="1233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ntrodução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9800" y="4711680"/>
            <a:ext cx="1405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js@xxx.com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52520" y="4075200"/>
            <a:ext cx="646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200" y="3440160"/>
            <a:ext cx="768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12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07960" y="2825640"/>
            <a:ext cx="231840" cy="282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6000" y="2820960"/>
            <a:ext cx="449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3920" y="2262240"/>
            <a:ext cx="38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9800" y="3365640"/>
            <a:ext cx="461880" cy="447480"/>
            <a:chOff x="739800" y="3365640"/>
            <a:chExt cx="461880" cy="447480"/>
          </a:xfrm>
        </p:grpSpPr>
        <p:sp>
          <p:nvSpPr>
            <p:cNvPr id="299" name=""/>
            <p:cNvSpPr/>
            <p:nvPr/>
          </p:nvSpPr>
          <p:spPr>
            <a:xfrm>
              <a:off x="739800" y="3365640"/>
              <a:ext cx="461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320" y="3381120"/>
              <a:ext cx="206640" cy="275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927000" y="3821040"/>
            <a:ext cx="420480" cy="444600"/>
            <a:chOff x="927000" y="3821040"/>
            <a:chExt cx="420480" cy="444600"/>
          </a:xfrm>
        </p:grpSpPr>
        <p:grpSp>
          <p:nvGrpSpPr>
            <p:cNvPr id="302" name=""/>
            <p:cNvGrpSpPr/>
            <p:nvPr/>
          </p:nvGrpSpPr>
          <p:grpSpPr>
            <a:xfrm>
              <a:off x="927000" y="3821040"/>
              <a:ext cx="420480" cy="444600"/>
              <a:chOff x="927000" y="3821040"/>
              <a:chExt cx="420480" cy="444600"/>
            </a:xfrm>
          </p:grpSpPr>
          <p:sp>
            <p:nvSpPr>
              <p:cNvPr id="303" name=""/>
              <p:cNvSpPr/>
              <p:nvPr/>
            </p:nvSpPr>
            <p:spPr>
              <a:xfrm>
                <a:off x="953640" y="3825720"/>
                <a:ext cx="203040" cy="279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27000" y="3821040"/>
                <a:ext cx="42048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50760" y="3857400"/>
              <a:ext cx="20628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392120" y="1589040"/>
            <a:ext cx="72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71800" y="3875040"/>
            <a:ext cx="233280" cy="27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9480" y="3867120"/>
            <a:ext cx="450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400" y="4608360"/>
            <a:ext cx="12495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João Silva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186080"/>
            <a:ext cx="30348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92280" y="4398840"/>
            <a:ext cx="222480" cy="276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70320" y="4390920"/>
            <a:ext cx="450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17920" y="3262320"/>
            <a:ext cx="223560" cy="27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5600" y="3254400"/>
            <a:ext cx="450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82800" y="3549600"/>
            <a:ext cx="227160" cy="488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14440" y="3697200"/>
            <a:ext cx="770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36880" y="4017960"/>
            <a:ext cx="281160" cy="27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43360" y="4024440"/>
            <a:ext cx="450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5640" y="3497400"/>
            <a:ext cx="722520" cy="22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68720" y="3270240"/>
            <a:ext cx="72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46280" y="2936520"/>
            <a:ext cx="1098360" cy="95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86040" y="2717640"/>
            <a:ext cx="72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40" y="1525680"/>
            <a:ext cx="3875400" cy="35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2680" y="145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r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lternativa 2 – Tabelas p/ Rótul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76280" y="5378400"/>
          <a:ext cx="2781360" cy="1136880"/>
        </p:xfrm>
        <a:graphic>
          <a:graphicData uri="http://schemas.openxmlformats.org/drawingml/2006/table">
            <a:tbl>
              <a:tblPr/>
              <a:tblGrid>
                <a:gridCol w="927000"/>
                <a:gridCol w="927000"/>
                <a:gridCol w="92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362480" y="3244680"/>
          <a:ext cx="3505320" cy="1136880"/>
        </p:xfrm>
        <a:graphic>
          <a:graphicData uri="http://schemas.openxmlformats.org/drawingml/2006/table">
            <a:tbl>
              <a:tblPr/>
              <a:tblGrid>
                <a:gridCol w="906480"/>
                <a:gridCol w="904680"/>
                <a:gridCol w="906480"/>
                <a:gridCol w="787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365760" y="4956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Liv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62480" y="1568520"/>
          <a:ext cx="2819520" cy="113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4253400" y="1146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A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71040" y="2784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Tí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280" y="1225440"/>
            <a:ext cx="3932280" cy="3540240"/>
            <a:chOff x="71280" y="1225440"/>
            <a:chExt cx="3932280" cy="3540240"/>
          </a:xfrm>
        </p:grpSpPr>
        <p:sp>
          <p:nvSpPr>
            <p:cNvPr id="333" name=""/>
            <p:cNvSpPr/>
            <p:nvPr/>
          </p:nvSpPr>
          <p:spPr>
            <a:xfrm>
              <a:off x="2087280" y="1965240"/>
              <a:ext cx="203400" cy="277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660320" y="4059000"/>
              <a:ext cx="434880" cy="444600"/>
              <a:chOff x="1660320" y="4059000"/>
              <a:chExt cx="434880" cy="4446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660320" y="4059000"/>
                <a:ext cx="434880" cy="444600"/>
                <a:chOff x="1660320" y="4059000"/>
                <a:chExt cx="434880" cy="4446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701360" y="4062240"/>
                  <a:ext cx="202680" cy="279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60320" y="4059000"/>
                  <a:ext cx="4348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1692000" y="4078080"/>
                <a:ext cx="203400" cy="279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181240" y="1319040"/>
              <a:ext cx="4680" cy="66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675800" y="2182680"/>
              <a:ext cx="420840" cy="38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981000" y="2824200"/>
              <a:ext cx="5508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152000" y="2824200"/>
              <a:ext cx="407880" cy="70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871280" y="3871800"/>
              <a:ext cx="34740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85800" y="2816280"/>
              <a:ext cx="584280" cy="75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5000" y="2776320"/>
              <a:ext cx="9781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90680" y="2057400"/>
              <a:ext cx="722160" cy="2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33520" y="212868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Arial"/>
                </a:rPr>
                <a:t>liv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2440" y="3227400"/>
              <a:ext cx="792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33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04960" y="183024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6840" y="1522440"/>
              <a:ext cx="122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listaLiv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4720" y="2674800"/>
              <a:ext cx="738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IS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71320" y="3725640"/>
              <a:ext cx="770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ffff"/>
                  </a:solidFill>
                  <a:latin typeface="Arial"/>
                </a:rPr>
                <a:t>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25640" y="3060720"/>
              <a:ext cx="779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ff00"/>
                  </a:solidFill>
                  <a:latin typeface="Arial"/>
                </a:rPr>
                <a:t>au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3080" y="2671560"/>
              <a:ext cx="1185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capítu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6560" y="3827520"/>
              <a:ext cx="830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XML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70200" y="3970080"/>
              <a:ext cx="1233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Introdução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2640" y="4411440"/>
              <a:ext cx="1404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s@xxx.com"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95360" y="3774960"/>
              <a:ext cx="646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eM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040" y="3139920"/>
              <a:ext cx="76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112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50800" y="2525760"/>
              <a:ext cx="231840" cy="282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28480" y="2520720"/>
              <a:ext cx="4492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66760" y="1962000"/>
              <a:ext cx="38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782640" y="3065400"/>
              <a:ext cx="461880" cy="447480"/>
              <a:chOff x="782640" y="3065400"/>
              <a:chExt cx="461880" cy="447480"/>
            </a:xfrm>
          </p:grpSpPr>
          <p:sp>
            <p:nvSpPr>
              <p:cNvPr id="364" name=""/>
              <p:cNvSpPr/>
              <p:nvPr/>
            </p:nvSpPr>
            <p:spPr>
              <a:xfrm>
                <a:off x="782640" y="3065400"/>
                <a:ext cx="46188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03160" y="3080880"/>
                <a:ext cx="206640" cy="275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969840" y="3521160"/>
              <a:ext cx="420480" cy="444240"/>
              <a:chOff x="969840" y="3521160"/>
              <a:chExt cx="420480" cy="44424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969840" y="3521160"/>
                <a:ext cx="420480" cy="444240"/>
                <a:chOff x="969840" y="3521160"/>
                <a:chExt cx="420480" cy="4442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996480" y="3525480"/>
                  <a:ext cx="203040" cy="2790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969840" y="3521160"/>
                  <a:ext cx="420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993600" y="3557160"/>
                <a:ext cx="206280" cy="2761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434960" y="128880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14280" y="3574800"/>
              <a:ext cx="23364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92320" y="3566880"/>
              <a:ext cx="450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0240" y="4308480"/>
              <a:ext cx="12495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oão Silv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52520" y="3886200"/>
              <a:ext cx="3031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35120" y="4098960"/>
              <a:ext cx="222120" cy="276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2800" y="4091040"/>
              <a:ext cx="4510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60400" y="2962080"/>
              <a:ext cx="22392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38440" y="2954160"/>
              <a:ext cx="450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25640" y="3249360"/>
              <a:ext cx="22716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57280" y="3397320"/>
              <a:ext cx="770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no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79720" y="3717720"/>
              <a:ext cx="280800" cy="276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85840" y="3724200"/>
              <a:ext cx="4510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68480" y="3197160"/>
              <a:ext cx="722160" cy="2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11560" y="2970000"/>
              <a:ext cx="72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689120" y="2636280"/>
              <a:ext cx="10983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28520" y="2417760"/>
              <a:ext cx="72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280" y="1225440"/>
              <a:ext cx="3875040" cy="3540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89" name=""/>
          <p:cNvGraphicFramePr/>
          <p:nvPr/>
        </p:nvGraphicFramePr>
        <p:xfrm>
          <a:off x="4362480" y="5016600"/>
          <a:ext cx="4127400" cy="1136520"/>
        </p:xfrm>
        <a:graphic>
          <a:graphicData uri="http://schemas.openxmlformats.org/drawingml/2006/table">
            <a:tbl>
              <a:tblPr/>
              <a:tblGrid>
                <a:gridCol w="1015920"/>
                <a:gridCol w="825480"/>
                <a:gridCol w="1003320"/>
                <a:gridCol w="128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ão Sil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272480" y="45561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Times New Roman"/>
              </a:rPr>
              <a:t>NomeA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29360" y="6251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para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263600"/>
          <a:ext cx="8039160" cy="5369040"/>
        </p:xfrm>
        <a:graphic>
          <a:graphicData uri="http://schemas.openxmlformats.org/drawingml/2006/table">
            <a:tbl>
              <a:tblPr/>
              <a:tblGrid>
                <a:gridCol w="704880"/>
                <a:gridCol w="3638520"/>
                <a:gridCol w="369576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abela de Ares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abelas p/ Rótul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a única tabe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m desempenho para buscas na hierarquia do d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ão há desperdício de espaç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m desempenho para buscas por um determinado tipo de elemento ou atribu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aços nul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empenho ruim para buscas por um determinado tipo de elemento ou atribu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árias tabe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empenho ruim para buscas na hierarquia do doc (exige junções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empenho ruim na reconstrução do doc XM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cc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ão há distinção entre elemento e atribu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nfoque – Níveis de Granularida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 três níveis de detalhamento de docs XML para fins de armazen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gra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pequ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mé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Granularidade Gran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320" y="3127320"/>
            <a:ext cx="5143320" cy="341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?xml version =“1.0” encoding = ...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livro ISBN=“112”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título&gt;</a:t>
            </a:r>
            <a:r>
              <a:rPr b="1" lang="it-IT" sz="2000" spc="-1" strike="noStrike">
                <a:solidFill>
                  <a:srgbClr val="ffff99"/>
                </a:solidFill>
                <a:latin typeface="Courier New"/>
              </a:rPr>
              <a:t>XML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/títul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auto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nome&gt;João Silva&lt;/no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eMail&gt;js@xxx.com&lt;/eMai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/auto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capítulo nome=“Introdução”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/capítulo&gt; ...</a:t>
            </a: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/livro&gt;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Courier New"/>
              </a:rPr>
              <a:t>&lt;/listaLivro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33840" y="1244520"/>
          <a:ext cx="4267440" cy="175284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72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o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ú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ros.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3619440" y="60339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livros.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18400" y="1870200"/>
            <a:ext cx="56520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53200" y="2476440"/>
            <a:ext cx="3138480" cy="2486160"/>
          </a:xfrm>
          <a:custGeom>
            <a:avLst/>
            <a:gdLst>
              <a:gd name="textAreaLeft" fmla="*/ 753480 w 3138480"/>
              <a:gd name="textAreaRight" fmla="*/ 2957760 w 3138480"/>
              <a:gd name="textAreaTop" fmla="*/ 1993320 h 2486160"/>
              <a:gd name="textAreaBottom" fmla="*/ 2342880 h 2486160"/>
            </a:gdLst>
            <a:ahLst/>
            <a:rect l="textAreaLeft" t="textAreaTop" r="textAreaRight" b="textAreaBottom"/>
            <a:pathLst>
              <a:path w="21600" h="21600">
                <a:moveTo>
                  <a:pt x="0" y="18564"/>
                </a:moveTo>
                <a:lnTo>
                  <a:pt x="17318" y="18564"/>
                </a:lnTo>
                <a:lnTo>
                  <a:pt x="17318" y="5186"/>
                </a:lnTo>
                <a:lnTo>
                  <a:pt x="16072" y="5186"/>
                </a:lnTo>
                <a:lnTo>
                  <a:pt x="18836" y="0"/>
                </a:lnTo>
                <a:lnTo>
                  <a:pt x="21600" y="5186"/>
                </a:lnTo>
                <a:lnTo>
                  <a:pt x="20354" y="5186"/>
                </a:lnTo>
                <a:lnTo>
                  <a:pt x="203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9360" y="185724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ocu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Granularidade Peque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240" y="3755880"/>
            <a:ext cx="4762440" cy="30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?xml version =“1.0” encoding =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&lt;listaLivro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Courier New"/>
              </a:rPr>
              <a:t>&lt;livro </a:t>
            </a:r>
            <a:r>
              <a:rPr b="1" lang="it-IT" sz="1600" spc="-1" strike="noStrike">
                <a:solidFill>
                  <a:srgbClr val="00ff00"/>
                </a:solidFill>
                <a:latin typeface="Courier New"/>
              </a:rPr>
              <a:t>ISBN=“112”</a:t>
            </a:r>
            <a:r>
              <a:rPr b="1" lang="it-IT" sz="1600" spc="-1" strike="noStrike">
                <a:solidFill>
                  <a:srgbClr val="ff0033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ffff"/>
                </a:solidFill>
                <a:latin typeface="Courier New"/>
              </a:rPr>
              <a:t>&lt;título&gt;</a:t>
            </a: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XML</a:t>
            </a:r>
            <a:r>
              <a:rPr b="1" lang="it-IT" sz="1600" spc="-1" strike="noStrike">
                <a:solidFill>
                  <a:srgbClr val="00ffff"/>
                </a:solidFill>
                <a:latin typeface="Courier New"/>
              </a:rPr>
              <a:t>&lt;/título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autor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nome&gt;</a:t>
            </a:r>
            <a:r>
              <a:rPr b="1" lang="it-IT" sz="1600" spc="-1" strike="noStrike">
                <a:solidFill>
                  <a:srgbClr val="ff00ff"/>
                </a:solidFill>
                <a:latin typeface="Courier New"/>
              </a:rPr>
              <a:t>João Silva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no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eMail&gt;js@xxx.com&lt;/eMai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auto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capítulo nome=“Introdução”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capítulo&gt; ...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Courier New"/>
              </a:rPr>
              <a:t>&lt;/livro&gt;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&lt;/listaLivro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33240" y="63277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livros.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7240" y="1486080"/>
          <a:ext cx="4762440" cy="1876320"/>
        </p:xfrm>
        <a:graphic>
          <a:graphicData uri="http://schemas.openxmlformats.org/drawingml/2006/table">
            <a:tbl>
              <a:tblPr/>
              <a:tblGrid>
                <a:gridCol w="920520"/>
                <a:gridCol w="1231920"/>
                <a:gridCol w="1028880"/>
                <a:gridCol w="876240"/>
                <a:gridCol w="70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lem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Pa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staLiv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liv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330880" y="5568840"/>
          <a:ext cx="2895480" cy="1136880"/>
        </p:xfrm>
        <a:graphic>
          <a:graphicData uri="http://schemas.openxmlformats.org/drawingml/2006/table">
            <a:tbl>
              <a:tblPr/>
              <a:tblGrid>
                <a:gridCol w="879480"/>
                <a:gridCol w="1233360"/>
                <a:gridCol w="78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o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i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ros.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5221440" y="51465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cu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0" y="993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045040" y="1492200"/>
          <a:ext cx="4098960" cy="1136880"/>
        </p:xfrm>
        <a:graphic>
          <a:graphicData uri="http://schemas.openxmlformats.org/drawingml/2006/table">
            <a:tbl>
              <a:tblPr/>
              <a:tblGrid>
                <a:gridCol w="835200"/>
                <a:gridCol w="768240"/>
                <a:gridCol w="723960"/>
                <a:gridCol w="876240"/>
                <a:gridCol w="895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atr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SB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5052960" y="1050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254560" y="3549600"/>
          <a:ext cx="2971800" cy="1506600"/>
        </p:xfrm>
        <a:graphic>
          <a:graphicData uri="http://schemas.openxmlformats.org/drawingml/2006/table">
            <a:tbl>
              <a:tblPr/>
              <a:tblGrid>
                <a:gridCol w="1055880"/>
                <a:gridCol w="1195200"/>
                <a:gridCol w="72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n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João Sil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5146200" y="3127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teú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Granularidade Mé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240" y="3755880"/>
            <a:ext cx="4762440" cy="30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?xml version =“1.0” encoding = ...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listaLivro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livro ISBN=“112”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título&gt;XML&lt;/título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autor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nome&gt;João Silva&lt;/no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eMail&gt;js@xxx.com&lt;/eMai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auto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&lt;capítulo nome=“Introdução”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&lt;/capítulo&gt; ...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livro&gt;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&lt;/listaLivro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33240" y="63277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livros.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240" y="1486080"/>
          <a:ext cx="4762440" cy="1876320"/>
        </p:xfrm>
        <a:graphic>
          <a:graphicData uri="http://schemas.openxmlformats.org/drawingml/2006/table">
            <a:tbl>
              <a:tblPr/>
              <a:tblGrid>
                <a:gridCol w="920520"/>
                <a:gridCol w="1231920"/>
                <a:gridCol w="1028880"/>
                <a:gridCol w="876240"/>
                <a:gridCol w="70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elem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Pa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staLiv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600" y="993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045040" y="1492200"/>
          <a:ext cx="4098960" cy="1136880"/>
        </p:xfrm>
        <a:graphic>
          <a:graphicData uri="http://schemas.openxmlformats.org/drawingml/2006/table">
            <a:tbl>
              <a:tblPr/>
              <a:tblGrid>
                <a:gridCol w="835200"/>
                <a:gridCol w="768240"/>
                <a:gridCol w="723960"/>
                <a:gridCol w="876240"/>
                <a:gridCol w="895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atr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B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052960" y="1050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197320" y="5969160"/>
          <a:ext cx="2895480" cy="766440"/>
        </p:xfrm>
        <a:graphic>
          <a:graphicData uri="http://schemas.openxmlformats.org/drawingml/2006/table">
            <a:tbl>
              <a:tblPr/>
              <a:tblGrid>
                <a:gridCol w="879480"/>
                <a:gridCol w="1233360"/>
                <a:gridCol w="78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do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i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5088240" y="5546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cu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140440" y="3187800"/>
          <a:ext cx="3692520" cy="1136520"/>
        </p:xfrm>
        <a:graphic>
          <a:graphicData uri="http://schemas.openxmlformats.org/drawingml/2006/table">
            <a:tbl>
              <a:tblPr/>
              <a:tblGrid>
                <a:gridCol w="974880"/>
                <a:gridCol w="1143000"/>
                <a:gridCol w="685800"/>
                <a:gridCol w="888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n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ú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5030640" y="25495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Tex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99080" y="3603600"/>
            <a:ext cx="527040" cy="307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imes New Roman"/>
              </a:rPr>
              <a:t>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67400" y="4000680"/>
            <a:ext cx="2414520" cy="2066760"/>
          </a:xfrm>
          <a:custGeom>
            <a:avLst/>
            <a:gdLst>
              <a:gd name="textAreaLeft" fmla="*/ 579600 w 2414520"/>
              <a:gd name="textAreaRight" fmla="*/ 2275560 w 2414520"/>
              <a:gd name="textAreaTop" fmla="*/ 1657080 h 2066760"/>
              <a:gd name="textAreaBottom" fmla="*/ 1947600 h 2066760"/>
            </a:gdLst>
            <a:ahLst/>
            <a:rect l="textAreaLeft" t="textAreaTop" r="textAreaRight" b="textAreaBottom"/>
            <a:pathLst>
              <a:path w="21600" h="21600">
                <a:moveTo>
                  <a:pt x="0" y="18564"/>
                </a:moveTo>
                <a:lnTo>
                  <a:pt x="17318" y="18564"/>
                </a:lnTo>
                <a:lnTo>
                  <a:pt x="17318" y="5186"/>
                </a:lnTo>
                <a:lnTo>
                  <a:pt x="16072" y="5186"/>
                </a:lnTo>
                <a:lnTo>
                  <a:pt x="18836" y="0"/>
                </a:lnTo>
                <a:lnTo>
                  <a:pt x="21600" y="5186"/>
                </a:lnTo>
                <a:lnTo>
                  <a:pt x="20354" y="5186"/>
                </a:lnTo>
                <a:lnTo>
                  <a:pt x="203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143680" y="4768920"/>
          <a:ext cx="2971800" cy="766800"/>
        </p:xfrm>
        <a:graphic>
          <a:graphicData uri="http://schemas.openxmlformats.org/drawingml/2006/table">
            <a:tbl>
              <a:tblPr/>
              <a:tblGrid>
                <a:gridCol w="1055520"/>
                <a:gridCol w="1195560"/>
                <a:gridCol w="72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con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.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5034960" y="43466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teú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nfoque – Níveis de Granularida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4240" y="1152360"/>
            <a:ext cx="23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96960" y="1152360"/>
            <a:ext cx="23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é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11880" y="1152360"/>
            <a:ext cx="23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equ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04840" y="2209680"/>
            <a:ext cx="6843600" cy="486000"/>
          </a:xfrm>
          <a:prstGeom prst="rightArrow">
            <a:avLst>
              <a:gd name="adj1" fmla="val 50000"/>
              <a:gd name="adj2" fmla="val 35203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856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menta a complexidade para a reconstrução do doc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menta a complexidade do esquema rel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menta o desempenho de consultas decla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granularidade pequen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nsultas a qualquer tipo de dado XML no documento; qualquer dado pode ser index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minui o volume de armaze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granularidade grande/médi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o doc ocupam muito espaç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 de Dado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39960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jeto Relacional para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9040" y="1733040"/>
            <a:ext cx="838224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pende das prioridades da apl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ioriza-se a manutenção e fácil reconstrução do doc XML e/ou consultas hierárqu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bela de arestas; uso de granularidade grande/mé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ioriza-se flexibilidade de consultas decla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belas por rótulo; uso de granularidade média/pequ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ioriza-se economia no espaço de armaze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abela de arestas; granularidade pequ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xemplo 1 – DB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mazenamento de doc X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gra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ributo especial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MLCL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xação de elementos e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nfoque de grafo baseado em tabelas por rót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peamento DTD-&gt;tabelas definido pelo proje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xemplo 1 – DB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de armazenamento com granularidade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ABLE Docu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ocID VARCHAR(10) NOT NUL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RIMARY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nome VARCHAR(4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údo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  <a:ea typeface="Courier New"/>
              </a:rPr>
              <a:t>XMLCLOB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xemplo 2 – Ora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81532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mazenamento de doc XM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gran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ributo CL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ranularidade pequena “virtu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peamento XSD-esquema hierárquico OR ou 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ssibilidade de definir quais elementos e atributos serão mape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ributo especial do tip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xmltyp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ncapsula o esquema hierárquico do d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quema hierárquico é mantido em tabelas do SGBD que não são manipuladas pelo usuário (esquema “virtual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xemplo 2 – Ora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85840" y="135216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de armazenamento com granularidade pequena “virtu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create table DocsXMLEstruturados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docID varchar(10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nome varchar2(40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conteúdo </a:t>
            </a:r>
            <a:r>
              <a:rPr b="1" lang="pt-BR" sz="2800" spc="-1" strike="noStrike">
                <a:solidFill>
                  <a:srgbClr val="ffff00"/>
                </a:solidFill>
                <a:latin typeface="Courier New"/>
              </a:rPr>
              <a:t>xmltype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xmltype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column conteúdo xmlschema "http://asktom.oracle.com/xsd/purchaseOrder.xsd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cesso a Dados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50480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quemas relacionais com granularidade pequena ou tabelas por rót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QL tradicionai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resolv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quemas relacionais com granularidade grande/mé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nsultas SQL estendidas ao conteúdo do d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almente utilizam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Path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mbut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Resultados de consultas no formato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sultas ao Conteúdo do Do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1 – DB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select docID, n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from Docu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where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extract Varchar (conteú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/listaLivros/livro/título”)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like “%XML%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sultas ao Conteúdo do Do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2 –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extract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(conteúdo,'/listalivros/livro/título'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from DocsXMLEstrutur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where 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existsNode(conteúdo,'/listalivro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0" lang="pt-BR" sz="2800" spc="-1" strike="noStrike">
                <a:solidFill>
                  <a:srgbClr val="ffff00"/>
                </a:solidFill>
                <a:latin typeface="Courier New"/>
              </a:rPr>
              <a:t>livro/autor/nome') = “João Silv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sultados de Consultas em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1733040"/>
            <a:ext cx="81918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ação de dados XML a partir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doc XML pode ser reconstruído ou g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SQL/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ão ANSI ISO derivado da 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versas funcion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geração de elementos, hierarquias de elementos ou docs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grupamento e concatenação de elementos ou hierarquias de ele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racle e DB2 adotam parcialmente esse padr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sultados de Consultas em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91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– Oracle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 SQL/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XMLElement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(“Editoras"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XMLAttributes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(e.razao_social AS “nome"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XMLAgg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( XMLElement(“Livro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XMLForest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(l.título AS “nome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l.ano AS “ano”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l.nroPags AS “páginas”))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FROM editoras e INNER JOIN livros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ON e.código = l.edi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GROUP BY e.razao_soci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XML </a:t>
            </a: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i="1" lang="pt-BR" sz="4000" spc="-1" strike="noStrike">
                <a:solidFill>
                  <a:srgbClr val="ffcc66"/>
                </a:solidFill>
                <a:latin typeface="Arial"/>
              </a:rPr>
              <a:t>eXtensible Markup Language</a:t>
            </a: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49080"/>
            <a:ext cx="81360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desenvolvida pela W3C (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3C: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World Wide Web Consort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ão para representação e transferência de informações em diversos domínios de aplicação e tecnologias na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ércio eletrônico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CXML, ebX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G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SVG, G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ferências bibliográfica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DBLP, SIGMOD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spositivos móvei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WAP/W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nsagens e processo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SOAP, WS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sultados de Consultas em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8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–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urier New"/>
              </a:rPr>
              <a:t>&lt;Editora nome=“Makron Books"&gt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Livr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nome&gt;Sistema de Banco de Dados&lt;/nom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ano&gt;2000&lt;/ano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páginas&gt;676&lt;/páginas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/Livr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Livr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nome&gt;Projeto de Banco de Dados com XML&lt;/no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Ano&gt;2003&lt;/Ano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Páginas&gt;518&lt;/Páginas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/Livro&gt; 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urier New"/>
              </a:rPr>
              <a:t>&lt;/Editora&gt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&lt;Editora nome=“Campus”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Gerenciamento de Dados X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BD XML Na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38240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a um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odelo lógic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um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odelo físic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roprietários para dado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de elementos, atributos, ordem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há mapeamento para um modelo lógico e físico de um BD conve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dequado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s XML fortemente semi-estrutu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000" spc="-1" strike="noStrike">
                <a:solidFill>
                  <a:srgbClr val="ffff00"/>
                </a:solidFill>
                <a:latin typeface="Times New Roman"/>
              </a:rPr>
              <a:t>documentos orientados a documento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apeamento para BD relacional seria complexo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ções que lidam apenas com dados no formato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nsa atividade de pesquisa e desenvolviment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s de SGBDs: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mi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Xis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aracterísticas Principa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1440" y="1552680"/>
            <a:ext cx="74181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Esquemas lógicos baseados em cole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nsul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tu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nec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rmazenamento e indexação de d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leç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Noção lógica de um conjunto de doc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decisão por quais docs XML pertencem a uma coleção fica em geral a cargo da apl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: flexibilidade quanto ao conteúdo da col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baixo nível de integridade do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alguns casos, um esquema XML fixo pode ser associado a uma cole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ultas e atualizações podem ser direcionadas a cole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leções - Tamin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85720" y="2448000"/>
            <a:ext cx="7667640" cy="435276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18680" y="743040"/>
            <a:ext cx="84582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 BD – n coleções – n esquemas – n tipos de document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ada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 tipo de document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define um elemento raiz específ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vo doc XML: inserido em uma coleção e válido para algum tipo d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s sem esquema mantidos em uma coleção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57360" y="5695920"/>
            <a:ext cx="285840" cy="628560"/>
          </a:xfrm>
          <a:custGeom>
            <a:avLst/>
            <a:gdLst>
              <a:gd name="textAreaLeft" fmla="*/ 0 w 285840"/>
              <a:gd name="textAreaRight" fmla="*/ 103320 w 285840"/>
              <a:gd name="textAreaTop" fmla="*/ 16200 h 628560"/>
              <a:gd name="textAreaBottom" fmla="*/ 61236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2160" y="578628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ipos de doc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sult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405080"/>
            <a:ext cx="8131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a pelo menos uma linguagem de consulta par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o mais extensivo d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XPath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o de alguns dialetos da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XQuery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tendência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racterísticas desejadas para uma linguagem de consulta par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uscas textuai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por palavras-chaves, por padrões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ltas decla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ultados de consul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 XML, fragmentos de docs XML ou novas estruturas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sult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8680" y="1285920"/>
            <a:ext cx="8458200" cy="55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am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ltas em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Xpath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XQuery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en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a busca por padr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/livro[título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~=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“*XML*”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]/tí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ação de docs XML como resul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ltas em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XPath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en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a busca por padrão, por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alavra-chav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em textos) e por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oxim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/livro[título 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&amp;=‘banco XML’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]/tí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/livro/capitulo[</a:t>
            </a:r>
            <a:r>
              <a:rPr b="0" lang="pt-BR" sz="2400" spc="-1" strike="noStrike">
                <a:solidFill>
                  <a:srgbClr val="ffff00"/>
                </a:solidFill>
                <a:latin typeface="Courier New"/>
              </a:rPr>
              <a:t>near(.,’banco XML’,50)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]/@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tualizaç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pacidades de atualização são vari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ssibilidade apenas de substituição de um doc XML compl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I DOM para atualização de no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nguagens de atualização decla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endência1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XUpda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consórcio XML:D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ML: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órcio de empresas responsável pelo desenvolvimento de tecnologias para BDs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endência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XQuery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m capacidades de atua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Arial"/>
              </a:rPr>
              <a:t>XUpd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ntaxe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 / E de elementos, atributos e tex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do conteúdo de elementos e atribu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inclusão de um novo eMail para Ma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08f00"/>
                </a:solidFill>
                <a:latin typeface="Times New Roman"/>
              </a:rPr>
              <a:t>(remoção do primeiro livr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9960" y="3619440"/>
            <a:ext cx="8591760" cy="1078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&lt;xupdate:append select=”//autor[nome=´Maria´]/eMail” child=”last()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&lt;xupdate:element name="eMail"&gt;Maria@teste.com&lt;/xupdate:elemen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&lt;/xupdate:append&gt;</a:t>
            </a:r>
            <a:r>
              <a:rPr b="1" lang="pt-BR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5829480"/>
            <a:ext cx="6781680" cy="368280"/>
          </a:xfrm>
          <a:prstGeom prst="rect">
            <a:avLst/>
          </a:prstGeom>
          <a:noFill/>
          <a:ln w="936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8f00"/>
                </a:solidFill>
                <a:latin typeface="Courier New"/>
                <a:ea typeface="Courier New"/>
              </a:rPr>
              <a:t>&lt;xupdate:remove </a:t>
            </a:r>
            <a:r>
              <a:rPr b="1" lang="pt-BR" sz="1800" spc="-1" strike="noStrike">
                <a:solidFill>
                  <a:srgbClr val="f08f00"/>
                </a:solidFill>
                <a:latin typeface="Courier New"/>
                <a:ea typeface="Times New Roman"/>
              </a:rPr>
              <a:t>select="/listalivros/livro[1]"/&gt;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so Extensivo de Protocolos XML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 a serem resolv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tamento de dados XML pelos programas de apl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e validação da estrutura dos dado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acilidades para armazenamento e manipulação de dado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tecnologia de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anco de Dados (BD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útil neste contex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ectividade – AP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666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faces ODBC tradi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exão com o BD, execução de consultas e atualizações e exploração de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tocolos HT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esso via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browsers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órcio XML:D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põe uma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PI para BD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ipulação de BDs e coleções; execução de consulta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path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Upda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; acesso a resultados de consultas; controle de trans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amino – Conectividade HTT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90400" y="1071720"/>
            <a:ext cx="78678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rmazename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11200" y="1206000"/>
            <a:ext cx="86328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ocs XML “in-natur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tados como uma “caixa pret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seja-se preservar o texto do docu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xação apenas textual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(por palavra-cha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Objetos DOM que representam os dados XML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(+ us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mazenamento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lusteriza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imes New Roman"/>
              </a:rPr>
              <a:t>nodos próximos na hierarquia do doc XML são armazenados próximos fis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través de uma busca em largura ou profund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acilita indexação e busca de uma hierarquia de ob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enas os elementos de mais alto nível precisam ser index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 demais elementos são buscados via varredura lin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dex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476000"/>
            <a:ext cx="777240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ção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or 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elementos e atribu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ção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 palavras-chav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o doc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écnicas baseadas em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radicalizaçã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de palav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índice por níveis para radicais ou partes de palavras que possuem a mesma 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exação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 estru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exação de elementos ou docs XML onde existem determinados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aminh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ntre nodos na árv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cilita consultas em docs XML sem esqu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ão se sabe quais elementos filhos um elemento poss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dexação - eXi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800" y="1074240"/>
            <a:ext cx="92170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Índices são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IDs numéric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para nodos, com uma numeração dada por uma busca em larg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ndo uma árvore sempre completa (“nodos virtuais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rtas propriedades da árvore permitem calcular o ID de nodos filhos, pai, irmãos,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: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axFilh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filhos d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[ID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*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1, ID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*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80520" y="3976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iv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70440" y="3973680"/>
            <a:ext cx="5713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88920" y="4888080"/>
            <a:ext cx="685440" cy="380880"/>
            <a:chOff x="988920" y="4888080"/>
            <a:chExt cx="685440" cy="380880"/>
          </a:xfrm>
        </p:grpSpPr>
        <p:sp>
          <p:nvSpPr>
            <p:cNvPr id="493" name=""/>
            <p:cNvSpPr/>
            <p:nvPr/>
          </p:nvSpPr>
          <p:spPr>
            <a:xfrm>
              <a:off x="998280" y="4890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títul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88920" y="4888080"/>
              <a:ext cx="60948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320280" y="48909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e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09840" y="4888080"/>
            <a:ext cx="7239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35240" y="4621320"/>
            <a:ext cx="638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12920" y="46213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72000" y="46213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55920" y="435456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03200" y="5843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92760" y="584028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959440" y="5840280"/>
            <a:ext cx="608400" cy="380880"/>
            <a:chOff x="5959440" y="5840280"/>
            <a:chExt cx="608400" cy="380880"/>
          </a:xfrm>
        </p:grpSpPr>
        <p:sp>
          <p:nvSpPr>
            <p:cNvPr id="504" name=""/>
            <p:cNvSpPr/>
            <p:nvPr/>
          </p:nvSpPr>
          <p:spPr>
            <a:xfrm>
              <a:off x="5969520" y="5843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9440" y="5840280"/>
              <a:ext cx="57132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118480" y="4910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8400" y="490680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70560" y="464040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97320" y="559260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69000" y="528804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16400" y="5592600"/>
            <a:ext cx="102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45280" y="559260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64880" y="48751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54800" y="4871880"/>
            <a:ext cx="7239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716960" y="460548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21320" y="3911760"/>
            <a:ext cx="376200" cy="414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73520" y="3959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52480" y="58532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42040" y="5850000"/>
            <a:ext cx="7239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209080" y="5850000"/>
            <a:ext cx="608400" cy="380880"/>
            <a:chOff x="8209080" y="5850000"/>
            <a:chExt cx="608400" cy="380880"/>
          </a:xfrm>
        </p:grpSpPr>
        <p:sp>
          <p:nvSpPr>
            <p:cNvPr id="521" name=""/>
            <p:cNvSpPr/>
            <p:nvPr/>
          </p:nvSpPr>
          <p:spPr>
            <a:xfrm>
              <a:off x="8219160" y="58532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09080" y="5850000"/>
              <a:ext cx="57132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446960" y="56023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18640" y="529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66040" y="5602320"/>
            <a:ext cx="102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94560" y="56023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82640" y="4870440"/>
            <a:ext cx="37620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34840" y="491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0120" y="4853160"/>
            <a:ext cx="376200" cy="414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62320" y="4900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23080" y="4870440"/>
            <a:ext cx="37620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75280" y="491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64440" y="4834080"/>
            <a:ext cx="37620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216640" y="4881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505400" y="527688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4680" y="58341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657680" y="532440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84600" y="5881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754320" y="5249880"/>
            <a:ext cx="57492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64320" y="58071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6907320" y="529740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34240" y="5854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43440" y="6459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96360" y="5180040"/>
            <a:ext cx="57492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573732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79520" y="528012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6440" y="5837400"/>
            <a:ext cx="88920" cy="8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59880" y="5294160"/>
            <a:ext cx="57492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4800" y="585144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67000" y="52894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62720" y="5553000"/>
            <a:ext cx="1349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XML &amp; B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724120" y="518940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51040" y="574668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806200" y="5307120"/>
            <a:ext cx="57492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33840" y="5864400"/>
            <a:ext cx="88560" cy="8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987640" y="5303880"/>
            <a:ext cx="574560" cy="573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7280" y="5861160"/>
            <a:ext cx="889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59120" y="5299200"/>
            <a:ext cx="0" cy="26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52040" y="5562720"/>
            <a:ext cx="639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79.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58920" y="6000840"/>
            <a:ext cx="37620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11120" y="6048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27280" y="5973840"/>
            <a:ext cx="37656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26920" y="602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43600" y="6321600"/>
            <a:ext cx="376200" cy="414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42880" y="6369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56280" y="6294600"/>
            <a:ext cx="376200" cy="414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55920" y="6342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11960" y="6294600"/>
            <a:ext cx="376200" cy="4140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11600" y="6342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25000" y="6302520"/>
            <a:ext cx="376200" cy="414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24280" y="6350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 de Dado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Conclus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19144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Ds XML na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dequados a aplicações que lidam com dados semi-estruturados como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ivo: lidar de forma eficiente com tai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esar de ser ainda uma tecnologia muito recent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BD não-XML em geral possui recursos limitados, complicados e ineficientes para o gerenciamento de dados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umas funcionalidades de SGBDs não são ainda tratados eficientemente ou estão em pesqu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trições de integridade semânticas, visões,  atualização de dados, transações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153800"/>
            <a:ext cx="819144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Ds rel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GBDs robu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enciamento “completo” e eficiente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tegridade semântica, gerência de transações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ão se pode dizer o mesmo de BDs XML na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u modelo de dados não é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cisam de um suporte de mapeamento para importação/exportação de dados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verhea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gerenci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esar dos fabricantes de SGBDs estarem trabalhando para melhorar iss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Arial"/>
              </a:rPr>
              <a:t>Benchmark</a:t>
            </a: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BD XML x BDR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</a:rPr>
              <a:t>[Chaudhri03]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0520" y="1153800"/>
            <a:ext cx="858672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Conclusões a respeito de BDs XML nativ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ocupam mais espaç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muita indexação, </a:t>
            </a: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tags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também são nodos DO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são mais rápidos em consultas a grandes massas de dad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boas estratégias de indexação; não há </a:t>
            </a:r>
            <a:r>
              <a:rPr b="0" i="1" lang="pt-BR" sz="2200" spc="-1" strike="noStrike">
                <a:solidFill>
                  <a:srgbClr val="ffffff"/>
                </a:solidFill>
                <a:latin typeface="Times New Roman"/>
              </a:rPr>
              <a:t>overhead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de mapeamento de modelo de dad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são mais lentos em atualizaçõ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inexistência de métodos DOM eficientes ou mesmo linguagens declarativas para atualiz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melhor compatibilidade com APIs Java, porém requerem mais codific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BDRs tem mais ferramentas proprietárias para desenvolvimento de aplicações, porém requerem menos codific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5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GBDs XML nativos irão “vingar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há resposta imediat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vavelmente não serão “A nova geração de SGBD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Ds relacionais continuam adequados a muitas categorias de aplic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ML tornar-se-á um modelo de dados de uso extensivo para BDs como o modelo relacional a ponto de superá-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5400" y="13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ecnologia XML x Tecnologia B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1000" y="1371600"/>
            <a:ext cx="8877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imilar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cumentos XML mantém coleções de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cnologia XML oferece mecanismos para definição e manipulação de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TD e XSD, XPath e XQuery, DOM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iferenç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do XML não é um dado conve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do semi-estrutu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istura texto e estrutura, instâncias heterogêneas, auto-descritivo, ...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cnologia XML é carente de alguns mecanismos de gerenciamento de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idade, segurança, indexação, atualização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 na </a:t>
            </a:r>
            <a:r>
              <a:rPr b="0" i="1" lang="pt-BR" sz="4400" spc="-1" strike="noStrike">
                <a:solidFill>
                  <a:srgbClr val="ffcc66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3200" y="1185840"/>
            <a:ext cx="90108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cnologia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tp://www.w3c.org/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ML &amp; 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rpbourret.com/xml/XMLAndDatabases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oasis-open.org/cover/xmlAndDatabases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QL/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otn.oracle.com/tech/xml/xmldb/htdocs/sql_xml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ML: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xmldb.or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GBDs XML Nativos (Tamino e eXi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softwareag.com/tami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tp://exist-db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19000" y="247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cc66"/>
                </a:solidFill>
                <a:latin typeface="Arial"/>
              </a:rPr>
              <a:t>XML &amp; Banco de Dad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onaldo dos Santos M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E / CTC / UF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onaldo@inf.ufsc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11448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CCOM - UF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mana de Cursos e Palestras da Comput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ubro/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ecnologia XML x Tecnologia B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cnologia XML não é equivalente à tecnologia de 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afio para a comunidade científica de 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gerenciamento eficiente de dados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o trat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ensão de SGBDs existen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envolvimento de SGBDs específicos para XM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Tecnologia X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 de Dados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rel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enciamento de dados XML através de bancos de dados XML n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 que é XM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9200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XML é uma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eta-linguagem de mar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linguagem de mar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elhante à linguagem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tiliz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g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ara descrição o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00"/>
                </a:solidFill>
                <a:latin typeface="Times New Roman"/>
              </a:rPr>
              <a:t>tag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: indica a intenção do dado e delimita o seu 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eta-lingu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ML é um padrão ab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ada aplicação define o protocolo (linguagem) para a representação dos seus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dos no formato XML são descritos em um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ocumento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3:58:28Z</dcterms:created>
  <dc:creator>Ronaldo S. Mello</dc:creator>
  <dc:description/>
  <dc:language>en-US</dc:language>
  <cp:lastModifiedBy>PCT - INE - UFSC</cp:lastModifiedBy>
  <dcterms:modified xsi:type="dcterms:W3CDTF">2004-10-06T16:28:02Z</dcterms:modified>
  <cp:revision>440</cp:revision>
  <dc:subject/>
  <dc:title>Gerenciamento de  Dados XML</dc:title>
</cp:coreProperties>
</file>