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538280"/>
            <a:ext cx="8190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8560" y="4023000"/>
            <a:ext cx="8190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28560" y="1538280"/>
            <a:ext cx="399636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5080" y="1538280"/>
            <a:ext cx="399636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8560" y="4023000"/>
            <a:ext cx="399636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25080" y="4023000"/>
            <a:ext cx="399636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28560" y="1538280"/>
            <a:ext cx="2637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97680" y="1538280"/>
            <a:ext cx="2637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67160" y="1538280"/>
            <a:ext cx="2637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28560" y="4023000"/>
            <a:ext cx="2637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97680" y="4023000"/>
            <a:ext cx="2637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67160" y="4023000"/>
            <a:ext cx="2637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28560" y="1538280"/>
            <a:ext cx="819000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538280"/>
            <a:ext cx="8190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538280"/>
            <a:ext cx="399636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5080" y="1538280"/>
            <a:ext cx="399636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09120" y="304560"/>
            <a:ext cx="8217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538280"/>
            <a:ext cx="399636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25080" y="1538280"/>
            <a:ext cx="399636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8560" y="4023000"/>
            <a:ext cx="399636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28560" y="1538280"/>
            <a:ext cx="819000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538280"/>
            <a:ext cx="399636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5080" y="1538280"/>
            <a:ext cx="399636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25080" y="4023000"/>
            <a:ext cx="399636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538280"/>
            <a:ext cx="399636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5080" y="1538280"/>
            <a:ext cx="399636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8560" y="4023000"/>
            <a:ext cx="8190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8560" y="1538280"/>
            <a:ext cx="8190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28560" y="4023000"/>
            <a:ext cx="8190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28560" y="1538280"/>
            <a:ext cx="399636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5080" y="1538280"/>
            <a:ext cx="399636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8560" y="4023000"/>
            <a:ext cx="399636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25080" y="4023000"/>
            <a:ext cx="399636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538280"/>
            <a:ext cx="2637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97680" y="1538280"/>
            <a:ext cx="2637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67160" y="1538280"/>
            <a:ext cx="2637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28560" y="4023000"/>
            <a:ext cx="2637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97680" y="4023000"/>
            <a:ext cx="2637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67160" y="4023000"/>
            <a:ext cx="2637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560" y="1538280"/>
            <a:ext cx="8190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28560" y="1538280"/>
            <a:ext cx="399636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5080" y="1538280"/>
            <a:ext cx="399636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120" y="304560"/>
            <a:ext cx="8217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538280"/>
            <a:ext cx="399636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5080" y="1538280"/>
            <a:ext cx="399636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8560" y="4023000"/>
            <a:ext cx="399636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538280"/>
            <a:ext cx="399636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5080" y="1538280"/>
            <a:ext cx="399636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25080" y="4023000"/>
            <a:ext cx="399636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538280"/>
            <a:ext cx="399636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5080" y="1538280"/>
            <a:ext cx="399636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28560" y="4023000"/>
            <a:ext cx="8190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solidFill>
            <a:srgbClr val="4045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414360" y="1415880"/>
            <a:ext cx="1784160" cy="2324160"/>
            <a:chOff x="414360" y="1415880"/>
            <a:chExt cx="1784160" cy="2324160"/>
          </a:xfrm>
        </p:grpSpPr>
        <p:sp>
          <p:nvSpPr>
            <p:cNvPr id="3" name=""/>
            <p:cNvSpPr/>
            <p:nvPr/>
          </p:nvSpPr>
          <p:spPr>
            <a:xfrm flipH="1">
              <a:off x="414360" y="1513440"/>
              <a:ext cx="17841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8400" y="1419120"/>
              <a:ext cx="0" cy="23209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511200" y="1415880"/>
              <a:ext cx="192600" cy="19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9" y="3"/>
                  </a:moveTo>
                  <a:arcTo wR="10800" hR="10800" stAng="-5476576" swAng="16204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9" y="3"/>
                  </a:moveTo>
                  <a:arcTo wR="10800" hR="10800" stAng="-5476576" swAng="16204040"/>
                </a:path>
              </a:pathLst>
            </a:cu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28560" y="1538280"/>
            <a:ext cx="8190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628560" y="6429240"/>
            <a:ext cx="8172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853C-5616-4B24-9963-D3298FD3205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solidFill>
            <a:srgbClr val="4045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887400"/>
            <a:ext cx="6654960" cy="2851200"/>
            <a:chOff x="4680" y="887400"/>
            <a:chExt cx="6654960" cy="2851200"/>
          </a:xfrm>
        </p:grpSpPr>
        <p:sp>
          <p:nvSpPr>
            <p:cNvPr id="48" name=""/>
            <p:cNvSpPr/>
            <p:nvPr/>
          </p:nvSpPr>
          <p:spPr>
            <a:xfrm>
              <a:off x="803160" y="887400"/>
              <a:ext cx="0" cy="28512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4680" y="3053880"/>
              <a:ext cx="5097600" cy="18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>
              <a:off x="609480" y="1488600"/>
              <a:ext cx="6050160" cy="18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rot="16200000">
              <a:off x="674280" y="1366920"/>
              <a:ext cx="247320" cy="24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9" y="3"/>
                  </a:moveTo>
                  <a:arcTo wR="10800" hR="10800" stAng="-5476576" swAng="16204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9" y="3"/>
                  </a:moveTo>
                  <a:arcTo wR="10800" hR="10800" stAng="-5476576" swAng="16204040"/>
                </a:path>
              </a:pathLst>
            </a:cu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349360" y="3098880"/>
            <a:ext cx="6045480" cy="2876400"/>
            <a:chOff x="2349360" y="3098880"/>
            <a:chExt cx="6045480" cy="2876400"/>
          </a:xfrm>
        </p:grpSpPr>
        <p:sp>
          <p:nvSpPr>
            <p:cNvPr id="53" name=""/>
            <p:cNvSpPr/>
            <p:nvPr/>
          </p:nvSpPr>
          <p:spPr>
            <a:xfrm>
              <a:off x="2349360" y="5464080"/>
              <a:ext cx="604548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10520" y="3098880"/>
              <a:ext cx="0" cy="28764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5400000">
              <a:off x="8091000" y="5312520"/>
              <a:ext cx="247320" cy="24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9" y="3"/>
                  </a:moveTo>
                  <a:arcTo wR="10800" hR="10800" stAng="-5476576" swAng="16204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9" y="3"/>
                  </a:moveTo>
                  <a:arcTo wR="10800" hR="10800" stAng="-5476576" swAng="16204040"/>
                </a:path>
              </a:pathLst>
            </a:cu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" name=""/>
          <p:cNvSpPr/>
          <p:nvPr/>
        </p:nvSpPr>
        <p:spPr>
          <a:xfrm>
            <a:off x="628560" y="6429240"/>
            <a:ext cx="8172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FAE1-9DC5-45B8-A937-A9D102795CE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60452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Bancos de Dados </a:t>
            </a:r>
            <a:br>
              <a:rPr sz="3600"/>
            </a:b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Orientados a Objeto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9460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ificat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escrição do Mod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Linguage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943200" y="838080"/>
            <a:ext cx="285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nidade VIII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Linguagen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537920"/>
            <a:ext cx="82044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QL 1999 (cont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demos criar tabelas e sub-tabela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: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reate tabl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Alunos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of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Aluno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reate tabl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Professores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of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Pessoa 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reate tabl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Bolsistas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of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Aluno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under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Alun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ão inseridos usando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array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[…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: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insert into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Alunos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value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(’João’, 12345678900, 01136400,’SIN’), 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20021,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array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[‘INE5612’,’INE5613’],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‘10110…’, ‘Histórico…’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ências apontam para objeto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: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reate tabl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Disciplina (Nome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varchar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fessor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f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Pessoa)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scop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Professores, 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urma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f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Aluno)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array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[50]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scop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Aluno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Linguagen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537920"/>
            <a:ext cx="819000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QL 1999 (cont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ências são adicionadas explicitamente à tabel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: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reate tabl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Alunos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of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Aluno 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f i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oid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system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gener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ências são obtidas como atributos da tabel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: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selec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oid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from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Alunos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wher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Nome = `João’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Óbs.: Oracle e alguns outros BDs usam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f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obj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étodos manipulam os dado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: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reate metho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ransfInterna (matric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integer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urso varchar)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for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Aluno 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begin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set self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Matrícula = matric;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set self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Curso = curso;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 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Linguagen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200" y="1537920"/>
            <a:ext cx="8210520" cy="50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guagens Persistentes ODMG (Object Data Management Grou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DL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bject Definition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que sejam definidos dados e objetos persistentes em uma LPO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L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bject Manipulation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nece mecanismos para que LPOOs manipularem bancos de dados persistentes criados em OD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QL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bject Query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que LPOOs consultem bancos de dados persistentes criados em ODL, com a ajuda da O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ão mapeadas para C++, Java e Smalltal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Linguagen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537920"/>
            <a:ext cx="8190000" cy="51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DMG ODL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ui tipos de dados persist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458c"/>
                </a:solidFill>
                <a:latin typeface="Tahoma"/>
              </a:rPr>
              <a:t>d_Sh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40458c"/>
                </a:solidFill>
                <a:latin typeface="Tahoma"/>
              </a:rPr>
              <a:t>d_UShort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- 16 b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458c"/>
                </a:solidFill>
                <a:latin typeface="Tahoma"/>
              </a:rPr>
              <a:t>d_Lo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40458c"/>
                </a:solidFill>
                <a:latin typeface="Tahoma"/>
              </a:rPr>
              <a:t>d_ULong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- 32 b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458c"/>
                </a:solidFill>
                <a:latin typeface="Tahoma"/>
              </a:rPr>
              <a:t>d_Float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- 32 b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, formato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IEE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458c"/>
                </a:solidFill>
                <a:latin typeface="Tahoma"/>
              </a:rPr>
              <a:t>d_Double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- 64 b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, formato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IEE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458c"/>
                </a:solidFill>
                <a:latin typeface="Tahoma"/>
              </a:rPr>
              <a:t>d_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d_String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- 8 bit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ato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ASCI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458c"/>
                </a:solidFill>
                <a:latin typeface="Tahoma"/>
              </a:rPr>
              <a:t>d_Octet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- 8 b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em formato predefini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458c"/>
                </a:solidFill>
                <a:latin typeface="Tahoma"/>
              </a:rPr>
              <a:t>d_Boolean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bit,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also)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verdadei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definir classes de objeto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: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las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Pessoa :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ublic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d_Object {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ublic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d_String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Nome; 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ivat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d_Long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CPF;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}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Linguagen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537920"/>
            <a:ext cx="81900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DMG ODL C++ (cont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286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criar conjuntos de objetos</a:t>
            </a:r>
            <a:br>
              <a:rPr sz="2400"/>
            </a:br>
            <a:r>
              <a:rPr b="0" lang="en-US" sz="2300" spc="-1" strike="noStrike">
                <a:solidFill>
                  <a:srgbClr val="40458c"/>
                </a:solidFill>
                <a:latin typeface="Tahoma"/>
              </a:rPr>
              <a:t>Ex.: </a:t>
            </a:r>
            <a:r>
              <a:rPr b="1" lang="en-US" sz="2300" spc="-1" strike="noStrike">
                <a:solidFill>
                  <a:srgbClr val="40458c"/>
                </a:solidFill>
                <a:latin typeface="Tahoma"/>
              </a:rPr>
              <a:t>class</a:t>
            </a:r>
            <a:r>
              <a:rPr b="0" lang="en-US" sz="2300" spc="-1" strike="noStrike">
                <a:solidFill>
                  <a:srgbClr val="40458c"/>
                </a:solidFill>
                <a:latin typeface="Tahoma"/>
              </a:rPr>
              <a:t> CorpoDocente : </a:t>
            </a:r>
            <a:r>
              <a:rPr b="1" lang="en-US" sz="2300" spc="-1" strike="noStrike">
                <a:solidFill>
                  <a:srgbClr val="40458c"/>
                </a:solidFill>
                <a:latin typeface="Tahoma"/>
              </a:rPr>
              <a:t>public</a:t>
            </a:r>
            <a:r>
              <a:rPr b="0" lang="en-US" sz="2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300" spc="-1" strike="noStrike">
                <a:solidFill>
                  <a:srgbClr val="40458c"/>
                </a:solidFill>
                <a:latin typeface="Tahoma"/>
              </a:rPr>
              <a:t>d_Object</a:t>
            </a:r>
            <a:r>
              <a:rPr b="0" lang="en-US" sz="2300" spc="-1" strike="noStrike">
                <a:solidFill>
                  <a:srgbClr val="40458c"/>
                </a:solidFill>
                <a:latin typeface="Tahoma"/>
              </a:rPr>
              <a:t> {</a:t>
            </a:r>
            <a:br>
              <a:rPr sz="2300"/>
            </a:br>
            <a:r>
              <a:rPr b="0" lang="en-US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1" lang="en-US" sz="2300" spc="-1" strike="noStrike">
                <a:solidFill>
                  <a:srgbClr val="40458c"/>
                </a:solidFill>
                <a:latin typeface="Tahoma"/>
              </a:rPr>
              <a:t>public</a:t>
            </a:r>
            <a:r>
              <a:rPr b="0" lang="en-US" sz="23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lang="en-US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40458c"/>
                </a:solidFill>
                <a:latin typeface="Tahoma"/>
              </a:rPr>
              <a:t>d_Set</a:t>
            </a:r>
            <a:r>
              <a:rPr b="0" lang="en-US" sz="2300" spc="-1" strike="noStrike">
                <a:solidFill>
                  <a:srgbClr val="40458c"/>
                </a:solidFill>
                <a:latin typeface="Tahoma"/>
              </a:rPr>
              <a:t>&lt;Pessoa&gt; Professores;</a:t>
            </a:r>
            <a:br>
              <a:rPr sz="2300"/>
            </a:br>
            <a:r>
              <a:rPr b="0" lang="en-US" sz="2300" spc="-1" strike="noStrike">
                <a:solidFill>
                  <a:srgbClr val="40458c"/>
                </a:solidFill>
                <a:latin typeface="Tahoma"/>
              </a:rPr>
              <a:t>       };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286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dem existir relações de herança entre objetos</a:t>
            </a:r>
            <a:br>
              <a:rPr sz="2400"/>
            </a:br>
            <a:r>
              <a:rPr b="0" lang="en-US" sz="2300" spc="-1" strike="noStrike">
                <a:solidFill>
                  <a:srgbClr val="40458c"/>
                </a:solidFill>
                <a:latin typeface="Tahoma"/>
              </a:rPr>
              <a:t>Ex.: </a:t>
            </a:r>
            <a:r>
              <a:rPr b="1" lang="en-US" sz="2300" spc="-1" strike="noStrike">
                <a:solidFill>
                  <a:srgbClr val="40458c"/>
                </a:solidFill>
                <a:latin typeface="Tahoma"/>
              </a:rPr>
              <a:t>class</a:t>
            </a:r>
            <a:r>
              <a:rPr b="0" lang="en-US" sz="2300" spc="-1" strike="noStrike">
                <a:solidFill>
                  <a:srgbClr val="40458c"/>
                </a:solidFill>
                <a:latin typeface="Tahoma"/>
              </a:rPr>
              <a:t> Aluno : </a:t>
            </a:r>
            <a:r>
              <a:rPr b="1" lang="en-US" sz="2300" spc="-1" strike="noStrike">
                <a:solidFill>
                  <a:srgbClr val="40458c"/>
                </a:solidFill>
                <a:latin typeface="Tahoma"/>
              </a:rPr>
              <a:t>public</a:t>
            </a:r>
            <a:r>
              <a:rPr b="0" lang="en-US" sz="2300" spc="-1" strike="noStrike">
                <a:solidFill>
                  <a:srgbClr val="40458c"/>
                </a:solidFill>
                <a:latin typeface="Tahoma"/>
              </a:rPr>
              <a:t> Pessoa {</a:t>
            </a:r>
            <a:br>
              <a:rPr sz="2300"/>
            </a:br>
            <a:r>
              <a:rPr b="0" lang="en-US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1" lang="en-US" sz="2300" spc="-1" strike="noStrike">
                <a:solidFill>
                  <a:srgbClr val="40458c"/>
                </a:solidFill>
                <a:latin typeface="Tahoma"/>
              </a:rPr>
              <a:t>public</a:t>
            </a:r>
            <a:r>
              <a:rPr b="0" lang="en-US" sz="23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lang="en-US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300" spc="-1" strike="noStrike">
                <a:solidFill>
                  <a:srgbClr val="40458c"/>
                </a:solidFill>
                <a:latin typeface="Tahoma"/>
              </a:rPr>
              <a:t>d_Long</a:t>
            </a:r>
            <a:r>
              <a:rPr b="0" lang="en-US" sz="2300" spc="-1" strike="noStrike">
                <a:solidFill>
                  <a:srgbClr val="40458c"/>
                </a:solidFill>
                <a:latin typeface="Tahoma"/>
              </a:rPr>
              <a:t> Matrícula;</a:t>
            </a:r>
            <a:br>
              <a:rPr sz="2300"/>
            </a:br>
            <a:r>
              <a:rPr b="0" lang="en-US" sz="2300" spc="-1" strike="noStrike">
                <a:solidFill>
                  <a:srgbClr val="40458c"/>
                </a:solidFill>
                <a:latin typeface="Tahoma"/>
              </a:rPr>
              <a:t>       };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ências apontam para objetos </a:t>
            </a:r>
            <a:br>
              <a:rPr sz="2400"/>
            </a:b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Ex.: </a:t>
            </a:r>
            <a:r>
              <a:rPr b="1" lang="en-US" sz="2300" spc="-1" strike="noStrike">
                <a:solidFill>
                  <a:srgbClr val="40458c"/>
                </a:solidFill>
                <a:latin typeface="Tahoma"/>
              </a:rPr>
              <a:t>class</a:t>
            </a:r>
            <a:r>
              <a:rPr b="0" lang="en-US" sz="2300" spc="-1" strike="noStrike">
                <a:solidFill>
                  <a:srgbClr val="40458c"/>
                </a:solidFill>
                <a:latin typeface="Tahoma"/>
              </a:rPr>
              <a:t> Turma {</a:t>
            </a:r>
            <a:br>
              <a:rPr sz="2300"/>
            </a:br>
            <a:r>
              <a:rPr b="0" lang="en-US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1" lang="en-US" sz="2300" spc="-1" strike="noStrike">
                <a:solidFill>
                  <a:srgbClr val="40458c"/>
                </a:solidFill>
                <a:latin typeface="Tahoma"/>
              </a:rPr>
              <a:t>public</a:t>
            </a:r>
            <a:r>
              <a:rPr b="0" lang="en-US" sz="23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0" lang="en-US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40458c"/>
                </a:solidFill>
                <a:latin typeface="Tahoma"/>
              </a:rPr>
              <a:t>d_String</a:t>
            </a:r>
            <a:r>
              <a:rPr b="0" lang="en-US" sz="2300" spc="-1" strike="noStrike">
                <a:solidFill>
                  <a:srgbClr val="40458c"/>
                </a:solidFill>
                <a:latin typeface="Tahoma"/>
              </a:rPr>
              <a:t> Disciplina;</a:t>
            </a:r>
            <a:br>
              <a:rPr sz="2300"/>
            </a:br>
            <a:r>
              <a:rPr b="0" lang="en-US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40458c"/>
                </a:solidFill>
                <a:latin typeface="Tahoma"/>
              </a:rPr>
              <a:t>d_Ref</a:t>
            </a:r>
            <a:r>
              <a:rPr b="0" lang="en-US" sz="2300" spc="-1" strike="noStrike">
                <a:solidFill>
                  <a:srgbClr val="40458c"/>
                </a:solidFill>
                <a:latin typeface="Tahoma"/>
              </a:rPr>
              <a:t>&lt;Pessoa&gt; Professor;</a:t>
            </a:r>
            <a:br>
              <a:rPr sz="2300"/>
            </a:br>
            <a:r>
              <a:rPr b="0" lang="en-US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40458c"/>
                </a:solidFill>
                <a:latin typeface="Tahoma"/>
              </a:rPr>
              <a:t>d_Set</a:t>
            </a:r>
            <a:r>
              <a:rPr b="0" lang="en-US" sz="23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1" lang="en-US" sz="2300" spc="-1" strike="noStrike">
                <a:solidFill>
                  <a:srgbClr val="40458c"/>
                </a:solidFill>
                <a:latin typeface="Tahoma"/>
              </a:rPr>
              <a:t>d_Ref</a:t>
            </a:r>
            <a:r>
              <a:rPr b="0" lang="en-US" sz="2300" spc="-1" strike="noStrike">
                <a:solidFill>
                  <a:srgbClr val="40458c"/>
                </a:solidFill>
                <a:latin typeface="Tahoma"/>
              </a:rPr>
              <a:t>&lt;Aluno&gt;&gt; Alunos;</a:t>
            </a:r>
            <a:br>
              <a:rPr sz="2300"/>
            </a:br>
            <a:r>
              <a:rPr b="0" lang="en-US" sz="2300" spc="-1" strike="noStrike">
                <a:solidFill>
                  <a:srgbClr val="40458c"/>
                </a:solidFill>
                <a:latin typeface="Tahoma"/>
              </a:rPr>
              <a:t>       };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Linguagen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538280"/>
            <a:ext cx="819792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mplo de código em ODMG OML C++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voi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novo_aluno (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d_String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Nome,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d_Long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CPF, 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d_Long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Matrícula) {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pt-BR" sz="2400" spc="-1" strike="noStrike">
                <a:solidFill>
                  <a:srgbClr val="40458c"/>
                </a:solidFill>
                <a:latin typeface="Tahoma"/>
              </a:rPr>
              <a:t>d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_</a:t>
            </a:r>
            <a:r>
              <a:rPr b="1" lang="pt-BR" sz="2400" spc="-1" strike="noStrike">
                <a:solidFill>
                  <a:srgbClr val="40458c"/>
                </a:solidFill>
                <a:latin typeface="Tahoma"/>
              </a:rPr>
              <a:t>Database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 db; 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d</a:t>
            </a:r>
            <a:r>
              <a:rPr b="1" lang="pt-BR" sz="2400" spc="-1" strike="noStrike">
                <a:solidFill>
                  <a:srgbClr val="40458c"/>
                </a:solidFill>
                <a:latin typeface="Tahoma"/>
              </a:rPr>
              <a:t>_Transaction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 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ans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db.</a:t>
            </a:r>
            <a:r>
              <a:rPr b="1" lang="pt-BR" sz="2400" spc="-1" strike="noStrike">
                <a:solidFill>
                  <a:srgbClr val="40458c"/>
                </a:solidFill>
                <a:latin typeface="Tahoma"/>
              </a:rPr>
              <a:t>open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("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unos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DB"); 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ans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.</a:t>
            </a:r>
            <a:r>
              <a:rPr b="1" lang="pt-BR" sz="2400" spc="-1" strike="noStrike">
                <a:solidFill>
                  <a:srgbClr val="40458c"/>
                </a:solidFill>
                <a:latin typeface="Tahoma"/>
              </a:rPr>
              <a:t>begin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(); 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d_Ref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&lt;Aluno&gt; NovoAluno =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new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db) Aluno;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NovoAluno</a:t>
            </a:r>
            <a:r>
              <a:rPr b="0" lang="en-US" sz="24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me = Nome; 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NovoAluno</a:t>
            </a:r>
            <a:r>
              <a:rPr b="0" lang="en-US" sz="24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PF = CPF; 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NovoAluno</a:t>
            </a:r>
            <a:r>
              <a:rPr b="0" lang="en-US" sz="24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trícula = Matrícula ; 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ans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.</a:t>
            </a:r>
            <a:r>
              <a:rPr b="1" lang="pt-BR" sz="2400" spc="-1" strike="noStrike">
                <a:solidFill>
                  <a:srgbClr val="40458c"/>
                </a:solidFill>
                <a:latin typeface="Tahoma"/>
              </a:rPr>
              <a:t>commit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(); 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db.</a:t>
            </a:r>
            <a:r>
              <a:rPr b="1" lang="pt-BR" sz="2400" spc="-1" strike="noStrike">
                <a:solidFill>
                  <a:srgbClr val="40458c"/>
                </a:solidFill>
                <a:latin typeface="Tahoma"/>
              </a:rPr>
              <a:t>close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();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}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Linguagen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538280"/>
            <a:ext cx="851544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mplo de código em ODMG OQL C++ </a:t>
            </a:r>
            <a:br>
              <a:rPr sz="2800"/>
            </a:b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voi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busca_prof (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d_String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nome) {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400" spc="-1" strike="noStrike">
                <a:solidFill>
                  <a:srgbClr val="40458c"/>
                </a:solidFill>
                <a:latin typeface="Tahoma"/>
              </a:rPr>
              <a:t>d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_</a:t>
            </a:r>
            <a:r>
              <a:rPr b="1" lang="pt-BR" sz="2400" spc="-1" strike="noStrike">
                <a:solidFill>
                  <a:srgbClr val="40458c"/>
                </a:solidFill>
                <a:latin typeface="Tahoma"/>
              </a:rPr>
              <a:t>Database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 db; 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db.</a:t>
            </a:r>
            <a:r>
              <a:rPr b="1" lang="pt-BR" sz="2400" spc="-1" strike="noStrike">
                <a:solidFill>
                  <a:srgbClr val="40458c"/>
                </a:solidFill>
                <a:latin typeface="Tahoma"/>
              </a:rPr>
              <a:t>open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("</a:t>
            </a:r>
            <a:r>
              <a:rPr b="0" lang="en-US" sz="2300" spc="-1" strike="noStrike">
                <a:solidFill>
                  <a:srgbClr val="40458c"/>
                </a:solidFill>
                <a:latin typeface="Tahoma"/>
              </a:rPr>
              <a:t>CorpoDocente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DB"); 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pt-BR" sz="2400" spc="-1" strike="noStrike">
                <a:solidFill>
                  <a:srgbClr val="40458c"/>
                </a:solidFill>
                <a:latin typeface="Tahoma"/>
              </a:rPr>
              <a:t>d_OQL_Query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 query("select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fessores 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from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rpoDocente where Professores.Nome like :nome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"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d</a:t>
            </a:r>
            <a:r>
              <a:rPr b="1" lang="pt-BR" sz="2400" spc="-1" strike="noStrike">
                <a:solidFill>
                  <a:srgbClr val="40458c"/>
                </a:solidFill>
                <a:latin typeface="Tahoma"/>
              </a:rPr>
              <a:t>_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Set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1" lang="pt-BR" sz="2400" spc="-1" strike="noStrike">
                <a:solidFill>
                  <a:srgbClr val="40458c"/>
                </a:solidFill>
                <a:latin typeface="Tahoma"/>
              </a:rPr>
              <a:t>d_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f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&lt;Pessoa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&gt;&gt;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fs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; 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pt-BR" sz="2400" spc="-1" strike="noStrike">
                <a:solidFill>
                  <a:srgbClr val="40458c"/>
                </a:solidFill>
                <a:latin typeface="Tahoma"/>
              </a:rPr>
              <a:t>d_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OQL</a:t>
            </a:r>
            <a:r>
              <a:rPr b="1" lang="pt-BR" sz="2400" spc="-1" strike="noStrike">
                <a:solidFill>
                  <a:srgbClr val="40458c"/>
                </a:solidFill>
                <a:latin typeface="Tahoma"/>
              </a:rPr>
              <a:t>_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E</a:t>
            </a:r>
            <a:r>
              <a:rPr b="1" lang="pt-BR" sz="2400" spc="-1" strike="noStrike">
                <a:solidFill>
                  <a:srgbClr val="40458c"/>
                </a:solidFill>
                <a:latin typeface="Tahoma"/>
              </a:rPr>
              <a:t>xecute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(query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fs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);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pt-BR" sz="2400" spc="-1" strike="noStrike">
                <a:solidFill>
                  <a:srgbClr val="40458c"/>
                </a:solidFill>
                <a:latin typeface="Tahoma"/>
              </a:rPr>
              <a:t>d_Iterator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1" lang="pt-BR" sz="2400" spc="-1" strike="noStrike">
                <a:solidFill>
                  <a:srgbClr val="40458c"/>
                </a:solidFill>
                <a:latin typeface="Tahoma"/>
              </a:rPr>
              <a:t>d_Ref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ssoa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&gt;&gt;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iter 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=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profs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.</a:t>
            </a:r>
            <a:r>
              <a:rPr b="1" lang="pt-BR" sz="2400" spc="-1" strike="noStrike">
                <a:solidFill>
                  <a:srgbClr val="40458c"/>
                </a:solidFill>
                <a:latin typeface="Tahoma"/>
              </a:rPr>
              <a:t>create_iterator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(); 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pt-BR" sz="2400" spc="-1" strike="noStrike">
                <a:solidFill>
                  <a:srgbClr val="40458c"/>
                </a:solidFill>
                <a:latin typeface="Tahoma"/>
              </a:rPr>
              <a:t>while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(i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r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.</a:t>
            </a:r>
            <a:r>
              <a:rPr b="1" lang="pt-BR" sz="2400" spc="-1" strike="noStrike">
                <a:solidFill>
                  <a:srgbClr val="40458c"/>
                </a:solidFill>
                <a:latin typeface="Tahoma"/>
              </a:rPr>
              <a:t>next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fs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))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{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ou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&lt;&lt; 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"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me: 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"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&lt;&lt; profs.Nome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   &lt;&lt; 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"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CPF: 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"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&lt;&lt; profs.CPF &lt;&lt;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endl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}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db.</a:t>
            </a:r>
            <a:r>
              <a:rPr b="1" lang="pt-BR" sz="2400" spc="-1" strike="noStrike">
                <a:solidFill>
                  <a:srgbClr val="40458c"/>
                </a:solidFill>
                <a:latin typeface="Tahoma"/>
              </a:rPr>
              <a:t>close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();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}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Justificativa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537920"/>
            <a:ext cx="821232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Ds relacionais possuem limitaçõ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ucos tipos de dado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do geralmente pequeno, com tamanho predefini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or de um dado é atômico (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ma norm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ão inapropriados para armazenamento e busca de novos tipos de dados como imagens, áudio e ví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vos modelos vêm sendo propostos para solucionar as limitações dos BDs relacion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o Orientado a Obje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o Relacional-Obje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o Dedut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Justificativa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538280"/>
            <a:ext cx="81900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BDs não-convencionais são úteis em uma série de novas aplicaçõ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Hipertex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ultimí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nsino à distâ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edici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BDs relacionais não conseguem modelar os dados destas aplicações adequadam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53040" y="2387520"/>
            <a:ext cx="2784600" cy="2816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589800" y="3049560"/>
            <a:ext cx="16891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Descrição do Modelo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538280"/>
            <a:ext cx="8190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dos são modelados como obje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Obj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quivale a uma entidade do modelo E-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tos encapsulam um conjunto 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Variáve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e contém os dados do obje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Método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ão usados para acessar e alterar os d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Mensage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ão trocadas entre objetos para ativar seus método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egam o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Parâmetro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 chamada do méto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ram um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espost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m o retorno do méto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envio de mensagens não implica na transmissão de dados pela rede (pode ser implementado como uma chamada de método loc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Descrição do Modelo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938760" y="4600440"/>
            <a:ext cx="1603080" cy="1811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3849840" y="1614240"/>
            <a:ext cx="1731600" cy="2397600"/>
            <a:chOff x="3849840" y="1614240"/>
            <a:chExt cx="1731600" cy="2397600"/>
          </a:xfrm>
        </p:grpSpPr>
        <p:sp>
          <p:nvSpPr>
            <p:cNvPr id="109" name=""/>
            <p:cNvSpPr/>
            <p:nvPr/>
          </p:nvSpPr>
          <p:spPr>
            <a:xfrm>
              <a:off x="3849840" y="1614240"/>
              <a:ext cx="1731600" cy="2397600"/>
            </a:xfrm>
            <a:custGeom>
              <a:avLst/>
              <a:gdLst>
                <a:gd name="textAreaLeft" fmla="*/ 84240 w 1731600"/>
                <a:gd name="textAreaRight" fmla="*/ 1647360 w 1731600"/>
                <a:gd name="textAreaTop" fmla="*/ 84240 h 2397600"/>
                <a:gd name="textAreaBottom" fmla="*/ 2313360 h 2397600"/>
              </a:gdLst>
              <a:ahLst/>
              <a:rect l="textAreaLeft" t="textAreaTop" r="textAreaRight" b="textAreaBottom"/>
              <a:pathLst>
                <a:path w="21600" h="29906">
                  <a:moveTo>
                    <a:pt x="3600" y="0"/>
                  </a:moveTo>
                  <a:arcTo wR="3600" hR="3600" stAng="16200000" swAng="-5400000"/>
                  <a:lnTo>
                    <a:pt x="0" y="26306"/>
                  </a:lnTo>
                  <a:arcTo wR="3600" hR="3600" stAng="10800000" swAng="-5400000"/>
                  <a:lnTo>
                    <a:pt x="18000" y="299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fdbfd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40458c"/>
                  </a:solidFill>
                  <a:latin typeface="Tahoma"/>
                </a:rPr>
                <a:t>Conta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40458c"/>
                  </a:solidFill>
                  <a:latin typeface="Tahoma"/>
                </a:rPr>
                <a:t>Cliente </a:t>
              </a:r>
              <a:br>
                <a:rPr sz="2000"/>
              </a:br>
              <a:r>
                <a:rPr b="0" lang="pt-BR" sz="2000" spc="-1" strike="noStrike">
                  <a:solidFill>
                    <a:srgbClr val="40458c"/>
                  </a:solidFill>
                  <a:latin typeface="Tahoma"/>
                </a:rPr>
                <a:t>Número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40458c"/>
                  </a:solidFill>
                  <a:latin typeface="Tahoma"/>
                </a:rPr>
                <a:t>Saldo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40458c"/>
                  </a:solidFill>
                  <a:latin typeface="Tahoma"/>
                </a:rPr>
                <a:t>getCliente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40458c"/>
                  </a:solidFill>
                  <a:latin typeface="Tahoma"/>
                </a:rPr>
                <a:t>getNúmero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40458c"/>
                  </a:solidFill>
                  <a:latin typeface="Tahoma"/>
                </a:rPr>
                <a:t>getSaldo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38400" y="2054160"/>
              <a:ext cx="155880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49560" y="2965320"/>
              <a:ext cx="154764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842120" y="1597320"/>
            <a:ext cx="1878480" cy="2716920"/>
          </a:xfrm>
          <a:custGeom>
            <a:avLst/>
            <a:gdLst>
              <a:gd name="textAreaLeft" fmla="*/ 91440 w 1878480"/>
              <a:gd name="textAreaRight" fmla="*/ 1787040 w 1878480"/>
              <a:gd name="textAreaTop" fmla="*/ 91440 h 2716920"/>
              <a:gd name="textAreaBottom" fmla="*/ 2625480 h 2716920"/>
            </a:gdLst>
            <a:ahLst/>
            <a:rect l="textAreaLeft" t="textAreaTop" r="textAreaRight" b="textAreaBottom"/>
            <a:pathLst>
              <a:path w="21600" h="31239">
                <a:moveTo>
                  <a:pt x="3600" y="0"/>
                </a:moveTo>
                <a:arcTo wR="3600" hR="3600" stAng="16200000" swAng="-5400000"/>
                <a:lnTo>
                  <a:pt x="0" y="27639"/>
                </a:lnTo>
                <a:arcTo wR="3600" hR="3600" stAng="10800000" swAng="-5400000"/>
                <a:lnTo>
                  <a:pt x="18000" y="312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fdbfd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458c"/>
                </a:solidFill>
                <a:latin typeface="Tahoma"/>
              </a:rPr>
              <a:t>Client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Nom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Endereç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CPF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getNom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getEndereço</a:t>
            </a:r>
            <a:br>
              <a:rPr sz="2000"/>
            </a:b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setEndereç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getCPF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3320" y="2048040"/>
            <a:ext cx="173988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36800" y="2959200"/>
            <a:ext cx="171756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26960" y="1620000"/>
            <a:ext cx="1551240" cy="2379600"/>
          </a:xfrm>
          <a:custGeom>
            <a:avLst/>
            <a:gdLst>
              <a:gd name="textAreaLeft" fmla="*/ 75600 w 1551240"/>
              <a:gd name="textAreaRight" fmla="*/ 1475640 w 1551240"/>
              <a:gd name="textAreaTop" fmla="*/ 75600 h 2379600"/>
              <a:gd name="textAreaBottom" fmla="*/ 2304000 h 2379600"/>
            </a:gdLst>
            <a:ahLst/>
            <a:rect l="textAreaLeft" t="textAreaTop" r="textAreaRight" b="textAreaBottom"/>
            <a:pathLst>
              <a:path w="21600" h="33132">
                <a:moveTo>
                  <a:pt x="3600" y="0"/>
                </a:moveTo>
                <a:arcTo wR="3600" hR="3600" stAng="16200000" swAng="-5400000"/>
                <a:lnTo>
                  <a:pt x="0" y="29532"/>
                </a:lnTo>
                <a:arcTo wR="3600" hR="3600" stAng="10800000" swAng="-5400000"/>
                <a:lnTo>
                  <a:pt x="18000" y="331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fdbfd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458c"/>
                </a:solidFill>
                <a:latin typeface="Tahoma"/>
              </a:rPr>
              <a:t>Aplicaçã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Cont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Tip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Sald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getCont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getTip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getSald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46760" y="2076480"/>
            <a:ext cx="154620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35600" y="2963880"/>
            <a:ext cx="153504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2763360" y="4333680"/>
            <a:ext cx="1638360" cy="26028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718160" y="4006800"/>
            <a:ext cx="11160" cy="58752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079960" y="4005000"/>
            <a:ext cx="1568520" cy="61092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Descrição do Modelo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8200" y="1537920"/>
            <a:ext cx="641844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 classe de um objeto define a sua interface exter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Variáveis, métodos e mensagens acei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odem existir relações de herança entre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Herança de interface e implementaç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x: Conta 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Conta Especial (com limi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étodos podem ter implementações diferentes nas sub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x: getSaldo() da conta especial pode incluir o limite de crédito no cálculo do saldo disponí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018560" y="1704600"/>
            <a:ext cx="1731600" cy="2397600"/>
            <a:chOff x="7018560" y="1704600"/>
            <a:chExt cx="1731600" cy="2397600"/>
          </a:xfrm>
        </p:grpSpPr>
        <p:sp>
          <p:nvSpPr>
            <p:cNvPr id="124" name=""/>
            <p:cNvSpPr/>
            <p:nvPr/>
          </p:nvSpPr>
          <p:spPr>
            <a:xfrm>
              <a:off x="7018560" y="1704600"/>
              <a:ext cx="1731600" cy="2397600"/>
            </a:xfrm>
            <a:custGeom>
              <a:avLst/>
              <a:gdLst>
                <a:gd name="textAreaLeft" fmla="*/ 84240 w 1731600"/>
                <a:gd name="textAreaRight" fmla="*/ 1647360 w 1731600"/>
                <a:gd name="textAreaTop" fmla="*/ 84240 h 2397600"/>
                <a:gd name="textAreaBottom" fmla="*/ 2313360 h 2397600"/>
              </a:gdLst>
              <a:ahLst/>
              <a:rect l="textAreaLeft" t="textAreaTop" r="textAreaRight" b="textAreaBottom"/>
              <a:pathLst>
                <a:path w="21600" h="29906">
                  <a:moveTo>
                    <a:pt x="3600" y="0"/>
                  </a:moveTo>
                  <a:arcTo wR="3600" hR="3600" stAng="16200000" swAng="-5400000"/>
                  <a:lnTo>
                    <a:pt x="0" y="26306"/>
                  </a:lnTo>
                  <a:arcTo wR="3600" hR="3600" stAng="10800000" swAng="-5400000"/>
                  <a:lnTo>
                    <a:pt x="18000" y="299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fdbfd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40458c"/>
                  </a:solidFill>
                  <a:latin typeface="Tahoma"/>
                </a:rPr>
                <a:t>Conta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40458c"/>
                  </a:solidFill>
                  <a:latin typeface="Tahoma"/>
                </a:rPr>
                <a:t>Cliente </a:t>
              </a:r>
              <a:br>
                <a:rPr sz="2000"/>
              </a:br>
              <a:r>
                <a:rPr b="0" lang="pt-BR" sz="2000" spc="-1" strike="noStrike">
                  <a:solidFill>
                    <a:srgbClr val="40458c"/>
                  </a:solidFill>
                  <a:latin typeface="Tahoma"/>
                </a:rPr>
                <a:t>Número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40458c"/>
                  </a:solidFill>
                  <a:latin typeface="Tahoma"/>
                </a:rPr>
                <a:t>Saldo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40458c"/>
                  </a:solidFill>
                  <a:latin typeface="Tahoma"/>
                </a:rPr>
                <a:t>getCliente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40458c"/>
                  </a:solidFill>
                  <a:latin typeface="Tahoma"/>
                </a:rPr>
                <a:t>getNúmero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40458c"/>
                  </a:solidFill>
                  <a:latin typeface="Tahoma"/>
                </a:rPr>
                <a:t>getSaldo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07120" y="2144520"/>
              <a:ext cx="155880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118280" y="3055680"/>
              <a:ext cx="154764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 flipV="1">
            <a:off x="7886880" y="4097160"/>
            <a:ext cx="10800" cy="58752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30880" y="4672800"/>
            <a:ext cx="1506600" cy="145548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458c"/>
                </a:solidFill>
                <a:latin typeface="Tahoma"/>
              </a:rPr>
              <a:t>CEspecia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Limit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getLimit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Tahoma"/>
              </a:rPr>
              <a:t>getSald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18280" y="5103720"/>
            <a:ext cx="152424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07120" y="5416560"/>
            <a:ext cx="154800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07240" y="4245120"/>
            <a:ext cx="379440" cy="271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Descrição do Modelo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538280"/>
            <a:ext cx="8190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dentid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bjetos são identificados univocamente no sistema, sem usar para tal os valores dos d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Já em BDs relacionais, a identidade de uma tupla é dada pelo valor de um dado (ex.: chave primári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ferênc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bjeto podem ter referências para outros obje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u seja, uma variável de um objeto podem ter como valor a identidade de um outro obje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o exemplo anterior, Conta 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Cl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m BDs relacionais, uma tupla precisa conter um valor chave de outra tupla e usá-lo para localizá-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Linguagen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538280"/>
            <a:ext cx="8190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erentes abordagens podem ser usadas para acessar BDs orientados a obje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ar orientação a objeto somente para projeto e acessá-lo como um BD relac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essar o BD usando uma linguagem que entenda o conceito de obje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guagem relacional-objeto: linguagem relacional (geralmente SQL) com extensões para manipular objetos e construir novos tipos de d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guagem de programação persistente: LPOO (C++, Java, …) com extensões para uso em B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Linguagen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200" y="1537920"/>
            <a:ext cx="8210520" cy="51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QL 199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drão de linguagem relacional-obje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nda não é suportada por muitos BDs comerciai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a construção de tipos com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reate typ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: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reate typ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Pessoa 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Nome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varchar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CPF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integer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.: o nome é referenciado como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Pessoa.No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orta herança simple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bjetos binários (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Blob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e de caracteres (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lob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: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reate typ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Aluno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under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Pessoa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Matrícula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integer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Curso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varchar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sciplinas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varchar array[10]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Foto3x4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Blob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32Kb), Histórico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lob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16Kb)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.: elementos d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ão acessados com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[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i="1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5T23:56:42Z</dcterms:created>
  <dc:creator>Kent</dc:creator>
  <dc:description/>
  <dc:language>en-US</dc:language>
  <cp:lastModifiedBy>ufsc</cp:lastModifiedBy>
  <dcterms:modified xsi:type="dcterms:W3CDTF">2005-06-13T19:09:13Z</dcterms:modified>
  <cp:revision>165</cp:revision>
  <dc:subject/>
  <dc:title>Indexação e Hashing</dc:title>
</cp:coreProperties>
</file>