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4B54-BAD3-4313-BFAB-375E33666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4507920"/>
            <a:ext cx="8382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EBD1-C0B0-4902-BAD9-446F2808F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243792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450792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450792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5749-2D54-4413-B5A6-2A8B67D74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2698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2437920"/>
            <a:ext cx="2698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2437920"/>
            <a:ext cx="2698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4507920"/>
            <a:ext cx="2698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4507920"/>
            <a:ext cx="2698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4507920"/>
            <a:ext cx="2698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4C18-BF6A-451E-85E9-23DB6AF65E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031B-4A65-46E6-832D-BFE31DA064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D6CC-DC79-453C-98A9-40388CFCF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243792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53D1-A1C0-4C0D-9951-6501DB6E4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4ED2-BEA0-4AAB-9101-205E12A6E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464832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DE4F-C79D-4326-8A14-23F4E9861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243792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450792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21DD-CF63-4DB0-831B-3C421CE50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43792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450792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E480-E855-4216-B5D9-25EC0CC93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43792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4507920"/>
            <a:ext cx="8382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A5B4-644D-4A3C-BBE3-A16C23977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476760"/>
            <a:ext cx="1067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7617-D53A-4F04-9C32-2AF4421ED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ceq01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971800" cy="19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Arial"/>
              </a:rPr>
              <a:t>Controle Estatístico da Qualidade e Data Mining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. Marcelo Menezes R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nceito de variaçã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ÃO H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 itens produzidos pelo mesmo processo que sejam idênticos, devido às muitas fontes de variabilid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ariação entre eles pode ser grande ou muito pequ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38080" y="5181480"/>
            <a:ext cx="1524240" cy="990720"/>
            <a:chOff x="838080" y="5181480"/>
            <a:chExt cx="1524240" cy="990720"/>
          </a:xfrm>
        </p:grpSpPr>
        <p:grpSp>
          <p:nvGrpSpPr>
            <p:cNvPr id="106" name=""/>
            <p:cNvGrpSpPr/>
            <p:nvPr/>
          </p:nvGrpSpPr>
          <p:grpSpPr>
            <a:xfrm>
              <a:off x="838080" y="5181480"/>
              <a:ext cx="1524240" cy="990720"/>
              <a:chOff x="838080" y="5181480"/>
              <a:chExt cx="1524240" cy="990720"/>
            </a:xfrm>
          </p:grpSpPr>
          <p:sp>
            <p:nvSpPr>
              <p:cNvPr id="107" name=""/>
              <p:cNvSpPr/>
              <p:nvPr/>
            </p:nvSpPr>
            <p:spPr>
              <a:xfrm>
                <a:off x="1600200" y="51814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8080" y="6172200"/>
                <a:ext cx="15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1447920" y="6019920"/>
              <a:ext cx="15228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743200" y="5181480"/>
            <a:ext cx="1523880" cy="990720"/>
            <a:chOff x="2743200" y="5181480"/>
            <a:chExt cx="1523880" cy="990720"/>
          </a:xfrm>
        </p:grpSpPr>
        <p:grpSp>
          <p:nvGrpSpPr>
            <p:cNvPr id="111" name=""/>
            <p:cNvGrpSpPr/>
            <p:nvPr/>
          </p:nvGrpSpPr>
          <p:grpSpPr>
            <a:xfrm>
              <a:off x="2743200" y="5181480"/>
              <a:ext cx="1523880" cy="990720"/>
              <a:chOff x="2743200" y="5181480"/>
              <a:chExt cx="1523880" cy="990720"/>
            </a:xfrm>
          </p:grpSpPr>
          <p:sp>
            <p:nvSpPr>
              <p:cNvPr id="112" name=""/>
              <p:cNvSpPr/>
              <p:nvPr/>
            </p:nvSpPr>
            <p:spPr>
              <a:xfrm>
                <a:off x="3504960" y="51814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743200" y="617220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352680" y="6019920"/>
              <a:ext cx="15264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2520" y="6019920"/>
              <a:ext cx="15228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800600" y="5181480"/>
            <a:ext cx="1523880" cy="990720"/>
            <a:chOff x="4800600" y="5181480"/>
            <a:chExt cx="1523880" cy="990720"/>
          </a:xfrm>
        </p:grpSpPr>
        <p:grpSp>
          <p:nvGrpSpPr>
            <p:cNvPr id="117" name=""/>
            <p:cNvGrpSpPr/>
            <p:nvPr/>
          </p:nvGrpSpPr>
          <p:grpSpPr>
            <a:xfrm>
              <a:off x="4800600" y="5181480"/>
              <a:ext cx="1523880" cy="990720"/>
              <a:chOff x="4800600" y="5181480"/>
              <a:chExt cx="1523880" cy="990720"/>
            </a:xfrm>
          </p:grpSpPr>
          <p:sp>
            <p:nvSpPr>
              <p:cNvPr id="118" name=""/>
              <p:cNvSpPr/>
              <p:nvPr/>
            </p:nvSpPr>
            <p:spPr>
              <a:xfrm>
                <a:off x="5562360" y="51814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800600" y="617220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410080" y="6019920"/>
              <a:ext cx="15264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0080" y="5867280"/>
              <a:ext cx="152640" cy="1526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6019920"/>
              <a:ext cx="15228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67280" y="6019920"/>
              <a:ext cx="15264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781680" y="5181480"/>
            <a:ext cx="1524240" cy="990720"/>
            <a:chOff x="6781680" y="5181480"/>
            <a:chExt cx="1524240" cy="990720"/>
          </a:xfrm>
        </p:grpSpPr>
        <p:grpSp>
          <p:nvGrpSpPr>
            <p:cNvPr id="125" name=""/>
            <p:cNvGrpSpPr/>
            <p:nvPr/>
          </p:nvGrpSpPr>
          <p:grpSpPr>
            <a:xfrm>
              <a:off x="6781680" y="5181480"/>
              <a:ext cx="1524240" cy="990720"/>
              <a:chOff x="6781680" y="5181480"/>
              <a:chExt cx="1524240" cy="990720"/>
            </a:xfrm>
          </p:grpSpPr>
          <p:sp>
            <p:nvSpPr>
              <p:cNvPr id="126" name=""/>
              <p:cNvSpPr/>
              <p:nvPr/>
            </p:nvSpPr>
            <p:spPr>
              <a:xfrm>
                <a:off x="7543800" y="51814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781680" y="6172200"/>
                <a:ext cx="15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7238880" y="6019920"/>
              <a:ext cx="15264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38880" y="5867280"/>
              <a:ext cx="152640" cy="1526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48720" y="6019920"/>
              <a:ext cx="15228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96080" y="6019920"/>
              <a:ext cx="15264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96080" y="5867280"/>
              <a:ext cx="152640" cy="1526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43800" y="6019920"/>
              <a:ext cx="15228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43800" y="5867280"/>
              <a:ext cx="152280" cy="1526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91520" y="6019920"/>
              <a:ext cx="15228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3800" y="5715000"/>
              <a:ext cx="15228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86600" y="6019920"/>
              <a:ext cx="15228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01000" y="6019920"/>
              <a:ext cx="15228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91520" y="5867280"/>
              <a:ext cx="152280" cy="1526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nceito de variaçã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gumas fontes de variação causam diferenças de curto prazo, de uma peça para ou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as fontes causam diferenças no longo prazo: seja de forma gradual (desgaste de máquina), por saltos (um novo processo) ou mesmo erraticamente (surtos de energ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gistrar o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temp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as condições de observ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istribuiçã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2286000"/>
            <a:ext cx="760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ores individuais podem ser difer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8360" y="2971800"/>
            <a:ext cx="84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 como grupo tendem a formar um padr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5200" y="36576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 padrão é chamado d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stribuiç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9480" y="4419720"/>
            <a:ext cx="2590920" cy="1371600"/>
            <a:chOff x="609480" y="4419720"/>
            <a:chExt cx="2590920" cy="1371600"/>
          </a:xfrm>
        </p:grpSpPr>
        <p:sp>
          <p:nvSpPr>
            <p:cNvPr id="147" name=""/>
            <p:cNvSpPr/>
            <p:nvPr/>
          </p:nvSpPr>
          <p:spPr>
            <a:xfrm>
              <a:off x="1523880" y="5638680"/>
              <a:ext cx="152640" cy="1526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609480" y="4419720"/>
              <a:ext cx="2590920" cy="1371600"/>
              <a:chOff x="609480" y="4419720"/>
              <a:chExt cx="2590920" cy="1371600"/>
            </a:xfrm>
          </p:grpSpPr>
          <p:sp>
            <p:nvSpPr>
              <p:cNvPr id="149" name=""/>
              <p:cNvSpPr/>
              <p:nvPr/>
            </p:nvSpPr>
            <p:spPr>
              <a:xfrm>
                <a:off x="1828800" y="441972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9480" y="5791320"/>
                <a:ext cx="2590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76520" y="56386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676520" y="51814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638680"/>
                <a:ext cx="15264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28800" y="56386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28800" y="533412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28800" y="548640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28800" y="51814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676520" y="548640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28800" y="502920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81080" y="5486400"/>
                <a:ext cx="15264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676520" y="533412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76520" y="502920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133720" y="56386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23880" y="5486400"/>
                <a:ext cx="15264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371600" y="56386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286000" y="56386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219320" y="56386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81080" y="5181480"/>
                <a:ext cx="15264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981080" y="5334120"/>
                <a:ext cx="15264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23880" y="5334120"/>
                <a:ext cx="15264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23880" y="5181480"/>
                <a:ext cx="15264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371600" y="548640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133720" y="548640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28800" y="487692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76520" y="487692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828800" y="47242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676520" y="47242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81080" y="4876920"/>
                <a:ext cx="15264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133720" y="487692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133720" y="502920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81080" y="5029200"/>
                <a:ext cx="15264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23880" y="5029200"/>
                <a:ext cx="15264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371600" y="502920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23880" y="4876920"/>
                <a:ext cx="15264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371600" y="487692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86000" y="51814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133720" y="51814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71600" y="51814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219320" y="51814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86000" y="533412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133720" y="533412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371600" y="533412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219320" y="533412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38280" y="5486400"/>
                <a:ext cx="15264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286000" y="548640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19320" y="5486400"/>
                <a:ext cx="15228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66680" y="5486400"/>
                <a:ext cx="152640" cy="1522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90920" y="56386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38280" y="5638680"/>
                <a:ext cx="15264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066680" y="5638680"/>
                <a:ext cx="15264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14400" y="56386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743200" y="56386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2120" y="5638680"/>
                <a:ext cx="15228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3429000" y="4419720"/>
            <a:ext cx="2590920" cy="1371600"/>
            <a:chOff x="3429000" y="4419720"/>
            <a:chExt cx="2590920" cy="1371600"/>
          </a:xfrm>
        </p:grpSpPr>
        <p:grpSp>
          <p:nvGrpSpPr>
            <p:cNvPr id="205" name=""/>
            <p:cNvGrpSpPr/>
            <p:nvPr/>
          </p:nvGrpSpPr>
          <p:grpSpPr>
            <a:xfrm>
              <a:off x="3429000" y="4419720"/>
              <a:ext cx="2590920" cy="1371600"/>
              <a:chOff x="3429000" y="4419720"/>
              <a:chExt cx="2590920" cy="1371600"/>
            </a:xfrm>
          </p:grpSpPr>
          <p:sp>
            <p:nvSpPr>
              <p:cNvPr id="206" name=""/>
              <p:cNvSpPr/>
              <p:nvPr/>
            </p:nvSpPr>
            <p:spPr>
              <a:xfrm>
                <a:off x="4343400" y="5638680"/>
                <a:ext cx="152640" cy="15264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429000" y="4419720"/>
                <a:ext cx="2590920" cy="1371600"/>
                <a:chOff x="3429000" y="4419720"/>
                <a:chExt cx="2590920" cy="13716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648320" y="4419720"/>
                  <a:ext cx="0" cy="137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429000" y="5791320"/>
                  <a:ext cx="2590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496040" y="56386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496040" y="51814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800600" y="5638680"/>
                  <a:ext cx="15264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648320" y="56386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648320" y="533412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648320" y="548640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648320" y="51814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496040" y="548640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648320" y="502920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800600" y="5486400"/>
                  <a:ext cx="15264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496040" y="533412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496040" y="502920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953240" y="56386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343400" y="5486400"/>
                  <a:ext cx="15264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191120" y="56386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105520" y="56386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038840" y="56386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800600" y="5181480"/>
                  <a:ext cx="15264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800600" y="5334120"/>
                  <a:ext cx="15264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343400" y="5334120"/>
                  <a:ext cx="15264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343400" y="5181480"/>
                  <a:ext cx="15264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191120" y="548640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953240" y="548640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648320" y="487692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496040" y="487692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648320" y="47242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496040" y="47242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800600" y="4876920"/>
                  <a:ext cx="15264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953240" y="487692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53240" y="502920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800600" y="5029200"/>
                  <a:ext cx="15264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343400" y="5029200"/>
                  <a:ext cx="15264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191120" y="502920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343400" y="4876920"/>
                  <a:ext cx="15264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191120" y="487692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105520" y="51814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953240" y="51814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91120" y="51814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038840" y="51814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105520" y="533412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953240" y="533412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191120" y="533412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038840" y="533412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257800" y="5486400"/>
                  <a:ext cx="15264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105520" y="548640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038840" y="5486400"/>
                  <a:ext cx="15228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886200" y="5486400"/>
                  <a:ext cx="152640" cy="15228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410440" y="56386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257800" y="5638680"/>
                  <a:ext cx="15264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886200" y="5638680"/>
                  <a:ext cx="15264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733920" y="56386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562720" y="56386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581640" y="5638680"/>
                  <a:ext cx="152280" cy="152640"/>
                </a:xfrm>
                <a:prstGeom prst="rect">
                  <a:avLst/>
                </a:prstGeom>
                <a:solidFill>
                  <a:srgbClr val="00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3505320" y="4724280"/>
              <a:ext cx="2285280" cy="1067040"/>
              <a:chOff x="3505320" y="4724280"/>
              <a:chExt cx="2285280" cy="1067040"/>
            </a:xfrm>
          </p:grpSpPr>
          <p:sp>
            <p:nvSpPr>
              <p:cNvPr id="264" name=""/>
              <p:cNvSpPr/>
              <p:nvPr/>
            </p:nvSpPr>
            <p:spPr>
              <a:xfrm>
                <a:off x="3505320" y="4724280"/>
                <a:ext cx="1143000" cy="106704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0800000">
                <a:off x="4647240" y="4724280"/>
                <a:ext cx="1143000" cy="106704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6248520" y="4419720"/>
            <a:ext cx="2590560" cy="1371600"/>
            <a:chOff x="6248520" y="4419720"/>
            <a:chExt cx="2590560" cy="1371600"/>
          </a:xfrm>
        </p:grpSpPr>
        <p:grpSp>
          <p:nvGrpSpPr>
            <p:cNvPr id="267" name=""/>
            <p:cNvGrpSpPr/>
            <p:nvPr/>
          </p:nvGrpSpPr>
          <p:grpSpPr>
            <a:xfrm>
              <a:off x="6248520" y="4419720"/>
              <a:ext cx="2590560" cy="1371600"/>
              <a:chOff x="6248520" y="4419720"/>
              <a:chExt cx="2590560" cy="1371600"/>
            </a:xfrm>
          </p:grpSpPr>
          <p:sp>
            <p:nvSpPr>
              <p:cNvPr id="268" name=""/>
              <p:cNvSpPr/>
              <p:nvPr/>
            </p:nvSpPr>
            <p:spPr>
              <a:xfrm>
                <a:off x="7467480" y="441972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48520" y="5791320"/>
                <a:ext cx="25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324480" y="4724280"/>
              <a:ext cx="2285280" cy="1067040"/>
              <a:chOff x="6324480" y="4724280"/>
              <a:chExt cx="2285280" cy="1067040"/>
            </a:xfrm>
          </p:grpSpPr>
          <p:sp>
            <p:nvSpPr>
              <p:cNvPr id="271" name=""/>
              <p:cNvSpPr/>
              <p:nvPr/>
            </p:nvSpPr>
            <p:spPr>
              <a:xfrm>
                <a:off x="6324480" y="4724280"/>
                <a:ext cx="1143000" cy="106704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10800000">
                <a:off x="7466400" y="4724280"/>
                <a:ext cx="1143000" cy="106704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aracterização de uma distribuiçã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6240" y="2378160"/>
            <a:ext cx="73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distribuições podem diferir quanto à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6160" y="2971800"/>
            <a:ext cx="17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28600" y="3962520"/>
            <a:ext cx="2590560" cy="1371600"/>
            <a:chOff x="228600" y="3962520"/>
            <a:chExt cx="2590560" cy="1371600"/>
          </a:xfrm>
        </p:grpSpPr>
        <p:grpSp>
          <p:nvGrpSpPr>
            <p:cNvPr id="277" name=""/>
            <p:cNvGrpSpPr/>
            <p:nvPr/>
          </p:nvGrpSpPr>
          <p:grpSpPr>
            <a:xfrm>
              <a:off x="228600" y="3962520"/>
              <a:ext cx="2590560" cy="1371600"/>
              <a:chOff x="228600" y="3962520"/>
              <a:chExt cx="2590560" cy="1371600"/>
            </a:xfrm>
          </p:grpSpPr>
          <p:sp>
            <p:nvSpPr>
              <p:cNvPr id="278" name=""/>
              <p:cNvSpPr/>
              <p:nvPr/>
            </p:nvSpPr>
            <p:spPr>
              <a:xfrm>
                <a:off x="1447560" y="396252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8600" y="5334120"/>
                <a:ext cx="25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04920" y="4190760"/>
              <a:ext cx="2285280" cy="1067040"/>
              <a:chOff x="304920" y="4190760"/>
              <a:chExt cx="2285280" cy="1067040"/>
            </a:xfrm>
          </p:grpSpPr>
          <p:sp>
            <p:nvSpPr>
              <p:cNvPr id="281" name=""/>
              <p:cNvSpPr/>
              <p:nvPr/>
            </p:nvSpPr>
            <p:spPr>
              <a:xfrm>
                <a:off x="304920" y="4191120"/>
                <a:ext cx="114300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800000">
                <a:off x="1446840" y="4190760"/>
                <a:ext cx="114300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609480" y="3962520"/>
            <a:ext cx="2285280" cy="1371600"/>
            <a:chOff x="609480" y="3962520"/>
            <a:chExt cx="2285280" cy="1371600"/>
          </a:xfrm>
        </p:grpSpPr>
        <p:grpSp>
          <p:nvGrpSpPr>
            <p:cNvPr id="284" name=""/>
            <p:cNvGrpSpPr/>
            <p:nvPr/>
          </p:nvGrpSpPr>
          <p:grpSpPr>
            <a:xfrm>
              <a:off x="609480" y="4190760"/>
              <a:ext cx="2285280" cy="1067040"/>
              <a:chOff x="609480" y="4190760"/>
              <a:chExt cx="2285280" cy="1067040"/>
            </a:xfrm>
          </p:grpSpPr>
          <p:sp>
            <p:nvSpPr>
              <p:cNvPr id="285" name=""/>
              <p:cNvSpPr/>
              <p:nvPr/>
            </p:nvSpPr>
            <p:spPr>
              <a:xfrm>
                <a:off x="609480" y="4191120"/>
                <a:ext cx="114300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rot="10800000">
                <a:off x="1751400" y="4190760"/>
                <a:ext cx="114300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1752480" y="396252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0400" y="4571640"/>
            <a:ext cx="2970720" cy="686160"/>
            <a:chOff x="3200400" y="4571640"/>
            <a:chExt cx="2970720" cy="686160"/>
          </a:xfrm>
        </p:grpSpPr>
        <p:sp>
          <p:nvSpPr>
            <p:cNvPr id="289" name=""/>
            <p:cNvSpPr/>
            <p:nvPr/>
          </p:nvSpPr>
          <p:spPr>
            <a:xfrm>
              <a:off x="3200400" y="4572000"/>
              <a:ext cx="1485720" cy="685800"/>
            </a:xfrm>
            <a:custGeom>
              <a:avLst/>
              <a:gdLst/>
              <a:ahLst/>
              <a:rect l="l" t="t" r="r" b="b"/>
              <a:pathLst>
                <a:path w="720" h="672">
                  <a:moveTo>
                    <a:pt x="0" y="672"/>
                  </a:moveTo>
                  <a:cubicBezTo>
                    <a:pt x="76" y="648"/>
                    <a:pt x="152" y="624"/>
                    <a:pt x="240" y="528"/>
                  </a:cubicBezTo>
                  <a:cubicBezTo>
                    <a:pt x="328" y="432"/>
                    <a:pt x="448" y="184"/>
                    <a:pt x="528" y="96"/>
                  </a:cubicBezTo>
                  <a:cubicBezTo>
                    <a:pt x="608" y="8"/>
                    <a:pt x="688" y="16"/>
                    <a:pt x="72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rot="10800000">
              <a:off x="4685040" y="4571640"/>
              <a:ext cx="1485720" cy="685800"/>
            </a:xfrm>
            <a:custGeom>
              <a:avLst/>
              <a:gdLst/>
              <a:ahLst/>
              <a:rect l="l" t="t" r="r" b="b"/>
              <a:pathLst>
                <a:path w="720" h="672">
                  <a:moveTo>
                    <a:pt x="0" y="672"/>
                  </a:moveTo>
                  <a:cubicBezTo>
                    <a:pt x="76" y="648"/>
                    <a:pt x="152" y="624"/>
                    <a:pt x="240" y="528"/>
                  </a:cubicBezTo>
                  <a:cubicBezTo>
                    <a:pt x="328" y="432"/>
                    <a:pt x="448" y="184"/>
                    <a:pt x="528" y="96"/>
                  </a:cubicBezTo>
                  <a:cubicBezTo>
                    <a:pt x="608" y="8"/>
                    <a:pt x="688" y="16"/>
                    <a:pt x="72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429000" y="3962520"/>
            <a:ext cx="2590920" cy="1371600"/>
            <a:chOff x="3429000" y="3962520"/>
            <a:chExt cx="2590920" cy="1371600"/>
          </a:xfrm>
        </p:grpSpPr>
        <p:grpSp>
          <p:nvGrpSpPr>
            <p:cNvPr id="292" name=""/>
            <p:cNvGrpSpPr/>
            <p:nvPr/>
          </p:nvGrpSpPr>
          <p:grpSpPr>
            <a:xfrm>
              <a:off x="3429000" y="3962520"/>
              <a:ext cx="2590920" cy="1371600"/>
              <a:chOff x="3429000" y="3962520"/>
              <a:chExt cx="2590920" cy="1371600"/>
            </a:xfrm>
          </p:grpSpPr>
          <p:sp>
            <p:nvSpPr>
              <p:cNvPr id="293" name=""/>
              <p:cNvSpPr/>
              <p:nvPr/>
            </p:nvSpPr>
            <p:spPr>
              <a:xfrm>
                <a:off x="4648320" y="396252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29000" y="5334120"/>
                <a:ext cx="2590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733920" y="4190760"/>
              <a:ext cx="1828800" cy="1067040"/>
              <a:chOff x="3733920" y="4190760"/>
              <a:chExt cx="1828800" cy="1067040"/>
            </a:xfrm>
          </p:grpSpPr>
          <p:sp>
            <p:nvSpPr>
              <p:cNvPr id="296" name=""/>
              <p:cNvSpPr/>
              <p:nvPr/>
            </p:nvSpPr>
            <p:spPr>
              <a:xfrm>
                <a:off x="3733920" y="419112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rot="10800000">
                <a:off x="4648320" y="419076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3733920" y="297180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82400" y="29718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400800" y="3962520"/>
            <a:ext cx="2590560" cy="1371600"/>
            <a:chOff x="6400800" y="3962520"/>
            <a:chExt cx="2590560" cy="1371600"/>
          </a:xfrm>
        </p:grpSpPr>
        <p:grpSp>
          <p:nvGrpSpPr>
            <p:cNvPr id="301" name=""/>
            <p:cNvGrpSpPr/>
            <p:nvPr/>
          </p:nvGrpSpPr>
          <p:grpSpPr>
            <a:xfrm>
              <a:off x="6400800" y="3962520"/>
              <a:ext cx="2590560" cy="1371600"/>
              <a:chOff x="6400800" y="3962520"/>
              <a:chExt cx="2590560" cy="1371600"/>
            </a:xfrm>
          </p:grpSpPr>
          <p:sp>
            <p:nvSpPr>
              <p:cNvPr id="302" name=""/>
              <p:cNvSpPr/>
              <p:nvPr/>
            </p:nvSpPr>
            <p:spPr>
              <a:xfrm>
                <a:off x="7619760" y="396252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00800" y="5334120"/>
                <a:ext cx="25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6705720" y="4190760"/>
              <a:ext cx="1828800" cy="1067040"/>
              <a:chOff x="6705720" y="4190760"/>
              <a:chExt cx="1828800" cy="1067040"/>
            </a:xfrm>
          </p:grpSpPr>
          <p:sp>
            <p:nvSpPr>
              <p:cNvPr id="305" name=""/>
              <p:cNvSpPr/>
              <p:nvPr/>
            </p:nvSpPr>
            <p:spPr>
              <a:xfrm>
                <a:off x="6705720" y="419112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10800000">
                <a:off x="7620120" y="419076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7" name=""/>
          <p:cNvSpPr/>
          <p:nvPr/>
        </p:nvSpPr>
        <p:spPr>
          <a:xfrm>
            <a:off x="6477120" y="4114800"/>
            <a:ext cx="2133360" cy="1219320"/>
          </a:xfrm>
          <a:custGeom>
            <a:avLst/>
            <a:gdLst/>
            <a:ahLst/>
            <a:rect l="l" t="t" r="r" b="b"/>
            <a:pathLst>
              <a:path w="1152" h="960">
                <a:moveTo>
                  <a:pt x="0" y="960"/>
                </a:moveTo>
                <a:cubicBezTo>
                  <a:pt x="92" y="912"/>
                  <a:pt x="184" y="864"/>
                  <a:pt x="240" y="720"/>
                </a:cubicBezTo>
                <a:cubicBezTo>
                  <a:pt x="296" y="576"/>
                  <a:pt x="280" y="192"/>
                  <a:pt x="336" y="96"/>
                </a:cubicBezTo>
                <a:cubicBezTo>
                  <a:pt x="392" y="0"/>
                  <a:pt x="464" y="24"/>
                  <a:pt x="576" y="144"/>
                </a:cubicBezTo>
                <a:cubicBezTo>
                  <a:pt x="688" y="264"/>
                  <a:pt x="912" y="688"/>
                  <a:pt x="1008" y="816"/>
                </a:cubicBezTo>
                <a:cubicBezTo>
                  <a:pt x="1104" y="944"/>
                  <a:pt x="1128" y="896"/>
                  <a:pt x="1152" y="912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5200" y="5715000"/>
            <a:ext cx="69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 por qualquer combinação des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Métodos Estatístico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2200" y="2438280"/>
            <a:ext cx="78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há como descrever sistematica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ariação sem utiliz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ÉTODOS ESTATÍSTIC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2920" y="4114800"/>
            <a:ext cx="765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métodos estatísticos usados p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ever e controlar a Qualidade de 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 constituem 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trole Estatístico da Qualid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ausas de variaçã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gerenciar qualquer processo e reduzir a variação é preciso encontrar suas fo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iramente é preciso distinguir entre a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USAS COMU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eatórias) e a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USAS ASSINALÁVE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speciais) de vari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á métodos estatísticos que permitem distinguir as cau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ausas comuns de variaçã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ão as muitas fontes de variação de um processo que têm uma distribuição estável ao longo do tempo (“ruído de fundo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do apenas causas comuns de variação estão presentes: processo está 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B CONTROLE ESTATÍST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ída do processo torna-s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EVISÍ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ausas comuns de variaçã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114800" y="2819520"/>
            <a:ext cx="1371600" cy="2590560"/>
            <a:chOff x="4114800" y="2819520"/>
            <a:chExt cx="1371600" cy="2590560"/>
          </a:xfrm>
        </p:grpSpPr>
        <p:grpSp>
          <p:nvGrpSpPr>
            <p:cNvPr id="318" name=""/>
            <p:cNvGrpSpPr/>
            <p:nvPr/>
          </p:nvGrpSpPr>
          <p:grpSpPr>
            <a:xfrm>
              <a:off x="4114800" y="2819520"/>
              <a:ext cx="1371600" cy="2590560"/>
              <a:chOff x="4114800" y="2819520"/>
              <a:chExt cx="1371600" cy="2590560"/>
            </a:xfrm>
          </p:grpSpPr>
          <p:sp>
            <p:nvSpPr>
              <p:cNvPr id="319" name=""/>
              <p:cNvSpPr/>
              <p:nvPr/>
            </p:nvSpPr>
            <p:spPr>
              <a:xfrm flipH="1">
                <a:off x="4114800" y="403848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14800" y="2819520"/>
                <a:ext cx="0" cy="259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4191120" y="3124080"/>
              <a:ext cx="1067040" cy="1827360"/>
              <a:chOff x="4191120" y="3124080"/>
              <a:chExt cx="1067040" cy="1827360"/>
            </a:xfrm>
          </p:grpSpPr>
          <p:sp>
            <p:nvSpPr>
              <p:cNvPr id="322" name=""/>
              <p:cNvSpPr/>
              <p:nvPr/>
            </p:nvSpPr>
            <p:spPr>
              <a:xfrm rot="5400000">
                <a:off x="4267440" y="304776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rot="16200000">
                <a:off x="4267440" y="396108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685800" y="5715000"/>
            <a:ext cx="7540920" cy="733680"/>
            <a:chOff x="685800" y="5715000"/>
            <a:chExt cx="7540920" cy="733680"/>
          </a:xfrm>
        </p:grpSpPr>
        <p:sp>
          <p:nvSpPr>
            <p:cNvPr id="325" name=""/>
            <p:cNvSpPr/>
            <p:nvPr/>
          </p:nvSpPr>
          <p:spPr>
            <a:xfrm>
              <a:off x="685800" y="5715000"/>
              <a:ext cx="7391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82760" y="5867280"/>
              <a:ext cx="144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838080" y="2819520"/>
            <a:ext cx="1371600" cy="2590560"/>
            <a:chOff x="838080" y="2819520"/>
            <a:chExt cx="1371600" cy="2590560"/>
          </a:xfrm>
        </p:grpSpPr>
        <p:grpSp>
          <p:nvGrpSpPr>
            <p:cNvPr id="328" name=""/>
            <p:cNvGrpSpPr/>
            <p:nvPr/>
          </p:nvGrpSpPr>
          <p:grpSpPr>
            <a:xfrm>
              <a:off x="838080" y="2819520"/>
              <a:ext cx="1371600" cy="2590560"/>
              <a:chOff x="838080" y="2819520"/>
              <a:chExt cx="1371600" cy="2590560"/>
            </a:xfrm>
          </p:grpSpPr>
          <p:sp>
            <p:nvSpPr>
              <p:cNvPr id="329" name=""/>
              <p:cNvSpPr/>
              <p:nvPr/>
            </p:nvSpPr>
            <p:spPr>
              <a:xfrm flipH="1">
                <a:off x="838080" y="403848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38080" y="2819520"/>
                <a:ext cx="0" cy="259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914400" y="3124080"/>
              <a:ext cx="1067040" cy="1827360"/>
              <a:chOff x="914400" y="3124080"/>
              <a:chExt cx="1067040" cy="1827360"/>
            </a:xfrm>
          </p:grpSpPr>
          <p:sp>
            <p:nvSpPr>
              <p:cNvPr id="332" name=""/>
              <p:cNvSpPr/>
              <p:nvPr/>
            </p:nvSpPr>
            <p:spPr>
              <a:xfrm rot="5400000">
                <a:off x="990720" y="304776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rot="16200000">
                <a:off x="990720" y="396108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2438280" y="2819520"/>
            <a:ext cx="1371600" cy="2590560"/>
            <a:chOff x="2438280" y="2819520"/>
            <a:chExt cx="1371600" cy="2590560"/>
          </a:xfrm>
        </p:grpSpPr>
        <p:grpSp>
          <p:nvGrpSpPr>
            <p:cNvPr id="335" name=""/>
            <p:cNvGrpSpPr/>
            <p:nvPr/>
          </p:nvGrpSpPr>
          <p:grpSpPr>
            <a:xfrm>
              <a:off x="2438280" y="2819520"/>
              <a:ext cx="1371600" cy="2590560"/>
              <a:chOff x="2438280" y="2819520"/>
              <a:chExt cx="1371600" cy="259056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2438280" y="403848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438280" y="2819520"/>
                <a:ext cx="0" cy="259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514600" y="3124080"/>
              <a:ext cx="1067040" cy="1827360"/>
              <a:chOff x="2514600" y="3124080"/>
              <a:chExt cx="1067040" cy="1827360"/>
            </a:xfrm>
          </p:grpSpPr>
          <p:sp>
            <p:nvSpPr>
              <p:cNvPr id="339" name=""/>
              <p:cNvSpPr/>
              <p:nvPr/>
            </p:nvSpPr>
            <p:spPr>
              <a:xfrm rot="5400000">
                <a:off x="2590920" y="304776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rot="16200000">
                <a:off x="2590920" y="396108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533520" y="4038480"/>
            <a:ext cx="8272440" cy="597240"/>
            <a:chOff x="533520" y="4038480"/>
            <a:chExt cx="8272440" cy="597240"/>
          </a:xfrm>
        </p:grpSpPr>
        <p:sp>
          <p:nvSpPr>
            <p:cNvPr id="342" name=""/>
            <p:cNvSpPr/>
            <p:nvPr/>
          </p:nvSpPr>
          <p:spPr>
            <a:xfrm>
              <a:off x="533520" y="40384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34320" y="4054320"/>
              <a:ext cx="9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lv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95880" y="2530440"/>
            <a:ext cx="1975680" cy="2879640"/>
            <a:chOff x="6095880" y="2530440"/>
            <a:chExt cx="1975680" cy="2879640"/>
          </a:xfrm>
        </p:grpSpPr>
        <p:grpSp>
          <p:nvGrpSpPr>
            <p:cNvPr id="345" name=""/>
            <p:cNvGrpSpPr/>
            <p:nvPr/>
          </p:nvGrpSpPr>
          <p:grpSpPr>
            <a:xfrm>
              <a:off x="6095880" y="2819520"/>
              <a:ext cx="1371600" cy="2590560"/>
              <a:chOff x="6095880" y="2819520"/>
              <a:chExt cx="1371600" cy="25905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095880" y="2819520"/>
                <a:ext cx="1371600" cy="2590560"/>
                <a:chOff x="6095880" y="2819520"/>
                <a:chExt cx="1371600" cy="2590560"/>
              </a:xfrm>
            </p:grpSpPr>
            <p:sp>
              <p:nvSpPr>
                <p:cNvPr id="347" name=""/>
                <p:cNvSpPr/>
                <p:nvPr/>
              </p:nvSpPr>
              <p:spPr>
                <a:xfrm flipH="1">
                  <a:off x="6095880" y="4038480"/>
                  <a:ext cx="1371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095880" y="2819520"/>
                  <a:ext cx="0" cy="2590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6172200" y="3124080"/>
                <a:ext cx="1067040" cy="1827360"/>
                <a:chOff x="6172200" y="3124080"/>
                <a:chExt cx="1067040" cy="1827360"/>
              </a:xfrm>
            </p:grpSpPr>
            <p:sp>
              <p:nvSpPr>
                <p:cNvPr id="350" name=""/>
                <p:cNvSpPr/>
                <p:nvPr/>
              </p:nvSpPr>
              <p:spPr>
                <a:xfrm rot="5400000">
                  <a:off x="6248520" y="3047760"/>
                  <a:ext cx="914040" cy="1066680"/>
                </a:xfrm>
                <a:custGeom>
                  <a:avLst/>
                  <a:gdLst/>
                  <a:ahLst/>
                  <a:rect l="l" t="t" r="r" b="b"/>
                  <a:pathLst>
                    <a:path w="720" h="672">
                      <a:moveTo>
                        <a:pt x="0" y="672"/>
                      </a:moveTo>
                      <a:cubicBezTo>
                        <a:pt x="76" y="648"/>
                        <a:pt x="152" y="624"/>
                        <a:pt x="240" y="528"/>
                      </a:cubicBezTo>
                      <a:cubicBezTo>
                        <a:pt x="328" y="432"/>
                        <a:pt x="448" y="184"/>
                        <a:pt x="528" y="96"/>
                      </a:cubicBezTo>
                      <a:cubicBezTo>
                        <a:pt x="608" y="8"/>
                        <a:pt x="688" y="16"/>
                        <a:pt x="720" y="0"/>
                      </a:cubicBezTo>
                    </a:path>
                  </a:pathLst>
                </a:custGeom>
                <a:noFill/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rot="16200000">
                  <a:off x="6248520" y="3961080"/>
                  <a:ext cx="914040" cy="1066680"/>
                </a:xfrm>
                <a:custGeom>
                  <a:avLst/>
                  <a:gdLst/>
                  <a:ahLst/>
                  <a:rect l="l" t="t" r="r" b="b"/>
                  <a:pathLst>
                    <a:path w="720" h="672">
                      <a:moveTo>
                        <a:pt x="0" y="672"/>
                      </a:moveTo>
                      <a:cubicBezTo>
                        <a:pt x="76" y="648"/>
                        <a:pt x="152" y="624"/>
                        <a:pt x="240" y="528"/>
                      </a:cubicBezTo>
                      <a:cubicBezTo>
                        <a:pt x="328" y="432"/>
                        <a:pt x="448" y="184"/>
                        <a:pt x="528" y="96"/>
                      </a:cubicBezTo>
                      <a:cubicBezTo>
                        <a:pt x="608" y="8"/>
                        <a:pt x="688" y="16"/>
                        <a:pt x="720" y="0"/>
                      </a:cubicBezTo>
                    </a:path>
                  </a:pathLst>
                </a:custGeom>
                <a:noFill/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6309000" y="2530440"/>
              <a:ext cx="176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evisã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ausas comuns de variaçã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do há apenas causas comuns de variação a saída do processo é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evisí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causas comuns comportam-se como um 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stema estável de causas aleatóri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a saída é previsível é possível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arant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Qualidade dos produtos ou serviços produz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ausas comuns de variaçã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905120" y="2743200"/>
            <a:ext cx="5867280" cy="1447920"/>
            <a:chOff x="1905120" y="2743200"/>
            <a:chExt cx="5867280" cy="144792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1905120" y="2743200"/>
              <a:ext cx="21668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 txBox="1"/>
            <p:nvPr/>
          </p:nvSpPr>
          <p:spPr>
            <a:xfrm>
              <a:off x="4952880" y="3276720"/>
              <a:ext cx="2819520" cy="56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e70000"/>
                      </a:gs>
                    </a:gsLst>
                    <a:lin ang="5400000"/>
                  </a:gradFill>
                  <a:latin typeface="Arial"/>
                </a:rPr>
                <a:t>CUIDADO!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e7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040400" y="4495680"/>
            <a:ext cx="750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 sob control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ÃO SIGNIF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 dentro das especificaçõ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nceitos da Qualida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dade é adequação ao uso.” Joseph Ju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ári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vali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Qualidade dos produtos e processos: como controlar ou melhorar sem med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horia contínua: comprometimento de toda a organização, métodos apropri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ção x detecção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ausas comuns de variaçã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114800" y="2362320"/>
            <a:ext cx="1371600" cy="2590560"/>
            <a:chOff x="4114800" y="2362320"/>
            <a:chExt cx="1371600" cy="2590560"/>
          </a:xfrm>
        </p:grpSpPr>
        <p:grpSp>
          <p:nvGrpSpPr>
            <p:cNvPr id="362" name=""/>
            <p:cNvGrpSpPr/>
            <p:nvPr/>
          </p:nvGrpSpPr>
          <p:grpSpPr>
            <a:xfrm>
              <a:off x="4114800" y="2362320"/>
              <a:ext cx="1371600" cy="2590560"/>
              <a:chOff x="4114800" y="2362320"/>
              <a:chExt cx="1371600" cy="2590560"/>
            </a:xfrm>
          </p:grpSpPr>
          <p:sp>
            <p:nvSpPr>
              <p:cNvPr id="363" name=""/>
              <p:cNvSpPr/>
              <p:nvPr/>
            </p:nvSpPr>
            <p:spPr>
              <a:xfrm flipH="1">
                <a:off x="4114800" y="358128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14800" y="2362320"/>
                <a:ext cx="0" cy="259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191120" y="2666880"/>
              <a:ext cx="1067040" cy="1827360"/>
              <a:chOff x="4191120" y="2666880"/>
              <a:chExt cx="1067040" cy="1827360"/>
            </a:xfrm>
          </p:grpSpPr>
          <p:sp>
            <p:nvSpPr>
              <p:cNvPr id="366" name=""/>
              <p:cNvSpPr/>
              <p:nvPr/>
            </p:nvSpPr>
            <p:spPr>
              <a:xfrm rot="5400000">
                <a:off x="4267440" y="259056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rot="16200000">
                <a:off x="4267440" y="350388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685800" y="5715000"/>
            <a:ext cx="7540920" cy="733680"/>
            <a:chOff x="685800" y="5715000"/>
            <a:chExt cx="7540920" cy="733680"/>
          </a:xfrm>
        </p:grpSpPr>
        <p:sp>
          <p:nvSpPr>
            <p:cNvPr id="369" name=""/>
            <p:cNvSpPr/>
            <p:nvPr/>
          </p:nvSpPr>
          <p:spPr>
            <a:xfrm>
              <a:off x="685800" y="5715000"/>
              <a:ext cx="7391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2760" y="5867280"/>
              <a:ext cx="144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838080" y="2362320"/>
            <a:ext cx="1371600" cy="2590560"/>
            <a:chOff x="838080" y="2362320"/>
            <a:chExt cx="1371600" cy="2590560"/>
          </a:xfrm>
        </p:grpSpPr>
        <p:grpSp>
          <p:nvGrpSpPr>
            <p:cNvPr id="372" name=""/>
            <p:cNvGrpSpPr/>
            <p:nvPr/>
          </p:nvGrpSpPr>
          <p:grpSpPr>
            <a:xfrm>
              <a:off x="838080" y="2362320"/>
              <a:ext cx="1371600" cy="2590560"/>
              <a:chOff x="838080" y="2362320"/>
              <a:chExt cx="1371600" cy="2590560"/>
            </a:xfrm>
          </p:grpSpPr>
          <p:sp>
            <p:nvSpPr>
              <p:cNvPr id="373" name=""/>
              <p:cNvSpPr/>
              <p:nvPr/>
            </p:nvSpPr>
            <p:spPr>
              <a:xfrm flipH="1">
                <a:off x="838080" y="358128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38080" y="2362320"/>
                <a:ext cx="0" cy="259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914400" y="2666880"/>
              <a:ext cx="1067040" cy="1827360"/>
              <a:chOff x="914400" y="2666880"/>
              <a:chExt cx="1067040" cy="1827360"/>
            </a:xfrm>
          </p:grpSpPr>
          <p:sp>
            <p:nvSpPr>
              <p:cNvPr id="376" name=""/>
              <p:cNvSpPr/>
              <p:nvPr/>
            </p:nvSpPr>
            <p:spPr>
              <a:xfrm rot="5400000">
                <a:off x="990720" y="259056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rot="16200000">
                <a:off x="990720" y="350388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8" name=""/>
          <p:cNvGrpSpPr/>
          <p:nvPr/>
        </p:nvGrpSpPr>
        <p:grpSpPr>
          <a:xfrm>
            <a:off x="2438280" y="2362320"/>
            <a:ext cx="1371600" cy="2590560"/>
            <a:chOff x="2438280" y="2362320"/>
            <a:chExt cx="1371600" cy="2590560"/>
          </a:xfrm>
        </p:grpSpPr>
        <p:grpSp>
          <p:nvGrpSpPr>
            <p:cNvPr id="379" name=""/>
            <p:cNvGrpSpPr/>
            <p:nvPr/>
          </p:nvGrpSpPr>
          <p:grpSpPr>
            <a:xfrm>
              <a:off x="2438280" y="2362320"/>
              <a:ext cx="1371600" cy="2590560"/>
              <a:chOff x="2438280" y="2362320"/>
              <a:chExt cx="1371600" cy="2590560"/>
            </a:xfrm>
          </p:grpSpPr>
          <p:sp>
            <p:nvSpPr>
              <p:cNvPr id="380" name=""/>
              <p:cNvSpPr/>
              <p:nvPr/>
            </p:nvSpPr>
            <p:spPr>
              <a:xfrm flipH="1">
                <a:off x="2438280" y="358128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438280" y="2362320"/>
                <a:ext cx="0" cy="259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2514600" y="2666880"/>
              <a:ext cx="1067040" cy="1827360"/>
              <a:chOff x="2514600" y="2666880"/>
              <a:chExt cx="1067040" cy="1827360"/>
            </a:xfrm>
          </p:grpSpPr>
          <p:sp>
            <p:nvSpPr>
              <p:cNvPr id="383" name=""/>
              <p:cNvSpPr/>
              <p:nvPr/>
            </p:nvSpPr>
            <p:spPr>
              <a:xfrm rot="5400000">
                <a:off x="2590920" y="259056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 rot="16200000">
                <a:off x="2590920" y="350388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5" name=""/>
          <p:cNvGrpSpPr/>
          <p:nvPr/>
        </p:nvGrpSpPr>
        <p:grpSpPr>
          <a:xfrm>
            <a:off x="533520" y="4038480"/>
            <a:ext cx="8272440" cy="597240"/>
            <a:chOff x="533520" y="4038480"/>
            <a:chExt cx="8272440" cy="597240"/>
          </a:xfrm>
        </p:grpSpPr>
        <p:sp>
          <p:nvSpPr>
            <p:cNvPr id="386" name=""/>
            <p:cNvSpPr/>
            <p:nvPr/>
          </p:nvSpPr>
          <p:spPr>
            <a:xfrm>
              <a:off x="533520" y="40384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34320" y="4054320"/>
              <a:ext cx="9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lv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867280" y="2362320"/>
            <a:ext cx="2677680" cy="2590560"/>
            <a:chOff x="5867280" y="2362320"/>
            <a:chExt cx="2677680" cy="2590560"/>
          </a:xfrm>
        </p:grpSpPr>
        <p:grpSp>
          <p:nvGrpSpPr>
            <p:cNvPr id="389" name=""/>
            <p:cNvGrpSpPr/>
            <p:nvPr/>
          </p:nvGrpSpPr>
          <p:grpSpPr>
            <a:xfrm>
              <a:off x="5867280" y="2362320"/>
              <a:ext cx="1371600" cy="2590560"/>
              <a:chOff x="5867280" y="2362320"/>
              <a:chExt cx="1371600" cy="259056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5867280" y="2362320"/>
                <a:ext cx="1371600" cy="2590560"/>
                <a:chOff x="5867280" y="2362320"/>
                <a:chExt cx="1371600" cy="2590560"/>
              </a:xfrm>
            </p:grpSpPr>
            <p:sp>
              <p:nvSpPr>
                <p:cNvPr id="391" name=""/>
                <p:cNvSpPr/>
                <p:nvPr/>
              </p:nvSpPr>
              <p:spPr>
                <a:xfrm flipH="1">
                  <a:off x="5867280" y="3581280"/>
                  <a:ext cx="13716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867280" y="2362320"/>
                  <a:ext cx="0" cy="2590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5943600" y="2666880"/>
                <a:ext cx="1067040" cy="1827360"/>
                <a:chOff x="5943600" y="2666880"/>
                <a:chExt cx="1067040" cy="1827360"/>
              </a:xfrm>
            </p:grpSpPr>
            <p:sp>
              <p:nvSpPr>
                <p:cNvPr id="394" name=""/>
                <p:cNvSpPr/>
                <p:nvPr/>
              </p:nvSpPr>
              <p:spPr>
                <a:xfrm rot="5400000">
                  <a:off x="6019920" y="2590560"/>
                  <a:ext cx="914040" cy="1066680"/>
                </a:xfrm>
                <a:custGeom>
                  <a:avLst/>
                  <a:gdLst/>
                  <a:ahLst/>
                  <a:rect l="l" t="t" r="r" b="b"/>
                  <a:pathLst>
                    <a:path w="720" h="672">
                      <a:moveTo>
                        <a:pt x="0" y="672"/>
                      </a:moveTo>
                      <a:cubicBezTo>
                        <a:pt x="76" y="648"/>
                        <a:pt x="152" y="624"/>
                        <a:pt x="240" y="528"/>
                      </a:cubicBezTo>
                      <a:cubicBezTo>
                        <a:pt x="328" y="432"/>
                        <a:pt x="448" y="184"/>
                        <a:pt x="528" y="96"/>
                      </a:cubicBezTo>
                      <a:cubicBezTo>
                        <a:pt x="608" y="8"/>
                        <a:pt x="688" y="16"/>
                        <a:pt x="720" y="0"/>
                      </a:cubicBezTo>
                    </a:path>
                  </a:pathLst>
                </a:custGeom>
                <a:noFill/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 rot="16200000">
                  <a:off x="6019920" y="3503880"/>
                  <a:ext cx="914040" cy="1066680"/>
                </a:xfrm>
                <a:custGeom>
                  <a:avLst/>
                  <a:gdLst/>
                  <a:ahLst/>
                  <a:rect l="l" t="t" r="r" b="b"/>
                  <a:pathLst>
                    <a:path w="720" h="672">
                      <a:moveTo>
                        <a:pt x="0" y="672"/>
                      </a:moveTo>
                      <a:cubicBezTo>
                        <a:pt x="76" y="648"/>
                        <a:pt x="152" y="624"/>
                        <a:pt x="240" y="528"/>
                      </a:cubicBezTo>
                      <a:cubicBezTo>
                        <a:pt x="328" y="432"/>
                        <a:pt x="448" y="184"/>
                        <a:pt x="528" y="96"/>
                      </a:cubicBezTo>
                      <a:cubicBezTo>
                        <a:pt x="608" y="8"/>
                        <a:pt x="688" y="16"/>
                        <a:pt x="720" y="0"/>
                      </a:cubicBezTo>
                    </a:path>
                  </a:pathLst>
                </a:custGeom>
                <a:noFill/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" name=""/>
            <p:cNvSpPr/>
            <p:nvPr/>
          </p:nvSpPr>
          <p:spPr>
            <a:xfrm>
              <a:off x="6782400" y="2606760"/>
              <a:ext cx="176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evisã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ausas assinaláveis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e variaçã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ão fatores que não estão sempre atuando no processo: quando ocorrem,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UD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istribuição da saída do proces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a presença torna a saída do process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REVISÍ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ída do processo não é mais estável ao longo do tempo: o processo está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RA DE CONTROLE ESTATÍST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ausas assinaláveis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e variaçã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bém chamadas de causas especi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m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máquina mal ajust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operador mal treinado (ou em um “dia ruim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partida de matéria-prima com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ausas assinaláveis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e variaçã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52280" y="5943600"/>
            <a:ext cx="8686440" cy="733680"/>
            <a:chOff x="152280" y="5943600"/>
            <a:chExt cx="8686440" cy="733680"/>
          </a:xfrm>
        </p:grpSpPr>
        <p:sp>
          <p:nvSpPr>
            <p:cNvPr id="403" name=""/>
            <p:cNvSpPr/>
            <p:nvPr/>
          </p:nvSpPr>
          <p:spPr>
            <a:xfrm>
              <a:off x="152280" y="5943600"/>
              <a:ext cx="8686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317000" y="6095880"/>
              <a:ext cx="144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752840" y="3276720"/>
            <a:ext cx="1751040" cy="2590560"/>
            <a:chOff x="1752840" y="3276720"/>
            <a:chExt cx="1751040" cy="2590560"/>
          </a:xfrm>
        </p:grpSpPr>
        <p:grpSp>
          <p:nvGrpSpPr>
            <p:cNvPr id="406" name=""/>
            <p:cNvGrpSpPr/>
            <p:nvPr/>
          </p:nvGrpSpPr>
          <p:grpSpPr>
            <a:xfrm>
              <a:off x="1752840" y="3276720"/>
              <a:ext cx="1447560" cy="2590560"/>
              <a:chOff x="1752840" y="3276720"/>
              <a:chExt cx="1447560" cy="2590560"/>
            </a:xfrm>
          </p:grpSpPr>
          <p:sp>
            <p:nvSpPr>
              <p:cNvPr id="407" name=""/>
              <p:cNvSpPr/>
              <p:nvPr/>
            </p:nvSpPr>
            <p:spPr>
              <a:xfrm flipH="1">
                <a:off x="1752840" y="449568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52840" y="3276720"/>
                <a:ext cx="0" cy="259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1829160" y="3962520"/>
              <a:ext cx="1674720" cy="1598400"/>
              <a:chOff x="1829160" y="3962520"/>
              <a:chExt cx="1674720" cy="1598400"/>
            </a:xfrm>
          </p:grpSpPr>
          <p:sp>
            <p:nvSpPr>
              <p:cNvPr id="410" name=""/>
              <p:cNvSpPr/>
              <p:nvPr/>
            </p:nvSpPr>
            <p:spPr>
              <a:xfrm rot="5400000">
                <a:off x="2266560" y="3524760"/>
                <a:ext cx="799200" cy="167436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 rot="16200000">
                <a:off x="2266560" y="4323960"/>
                <a:ext cx="799200" cy="167436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2" name=""/>
          <p:cNvGrpSpPr/>
          <p:nvPr/>
        </p:nvGrpSpPr>
        <p:grpSpPr>
          <a:xfrm>
            <a:off x="152280" y="4495680"/>
            <a:ext cx="8821800" cy="734040"/>
            <a:chOff x="152280" y="4495680"/>
            <a:chExt cx="8821800" cy="734040"/>
          </a:xfrm>
        </p:grpSpPr>
        <p:sp>
          <p:nvSpPr>
            <p:cNvPr id="413" name=""/>
            <p:cNvSpPr/>
            <p:nvPr/>
          </p:nvSpPr>
          <p:spPr>
            <a:xfrm>
              <a:off x="152280" y="4495680"/>
              <a:ext cx="87631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02440" y="4648320"/>
              <a:ext cx="9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lv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380880" y="3276720"/>
            <a:ext cx="1371600" cy="2590560"/>
            <a:chOff x="380880" y="3276720"/>
            <a:chExt cx="1371600" cy="2590560"/>
          </a:xfrm>
        </p:grpSpPr>
        <p:grpSp>
          <p:nvGrpSpPr>
            <p:cNvPr id="416" name=""/>
            <p:cNvGrpSpPr/>
            <p:nvPr/>
          </p:nvGrpSpPr>
          <p:grpSpPr>
            <a:xfrm>
              <a:off x="380880" y="3276720"/>
              <a:ext cx="1371600" cy="2590560"/>
              <a:chOff x="380880" y="3276720"/>
              <a:chExt cx="1371600" cy="259056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380880" y="449568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80880" y="3276720"/>
                <a:ext cx="0" cy="259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457200" y="3581280"/>
              <a:ext cx="1067040" cy="1827360"/>
              <a:chOff x="457200" y="3581280"/>
              <a:chExt cx="1067040" cy="1827360"/>
            </a:xfrm>
          </p:grpSpPr>
          <p:sp>
            <p:nvSpPr>
              <p:cNvPr id="420" name=""/>
              <p:cNvSpPr/>
              <p:nvPr/>
            </p:nvSpPr>
            <p:spPr>
              <a:xfrm rot="5400000">
                <a:off x="533520" y="350496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 rot="16200000">
                <a:off x="533520" y="441828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2" name=""/>
          <p:cNvGrpSpPr/>
          <p:nvPr/>
        </p:nvGrpSpPr>
        <p:grpSpPr>
          <a:xfrm>
            <a:off x="3581280" y="3276720"/>
            <a:ext cx="1371600" cy="2590560"/>
            <a:chOff x="3581280" y="3276720"/>
            <a:chExt cx="1371600" cy="2590560"/>
          </a:xfrm>
        </p:grpSpPr>
        <p:grpSp>
          <p:nvGrpSpPr>
            <p:cNvPr id="423" name=""/>
            <p:cNvGrpSpPr/>
            <p:nvPr/>
          </p:nvGrpSpPr>
          <p:grpSpPr>
            <a:xfrm>
              <a:off x="3581280" y="3276720"/>
              <a:ext cx="1371600" cy="2590560"/>
              <a:chOff x="3581280" y="3276720"/>
              <a:chExt cx="1371600" cy="2590560"/>
            </a:xfrm>
          </p:grpSpPr>
          <p:sp>
            <p:nvSpPr>
              <p:cNvPr id="424" name=""/>
              <p:cNvSpPr/>
              <p:nvPr/>
            </p:nvSpPr>
            <p:spPr>
              <a:xfrm flipH="1">
                <a:off x="3581280" y="449568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581280" y="3276720"/>
                <a:ext cx="0" cy="259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3657240" y="3352680"/>
              <a:ext cx="609840" cy="2056320"/>
              <a:chOff x="3657240" y="3352680"/>
              <a:chExt cx="609840" cy="2056320"/>
            </a:xfrm>
          </p:grpSpPr>
          <p:sp>
            <p:nvSpPr>
              <p:cNvPr id="427" name=""/>
              <p:cNvSpPr/>
              <p:nvPr/>
            </p:nvSpPr>
            <p:spPr>
              <a:xfrm rot="5400000">
                <a:off x="3447720" y="3562200"/>
                <a:ext cx="1028520" cy="6094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rot="16200000">
                <a:off x="3447720" y="4590000"/>
                <a:ext cx="1028520" cy="6094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4800600" y="3276720"/>
            <a:ext cx="1371600" cy="2590560"/>
            <a:chOff x="4800600" y="3276720"/>
            <a:chExt cx="1371600" cy="2590560"/>
          </a:xfrm>
        </p:grpSpPr>
        <p:grpSp>
          <p:nvGrpSpPr>
            <p:cNvPr id="430" name=""/>
            <p:cNvGrpSpPr/>
            <p:nvPr/>
          </p:nvGrpSpPr>
          <p:grpSpPr>
            <a:xfrm>
              <a:off x="4800600" y="3276720"/>
              <a:ext cx="1371600" cy="2590560"/>
              <a:chOff x="4800600" y="3276720"/>
              <a:chExt cx="1371600" cy="2590560"/>
            </a:xfrm>
          </p:grpSpPr>
          <p:sp>
            <p:nvSpPr>
              <p:cNvPr id="431" name=""/>
              <p:cNvSpPr/>
              <p:nvPr/>
            </p:nvSpPr>
            <p:spPr>
              <a:xfrm flipH="1">
                <a:off x="4800600" y="449568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800600" y="3276720"/>
                <a:ext cx="0" cy="259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876200" y="3657600"/>
              <a:ext cx="686160" cy="2208960"/>
              <a:chOff x="4876200" y="3657600"/>
              <a:chExt cx="686160" cy="2208960"/>
            </a:xfrm>
          </p:grpSpPr>
          <p:sp>
            <p:nvSpPr>
              <p:cNvPr id="434" name=""/>
              <p:cNvSpPr/>
              <p:nvPr/>
            </p:nvSpPr>
            <p:spPr>
              <a:xfrm rot="5400000">
                <a:off x="4666680" y="3867120"/>
                <a:ext cx="1104840" cy="68580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 rot="16200000">
                <a:off x="4666680" y="4971240"/>
                <a:ext cx="1104840" cy="68580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6553080" y="3521160"/>
            <a:ext cx="2372760" cy="900720"/>
            <a:chOff x="6553080" y="3521160"/>
            <a:chExt cx="2372760" cy="900720"/>
          </a:xfrm>
        </p:grpSpPr>
        <p:sp>
          <p:nvSpPr>
            <p:cNvPr id="437" name=""/>
            <p:cNvSpPr/>
            <p:nvPr/>
          </p:nvSpPr>
          <p:spPr>
            <a:xfrm>
              <a:off x="7163280" y="3521160"/>
              <a:ext cx="176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evisã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53080" y="365760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ausas assinaláveis x causas comun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990720" y="2666880"/>
          <a:ext cx="7485120" cy="258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485120" cy="25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ntrole Estatístico da Qualida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52280" y="2286000"/>
            <a:ext cx="381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áficos de Cont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67080" y="2057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ilidade do pro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67080" y="28195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r causas comuns e assinalá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373392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os de Capabilidade de Proces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429000" y="2362320"/>
            <a:ext cx="762120" cy="457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29000" y="2895480"/>
            <a:ext cx="76212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3733920"/>
            <a:ext cx="419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liar se a saída do processo obedece às especifica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05320" y="4343400"/>
            <a:ext cx="7617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4960" y="5486400"/>
            <a:ext cx="322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jament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05320" y="6095880"/>
            <a:ext cx="7617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518148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obrir as variáveis chave que influenciam o pro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Arial"/>
              </a:rPr>
              <a:t>CEQ e Data Mining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ta Mining pode ajud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entificação e classificação de causas de variação e padr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ção dos proces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dar com as mudanças no CEQ devido aos avanços tecnológ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lementar técnicas de CEQ mais poderosas: multivariadas especi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ráficos de Contro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04920" y="2666880"/>
            <a:ext cx="2209320" cy="2742840"/>
            <a:chOff x="304920" y="2666880"/>
            <a:chExt cx="2209320" cy="2742840"/>
          </a:xfrm>
        </p:grpSpPr>
        <p:pic>
          <p:nvPicPr>
            <p:cNvPr id="458" name="Shewhart" descr=""/>
            <p:cNvPicPr/>
            <p:nvPr/>
          </p:nvPicPr>
          <p:blipFill>
            <a:blip r:embed="rId1"/>
            <a:stretch/>
          </p:blipFill>
          <p:spPr>
            <a:xfrm>
              <a:off x="550080" y="2666880"/>
              <a:ext cx="1783440" cy="23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 txBox="1"/>
            <p:nvPr/>
          </p:nvSpPr>
          <p:spPr>
            <a:xfrm>
              <a:off x="304920" y="5006520"/>
              <a:ext cx="2209320" cy="403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W.A.Shewhart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2590920" y="2362320"/>
            <a:ext cx="516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.A. Shewhart, em 1924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envolveu os Gráficos de Cont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54200" y="4114800"/>
            <a:ext cx="636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Gráficos de Controle permi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r as causas assinaláveis das causas comuns de vari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ráficos de Contro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90400" y="2301840"/>
            <a:ext cx="77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horia do processo usando Gráficos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 é um processo ITERATIV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4114800"/>
            <a:ext cx="1828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57400" y="4572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5029200"/>
            <a:ext cx="2057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unir e plotar os dados e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m Gráfic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71800" y="4114800"/>
            <a:ext cx="236232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15680" y="5105520"/>
            <a:ext cx="3233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r limites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e e identifica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sas assinaláve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4120" y="4572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3962520"/>
            <a:ext cx="236196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H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66920" y="5029200"/>
            <a:ext cx="3125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ntificar vari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vida à caus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un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curar reduzi-l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219320" y="3657240"/>
            <a:ext cx="6248160" cy="457560"/>
            <a:chOff x="1219320" y="3657240"/>
            <a:chExt cx="6248160" cy="457560"/>
          </a:xfrm>
        </p:grpSpPr>
        <p:sp>
          <p:nvSpPr>
            <p:cNvPr id="473" name=""/>
            <p:cNvSpPr/>
            <p:nvPr/>
          </p:nvSpPr>
          <p:spPr>
            <a:xfrm flipV="1">
              <a:off x="7467480" y="3657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219320" y="3657600"/>
              <a:ext cx="62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1932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5334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antagens do uso CORRETO de Gráficos de contro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m ser usados pelos operadores para control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ontínu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proces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xiliam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 desempenho do processo constante e previsível para Qualidade e cus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m que o processo atinja uma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melhor Qualid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menor custo unitá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revenção x Detecçã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1578240" cy="1752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00400" y="2819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ça certo na primeira vez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2895480" cy="2276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14080" y="4343400"/>
            <a:ext cx="406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 detecte e corrija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depoi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ráficos de Contro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912600" y="2282760"/>
            <a:ext cx="77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áfico de Controle é uma série tempor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143000" y="4054320"/>
            <a:ext cx="7138080" cy="581400"/>
            <a:chOff x="1143000" y="4054320"/>
            <a:chExt cx="7138080" cy="581400"/>
          </a:xfrm>
        </p:grpSpPr>
        <p:sp>
          <p:nvSpPr>
            <p:cNvPr id="481" name=""/>
            <p:cNvSpPr/>
            <p:nvPr/>
          </p:nvSpPr>
          <p:spPr>
            <a:xfrm>
              <a:off x="1143000" y="4495680"/>
              <a:ext cx="44197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76200" y="4054320"/>
              <a:ext cx="250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inha centr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1143000" y="2997360"/>
            <a:ext cx="7250400" cy="1068840"/>
            <a:chOff x="1143000" y="2997360"/>
            <a:chExt cx="7250400" cy="1068840"/>
          </a:xfrm>
        </p:grpSpPr>
        <p:sp>
          <p:nvSpPr>
            <p:cNvPr id="484" name=""/>
            <p:cNvSpPr/>
            <p:nvPr/>
          </p:nvSpPr>
          <p:spPr>
            <a:xfrm>
              <a:off x="1143000" y="3505320"/>
              <a:ext cx="441972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83160" y="2997360"/>
              <a:ext cx="29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imite Superi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 Contro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143000" y="5121360"/>
            <a:ext cx="7029720" cy="1068840"/>
            <a:chOff x="1143000" y="5121360"/>
            <a:chExt cx="7029720" cy="1068840"/>
          </a:xfrm>
        </p:grpSpPr>
        <p:sp>
          <p:nvSpPr>
            <p:cNvPr id="487" name=""/>
            <p:cNvSpPr/>
            <p:nvPr/>
          </p:nvSpPr>
          <p:spPr>
            <a:xfrm>
              <a:off x="1143000" y="5486400"/>
              <a:ext cx="441972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33920" y="5121360"/>
              <a:ext cx="2638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imite Inferi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 Contro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1219320" y="4267080"/>
            <a:ext cx="15228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4191120"/>
            <a:ext cx="15228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438280" y="4648320"/>
            <a:ext cx="15264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00400" y="4876920"/>
            <a:ext cx="15228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09880" y="3200400"/>
            <a:ext cx="15264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43400" y="4114800"/>
            <a:ext cx="15228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76920" y="4648320"/>
            <a:ext cx="15228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295280" y="4267080"/>
            <a:ext cx="533520" cy="76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905120" y="4267080"/>
            <a:ext cx="60948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4724280"/>
            <a:ext cx="609480" cy="228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352680" y="3276720"/>
            <a:ext cx="533520" cy="1676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3276720"/>
            <a:ext cx="533520" cy="914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19720" y="4267080"/>
            <a:ext cx="45720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5800" y="2971800"/>
            <a:ext cx="6458400" cy="3721320"/>
            <a:chOff x="685800" y="2971800"/>
            <a:chExt cx="6458400" cy="3721320"/>
          </a:xfrm>
        </p:grpSpPr>
        <p:sp>
          <p:nvSpPr>
            <p:cNvPr id="503" name=""/>
            <p:cNvSpPr/>
            <p:nvPr/>
          </p:nvSpPr>
          <p:spPr>
            <a:xfrm>
              <a:off x="685800" y="2971800"/>
              <a:ext cx="0" cy="33526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85800" y="6248520"/>
              <a:ext cx="50292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00240" y="6111720"/>
              <a:ext cx="144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ráficos de Contro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pontos do gráfico podem ser: médias/ intervalos/ desvios padrões/ %, contagens amostrais; medidas individuais, outras expressões dos valores do caracterís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nha central pode ser considerada como o valor médio do Característico da Qualidade quando o processo está sob contr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limites de controle indicam o intervalo de variação aceitável para os pontos, supondo a presença apenas de causas comu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Modelo de Shewhar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143000" y="3597120"/>
            <a:ext cx="7138080" cy="581400"/>
            <a:chOff x="1143000" y="3597120"/>
            <a:chExt cx="7138080" cy="581400"/>
          </a:xfrm>
        </p:grpSpPr>
        <p:sp>
          <p:nvSpPr>
            <p:cNvPr id="510" name=""/>
            <p:cNvSpPr/>
            <p:nvPr/>
          </p:nvSpPr>
          <p:spPr>
            <a:xfrm>
              <a:off x="1143000" y="4038480"/>
              <a:ext cx="44197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76200" y="3597120"/>
              <a:ext cx="250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inha centr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143000" y="2540160"/>
            <a:ext cx="7250400" cy="1068840"/>
            <a:chOff x="1143000" y="2540160"/>
            <a:chExt cx="7250400" cy="1068840"/>
          </a:xfrm>
        </p:grpSpPr>
        <p:sp>
          <p:nvSpPr>
            <p:cNvPr id="513" name=""/>
            <p:cNvSpPr/>
            <p:nvPr/>
          </p:nvSpPr>
          <p:spPr>
            <a:xfrm>
              <a:off x="1143000" y="3047760"/>
              <a:ext cx="44197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83160" y="2540160"/>
              <a:ext cx="29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imite Superi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 Contro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143000" y="4664160"/>
            <a:ext cx="7029720" cy="1068840"/>
            <a:chOff x="1143000" y="4664160"/>
            <a:chExt cx="7029720" cy="1068840"/>
          </a:xfrm>
        </p:grpSpPr>
        <p:sp>
          <p:nvSpPr>
            <p:cNvPr id="516" name=""/>
            <p:cNvSpPr/>
            <p:nvPr/>
          </p:nvSpPr>
          <p:spPr>
            <a:xfrm>
              <a:off x="1143000" y="5029200"/>
              <a:ext cx="44197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33920" y="4664160"/>
              <a:ext cx="2638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imite Inferi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 Contro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85800" y="2514600"/>
            <a:ext cx="6458400" cy="3721320"/>
            <a:chOff x="685800" y="2514600"/>
            <a:chExt cx="6458400" cy="3721320"/>
          </a:xfrm>
        </p:grpSpPr>
        <p:sp>
          <p:nvSpPr>
            <p:cNvPr id="519" name=""/>
            <p:cNvSpPr/>
            <p:nvPr/>
          </p:nvSpPr>
          <p:spPr>
            <a:xfrm>
              <a:off x="685800" y="2514600"/>
              <a:ext cx="0" cy="33526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85800" y="5791320"/>
              <a:ext cx="50292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00240" y="5654520"/>
              <a:ext cx="144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905120" y="3200400"/>
            <a:ext cx="3426480" cy="685800"/>
            <a:chOff x="1905120" y="3200400"/>
            <a:chExt cx="3426480" cy="685800"/>
          </a:xfrm>
        </p:grpSpPr>
        <p:sp>
          <p:nvSpPr>
            <p:cNvPr id="523" name=""/>
            <p:cNvSpPr/>
            <p:nvPr/>
          </p:nvSpPr>
          <p:spPr>
            <a:xfrm>
              <a:off x="1905120" y="320040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57040" y="3276720"/>
              <a:ext cx="327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3x desvio padrã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905120" y="4191120"/>
            <a:ext cx="3426480" cy="685800"/>
            <a:chOff x="1905120" y="4191120"/>
            <a:chExt cx="3426480" cy="685800"/>
          </a:xfrm>
        </p:grpSpPr>
        <p:sp>
          <p:nvSpPr>
            <p:cNvPr id="526" name=""/>
            <p:cNvSpPr/>
            <p:nvPr/>
          </p:nvSpPr>
          <p:spPr>
            <a:xfrm>
              <a:off x="1905120" y="419112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57040" y="4191120"/>
              <a:ext cx="327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3x desvio padrã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ráficos de Shewhart por Variávei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ráficos de Médias e Intervalos (Xbarra e R) das amostras de valores do caracterís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ráficos de Médias e Desvios Padrões (Xbar e s) das amostras dos valores do caracterís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ráficos de Medidas Individuais e Intervalos Móveis (X e MR) do caracterís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ráficos de Shewhart por Atributo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457200" y="2286000"/>
          <a:ext cx="8077320" cy="43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0"/>
                    <a:ext cx="807732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utros modelo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lgumas situações o modelo de Shewhart não é o mais apropri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áficos de Shewhart têm dificuldade em detectar pequenos desvios no proce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bilidade a pequenos desvios: CUSUM, EWMA (levam em conta as observações passad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 de um característico monitorado: Hotel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uposições para uso dos modelo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caracterizar a variação do processo são necessários d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bservações no Gráf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as observações forem provenientes de amostras, estas deverão ser retiradas de forma aleatória (sorteio não viciado): procurando MAXIMIZAR as diferenças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ent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las e MINIMIZAR as diferenças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entr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l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ÃO HÁ AUTOCORRELAÇÃO entre os dados usados para plotar os gráficos: II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ráficos de Controle por Variávei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09480" y="228600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Gráficos de Controle por variáveis m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s (os de Shewhart) supõ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9080" y="3657600"/>
            <a:ext cx="580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stribuição do Caracterís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 ser aproximada por u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r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6172200" y="3657600"/>
            <a:ext cx="2285280" cy="1371600"/>
            <a:chOff x="6172200" y="3657600"/>
            <a:chExt cx="2285280" cy="1371600"/>
          </a:xfrm>
        </p:grpSpPr>
        <p:grpSp>
          <p:nvGrpSpPr>
            <p:cNvPr id="541" name=""/>
            <p:cNvGrpSpPr/>
            <p:nvPr/>
          </p:nvGrpSpPr>
          <p:grpSpPr>
            <a:xfrm>
              <a:off x="6172200" y="3885840"/>
              <a:ext cx="2285280" cy="1067040"/>
              <a:chOff x="6172200" y="3885840"/>
              <a:chExt cx="2285280" cy="1067040"/>
            </a:xfrm>
          </p:grpSpPr>
          <p:sp>
            <p:nvSpPr>
              <p:cNvPr id="542" name=""/>
              <p:cNvSpPr/>
              <p:nvPr/>
            </p:nvSpPr>
            <p:spPr>
              <a:xfrm>
                <a:off x="6172200" y="3886200"/>
                <a:ext cx="114300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10800000">
                <a:off x="7314120" y="3885840"/>
                <a:ext cx="1143000" cy="1066680"/>
              </a:xfrm>
              <a:custGeom>
                <a:avLst/>
                <a:gdLst/>
                <a:ahLst/>
                <a:rect l="l" t="t" r="r" b="b"/>
                <a:pathLst>
                  <a:path w="720" h="672">
                    <a:moveTo>
                      <a:pt x="0" y="672"/>
                    </a:moveTo>
                    <a:cubicBezTo>
                      <a:pt x="76" y="648"/>
                      <a:pt x="152" y="624"/>
                      <a:pt x="240" y="528"/>
                    </a:cubicBezTo>
                    <a:cubicBezTo>
                      <a:pt x="328" y="432"/>
                      <a:pt x="448" y="184"/>
                      <a:pt x="528" y="96"/>
                    </a:cubicBezTo>
                    <a:cubicBezTo>
                      <a:pt x="608" y="8"/>
                      <a:pt x="688" y="16"/>
                      <a:pt x="720" y="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7315200" y="365760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300600" y="5334120"/>
            <a:ext cx="84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itens medidos foram retirados do pro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avés de algum sorteio não vici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ráficos de Médias e Amplitud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bém chamados de Xbarra e 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ão plotados e analisados conjuntamente: Xbarra retrata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ocaç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 distribuição do processo e R a su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spers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iram-se amostras (subgrupos) de 2 a 5 itens do proces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-se o valor do Característico em cada item, calculam-se média e amplitude em cada amos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íveis apenas a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an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v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334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elineamento de Gráficos Xbarra e R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anho dos subgrupos: tipicamente de 4 a 5, para minimizar a variaçã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nt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 subgrupos e maximizar a variaçã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nt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üência de amostragem: em função dos períodos de produção (subgrupos raciona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úmero de subgrupos: 25 ou m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istema de Controle do Process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3200400"/>
            <a:ext cx="19814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3809880"/>
            <a:ext cx="17528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886200"/>
            <a:ext cx="1752840" cy="380880"/>
          </a:xfrm>
          <a:prstGeom prst="rightArrow">
            <a:avLst>
              <a:gd name="adj1" fmla="val 50000"/>
              <a:gd name="adj2" fmla="val 115052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23880" y="3048120"/>
            <a:ext cx="1828800" cy="520560"/>
            <a:chOff x="1523880" y="3048120"/>
            <a:chExt cx="1828800" cy="520560"/>
          </a:xfrm>
        </p:grpSpPr>
        <p:sp>
          <p:nvSpPr>
            <p:cNvPr id="54" name=""/>
            <p:cNvSpPr/>
            <p:nvPr/>
          </p:nvSpPr>
          <p:spPr>
            <a:xfrm>
              <a:off x="1523880" y="30481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esso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3047760" y="3200040"/>
              <a:ext cx="304920" cy="304560"/>
            </a:xfrm>
            <a:prstGeom prst="flowChartMerg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838080" y="3505320"/>
            <a:ext cx="2514600" cy="520560"/>
            <a:chOff x="838080" y="3505320"/>
            <a:chExt cx="2514600" cy="520560"/>
          </a:xfrm>
        </p:grpSpPr>
        <p:sp>
          <p:nvSpPr>
            <p:cNvPr id="57" name=""/>
            <p:cNvSpPr/>
            <p:nvPr/>
          </p:nvSpPr>
          <p:spPr>
            <a:xfrm>
              <a:off x="838080" y="35053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quipamen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3047760" y="3657240"/>
              <a:ext cx="304920" cy="304560"/>
            </a:xfrm>
            <a:prstGeom prst="flowChartMerg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371600" y="3962520"/>
            <a:ext cx="1981080" cy="520560"/>
            <a:chOff x="1371600" y="3962520"/>
            <a:chExt cx="1981080" cy="520560"/>
          </a:xfrm>
        </p:grpSpPr>
        <p:sp>
          <p:nvSpPr>
            <p:cNvPr id="60" name=""/>
            <p:cNvSpPr/>
            <p:nvPr/>
          </p:nvSpPr>
          <p:spPr>
            <a:xfrm>
              <a:off x="1371600" y="39625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teria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3047760" y="4114440"/>
              <a:ext cx="304920" cy="304560"/>
            </a:xfrm>
            <a:prstGeom prst="flowChartMerg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447920" y="4419720"/>
            <a:ext cx="1904760" cy="520560"/>
            <a:chOff x="1447920" y="4419720"/>
            <a:chExt cx="1904760" cy="520560"/>
          </a:xfrm>
        </p:grpSpPr>
        <p:sp>
          <p:nvSpPr>
            <p:cNvPr id="63" name=""/>
            <p:cNvSpPr/>
            <p:nvPr/>
          </p:nvSpPr>
          <p:spPr>
            <a:xfrm>
              <a:off x="1447920" y="44197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éto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3047760" y="4571640"/>
              <a:ext cx="304920" cy="304560"/>
            </a:xfrm>
            <a:prstGeom prst="flowChartMerg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295280" y="4800600"/>
            <a:ext cx="2057400" cy="533160"/>
            <a:chOff x="1295280" y="4800600"/>
            <a:chExt cx="2057400" cy="533160"/>
          </a:xfrm>
        </p:grpSpPr>
        <p:sp>
          <p:nvSpPr>
            <p:cNvPr id="66" name=""/>
            <p:cNvSpPr/>
            <p:nvPr/>
          </p:nvSpPr>
          <p:spPr>
            <a:xfrm>
              <a:off x="1295280" y="48006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mbien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3047760" y="5028840"/>
              <a:ext cx="304920" cy="304560"/>
            </a:xfrm>
            <a:prstGeom prst="flowChartMerg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666880" y="2286000"/>
            <a:ext cx="3505320" cy="914400"/>
            <a:chOff x="2666880" y="2286000"/>
            <a:chExt cx="3505320" cy="914400"/>
          </a:xfrm>
        </p:grpSpPr>
        <p:sp>
          <p:nvSpPr>
            <p:cNvPr id="69" name=""/>
            <p:cNvSpPr/>
            <p:nvPr/>
          </p:nvSpPr>
          <p:spPr>
            <a:xfrm>
              <a:off x="2666880" y="2286000"/>
              <a:ext cx="350532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étodos Estatístic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343400" y="2819520"/>
              <a:ext cx="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572000" y="4419720"/>
            <a:ext cx="4419720" cy="2013840"/>
            <a:chOff x="4572000" y="4419720"/>
            <a:chExt cx="4419720" cy="2013840"/>
          </a:xfrm>
        </p:grpSpPr>
        <p:sp>
          <p:nvSpPr>
            <p:cNvPr id="72" name=""/>
            <p:cNvSpPr/>
            <p:nvPr/>
          </p:nvSpPr>
          <p:spPr>
            <a:xfrm>
              <a:off x="8077320" y="4419720"/>
              <a:ext cx="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0" y="5486400"/>
              <a:ext cx="4419720" cy="94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dentificar mudanças nas necessidades e gosto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57200" y="2133720"/>
            <a:ext cx="2209680" cy="1981080"/>
            <a:chOff x="457200" y="2133720"/>
            <a:chExt cx="2209680" cy="1981080"/>
          </a:xfrm>
        </p:grpSpPr>
        <p:sp>
          <p:nvSpPr>
            <p:cNvPr id="75" name=""/>
            <p:cNvSpPr/>
            <p:nvPr/>
          </p:nvSpPr>
          <p:spPr>
            <a:xfrm flipH="1">
              <a:off x="457200" y="2590920"/>
              <a:ext cx="2209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120" y="2133720"/>
              <a:ext cx="1676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oz do Proces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" y="2590920"/>
              <a:ext cx="0" cy="1523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" y="4114800"/>
              <a:ext cx="152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57200" y="4266720"/>
            <a:ext cx="4114800" cy="2166840"/>
            <a:chOff x="457200" y="4266720"/>
            <a:chExt cx="4114800" cy="2166840"/>
          </a:xfrm>
        </p:grpSpPr>
        <p:sp>
          <p:nvSpPr>
            <p:cNvPr id="80" name=""/>
            <p:cNvSpPr/>
            <p:nvPr/>
          </p:nvSpPr>
          <p:spPr>
            <a:xfrm flipH="1">
              <a:off x="457200" y="5943600"/>
              <a:ext cx="4114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19320" y="5486400"/>
              <a:ext cx="1676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oz dos Clie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57200" y="4266720"/>
              <a:ext cx="0" cy="1676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4343400"/>
              <a:ext cx="152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 rot="5400000">
            <a:off x="494640" y="4000320"/>
            <a:ext cx="609480" cy="381240"/>
          </a:xfrm>
          <a:prstGeom prst="flowChartExtra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álculo das estatística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8960" y="2743200"/>
            <a:ext cx="37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dia do subgrup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800600" y="2590920"/>
                <a:ext cx="3657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1599120" y="3581280"/>
            <a:ext cx="63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 n é o tamanho do subgru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05280" y="4572000"/>
            <a:ext cx="44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litude do subgrup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751400" y="5410080"/>
            <a:ext cx="54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= Maior valor - Menor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álculo dos Limites de Contro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5040" y="2438280"/>
            <a:ext cx="83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iro, calculam-se os limites do Gráfico 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895480" y="3048120"/>
                <a:ext cx="281952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C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×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SC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×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608040" y="4419720"/>
            <a:ext cx="69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depois os limites do Gráfico Xbar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666880" y="5181480"/>
                <a:ext cx="36576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C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acc>
                            <m:accPr>
                              <m:chr m:val="¯"/>
                            </m:accP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×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</m:mr>
                      <m:m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SC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acc>
                            <m:accPr>
                              <m:chr m:val="¯"/>
                            </m:accP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acc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×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álculo dos Limites de Contro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0880" y="2362320"/>
            <a:ext cx="852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coeficientes D3,D4 e A2 são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stan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dependem d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manho dos subgrup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380880" y="3733920"/>
          <a:ext cx="8490240" cy="224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733920"/>
                    <a:ext cx="84902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esvio Padrão do Process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910440" y="2209680"/>
            <a:ext cx="72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desvio padrão do processo pode 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estimad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tir da amplitude méd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3733920" y="3200400"/>
                <a:ext cx="13716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453960" y="4419720"/>
            <a:ext cx="851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 valor é usado para calcular o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mites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olerânc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process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048120" y="5410080"/>
                <a:ext cx="25905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LIT</m:t>
                          </m:r>
                          <m:r>
                            <m:t xml:space="preserve">=</m:t>
                          </m:r>
                          <m:acc>
                            <m:accPr>
                              <m:chr m:val="¯"/>
                            </m:accP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σ</m:t>
                              </m:r>
                            </m:e>
                          </m:acc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LST</m:t>
                          </m:r>
                          <m:r>
                            <m:t xml:space="preserve">=</m:t>
                          </m:r>
                          <m:acc>
                            <m:accPr>
                              <m:chr m:val="¯"/>
                            </m:accP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acc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σ</m:t>
                              </m:r>
                            </m:e>
                          </m:acc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URI, S.C., Statistical Methods for Food Quality Management, Exemplo 5.1 - página 75 (adaptad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rcentual de umidade em amostras de leite em p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inspeção feita em 20 subgrupos, de 4 amostras cada revel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322200" y="2590920"/>
                <a:ext cx="85168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38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3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8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1146240" y="4038480"/>
                <a:ext cx="67294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8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198360" y="5257800"/>
                <a:ext cx="85946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S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8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8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5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79" name="ExVariáveis01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1048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terpretação dos Gráficos de Contro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07680" y="2438280"/>
            <a:ext cx="801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Gráfico de Controle pode indicar que 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 é instável de duas maneir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2286000" y="3581280"/>
            <a:ext cx="1371600" cy="1219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34120" y="3581280"/>
            <a:ext cx="114300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2240" y="4800600"/>
            <a:ext cx="379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ou mais pon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lé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s de contro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05160" y="4800600"/>
            <a:ext cx="370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tos apresent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padr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ão aleatór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adrões em Gráficos de Contro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ção dos principais padrões em Gráficos de Controle (Western Electric,1956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ção extrema (além dos limites de control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vios no nível (bruscos/ graduai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ência crescente/decresc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cl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atificação (falta de variabilidad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tura (variabilidade excessiv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Arial"/>
              </a:rPr>
              <a:t>CaracterísticOs da Qualida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os aspectos elementares de um produto ou serviço que são as células do seu conceito da Qualid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agindo constituem uma característicA da Qualid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preciso observá-los e controlá-los para melhorar a Qualidade do proces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olha dos Característ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ariação extrema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m ou mais pontos além dos limites de contro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eniente de erros de medição, clima, ajustes incorretos mas posteriormente  corrigi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4495680" y="2438280"/>
          <a:ext cx="449604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43828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esvio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ntos dentro dos limites, mas com uma distribuição não aleatór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a 8 pontos de 1 lado da linha centr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sso modificado: materiais, opera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4572000" y="2362320"/>
          <a:ext cx="441972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362320"/>
                    <a:ext cx="4419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endência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imento contínuo, para cima ou para baixo, por pontos consecutivos ou nã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gaste de máquinas e ferramentas, deterioraçã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648320" y="2362320"/>
          <a:ext cx="43434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62320"/>
                    <a:ext cx="4343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iclo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ranjos que se repetem, formando “picos” e “vales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ado de fatores sazonais, desgaste de ferramentas, troca de operado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4648320" y="2438280"/>
          <a:ext cx="43434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438280"/>
                    <a:ext cx="434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alta de variabilida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bém chamada 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ratificaç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do de seleção imprópria de subgrupos racionais ou medidas com tendê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4419720" y="2438280"/>
          <a:ext cx="457200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438280"/>
                    <a:ext cx="4572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ariabilidade excessiva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bém chamada 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t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tuação errática, altos e baixos no Grá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rias causas possíve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4648320" y="2514600"/>
          <a:ext cx="434340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14600"/>
                    <a:ext cx="43434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5029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adrões em Gráficos de Contro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828800" y="2209680"/>
            <a:ext cx="5575320" cy="1447920"/>
            <a:chOff x="1828800" y="2209680"/>
            <a:chExt cx="5575320" cy="144792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>
              <a:off x="1828800" y="2209680"/>
              <a:ext cx="21668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 txBox="1"/>
            <p:nvPr/>
          </p:nvSpPr>
          <p:spPr>
            <a:xfrm>
              <a:off x="5029200" y="2590920"/>
              <a:ext cx="2374920" cy="56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e0707"/>
                      </a:gs>
                    </a:gsLst>
                    <a:lin ang="5400000"/>
                  </a:gradFill>
                  <a:latin typeface="Arial Black"/>
                </a:rPr>
                <a:t>CUIDADO!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e0707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1065240" y="3733920"/>
            <a:ext cx="711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tos fora dos limites e padrões n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atórios PODEM indicar a presenç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causas assinaláve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63800" y="5334120"/>
            <a:ext cx="749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 somente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vestigaç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uidad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á confirmar a sua existênc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adrões em Gráficos de Contro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839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Reconhecimento de Padrõ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ras heurísticas (estatísticas): Western Electric (195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s com as probabilidades de erros tipo I e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lmente apenas para gráficos Xba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todos sintá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iculdade para obter uma gramática apropri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todos conexionistas (usando redes neurai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iculdade para obter um bom conjunto de trein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todos híbridos: neuro-sintáticos, neuro-difu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adrões em Gráficos de Contro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ualmente há uma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oportunida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e utilização de data mining em CE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conhecimento de padr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satisfação com os métodos exist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podem lidar com todos os gráficos dispon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não ser mais apropriados ao atual ambiente de utilização do CE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udança no 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paradigm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o CEQ devido à informá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ovo ambiente do CEQ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nibilidade de computadores possibili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s automáticos de coleta e armazenamento dos dados (redução substancial dos erros de medição, maior quantidade de dados, disponibilidade dos dados para análise históri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zação da construção e interpretação  dos gráficos (pode-se escolher o gráfico mais apropriado, ao invés do “mais fácil” de plota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ilidade de monitorar vários característicos simultane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ipos de Avaliação da Qualida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valiação da Qualidade é dita por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ribu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ndo a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ariação é observada de forma qualitativa, classificando o Característico como “defeituoso” ou “não defeituoso”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valiação da Qualidade é dita por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ariáve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ndo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variação é observada quantitativamente, por medição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ovo ambiente do CEQ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e “antigo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ssez de dados: amostras pequenas retiradas de duas em duas horas, poucas medidas, apenas um característico por vez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iculdade para implementar as téc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e “atual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undância de dados: medição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dade de obtenção e interpretação dos resultados das técn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 r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ovo ambiente do CEQ (Balestrassi, 2000)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06720" y="2438280"/>
            <a:ext cx="2444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ção d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acteríst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3293280" y="23450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41960" y="2286000"/>
            <a:ext cx="4562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e neural previament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inada identif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drões não aleatór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2710800">
            <a:off x="3292920" y="3564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65040" y="4232160"/>
            <a:ext cx="2700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relacio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drão co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sível cau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onhecim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vi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3445560" y="49363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20080" y="4876920"/>
            <a:ext cx="3355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stema de alar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gere averiguar 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sível caus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portunidad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licações nas mais diversas á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a: análise de EEG, EC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udos climáticos: séries de temperaturas, pluvios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a: acompanhamento de variáveis macro-econôm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ção e finanças: acompanhamento de séries de vendas e cotações de 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ificulda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828800" y="2209680"/>
            <a:ext cx="5575320" cy="1447920"/>
            <a:chOff x="1828800" y="2209680"/>
            <a:chExt cx="5575320" cy="1447920"/>
          </a:xfrm>
        </p:grpSpPr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1828800" y="2209680"/>
              <a:ext cx="21668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 txBox="1"/>
            <p:nvPr/>
          </p:nvSpPr>
          <p:spPr>
            <a:xfrm>
              <a:off x="5029200" y="2590920"/>
              <a:ext cx="2374920" cy="56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e0707"/>
                      </a:gs>
                    </a:gsLst>
                    <a:lin ang="5400000"/>
                  </a:gradFill>
                  <a:latin typeface="Arial Black"/>
                </a:rPr>
                <a:t>CUIDADO!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e0707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635040" y="3733920"/>
            <a:ext cx="798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ência de grande quantidade de dad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nível em tempo real: pode ha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UTOCORRELAÇ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tre e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0280" y="5410080"/>
            <a:ext cx="835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há autocorrelação os gráficos de contr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is terão seu resultado compromet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utocorrelaçã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correlação: existência de correlação entre um valor de uma série temporal e valores anteriores da mesma série (medida por meio de coeficientes apropriad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pre existiu na prática do CEQ, mas em cenário de escassez de dados seu impacto costuma ser me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enário atual: suposição IID dos Gráficos de Controle não satisfe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olução do problema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r efeito da autocorrelação do proces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ravés de controladores PID, reguladores (engenharia) do proce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ndo modelagem de séries tempor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ustar um modelo de séries temporais aos dados originais, e aplicar os gráficos de controle ao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ídu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mod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Que modelos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modelos precisam levar em conta a autocorrelaçã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os AR(p) (auto-regressivo), ARMA(p,q) (média móvel auto-regressivo), ARIMA(p,d,q) (média móvel integrado auto-regressiv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ão: encontrar o tipo de modelo e estimar seus parâmet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rutura varia de processo para processo, e mesmo para o mesmo processo, ao longo do temp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Que modelos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ários autores sugerem o uso de modelos ARIMA(0,1,1) para detectar grandes desv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o Neto (1999) usou modelos ARIMA(0,1,1) em uma aplicação r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estrassi (2000) sugeriu um método automático para identificação e estimação dos parâmetros do modelo (modelos A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esíduo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valores da série são estimados através do modelo escolh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diferenças entre os valores originais e os estimados são os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resídu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tirado o efeito da autocorrela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rução de gráficos de contro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conhecimento de padrões em gráficos de controle (usando redes neurais, SEs, e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econhecimento de padrõ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uo e Dooley (1992) aplicaram Redes Neurais e técnicas Bayesianas para identificar mudanças na média ou na variabilidade de um Característico da Qual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ham e Oztemel (1994) desenvolveram um sistema para Reconhecimento de Padrões em Gráficos de Controle usando Redes Neurais de Koho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warng (1995) propôs o Reconhecimento Automático de Padrões Cíclicos através de várias Redes Neurais (perceptrons) multi-camadas, que trabalham de forma conjunta, cada uma responsável por Ciclos de determinado perío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304920"/>
            <a:ext cx="4648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ificuldade da Avaliação por Variáv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905120" y="2133720"/>
            <a:ext cx="5867280" cy="1447560"/>
            <a:chOff x="1905120" y="2133720"/>
            <a:chExt cx="5867280" cy="144756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1905120" y="2133720"/>
              <a:ext cx="216684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 txBox="1"/>
            <p:nvPr/>
          </p:nvSpPr>
          <p:spPr>
            <a:xfrm>
              <a:off x="4952880" y="2666880"/>
              <a:ext cx="2819520" cy="56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e70000"/>
                      </a:gs>
                    </a:gsLst>
                    <a:lin ang="5400000"/>
                  </a:gradFill>
                  <a:latin typeface="Arial"/>
                </a:rPr>
                <a:t>CUIDADO!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e7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35240" y="3809880"/>
            <a:ext cx="848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incipal dificuldade para utilizar Avali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Variáveis é garantir que os procedi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equipamentos de medição irão produz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do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URAD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ECIS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o do tem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econhecimento de padrõ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52280" y="22856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warng e Chong (1995), propuseram a aplicação da Teoria de Ressonância Adaptativa (Adaptive Resonance Theory – AR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heng (1997) propõs uma abordagem para a análise de padrões em Gráficos de Controle. É feito o Reconhecimento Automático de Padrões não naturais através de dois tipos de Redes Neurais: um perceptron multi-camadas treinado por “backpropagation” e uma Rede Neural Mod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econhecimento de padrõ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hang e Aw (1996): um Gráfico de Controle Neuro-Difuso para identificar desvios na média do Característico da Qualid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iplani e Hubele (2001): combinaram abordagem sintática e estatística para o reconhecimento de padrões e desenvolveram um método para comparar algoritmos com as tradicionais regras heurís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Konrath (2002): decomposição da estatística T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 gráfico de Hotel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portunidad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vos sistemas de reconhecimento de padrões em gráficos de contro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ários tipos de padr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ários tipos de gráficos (especialmente multivariad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ção de um data-warehouse de padr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écnicas de data-mining para classificar novos padr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Bibliografia CEQ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839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NTGOMERY, D.C. Introduction to Statistical Quality Control. 3rd edition. New York: John Wiley &amp; Sons, 1996 (já há uma 4a edição deste livr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NT, E. L., LEAVENWORTH, R. S. Statistical Quality Control. 5th edition. New York: McGraw-Hill, 198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URAN, J. M., GRYNA Jr., F. M., BINGHAM Jr., R. S.  Quality Control Handbook. 3rd edition. New York: McGraw-Hill Co., 197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ESTERN ELECTRIC COMPANY, Inc. Statistical Quality Control Handbook. New York: Mack Printing Company, 195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Bibliografia CEQ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HEELER, D.J. Advanced Topics in Statistical Process Control: the power of Shewhart's Charts. Knoxville, TN: SPC Press Inc.,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MING, W. E. Qualidade: a Revolução na Administração. Rio de Janeiro: Marques Saraiva,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NCAN, A. J. Quality Control and Industrial Statistics. 5th edition. Illinois: Irwin, 19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MOS, A. W. Controle Estatístico de Processo para Pequenos Lotes. São Paulo: Edgard Blücher,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Bibliografia CEQ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ESTRASSI, P.P. Identificação de Padrões em Gráficos de Controle Estatístico de Processos, sob o Regime de Tempo Real, Usando Redes Neurais e Séries Temporais. Florianópolis. 2000. Tese (Doutorado em Engenharia de Produção)- Programa de Pós-Graduação em Engenharia de Produção, UF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GO NETO, J.C. O Efeito da Autocorrelação em Gráficos de Controle para Variável Contínua: Um Estudo de Caso. Florianópolis. 1999. Dissertação (Mestrado em Engenharia de Produção)- Programa de Pós-Graduação em Engenharia de Produção, UF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Bibliografia CEQ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KONRATH A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omposição da estatística do gráfico de controle multivariado T2 de Hotelling por meio de um algoritmo computacion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Florianópol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2002. Dissertação (Mestrado em Engenharia de Produção)- Programa de Pós-Graduação em Engenharia de Produção, UF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ANG, S.I., AW, C.A. A neural fuzzy control chart for detecting and classifying process mean shifts.  International Journal of Production Research, vol.34, no.8, pp. 2265-2278, 199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ENG, C.-S. A Neural Network Approach for the Analysis of Control Chart Patterns. International Journal of Production Research, Vol. 35, No. 3, pp 667-697,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Bibliografia CEQ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LTIN, F.W., MASTRANGELO, C.M., RUNGER, G.C., RYAN, T.P. Considerations in the Monitoring of Autocorrelated and Independent Data, Journal of Quality Technology, Vol. 29, No.2, pp. 131-133, April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UO, Y., DOOLEY, K. J. Identification of Change Structure in Statistical Process Control. International Journal of Production Research, Vol. 30, No. 7, pp 1655-1669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WARNG, H. B. Multilayer Perceptrons for Detecting Cyclic Data on Control Charts. International Journal of Production Research, Vol. 33, No. 11, pp 3101-3117,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Bibliografia CEQ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WARNG, H. B., CHONG, C.W. Detecting Process Non-Randomness through a Fast and Cumulative Learning ART – based Pattern Recognizer. International Journal of Production Research, Vol. 33, No. 7, pp 1817-1833,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LM, A. C., RODRIGUEZ, R. N., SPIRING, F. A., WHEELER, D. J., Some perspectives and Challenges for Control Chart Methods, Journal of Quality Technology, Volume 29, No.2, pp. 122-127, April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HAM, D. T., OZTEMEL, E. Control Chart Pattern Recognition Using Learning Vector Quantization Networks. International Journal of Production Research, Vol. 32, No. 3, pp 721-729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Bibliografia CEQ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WOODALL, W.H., MONTGOMERY, D.C., Research Issues and Ideas in Statistical Process Control. Journal of Quality Technology, Volume 31, No.4, pp.376-386, October, 199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ificuldade da Avaliação por Atributo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05120" y="2133720"/>
            <a:ext cx="5867280" cy="1447560"/>
            <a:chOff x="1905120" y="2133720"/>
            <a:chExt cx="5867280" cy="144756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905120" y="2133720"/>
              <a:ext cx="216684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4952880" y="2666880"/>
              <a:ext cx="2819520" cy="56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e70000"/>
                      </a:gs>
                    </a:gsLst>
                    <a:lin ang="5400000"/>
                  </a:gradFill>
                  <a:latin typeface="Arial"/>
                </a:rPr>
                <a:t>CUIDADO!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e7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14440" y="3809880"/>
            <a:ext cx="832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incipal dificuldade para utilizar Avali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Atributos é desenvolver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ECIS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ções operacionais do que é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FEI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nceito de variação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6800" y="2362320"/>
            <a:ext cx="679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ão os Característicos da Qu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ofrem vari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3760" y="3657600"/>
            <a:ext cx="777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ever e controlar esta variação é v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 manutenção 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LHO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5486400"/>
            <a:ext cx="44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 o que é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ariaç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12:27:09Z</dcterms:created>
  <dc:creator>Marcelo Menezes Reis</dc:creator>
  <dc:description/>
  <dc:language>en-US</dc:language>
  <cp:lastModifiedBy>Marcelo Menezes Reis</cp:lastModifiedBy>
  <dcterms:modified xsi:type="dcterms:W3CDTF">2003-06-25T12:41:18Z</dcterms:modified>
  <cp:revision>176</cp:revision>
  <dc:subject/>
  <dc:title>TÓPICOS EXTRAS</dc:title>
</cp:coreProperties>
</file>