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907588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68580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Img"/>
          </p:nvPr>
        </p:nvSpPr>
        <p:spPr>
          <a:xfrm>
            <a:off x="781200" y="732960"/>
            <a:ext cx="5295600" cy="366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Click to move the slide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body"/>
          </p:nvPr>
        </p:nvSpPr>
        <p:spPr>
          <a:xfrm>
            <a:off x="914400" y="464472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ftr" idx="5"/>
          </p:nvPr>
        </p:nvSpPr>
        <p:spPr>
          <a:xfrm>
            <a:off x="-36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 type="sldNum" idx="6"/>
          </p:nvPr>
        </p:nvSpPr>
        <p:spPr>
          <a:xfrm>
            <a:off x="3885840" y="928836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926D-69DC-4CC1-A52A-C8A64FCAC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781200" y="733320"/>
            <a:ext cx="5295600" cy="36673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64472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om dia a to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eu nome é Marcelo Menezes Reis e estou hoje aqui para apresentar a minha proposta de tese de doutorado para o Programa de Pós-Graduação em Engenharia de Produção e Sistemas da Universidade Federal de Santa Catarina, entitulado: Sistema para Ensino/Instrução de Controle Estatístico da Qualid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B3AC-AD16-4114-876E-F722184CA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83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83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BE78-770D-4A1F-B048-20216282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310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68960" y="1981080"/>
            <a:ext cx="4310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310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68960" y="4130640"/>
            <a:ext cx="4310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5889-C397-455E-9ADD-98CC6D1B5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844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729240" y="1981080"/>
            <a:ext cx="2844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715800" y="1981080"/>
            <a:ext cx="2844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844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729240" y="4130640"/>
            <a:ext cx="2844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715800" y="4130640"/>
            <a:ext cx="2844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7700-74DC-47C3-8869-30A889B21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83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56D5-9AE1-4DEB-B62D-4C0D6F56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83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EEF0-DFDB-4ABB-A8C8-71ABD980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310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68960" y="1981080"/>
            <a:ext cx="4310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EA01-CE3E-40F2-8BAF-FA35A82B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380A-C9BB-4992-84E3-13389B2B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485720" y="475920"/>
            <a:ext cx="808956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1AB6-4E49-4337-B222-8C0AF748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310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68960" y="1981080"/>
            <a:ext cx="4310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310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A396-ABEE-45F7-9917-11A77FA9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310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68960" y="1981080"/>
            <a:ext cx="4310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68960" y="4130640"/>
            <a:ext cx="4310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4C6B-EDE1-4157-ADC2-BA8B26F2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310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68960" y="1981080"/>
            <a:ext cx="4310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83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5270-8C18-4477-8963-054B1E24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0680" y="276120"/>
            <a:ext cx="1365840" cy="1602000"/>
            <a:chOff x="220680" y="276120"/>
            <a:chExt cx="1365840" cy="1602000"/>
          </a:xfrm>
        </p:grpSpPr>
        <p:grpSp>
          <p:nvGrpSpPr>
            <p:cNvPr id="1" name=""/>
            <p:cNvGrpSpPr/>
            <p:nvPr/>
          </p:nvGrpSpPr>
          <p:grpSpPr>
            <a:xfrm>
              <a:off x="220680" y="276120"/>
              <a:ext cx="1267560" cy="1602000"/>
              <a:chOff x="220680" y="276120"/>
              <a:chExt cx="1267560" cy="1602000"/>
            </a:xfrm>
          </p:grpSpPr>
          <p:sp>
            <p:nvSpPr>
              <p:cNvPr id="2" name=""/>
              <p:cNvSpPr/>
              <p:nvPr/>
            </p:nvSpPr>
            <p:spPr>
              <a:xfrm>
                <a:off x="339480" y="431640"/>
                <a:ext cx="103032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20680" y="276120"/>
                <a:ext cx="1267560" cy="801720"/>
                <a:chOff x="220680" y="276120"/>
                <a:chExt cx="1267560" cy="801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853560" y="276120"/>
                  <a:ext cx="6346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20680" y="276120"/>
                  <a:ext cx="63504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20680" y="1076400"/>
                <a:ext cx="1267560" cy="801720"/>
                <a:chOff x="220680" y="1076400"/>
                <a:chExt cx="126756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853560" y="1076400"/>
                  <a:ext cx="6346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20680" y="1076400"/>
                  <a:ext cx="63504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683640" y="334800"/>
              <a:ext cx="902880" cy="762120"/>
              <a:chOff x="683640" y="334800"/>
              <a:chExt cx="902880" cy="762120"/>
            </a:xfrm>
          </p:grpSpPr>
          <p:sp>
            <p:nvSpPr>
              <p:cNvPr id="10" name=""/>
              <p:cNvSpPr/>
              <p:nvPr/>
            </p:nvSpPr>
            <p:spPr>
              <a:xfrm>
                <a:off x="683640" y="334800"/>
                <a:ext cx="90288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807120" y="438120"/>
                <a:ext cx="65736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903600" y="452520"/>
                <a:ext cx="46440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077120" y="647640"/>
                <a:ext cx="117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83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SzPct val="6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601"/>
              </a:spcBef>
              <a:buClr>
                <a:srgbClr val="0099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601"/>
              </a:spcBef>
              <a:buClr>
                <a:srgbClr val="ff6600"/>
              </a:buClr>
              <a:buSzPct val="6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728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51212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ACE0-3526-40E6-9578-1134265BF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Análise de Dados Categorizados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Tabelas de contingência, Teste de Associação do QuiQuadrado, Coeficiente de Contingência Modificado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E5D0-ABA3-41C0-9250-B4F52F90949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Freqüências esperadas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7848360" cy="255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4A11-8354-46DB-8A05-419B37A1DD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Calculando a estatística </a:t>
            </a:r>
            <a:r>
              <a:rPr b="0" i="1" lang="pt-BR" sz="4400" spc="-1" strike="noStrike">
                <a:solidFill>
                  <a:srgbClr val="0066ff"/>
                </a:solidFill>
                <a:latin typeface="Symbol"/>
                <a:ea typeface="Symbol"/>
              </a:rPr>
              <a:t></a:t>
            </a: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2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143000" y="1600200"/>
          <a:ext cx="7848720" cy="237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00200"/>
                    <a:ext cx="784872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143000" y="4114800"/>
          <a:ext cx="7848720" cy="2259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114800"/>
                    <a:ext cx="784872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43A7-E697-4E93-92F6-8A9F47B84F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Estatística </a:t>
            </a:r>
            <a:r>
              <a:rPr b="0" i="1" lang="pt-BR" sz="4400" spc="-1" strike="noStrike">
                <a:solidFill>
                  <a:srgbClr val="0066ff"/>
                </a:solidFill>
                <a:latin typeface="Symbol"/>
                <a:ea typeface="Symbol"/>
              </a:rPr>
              <a:t></a:t>
            </a: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2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914400" y="1676520"/>
          <a:ext cx="8610480" cy="252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76520"/>
                    <a:ext cx="8610480" cy="25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295280" y="4343400"/>
                <a:ext cx="7521840" cy="13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8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335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301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91</m:t>
                          </m:r>
                          <m:r>
                            <m:t xml:space="preserve">+</m:t>
                          </m:r>
                        </m:e>
                      </m:mr>
                      <m:mr>
                        <m:e>
                          <m:r>
                            <m:t xml:space="preserve">9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56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304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91</m:t>
                          </m:r>
                        </m:e>
                      </m:mr>
                    </m:m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7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A75A-21B1-44E8-BEFF-D66A8855BE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Distribuição QuiQuadrado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83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Sob a condição de independência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2 terá uma distribuição Quiquadrado com       (m-1)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(n-1) graus de liberdade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Distribuição Quiquadrado é assimétrica e apresenta diferentes formas dependendo do número de graus de liberdade (número de valores que cada variável pode assumir)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3DAD-D247-454B-AB89-087336638F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Distribuição QuiQuadrado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8153640" cy="496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B81C-3C10-4718-947C-A3927DB80A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Decisão do teste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83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Condição para rejeição da hipótese nula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Para um determinado nível de significância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Para (m - 1)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 (n - 1) graus de liberdade,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Rejeita-se a hipótese nula se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130000"/>
              </a:lnSpc>
              <a:spcBef>
                <a:spcPts val="700"/>
              </a:spcBef>
              <a:buClr>
                <a:srgbClr val="ff3300"/>
              </a:buClr>
              <a:buSzPct val="65000"/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Valor p associado a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2 &lt; </a:t>
            </a:r>
            <a:r>
              <a:rPr b="0" lang="el-GR" sz="2800" spc="-1" strike="noStrike">
                <a:solidFill>
                  <a:srgbClr val="000000"/>
                </a:solidFill>
                <a:latin typeface="Book Antiqua"/>
              </a:rPr>
              <a:t>α</a:t>
            </a: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130000"/>
              </a:lnSpc>
              <a:spcBef>
                <a:spcPts val="700"/>
              </a:spcBef>
              <a:buClr>
                <a:srgbClr val="ff3300"/>
              </a:buClr>
              <a:buSzPct val="65000"/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Sempre será um teste unilateral à direita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FBC5-3017-427E-9CD2-8B4DEA2ED4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Distribuição QuiQuadrado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000160" y="2492280"/>
          <a:ext cx="5457960" cy="27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0160" y="2492280"/>
                    <a:ext cx="5457960" cy="27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313240" y="3643200"/>
            <a:ext cx="1584360" cy="64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alor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área sombre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2879400">
            <a:off x="4844880" y="3665160"/>
            <a:ext cx="215640" cy="863640"/>
          </a:xfrm>
          <a:prstGeom prst="upArrow">
            <a:avLst>
              <a:gd name="adj1" fmla="val 50000"/>
              <a:gd name="adj2" fmla="val 1001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-144360" y="356076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-144360" y="356076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06200" y="5394240"/>
            <a:ext cx="317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mparar valor p com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A97F-1A3B-458D-95A7-ACD9B2B3A3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Decisão do teste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83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Para o caso dos funcionários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Escolhendo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 = 0,05;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m = 2, n = 3, logo (m - 1)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 (n - 1) = 1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 2 = 2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A estatística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2 terá 2 graus de liberdade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2 = 79,277 corresponde a valor p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Valor p = 0 &lt;&lt; 0,05 =&gt; Rejeitar H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Book Antiqua"/>
              </a:rPr>
              <a:t>0</a:t>
            </a: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As variáveis estão associada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E6CC-C37C-41A4-B349-3E382A800B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66ff"/>
                </a:solidFill>
                <a:latin typeface="Book Antiqua"/>
              </a:rPr>
              <a:t>Coeficiente de Contingência Modificado</a:t>
            </a:r>
            <a:endParaRPr b="0" i="1" lang="en-US" sz="40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8326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Medida de associação entre 2 variáveis qualitativa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Coeficiente de Contingência Modificado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Varia de 0 (completa independência) até 1 (dependência total)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895480" y="4419720"/>
                <a:ext cx="381024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∗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p>
                              <m:e>
                                <m:r>
                                  <m:t xml:space="preserve">χ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χ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den>
                        </m:f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751A-9B07-4C33-A64D-BE43F6813E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66ff"/>
                </a:solidFill>
                <a:latin typeface="Book Antiqua"/>
              </a:rPr>
              <a:t>Coeficiente de Contingência Modificado</a:t>
            </a:r>
            <a:endParaRPr b="0" i="1" lang="en-US" sz="40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832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Para o caso dos funcionários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N = 474,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2 = 79,277, k = 2 (menor entre 2 e 3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143000" y="3352680"/>
                <a:ext cx="822960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∗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p>
                              <m:e>
                                <m:r>
                                  <m:t xml:space="preserve">χ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χ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den>
                        </m:f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7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74</m:t>
                            </m:r>
                          </m:den>
                        </m:f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  <m:r>
                      <m:t xml:space="preserve">≃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498760" y="49179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ssociação moderada para for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0C2E-0BBB-4C38-AE18-0F1F5CF61C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Introdução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92707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ANÁLISE DE DADOS CATEGORIZADO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Variáveis qualitativas: realizações são atributo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Análise de duas variáveis qualitativas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051560" indent="-210240">
              <a:spcBef>
                <a:spcPts val="700"/>
              </a:spcBef>
              <a:buClr>
                <a:srgbClr val="ff3300"/>
              </a:buClr>
              <a:buSzPct val="65000"/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Avaliar se existe associação entre ela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051560" indent="-210240">
              <a:spcBef>
                <a:spcPts val="700"/>
              </a:spcBef>
              <a:buClr>
                <a:srgbClr val="ff3300"/>
              </a:buClr>
              <a:buSzPct val="65000"/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Avaliar a força do relacionamento entre ela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Teste de associação do Quiquadrado (teste do Quiquadrado 2-way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Coeficientes de associação para variáveis qualitativas:</a:t>
            </a:r>
            <a:r>
              <a:rPr b="0" lang="pt-BR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Coeficiente de contingência modificado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3E47-0194-4DEB-909E-0A1BBD5119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Além disso: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83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Há outras formas de realizar a análise de variáveis qualitativas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Análise de Correspondência Simples: quando há apenas duas variáveis qualitativa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Análise de Correspondência Múltipla: quando há mais de duas variáveis qualitativa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Análise fatorial: para identificar estruturas de relacionamento entre as variávei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E9F4-0C35-4E7E-B21D-03B724862A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Objetivo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83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lnSpc>
                <a:spcPct val="11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Verificar se duas ou mais variáveis estão associada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-322200" algn="just">
              <a:lnSpc>
                <a:spcPct val="11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A associação entre duas ou mais variáveis implica em que o conhecimento da variação de uma altera a probabilidade de algum resultado da(s) outra(s)”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-322200" algn="just">
              <a:lnSpc>
                <a:spcPct val="11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Usualmente expressar o relacionamento duas a duas: tabela de contingência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-322200" algn="just">
              <a:lnSpc>
                <a:spcPct val="11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Associação NÃO SIGNIFICA causalidade!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3A6D-7F92-4B19-A19D-145D4C7B72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Tabelas de contingência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832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Mostrar relacionamento entre 2 variáveis qualitativa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666880" y="2971800"/>
            <a:ext cx="5562720" cy="2819520"/>
            <a:chOff x="2666880" y="2971800"/>
            <a:chExt cx="5562720" cy="2819520"/>
          </a:xfrm>
        </p:grpSpPr>
        <p:sp>
          <p:nvSpPr>
            <p:cNvPr id="71" name=""/>
            <p:cNvSpPr/>
            <p:nvPr/>
          </p:nvSpPr>
          <p:spPr>
            <a:xfrm>
              <a:off x="3505320" y="2971800"/>
              <a:ext cx="0" cy="28195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666880" y="3429000"/>
              <a:ext cx="55627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666880" y="5257800"/>
              <a:ext cx="55627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0120" y="2971800"/>
              <a:ext cx="0" cy="28195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57200" y="3962520"/>
            <a:ext cx="123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ariá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62680" y="34290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alor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63400" y="39625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alor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360" y="47242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alor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4419720"/>
            <a:ext cx="0" cy="3045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3886200"/>
            <a:ext cx="51051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4419720"/>
            <a:ext cx="51051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4800600"/>
            <a:ext cx="51055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2362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ariáve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58320" y="28954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alor2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49600" y="28954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alor2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81480" y="3200400"/>
            <a:ext cx="6858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2819520"/>
            <a:ext cx="0" cy="2743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248520" y="2971800"/>
            <a:ext cx="0" cy="25909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735360" y="3429000"/>
            <a:ext cx="3635280" cy="1831320"/>
            <a:chOff x="3735360" y="3429000"/>
            <a:chExt cx="3635280" cy="1831320"/>
          </a:xfrm>
        </p:grpSpPr>
        <p:sp>
          <p:nvSpPr>
            <p:cNvPr id="90" name=""/>
            <p:cNvSpPr/>
            <p:nvPr/>
          </p:nvSpPr>
          <p:spPr>
            <a:xfrm>
              <a:off x="3735360" y="3429000"/>
              <a:ext cx="81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Freq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554520" y="3429000"/>
              <a:ext cx="81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Freq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35360" y="3962520"/>
              <a:ext cx="81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Freq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554520" y="3962520"/>
              <a:ext cx="81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Freq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11320" y="4800600"/>
              <a:ext cx="81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Freq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554520" y="4800600"/>
              <a:ext cx="81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Freq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504240" y="3429000"/>
            <a:ext cx="6249240" cy="2730600"/>
            <a:chOff x="3504240" y="3429000"/>
            <a:chExt cx="6249240" cy="2730600"/>
          </a:xfrm>
        </p:grpSpPr>
        <p:sp>
          <p:nvSpPr>
            <p:cNvPr id="97" name=""/>
            <p:cNvSpPr/>
            <p:nvPr/>
          </p:nvSpPr>
          <p:spPr>
            <a:xfrm>
              <a:off x="3504240" y="5257800"/>
              <a:ext cx="1267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margi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323760" y="5334120"/>
              <a:ext cx="1267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margi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620120" y="34290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Total margi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620120" y="38862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Total margi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20120" y="48006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Total margi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7696800" y="53341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68E9-3220-4B80-9FCB-D5CF4E5EB7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Tabelas de contingência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36520" y="1773360"/>
            <a:ext cx="8142480" cy="30272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39160" y="5300640"/>
            <a:ext cx="855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s diferenças entre as freqüências são casuais, ou existe associaçã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FB59-4B65-4108-A129-6F498EA0B4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Percentuais por linha, coluna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8381880" cy="427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B7B1-C35B-4EA9-BBF6-F4B45717F5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Teste do Qui-Quadrado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83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Teste de associação do Quiquadrado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Permite avaliar se as duas variáveis estão relacionadas com um certo nível de significância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Hipótese Nula: as variáveis NÃO estão relacionadas (as variáveis são independentes)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Hipótese Alternativa: as variáveis estão relacionada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Quantificar o grau de associação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C88C-706E-419F-847F-C3BD12FC3D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Teste do QuiQuadrado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8880" y="2205000"/>
            <a:ext cx="8832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Book Antiqua"/>
              </a:rPr>
              <a:t>0</a:t>
            </a: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: As distribuições de freqüência do sexo dos funcionários são </a:t>
            </a:r>
            <a:r>
              <a:rPr b="1" lang="pt-BR" sz="2800" spc="-1" strike="noStrike">
                <a:solidFill>
                  <a:srgbClr val="ff3300"/>
                </a:solidFill>
                <a:latin typeface="Book Antiqua"/>
              </a:rPr>
              <a:t>iguais</a:t>
            </a: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 nas três funçõe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 algn="just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Book Antiqua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: As distribuições de freqüência do sexo dos funcionários </a:t>
            </a:r>
            <a:r>
              <a:rPr b="1" lang="pt-BR" sz="2800" spc="-1" strike="noStrike">
                <a:solidFill>
                  <a:srgbClr val="ff3300"/>
                </a:solidFill>
                <a:latin typeface="Book Antiqua"/>
              </a:rPr>
              <a:t>não são iguais</a:t>
            </a: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 nas três funçõe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6B65-948D-4D65-AD9F-0B0B65BD31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Como mensurar a diferença?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832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 Antiqua"/>
              </a:rPr>
              <a:t>Estatística Quiquadrado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971800" y="2590920"/>
                <a:ext cx="380988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O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ij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−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E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ij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272880" y="3860640"/>
            <a:ext cx="9345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: freqüência observada na célula ij da tabela de contingênc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2880" y="4581360"/>
            <a:ext cx="871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: freqüência esperada na célula ij supondo independê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505240" y="5445000"/>
                <a:ext cx="49528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otal da linha i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 total da coluna j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ger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C092-DA8A-4294-BFC7-9989291C9F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01:09:00Z</dcterms:created>
  <dc:creator>Marcelo Menezes Reis</dc:creator>
  <dc:description/>
  <dc:language>en-US</dc:language>
  <cp:lastModifiedBy>Marcelo Menezes Reis</cp:lastModifiedBy>
  <cp:lastPrinted>2001-06-30T18:52:02Z</cp:lastPrinted>
  <dcterms:modified xsi:type="dcterms:W3CDTF">2004-10-25T16:41:52Z</dcterms:modified>
  <cp:revision>26</cp:revision>
  <dc:subject/>
  <dc:title>ESTATÍSTICA</dc:title>
</cp:coreProperties>
</file>