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9E5-6F4C-4ECB-9678-A0279523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34C-E528-4F10-A703-1A06DFFC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6396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86396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07C-EE27-4325-9F50-6C9C99E0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4268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992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44268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992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E4B0-5C9C-4FA3-AF45-C2374B13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D38-146D-4823-B02C-CBBA9010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68D-4B37-4928-B6EB-2C74FABC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396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CCD-0FE5-48D0-A1FB-3B5DA361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485-AF22-4B14-B786-3DD1E236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46748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008-F324-4CCE-8871-4239FECB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396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14F-F7C2-4729-AE92-B928FA9D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96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6396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BFF-E6CC-4C65-817B-D71E16AC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6396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0B5-137A-4A55-BFC3-C01ABC8C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1440" cy="1602000"/>
            <a:chOff x="203040" y="276120"/>
            <a:chExt cx="126144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360" cy="1602000"/>
              <a:chOff x="203040" y="276120"/>
              <a:chExt cx="117036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148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360" cy="801720"/>
                <a:chOff x="203040" y="276120"/>
                <a:chExt cx="117036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44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360" cy="801720"/>
                <a:chOff x="203040" y="1076400"/>
                <a:chExt cx="117036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44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720" y="334800"/>
              <a:ext cx="833760" cy="762120"/>
              <a:chOff x="630720" y="334800"/>
              <a:chExt cx="83376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720" y="334800"/>
                <a:ext cx="83376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840" y="438120"/>
                <a:ext cx="60696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760" y="452520"/>
                <a:ext cx="42912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96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6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601"/>
              </a:spcBef>
              <a:buClr>
                <a:srgbClr val="ff66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D155-1E3E-4081-B0AD-E3CCB6055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Probabilidade e Modelos Probabilístic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1ª Parte: Conceitos básicos, variáveis aleatórias, modelos probabilísticos para variáveis aleatórias discretas, modelo binomia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Probabilidade condicional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700280"/>
          <a:ext cx="9144000" cy="242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0280"/>
                    <a:ext cx="914400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400040" y="4243320"/>
                <a:ext cx="2590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8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905360" y="4167360"/>
                <a:ext cx="29718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|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76360" y="5157720"/>
                <a:ext cx="50292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|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68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50</m:t>
                        </m:r>
                        <m:r>
                          <m:rPr>
                            <m:lit/>
                            <m:nor/>
                          </m:rPr>
                          <m:t xml:space="preserve">68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∩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Probabilidade condicional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1280" y="5157720"/>
                <a:ext cx="7848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hampignon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alabres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hampignon</m:t>
                        </m:r>
                        <m:r>
                          <m:t xml:space="preserve">∩</m:t>
                        </m:r>
                        <m:r>
                          <m:rPr>
                            <m:lit/>
                            <m:nor/>
                          </m:rPr>
                          <m:t xml:space="preserve">Calabres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labres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3744720" cy="3736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63280" y="1413000"/>
            <a:ext cx="34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Qual é a prob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de selecionar um peda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com champignon sup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que houvesse calabr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ne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34560" y="3284640"/>
            <a:ext cx="347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Qual é a prob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de selecionar um peda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com calabresa sup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que houvesse champign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ne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11280" y="5878440"/>
                <a:ext cx="78627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labresa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hampigno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hampignon</m:t>
                        </m:r>
                        <m:r>
                          <m:t xml:space="preserve">∩</m:t>
                        </m:r>
                        <m:r>
                          <m:rPr>
                            <m:lit/>
                            <m:nor/>
                          </m:rPr>
                          <m:t xml:space="preserve">Calabres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hampigno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Probabilidade Condicional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3541680" cy="3600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32360" y="1557360"/>
            <a:ext cx="39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Qual é a prob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de selecionar um peda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com champignon sup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que houvesse calabresa ne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0920" y="5157720"/>
                <a:ext cx="83772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hampignon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alabres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hampignon</m:t>
                        </m:r>
                        <m:r>
                          <m:t xml:space="preserve">∩</m:t>
                        </m:r>
                        <m:r>
                          <m:rPr>
                            <m:lit/>
                            <m:nor/>
                          </m:rPr>
                          <m:t xml:space="preserve">Calabres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labres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5003640" y="3284640"/>
            <a:ext cx="390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Qual é a prob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de selecionar um pedaço com calabresa supondo que houvesse champignon ne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50920" y="5950080"/>
                <a:ext cx="8424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labresa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hampigno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hampignon</m:t>
                        </m:r>
                        <m:r>
                          <m:t xml:space="preserve">∩</m:t>
                        </m:r>
                        <m:r>
                          <m:rPr>
                            <m:lit/>
                            <m:nor/>
                          </m:rPr>
                          <m:t xml:space="preserve">Calabres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hampigno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16436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Probabilidades de event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560" y="1390680"/>
            <a:ext cx="4781520" cy="929520"/>
            <a:chOff x="457560" y="1390680"/>
            <a:chExt cx="4781520" cy="929520"/>
          </a:xfrm>
        </p:grpSpPr>
        <p:grpSp>
          <p:nvGrpSpPr>
            <p:cNvPr id="130" name=""/>
            <p:cNvGrpSpPr/>
            <p:nvPr/>
          </p:nvGrpSpPr>
          <p:grpSpPr>
            <a:xfrm>
              <a:off x="2602800" y="1836720"/>
              <a:ext cx="2636280" cy="483480"/>
              <a:chOff x="2602800" y="1836720"/>
              <a:chExt cx="2636280" cy="483480"/>
            </a:xfrm>
          </p:grpSpPr>
          <p:sp>
            <p:nvSpPr>
              <p:cNvPr id="131" name=""/>
              <p:cNvSpPr/>
              <p:nvPr/>
            </p:nvSpPr>
            <p:spPr>
              <a:xfrm>
                <a:off x="3057120" y="1898640"/>
                <a:ext cx="25200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14880" y="187812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86480" y="187812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854880" y="1878120"/>
                <a:ext cx="1850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30720" y="187812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865600" y="187812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74040" y="187812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23320" y="187812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51720" y="187812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02800" y="187812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145760" y="1836720"/>
                <a:ext cx="12276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20440" y="1836720"/>
                <a:ext cx="2934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457560" y="1390680"/>
              <a:ext cx="35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800000"/>
                  </a:solidFill>
                  <a:latin typeface="Arial"/>
                </a:rPr>
                <a:t>1) Evento complement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98520" y="2492280"/>
            <a:ext cx="8201880" cy="910440"/>
            <a:chOff x="398520" y="2492280"/>
            <a:chExt cx="8201880" cy="910440"/>
          </a:xfrm>
        </p:grpSpPr>
        <p:grpSp>
          <p:nvGrpSpPr>
            <p:cNvPr id="145" name=""/>
            <p:cNvGrpSpPr/>
            <p:nvPr/>
          </p:nvGrpSpPr>
          <p:grpSpPr>
            <a:xfrm>
              <a:off x="2603160" y="2919240"/>
              <a:ext cx="5997240" cy="483480"/>
              <a:chOff x="2603160" y="2919240"/>
              <a:chExt cx="5997240" cy="483480"/>
            </a:xfrm>
          </p:grpSpPr>
          <p:sp>
            <p:nvSpPr>
              <p:cNvPr id="146" name=""/>
              <p:cNvSpPr/>
              <p:nvPr/>
            </p:nvSpPr>
            <p:spPr>
              <a:xfrm>
                <a:off x="8476200" y="296064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320600" y="296064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23560" y="296064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090120" y="296064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88400" y="296064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60000" y="296064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21560" y="296064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65960" y="296064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208360" y="296064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506720" y="296064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057440" y="296064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55720" y="296064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27320" y="296064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047920" y="296064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96840" y="296064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754080" y="296064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52440" y="296064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603160" y="296064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803360" y="2919240"/>
                <a:ext cx="2934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778080" y="2919240"/>
                <a:ext cx="12276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96840" y="2919240"/>
                <a:ext cx="2156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12000" y="2919240"/>
                <a:ext cx="2934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48720" y="2919240"/>
                <a:ext cx="2934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98520" y="2492280"/>
              <a:ext cx="35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800000"/>
                  </a:solidFill>
                  <a:latin typeface="Arial"/>
                </a:rPr>
                <a:t>2) Propriedade da som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24000" y="3483000"/>
            <a:ext cx="8651160" cy="1004040"/>
            <a:chOff x="324000" y="3483000"/>
            <a:chExt cx="8651160" cy="1004040"/>
          </a:xfrm>
        </p:grpSpPr>
        <p:grpSp>
          <p:nvGrpSpPr>
            <p:cNvPr id="171" name=""/>
            <p:cNvGrpSpPr/>
            <p:nvPr/>
          </p:nvGrpSpPr>
          <p:grpSpPr>
            <a:xfrm>
              <a:off x="2603160" y="4003920"/>
              <a:ext cx="4044600" cy="483120"/>
              <a:chOff x="2603160" y="4003920"/>
              <a:chExt cx="4044600" cy="483120"/>
            </a:xfrm>
          </p:grpSpPr>
          <p:sp>
            <p:nvSpPr>
              <p:cNvPr id="172" name=""/>
              <p:cNvSpPr/>
              <p:nvPr/>
            </p:nvSpPr>
            <p:spPr>
              <a:xfrm>
                <a:off x="6523560" y="404496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90120" y="404496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88400" y="404496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860000" y="404496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21560" y="404496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65960" y="404496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55720" y="404496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27320" y="404496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047920" y="404496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96840" y="404496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54080" y="404496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52440" y="404496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603160" y="404496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96840" y="4003920"/>
                <a:ext cx="2156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212000" y="4003920"/>
                <a:ext cx="2934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348720" y="4003920"/>
                <a:ext cx="2934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324000" y="3483000"/>
              <a:ext cx="865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800000"/>
                  </a:solidFill>
                  <a:latin typeface="Arial"/>
                </a:rPr>
                <a:t>3) Propriedade da soma para eventos mutuamente exclusiv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98880" y="4549680"/>
            <a:ext cx="6693480" cy="1021320"/>
            <a:chOff x="398880" y="4549680"/>
            <a:chExt cx="6693480" cy="1021320"/>
          </a:xfrm>
        </p:grpSpPr>
        <p:grpSp>
          <p:nvGrpSpPr>
            <p:cNvPr id="190" name=""/>
            <p:cNvGrpSpPr/>
            <p:nvPr/>
          </p:nvGrpSpPr>
          <p:grpSpPr>
            <a:xfrm>
              <a:off x="2603160" y="5087880"/>
              <a:ext cx="4489200" cy="483120"/>
              <a:chOff x="2603160" y="5087880"/>
              <a:chExt cx="4489200" cy="483120"/>
            </a:xfrm>
          </p:grpSpPr>
          <p:sp>
            <p:nvSpPr>
              <p:cNvPr id="191" name=""/>
              <p:cNvSpPr/>
              <p:nvPr/>
            </p:nvSpPr>
            <p:spPr>
              <a:xfrm>
                <a:off x="6968160" y="512892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11320" y="5128920"/>
                <a:ext cx="10296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23520" y="512892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88400" y="512892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60000" y="512892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021560" y="512892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65960" y="512892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25880" y="512892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189120" y="512892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760720" y="512892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047920" y="512892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596840" y="512892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54080" y="512892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52440" y="512892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03160" y="512892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89280" y="5087880"/>
                <a:ext cx="20808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×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212000" y="5087880"/>
                <a:ext cx="2934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348720" y="5087880"/>
                <a:ext cx="2934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98880" y="4549680"/>
              <a:ext cx="382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800000"/>
                  </a:solidFill>
                  <a:latin typeface="Arial"/>
                </a:rPr>
                <a:t>4) Propriedade do produt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2120" y="5692680"/>
            <a:ext cx="7751880" cy="961200"/>
            <a:chOff x="402120" y="5692680"/>
            <a:chExt cx="7751880" cy="961200"/>
          </a:xfrm>
        </p:grpSpPr>
        <p:grpSp>
          <p:nvGrpSpPr>
            <p:cNvPr id="211" name=""/>
            <p:cNvGrpSpPr/>
            <p:nvPr/>
          </p:nvGrpSpPr>
          <p:grpSpPr>
            <a:xfrm>
              <a:off x="2603160" y="6170400"/>
              <a:ext cx="3978000" cy="483480"/>
              <a:chOff x="2603160" y="6170400"/>
              <a:chExt cx="3978000" cy="483480"/>
            </a:xfrm>
          </p:grpSpPr>
          <p:sp>
            <p:nvSpPr>
              <p:cNvPr id="212" name=""/>
              <p:cNvSpPr/>
              <p:nvPr/>
            </p:nvSpPr>
            <p:spPr>
              <a:xfrm>
                <a:off x="6456960" y="621180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23520" y="621180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88400" y="621180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860000" y="621180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21560" y="621180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65960" y="621180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189120" y="621180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60720" y="621180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47920" y="621180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596840" y="621180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54080" y="621180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052440" y="621180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03160" y="6211800"/>
                <a:ext cx="226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9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489280" y="6170400"/>
                <a:ext cx="20808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×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212000" y="6170400"/>
                <a:ext cx="2934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8720" y="6170400"/>
                <a:ext cx="2934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02120" y="5692680"/>
              <a:ext cx="77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800000"/>
                  </a:solidFill>
                  <a:latin typeface="Arial"/>
                </a:rPr>
                <a:t>5) Propriedade do produto para eventos independent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24000" y="54936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Variável aleatóri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435880" cy="22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99"/>
                </a:solidFill>
                <a:latin typeface="Book Antiqua"/>
              </a:rPr>
              <a:t>“</a:t>
            </a:r>
            <a:r>
              <a:rPr b="0" lang="pt-BR" sz="2400" spc="-1" strike="noStrike">
                <a:solidFill>
                  <a:srgbClr val="006699"/>
                </a:solidFill>
                <a:latin typeface="Book Antiqua"/>
              </a:rPr>
              <a:t>Uma variável aleatória é uma função  com valores </a:t>
            </a:r>
            <a:r>
              <a:rPr b="1" lang="pt-BR" sz="2400" spc="-1" strike="noStrike">
                <a:solidFill>
                  <a:srgbClr val="006699"/>
                </a:solidFill>
                <a:latin typeface="Book Antiqua"/>
              </a:rPr>
              <a:t>numéricos</a:t>
            </a:r>
            <a:r>
              <a:rPr b="0" lang="pt-BR" sz="2400" spc="-1" strike="noStrike">
                <a:solidFill>
                  <a:srgbClr val="006699"/>
                </a:solidFill>
                <a:latin typeface="Book Antiqua"/>
              </a:rPr>
              <a:t>, cujo valor é determinado por fatores de chance.” Associa números aos eventos do espaço amostral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0000"/>
                </a:solidFill>
                <a:latin typeface="Book Antiqua"/>
              </a:rPr>
              <a:t>X</a:t>
            </a:r>
            <a:r>
              <a:rPr b="0" lang="pt-BR" sz="2400" spc="-1" strike="noStrike">
                <a:solidFill>
                  <a:srgbClr val="800000"/>
                </a:solidFill>
                <a:latin typeface="Book Antiqua"/>
              </a:rPr>
              <a:t> = número de coroas em 2 lançamentos de uma moeda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-609480" y="4572000"/>
          <a:ext cx="12725280" cy="192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4572000"/>
                    <a:ext cx="1272528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7129440" cy="14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Exemplos de variáveis aleatória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573760" cy="40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Vida útil (em horas) de um televisor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Número de peças com defeito em um lote produzid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Número de acidentes registrados durante um mês na BR.101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Na 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, o tempo (em segundos) para que uma determinada mensagem chega ao seu destin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Se uma mensagem chega (X = 1), ou não (X = 0), ao seu destino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9" dur="1" fill="hold"/>
                                  <p:tgtEl>
                                    <p:spTgt spid="2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34920" y="549360"/>
            <a:ext cx="684036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Variáveis aleatória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36" name=""/>
          <p:cNvSpPr/>
          <p:nvPr/>
        </p:nvSpPr>
        <p:spPr>
          <a:xfrm>
            <a:off x="2989440" y="1676520"/>
            <a:ext cx="217800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ariável aleat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6240" y="2467080"/>
            <a:ext cx="1441440" cy="463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cr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6280" y="3456000"/>
            <a:ext cx="2847960" cy="13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ossíveis resultados estão contidos em um conjunto finito ou enumer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70720" y="2467080"/>
            <a:ext cx="1441440" cy="444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tí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00760" y="3456000"/>
            <a:ext cx="3228840" cy="10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ossíveis resultados abrangem todo um intervalo de números re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16200" y="2940120"/>
            <a:ext cx="166680" cy="515880"/>
          </a:xfrm>
          <a:prstGeom prst="downArrow">
            <a:avLst>
              <a:gd name="adj1" fmla="val 50000"/>
              <a:gd name="adj2" fmla="val 773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6720" y="2930400"/>
            <a:ext cx="165240" cy="517680"/>
          </a:xfrm>
          <a:prstGeom prst="downArrow">
            <a:avLst>
              <a:gd name="adj1" fmla="val 50000"/>
              <a:gd name="adj2" fmla="val 783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5383800">
            <a:off x="5622120" y="1336320"/>
            <a:ext cx="593640" cy="1508040"/>
          </a:xfrm>
          <a:custGeom>
            <a:avLst/>
            <a:gdLst>
              <a:gd name="textAreaLeft" fmla="*/ 0 w 593640"/>
              <a:gd name="textAreaRight" fmla="*/ 594000 w 59364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16216200">
            <a:off x="1914120" y="1355040"/>
            <a:ext cx="592200" cy="1508040"/>
          </a:xfrm>
          <a:custGeom>
            <a:avLst/>
            <a:gdLst>
              <a:gd name="textAreaLeft" fmla="*/ -360 w 592200"/>
              <a:gd name="textAreaRight" fmla="*/ 592200 w 59220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2960" y="5235480"/>
            <a:ext cx="26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77760" y="5037120"/>
            <a:ext cx="324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2960" y="5235480"/>
            <a:ext cx="26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14360" y="5037120"/>
            <a:ext cx="180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49520" y="5037120"/>
            <a:ext cx="144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4320" y="5037120"/>
            <a:ext cx="180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19480" y="5037120"/>
            <a:ext cx="144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11080" y="5432400"/>
            <a:ext cx="3351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30400" y="5410080"/>
            <a:ext cx="33480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96880" y="5410080"/>
            <a:ext cx="3351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7360" y="5415120"/>
            <a:ext cx="33624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47760" y="5419800"/>
            <a:ext cx="33516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98760" y="5433840"/>
            <a:ext cx="33660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00760" y="5235480"/>
            <a:ext cx="26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0400" y="5092560"/>
            <a:ext cx="144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80200" y="5430960"/>
            <a:ext cx="33480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37160" y="524844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0800" y="5684760"/>
            <a:ext cx="2913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úmero de defeitos em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02360" y="5700600"/>
            <a:ext cx="2722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mpo de resposta d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Distribuição de Probabilidade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8228160" cy="30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ook Antiqua"/>
              </a:rPr>
              <a:t>A distribuição de probabilidades, ou modelo probabilístico, indica, para uma variável aleatória, </a:t>
            </a:r>
            <a:r>
              <a:rPr b="1" lang="pt-BR" sz="3200" spc="-1" strike="noStrike">
                <a:solidFill>
                  <a:srgbClr val="081d58"/>
                </a:solidFill>
                <a:latin typeface="Book Antiqua"/>
              </a:rPr>
              <a:t>quais</a:t>
            </a:r>
            <a:r>
              <a:rPr b="0" lang="pt-BR" sz="3200" spc="-1" strike="noStrike">
                <a:solidFill>
                  <a:srgbClr val="000000"/>
                </a:solidFill>
                <a:latin typeface="Book Antiqua"/>
              </a:rPr>
              <a:t> são os </a:t>
            </a:r>
            <a:r>
              <a:rPr b="1" lang="pt-BR" sz="3200" spc="-1" strike="noStrike">
                <a:solidFill>
                  <a:srgbClr val="081d58"/>
                </a:solidFill>
                <a:latin typeface="Book Antiqua"/>
              </a:rPr>
              <a:t>resultados</a:t>
            </a:r>
            <a:r>
              <a:rPr b="0" lang="pt-BR" sz="3200" spc="-1" strike="noStrike">
                <a:solidFill>
                  <a:srgbClr val="000000"/>
                </a:solidFill>
                <a:latin typeface="Book Antiqua"/>
              </a:rPr>
              <a:t> que podem ocorrer e </a:t>
            </a:r>
            <a:r>
              <a:rPr b="1" lang="pt-BR" sz="3200" spc="-1" strike="noStrike">
                <a:solidFill>
                  <a:srgbClr val="6e0043"/>
                </a:solidFill>
                <a:latin typeface="Book Antiqua"/>
              </a:rPr>
              <a:t>qual</a:t>
            </a:r>
            <a:r>
              <a:rPr b="0" lang="pt-BR" sz="3200" spc="-1" strike="noStrike">
                <a:solidFill>
                  <a:srgbClr val="000000"/>
                </a:solidFill>
                <a:latin typeface="Book Antiqua"/>
              </a:rPr>
              <a:t> é a </a:t>
            </a:r>
            <a:r>
              <a:rPr b="1" lang="pt-BR" sz="3200" spc="-1" strike="noStrike">
                <a:solidFill>
                  <a:srgbClr val="6e0043"/>
                </a:solidFill>
                <a:latin typeface="Book Antiqua"/>
              </a:rPr>
              <a:t>probabilidade</a:t>
            </a:r>
            <a:r>
              <a:rPr b="0" lang="pt-BR" sz="3200" spc="-1" strike="noStrike">
                <a:solidFill>
                  <a:srgbClr val="000000"/>
                </a:solidFill>
                <a:latin typeface="Book Antiqua"/>
              </a:rPr>
              <a:t> de cada resultado acontece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4" dur="1" fill="hold"/>
                                  <p:tgtEl>
                                    <p:spTgt spid="2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467480" cy="8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Exemplo 1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8920" y="1752480"/>
            <a:ext cx="8659800" cy="448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Considere que numa grande loja de departamentos,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em </a:t>
            </a:r>
            <a:r>
              <a:rPr b="1" lang="pt-BR" sz="2800" spc="-1" strike="noStrike">
                <a:solidFill>
                  <a:srgbClr val="081d58"/>
                </a:solidFill>
                <a:latin typeface="Book Antiqua"/>
              </a:rPr>
              <a:t>60% 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dos dias algum cliente rouba alguma peça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Construir a distribuição de probabilidades para a variável aleatória       </a:t>
            </a:r>
            <a:r>
              <a:rPr b="1" lang="pt-BR" sz="2800" spc="-1" strike="noStrike">
                <a:solidFill>
                  <a:srgbClr val="3366ff"/>
                </a:solidFill>
                <a:latin typeface="Book Antiqua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t-BR" sz="2800" spc="-1" strike="noStrike">
                <a:solidFill>
                  <a:srgbClr val="3366ff"/>
                </a:solidFill>
                <a:latin typeface="Book Antiqua"/>
              </a:rPr>
              <a:t>= </a:t>
            </a:r>
            <a:r>
              <a:rPr b="1" lang="pt-BR" sz="2800" spc="-1" strike="noStrike">
                <a:solidFill>
                  <a:srgbClr val="3366ff"/>
                </a:solidFill>
                <a:latin typeface="Book Antiqua"/>
              </a:rPr>
              <a:t>número de dias com roubos na loja</a:t>
            </a:r>
            <a:r>
              <a:rPr b="1" lang="pt-BR" sz="2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considerando o período de observação de </a:t>
            </a:r>
            <a:r>
              <a:rPr b="1" lang="pt-BR" sz="2800" spc="-1" strike="noStrike">
                <a:solidFill>
                  <a:srgbClr val="ff3300"/>
                </a:solidFill>
                <a:latin typeface="Book Antiqua"/>
              </a:rPr>
              <a:t>três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dias. (Suponha independência.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467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Exemplo 1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69" name=""/>
          <p:cNvSpPr/>
          <p:nvPr/>
        </p:nvSpPr>
        <p:spPr>
          <a:xfrm>
            <a:off x="2390760" y="1752480"/>
            <a:ext cx="23922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3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8760" y="1685880"/>
            <a:ext cx="8216640" cy="0"/>
          </a:xfrm>
          <a:prstGeom prst="line">
            <a:avLst/>
          </a:prstGeom>
          <a:ln w="12600">
            <a:solidFill>
              <a:srgbClr val="1f4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8760" y="5800680"/>
            <a:ext cx="8216640" cy="0"/>
          </a:xfrm>
          <a:prstGeom prst="line">
            <a:avLst/>
          </a:prstGeom>
          <a:ln w="12600">
            <a:solidFill>
              <a:srgbClr val="1f4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7120" y="2219400"/>
            <a:ext cx="8218440" cy="0"/>
          </a:xfrm>
          <a:prstGeom prst="line">
            <a:avLst/>
          </a:prstGeom>
          <a:ln w="12600">
            <a:solidFill>
              <a:srgbClr val="1f4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9520" y="1704960"/>
            <a:ext cx="2724120" cy="40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300"/>
                </a:solidFill>
                <a:latin typeface="Arial"/>
              </a:rPr>
              <a:t>Possi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e0043"/>
                </a:solidFill>
                <a:latin typeface="Arial"/>
              </a:rPr>
              <a:t>B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e0043"/>
                </a:solidFill>
                <a:latin typeface="Arial"/>
              </a:rPr>
              <a:t>BB</a:t>
            </a:r>
            <a:r>
              <a:rPr b="0" lang="pt-BR" sz="2800" spc="-1" strike="noStrike">
                <a:solidFill>
                  <a:srgbClr val="006699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e0043"/>
                </a:solidFill>
                <a:latin typeface="Arial"/>
              </a:rPr>
              <a:t>B</a:t>
            </a:r>
            <a:r>
              <a:rPr b="0" lang="pt-BR" sz="2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pt-BR" sz="2800" spc="-1" strike="noStrike">
                <a:solidFill>
                  <a:srgbClr val="6e0043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pt-BR" sz="2800" spc="-1" strike="noStrike">
                <a:solidFill>
                  <a:srgbClr val="6e0043"/>
                </a:solidFill>
                <a:latin typeface="Arial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e0043"/>
                </a:solidFill>
                <a:latin typeface="Arial"/>
              </a:rPr>
              <a:t>B</a:t>
            </a:r>
            <a:r>
              <a:rPr b="0" lang="pt-BR" sz="2800" spc="-1" strike="noStrike">
                <a:solidFill>
                  <a:srgbClr val="006699"/>
                </a:solidFill>
                <a:latin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pt-BR" sz="2800" spc="-1" strike="noStrike">
                <a:solidFill>
                  <a:srgbClr val="6e0043"/>
                </a:solidFill>
                <a:latin typeface="Arial"/>
              </a:rPr>
              <a:t>B</a:t>
            </a:r>
            <a:r>
              <a:rPr b="0" lang="pt-BR" sz="2800" spc="-1" strike="noStrike">
                <a:solidFill>
                  <a:srgbClr val="006699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99"/>
                </a:solidFill>
                <a:latin typeface="Arial"/>
              </a:rPr>
              <a:t>RR</a:t>
            </a:r>
            <a:r>
              <a:rPr b="0" lang="pt-BR" sz="2800" spc="-1" strike="noStrike">
                <a:solidFill>
                  <a:srgbClr val="6e0043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99"/>
                </a:solidFill>
                <a:latin typeface="Arial"/>
              </a:rPr>
              <a:t>RR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53160" y="1752480"/>
            <a:ext cx="37288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300"/>
                </a:solidFill>
                <a:latin typeface="Arial"/>
              </a:rPr>
              <a:t>Proba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,4 x 0,4 x 0,4 = 0,0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0,4 x 0,4 x 0,6 = 0,0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0,4 x 0,6 x 0,4 = 0,0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0,6 x 0,4 x 0,4 = 0,0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300"/>
                </a:solidFill>
                <a:latin typeface="Arial"/>
              </a:rPr>
              <a:t>0,4 x 0,6 x 0,6 = 0,1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300"/>
                </a:solidFill>
                <a:latin typeface="Arial"/>
              </a:rPr>
              <a:t>0,6 x 0,4 x 0,6 = 0,1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300"/>
                </a:solidFill>
                <a:latin typeface="Arial"/>
              </a:rPr>
              <a:t>0,6 x 0,6 x 0,4 = 0,1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0000"/>
                </a:solidFill>
                <a:latin typeface="Arial"/>
              </a:rPr>
              <a:t>0,6 x 0,6 x 0,6 = 0,2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411280" y="620640"/>
            <a:ext cx="546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Probabi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3105000"/>
            <a:ext cx="835344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Mensuração da chance de ocorrência de fenômenos aleatórios, mostrando como poderão ocorrer os f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Base teórica para a análise infer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80720" y="475920"/>
            <a:ext cx="5327640" cy="10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Exemplo 1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4695840" cy="351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p(x)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0,064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0,288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0,432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0,216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Total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  1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4941720"/>
            <a:ext cx="3598560" cy="0"/>
          </a:xfrm>
          <a:prstGeom prst="line">
            <a:avLst/>
          </a:prstGeom>
          <a:ln w="12600">
            <a:solidFill>
              <a:srgbClr val="1f4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2514600"/>
            <a:ext cx="3598920" cy="0"/>
          </a:xfrm>
          <a:prstGeom prst="line">
            <a:avLst/>
          </a:prstGeom>
          <a:ln w="12600">
            <a:solidFill>
              <a:srgbClr val="1f4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3068640"/>
            <a:ext cx="3598920" cy="0"/>
          </a:xfrm>
          <a:prstGeom prst="line">
            <a:avLst/>
          </a:prstGeom>
          <a:ln w="12600">
            <a:solidFill>
              <a:srgbClr val="1f4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5516640"/>
            <a:ext cx="3598560" cy="0"/>
          </a:xfrm>
          <a:prstGeom prst="line">
            <a:avLst/>
          </a:prstGeom>
          <a:ln w="12600">
            <a:solidFill>
              <a:srgbClr val="1f4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420800" y="2421000"/>
            <a:ext cx="4525920" cy="4067280"/>
            <a:chOff x="4420800" y="2421000"/>
            <a:chExt cx="4525920" cy="4067280"/>
          </a:xfrm>
        </p:grpSpPr>
        <p:sp>
          <p:nvSpPr>
            <p:cNvPr id="282" name=""/>
            <p:cNvSpPr/>
            <p:nvPr/>
          </p:nvSpPr>
          <p:spPr>
            <a:xfrm>
              <a:off x="4700880" y="463068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1f4300"/>
                  </a:solidFill>
                  <a:latin typeface="Arial"/>
                </a:rPr>
                <a:t>0,06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31040" y="2860560"/>
              <a:ext cx="826920" cy="2577600"/>
            </a:xfrm>
            <a:prstGeom prst="rect">
              <a:avLst/>
            </a:prstGeom>
            <a:solidFill>
              <a:srgbClr val="ff66cc"/>
            </a:solidFill>
            <a:ln w="12600">
              <a:solidFill>
                <a:srgbClr val="1f4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86480" y="3698640"/>
              <a:ext cx="838080" cy="1739520"/>
            </a:xfrm>
            <a:prstGeom prst="rect">
              <a:avLst/>
            </a:prstGeom>
            <a:solidFill>
              <a:srgbClr val="ff66cc"/>
            </a:solidFill>
            <a:ln w="12600">
              <a:solidFill>
                <a:srgbClr val="1f4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0800" y="5618160"/>
              <a:ext cx="3706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1f4300"/>
                  </a:solidFill>
                  <a:latin typeface="Arial"/>
                </a:rPr>
                <a:t>      </a:t>
              </a:r>
              <a:r>
                <a:rPr b="0" lang="pt-BR" sz="2800" spc="-1" strike="noStrike">
                  <a:solidFill>
                    <a:srgbClr val="1f4300"/>
                  </a:solidFill>
                  <a:latin typeface="Arial"/>
                </a:rPr>
                <a:t>0    </a:t>
              </a:r>
              <a:r>
                <a:rPr b="0" lang="pt-BR" sz="1200" spc="-1" strike="noStrike">
                  <a:solidFill>
                    <a:srgbClr val="1f4300"/>
                  </a:solidFill>
                  <a:latin typeface="Arial"/>
                </a:rPr>
                <a:t>      </a:t>
              </a:r>
              <a:r>
                <a:rPr b="0" lang="pt-BR" sz="2800" spc="-1" strike="noStrike">
                  <a:solidFill>
                    <a:srgbClr val="1f4300"/>
                  </a:solidFill>
                  <a:latin typeface="Arial"/>
                </a:rPr>
                <a:t> 1       2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30760" y="5070240"/>
              <a:ext cx="851040" cy="367920"/>
            </a:xfrm>
            <a:prstGeom prst="rect">
              <a:avLst/>
            </a:prstGeom>
            <a:solidFill>
              <a:srgbClr val="ff66cc"/>
            </a:solidFill>
            <a:ln w="12600">
              <a:solidFill>
                <a:srgbClr val="1f4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437000" y="5330160"/>
              <a:ext cx="3998880" cy="215640"/>
              <a:chOff x="4437000" y="5330160"/>
              <a:chExt cx="3998880" cy="215640"/>
            </a:xfrm>
          </p:grpSpPr>
          <p:sp>
            <p:nvSpPr>
              <p:cNvPr id="288" name=""/>
              <p:cNvSpPr/>
              <p:nvPr/>
            </p:nvSpPr>
            <p:spPr>
              <a:xfrm flipV="1">
                <a:off x="4730040" y="5330160"/>
                <a:ext cx="0" cy="21564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5163840" y="5330160"/>
                <a:ext cx="0" cy="21564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437000" y="5444640"/>
                <a:ext cx="399888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5586120" y="5330160"/>
                <a:ext cx="0" cy="21564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5996520" y="5330160"/>
                <a:ext cx="0" cy="21564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6430320" y="5330160"/>
                <a:ext cx="0" cy="21564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6840720" y="5330160"/>
                <a:ext cx="0" cy="21564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7263000" y="5330160"/>
                <a:ext cx="0" cy="21564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7685280" y="5330160"/>
                <a:ext cx="0" cy="21564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8119080" y="5330160"/>
                <a:ext cx="0" cy="21564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262640" y="4155840"/>
              <a:ext cx="851040" cy="1282320"/>
            </a:xfrm>
            <a:prstGeom prst="rect">
              <a:avLst/>
            </a:prstGeom>
            <a:solidFill>
              <a:srgbClr val="ff66cc"/>
            </a:solidFill>
            <a:ln w="12600">
              <a:solidFill>
                <a:srgbClr val="1f4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33120" y="371628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1f4300"/>
                  </a:solidFill>
                  <a:latin typeface="Arial"/>
                </a:rPr>
                <a:t>0,2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88560" y="242100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1f4300"/>
                  </a:solidFill>
                  <a:latin typeface="Arial"/>
                </a:rPr>
                <a:t>0,4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74160" y="325908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1f4300"/>
                  </a:solidFill>
                  <a:latin typeface="Arial"/>
                </a:rPr>
                <a:t>0,28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86680" y="6089400"/>
              <a:ext cx="446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número de dias com roubos na lo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825480" y="1817640"/>
            <a:ext cx="57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tribuição de probabilidade de 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734544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Valor esperado e</a:t>
            </a:r>
            <a:br>
              <a:rPr sz="4400"/>
            </a:b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variânci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50920" y="2492280"/>
            <a:ext cx="3889440" cy="3962520"/>
            <a:chOff x="250920" y="2492280"/>
            <a:chExt cx="3889440" cy="3962520"/>
          </a:xfrm>
        </p:grpSpPr>
        <p:sp>
          <p:nvSpPr>
            <p:cNvPr id="306" name=""/>
            <p:cNvSpPr/>
            <p:nvPr/>
          </p:nvSpPr>
          <p:spPr>
            <a:xfrm>
              <a:off x="250920" y="2587680"/>
              <a:ext cx="3889440" cy="32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p(x)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pt-BR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  p</a:t>
              </a:r>
              <a:r>
                <a:rPr b="1" lang="pt-BR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pt-BR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  p</a:t>
              </a:r>
              <a:r>
                <a:rPr b="1" lang="pt-BR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  ..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pt-BR" sz="3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  p</a:t>
              </a:r>
              <a:r>
                <a:rPr b="1" lang="pt-BR" sz="3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  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2800" y="5692680"/>
              <a:ext cx="2745000" cy="0"/>
            </a:xfrm>
            <a:prstGeom prst="line">
              <a:avLst/>
            </a:prstGeom>
            <a:ln w="12600">
              <a:solidFill>
                <a:srgbClr val="1f4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9520" y="2492280"/>
              <a:ext cx="2744640" cy="0"/>
            </a:xfrm>
            <a:prstGeom prst="line">
              <a:avLst/>
            </a:prstGeom>
            <a:ln w="12600">
              <a:solidFill>
                <a:srgbClr val="1f4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9520" y="3254400"/>
              <a:ext cx="2744640" cy="0"/>
            </a:xfrm>
            <a:prstGeom prst="line">
              <a:avLst/>
            </a:prstGeom>
            <a:ln w="12600">
              <a:solidFill>
                <a:srgbClr val="1f4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2800" y="6454800"/>
              <a:ext cx="2745000" cy="0"/>
            </a:xfrm>
            <a:prstGeom prst="line">
              <a:avLst/>
            </a:prstGeom>
            <a:ln w="12600">
              <a:solidFill>
                <a:srgbClr val="1f4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564000" y="2852640"/>
                <a:ext cx="516240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μ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851280" y="4508640"/>
                <a:ext cx="45194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547640" y="1268280"/>
            <a:ext cx="7129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ff"/>
                </a:solidFill>
                <a:latin typeface="Book Antiqua"/>
              </a:rPr>
              <a:t>X = número de dias com roubos na lo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427640" y="2924280"/>
                <a:ext cx="44002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μ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398160" y="5300640"/>
            <a:ext cx="80888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(X) = 0(0,064) + 1(0,288) + 2(0,432) + 3(0,216) = 1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03640" y="26028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Times New Roman"/>
              </a:rPr>
              <a:t>Exemp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0920" y="2286000"/>
            <a:ext cx="3711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x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p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0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0,0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1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0,2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2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0,4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3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0,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32000" y="2768760"/>
            <a:ext cx="2238120" cy="1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43160" y="2349360"/>
            <a:ext cx="2238120" cy="18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32000" y="4365720"/>
            <a:ext cx="2238120" cy="1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76360" y="1125360"/>
            <a:ext cx="6983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ff"/>
                </a:solidFill>
                <a:latin typeface="Book Antiqua"/>
              </a:rPr>
              <a:t>X = número de dias com roubo na lo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0920" y="2286000"/>
            <a:ext cx="3711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x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p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0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0,0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1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0,2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2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0,4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3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0,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32000" y="2768760"/>
            <a:ext cx="2238120" cy="1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43160" y="2349360"/>
            <a:ext cx="2238120" cy="18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32000" y="4365720"/>
            <a:ext cx="2238120" cy="1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5105520"/>
            <a:ext cx="7989840" cy="94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(X) = (0 – 1,8)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0,064) + (1 – 1,8)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0,288) +(2 – 1,8)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0,432) + (3 – 1,8)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0,216)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= 0,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66200" y="236520"/>
            <a:ext cx="255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Times New Roman"/>
              </a:rPr>
              <a:t>Exemp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064040" y="3084480"/>
                <a:ext cx="45194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68360" y="475920"/>
            <a:ext cx="59040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Experimento binomial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85327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consiste de 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ensaios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cada ensaio tem somente dois resultados: “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sucesso”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/ “</a:t>
            </a:r>
            <a:r>
              <a:rPr b="1" lang="pt-BR" sz="2400" spc="-1" strike="noStrike">
                <a:solidFill>
                  <a:srgbClr val="ff3300"/>
                </a:solidFill>
                <a:latin typeface="Book Antiqua"/>
              </a:rPr>
              <a:t>fracasso”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os ensaios são independentes, com 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P(sucesso) = </a:t>
            </a:r>
            <a:r>
              <a:rPr b="1" i="1" lang="pt-BR" sz="2400" spc="-1" strike="noStrike">
                <a:solidFill>
                  <a:srgbClr val="0000cc"/>
                </a:solidFill>
                <a:latin typeface="Book Antiqua"/>
              </a:rPr>
              <a:t>p</a:t>
            </a:r>
            <a:r>
              <a:rPr b="0" lang="pt-BR" sz="2400" spc="-1" strike="noStrike">
                <a:solidFill>
                  <a:srgbClr val="0000cc"/>
                </a:solidFill>
                <a:latin typeface="Book Antiqua"/>
              </a:rPr>
              <a:t>        </a:t>
            </a:r>
            <a:r>
              <a:rPr b="0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(0 &lt; 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&lt; 1 constante ao longo dos ensaios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0000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====&gt;</a:t>
            </a:r>
            <a:r>
              <a:rPr b="1" lang="pt-BR" sz="2400" spc="-1" strike="noStrike">
                <a:solidFill>
                  <a:srgbClr val="800000"/>
                </a:solidFill>
                <a:latin typeface="Book Antiqua"/>
              </a:rPr>
              <a:t>  X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= número de 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sucesso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nos </a:t>
            </a:r>
            <a:r>
              <a:rPr b="1" lang="pt-BR" sz="2400" spc="-1" strike="noStrike">
                <a:solidFill>
                  <a:srgbClr val="3366ff"/>
                </a:solidFill>
                <a:latin typeface="Book Antiqua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ensaio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6" dur="1" fill="hold"/>
                                  <p:tgtEl>
                                    <p:spTgt spid="3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00000" y="620640"/>
            <a:ext cx="784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Exemplos de experimentos binomi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28195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Número de caras em 10 lançamentos de uma moe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Número de itens defeituosos numa amostra de 20 itens </a:t>
            </a:r>
            <a:r>
              <a:rPr b="0" lang="pt-BR" sz="2400" spc="-1" strike="noStrike">
                <a:solidFill>
                  <a:srgbClr val="3366ff"/>
                </a:solidFill>
                <a:latin typeface="Book Antiqua"/>
              </a:rPr>
              <a:t>(supondo amostragem aleatória e com reposição)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Número de eleitores favoráveis a um determinado projeto de lei em uma amostra de 200 entrevistados (</a:t>
            </a:r>
            <a:r>
              <a:rPr b="0" lang="pt-BR" sz="2400" spc="-1" strike="noStrike">
                <a:solidFill>
                  <a:srgbClr val="ff3300"/>
                </a:solidFill>
                <a:latin typeface="Book Antiqua"/>
              </a:rPr>
              <a:t>supondo amostragem aleatória de uma população muito grande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1" dur="1" fill="hold"/>
                                  <p:tgtEl>
                                    <p:spTgt spid="3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692360" y="620640"/>
            <a:ext cx="70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Cálculo das probabilidades em experimentos binomi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4360" y="227664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= número de caras em 3 lançamentos de uma moeda com P(cara) 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P(X = 1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974160" y="3789360"/>
            <a:ext cx="3655080" cy="1373760"/>
            <a:chOff x="974160" y="3789360"/>
            <a:chExt cx="3655080" cy="1373760"/>
          </a:xfrm>
        </p:grpSpPr>
        <p:sp>
          <p:nvSpPr>
            <p:cNvPr id="336" name=""/>
            <p:cNvSpPr/>
            <p:nvPr/>
          </p:nvSpPr>
          <p:spPr>
            <a:xfrm>
              <a:off x="974160" y="4093920"/>
              <a:ext cx="994680" cy="520560"/>
            </a:xfrm>
            <a:prstGeom prst="rect">
              <a:avLst/>
            </a:prstGeom>
            <a:solidFill>
              <a:srgbClr val="f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X =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09920" y="3789360"/>
              <a:ext cx="1219320" cy="137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3366ff"/>
                  </a:solidFill>
                  <a:latin typeface="Times New Roman"/>
                </a:rPr>
                <a:t>C</a:t>
              </a: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 K 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1" lang="pt-BR" sz="2800" spc="-1" strike="noStrike">
                  <a:solidFill>
                    <a:srgbClr val="3366ff"/>
                  </a:solidFill>
                  <a:latin typeface="Times New Roman"/>
                </a:rPr>
                <a:t>C</a:t>
              </a: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 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K K </a:t>
              </a:r>
              <a:r>
                <a:rPr b="1" lang="pt-BR" sz="2800" spc="-1" strike="noStrike">
                  <a:solidFill>
                    <a:srgbClr val="3366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66920" y="4246560"/>
              <a:ext cx="914400" cy="304560"/>
            </a:xfrm>
            <a:prstGeom prst="leftRightArrow">
              <a:avLst>
                <a:gd name="adj1" fmla="val 50000"/>
                <a:gd name="adj2" fmla="val 5976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313240" y="3855960"/>
            <a:ext cx="32101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pt-BR" sz="2800" spc="-1" strike="noStrike">
                <a:solidFill>
                  <a:srgbClr val="3366ff"/>
                </a:solidFill>
                <a:latin typeface="Times New Roman"/>
              </a:rPr>
              <a:t>C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KK) =  p (1 - p)</a:t>
            </a:r>
            <a:r>
              <a:rPr b="1" lang="pt-BR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52760" y="4703760"/>
            <a:ext cx="348336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(X = 1) =  3 p (1 - p)</a:t>
            </a:r>
            <a:r>
              <a:rPr b="1" lang="pt-BR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269040" y="5133600"/>
            <a:ext cx="876240" cy="1130760"/>
            <a:chOff x="6269040" y="5133600"/>
            <a:chExt cx="876240" cy="1130760"/>
          </a:xfrm>
        </p:grpSpPr>
        <p:sp>
          <p:nvSpPr>
            <p:cNvPr id="342" name=""/>
            <p:cNvSpPr/>
            <p:nvPr/>
          </p:nvSpPr>
          <p:spPr>
            <a:xfrm flipV="1">
              <a:off x="6916680" y="5133600"/>
              <a:ext cx="22860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6269040" y="5268960"/>
                  <a:ext cx="584280" cy="9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333360"/>
            <a:ext cx="640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O modelo binom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50920" y="2708280"/>
                <a:ext cx="660060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1695960" y="1557360"/>
            <a:ext cx="35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ara um partic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x = 0, 1, ..., 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24000" y="4797360"/>
                <a:ext cx="467964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508720" y="4653000"/>
                <a:ext cx="2735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5148360" y="5516640"/>
                <a:ext cx="39956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5800" y="361800"/>
            <a:ext cx="77724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Exemplo 1 (de nov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2205000"/>
            <a:ext cx="85694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Considere que numa grande loja de departamentos, em </a:t>
            </a:r>
            <a:r>
              <a:rPr b="1" lang="pt-BR" sz="2800" spc="-1" strike="noStrike">
                <a:solidFill>
                  <a:srgbClr val="081d58"/>
                </a:solidFill>
                <a:latin typeface="Book Antiqua"/>
              </a:rPr>
              <a:t>60% 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dos dias algum cliente rouba alguma peç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Construir a distribuição de probabilidades para a variável aleatória       </a:t>
            </a:r>
            <a:r>
              <a:rPr b="1" lang="pt-BR" sz="2800" spc="-1" strike="noStrike">
                <a:solidFill>
                  <a:srgbClr val="3366ff"/>
                </a:solidFill>
                <a:latin typeface="Book Antiqua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t-BR" sz="2800" spc="-1" strike="noStrike">
                <a:solidFill>
                  <a:srgbClr val="3366ff"/>
                </a:solidFill>
                <a:latin typeface="Book Antiqua"/>
              </a:rPr>
              <a:t>= </a:t>
            </a:r>
            <a:r>
              <a:rPr b="1" lang="pt-BR" sz="2800" spc="-1" strike="noStrike">
                <a:solidFill>
                  <a:srgbClr val="3366ff"/>
                </a:solidFill>
                <a:latin typeface="Book Antiqua"/>
              </a:rPr>
              <a:t>número de dias com roubos na loja</a:t>
            </a:r>
            <a:r>
              <a:rPr b="1" lang="pt-BR" sz="2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considerando o período de observação de </a:t>
            </a:r>
            <a:r>
              <a:rPr b="1" lang="pt-BR" sz="2800" spc="-1" strike="noStrike">
                <a:solidFill>
                  <a:srgbClr val="ff3300"/>
                </a:solidFill>
                <a:latin typeface="Book Antiqua"/>
              </a:rPr>
              <a:t>três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dias. (Suponha independênci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340000" y="620640"/>
            <a:ext cx="53290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Exemplo 1 (de nov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2060640"/>
            <a:ext cx="8713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X </a:t>
            </a:r>
            <a:r>
              <a:rPr b="0" lang="pt-BR" sz="2400" spc="-1" strike="noStrike">
                <a:solidFill>
                  <a:srgbClr val="0000cc"/>
                </a:solidFill>
                <a:latin typeface="Book Antiqua"/>
              </a:rPr>
              <a:t>= número de dias com roub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Book Antiqua"/>
              </a:rPr>
              <a:t>  </a:t>
            </a:r>
            <a:r>
              <a:rPr b="0" lang="pt-BR" sz="3600" spc="-1" strike="noStrike">
                <a:solidFill>
                  <a:srgbClr val="006666"/>
                </a:solidFill>
                <a:latin typeface="Book Antiqua"/>
              </a:rPr>
              <a:t>binomial  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Book Antiqua"/>
              </a:rPr>
              <a:t>	</a:t>
            </a:r>
            <a:r>
              <a:rPr b="0" lang="pt-BR" sz="3600" spc="-1" strike="noStrike">
                <a:solidFill>
                  <a:srgbClr val="006666"/>
                </a:solidFill>
                <a:latin typeface="Book Antiqua"/>
              </a:rPr>
              <a:t>	</a:t>
            </a:r>
            <a:r>
              <a:rPr b="0" lang="pt-BR" sz="3600" spc="-1" strike="noStrike">
                <a:solidFill>
                  <a:srgbClr val="006666"/>
                </a:solidFill>
                <a:latin typeface="Book Antiqua"/>
              </a:rPr>
              <a:t>n = 3</a:t>
            </a:r>
            <a:r>
              <a:rPr b="0" lang="pt-BR" sz="3600" spc="-1" strike="noStrike">
                <a:solidFill>
                  <a:srgbClr val="006666"/>
                </a:solidFill>
                <a:latin typeface="Book Antiqua"/>
              </a:rPr>
              <a:t>	</a:t>
            </a:r>
            <a:r>
              <a:rPr b="0" lang="pt-BR" sz="3600" spc="-1" strike="noStrike">
                <a:solidFill>
                  <a:srgbClr val="006666"/>
                </a:solidFill>
                <a:latin typeface="Book Antiqua"/>
              </a:rPr>
              <a:t>	</a:t>
            </a:r>
            <a:r>
              <a:rPr b="0" lang="pt-BR" sz="3600" spc="-1" strike="noStrike">
                <a:solidFill>
                  <a:srgbClr val="006666"/>
                </a:solidFill>
                <a:latin typeface="Book Antiqua"/>
              </a:rPr>
              <a:t>p = 0,6</a:t>
            </a:r>
            <a:r>
              <a:rPr b="0" lang="pt-BR" sz="3600" spc="-1" strike="noStrike">
                <a:solidFill>
                  <a:srgbClr val="006666"/>
                </a:solidFill>
                <a:latin typeface="Book Antiqua"/>
              </a:rPr>
              <a:t>	</a:t>
            </a:r>
            <a:r>
              <a:rPr b="0" lang="pt-BR" sz="3600" spc="-1" strike="noStrike">
                <a:solidFill>
                  <a:srgbClr val="006666"/>
                </a:solidFill>
                <a:latin typeface="Book Antiqua"/>
              </a:rPr>
              <a:t>	</a:t>
            </a:r>
            <a:r>
              <a:rPr b="0" lang="pt-BR" sz="3600" spc="-1" strike="noStrike">
                <a:solidFill>
                  <a:srgbClr val="006666"/>
                </a:solidFill>
                <a:latin typeface="Book Antiqua"/>
              </a:rPr>
              <a:t>1 – p = 0,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1476360" y="4076640"/>
                <a:ext cx="6120000" cy="16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0,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4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95640" y="333360"/>
            <a:ext cx="546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Probabi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8640" y="1778040"/>
            <a:ext cx="57913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niverso do estudo (populaçã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ipóteses, conjeturas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771640" y="2997360"/>
            <a:ext cx="3809880" cy="2209680"/>
            <a:chOff x="2771640" y="2997360"/>
            <a:chExt cx="3809880" cy="2209680"/>
          </a:xfrm>
        </p:grpSpPr>
        <p:sp>
          <p:nvSpPr>
            <p:cNvPr id="62" name=""/>
            <p:cNvSpPr/>
            <p:nvPr/>
          </p:nvSpPr>
          <p:spPr>
            <a:xfrm>
              <a:off x="2771640" y="4292640"/>
              <a:ext cx="3809880" cy="91440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Resultados   ou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dados observad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43240" y="2997360"/>
              <a:ext cx="990720" cy="1143000"/>
            </a:xfrm>
            <a:prstGeom prst="downArrow">
              <a:avLst>
                <a:gd name="adj1" fmla="val 50000"/>
                <a:gd name="adj2" fmla="val 28843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08400" y="5486400"/>
            <a:ext cx="81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Arial"/>
              </a:rPr>
              <a:t>O raciocínio </a:t>
            </a:r>
            <a:r>
              <a:rPr b="1" lang="pt-BR" sz="3600" spc="-1" strike="noStrike">
                <a:solidFill>
                  <a:srgbClr val="0000cc"/>
                </a:solidFill>
                <a:latin typeface="Arial"/>
              </a:rPr>
              <a:t>dedutivo</a:t>
            </a:r>
            <a:r>
              <a:rPr b="0" lang="pt-BR" sz="3600" spc="-1" strike="noStrike">
                <a:solidFill>
                  <a:srgbClr val="0000cc"/>
                </a:solidFill>
                <a:latin typeface="Arial"/>
              </a:rPr>
              <a:t> da probabil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467480" cy="93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Exemplo 1 (de novo)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440560" cy="39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p = 0,6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2340360" y="2060640"/>
            <a:ext cx="4773240" cy="1048680"/>
            <a:chOff x="2340360" y="2060640"/>
            <a:chExt cx="4773240" cy="1048680"/>
          </a:xfrm>
        </p:grpSpPr>
        <p:grpSp>
          <p:nvGrpSpPr>
            <p:cNvPr id="358" name=""/>
            <p:cNvGrpSpPr/>
            <p:nvPr/>
          </p:nvGrpSpPr>
          <p:grpSpPr>
            <a:xfrm>
              <a:off x="2340360" y="2120760"/>
              <a:ext cx="4773240" cy="911880"/>
              <a:chOff x="2340360" y="2120760"/>
              <a:chExt cx="4773240" cy="911880"/>
            </a:xfrm>
          </p:grpSpPr>
          <p:sp>
            <p:nvSpPr>
              <p:cNvPr id="359" name=""/>
              <p:cNvSpPr/>
              <p:nvPr/>
            </p:nvSpPr>
            <p:spPr>
              <a:xfrm>
                <a:off x="2340360" y="2289240"/>
                <a:ext cx="1603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1f4300"/>
                    </a:solidFill>
                    <a:latin typeface="Arial"/>
                  </a:rPr>
                  <a:t>P(X=x) 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39680" y="2289240"/>
                <a:ext cx="24739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1f4300"/>
                    </a:solidFill>
                    <a:latin typeface="Arial"/>
                  </a:rPr>
                  <a:t>0,6</a:t>
                </a:r>
                <a:r>
                  <a:rPr b="1" lang="pt-BR" sz="2800" spc="-1" strike="noStrike" baseline="30000">
                    <a:solidFill>
                      <a:srgbClr val="1f4300"/>
                    </a:solidFill>
                    <a:latin typeface="Arial"/>
                  </a:rPr>
                  <a:t>x</a:t>
                </a:r>
                <a:r>
                  <a:rPr b="1" lang="pt-BR" sz="2800" spc="-1" strike="noStrike">
                    <a:solidFill>
                      <a:srgbClr val="1f4300"/>
                    </a:solidFill>
                    <a:latin typeface="Arial"/>
                  </a:rPr>
                  <a:t>.(1- 0,6)</a:t>
                </a:r>
                <a:r>
                  <a:rPr b="1" lang="pt-BR" sz="2800" spc="-1" strike="noStrike" baseline="30000">
                    <a:solidFill>
                      <a:srgbClr val="1f4300"/>
                    </a:solidFill>
                    <a:latin typeface="Arial"/>
                  </a:rPr>
                  <a:t>(3-x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43000" y="2120760"/>
                <a:ext cx="92196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1f4300"/>
                    </a:solidFill>
                    <a:latin typeface="Arial"/>
                  </a:rPr>
                  <a:t>(</a:t>
                </a:r>
                <a:r>
                  <a:rPr b="0" lang="pt-BR" sz="4000" spc="-1" strike="noStrike">
                    <a:solidFill>
                      <a:srgbClr val="1f4300"/>
                    </a:solidFill>
                    <a:latin typeface="Arial"/>
                  </a:rPr>
                  <a:t>  </a:t>
                </a:r>
                <a:r>
                  <a:rPr b="0" lang="pt-BR" sz="5400" spc="-1" strike="noStrike">
                    <a:solidFill>
                      <a:srgbClr val="1f4300"/>
                    </a:solidFill>
                    <a:latin typeface="Arial"/>
                  </a:rPr>
                  <a:t>)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4098600" y="206064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1f43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98600" y="259380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1f43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381720" y="529920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324360" y="3357720"/>
            <a:ext cx="8329680" cy="2723760"/>
            <a:chOff x="324360" y="3357720"/>
            <a:chExt cx="8329680" cy="2723760"/>
          </a:xfrm>
        </p:grpSpPr>
        <p:grpSp>
          <p:nvGrpSpPr>
            <p:cNvPr id="366" name=""/>
            <p:cNvGrpSpPr/>
            <p:nvPr/>
          </p:nvGrpSpPr>
          <p:grpSpPr>
            <a:xfrm>
              <a:off x="324360" y="3357720"/>
              <a:ext cx="8329680" cy="1064880"/>
              <a:chOff x="324360" y="3357720"/>
              <a:chExt cx="8329680" cy="1064880"/>
            </a:xfrm>
          </p:grpSpPr>
          <p:sp>
            <p:nvSpPr>
              <p:cNvPr id="367" name=""/>
              <p:cNvSpPr/>
              <p:nvPr/>
            </p:nvSpPr>
            <p:spPr>
              <a:xfrm>
                <a:off x="1820520" y="3357720"/>
                <a:ext cx="92196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1f4300"/>
                    </a:solidFill>
                    <a:latin typeface="Arial"/>
                  </a:rPr>
                  <a:t>(</a:t>
                </a:r>
                <a:r>
                  <a:rPr b="0" lang="pt-BR" sz="4000" spc="-1" strike="noStrike">
                    <a:solidFill>
                      <a:srgbClr val="1f4300"/>
                    </a:solidFill>
                    <a:latin typeface="Arial"/>
                  </a:rPr>
                  <a:t>  </a:t>
                </a:r>
                <a:r>
                  <a:rPr b="0" lang="pt-BR" sz="5400" spc="-1" strike="noStrike">
                    <a:solidFill>
                      <a:srgbClr val="1f4300"/>
                    </a:solidFill>
                    <a:latin typeface="Arial"/>
                  </a:rPr>
                  <a:t>)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2083680" y="3373560"/>
                <a:ext cx="379440" cy="1049040"/>
                <a:chOff x="2083680" y="3373560"/>
                <a:chExt cx="379440" cy="10490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083680" y="3373560"/>
                  <a:ext cx="3794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1f4300"/>
                      </a:solidFill>
                      <a:latin typeface="Arial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083680" y="3907080"/>
                  <a:ext cx="3794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1f4300"/>
                      </a:solidFill>
                      <a:latin typeface="Arial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324360" y="3526200"/>
                <a:ext cx="1603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P(X=0) 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614320" y="3526200"/>
                <a:ext cx="24739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0,6</a:t>
                </a:r>
                <a:r>
                  <a:rPr b="0" lang="pt-BR" sz="2800" spc="-1" strike="noStrike" baseline="30000">
                    <a:solidFill>
                      <a:srgbClr val="1f4300"/>
                    </a:solidFill>
                    <a:latin typeface="Arial"/>
                  </a:rPr>
                  <a:t>0</a:t>
                </a: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.(1- 0,6)</a:t>
                </a:r>
                <a:r>
                  <a:rPr b="0" lang="pt-BR" sz="2800" spc="-1" strike="noStrike" baseline="30000">
                    <a:solidFill>
                      <a:srgbClr val="1f4300"/>
                    </a:solidFill>
                    <a:latin typeface="Arial"/>
                  </a:rPr>
                  <a:t>(3-0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236920" y="3526200"/>
                <a:ext cx="34171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= 1.0,6</a:t>
                </a:r>
                <a:r>
                  <a:rPr b="0" lang="pt-BR" sz="2800" spc="-1" strike="noStrike" baseline="30000">
                    <a:solidFill>
                      <a:srgbClr val="1f4300"/>
                    </a:solidFill>
                    <a:latin typeface="Arial"/>
                  </a:rPr>
                  <a:t>0</a:t>
                </a: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.0,4</a:t>
                </a:r>
                <a:r>
                  <a:rPr b="0" lang="pt-BR" sz="2800" spc="-1" strike="noStrike" baseline="30000">
                    <a:solidFill>
                      <a:srgbClr val="1f4300"/>
                    </a:solidFill>
                    <a:latin typeface="Arial"/>
                  </a:rPr>
                  <a:t>3  </a:t>
                </a: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= </a:t>
                </a:r>
                <a:r>
                  <a:rPr b="1" lang="pt-BR" sz="2800" spc="-1" strike="noStrike">
                    <a:solidFill>
                      <a:srgbClr val="ff3300"/>
                    </a:solidFill>
                    <a:latin typeface="Arial"/>
                  </a:rPr>
                  <a:t>0,06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119680" y="4803840"/>
              <a:ext cx="3755160" cy="1277640"/>
              <a:chOff x="2119680" y="4803840"/>
              <a:chExt cx="3755160" cy="127764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2119680" y="4803840"/>
                <a:ext cx="3011760" cy="1277640"/>
                <a:chOff x="2119680" y="4803840"/>
                <a:chExt cx="3011760" cy="12776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937600" y="5184720"/>
                  <a:ext cx="38880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1f4300"/>
                      </a:solidFill>
                      <a:latin typeface="Arial"/>
                    </a:rPr>
                    <a:t>=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119680" y="4940280"/>
                  <a:ext cx="921960" cy="9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5400" spc="-1" strike="noStrike">
                      <a:solidFill>
                        <a:srgbClr val="1f4300"/>
                      </a:solidFill>
                      <a:latin typeface="Arial"/>
                    </a:rPr>
                    <a:t>(</a:t>
                  </a:r>
                  <a:r>
                    <a:rPr b="0" lang="pt-BR" sz="4000" spc="-1" strike="noStrike">
                      <a:solidFill>
                        <a:srgbClr val="1f4300"/>
                      </a:solidFill>
                      <a:latin typeface="Arial"/>
                    </a:rPr>
                    <a:t>  </a:t>
                  </a:r>
                  <a:r>
                    <a:rPr b="0" lang="pt-BR" sz="5400" spc="-1" strike="noStrike">
                      <a:solidFill>
                        <a:srgbClr val="1f4300"/>
                      </a:solidFill>
                      <a:latin typeface="Arial"/>
                    </a:rPr>
                    <a:t>)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375280" y="4880160"/>
                  <a:ext cx="3794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1f4300"/>
                      </a:solidFill>
                      <a:latin typeface="Arial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375280" y="5413320"/>
                  <a:ext cx="3794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1f4300"/>
                      </a:solidFill>
                      <a:latin typeface="Arial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384720" y="5448240"/>
                  <a:ext cx="1746720" cy="0"/>
                </a:xfrm>
                <a:prstGeom prst="line">
                  <a:avLst/>
                </a:prstGeom>
                <a:ln w="12600">
                  <a:solidFill>
                    <a:srgbClr val="1f4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992760" y="4803840"/>
                  <a:ext cx="47880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1f4300"/>
                      </a:solidFill>
                      <a:latin typeface="Arial"/>
                    </a:rPr>
                    <a:t>3!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500280" y="5565960"/>
                  <a:ext cx="142956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1f4300"/>
                      </a:solidFill>
                      <a:latin typeface="Arial"/>
                    </a:rPr>
                    <a:t>0! (3-0)!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5189040" y="5184720"/>
                <a:ext cx="685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=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2471760" y="4388040"/>
              <a:ext cx="58320" cy="52056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700600" y="4146480"/>
              <a:ext cx="0" cy="92736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40320" y="4159440"/>
              <a:ext cx="269640" cy="52056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Exemplo 1 (de novo)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440560" cy="39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p = 0,6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68720" y="3429000"/>
            <a:ext cx="8329680" cy="2741400"/>
            <a:chOff x="468720" y="3429000"/>
            <a:chExt cx="8329680" cy="2741400"/>
          </a:xfrm>
        </p:grpSpPr>
        <p:grpSp>
          <p:nvGrpSpPr>
            <p:cNvPr id="390" name=""/>
            <p:cNvGrpSpPr/>
            <p:nvPr/>
          </p:nvGrpSpPr>
          <p:grpSpPr>
            <a:xfrm>
              <a:off x="468720" y="3429000"/>
              <a:ext cx="8329680" cy="1064880"/>
              <a:chOff x="468720" y="3429000"/>
              <a:chExt cx="8329680" cy="1064880"/>
            </a:xfrm>
          </p:grpSpPr>
          <p:sp>
            <p:nvSpPr>
              <p:cNvPr id="391" name=""/>
              <p:cNvSpPr/>
              <p:nvPr/>
            </p:nvSpPr>
            <p:spPr>
              <a:xfrm>
                <a:off x="1964880" y="3429000"/>
                <a:ext cx="92196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1f4300"/>
                    </a:solidFill>
                    <a:latin typeface="Arial"/>
                  </a:rPr>
                  <a:t>(</a:t>
                </a:r>
                <a:r>
                  <a:rPr b="0" lang="pt-BR" sz="4000" spc="-1" strike="noStrike">
                    <a:solidFill>
                      <a:srgbClr val="1f4300"/>
                    </a:solidFill>
                    <a:latin typeface="Arial"/>
                  </a:rPr>
                  <a:t>  </a:t>
                </a:r>
                <a:r>
                  <a:rPr b="0" lang="pt-BR" sz="5400" spc="-1" strike="noStrike">
                    <a:solidFill>
                      <a:srgbClr val="1f4300"/>
                    </a:solidFill>
                    <a:latin typeface="Arial"/>
                  </a:rPr>
                  <a:t>)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2228040" y="3444840"/>
                <a:ext cx="379440" cy="1049040"/>
                <a:chOff x="2228040" y="3444840"/>
                <a:chExt cx="379440" cy="10490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2228040" y="3444840"/>
                  <a:ext cx="3794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1f4300"/>
                      </a:solidFill>
                      <a:latin typeface="Arial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228040" y="3978360"/>
                  <a:ext cx="3794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1f43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5" name=""/>
              <p:cNvSpPr/>
              <p:nvPr/>
            </p:nvSpPr>
            <p:spPr>
              <a:xfrm>
                <a:off x="468720" y="3597480"/>
                <a:ext cx="1603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P(X=1) 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758680" y="3597480"/>
                <a:ext cx="24739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0,6</a:t>
                </a:r>
                <a:r>
                  <a:rPr b="0" lang="pt-BR" sz="2800" spc="-1" strike="noStrike" baseline="30000">
                    <a:solidFill>
                      <a:srgbClr val="1f4300"/>
                    </a:solidFill>
                    <a:latin typeface="Arial"/>
                  </a:rPr>
                  <a:t>1</a:t>
                </a: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.(1- 0,6)</a:t>
                </a:r>
                <a:r>
                  <a:rPr b="0" lang="pt-BR" sz="2800" spc="-1" strike="noStrike" baseline="30000">
                    <a:solidFill>
                      <a:srgbClr val="1f4300"/>
                    </a:solidFill>
                    <a:latin typeface="Arial"/>
                  </a:rPr>
                  <a:t>(3-1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381280" y="3597480"/>
                <a:ext cx="34171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= 3.0,6</a:t>
                </a:r>
                <a:r>
                  <a:rPr b="0" lang="pt-BR" sz="2800" spc="-1" strike="noStrike" baseline="30000">
                    <a:solidFill>
                      <a:srgbClr val="1f4300"/>
                    </a:solidFill>
                    <a:latin typeface="Arial"/>
                  </a:rPr>
                  <a:t>1</a:t>
                </a: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.0,4</a:t>
                </a:r>
                <a:r>
                  <a:rPr b="0" lang="pt-BR" sz="2800" spc="-1" strike="noStrike" baseline="30000">
                    <a:solidFill>
                      <a:srgbClr val="1f4300"/>
                    </a:solidFill>
                    <a:latin typeface="Arial"/>
                  </a:rPr>
                  <a:t>2  </a:t>
                </a: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= </a:t>
                </a:r>
                <a:r>
                  <a:rPr b="1" lang="pt-BR" sz="2800" spc="-1" strike="noStrike">
                    <a:solidFill>
                      <a:srgbClr val="ff3300"/>
                    </a:solidFill>
                    <a:latin typeface="Arial"/>
                  </a:rPr>
                  <a:t>0,28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2251800" y="4892760"/>
              <a:ext cx="3755160" cy="1277640"/>
              <a:chOff x="2251800" y="4892760"/>
              <a:chExt cx="3755160" cy="127764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2251800" y="4892760"/>
                <a:ext cx="3011760" cy="1277640"/>
                <a:chOff x="2251800" y="4892760"/>
                <a:chExt cx="3011760" cy="127764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069720" y="5273640"/>
                  <a:ext cx="38880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1f4300"/>
                      </a:solidFill>
                      <a:latin typeface="Arial"/>
                    </a:rPr>
                    <a:t>=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251800" y="5029200"/>
                  <a:ext cx="921960" cy="9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5400" spc="-1" strike="noStrike">
                      <a:solidFill>
                        <a:srgbClr val="1f4300"/>
                      </a:solidFill>
                      <a:latin typeface="Arial"/>
                    </a:rPr>
                    <a:t>(</a:t>
                  </a:r>
                  <a:r>
                    <a:rPr b="0" lang="pt-BR" sz="4000" spc="-1" strike="noStrike">
                      <a:solidFill>
                        <a:srgbClr val="1f4300"/>
                      </a:solidFill>
                      <a:latin typeface="Arial"/>
                    </a:rPr>
                    <a:t>  </a:t>
                  </a:r>
                  <a:r>
                    <a:rPr b="0" lang="pt-BR" sz="5400" spc="-1" strike="noStrike">
                      <a:solidFill>
                        <a:srgbClr val="1f4300"/>
                      </a:solidFill>
                      <a:latin typeface="Arial"/>
                    </a:rPr>
                    <a:t>)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07400" y="4969080"/>
                  <a:ext cx="3794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1f4300"/>
                      </a:solidFill>
                      <a:latin typeface="Arial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07400" y="5502240"/>
                  <a:ext cx="3794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1f43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16840" y="5537160"/>
                  <a:ext cx="1746720" cy="0"/>
                </a:xfrm>
                <a:prstGeom prst="line">
                  <a:avLst/>
                </a:prstGeom>
                <a:ln w="12600">
                  <a:solidFill>
                    <a:srgbClr val="1f4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24520" y="4892760"/>
                  <a:ext cx="47880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1f4300"/>
                      </a:solidFill>
                      <a:latin typeface="Arial"/>
                    </a:rPr>
                    <a:t>3!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632400" y="5654880"/>
                  <a:ext cx="142956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1f4300"/>
                      </a:solidFill>
                      <a:latin typeface="Arial"/>
                    </a:rPr>
                    <a:t>1! (3-1)!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5321160" y="5273640"/>
                <a:ext cx="685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= 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2603520" y="4476960"/>
              <a:ext cx="58680" cy="52056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5832360" y="4235400"/>
              <a:ext cx="0" cy="92736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772000" y="2276640"/>
            <a:ext cx="4773240" cy="1048680"/>
            <a:chOff x="2772000" y="2276640"/>
            <a:chExt cx="4773240" cy="1048680"/>
          </a:xfrm>
        </p:grpSpPr>
        <p:grpSp>
          <p:nvGrpSpPr>
            <p:cNvPr id="411" name=""/>
            <p:cNvGrpSpPr/>
            <p:nvPr/>
          </p:nvGrpSpPr>
          <p:grpSpPr>
            <a:xfrm>
              <a:off x="2772000" y="2336760"/>
              <a:ext cx="4773240" cy="911880"/>
              <a:chOff x="2772000" y="2336760"/>
              <a:chExt cx="4773240" cy="911880"/>
            </a:xfrm>
          </p:grpSpPr>
          <p:sp>
            <p:nvSpPr>
              <p:cNvPr id="412" name=""/>
              <p:cNvSpPr/>
              <p:nvPr/>
            </p:nvSpPr>
            <p:spPr>
              <a:xfrm>
                <a:off x="2772000" y="2505240"/>
                <a:ext cx="1603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1f4300"/>
                    </a:solidFill>
                    <a:latin typeface="Arial"/>
                  </a:rPr>
                  <a:t>P(X=x) 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071320" y="2505240"/>
                <a:ext cx="24739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1f4300"/>
                    </a:solidFill>
                    <a:latin typeface="Arial"/>
                  </a:rPr>
                  <a:t>0,6</a:t>
                </a:r>
                <a:r>
                  <a:rPr b="1" lang="pt-BR" sz="2800" spc="-1" strike="noStrike" baseline="30000">
                    <a:solidFill>
                      <a:srgbClr val="1f4300"/>
                    </a:solidFill>
                    <a:latin typeface="Arial"/>
                  </a:rPr>
                  <a:t>x</a:t>
                </a:r>
                <a:r>
                  <a:rPr b="1" lang="pt-BR" sz="2800" spc="-1" strike="noStrike">
                    <a:solidFill>
                      <a:srgbClr val="1f4300"/>
                    </a:solidFill>
                    <a:latin typeface="Arial"/>
                  </a:rPr>
                  <a:t>.(1- 0,6)</a:t>
                </a:r>
                <a:r>
                  <a:rPr b="1" lang="pt-BR" sz="2800" spc="-1" strike="noStrike" baseline="30000">
                    <a:solidFill>
                      <a:srgbClr val="1f4300"/>
                    </a:solidFill>
                    <a:latin typeface="Arial"/>
                  </a:rPr>
                  <a:t>(3-x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274640" y="2336760"/>
                <a:ext cx="92196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1f4300"/>
                    </a:solidFill>
                    <a:latin typeface="Arial"/>
                  </a:rPr>
                  <a:t>(</a:t>
                </a:r>
                <a:r>
                  <a:rPr b="0" lang="pt-BR" sz="4000" spc="-1" strike="noStrike">
                    <a:solidFill>
                      <a:srgbClr val="1f4300"/>
                    </a:solidFill>
                    <a:latin typeface="Arial"/>
                  </a:rPr>
                  <a:t>  </a:t>
                </a:r>
                <a:r>
                  <a:rPr b="0" lang="pt-BR" sz="5400" spc="-1" strike="noStrike">
                    <a:solidFill>
                      <a:srgbClr val="1f4300"/>
                    </a:solidFill>
                    <a:latin typeface="Arial"/>
                  </a:rPr>
                  <a:t>)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4530240" y="227664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1f43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30240" y="280980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1f43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Exemplo 1 (de novo)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440560" cy="39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p = 0,6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514800" y="3637080"/>
            <a:ext cx="8329680" cy="1064880"/>
            <a:chOff x="514800" y="3637080"/>
            <a:chExt cx="8329680" cy="1064880"/>
          </a:xfrm>
        </p:grpSpPr>
        <p:sp>
          <p:nvSpPr>
            <p:cNvPr id="420" name=""/>
            <p:cNvSpPr/>
            <p:nvPr/>
          </p:nvSpPr>
          <p:spPr>
            <a:xfrm>
              <a:off x="2010960" y="3637080"/>
              <a:ext cx="9219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1f4300"/>
                  </a:solidFill>
                  <a:latin typeface="Arial"/>
                </a:rPr>
                <a:t>(</a:t>
              </a:r>
              <a:r>
                <a:rPr b="0" lang="pt-BR" sz="4000" spc="-1" strike="noStrike">
                  <a:solidFill>
                    <a:srgbClr val="1f4300"/>
                  </a:solidFill>
                  <a:latin typeface="Arial"/>
                </a:rPr>
                <a:t>  </a:t>
              </a:r>
              <a:r>
                <a:rPr b="0" lang="pt-BR" sz="5400" spc="-1" strike="noStrike">
                  <a:solidFill>
                    <a:srgbClr val="1f4300"/>
                  </a:solidFill>
                  <a:latin typeface="Arial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2274120" y="3652920"/>
              <a:ext cx="379440" cy="1049040"/>
              <a:chOff x="2274120" y="3652920"/>
              <a:chExt cx="379440" cy="1049040"/>
            </a:xfrm>
          </p:grpSpPr>
          <p:sp>
            <p:nvSpPr>
              <p:cNvPr id="422" name=""/>
              <p:cNvSpPr/>
              <p:nvPr/>
            </p:nvSpPr>
            <p:spPr>
              <a:xfrm>
                <a:off x="2274120" y="3652920"/>
                <a:ext cx="379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74120" y="4186440"/>
                <a:ext cx="379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514800" y="3805560"/>
              <a:ext cx="1603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1f4300"/>
                  </a:solidFill>
                  <a:latin typeface="Arial"/>
                </a:rPr>
                <a:t>P(X=2)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04760" y="3805560"/>
              <a:ext cx="247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1f4300"/>
                  </a:solidFill>
                  <a:latin typeface="Arial"/>
                </a:rPr>
                <a:t>0,6</a:t>
              </a:r>
              <a:r>
                <a:rPr b="0" lang="pt-BR" sz="2800" spc="-1" strike="noStrike" baseline="30000">
                  <a:solidFill>
                    <a:srgbClr val="1f4300"/>
                  </a:solidFill>
                  <a:latin typeface="Arial"/>
                </a:rPr>
                <a:t>2</a:t>
              </a:r>
              <a:r>
                <a:rPr b="0" lang="pt-BR" sz="2800" spc="-1" strike="noStrike">
                  <a:solidFill>
                    <a:srgbClr val="1f4300"/>
                  </a:solidFill>
                  <a:latin typeface="Arial"/>
                </a:rPr>
                <a:t>.(1- 0,6)</a:t>
              </a:r>
              <a:r>
                <a:rPr b="0" lang="pt-BR" sz="2800" spc="-1" strike="noStrike" baseline="30000">
                  <a:solidFill>
                    <a:srgbClr val="1f4300"/>
                  </a:solidFill>
                  <a:latin typeface="Arial"/>
                </a:rPr>
                <a:t>(3-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27360" y="3805560"/>
              <a:ext cx="3417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1f4300"/>
                  </a:solidFill>
                  <a:latin typeface="Arial"/>
                </a:rPr>
                <a:t>= 3.0,6</a:t>
              </a:r>
              <a:r>
                <a:rPr b="0" lang="pt-BR" sz="2800" spc="-1" strike="noStrike" baseline="30000">
                  <a:solidFill>
                    <a:srgbClr val="1f4300"/>
                  </a:solidFill>
                  <a:latin typeface="Arial"/>
                </a:rPr>
                <a:t>2</a:t>
              </a:r>
              <a:r>
                <a:rPr b="0" lang="pt-BR" sz="2800" spc="-1" strike="noStrike">
                  <a:solidFill>
                    <a:srgbClr val="1f4300"/>
                  </a:solidFill>
                  <a:latin typeface="Arial"/>
                </a:rPr>
                <a:t>.0,4</a:t>
              </a:r>
              <a:r>
                <a:rPr b="0" lang="pt-BR" sz="2800" spc="-1" strike="noStrike" baseline="30000">
                  <a:solidFill>
                    <a:srgbClr val="1f4300"/>
                  </a:solidFill>
                  <a:latin typeface="Arial"/>
                </a:rPr>
                <a:t>1  </a:t>
              </a:r>
              <a:r>
                <a:rPr b="0" lang="pt-BR" sz="2800" spc="-1" strike="noStrike">
                  <a:solidFill>
                    <a:srgbClr val="1f4300"/>
                  </a:solidFill>
                  <a:latin typeface="Arial"/>
                </a:rPr>
                <a:t>= </a:t>
              </a:r>
              <a:r>
                <a:rPr b="1" lang="pt-BR" sz="2800" spc="-1" strike="noStrike">
                  <a:solidFill>
                    <a:srgbClr val="ff3300"/>
                  </a:solidFill>
                  <a:latin typeface="Arial"/>
                </a:rPr>
                <a:t>0,43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297880" y="5100480"/>
            <a:ext cx="3755160" cy="1277640"/>
            <a:chOff x="2297880" y="5100480"/>
            <a:chExt cx="3755160" cy="1277640"/>
          </a:xfrm>
        </p:grpSpPr>
        <p:grpSp>
          <p:nvGrpSpPr>
            <p:cNvPr id="428" name=""/>
            <p:cNvGrpSpPr/>
            <p:nvPr/>
          </p:nvGrpSpPr>
          <p:grpSpPr>
            <a:xfrm>
              <a:off x="2297880" y="5100480"/>
              <a:ext cx="3011760" cy="1277640"/>
              <a:chOff x="2297880" y="5100480"/>
              <a:chExt cx="3011760" cy="1277640"/>
            </a:xfrm>
          </p:grpSpPr>
          <p:sp>
            <p:nvSpPr>
              <p:cNvPr id="429" name=""/>
              <p:cNvSpPr/>
              <p:nvPr/>
            </p:nvSpPr>
            <p:spPr>
              <a:xfrm>
                <a:off x="3115800" y="5481360"/>
                <a:ext cx="388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297880" y="5236920"/>
                <a:ext cx="92196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1f4300"/>
                    </a:solidFill>
                    <a:latin typeface="Arial"/>
                  </a:rPr>
                  <a:t>(</a:t>
                </a:r>
                <a:r>
                  <a:rPr b="0" lang="pt-BR" sz="4000" spc="-1" strike="noStrike">
                    <a:solidFill>
                      <a:srgbClr val="1f4300"/>
                    </a:solidFill>
                    <a:latin typeface="Arial"/>
                  </a:rPr>
                  <a:t>  </a:t>
                </a:r>
                <a:r>
                  <a:rPr b="0" lang="pt-BR" sz="5400" spc="-1" strike="noStrike">
                    <a:solidFill>
                      <a:srgbClr val="1f4300"/>
                    </a:solidFill>
                    <a:latin typeface="Arial"/>
                  </a:rPr>
                  <a:t>)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553480" y="5176800"/>
                <a:ext cx="379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53480" y="5709960"/>
                <a:ext cx="379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562920" y="5744880"/>
                <a:ext cx="1746720" cy="0"/>
              </a:xfrm>
              <a:prstGeom prst="line">
                <a:avLst/>
              </a:prstGeom>
              <a:ln w="12600">
                <a:solidFill>
                  <a:srgbClr val="1f4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170600" y="5100480"/>
                <a:ext cx="478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3!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678480" y="5862600"/>
                <a:ext cx="142956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2! (3-2)!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367240" y="5481360"/>
              <a:ext cx="68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1f4300"/>
                  </a:solidFill>
                  <a:latin typeface="Arial"/>
                </a:rPr>
                <a:t>=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649600" y="4684680"/>
            <a:ext cx="58680" cy="520560"/>
          </a:xfrm>
          <a:prstGeom prst="line">
            <a:avLst/>
          </a:prstGeom>
          <a:ln w="12600">
            <a:solidFill>
              <a:srgbClr val="3c00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878440" y="4443120"/>
            <a:ext cx="0" cy="927000"/>
          </a:xfrm>
          <a:prstGeom prst="line">
            <a:avLst/>
          </a:prstGeom>
          <a:ln w="12600">
            <a:solidFill>
              <a:srgbClr val="3c00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484720" y="2205000"/>
            <a:ext cx="4773240" cy="1048680"/>
            <a:chOff x="2484720" y="2205000"/>
            <a:chExt cx="4773240" cy="1048680"/>
          </a:xfrm>
        </p:grpSpPr>
        <p:grpSp>
          <p:nvGrpSpPr>
            <p:cNvPr id="440" name=""/>
            <p:cNvGrpSpPr/>
            <p:nvPr/>
          </p:nvGrpSpPr>
          <p:grpSpPr>
            <a:xfrm>
              <a:off x="2484720" y="2265120"/>
              <a:ext cx="4773240" cy="911880"/>
              <a:chOff x="2484720" y="2265120"/>
              <a:chExt cx="4773240" cy="911880"/>
            </a:xfrm>
          </p:grpSpPr>
          <p:sp>
            <p:nvSpPr>
              <p:cNvPr id="441" name=""/>
              <p:cNvSpPr/>
              <p:nvPr/>
            </p:nvSpPr>
            <p:spPr>
              <a:xfrm>
                <a:off x="2484720" y="2433600"/>
                <a:ext cx="1603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1f4300"/>
                    </a:solidFill>
                    <a:latin typeface="Arial"/>
                  </a:rPr>
                  <a:t>P(X=x) 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84040" y="2433600"/>
                <a:ext cx="24739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1f4300"/>
                    </a:solidFill>
                    <a:latin typeface="Arial"/>
                  </a:rPr>
                  <a:t>0,6</a:t>
                </a:r>
                <a:r>
                  <a:rPr b="1" lang="pt-BR" sz="2800" spc="-1" strike="noStrike" baseline="30000">
                    <a:solidFill>
                      <a:srgbClr val="1f4300"/>
                    </a:solidFill>
                    <a:latin typeface="Arial"/>
                  </a:rPr>
                  <a:t>x</a:t>
                </a:r>
                <a:r>
                  <a:rPr b="1" lang="pt-BR" sz="2800" spc="-1" strike="noStrike">
                    <a:solidFill>
                      <a:srgbClr val="1f4300"/>
                    </a:solidFill>
                    <a:latin typeface="Arial"/>
                  </a:rPr>
                  <a:t>.(1- 0,6)</a:t>
                </a:r>
                <a:r>
                  <a:rPr b="1" lang="pt-BR" sz="2800" spc="-1" strike="noStrike" baseline="30000">
                    <a:solidFill>
                      <a:srgbClr val="1f4300"/>
                    </a:solidFill>
                    <a:latin typeface="Arial"/>
                  </a:rPr>
                  <a:t>(3-x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987360" y="2265120"/>
                <a:ext cx="92196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1f4300"/>
                    </a:solidFill>
                    <a:latin typeface="Arial"/>
                  </a:rPr>
                  <a:t>(</a:t>
                </a:r>
                <a:r>
                  <a:rPr b="0" lang="pt-BR" sz="4000" spc="-1" strike="noStrike">
                    <a:solidFill>
                      <a:srgbClr val="1f4300"/>
                    </a:solidFill>
                    <a:latin typeface="Arial"/>
                  </a:rPr>
                  <a:t>  </a:t>
                </a:r>
                <a:r>
                  <a:rPr b="0" lang="pt-BR" sz="5400" spc="-1" strike="noStrike">
                    <a:solidFill>
                      <a:srgbClr val="1f4300"/>
                    </a:solidFill>
                    <a:latin typeface="Arial"/>
                  </a:rPr>
                  <a:t>)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4242960" y="220500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1f43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242960" y="273816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1f43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Exemplo 1 (de novo)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440920" cy="398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p = 0,6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24360" y="3645000"/>
            <a:ext cx="8329680" cy="1064880"/>
            <a:chOff x="324360" y="3645000"/>
            <a:chExt cx="8329680" cy="1064880"/>
          </a:xfrm>
        </p:grpSpPr>
        <p:sp>
          <p:nvSpPr>
            <p:cNvPr id="449" name=""/>
            <p:cNvSpPr/>
            <p:nvPr/>
          </p:nvSpPr>
          <p:spPr>
            <a:xfrm>
              <a:off x="1820520" y="3645000"/>
              <a:ext cx="9219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1f4300"/>
                  </a:solidFill>
                  <a:latin typeface="Arial"/>
                </a:rPr>
                <a:t>(</a:t>
              </a:r>
              <a:r>
                <a:rPr b="0" lang="pt-BR" sz="4000" spc="-1" strike="noStrike">
                  <a:solidFill>
                    <a:srgbClr val="1f4300"/>
                  </a:solidFill>
                  <a:latin typeface="Arial"/>
                </a:rPr>
                <a:t>  </a:t>
              </a:r>
              <a:r>
                <a:rPr b="0" lang="pt-BR" sz="5400" spc="-1" strike="noStrike">
                  <a:solidFill>
                    <a:srgbClr val="1f4300"/>
                  </a:solidFill>
                  <a:latin typeface="Arial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2083680" y="3660840"/>
              <a:ext cx="379440" cy="1049040"/>
              <a:chOff x="2083680" y="3660840"/>
              <a:chExt cx="379440" cy="1049040"/>
            </a:xfrm>
          </p:grpSpPr>
          <p:sp>
            <p:nvSpPr>
              <p:cNvPr id="451" name=""/>
              <p:cNvSpPr/>
              <p:nvPr/>
            </p:nvSpPr>
            <p:spPr>
              <a:xfrm>
                <a:off x="2083680" y="3660840"/>
                <a:ext cx="379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083680" y="4194360"/>
                <a:ext cx="379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324360" y="3813480"/>
              <a:ext cx="1603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1f4300"/>
                  </a:solidFill>
                  <a:latin typeface="Arial"/>
                </a:rPr>
                <a:t>P(X=3)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614320" y="3813480"/>
              <a:ext cx="247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1f4300"/>
                  </a:solidFill>
                  <a:latin typeface="Arial"/>
                </a:rPr>
                <a:t>0,6</a:t>
              </a:r>
              <a:r>
                <a:rPr b="0" lang="pt-BR" sz="2800" spc="-1" strike="noStrike" baseline="30000">
                  <a:solidFill>
                    <a:srgbClr val="1f4300"/>
                  </a:solidFill>
                  <a:latin typeface="Arial"/>
                </a:rPr>
                <a:t>3</a:t>
              </a:r>
              <a:r>
                <a:rPr b="0" lang="pt-BR" sz="2800" spc="-1" strike="noStrike">
                  <a:solidFill>
                    <a:srgbClr val="1f4300"/>
                  </a:solidFill>
                  <a:latin typeface="Arial"/>
                </a:rPr>
                <a:t>.(1- 0,6)</a:t>
              </a:r>
              <a:r>
                <a:rPr b="0" lang="pt-BR" sz="2800" spc="-1" strike="noStrike" baseline="30000">
                  <a:solidFill>
                    <a:srgbClr val="1f4300"/>
                  </a:solidFill>
                  <a:latin typeface="Arial"/>
                </a:rPr>
                <a:t>(3-3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36920" y="3813480"/>
              <a:ext cx="3417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1f4300"/>
                  </a:solidFill>
                  <a:latin typeface="Arial"/>
                </a:rPr>
                <a:t>= 1.0,6</a:t>
              </a:r>
              <a:r>
                <a:rPr b="0" lang="pt-BR" sz="2800" spc="-1" strike="noStrike" baseline="30000">
                  <a:solidFill>
                    <a:srgbClr val="1f4300"/>
                  </a:solidFill>
                  <a:latin typeface="Arial"/>
                </a:rPr>
                <a:t>3</a:t>
              </a:r>
              <a:r>
                <a:rPr b="0" lang="pt-BR" sz="2800" spc="-1" strike="noStrike">
                  <a:solidFill>
                    <a:srgbClr val="1f4300"/>
                  </a:solidFill>
                  <a:latin typeface="Arial"/>
                </a:rPr>
                <a:t>.0,4</a:t>
              </a:r>
              <a:r>
                <a:rPr b="0" lang="pt-BR" sz="2800" spc="-1" strike="noStrike" baseline="30000">
                  <a:solidFill>
                    <a:srgbClr val="1f4300"/>
                  </a:solidFill>
                  <a:latin typeface="Arial"/>
                </a:rPr>
                <a:t>0  </a:t>
              </a:r>
              <a:r>
                <a:rPr b="0" lang="pt-BR" sz="2800" spc="-1" strike="noStrike">
                  <a:solidFill>
                    <a:srgbClr val="1f4300"/>
                  </a:solidFill>
                  <a:latin typeface="Arial"/>
                </a:rPr>
                <a:t>= </a:t>
              </a:r>
              <a:r>
                <a:rPr b="1" lang="pt-BR" sz="2800" spc="-1" strike="noStrike">
                  <a:solidFill>
                    <a:srgbClr val="ff3300"/>
                  </a:solidFill>
                  <a:latin typeface="Arial"/>
                </a:rPr>
                <a:t>0,2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107440" y="5108400"/>
            <a:ext cx="3755160" cy="1277640"/>
            <a:chOff x="2107440" y="5108400"/>
            <a:chExt cx="3755160" cy="1277640"/>
          </a:xfrm>
        </p:grpSpPr>
        <p:grpSp>
          <p:nvGrpSpPr>
            <p:cNvPr id="457" name=""/>
            <p:cNvGrpSpPr/>
            <p:nvPr/>
          </p:nvGrpSpPr>
          <p:grpSpPr>
            <a:xfrm>
              <a:off x="2107440" y="5108400"/>
              <a:ext cx="3011760" cy="1277640"/>
              <a:chOff x="2107440" y="5108400"/>
              <a:chExt cx="3011760" cy="1277640"/>
            </a:xfrm>
          </p:grpSpPr>
          <p:sp>
            <p:nvSpPr>
              <p:cNvPr id="458" name=""/>
              <p:cNvSpPr/>
              <p:nvPr/>
            </p:nvSpPr>
            <p:spPr>
              <a:xfrm>
                <a:off x="2925360" y="5489280"/>
                <a:ext cx="388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107440" y="5244840"/>
                <a:ext cx="92196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1f4300"/>
                    </a:solidFill>
                    <a:latin typeface="Arial"/>
                  </a:rPr>
                  <a:t>(</a:t>
                </a:r>
                <a:r>
                  <a:rPr b="0" lang="pt-BR" sz="4000" spc="-1" strike="noStrike">
                    <a:solidFill>
                      <a:srgbClr val="1f4300"/>
                    </a:solidFill>
                    <a:latin typeface="Arial"/>
                  </a:rPr>
                  <a:t>  </a:t>
                </a:r>
                <a:r>
                  <a:rPr b="0" lang="pt-BR" sz="5400" spc="-1" strike="noStrike">
                    <a:solidFill>
                      <a:srgbClr val="1f4300"/>
                    </a:solidFill>
                    <a:latin typeface="Arial"/>
                  </a:rPr>
                  <a:t>)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363040" y="5184720"/>
                <a:ext cx="379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363040" y="5717880"/>
                <a:ext cx="379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372480" y="5752800"/>
                <a:ext cx="1746720" cy="0"/>
              </a:xfrm>
              <a:prstGeom prst="line">
                <a:avLst/>
              </a:prstGeom>
              <a:ln w="12600">
                <a:solidFill>
                  <a:srgbClr val="1f4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980160" y="5108400"/>
                <a:ext cx="478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3!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488040" y="5870520"/>
                <a:ext cx="142956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1f4300"/>
                    </a:solidFill>
                    <a:latin typeface="Arial"/>
                  </a:rPr>
                  <a:t>3! (3-3)!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5176800" y="5489280"/>
              <a:ext cx="68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1f4300"/>
                  </a:solidFill>
                  <a:latin typeface="Arial"/>
                </a:rPr>
                <a:t>=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459160" y="4692600"/>
            <a:ext cx="58680" cy="520920"/>
          </a:xfrm>
          <a:prstGeom prst="line">
            <a:avLst/>
          </a:prstGeom>
          <a:ln w="12600">
            <a:solidFill>
              <a:srgbClr val="3c00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688000" y="4451040"/>
            <a:ext cx="0" cy="927000"/>
          </a:xfrm>
          <a:prstGeom prst="line">
            <a:avLst/>
          </a:prstGeom>
          <a:ln w="12600">
            <a:solidFill>
              <a:srgbClr val="3c00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451560" y="552780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808680" y="4387680"/>
            <a:ext cx="152640" cy="749520"/>
          </a:xfrm>
          <a:prstGeom prst="line">
            <a:avLst/>
          </a:prstGeom>
          <a:ln w="12600">
            <a:solidFill>
              <a:srgbClr val="3c00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294280" y="2212920"/>
            <a:ext cx="4773240" cy="1048680"/>
            <a:chOff x="2294280" y="2212920"/>
            <a:chExt cx="4773240" cy="1048680"/>
          </a:xfrm>
        </p:grpSpPr>
        <p:grpSp>
          <p:nvGrpSpPr>
            <p:cNvPr id="471" name=""/>
            <p:cNvGrpSpPr/>
            <p:nvPr/>
          </p:nvGrpSpPr>
          <p:grpSpPr>
            <a:xfrm>
              <a:off x="2294280" y="2273040"/>
              <a:ext cx="4773240" cy="911880"/>
              <a:chOff x="2294280" y="2273040"/>
              <a:chExt cx="4773240" cy="911880"/>
            </a:xfrm>
          </p:grpSpPr>
          <p:sp>
            <p:nvSpPr>
              <p:cNvPr id="472" name=""/>
              <p:cNvSpPr/>
              <p:nvPr/>
            </p:nvSpPr>
            <p:spPr>
              <a:xfrm>
                <a:off x="2294280" y="2441520"/>
                <a:ext cx="1603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1f4300"/>
                    </a:solidFill>
                    <a:latin typeface="Arial"/>
                  </a:rPr>
                  <a:t>P(X=x) 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3600" y="2441520"/>
                <a:ext cx="24739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1f4300"/>
                    </a:solidFill>
                    <a:latin typeface="Arial"/>
                  </a:rPr>
                  <a:t>0,6</a:t>
                </a:r>
                <a:r>
                  <a:rPr b="1" lang="pt-BR" sz="2800" spc="-1" strike="noStrike" baseline="30000">
                    <a:solidFill>
                      <a:srgbClr val="1f4300"/>
                    </a:solidFill>
                    <a:latin typeface="Arial"/>
                  </a:rPr>
                  <a:t>x</a:t>
                </a:r>
                <a:r>
                  <a:rPr b="1" lang="pt-BR" sz="2800" spc="-1" strike="noStrike">
                    <a:solidFill>
                      <a:srgbClr val="1f4300"/>
                    </a:solidFill>
                    <a:latin typeface="Arial"/>
                  </a:rPr>
                  <a:t>.(1- 0,6)</a:t>
                </a:r>
                <a:r>
                  <a:rPr b="1" lang="pt-BR" sz="2800" spc="-1" strike="noStrike" baseline="30000">
                    <a:solidFill>
                      <a:srgbClr val="1f4300"/>
                    </a:solidFill>
                    <a:latin typeface="Arial"/>
                  </a:rPr>
                  <a:t>(3-x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796920" y="2273040"/>
                <a:ext cx="92196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1f4300"/>
                    </a:solidFill>
                    <a:latin typeface="Arial"/>
                  </a:rPr>
                  <a:t>(</a:t>
                </a:r>
                <a:r>
                  <a:rPr b="0" lang="pt-BR" sz="4000" spc="-1" strike="noStrike">
                    <a:solidFill>
                      <a:srgbClr val="1f4300"/>
                    </a:solidFill>
                    <a:latin typeface="Arial"/>
                  </a:rPr>
                  <a:t>  </a:t>
                </a:r>
                <a:r>
                  <a:rPr b="0" lang="pt-BR" sz="5400" spc="-1" strike="noStrike">
                    <a:solidFill>
                      <a:srgbClr val="1f4300"/>
                    </a:solidFill>
                    <a:latin typeface="Arial"/>
                  </a:rPr>
                  <a:t>)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4052520" y="221292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1f43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52520" y="274608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1f43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547640" y="549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Distribuição da variável 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91480" y="4952880"/>
            <a:ext cx="943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300"/>
                </a:solidFill>
                <a:latin typeface="Arial"/>
              </a:rPr>
              <a:t>0,0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972480" y="3189240"/>
            <a:ext cx="895320" cy="2578320"/>
          </a:xfrm>
          <a:prstGeom prst="rect">
            <a:avLst/>
          </a:prstGeom>
          <a:solidFill>
            <a:srgbClr val="006666"/>
          </a:solidFill>
          <a:ln w="12600">
            <a:solidFill>
              <a:srgbClr val="1f4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58080" y="4027320"/>
            <a:ext cx="907920" cy="1740240"/>
          </a:xfrm>
          <a:prstGeom prst="rect">
            <a:avLst/>
          </a:prstGeom>
          <a:solidFill>
            <a:srgbClr val="006666"/>
          </a:solidFill>
          <a:ln w="12600">
            <a:solidFill>
              <a:srgbClr val="1f4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89080" y="5940360"/>
            <a:ext cx="370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f4300"/>
                </a:solidFill>
                <a:latin typeface="Arial"/>
              </a:rPr>
              <a:t>      </a:t>
            </a:r>
            <a:r>
              <a:rPr b="1" lang="pt-BR" sz="2800" spc="-1" strike="noStrike">
                <a:solidFill>
                  <a:srgbClr val="1f4300"/>
                </a:solidFill>
                <a:latin typeface="Arial"/>
              </a:rPr>
              <a:t>0    </a:t>
            </a:r>
            <a:r>
              <a:rPr b="1" lang="pt-BR" sz="1200" spc="-1" strike="noStrike">
                <a:solidFill>
                  <a:srgbClr val="1f4300"/>
                </a:solidFill>
                <a:latin typeface="Arial"/>
              </a:rPr>
              <a:t>      </a:t>
            </a:r>
            <a:r>
              <a:rPr b="1" lang="pt-BR" sz="2800" spc="-1" strike="noStrike">
                <a:solidFill>
                  <a:srgbClr val="1f4300"/>
                </a:solidFill>
                <a:latin typeface="Arial"/>
              </a:rPr>
              <a:t> 1       2 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30720" y="5398920"/>
            <a:ext cx="920880" cy="368640"/>
          </a:xfrm>
          <a:prstGeom prst="rect">
            <a:avLst/>
          </a:prstGeom>
          <a:solidFill>
            <a:srgbClr val="006666"/>
          </a:solidFill>
          <a:ln w="12600">
            <a:solidFill>
              <a:srgbClr val="1f4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4813200" y="5659200"/>
            <a:ext cx="4330800" cy="215640"/>
            <a:chOff x="4813200" y="5659200"/>
            <a:chExt cx="4330800" cy="215640"/>
          </a:xfrm>
        </p:grpSpPr>
        <p:sp>
          <p:nvSpPr>
            <p:cNvPr id="484" name=""/>
            <p:cNvSpPr/>
            <p:nvPr/>
          </p:nvSpPr>
          <p:spPr>
            <a:xfrm flipV="1">
              <a:off x="5130720" y="5659200"/>
              <a:ext cx="0" cy="21564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5600520" y="5659200"/>
              <a:ext cx="0" cy="21564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13200" y="5773680"/>
              <a:ext cx="43308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057720" y="5659200"/>
              <a:ext cx="0" cy="21564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6502320" y="5659200"/>
              <a:ext cx="0" cy="21564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6972120" y="5659200"/>
              <a:ext cx="0" cy="21564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416720" y="5659200"/>
              <a:ext cx="0" cy="21564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873920" y="5659200"/>
              <a:ext cx="0" cy="21564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8331120" y="5659200"/>
              <a:ext cx="0" cy="21564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8800920" y="5659200"/>
              <a:ext cx="0" cy="21564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7873920" y="4484520"/>
            <a:ext cx="920880" cy="1283040"/>
          </a:xfrm>
          <a:prstGeom prst="rect">
            <a:avLst/>
          </a:prstGeom>
          <a:solidFill>
            <a:srgbClr val="006666"/>
          </a:solidFill>
          <a:ln w="12600">
            <a:solidFill>
              <a:srgbClr val="1f4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834680" y="4038480"/>
            <a:ext cx="943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300"/>
                </a:solidFill>
                <a:latin typeface="Arial"/>
              </a:rPr>
              <a:t>0,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920280" y="2743200"/>
            <a:ext cx="943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300"/>
                </a:solidFill>
                <a:latin typeface="Arial"/>
              </a:rPr>
              <a:t>0,4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29560" y="3581280"/>
            <a:ext cx="943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300"/>
                </a:solidFill>
                <a:latin typeface="Arial"/>
              </a:rPr>
              <a:t>0,2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2838600"/>
            <a:ext cx="552456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p(x)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0,0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0,2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0,43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0,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Total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4000" y="5013360"/>
            <a:ext cx="3898800" cy="0"/>
          </a:xfrm>
          <a:prstGeom prst="line">
            <a:avLst/>
          </a:prstGeom>
          <a:ln w="12600">
            <a:solidFill>
              <a:srgbClr val="1f4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6920" y="2743200"/>
            <a:ext cx="3898800" cy="0"/>
          </a:xfrm>
          <a:prstGeom prst="line">
            <a:avLst/>
          </a:prstGeom>
          <a:ln w="12600">
            <a:solidFill>
              <a:srgbClr val="1f4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24000" y="3284640"/>
            <a:ext cx="3898800" cy="0"/>
          </a:xfrm>
          <a:prstGeom prst="line">
            <a:avLst/>
          </a:prstGeom>
          <a:ln w="12600">
            <a:solidFill>
              <a:srgbClr val="1f4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4000" y="5589720"/>
            <a:ext cx="3898800" cy="0"/>
          </a:xfrm>
          <a:prstGeom prst="line">
            <a:avLst/>
          </a:prstGeom>
          <a:ln w="12600">
            <a:solidFill>
              <a:srgbClr val="1f4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250920" y="5734080"/>
                <a:ext cx="32400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0,6</m:t>
                    </m:r>
                    <m:r>
                      <m:t xml:space="preserve">=</m:t>
                    </m:r>
                    <m:r>
                      <m:t xml:space="preserve">1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24000" y="6237360"/>
                <a:ext cx="4968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0,6</m:t>
                    </m:r>
                    <m:r>
                      <m:t xml:space="preserve">×</m:t>
                    </m:r>
                    <m:r>
                      <m:t xml:space="preserve">0,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Exercíci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273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Em um grande lote, sabe-se que 10 % das peças são defeituosas. Qual é a probabilidade de, ao se retirarem 6 peças ao acaso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a) uma ser defeituosa?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b) no máximo uma ser defeituosa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c) pelo menos duas serem defeituosas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7" name=""/>
          <p:cNvSpPr/>
          <p:nvPr/>
        </p:nvSpPr>
        <p:spPr>
          <a:xfrm>
            <a:off x="7235280" y="3716280"/>
            <a:ext cx="1422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66ff"/>
                </a:solidFill>
                <a:latin typeface="Arial"/>
              </a:rPr>
              <a:t>0,354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66ff"/>
                </a:solidFill>
                <a:latin typeface="Arial"/>
              </a:rPr>
              <a:t>0,88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66ff"/>
                </a:solidFill>
                <a:latin typeface="Arial"/>
              </a:rPr>
              <a:t>0,114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Exemplo de um </a:t>
            </a:r>
            <a:br>
              <a:rPr sz="4400"/>
            </a:b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experimento aleatóri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4440" y="2514600"/>
            <a:ext cx="2771640" cy="3429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87280" y="3357720"/>
            <a:ext cx="583236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 Antiqua"/>
              </a:rPr>
              <a:t>Selecionar uma pessoa ao acaso e observar se é homem ou mulher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 Antiqua"/>
              </a:rPr>
              <a:t>Resultados possíveis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Book Antiqua"/>
              </a:rPr>
              <a:t>homem, mulhe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Book Antiqua"/>
              </a:rPr>
              <a:t>Espaço amostral = {homem, </a:t>
            </a:r>
            <a:r>
              <a:rPr b="1" lang="pt-BR" sz="20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000" spc="-1" strike="noStrike">
                <a:solidFill>
                  <a:srgbClr val="0000cc"/>
                </a:solidFill>
                <a:latin typeface="Book Antiqua"/>
              </a:rPr>
              <a:t>mulher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"/>
          <p:cNvSpPr/>
          <p:nvPr/>
        </p:nvSpPr>
        <p:spPr>
          <a:xfrm>
            <a:off x="2682720" y="2209680"/>
            <a:ext cx="3353040" cy="1371600"/>
          </a:xfrm>
          <a:custGeom>
            <a:avLst/>
            <a:gdLst>
              <a:gd name="textAreaLeft" fmla="*/ 0 w 3353040"/>
              <a:gd name="textAreaRight" fmla="*/ 3353400 w 33530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1989000"/>
            <a:ext cx="3124080" cy="4267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Probabilidade </a:t>
            </a:r>
            <a:br>
              <a:rPr sz="4400"/>
            </a:b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de um resultad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33560" y="2286000"/>
            <a:ext cx="5105160" cy="29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 Antiqua"/>
              </a:rPr>
              <a:t>Qual a probabilidade de homem e de mulher?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 Antiqua"/>
              </a:rPr>
              <a:t>P(homem) = 0,5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 Antiqua"/>
              </a:rPr>
              <a:t>P(mulher) = 0,5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Book Antiqua"/>
              </a:rPr>
              <a:t>A probabilidade é um número entre 0 e 1, sendo que a soma das probabilidades de todos os resultados possíveis deve ser 1</a:t>
            </a:r>
            <a:r>
              <a:rPr b="1" lang="pt-BR" sz="2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2454120" cy="2895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8760" y="5172120"/>
            <a:ext cx="22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50% hom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50% mulh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705636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Modelo de probabilidade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773360"/>
            <a:ext cx="487656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1847880" cy="22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250920" y="3141720"/>
          <a:ext cx="5181480" cy="345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3141720"/>
                    <a:ext cx="51814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488320" y="2060640"/>
            <a:ext cx="26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PU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inião a respe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 gov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1905120"/>
            <a:ext cx="3406680" cy="43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28320" y="213372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AMOST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1 pessoa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ao ac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621040" y="3733920"/>
            <a:ext cx="3332520" cy="2287080"/>
            <a:chOff x="5621040" y="3733920"/>
            <a:chExt cx="3332520" cy="2287080"/>
          </a:xfrm>
        </p:grpSpPr>
        <p:grpSp>
          <p:nvGrpSpPr>
            <p:cNvPr id="83" name=""/>
            <p:cNvGrpSpPr/>
            <p:nvPr/>
          </p:nvGrpSpPr>
          <p:grpSpPr>
            <a:xfrm>
              <a:off x="5622840" y="4267080"/>
              <a:ext cx="3144960" cy="1753920"/>
              <a:chOff x="5622840" y="4267080"/>
              <a:chExt cx="3144960" cy="1753920"/>
            </a:xfrm>
          </p:grpSpPr>
          <p:sp>
            <p:nvSpPr>
              <p:cNvPr id="84" name=""/>
              <p:cNvSpPr/>
              <p:nvPr/>
            </p:nvSpPr>
            <p:spPr>
              <a:xfrm>
                <a:off x="5624280" y="4267080"/>
                <a:ext cx="31435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6699"/>
                    </a:solidFill>
                    <a:latin typeface="Arial"/>
                  </a:rPr>
                  <a:t>Resultado</a:t>
                </a:r>
                <a:r>
                  <a:rPr b="1" lang="pt-BR" sz="2400" spc="-1" strike="noStrike">
                    <a:solidFill>
                      <a:srgbClr val="006699"/>
                    </a:solidFill>
                    <a:latin typeface="Arial"/>
                  </a:rPr>
                  <a:t>	</a:t>
                </a:r>
                <a:r>
                  <a:rPr b="1" lang="pt-BR" sz="2400" spc="-1" strike="noStrike">
                    <a:solidFill>
                      <a:srgbClr val="006699"/>
                    </a:solidFill>
                    <a:latin typeface="Arial"/>
                  </a:rPr>
                  <a:t>Proba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6699"/>
                    </a:solidFill>
                    <a:latin typeface="Arial"/>
                  </a:rPr>
                  <a:t>bom/ótimo</a:t>
                </a:r>
                <a:r>
                  <a:rPr b="1" lang="pt-BR" sz="2400" spc="-1" strike="noStrike">
                    <a:solidFill>
                      <a:srgbClr val="006699"/>
                    </a:solidFill>
                    <a:latin typeface="Arial"/>
                  </a:rPr>
                  <a:t>	</a:t>
                </a:r>
                <a:r>
                  <a:rPr b="1" lang="pt-BR" sz="2400" spc="-1" strike="noStrike">
                    <a:solidFill>
                      <a:srgbClr val="006699"/>
                    </a:solidFill>
                    <a:latin typeface="Arial"/>
                  </a:rPr>
                  <a:t>    0,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6699"/>
                    </a:solidFill>
                    <a:latin typeface="Arial"/>
                  </a:rPr>
                  <a:t>regular</a:t>
                </a:r>
                <a:r>
                  <a:rPr b="1" lang="pt-BR" sz="2400" spc="-1" strike="noStrike">
                    <a:solidFill>
                      <a:srgbClr val="006699"/>
                    </a:solidFill>
                    <a:latin typeface="Arial"/>
                  </a:rPr>
                  <a:t>	</a:t>
                </a:r>
                <a:r>
                  <a:rPr b="1" lang="pt-BR" sz="2400" spc="-1" strike="noStrike">
                    <a:solidFill>
                      <a:srgbClr val="006699"/>
                    </a:solidFill>
                    <a:latin typeface="Arial"/>
                  </a:rPr>
                  <a:t>    0,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6699"/>
                    </a:solidFill>
                    <a:latin typeface="Arial"/>
                  </a:rPr>
                  <a:t>ruim/péssimo  0,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622840" y="4268160"/>
                <a:ext cx="281952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622840" y="4725360"/>
                <a:ext cx="281952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622840" y="6021000"/>
                <a:ext cx="281952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5621040" y="373392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6699"/>
                  </a:solidFill>
                  <a:latin typeface="Arial"/>
                </a:rPr>
                <a:t>Modelo probabilíst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0000" y="549000"/>
            <a:ext cx="5197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Event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375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Evento  =  conjunto de resultados possívei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Book Antiqua"/>
              </a:rPr>
              <a:t>Espaço amostral = {1, 2, 3, 4, 5, 6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Book Antiqua"/>
              </a:rPr>
              <a:t>Probabilidades: P(1) = P(2) = ... = P(6) = 1/6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Eventos: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800000"/>
                </a:solidFill>
                <a:latin typeface="Book Antiqua"/>
              </a:rPr>
              <a:t>A = número par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                       </a:t>
            </a:r>
            <a:r>
              <a:rPr b="0" lang="pt-BR" sz="2400" spc="-1" strike="noStrike">
                <a:solidFill>
                  <a:srgbClr val="008000"/>
                </a:solidFill>
                <a:latin typeface="Book Antiqua"/>
              </a:rPr>
              <a:t>B = núm. menor que 3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Book Antiqua"/>
              </a:rPr>
              <a:t>               </a:t>
            </a:r>
            <a:r>
              <a:rPr b="0" lang="pt-BR" sz="2400" spc="-1" strike="noStrike">
                <a:solidFill>
                  <a:srgbClr val="800000"/>
                </a:solidFill>
                <a:latin typeface="Book Antiqua"/>
              </a:rPr>
              <a:t>A = {2, 4, 6}</a:t>
            </a:r>
            <a:r>
              <a:rPr b="0" lang="pt-BR" sz="2400" spc="-1" strike="noStrike">
                <a:solidFill>
                  <a:srgbClr val="008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8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8000"/>
                </a:solidFill>
                <a:latin typeface="Book Antiqua"/>
              </a:rPr>
              <a:t>B = {1, 2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Book Antiqua"/>
              </a:rPr>
              <a:t>               </a:t>
            </a:r>
            <a:r>
              <a:rPr b="0" lang="pt-BR" sz="2400" spc="-1" strike="noStrike">
                <a:solidFill>
                  <a:srgbClr val="800000"/>
                </a:solidFill>
                <a:latin typeface="Book Antiqua"/>
              </a:rPr>
              <a:t>P(A) = 1/2</a:t>
            </a:r>
            <a:r>
              <a:rPr b="0" lang="pt-BR" sz="2400" spc="-1" strike="noStrike">
                <a:solidFill>
                  <a:srgbClr val="008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8000"/>
                </a:solidFill>
                <a:latin typeface="Book Antiqua"/>
              </a:rPr>
              <a:t>   </a:t>
            </a:r>
            <a:r>
              <a:rPr b="0" lang="pt-BR" sz="2400" spc="-1" strike="noStrike">
                <a:solidFill>
                  <a:srgbClr val="008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8000"/>
                </a:solidFill>
                <a:latin typeface="Book Antiqua"/>
              </a:rPr>
              <a:t>P(B) = 2/6 = 1/3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95280" y="475920"/>
            <a:ext cx="56242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Operações com event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411280" y="2133720"/>
            <a:ext cx="2971440" cy="1890360"/>
            <a:chOff x="2411280" y="2133720"/>
            <a:chExt cx="2971440" cy="18903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411280" y="2133720"/>
              <a:ext cx="2971440" cy="18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302640" y="2593080"/>
              <a:ext cx="6336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8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79600" y="3230640"/>
              <a:ext cx="453600" cy="4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1360" y="2346120"/>
              <a:ext cx="6336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45000" y="3124080"/>
                <a:ext cx="466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411280" y="4495680"/>
                <a:ext cx="32893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002200" y="3009960"/>
            <a:ext cx="1295280" cy="647640"/>
          </a:xfrm>
          <a:custGeom>
            <a:avLst/>
            <a:gdLst/>
            <a:ahLst/>
            <a:rect l="l" t="t" r="r" b="b"/>
            <a:pathLst>
              <a:path w="816" h="408">
                <a:moveTo>
                  <a:pt x="816" y="24"/>
                </a:moveTo>
                <a:cubicBezTo>
                  <a:pt x="752" y="12"/>
                  <a:pt x="688" y="0"/>
                  <a:pt x="624" y="24"/>
                </a:cubicBezTo>
                <a:cubicBezTo>
                  <a:pt x="560" y="48"/>
                  <a:pt x="472" y="112"/>
                  <a:pt x="432" y="168"/>
                </a:cubicBezTo>
                <a:cubicBezTo>
                  <a:pt x="392" y="224"/>
                  <a:pt x="440" y="320"/>
                  <a:pt x="384" y="360"/>
                </a:cubicBezTo>
                <a:cubicBezTo>
                  <a:pt x="328" y="400"/>
                  <a:pt x="160" y="408"/>
                  <a:pt x="96" y="408"/>
                </a:cubicBezTo>
                <a:cubicBezTo>
                  <a:pt x="32" y="408"/>
                  <a:pt x="16" y="384"/>
                  <a:pt x="0" y="3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83800" y="273384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ã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62244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Operações com event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95640" y="2276640"/>
            <a:ext cx="3763800" cy="2066760"/>
            <a:chOff x="2195640" y="2276640"/>
            <a:chExt cx="3763800" cy="2066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195640" y="2276640"/>
              <a:ext cx="376380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086280" y="2783160"/>
              <a:ext cx="61272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8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35840" y="2360880"/>
              <a:ext cx="61272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10160" y="3354480"/>
              <a:ext cx="61272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8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24080" y="3756240"/>
              <a:ext cx="13604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800000"/>
                  </a:solidFill>
                  <a:latin typeface="Times New Roman"/>
                </a:rPr>
                <a:t>A </a:t>
              </a:r>
              <a:r>
                <a:rPr b="1" lang="pt-BR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</a:t>
              </a:r>
              <a:r>
                <a:rPr b="1" i="1" lang="pt-BR" sz="2800" spc="-1" strike="noStrike">
                  <a:solidFill>
                    <a:srgbClr val="800000"/>
                  </a:solidFill>
                  <a:latin typeface="Times New Roman"/>
                </a:rPr>
                <a:t> 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9184400">
              <a:off x="3346560" y="3364200"/>
              <a:ext cx="1265040" cy="241200"/>
            </a:xfrm>
            <a:prstGeom prst="rightArrow">
              <a:avLst>
                <a:gd name="adj1" fmla="val 50000"/>
                <a:gd name="adj2" fmla="val 131119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71600" y="4791240"/>
                <a:ext cx="55371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23:37:10Z</dcterms:created>
  <dc:creator>Pedro Alberto Barbetta - Marcelo Menezes Reis</dc:creator>
  <dc:description/>
  <dc:language>en-US</dc:language>
  <cp:lastModifiedBy>Marcelo Menezes Reis</cp:lastModifiedBy>
  <dcterms:modified xsi:type="dcterms:W3CDTF">2004-09-18T16:48:48Z</dcterms:modified>
  <cp:revision>67</cp:revision>
  <dc:subject/>
  <dc:title>Probabilidade -alguns conceitos; Distribuição binomial</dc:title>
</cp:coreProperties>
</file>