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92B-516B-4BFA-973D-3FF2CF4C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83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739-8471-4024-8F7D-32E824FF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6896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718-77FC-4322-82AB-B33381EB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29240" y="198108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15800" y="198108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729240" y="413064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715800" y="413064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74B-F2F5-4B7E-A85A-3F2D2C91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29F-962A-4549-BB2F-F2C080A0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4BA-5D50-4570-9FC8-3F3738DC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9E8-817C-448F-A0D5-CBBB8B6B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771-45AB-4CDA-8682-9700F5BE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485720" y="475920"/>
            <a:ext cx="808956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9FF-D719-4961-A4CE-E08E3310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D75-BD62-4A0E-BE5D-42A7F3D8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6896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78F-E7ED-4DFF-8E36-BC2C355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83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1EF-84D5-49A5-8596-445A6E55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0680" y="276120"/>
            <a:ext cx="1365840" cy="1602000"/>
            <a:chOff x="220680" y="276120"/>
            <a:chExt cx="136584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20680" y="276120"/>
              <a:ext cx="1267560" cy="1602000"/>
              <a:chOff x="220680" y="276120"/>
              <a:chExt cx="126756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39480" y="431640"/>
                <a:ext cx="103032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20680" y="276120"/>
                <a:ext cx="1267560" cy="801720"/>
                <a:chOff x="220680" y="276120"/>
                <a:chExt cx="126756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853560" y="276120"/>
                  <a:ext cx="6346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20680" y="276120"/>
                  <a:ext cx="6350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20680" y="1076400"/>
                <a:ext cx="1267560" cy="801720"/>
                <a:chOff x="220680" y="1076400"/>
                <a:chExt cx="126756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853560" y="1076400"/>
                  <a:ext cx="6346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20680" y="1076400"/>
                  <a:ext cx="6350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83640" y="334800"/>
              <a:ext cx="902880" cy="762120"/>
              <a:chOff x="683640" y="334800"/>
              <a:chExt cx="90288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83640" y="334800"/>
                <a:ext cx="90288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07120" y="438120"/>
                <a:ext cx="65736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903600" y="452520"/>
                <a:ext cx="46440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077120" y="647640"/>
                <a:ext cx="117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6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ff66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7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5121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164D-AFA5-4821-B7AD-223E34DF4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ANÁLISE EXPLORATÓRIA DE D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Distribuições de freqüência, gráficos e medidas de síntese para variáveis quantitativa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1a part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CDD-0ECE-47EE-9B35-9B817A33D1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001000" cy="547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18F-1E31-49BC-96AB-00B6BD7FEF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abela de freqüências para dados agrup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8898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Recomendável para grande conjuntos de variáveis QUANTITATIVAS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Na realidade trata-se de uma recodificação: os valores das variáveis são registrados agora em classes mutuamente exclusivas: ao invés de registrar renda igual a 4,35 salários mínimos, registra-se renda na faixa entre 3 e 5 salários mínim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Book Antiqua"/>
              </a:rPr>
              <a:t>PERDE-SE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informação sobre o conjunto original para obter sua compactaçã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1F2-DAB4-4914-882E-CFB6C7A4BD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abela de freqüências para dados agrup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91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assos para construção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Determinar o intervalo do conjunto (diferença entre o maior e o menor valor do conjunto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Dividir o intervalo em um número conveniente de class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Estabelecer as  classes com a seguinte notação:                    Li - limite inferior  Ls - limite superior ; Li |-- Ls  limite inferior incluído, superior excluído;  Li |--| Ls  ambos incluído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Determinar as freqüências de cada class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Determinar os pontos médios de cada classe através da média dos 2 limites (serão os representantes das classes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C31-8B69-4141-881A-9F3646EB49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abela de freqüências para dados agrup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91947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nstruir a tabela de freqüências agrupada em classes para os dados da mortalidade infantil em municípios do Oeste de SC em 1982 (abaixo):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32,3  62,2  10,3  22,0  13,1  9,9  11,9  20,0  36,4  23,5  18,0  22,6  20,3  38,3  19,6  27,2  28,9 18,4  27,3  21,7  23,7  13,9  36,3  32,9  29,7  25,4  23,8 15,7 17,0  39,2  22,7  29,9   18,3  3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Intervalo= Maior - Menor = 62,2 - 9,9 = 52,3     (a maior taxa foi de 62,2  e a menor de 9,9, as classes devem englobar do menor ao maior valor). 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5638680"/>
            <a:ext cx="5715000" cy="400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935040" y="55627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Usar sei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382-F832-409E-87C0-46660F3EA8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abela de freqüências para dados agrup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Amplitude das classes = 52,3/6 = 8,71666 = 8,72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Classes: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9,9|--18,62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18,62|--27,34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27,34|--36,06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36,06|-- 44,78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44,78|-- 53,5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pt-BR" sz="2400" spc="-1" strike="noStrike">
                <a:solidFill>
                  <a:srgbClr val="000000"/>
                </a:solidFill>
                <a:latin typeface="Book Antiqua"/>
              </a:rPr>
              <a:t>53,5 |-- 62,22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Basta contar o número de ocorrências em cada class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C55-2255-4787-8BA3-95767ED486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abela de freqüências para dados agrup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295280" y="1981080"/>
          <a:ext cx="800100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80010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841-D818-4CCA-922E-7A1B72ACF5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Histograma para dados agrup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832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Representação da tabela agrupada em classes na forma de um gráfico de barras justapostas: uma barra para cada class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52866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D86-CA72-47AB-925A-7D29D1E75B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Histograma para dados agrup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94" name="HISTREND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7315200" cy="493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2B3-C9EC-40DD-910B-A85C1AF31C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Polígono de freqüênci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96" name="POLREND1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7086600" cy="486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CC2-7B38-49F1-ADE8-5EF65B3E63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Polígono de freqüênci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98" name="POLREND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61048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1EC-D4DD-4A8A-B285-6D800C9975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Aspectos a considerar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91184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Variável quantitativa discreta ou contínu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Discreta: tabela de freqüência e histograma para dados não agrupad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ntínua: tabela de freqüência e histograma para dados agrupados, diagrama em caixas, diagrama de pontos, ramo-e-folha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Tamanho do conjunto de dad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equeno: tabela/ histograma dados não agrupados, diagrama de pontos, ramo-e-folha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Grande: tabela/histograma dados agrupados, diagrama em caixa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Medidas de síntese: todas as situaçõe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A22-C6C2-4FE9-966F-7BC869C9D3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Gráfico de linh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nsiste em conectar os dados por linhas, mas sem a necessidade de fechamento como no polígono de freqüência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Bastante usado em análise de séries temporais: observar o comportamento da variável ao longo do temp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ossível colocar vários conjuntos de dados no mesmo gráfico, desde que tenham a mesma referênci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3D3-1BD1-49C9-BEFA-CE75E5F394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Gráfico de linh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7696440" cy="49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D20-E8C8-4ABE-9B7C-B8799AF4EF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agrama de Dispersã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ermite avaliar o relacionamento entre duas variáveis quantitativa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Uma delas será a independente - X, e a outra será a dependente - Y (cujos valores podem ser influenciados por X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lotagem dos pares de medidas em um diagrama cartesiano: X - Independente, Y - Dependent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elos padrões dos pontos é possível avaliar o tipo e a força do relacionamento entre as variávei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8D7-D727-4C15-8855-9A75E11ED8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agrama de Dispersã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06" name="DISP01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7543800" cy="47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C07-468C-45F7-8E9B-C64C3DBC23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MEDIDAS DE SÍNTESE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Medidas de tendência central ou de posição: identificam a locação do conjunto, seu valor típic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Média Aritmética, Média Geométrica, Média Aparada, Mediana e Mod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Medidas de dispersão ou de variabilidade: medem a variabilidade (total ou em torno de uma medida de posição) dos dad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Intervalo, variância, desvio padrão coeficiente de variaçã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Separatrizes: dividem o conjunto em um certo número de partes iguai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quartis, decis, centi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Medidas de curtose e assimetria: avaliar a forma da distribuiçã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E28-00B4-4B82-A2FD-EA39E6F65C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Média Aritmétic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832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Média aritmética simples: somam-se todos os valores do conjunto e divide-se pelo número total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nceitualmente a média é o CENTRO DE MASSA do conjunto de dad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SEMPRE há média para um conjunto de dados e ela é ÚNIC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A média pode ser distorcida por valores discrepantes (outliers), pois leva em consideração todos os elementos do conjunto no seu cálcul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81480" y="4876920"/>
                <a:ext cx="152424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DE7-426D-4A04-A0AC-95E1C1A41B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Média Aritmétic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832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A tabela abaixo apresenta as notas de 3 turmas. Calculando as médias vamos obter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19320" y="2895480"/>
          <a:ext cx="7619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619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DBC-050E-473D-AE02-D0BD721601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Média Aritmétic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17" name="dotplot1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7467480" cy="50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ABA-AD63-473F-BD13-87D31919AA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Média Aparad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Média Aparada (“Trimmed”): média aritmética em que um certo número de valores (muito grandes ou muito pequenos) são retirados do conjunt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Especificada em termos %: por exemplo, os 5% menores e os 5% maiores valores não serão levados em conta no cálcul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Tentativa de minimizar o efeito dos valores discrepantes na médi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"/>
          <p:cNvSpPr/>
          <p:nvPr/>
        </p:nvSpPr>
        <p:spPr>
          <a:xfrm>
            <a:off x="743400" y="4765680"/>
            <a:ext cx="872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nd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ínimo = 0,68 sal.mín.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áximo = 29,58 sal.mí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00 ob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édia = 8,13 sal.mín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média aparada = 7,88 sal.mí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diana = 7,46 sal.mí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A7C-5A31-4F66-8FDD-FB027B9386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Média Geométric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91184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Multiplicam-se os valores das observações e tomamos a raiz n-ésima deste resultad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Útil para medir a taxa média de variação de uma variável ao longo do temp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Definida apenas para números </a:t>
            </a:r>
            <a:r>
              <a:rPr b="1" lang="pt-BR" sz="2400" spc="-1" strike="noStrike">
                <a:solidFill>
                  <a:srgbClr val="ff3300"/>
                </a:solidFill>
                <a:latin typeface="Book Antiqua"/>
              </a:rPr>
              <a:t>POSITIVOS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238880" y="312408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825480" y="4343400"/>
            <a:ext cx="85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lcule a taxa média de variação dos crescimentos de venda abaix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5%  6%   4%    3%   e  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90720" y="5334120"/>
                <a:ext cx="822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186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6C6-C971-4D75-A5AD-C8CD05171E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abela de freqüências - dados não agrup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83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Semelhante às variáveis qualitativas: registrar os valores possíveis e contar o número de ocorrências de cada um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nsiderando uma amostra de domicílios residenciais de um condomínio de Florianópolis, observou-se o número de pessoas residentes no domicíli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4  4  4  5  4  1  2  3  6  4  6  4  4  6  3  5  3  4  4  4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5  5  5  4  8  4  5  3  4  5  5  2  5  2  6  8  3  5  5  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727-BA9F-4687-985C-85E5C17ABD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Median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Divide o conjunto de dados em duas partes iguais: METADE (50%) dos dados é </a:t>
            </a:r>
            <a:r>
              <a:rPr b="1" i="1" lang="pt-BR" sz="2400" spc="-1" strike="noStrike">
                <a:solidFill>
                  <a:srgbClr val="000000"/>
                </a:solidFill>
                <a:latin typeface="Book Antiqua"/>
              </a:rPr>
              <a:t>menor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do que a mediana e a outra metade é </a:t>
            </a:r>
            <a:r>
              <a:rPr b="1" i="1" lang="pt-BR" sz="2400" spc="-1" strike="noStrike">
                <a:solidFill>
                  <a:srgbClr val="000000"/>
                </a:solidFill>
                <a:latin typeface="Book Antiqua"/>
              </a:rPr>
              <a:t>maior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do que a median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ouco afetada por valores discrepante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rimeiramente é preciso obter a posição da mediana (a partir do conjunto ordenado):   PMd = (n+1)/2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Depois encontra-se o elemento que está na posição da median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Se PMd for fracionário: faz-se a média entre os valores nas posições imediatamente anterior e posterior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8F6-70FD-4DE8-A298-BC7C25E02B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Median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600200"/>
            <a:ext cx="8832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A tabela abaixo apresenta as notas de 3 turmas. Calcular as medianas de cada tu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14360" y="2514600"/>
          <a:ext cx="76201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4360" y="2514600"/>
                    <a:ext cx="76201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81960" y="5410080"/>
            <a:ext cx="56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sição mediana = (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 1)/2 = (8+1)/2 = 4,5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5960" y="5375160"/>
            <a:ext cx="207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M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47320" y="5756400"/>
            <a:ext cx="11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686-0DF3-4A16-9A1F-CF7CA7CAA6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Mod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Moda é o valor mais freqüente do conjunto de dados. Teoricamente é o valor mais provável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Um conjunto pode ter uma única moda, várias modas (dois ou mais valores ocorrem igual número de vezes) ou nenhuma moda (nenhum valor se repete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ode ser obtida para variáveis qualitativas: apenas registra-se o valor que ocorreu mais veze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stuma ser utilizada em conjunção com média e mediana para avaliar a simetria do conjunto de dad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125-D7C0-45CA-9FA1-67C9DB5AB9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Avaliação de assimetria por média, mediana e mod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124080" cy="2346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3124080" cy="2282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895480" y="4343400"/>
            <a:ext cx="3505320" cy="2112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5640" y="2057400"/>
            <a:ext cx="16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i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à esque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u neg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3600" y="2057400"/>
            <a:ext cx="16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i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à dire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u pos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13560" y="48769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EB5-C704-4793-85D0-2BC85E4E11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abela de freqüências - dados não agrup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944892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FA9-1147-49FA-BB4C-7DF4C54ED8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Histograma para dados não agrup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832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Gráfico de barras justapostas: uma barras para cada valor da variável quantitativa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6629400" cy="390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008-7379-4C8C-BD1D-28AA2579C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Ramo e Folh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ara pequenos conjuntos de dados (até 100 observações) geralmente de variáveis quantitativas CONTÍNUA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Valores ordenados e divididos em duas partes: inteira |decimal; dezena |unidade, para facilitar a visualização da distribuição dos dad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8" name="RFOLHAS" descr=""/>
          <p:cNvPicPr/>
          <p:nvPr/>
        </p:nvPicPr>
        <p:blipFill>
          <a:blip r:embed="rId1"/>
          <a:stretch/>
        </p:blipFill>
        <p:spPr>
          <a:xfrm>
            <a:off x="3505320" y="365760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3AE-4318-419B-9B6E-2F6DB2DB8C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Ramo e Folh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9118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nstruir o ramo e folhas para os dados da mortalidade infantil em municípios do Oeste de SC em 1982 (abaixo):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32,3  62,2  10,3  22,0  13,1  9,9  11,9  20,0  36,4  23,5  18,0  22,6  20,3  38,3  19,6  27,2  28,9 18,4  27,3  21,7  23,7  13,9  36,3  32,9  29,7  25,4  23,8 15,7 17,0  39,2  22,7  29,9   18,3  3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1" name="RFOLHAS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FA3-F458-40F9-B700-73DF03FEFD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agrama de Pont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ara pequenos conjuntos de dados, geralmente de variáveis quantitativas CONTÍNUAS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locar os valores na reta dos números reais, cada valor representa um ponto, facilitando a visualização da distribuiçã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Avaliar a dispersão geral do conjunt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Avaliar a existência de valores discrepante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ossibilita melhor visualização do que o ramo-e-folhas pois é único para um conjunto de dad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2C9-05E9-4F69-8A6B-252AE7F0E9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agrama de Pont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75" name="DPLOT01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84582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A0E-D16C-44E0-AEF5-E0C68153E2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19:46:34Z</dcterms:created>
  <dc:creator>Marcelo Menezes Reis</dc:creator>
  <dc:description/>
  <dc:language>en-US</dc:language>
  <cp:lastModifiedBy>Marcelo Menezes Reis</cp:lastModifiedBy>
  <cp:lastPrinted>2001-06-30T18:52:02Z</cp:lastPrinted>
  <dcterms:modified xsi:type="dcterms:W3CDTF">2004-08-31T01:04:53Z</dcterms:modified>
  <cp:revision>55</cp:revision>
  <dc:subject/>
  <dc:title>ANÁLISE EXPLORATÓRIA DE DADOS</dc:title>
</cp:coreProperties>
</file>