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25B-D1DD-4C8F-85D5-936149A6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6275-88DA-43F8-82BD-0E2402F7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6896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8C2-7D0D-4E5C-A3B8-0B1A17F4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72924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715800" y="198108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72924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715800" y="4130640"/>
            <a:ext cx="2844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9A49-5EB1-4A79-AB86-3D778814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0437-EA71-4F6B-A37A-F4CA7EEE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7FE5-A330-4231-AD68-A8DCD2796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AE71-201E-4774-A498-CD62D4B8A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5AB5-7E8D-4F9B-9334-A893BFF4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485720" y="475920"/>
            <a:ext cx="808956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C6C4-43D5-407B-BD63-2B9F3DDF8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FFFE-9C87-4FC1-8A8B-B61C7FFD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68960" y="413064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C133-CB7B-40D5-8524-9986D1E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960" y="1981080"/>
            <a:ext cx="43102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83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BDA1-5753-4F47-A278-4E235A7D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0680" y="276120"/>
            <a:ext cx="1365840" cy="1602000"/>
            <a:chOff x="220680" y="276120"/>
            <a:chExt cx="136584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20680" y="276120"/>
              <a:ext cx="1267560" cy="1602000"/>
              <a:chOff x="220680" y="276120"/>
              <a:chExt cx="126756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39480" y="431640"/>
                <a:ext cx="103032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ccec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20680" y="276120"/>
                <a:ext cx="1267560" cy="801720"/>
                <a:chOff x="220680" y="276120"/>
                <a:chExt cx="126756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853560" y="276120"/>
                  <a:ext cx="6346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20680" y="276120"/>
                  <a:ext cx="6350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20680" y="1076400"/>
                <a:ext cx="1267560" cy="801720"/>
                <a:chOff x="220680" y="1076400"/>
                <a:chExt cx="126756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853560" y="1076400"/>
                  <a:ext cx="6346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20680" y="1076400"/>
                  <a:ext cx="63504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cce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83640" y="334800"/>
              <a:ext cx="902880" cy="762120"/>
              <a:chOff x="683640" y="334800"/>
              <a:chExt cx="90288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83640" y="334800"/>
                <a:ext cx="90288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807120" y="438120"/>
                <a:ext cx="65736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9cc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903600" y="452520"/>
                <a:ext cx="46440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077120" y="647640"/>
                <a:ext cx="117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66ff"/>
                </a:solidFill>
                <a:latin typeface="Book Antiqua"/>
              </a:rPr>
              <a:t>Click to edit the title text format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43000" indent="-228600">
              <a:spcBef>
                <a:spcPts val="601"/>
              </a:spcBef>
              <a:buClr>
                <a:srgbClr val="ff3300"/>
              </a:buClr>
              <a:buSzPct val="6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3" marL="1600200" indent="-228600">
              <a:spcBef>
                <a:spcPts val="601"/>
              </a:spcBef>
              <a:buClr>
                <a:srgbClr val="009900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4" marL="2057400" indent="-228600">
              <a:spcBef>
                <a:spcPts val="601"/>
              </a:spcBef>
              <a:buClr>
                <a:srgbClr val="ff66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6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72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5121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9F2AC-B049-4A38-AAF9-C2E1C9307F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ANÁLISE EXPLORATÓRIA DE DADO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523880" y="3886200"/>
            <a:ext cx="69343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ceitos, Distribuição de freqüências para Variáveis Qualitativas e Quantitativas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B3DE-897A-46CB-A10E-5C82066B55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Gráfico de barr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7010640" cy="41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53A6-365B-4161-A291-6DA01AC973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Gráfico em setores (circular ou pizza)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6858000" cy="40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2678-03D5-4694-A01D-38DFB58CAC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stribuição de freqüência múltipl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Também chamada de dupla classificação, tabulação cruzada  ou </a:t>
            </a:r>
            <a:r>
              <a:rPr b="1" lang="pt-BR" sz="2400" spc="-1" strike="noStrike">
                <a:solidFill>
                  <a:srgbClr val="000000"/>
                </a:solidFill>
                <a:latin typeface="Book Antiqua"/>
              </a:rPr>
              <a:t>tabela de contingências</a:t>
            </a: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nsiste em fazer o cruzamento entre duas variáveis qualitativas, registrando as ocorrências que atendem aos valores de ambas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Quantas vendas da Marca Philips na região Norte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Quantos homens são fumante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35480" indent="-282960" algn="just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Quantas mulheres em cargos de gerênci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39480" indent="-339480" algn="just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ossibilita avaliar o comportamento de uma variável em função da outra: análise bivariada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55BF-04D3-4652-B4D9-F2443B347E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contingênci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14400" y="2133720"/>
            <a:ext cx="8153280" cy="2154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902520" y="4800600"/>
            <a:ext cx="829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m ser calculados percentuais em relação aos totais das linh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as colunas, ou ao total ge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A10-CA5E-41F4-B8FD-ED61DC9617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Tabela de contingênci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9880" y="4724280"/>
            <a:ext cx="5491440" cy="146700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1278000" y="1447920"/>
            <a:ext cx="8323200" cy="1465200"/>
            <a:chOff x="1278000" y="1447920"/>
            <a:chExt cx="8323200" cy="146520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3276720" y="1447920"/>
              <a:ext cx="6324480" cy="146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1278000" y="2022480"/>
              <a:ext cx="15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erfil linh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04920" y="3048120"/>
            <a:ext cx="7524360" cy="1673280"/>
            <a:chOff x="304920" y="3048120"/>
            <a:chExt cx="7524360" cy="1673280"/>
          </a:xfrm>
        </p:grpSpPr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304920" y="3048120"/>
              <a:ext cx="5495760" cy="16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078960" y="3622680"/>
              <a:ext cx="175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erfil colu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A51-036B-42AE-9CFE-D2331DCD5C9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Apresentação gráfic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7696440" cy="452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680-483C-4EF1-9724-18963920FD3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Apresentação gráfica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22" name="Marcas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7391520" cy="506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E182-5FB2-4EE7-BB4B-FC463694FE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Conceit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58" name=""/>
          <p:cNvSpPr/>
          <p:nvPr/>
        </p:nvSpPr>
        <p:spPr>
          <a:xfrm>
            <a:off x="6093360" y="3200400"/>
            <a:ext cx="32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cessário organizá-l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69680" y="251460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cessário resumi-l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533520" y="1981080"/>
            <a:ext cx="5257800" cy="3863880"/>
            <a:chOff x="533520" y="1981080"/>
            <a:chExt cx="5257800" cy="3863880"/>
          </a:xfrm>
        </p:grpSpPr>
        <p:pic>
          <p:nvPicPr>
            <p:cNvPr id="61" name="DADOS01" descr=""/>
            <p:cNvPicPr/>
            <p:nvPr/>
          </p:nvPicPr>
          <p:blipFill>
            <a:blip r:embed="rId1"/>
            <a:stretch/>
          </p:blipFill>
          <p:spPr>
            <a:xfrm>
              <a:off x="533520" y="2625480"/>
              <a:ext cx="52578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2272320" y="1981080"/>
              <a:ext cx="959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Dad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7467480" y="38098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320160" y="4952880"/>
            <a:ext cx="298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terpretação e tom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decis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F60B-4767-4685-A94E-562D2C327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Conceit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Análise Exploratória de Dados consiste em RESUMIR E  ORGANIZAR  os dados coletados através de tabelas, gráficos ou medidas numéricas, e a partir dos dados resumidos procurar alguma regularidade ou padrão nas observações (INTERPRETAR os dados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Estatística Descritiva. 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Interesse no comportamento individual das variávei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Interesse no relacionamento entre variávei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Várias técnic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DD79-DB0F-46EE-ACB5-A107C5E70F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Escolha das técnicas de AED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ível de mensuração das variávei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Objetivo da análise: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mportamento individual da variável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Comportamento da variável em função de uma ou mais variáveis (ferramentas múltiplas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Número de variáveis envolvid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Tamanho do conjunto de d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Tempo disponível para a apresentação dos resultado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Grau de conhecimento estatístico do público alv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D912-C03F-4395-8A4B-55D0EB23BA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Nível de mensuraçã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33520" y="2327400"/>
            <a:ext cx="2935440" cy="1635120"/>
            <a:chOff x="533520" y="2327400"/>
            <a:chExt cx="2935440" cy="1635120"/>
          </a:xfrm>
        </p:grpSpPr>
        <p:sp>
          <p:nvSpPr>
            <p:cNvPr id="71" name=""/>
            <p:cNvSpPr/>
            <p:nvPr/>
          </p:nvSpPr>
          <p:spPr>
            <a:xfrm flipV="1">
              <a:off x="533520" y="2590920"/>
              <a:ext cx="1371600" cy="1371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11520" y="2327400"/>
              <a:ext cx="1657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ualit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3429000" y="1793880"/>
            <a:ext cx="5220720" cy="644400"/>
            <a:chOff x="3429000" y="1793880"/>
            <a:chExt cx="5220720" cy="644400"/>
          </a:xfrm>
        </p:grpSpPr>
        <p:sp>
          <p:nvSpPr>
            <p:cNvPr id="74" name=""/>
            <p:cNvSpPr/>
            <p:nvPr/>
          </p:nvSpPr>
          <p:spPr>
            <a:xfrm flipV="1">
              <a:off x="3429000" y="2057400"/>
              <a:ext cx="533520" cy="380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941280" y="1793880"/>
              <a:ext cx="470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abelas de freqüência ou percentua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3429000" y="2590920"/>
            <a:ext cx="4733280" cy="500760"/>
            <a:chOff x="3429000" y="2590920"/>
            <a:chExt cx="4733280" cy="500760"/>
          </a:xfrm>
        </p:grpSpPr>
        <p:sp>
          <p:nvSpPr>
            <p:cNvPr id="77" name=""/>
            <p:cNvSpPr/>
            <p:nvPr/>
          </p:nvSpPr>
          <p:spPr>
            <a:xfrm>
              <a:off x="3429000" y="2590920"/>
              <a:ext cx="533520" cy="380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019040" y="2631960"/>
              <a:ext cx="414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Gráficos (barras, setores, linha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33520" y="3962520"/>
            <a:ext cx="3179880" cy="1526400"/>
            <a:chOff x="533520" y="3962520"/>
            <a:chExt cx="3179880" cy="1526400"/>
          </a:xfrm>
        </p:grpSpPr>
        <p:sp>
          <p:nvSpPr>
            <p:cNvPr id="80" name=""/>
            <p:cNvSpPr/>
            <p:nvPr/>
          </p:nvSpPr>
          <p:spPr>
            <a:xfrm>
              <a:off x="533520" y="3962520"/>
              <a:ext cx="1371600" cy="13716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03680" y="5029200"/>
              <a:ext cx="180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Quantita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657600" y="4419720"/>
            <a:ext cx="5236560" cy="685440"/>
            <a:chOff x="3657600" y="4419720"/>
            <a:chExt cx="5236560" cy="685440"/>
          </a:xfrm>
        </p:grpSpPr>
        <p:sp>
          <p:nvSpPr>
            <p:cNvPr id="83" name=""/>
            <p:cNvSpPr/>
            <p:nvPr/>
          </p:nvSpPr>
          <p:spPr>
            <a:xfrm flipV="1">
              <a:off x="3657600" y="4723920"/>
              <a:ext cx="533520" cy="38124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185720" y="4419720"/>
              <a:ext cx="470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Tabelas de freqüência ou percentua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3657600" y="4800600"/>
            <a:ext cx="5873040" cy="825480"/>
            <a:chOff x="3657600" y="4800600"/>
            <a:chExt cx="5873040" cy="825480"/>
          </a:xfrm>
        </p:grpSpPr>
        <p:sp>
          <p:nvSpPr>
            <p:cNvPr id="86" name=""/>
            <p:cNvSpPr/>
            <p:nvPr/>
          </p:nvSpPr>
          <p:spPr>
            <a:xfrm>
              <a:off x="3657600" y="5257800"/>
              <a:ext cx="533520" cy="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42520" y="4800600"/>
              <a:ext cx="5388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Gráficos (diagrama de pontos, histograma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diagrama em caixas, linhas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3657600" y="5486400"/>
            <a:ext cx="5187960" cy="866880"/>
            <a:chOff x="3657600" y="5486400"/>
            <a:chExt cx="5187960" cy="866880"/>
          </a:xfrm>
        </p:grpSpPr>
        <p:sp>
          <p:nvSpPr>
            <p:cNvPr id="89" name=""/>
            <p:cNvSpPr/>
            <p:nvPr/>
          </p:nvSpPr>
          <p:spPr>
            <a:xfrm>
              <a:off x="3657600" y="5486400"/>
              <a:ext cx="533520" cy="380880"/>
            </a:xfrm>
            <a:prstGeom prst="line">
              <a:avLst/>
            </a:prstGeom>
            <a:ln cap="sq"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69160" y="5527800"/>
              <a:ext cx="4676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Medidas de síntese: média, mediana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desvio padr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0875-F703-489A-BF46-A3857EF6374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Nível de mensuração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92" name="DADOS01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6095880" cy="3732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703560" y="2362320"/>
            <a:ext cx="269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l é o níve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ensuração de 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ariável no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o l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513-259A-4A6F-8BB1-FE596F4B1B2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stribuição de freqüênci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83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Resumo e organização dos dados relacionando os diferentes valores que a variável ou variáveis podem assumir aos números de ocorrências de cada resultado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Pode ser apresentada através de tabelas ou gráficos (estes possibilitam maior rapidez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Utilizando freqüências absolutas ou relativas (estas mais úteis para comparar conjuntos de dados de tamanhos diferentes)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ook Antiqua"/>
              </a:rPr>
              <a:t>Diferenças para variáveis qualitativas e quantitativas.</a:t>
            </a: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5117-4618-433C-B0C5-827EF9F5C0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Distribuição de freqüências - variáveis qualitativ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876920" cy="24397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824840" y="2362320"/>
            <a:ext cx="626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rca dos produtos vendidos em 2500 trans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1040" y="5334120"/>
            <a:ext cx="22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Fonte: hipoté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57CD-541B-42E5-8941-95DD70D7276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85720" y="475920"/>
            <a:ext cx="80895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4400" spc="-1" strike="noStrike">
                <a:solidFill>
                  <a:srgbClr val="0066ff"/>
                </a:solidFill>
                <a:latin typeface="Book Antiqua"/>
              </a:rPr>
              <a:t>Gráfico de barras</a:t>
            </a:r>
            <a:endParaRPr b="0" i="1" lang="en-US" sz="4400" spc="-1" strike="noStrike">
              <a:solidFill>
                <a:srgbClr val="0066ff"/>
              </a:solidFill>
              <a:latin typeface="Book Antiqu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7162560" cy="421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8357-49B9-41D0-A422-1263105D03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1T17:14:44Z</dcterms:created>
  <dc:creator>Marcelo Menezes Reis</dc:creator>
  <dc:description/>
  <dc:language>en-US</dc:language>
  <cp:lastModifiedBy>Marcelo Menezes Reis</cp:lastModifiedBy>
  <cp:lastPrinted>2001-06-30T18:52:02Z</cp:lastPrinted>
  <dcterms:modified xsi:type="dcterms:W3CDTF">2004-08-21T19:55:29Z</dcterms:modified>
  <cp:revision>32</cp:revision>
  <dc:subject/>
  <dc:title>ESTATÍSTICA</dc:title>
</cp:coreProperties>
</file>