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6CA5-D40B-4227-B629-09508EC11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3F15-D857-45BF-9EED-27A3897EA2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2767-6F8A-47A4-BD30-710D5733605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3BDB4-B014-41D1-9FC0-B45D4B7163D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3A2A3-DC35-446D-AA31-1C169383411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73E4-2187-4865-9CAA-D9EEF761EC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961FF-F986-4575-A0B6-0561E204FC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ADECA-9846-4C22-8B8F-C3957DA13F4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527F4-2FB8-4BB8-A272-21A3581AA9D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0C8FE-D42B-446F-B11D-668055DBB16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33810-2D8F-44AC-B0BC-9B30200C0D7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6FC0E-7071-42EF-9276-44D5E8907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C8E6-6759-4D38-9E1E-F9339EE807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4017E-9725-472D-BA00-B83B3F2667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AC388-40A7-449B-AEFF-C829B596EF5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882B2-D6F0-4988-86A9-8B7EC3C0660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4639ED-40C3-4C7B-8313-66D071295E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CE44E-6B90-43CA-BE3C-65825F5355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C416B-57D7-49A8-8AE7-EF192B0172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B3142-920D-47BE-AD29-080B2EB767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1D010-CA33-48E1-BEB7-5C70BE79ED2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C3342D-531D-4996-B711-AA7E14F599F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E2CE7-E6D6-44DC-9C55-3F9D27A76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F932A-0383-4FD0-ABD8-F7DD983F1F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6C494-223E-476E-9B9C-5897EDEA45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426DE0-33D9-4C1B-B623-E92F77E33F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78BA21-D0FF-4544-8944-242EBC7A9A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60B072-E2F3-4C06-A5C4-0B6CCABEB80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516CB9-D2E6-4203-B78F-799C79034B4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ACF26D-E577-43CA-BA81-E39821ECEC5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29E9CE-882C-41E4-912D-4E173A8E494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C3EA5E-37EA-42EA-AAF8-3BEDF0DEE2E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C27747-1C89-4B76-9A93-521AC32E27F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AC497E-C94D-4636-9B05-FC96C7883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0CF33-5A3D-4086-8BE3-9A5B717FCA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1774D-892C-47AA-9550-45C9074A18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958656-FC55-4B78-BAF8-62F9B37FACF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D60541-1B44-474F-95EF-8D6C5CF8F4D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0B842-E3AD-4C47-AADC-1C825A03F5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CED3E-5BF9-4970-BC13-927B6502252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376B6-4218-4E85-BE9E-ABDF3D7A1B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AB7EA-110C-4272-82A3-3E25BAB88B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AA6E-1B38-4E89-B236-7E053339514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076F8-9761-49F7-A52A-A6288B3101D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A8E04-750C-4540-B869-AD5E4FFD8A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3DEC2-1A64-4F04-BA3E-3CFFB22804C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280E5-2A6C-4575-9E6B-122E5A27532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564D-A26E-43BC-A2B4-A80DF9C6D09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F870D-15ED-4831-9BFF-31DB95CEF68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78725-0160-4BB9-B312-82946E2D2C0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1C072-79AF-4F99-91FB-5DE8CAF387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CFCDF1-6E65-4E05-98FD-7161EB76390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D5E5BE-F810-4BF1-A670-91DA97AD886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6D6985-6C42-464B-896E-6FE4A570ED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202EBF-A3D5-4793-9346-4E9F23E568B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987530-050B-4117-B58A-704A309CB9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F47DF-FCCE-41B8-8214-B4C60C8BA72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63414D-6E22-405F-91A0-A75DC9BE8AD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835EB7-09CB-42C8-8115-4703C7CA1EA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70C39D-515C-4377-8B0F-8A99D2F1442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E30B9F-ED14-4A31-9A3A-AAD9218CDE6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4D829E-96C9-497A-BD03-61344B22A81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8A078D-FA78-4AED-B971-73DD993708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A4423-A8F0-4E41-9DD2-A0B8D2077C7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821DA-B1D4-4A23-80B7-A88D412CE3D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26845-9382-408A-88DC-551E9B97278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2D1BD-C07B-4050-9623-A8159F5F0C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704E8-3FBF-4D85-B296-EBE02B2C992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D5329-B546-47F6-9CAE-4CF4AA0C6BD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2407A-1816-43D4-8309-8C97AA01F6E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EE121-1246-4C5B-BEE2-D33B86B21B8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5CB4F-AC72-4116-BAF1-A2B0C35F9D5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D0816-548F-45D5-9CBE-902CF8E59C1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ADEC3-06F3-4EAC-88EB-BD05F323215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58F8B-D46C-46F7-A0A5-DC034882833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8EE5F-B01D-4412-9255-3565EC8B735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8ACA3-EF68-491B-BFDD-037324BD53B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D95A6-10F4-49EC-ABC3-B10A0B51C6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2C8F3-E18A-4270-B847-DCA030D9F86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3DBF1-FA83-4E2F-8CB8-EC3D9F5A403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D4F90-E278-400B-9C28-E0B9800F92E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3C860-5FB4-4B9D-B0AC-2AD9B83CF73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E0451-2102-4540-86C8-A76B29424F3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D667C-BBBA-47B4-9EFA-AE72A4A10F1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F8BC1-A780-4E28-9070-A47DB27996C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F54D1-CB97-4F0D-AF4F-483D4ED991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64AFD-B60B-4FE0-AEC7-B278C5EF064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4A3E5-FAD9-4D1E-BBC2-B6A5E790491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63C51-F2B9-4182-9487-45774C9D74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B2E92-602A-4B36-9240-BE37372615B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8270A-E263-4EF0-BC46-D87CACD9CEA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258EDF-FF8A-4622-805E-3F4755CBE9E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E96BE6-EE86-4738-95D9-48EBFC90271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6EBFA5-06E1-48C6-9F4C-47759FBAEB7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DEDB28-9716-4CF3-A64E-A4FCD39881B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0991AC-748C-4A91-8D5F-8DD3E2D62FA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6F3DB7-DE6C-4005-B5CC-11AA13EDE9B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CA35CB-F355-4B64-811D-4B9178100BD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DEA111-F539-4CD8-83AF-47EFE7FE214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C6AE87-DF5C-4A17-B98C-97168E315A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C9A4F-C7AF-463C-A9F1-168EE9EA286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8B5F70-BD84-4BF7-82B7-64A2D8F9AE5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21A94F-8C25-4320-9425-559DCCA585C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FB994C-DA0E-4392-BE6C-4EAF3D201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3832-ED95-4129-92A1-13C7CC4B7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78C95-7010-46DC-BC9B-11836C8711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04690-BBB1-4D78-ACB7-86AA7DE8C4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3F3E2-D04F-489C-8D40-2C11D06552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F36D6-28E6-49EB-BF75-8E8FD4226D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0FA80-DF3C-4D18-8DAD-1E993D9D5E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1D43-3FBC-48C4-B12C-3D8BE21DEB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4ADF-4FB1-492D-A31C-BED48A5F36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5AD4-790D-4F2E-A6F2-B86E51CA9C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CC2E-9060-4420-9619-7C96F4AF30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B53E-CAF7-461D-A51F-4311E56A3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B137-62B3-4229-8B75-80D1EBF7D9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457E-37E6-4661-ACF1-3D44E590F2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B94B-A14E-4056-BF3C-74F27EBCD1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79C3-1A00-407D-A1C5-C594BA1391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AFF4-854D-4A90-965F-E61D341657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9CCA-8B82-40B8-BD0A-E8EFC63899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C874-814E-4DA1-983F-ED64C4C421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4D8D-8B54-4C6A-BEDF-DBACD43246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FC91C-D646-49E9-BF39-2B4AA6AE60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5F7C9-0F50-41AE-99B8-B72F24488D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22FE3-1008-4C13-B233-D5C25E237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9532-93E6-4699-8BF5-A913E9A26B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1DBB1-D511-4A42-8222-8DF33182B6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30F33-5563-43F1-867E-8AFEDF7DAD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B47CF-FE82-426D-95D1-505CB62722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64768-30E8-4E6F-B9CF-3B6BEF7DB2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BDFE6-DC70-4A64-B5EA-B364CD97A6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27608-7E33-40CC-B5CE-6FD76C2115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657B1-DC94-4B88-BDED-82824902ED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ABDB1-E095-4132-938F-FDDA5CE924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F72DD-D761-449C-8814-7342B381B8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A4127-0260-4C7B-A8A6-C1495C52A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FB01-9D2F-46F9-BA4A-A4E1A461E7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46351-B5E0-4DCA-82A4-5730474616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0F04D-3639-47DB-854A-7A40942E80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F0DEFE-3836-4B3A-93CB-293095FDEC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D016B-46A2-4D6E-B1CA-5C0E3A5C95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F33A67-7071-4877-AC14-C56AB65A24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5725BE-A1FC-449E-B038-19BDCF5181D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40AA5-2E9E-4BC7-B6C2-214B8AFBB7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166F8-884A-4F51-86B8-A1A572DABF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1B083-8464-4BB8-A04F-FA111185CC6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FB9E6-7BFB-42C8-A15E-817856FAB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9731-A796-4220-86F0-88C4C828CC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8E0639-41B9-45B4-A295-28E98182432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8274-8524-4806-B098-E3194C139C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94A08-A403-4BFE-BBA6-4550C5D10C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2439-F2A0-479B-AB58-9E59ACDC6A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6F9E-5722-44E2-9672-09E10380861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84AA8-F5AB-423D-A2FC-DECBC39CBA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CC270-565D-441F-B5CE-99EFE6E584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1570-D542-429B-9490-D12B486DBB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2255-ED86-4D7E-BDAD-252982BD13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62846-4FA5-40E2-9C3F-27675A327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37EF-8D76-418B-B1D7-4DC6F89606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92527-5704-4DEB-9493-88D548CA71D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DAB9-9CB4-44A6-8E95-A2E891C1FA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2EEC-5FCF-487E-808E-26BACE835E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DC3CC-4D59-47C0-B4DD-40409A9E08E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9D885-0788-4E55-914D-F666092DA85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7C7B8-D1F6-42E9-9261-7A27A743409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525E4-F419-4A03-8401-E32D167C95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4AD0A-BBAD-4E5E-8150-063CCF2807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B87F1-6CD0-4230-9A86-DC92EC51572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DC897-D723-405D-B866-E9861CD44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159D-2DBA-45C7-B5B1-6F2038A353A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78269-C7B5-49E2-B5D7-227BA5889D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5AD91-BCD2-4D0B-9275-3C02CC95E8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1D947-96E3-4EA4-B634-52901ADB35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1452B-0FF4-44C2-8BCC-03C97731D7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51CAE-75A7-4039-87F3-CE99B8307D2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D6193-2AB1-426D-98BC-A714B10812C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675C5D-409D-4ED5-930B-183385403BC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F073A3-C34E-492F-8AD3-B74E121799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0989E-0747-44A2-88BF-A3A7D50E38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C8005-10E0-446E-A94C-B8D7A347E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E224-B0B0-4464-BC07-85E1D733F2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80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5FB373-68A7-4FD4-B63A-A20F56F375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3A6B59-2B25-48B0-ABB6-2237A104D6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5F70C4-F6E2-4697-88E5-78C11313AA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BD8A31-2705-4196-AFF7-088F5A60E7C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0760" y="3849120"/>
            <a:ext cx="83185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F19D6-2E5A-4380-8937-9650BDD17B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520" y="114264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1076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3520" y="3849120"/>
            <a:ext cx="4059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EC131A-9144-4F6E-B14F-D378B3111D1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2344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36120" y="114264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1076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2344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36120" y="3849120"/>
            <a:ext cx="267840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B900FD-7690-4201-A48F-738EF8FEF89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B473-0CDB-45D1-81FF-B07327E4E2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36120-E869-49F2-B9D3-C77FF220A70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139680"/>
            <a:ext cx="828036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FC67B-A04D-4D01-8B52-2A541280B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304920" y="838080"/>
            <a:ext cx="8533800" cy="152280"/>
            <a:chOff x="304920" y="838080"/>
            <a:chExt cx="8533800" cy="152280"/>
          </a:xfrm>
        </p:grpSpPr>
        <p:sp>
          <p:nvSpPr>
            <p:cNvPr id="3" name="Rectangle 17"/>
            <p:cNvSpPr/>
            <p:nvPr/>
          </p:nvSpPr>
          <p:spPr>
            <a:xfrm>
              <a:off x="304920" y="838080"/>
              <a:ext cx="8533800" cy="7488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304920" y="952200"/>
              <a:ext cx="853380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7BEA-9792-4F85-8AC4-BF027CAEA0A2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traight Connector 8"/>
          <p:cNvSpPr/>
          <p:nvPr/>
        </p:nvSpPr>
        <p:spPr>
          <a:xfrm>
            <a:off x="281160" y="87300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1"/>
          <p:cNvSpPr/>
          <p:nvPr/>
        </p:nvSpPr>
        <p:spPr>
          <a:xfrm>
            <a:off x="281160" y="98100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19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0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5404-B3D5-4B32-9B50-43A6616B3ED3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traight Connector 8"/>
          <p:cNvSpPr/>
          <p:nvPr/>
        </p:nvSpPr>
        <p:spPr>
          <a:xfrm>
            <a:off x="281160" y="87300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1"/>
          <p:cNvSpPr/>
          <p:nvPr/>
        </p:nvSpPr>
        <p:spPr>
          <a:xfrm>
            <a:off x="281160" y="98100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21"/>
          </p:nvPr>
        </p:nvSpPr>
        <p:spPr>
          <a:xfrm>
            <a:off x="3124080" y="65527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sldNum" idx="22"/>
          </p:nvPr>
        </p:nvSpPr>
        <p:spPr>
          <a:xfrm>
            <a:off x="6705720" y="65685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D5C7-A0E9-4B62-B3A5-D84FF905E9AE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traight Connector 8"/>
          <p:cNvSpPr/>
          <p:nvPr/>
        </p:nvSpPr>
        <p:spPr>
          <a:xfrm>
            <a:off x="281160" y="88416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11"/>
          <p:cNvSpPr/>
          <p:nvPr/>
        </p:nvSpPr>
        <p:spPr>
          <a:xfrm>
            <a:off x="281160" y="99360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124080" y="65527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705720" y="65685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E49F-86A4-4548-A1BF-1901B16F80D2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25"/>
          </p:nvPr>
        </p:nvSpPr>
        <p:spPr>
          <a:xfrm>
            <a:off x="3124080" y="65527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26"/>
          </p:nvPr>
        </p:nvSpPr>
        <p:spPr>
          <a:xfrm>
            <a:off x="6705720" y="65685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06F-8D85-41B0-8541-2793A0E94B90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7"/>
          </p:nvPr>
        </p:nvSpPr>
        <p:spPr>
          <a:xfrm>
            <a:off x="3124080" y="65527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28"/>
          </p:nvPr>
        </p:nvSpPr>
        <p:spPr>
          <a:xfrm>
            <a:off x="6705720" y="65685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426E-869B-43B3-8C60-5719AC785609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traight Connector 8"/>
          <p:cNvSpPr/>
          <p:nvPr/>
        </p:nvSpPr>
        <p:spPr>
          <a:xfrm>
            <a:off x="281160" y="87300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11"/>
          <p:cNvSpPr/>
          <p:nvPr/>
        </p:nvSpPr>
        <p:spPr>
          <a:xfrm>
            <a:off x="281160" y="98100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ftr" idx="29"/>
          </p:nvPr>
        </p:nvSpPr>
        <p:spPr>
          <a:xfrm>
            <a:off x="3124080" y="65527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sldNum" idx="30"/>
          </p:nvPr>
        </p:nvSpPr>
        <p:spPr>
          <a:xfrm>
            <a:off x="6705720" y="65685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391A-1F7A-4F94-8F9F-1D701B683EEB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traight Connector 8"/>
          <p:cNvSpPr/>
          <p:nvPr/>
        </p:nvSpPr>
        <p:spPr>
          <a:xfrm>
            <a:off x="281160" y="87300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1"/>
          <p:cNvSpPr/>
          <p:nvPr/>
        </p:nvSpPr>
        <p:spPr>
          <a:xfrm>
            <a:off x="281160" y="98100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31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32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D23E-28B6-46AF-85F3-753D4458F0B9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045A-C4F2-4CC6-B9A4-EFB13383E35F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1731-35C6-4DC5-9A9D-1E14D5D3A817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8"/>
          <p:cNvSpPr/>
          <p:nvPr/>
        </p:nvSpPr>
        <p:spPr>
          <a:xfrm>
            <a:off x="281160" y="89676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1"/>
          <p:cNvSpPr/>
          <p:nvPr/>
        </p:nvSpPr>
        <p:spPr>
          <a:xfrm>
            <a:off x="281160" y="100476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AEC3-4613-469E-A7B7-2AB3EE83EA34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traight Connector 8"/>
          <p:cNvSpPr/>
          <p:nvPr/>
        </p:nvSpPr>
        <p:spPr>
          <a:xfrm>
            <a:off x="281160" y="89676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1"/>
          <p:cNvSpPr/>
          <p:nvPr/>
        </p:nvSpPr>
        <p:spPr>
          <a:xfrm>
            <a:off x="281160" y="100476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0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DC72-FD38-47AE-8E87-FDFDC262E5CB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traight Connector 8"/>
          <p:cNvSpPr/>
          <p:nvPr/>
        </p:nvSpPr>
        <p:spPr>
          <a:xfrm>
            <a:off x="281160" y="87300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281160" y="98100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6029-0146-46DC-8165-8A9B299B9F0A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traight Connector 8"/>
          <p:cNvSpPr/>
          <p:nvPr/>
        </p:nvSpPr>
        <p:spPr>
          <a:xfrm>
            <a:off x="281160" y="89676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1"/>
          <p:cNvSpPr/>
          <p:nvPr/>
        </p:nvSpPr>
        <p:spPr>
          <a:xfrm>
            <a:off x="281160" y="100476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3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4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BCC2-3C11-4858-8672-E001C961059E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traight Connector 8"/>
          <p:cNvSpPr/>
          <p:nvPr/>
        </p:nvSpPr>
        <p:spPr>
          <a:xfrm>
            <a:off x="281160" y="87300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1"/>
          <p:cNvSpPr/>
          <p:nvPr/>
        </p:nvSpPr>
        <p:spPr>
          <a:xfrm>
            <a:off x="281160" y="98100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6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88CB-98A9-4D3B-AEC0-BB28252F7C13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traight Connector 8"/>
          <p:cNvSpPr/>
          <p:nvPr/>
        </p:nvSpPr>
        <p:spPr>
          <a:xfrm>
            <a:off x="281160" y="873000"/>
            <a:ext cx="8534160" cy="1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11"/>
          <p:cNvSpPr/>
          <p:nvPr/>
        </p:nvSpPr>
        <p:spPr>
          <a:xfrm>
            <a:off x="281160" y="981000"/>
            <a:ext cx="8534160" cy="1800"/>
          </a:xfrm>
          <a:prstGeom prst="line">
            <a:avLst/>
          </a:prstGeom>
          <a:ln w="38160">
            <a:solidFill>
              <a:srgbClr val="d5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17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rof. Luis Otavio Alv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8"/>
          </p:nvPr>
        </p:nvSpPr>
        <p:spPr>
          <a:xfrm>
            <a:off x="670572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A606-EF60-47B4-9D3E-7532AA283C83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gras de Associação: exercício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f. Luis Otavio Alvar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E/UFS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533520" y="545760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ndo o conjunto de transações a seguir, encont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s frequentes com suporte mínimo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s fechados com suporte mínimo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176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m, com suporte mínimo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354"/>
          <p:cNvGrpSpPr/>
          <p:nvPr/>
        </p:nvGrpSpPr>
        <p:grpSpPr>
          <a:xfrm>
            <a:off x="927000" y="3733920"/>
            <a:ext cx="1968120" cy="1885320"/>
            <a:chOff x="927000" y="3733920"/>
            <a:chExt cx="1968120" cy="1885320"/>
          </a:xfrm>
        </p:grpSpPr>
        <p:sp>
          <p:nvSpPr>
            <p:cNvPr id="669" name="Rectangle 1355"/>
            <p:cNvSpPr/>
            <p:nvPr/>
          </p:nvSpPr>
          <p:spPr>
            <a:xfrm>
              <a:off x="927000" y="3741480"/>
              <a:ext cx="1939680" cy="18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356"/>
            <p:cNvSpPr/>
            <p:nvPr/>
          </p:nvSpPr>
          <p:spPr>
            <a:xfrm>
              <a:off x="992880" y="3746160"/>
              <a:ext cx="30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Ti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57"/>
            <p:cNvSpPr/>
            <p:nvPr/>
          </p:nvSpPr>
          <p:spPr>
            <a:xfrm>
              <a:off x="1166040" y="37461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358"/>
            <p:cNvSpPr/>
            <p:nvPr/>
          </p:nvSpPr>
          <p:spPr>
            <a:xfrm>
              <a:off x="1458720" y="374616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Itemse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359"/>
            <p:cNvSpPr/>
            <p:nvPr/>
          </p:nvSpPr>
          <p:spPr>
            <a:xfrm>
              <a:off x="2598120" y="37461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360"/>
            <p:cNvSpPr/>
            <p:nvPr/>
          </p:nvSpPr>
          <p:spPr>
            <a:xfrm>
              <a:off x="927000" y="3733920"/>
              <a:ext cx="107280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361"/>
            <p:cNvSpPr/>
            <p:nvPr/>
          </p:nvSpPr>
          <p:spPr>
            <a:xfrm>
              <a:off x="1368000" y="3733920"/>
              <a:ext cx="1260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362"/>
            <p:cNvSpPr/>
            <p:nvPr/>
          </p:nvSpPr>
          <p:spPr>
            <a:xfrm>
              <a:off x="1380960" y="3733920"/>
              <a:ext cx="149976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363"/>
            <p:cNvSpPr/>
            <p:nvPr/>
          </p:nvSpPr>
          <p:spPr>
            <a:xfrm>
              <a:off x="2881080" y="3733920"/>
              <a:ext cx="140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364"/>
            <p:cNvSpPr/>
            <p:nvPr/>
          </p:nvSpPr>
          <p:spPr>
            <a:xfrm>
              <a:off x="2881080" y="3733920"/>
              <a:ext cx="140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65"/>
            <p:cNvSpPr/>
            <p:nvPr/>
          </p:nvSpPr>
          <p:spPr>
            <a:xfrm>
              <a:off x="1368000" y="374616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366"/>
            <p:cNvSpPr/>
            <p:nvPr/>
          </p:nvSpPr>
          <p:spPr>
            <a:xfrm>
              <a:off x="2881080" y="3746160"/>
              <a:ext cx="140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367"/>
            <p:cNvSpPr/>
            <p:nvPr/>
          </p:nvSpPr>
          <p:spPr>
            <a:xfrm>
              <a:off x="1046880" y="398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368"/>
            <p:cNvSpPr/>
            <p:nvPr/>
          </p:nvSpPr>
          <p:spPr>
            <a:xfrm>
              <a:off x="1475280" y="4012920"/>
              <a:ext cx="49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, C,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369"/>
            <p:cNvSpPr/>
            <p:nvPr/>
          </p:nvSpPr>
          <p:spPr>
            <a:xfrm>
              <a:off x="1964520" y="40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370"/>
            <p:cNvSpPr/>
            <p:nvPr/>
          </p:nvSpPr>
          <p:spPr>
            <a:xfrm>
              <a:off x="2100240" y="4012920"/>
              <a:ext cx="54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,T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371"/>
            <p:cNvSpPr/>
            <p:nvPr/>
          </p:nvSpPr>
          <p:spPr>
            <a:xfrm>
              <a:off x="2631600" y="40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372"/>
            <p:cNvSpPr/>
            <p:nvPr/>
          </p:nvSpPr>
          <p:spPr>
            <a:xfrm>
              <a:off x="950760" y="4001760"/>
              <a:ext cx="12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373"/>
            <p:cNvSpPr/>
            <p:nvPr/>
          </p:nvSpPr>
          <p:spPr>
            <a:xfrm>
              <a:off x="934920" y="4001760"/>
              <a:ext cx="1072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374"/>
            <p:cNvSpPr/>
            <p:nvPr/>
          </p:nvSpPr>
          <p:spPr>
            <a:xfrm>
              <a:off x="1368000" y="4001760"/>
              <a:ext cx="12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375"/>
            <p:cNvSpPr/>
            <p:nvPr/>
          </p:nvSpPr>
          <p:spPr>
            <a:xfrm>
              <a:off x="1380960" y="4001760"/>
              <a:ext cx="1499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376"/>
            <p:cNvSpPr/>
            <p:nvPr/>
          </p:nvSpPr>
          <p:spPr>
            <a:xfrm>
              <a:off x="2881080" y="4001760"/>
              <a:ext cx="14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377"/>
            <p:cNvSpPr/>
            <p:nvPr/>
          </p:nvSpPr>
          <p:spPr>
            <a:xfrm>
              <a:off x="944280" y="4014720"/>
              <a:ext cx="12240" cy="25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378"/>
            <p:cNvSpPr/>
            <p:nvPr/>
          </p:nvSpPr>
          <p:spPr>
            <a:xfrm>
              <a:off x="1368000" y="4014720"/>
              <a:ext cx="12600" cy="25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379"/>
            <p:cNvSpPr/>
            <p:nvPr/>
          </p:nvSpPr>
          <p:spPr>
            <a:xfrm>
              <a:off x="2881080" y="4014720"/>
              <a:ext cx="14040" cy="25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380"/>
            <p:cNvSpPr/>
            <p:nvPr/>
          </p:nvSpPr>
          <p:spPr>
            <a:xfrm>
              <a:off x="1062720" y="428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381"/>
            <p:cNvSpPr/>
            <p:nvPr/>
          </p:nvSpPr>
          <p:spPr>
            <a:xfrm>
              <a:off x="1470600" y="4282920"/>
              <a:ext cx="797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C, D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382"/>
            <p:cNvSpPr/>
            <p:nvPr/>
          </p:nvSpPr>
          <p:spPr>
            <a:xfrm>
              <a:off x="2260080" y="428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383"/>
            <p:cNvSpPr/>
            <p:nvPr/>
          </p:nvSpPr>
          <p:spPr>
            <a:xfrm>
              <a:off x="950760" y="4269960"/>
              <a:ext cx="122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384"/>
            <p:cNvSpPr/>
            <p:nvPr/>
          </p:nvSpPr>
          <p:spPr>
            <a:xfrm>
              <a:off x="956880" y="4269960"/>
              <a:ext cx="10728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385"/>
            <p:cNvSpPr/>
            <p:nvPr/>
          </p:nvSpPr>
          <p:spPr>
            <a:xfrm>
              <a:off x="1368000" y="4269960"/>
              <a:ext cx="126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386"/>
            <p:cNvSpPr/>
            <p:nvPr/>
          </p:nvSpPr>
          <p:spPr>
            <a:xfrm>
              <a:off x="1380960" y="4269960"/>
              <a:ext cx="14997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387"/>
            <p:cNvSpPr/>
            <p:nvPr/>
          </p:nvSpPr>
          <p:spPr>
            <a:xfrm>
              <a:off x="2881080" y="4269960"/>
              <a:ext cx="140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388"/>
            <p:cNvSpPr/>
            <p:nvPr/>
          </p:nvSpPr>
          <p:spPr>
            <a:xfrm>
              <a:off x="944280" y="4284360"/>
              <a:ext cx="1224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389"/>
            <p:cNvSpPr/>
            <p:nvPr/>
          </p:nvSpPr>
          <p:spPr>
            <a:xfrm>
              <a:off x="1368000" y="4284360"/>
              <a:ext cx="1260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390"/>
            <p:cNvSpPr/>
            <p:nvPr/>
          </p:nvSpPr>
          <p:spPr>
            <a:xfrm>
              <a:off x="2881080" y="4284360"/>
              <a:ext cx="1404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391"/>
            <p:cNvSpPr/>
            <p:nvPr/>
          </p:nvSpPr>
          <p:spPr>
            <a:xfrm>
              <a:off x="1062720" y="455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392"/>
            <p:cNvSpPr/>
            <p:nvPr/>
          </p:nvSpPr>
          <p:spPr>
            <a:xfrm>
              <a:off x="1164600" y="4552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393"/>
            <p:cNvSpPr/>
            <p:nvPr/>
          </p:nvSpPr>
          <p:spPr>
            <a:xfrm>
              <a:off x="1470600" y="455256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, D, T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94"/>
            <p:cNvSpPr/>
            <p:nvPr/>
          </p:nvSpPr>
          <p:spPr>
            <a:xfrm>
              <a:off x="2445840" y="4552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95"/>
            <p:cNvSpPr/>
            <p:nvPr/>
          </p:nvSpPr>
          <p:spPr>
            <a:xfrm>
              <a:off x="950760" y="4539960"/>
              <a:ext cx="122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96"/>
            <p:cNvSpPr/>
            <p:nvPr/>
          </p:nvSpPr>
          <p:spPr>
            <a:xfrm>
              <a:off x="934920" y="4539960"/>
              <a:ext cx="10724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397"/>
            <p:cNvSpPr/>
            <p:nvPr/>
          </p:nvSpPr>
          <p:spPr>
            <a:xfrm>
              <a:off x="1368000" y="4539960"/>
              <a:ext cx="1260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98"/>
            <p:cNvSpPr/>
            <p:nvPr/>
          </p:nvSpPr>
          <p:spPr>
            <a:xfrm>
              <a:off x="1380960" y="4539960"/>
              <a:ext cx="149976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399"/>
            <p:cNvSpPr/>
            <p:nvPr/>
          </p:nvSpPr>
          <p:spPr>
            <a:xfrm>
              <a:off x="2881080" y="4539960"/>
              <a:ext cx="140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400"/>
            <p:cNvSpPr/>
            <p:nvPr/>
          </p:nvSpPr>
          <p:spPr>
            <a:xfrm>
              <a:off x="944280" y="4552560"/>
              <a:ext cx="122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401"/>
            <p:cNvSpPr/>
            <p:nvPr/>
          </p:nvSpPr>
          <p:spPr>
            <a:xfrm>
              <a:off x="1368000" y="455256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402"/>
            <p:cNvSpPr/>
            <p:nvPr/>
          </p:nvSpPr>
          <p:spPr>
            <a:xfrm>
              <a:off x="2881080" y="4552560"/>
              <a:ext cx="140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403"/>
            <p:cNvSpPr/>
            <p:nvPr/>
          </p:nvSpPr>
          <p:spPr>
            <a:xfrm>
              <a:off x="1062720" y="4819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404"/>
            <p:cNvSpPr/>
            <p:nvPr/>
          </p:nvSpPr>
          <p:spPr>
            <a:xfrm>
              <a:off x="1164600" y="481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405"/>
            <p:cNvSpPr/>
            <p:nvPr/>
          </p:nvSpPr>
          <p:spPr>
            <a:xfrm>
              <a:off x="1470960" y="4819320"/>
              <a:ext cx="99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, C, D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406"/>
            <p:cNvSpPr/>
            <p:nvPr/>
          </p:nvSpPr>
          <p:spPr>
            <a:xfrm>
              <a:off x="2457000" y="481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407"/>
            <p:cNvSpPr/>
            <p:nvPr/>
          </p:nvSpPr>
          <p:spPr>
            <a:xfrm>
              <a:off x="950760" y="4808160"/>
              <a:ext cx="12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408"/>
            <p:cNvSpPr/>
            <p:nvPr/>
          </p:nvSpPr>
          <p:spPr>
            <a:xfrm>
              <a:off x="958680" y="4808160"/>
              <a:ext cx="1072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409"/>
            <p:cNvSpPr/>
            <p:nvPr/>
          </p:nvSpPr>
          <p:spPr>
            <a:xfrm>
              <a:off x="1368000" y="4808160"/>
              <a:ext cx="12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410"/>
            <p:cNvSpPr/>
            <p:nvPr/>
          </p:nvSpPr>
          <p:spPr>
            <a:xfrm>
              <a:off x="1380960" y="4808160"/>
              <a:ext cx="1499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411"/>
            <p:cNvSpPr/>
            <p:nvPr/>
          </p:nvSpPr>
          <p:spPr>
            <a:xfrm>
              <a:off x="2881080" y="4808160"/>
              <a:ext cx="14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412"/>
            <p:cNvSpPr/>
            <p:nvPr/>
          </p:nvSpPr>
          <p:spPr>
            <a:xfrm>
              <a:off x="944280" y="4821120"/>
              <a:ext cx="122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413"/>
            <p:cNvSpPr/>
            <p:nvPr/>
          </p:nvSpPr>
          <p:spPr>
            <a:xfrm>
              <a:off x="1368000" y="482112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414"/>
            <p:cNvSpPr/>
            <p:nvPr/>
          </p:nvSpPr>
          <p:spPr>
            <a:xfrm>
              <a:off x="2881080" y="4821120"/>
              <a:ext cx="140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415"/>
            <p:cNvSpPr/>
            <p:nvPr/>
          </p:nvSpPr>
          <p:spPr>
            <a:xfrm>
              <a:off x="1062720" y="5089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416"/>
            <p:cNvSpPr/>
            <p:nvPr/>
          </p:nvSpPr>
          <p:spPr>
            <a:xfrm>
              <a:off x="1164600" y="508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417"/>
            <p:cNvSpPr/>
            <p:nvPr/>
          </p:nvSpPr>
          <p:spPr>
            <a:xfrm>
              <a:off x="1465560" y="508932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, C, D, T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418"/>
            <p:cNvSpPr/>
            <p:nvPr/>
          </p:nvSpPr>
          <p:spPr>
            <a:xfrm>
              <a:off x="2682360" y="508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419"/>
            <p:cNvSpPr/>
            <p:nvPr/>
          </p:nvSpPr>
          <p:spPr>
            <a:xfrm>
              <a:off x="950760" y="5076720"/>
              <a:ext cx="1224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420"/>
            <p:cNvSpPr/>
            <p:nvPr/>
          </p:nvSpPr>
          <p:spPr>
            <a:xfrm>
              <a:off x="934920" y="5076720"/>
              <a:ext cx="107244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421"/>
            <p:cNvSpPr/>
            <p:nvPr/>
          </p:nvSpPr>
          <p:spPr>
            <a:xfrm>
              <a:off x="1368000" y="5076720"/>
              <a:ext cx="1260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422"/>
            <p:cNvSpPr/>
            <p:nvPr/>
          </p:nvSpPr>
          <p:spPr>
            <a:xfrm>
              <a:off x="1380960" y="5076720"/>
              <a:ext cx="14997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423"/>
            <p:cNvSpPr/>
            <p:nvPr/>
          </p:nvSpPr>
          <p:spPr>
            <a:xfrm>
              <a:off x="2881080" y="5076720"/>
              <a:ext cx="1404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424"/>
            <p:cNvSpPr/>
            <p:nvPr/>
          </p:nvSpPr>
          <p:spPr>
            <a:xfrm>
              <a:off x="944280" y="5090760"/>
              <a:ext cx="1224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425"/>
            <p:cNvSpPr/>
            <p:nvPr/>
          </p:nvSpPr>
          <p:spPr>
            <a:xfrm>
              <a:off x="1368000" y="5090760"/>
              <a:ext cx="1260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426"/>
            <p:cNvSpPr/>
            <p:nvPr/>
          </p:nvSpPr>
          <p:spPr>
            <a:xfrm>
              <a:off x="2881080" y="5090760"/>
              <a:ext cx="1404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427"/>
            <p:cNvSpPr/>
            <p:nvPr/>
          </p:nvSpPr>
          <p:spPr>
            <a:xfrm>
              <a:off x="1062720" y="5359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428"/>
            <p:cNvSpPr/>
            <p:nvPr/>
          </p:nvSpPr>
          <p:spPr>
            <a:xfrm>
              <a:off x="1164600" y="535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429"/>
            <p:cNvSpPr/>
            <p:nvPr/>
          </p:nvSpPr>
          <p:spPr>
            <a:xfrm>
              <a:off x="1470240" y="5359320"/>
              <a:ext cx="73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C, D, T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430"/>
            <p:cNvSpPr/>
            <p:nvPr/>
          </p:nvSpPr>
          <p:spPr>
            <a:xfrm>
              <a:off x="2193480" y="535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431"/>
            <p:cNvSpPr/>
            <p:nvPr/>
          </p:nvSpPr>
          <p:spPr>
            <a:xfrm>
              <a:off x="950760" y="5346360"/>
              <a:ext cx="12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432"/>
            <p:cNvSpPr/>
            <p:nvPr/>
          </p:nvSpPr>
          <p:spPr>
            <a:xfrm>
              <a:off x="934920" y="5346360"/>
              <a:ext cx="1072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433"/>
            <p:cNvSpPr/>
            <p:nvPr/>
          </p:nvSpPr>
          <p:spPr>
            <a:xfrm>
              <a:off x="1368000" y="5346360"/>
              <a:ext cx="12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434"/>
            <p:cNvSpPr/>
            <p:nvPr/>
          </p:nvSpPr>
          <p:spPr>
            <a:xfrm>
              <a:off x="1380960" y="5346360"/>
              <a:ext cx="1499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435"/>
            <p:cNvSpPr/>
            <p:nvPr/>
          </p:nvSpPr>
          <p:spPr>
            <a:xfrm>
              <a:off x="2881080" y="5346360"/>
              <a:ext cx="14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436"/>
            <p:cNvSpPr/>
            <p:nvPr/>
          </p:nvSpPr>
          <p:spPr>
            <a:xfrm>
              <a:off x="944280" y="5359320"/>
              <a:ext cx="122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437"/>
            <p:cNvSpPr/>
            <p:nvPr/>
          </p:nvSpPr>
          <p:spPr>
            <a:xfrm>
              <a:off x="1368000" y="535932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438"/>
            <p:cNvSpPr/>
            <p:nvPr/>
          </p:nvSpPr>
          <p:spPr>
            <a:xfrm>
              <a:off x="2881080" y="5359320"/>
              <a:ext cx="140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439"/>
            <p:cNvSpPr/>
            <p:nvPr/>
          </p:nvSpPr>
          <p:spPr>
            <a:xfrm>
              <a:off x="1393560" y="5606640"/>
              <a:ext cx="1499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440"/>
            <p:cNvSpPr/>
            <p:nvPr/>
          </p:nvSpPr>
          <p:spPr>
            <a:xfrm>
              <a:off x="939600" y="5606640"/>
              <a:ext cx="1072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441"/>
            <p:cNvSpPr/>
            <p:nvPr/>
          </p:nvSpPr>
          <p:spPr>
            <a:xfrm>
              <a:off x="945720" y="374616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Box 90"/>
          <p:cNvSpPr/>
          <p:nvPr/>
        </p:nvSpPr>
        <p:spPr>
          <a:xfrm>
            <a:off x="45720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ício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00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da considerando o arquivo de transações abaixo, construa a FP-tree para suporte mínimo=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"/>
          <p:cNvSpPr/>
          <p:nvPr/>
        </p:nvSpPr>
        <p:spPr>
          <a:xfrm>
            <a:off x="45720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ício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1354"/>
          <p:cNvGrpSpPr/>
          <p:nvPr/>
        </p:nvGrpSpPr>
        <p:grpSpPr>
          <a:xfrm>
            <a:off x="927000" y="3733920"/>
            <a:ext cx="1968120" cy="1885320"/>
            <a:chOff x="927000" y="3733920"/>
            <a:chExt cx="1968120" cy="1885320"/>
          </a:xfrm>
        </p:grpSpPr>
        <p:sp>
          <p:nvSpPr>
            <p:cNvPr id="760" name="Rectangle 1355"/>
            <p:cNvSpPr/>
            <p:nvPr/>
          </p:nvSpPr>
          <p:spPr>
            <a:xfrm>
              <a:off x="927000" y="3741480"/>
              <a:ext cx="1939680" cy="18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356"/>
            <p:cNvSpPr/>
            <p:nvPr/>
          </p:nvSpPr>
          <p:spPr>
            <a:xfrm>
              <a:off x="992880" y="3746160"/>
              <a:ext cx="30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Ti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357"/>
            <p:cNvSpPr/>
            <p:nvPr/>
          </p:nvSpPr>
          <p:spPr>
            <a:xfrm>
              <a:off x="1166040" y="37461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58"/>
            <p:cNvSpPr/>
            <p:nvPr/>
          </p:nvSpPr>
          <p:spPr>
            <a:xfrm>
              <a:off x="1458720" y="374616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Itemse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359"/>
            <p:cNvSpPr/>
            <p:nvPr/>
          </p:nvSpPr>
          <p:spPr>
            <a:xfrm>
              <a:off x="2598120" y="37461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360"/>
            <p:cNvSpPr/>
            <p:nvPr/>
          </p:nvSpPr>
          <p:spPr>
            <a:xfrm>
              <a:off x="927000" y="3733920"/>
              <a:ext cx="107280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361"/>
            <p:cNvSpPr/>
            <p:nvPr/>
          </p:nvSpPr>
          <p:spPr>
            <a:xfrm>
              <a:off x="1368000" y="3733920"/>
              <a:ext cx="1260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362"/>
            <p:cNvSpPr/>
            <p:nvPr/>
          </p:nvSpPr>
          <p:spPr>
            <a:xfrm>
              <a:off x="1380960" y="3733920"/>
              <a:ext cx="149976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363"/>
            <p:cNvSpPr/>
            <p:nvPr/>
          </p:nvSpPr>
          <p:spPr>
            <a:xfrm>
              <a:off x="2881080" y="3733920"/>
              <a:ext cx="140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364"/>
            <p:cNvSpPr/>
            <p:nvPr/>
          </p:nvSpPr>
          <p:spPr>
            <a:xfrm>
              <a:off x="2881080" y="3733920"/>
              <a:ext cx="140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365"/>
            <p:cNvSpPr/>
            <p:nvPr/>
          </p:nvSpPr>
          <p:spPr>
            <a:xfrm>
              <a:off x="1368000" y="374616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66"/>
            <p:cNvSpPr/>
            <p:nvPr/>
          </p:nvSpPr>
          <p:spPr>
            <a:xfrm>
              <a:off x="2881080" y="3746160"/>
              <a:ext cx="140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367"/>
            <p:cNvSpPr/>
            <p:nvPr/>
          </p:nvSpPr>
          <p:spPr>
            <a:xfrm>
              <a:off x="1046880" y="398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368"/>
            <p:cNvSpPr/>
            <p:nvPr/>
          </p:nvSpPr>
          <p:spPr>
            <a:xfrm>
              <a:off x="1475280" y="4012920"/>
              <a:ext cx="49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, C,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369"/>
            <p:cNvSpPr/>
            <p:nvPr/>
          </p:nvSpPr>
          <p:spPr>
            <a:xfrm>
              <a:off x="1964520" y="40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370"/>
            <p:cNvSpPr/>
            <p:nvPr/>
          </p:nvSpPr>
          <p:spPr>
            <a:xfrm>
              <a:off x="2100240" y="4012920"/>
              <a:ext cx="54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,T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371"/>
            <p:cNvSpPr/>
            <p:nvPr/>
          </p:nvSpPr>
          <p:spPr>
            <a:xfrm>
              <a:off x="2631600" y="40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372"/>
            <p:cNvSpPr/>
            <p:nvPr/>
          </p:nvSpPr>
          <p:spPr>
            <a:xfrm>
              <a:off x="950760" y="4001760"/>
              <a:ext cx="12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373"/>
            <p:cNvSpPr/>
            <p:nvPr/>
          </p:nvSpPr>
          <p:spPr>
            <a:xfrm>
              <a:off x="934920" y="4001760"/>
              <a:ext cx="1072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74"/>
            <p:cNvSpPr/>
            <p:nvPr/>
          </p:nvSpPr>
          <p:spPr>
            <a:xfrm>
              <a:off x="1368000" y="4001760"/>
              <a:ext cx="12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375"/>
            <p:cNvSpPr/>
            <p:nvPr/>
          </p:nvSpPr>
          <p:spPr>
            <a:xfrm>
              <a:off x="1380960" y="4001760"/>
              <a:ext cx="1499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376"/>
            <p:cNvSpPr/>
            <p:nvPr/>
          </p:nvSpPr>
          <p:spPr>
            <a:xfrm>
              <a:off x="2881080" y="4001760"/>
              <a:ext cx="14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377"/>
            <p:cNvSpPr/>
            <p:nvPr/>
          </p:nvSpPr>
          <p:spPr>
            <a:xfrm>
              <a:off x="944280" y="4014720"/>
              <a:ext cx="12240" cy="25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378"/>
            <p:cNvSpPr/>
            <p:nvPr/>
          </p:nvSpPr>
          <p:spPr>
            <a:xfrm>
              <a:off x="1368000" y="4014720"/>
              <a:ext cx="12600" cy="25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379"/>
            <p:cNvSpPr/>
            <p:nvPr/>
          </p:nvSpPr>
          <p:spPr>
            <a:xfrm>
              <a:off x="2881080" y="4014720"/>
              <a:ext cx="14040" cy="25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380"/>
            <p:cNvSpPr/>
            <p:nvPr/>
          </p:nvSpPr>
          <p:spPr>
            <a:xfrm>
              <a:off x="1062720" y="428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381"/>
            <p:cNvSpPr/>
            <p:nvPr/>
          </p:nvSpPr>
          <p:spPr>
            <a:xfrm>
              <a:off x="1470600" y="4282920"/>
              <a:ext cx="797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C, D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382"/>
            <p:cNvSpPr/>
            <p:nvPr/>
          </p:nvSpPr>
          <p:spPr>
            <a:xfrm>
              <a:off x="2260080" y="428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383"/>
            <p:cNvSpPr/>
            <p:nvPr/>
          </p:nvSpPr>
          <p:spPr>
            <a:xfrm>
              <a:off x="950760" y="4269960"/>
              <a:ext cx="122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384"/>
            <p:cNvSpPr/>
            <p:nvPr/>
          </p:nvSpPr>
          <p:spPr>
            <a:xfrm>
              <a:off x="956880" y="4269960"/>
              <a:ext cx="10728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385"/>
            <p:cNvSpPr/>
            <p:nvPr/>
          </p:nvSpPr>
          <p:spPr>
            <a:xfrm>
              <a:off x="1368000" y="4269960"/>
              <a:ext cx="126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386"/>
            <p:cNvSpPr/>
            <p:nvPr/>
          </p:nvSpPr>
          <p:spPr>
            <a:xfrm>
              <a:off x="1380960" y="4269960"/>
              <a:ext cx="14997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387"/>
            <p:cNvSpPr/>
            <p:nvPr/>
          </p:nvSpPr>
          <p:spPr>
            <a:xfrm>
              <a:off x="2881080" y="4269960"/>
              <a:ext cx="140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388"/>
            <p:cNvSpPr/>
            <p:nvPr/>
          </p:nvSpPr>
          <p:spPr>
            <a:xfrm>
              <a:off x="944280" y="4284360"/>
              <a:ext cx="1224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389"/>
            <p:cNvSpPr/>
            <p:nvPr/>
          </p:nvSpPr>
          <p:spPr>
            <a:xfrm>
              <a:off x="1368000" y="4284360"/>
              <a:ext cx="1260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390"/>
            <p:cNvSpPr/>
            <p:nvPr/>
          </p:nvSpPr>
          <p:spPr>
            <a:xfrm>
              <a:off x="2881080" y="4284360"/>
              <a:ext cx="1404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391"/>
            <p:cNvSpPr/>
            <p:nvPr/>
          </p:nvSpPr>
          <p:spPr>
            <a:xfrm>
              <a:off x="1062720" y="455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392"/>
            <p:cNvSpPr/>
            <p:nvPr/>
          </p:nvSpPr>
          <p:spPr>
            <a:xfrm>
              <a:off x="1164600" y="4552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393"/>
            <p:cNvSpPr/>
            <p:nvPr/>
          </p:nvSpPr>
          <p:spPr>
            <a:xfrm>
              <a:off x="1470600" y="455256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, D, T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394"/>
            <p:cNvSpPr/>
            <p:nvPr/>
          </p:nvSpPr>
          <p:spPr>
            <a:xfrm>
              <a:off x="2445840" y="4552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395"/>
            <p:cNvSpPr/>
            <p:nvPr/>
          </p:nvSpPr>
          <p:spPr>
            <a:xfrm>
              <a:off x="950760" y="4539960"/>
              <a:ext cx="122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396"/>
            <p:cNvSpPr/>
            <p:nvPr/>
          </p:nvSpPr>
          <p:spPr>
            <a:xfrm>
              <a:off x="934920" y="4539960"/>
              <a:ext cx="10724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397"/>
            <p:cNvSpPr/>
            <p:nvPr/>
          </p:nvSpPr>
          <p:spPr>
            <a:xfrm>
              <a:off x="1368000" y="4539960"/>
              <a:ext cx="1260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398"/>
            <p:cNvSpPr/>
            <p:nvPr/>
          </p:nvSpPr>
          <p:spPr>
            <a:xfrm>
              <a:off x="1380960" y="4539960"/>
              <a:ext cx="149976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399"/>
            <p:cNvSpPr/>
            <p:nvPr/>
          </p:nvSpPr>
          <p:spPr>
            <a:xfrm>
              <a:off x="2881080" y="4539960"/>
              <a:ext cx="14040" cy="1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400"/>
            <p:cNvSpPr/>
            <p:nvPr/>
          </p:nvSpPr>
          <p:spPr>
            <a:xfrm>
              <a:off x="944280" y="4552560"/>
              <a:ext cx="122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401"/>
            <p:cNvSpPr/>
            <p:nvPr/>
          </p:nvSpPr>
          <p:spPr>
            <a:xfrm>
              <a:off x="1368000" y="455256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402"/>
            <p:cNvSpPr/>
            <p:nvPr/>
          </p:nvSpPr>
          <p:spPr>
            <a:xfrm>
              <a:off x="2881080" y="4552560"/>
              <a:ext cx="140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403"/>
            <p:cNvSpPr/>
            <p:nvPr/>
          </p:nvSpPr>
          <p:spPr>
            <a:xfrm>
              <a:off x="1062720" y="4819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404"/>
            <p:cNvSpPr/>
            <p:nvPr/>
          </p:nvSpPr>
          <p:spPr>
            <a:xfrm>
              <a:off x="1164600" y="481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405"/>
            <p:cNvSpPr/>
            <p:nvPr/>
          </p:nvSpPr>
          <p:spPr>
            <a:xfrm>
              <a:off x="1470960" y="4819320"/>
              <a:ext cx="99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, C, D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406"/>
            <p:cNvSpPr/>
            <p:nvPr/>
          </p:nvSpPr>
          <p:spPr>
            <a:xfrm>
              <a:off x="2457000" y="481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407"/>
            <p:cNvSpPr/>
            <p:nvPr/>
          </p:nvSpPr>
          <p:spPr>
            <a:xfrm>
              <a:off x="950760" y="4808160"/>
              <a:ext cx="12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408"/>
            <p:cNvSpPr/>
            <p:nvPr/>
          </p:nvSpPr>
          <p:spPr>
            <a:xfrm>
              <a:off x="958680" y="4808160"/>
              <a:ext cx="1072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409"/>
            <p:cNvSpPr/>
            <p:nvPr/>
          </p:nvSpPr>
          <p:spPr>
            <a:xfrm>
              <a:off x="1368000" y="4808160"/>
              <a:ext cx="12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410"/>
            <p:cNvSpPr/>
            <p:nvPr/>
          </p:nvSpPr>
          <p:spPr>
            <a:xfrm>
              <a:off x="1380960" y="4808160"/>
              <a:ext cx="1499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411"/>
            <p:cNvSpPr/>
            <p:nvPr/>
          </p:nvSpPr>
          <p:spPr>
            <a:xfrm>
              <a:off x="2881080" y="4808160"/>
              <a:ext cx="14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412"/>
            <p:cNvSpPr/>
            <p:nvPr/>
          </p:nvSpPr>
          <p:spPr>
            <a:xfrm>
              <a:off x="944280" y="4821120"/>
              <a:ext cx="122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413"/>
            <p:cNvSpPr/>
            <p:nvPr/>
          </p:nvSpPr>
          <p:spPr>
            <a:xfrm>
              <a:off x="1368000" y="482112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414"/>
            <p:cNvSpPr/>
            <p:nvPr/>
          </p:nvSpPr>
          <p:spPr>
            <a:xfrm>
              <a:off x="2881080" y="4821120"/>
              <a:ext cx="140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415"/>
            <p:cNvSpPr/>
            <p:nvPr/>
          </p:nvSpPr>
          <p:spPr>
            <a:xfrm>
              <a:off x="1062720" y="5089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416"/>
            <p:cNvSpPr/>
            <p:nvPr/>
          </p:nvSpPr>
          <p:spPr>
            <a:xfrm>
              <a:off x="1164600" y="508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417"/>
            <p:cNvSpPr/>
            <p:nvPr/>
          </p:nvSpPr>
          <p:spPr>
            <a:xfrm>
              <a:off x="1465560" y="5089320"/>
              <a:ext cx="123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, C, D, T, W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418"/>
            <p:cNvSpPr/>
            <p:nvPr/>
          </p:nvSpPr>
          <p:spPr>
            <a:xfrm>
              <a:off x="2682360" y="508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419"/>
            <p:cNvSpPr/>
            <p:nvPr/>
          </p:nvSpPr>
          <p:spPr>
            <a:xfrm>
              <a:off x="950760" y="5076720"/>
              <a:ext cx="1224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420"/>
            <p:cNvSpPr/>
            <p:nvPr/>
          </p:nvSpPr>
          <p:spPr>
            <a:xfrm>
              <a:off x="934920" y="5076720"/>
              <a:ext cx="107244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421"/>
            <p:cNvSpPr/>
            <p:nvPr/>
          </p:nvSpPr>
          <p:spPr>
            <a:xfrm>
              <a:off x="1368000" y="5076720"/>
              <a:ext cx="1260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422"/>
            <p:cNvSpPr/>
            <p:nvPr/>
          </p:nvSpPr>
          <p:spPr>
            <a:xfrm>
              <a:off x="1380960" y="5076720"/>
              <a:ext cx="14997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423"/>
            <p:cNvSpPr/>
            <p:nvPr/>
          </p:nvSpPr>
          <p:spPr>
            <a:xfrm>
              <a:off x="2881080" y="5076720"/>
              <a:ext cx="1404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424"/>
            <p:cNvSpPr/>
            <p:nvPr/>
          </p:nvSpPr>
          <p:spPr>
            <a:xfrm>
              <a:off x="944280" y="5090760"/>
              <a:ext cx="1224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425"/>
            <p:cNvSpPr/>
            <p:nvPr/>
          </p:nvSpPr>
          <p:spPr>
            <a:xfrm>
              <a:off x="1368000" y="5090760"/>
              <a:ext cx="1260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426"/>
            <p:cNvSpPr/>
            <p:nvPr/>
          </p:nvSpPr>
          <p:spPr>
            <a:xfrm>
              <a:off x="2881080" y="5090760"/>
              <a:ext cx="1404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427"/>
            <p:cNvSpPr/>
            <p:nvPr/>
          </p:nvSpPr>
          <p:spPr>
            <a:xfrm>
              <a:off x="1062720" y="5359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428"/>
            <p:cNvSpPr/>
            <p:nvPr/>
          </p:nvSpPr>
          <p:spPr>
            <a:xfrm>
              <a:off x="1164600" y="535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429"/>
            <p:cNvSpPr/>
            <p:nvPr/>
          </p:nvSpPr>
          <p:spPr>
            <a:xfrm>
              <a:off x="1470240" y="5359320"/>
              <a:ext cx="73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C, D, T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430"/>
            <p:cNvSpPr/>
            <p:nvPr/>
          </p:nvSpPr>
          <p:spPr>
            <a:xfrm>
              <a:off x="2193480" y="5359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431"/>
            <p:cNvSpPr/>
            <p:nvPr/>
          </p:nvSpPr>
          <p:spPr>
            <a:xfrm>
              <a:off x="950760" y="5346360"/>
              <a:ext cx="12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432"/>
            <p:cNvSpPr/>
            <p:nvPr/>
          </p:nvSpPr>
          <p:spPr>
            <a:xfrm>
              <a:off x="934920" y="5346360"/>
              <a:ext cx="1072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433"/>
            <p:cNvSpPr/>
            <p:nvPr/>
          </p:nvSpPr>
          <p:spPr>
            <a:xfrm>
              <a:off x="1368000" y="5346360"/>
              <a:ext cx="12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434"/>
            <p:cNvSpPr/>
            <p:nvPr/>
          </p:nvSpPr>
          <p:spPr>
            <a:xfrm>
              <a:off x="1380960" y="5346360"/>
              <a:ext cx="1499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435"/>
            <p:cNvSpPr/>
            <p:nvPr/>
          </p:nvSpPr>
          <p:spPr>
            <a:xfrm>
              <a:off x="2881080" y="5346360"/>
              <a:ext cx="14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436"/>
            <p:cNvSpPr/>
            <p:nvPr/>
          </p:nvSpPr>
          <p:spPr>
            <a:xfrm>
              <a:off x="944280" y="5359320"/>
              <a:ext cx="122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437"/>
            <p:cNvSpPr/>
            <p:nvPr/>
          </p:nvSpPr>
          <p:spPr>
            <a:xfrm>
              <a:off x="1368000" y="535932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438"/>
            <p:cNvSpPr/>
            <p:nvPr/>
          </p:nvSpPr>
          <p:spPr>
            <a:xfrm>
              <a:off x="2881080" y="5359320"/>
              <a:ext cx="1404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439"/>
            <p:cNvSpPr/>
            <p:nvPr/>
          </p:nvSpPr>
          <p:spPr>
            <a:xfrm>
              <a:off x="1393560" y="5606640"/>
              <a:ext cx="1499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440"/>
            <p:cNvSpPr/>
            <p:nvPr/>
          </p:nvSpPr>
          <p:spPr>
            <a:xfrm>
              <a:off x="939600" y="5606640"/>
              <a:ext cx="1072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441"/>
            <p:cNvSpPr/>
            <p:nvPr/>
          </p:nvSpPr>
          <p:spPr>
            <a:xfrm>
              <a:off x="945720" y="3746160"/>
              <a:ext cx="1260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3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re todas as regras de associação que podem ser criadas a partir do conjunto frequente {X,Y,Z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"/>
          <p:cNvSpPr/>
          <p:nvPr/>
        </p:nvSpPr>
        <p:spPr>
          <a:xfrm>
            <a:off x="45720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ício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ndo o arquivo de transações abaixo, encontre todas as regras de associação com suporte mínimo 40%  e confiança mínima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"/>
          <p:cNvSpPr/>
          <p:nvPr/>
        </p:nvSpPr>
        <p:spPr>
          <a:xfrm>
            <a:off x="45720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ício 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838080" y="2438280"/>
          <a:ext cx="4876920" cy="4023000"/>
        </p:xfrm>
        <a:graphic>
          <a:graphicData uri="http://schemas.openxmlformats.org/drawingml/2006/table">
            <a:tbl>
              <a:tblPr/>
              <a:tblGrid>
                <a:gridCol w="669960"/>
                <a:gridCol w="4206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ns comprad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0c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,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E,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G,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H,I,J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,C,D,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E,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,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C,J,K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,C,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ndo o arquivo de transações abaixo, encontre os padrões sequenciais (sequências máximas) com suporte mínimo 0,5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"/>
          <p:cNvSpPr/>
          <p:nvPr/>
        </p:nvSpPr>
        <p:spPr>
          <a:xfrm>
            <a:off x="45720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ício 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990720" y="1981080"/>
          <a:ext cx="3657600" cy="4694400"/>
        </p:xfrm>
        <a:graphic>
          <a:graphicData uri="http://schemas.openxmlformats.org/drawingml/2006/table">
            <a:tbl>
              <a:tblPr/>
              <a:tblGrid>
                <a:gridCol w="914400"/>
                <a:gridCol w="838080"/>
                <a:gridCol w="1905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ns comprado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0c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F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,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4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410760" y="1142640"/>
            <a:ext cx="8318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2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idere o seguinte conjunto de transações e um suporte mínimo de 4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quais 3-itemsets o  algoritmo Apriori conta o suport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2666880" y="2041560"/>
          <a:ext cx="2743200" cy="2225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açã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DF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EG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bff"/>
                    </a:solidFill>
                  </a:tcPr>
                </a:tc>
              </a:tr>
            </a:tbl>
          </a:graphicData>
        </a:graphic>
      </p:graphicFrame>
      <p:sp>
        <p:nvSpPr>
          <p:cNvPr id="857" name="TextBox 4"/>
          <p:cNvSpPr/>
          <p:nvPr/>
        </p:nvSpPr>
        <p:spPr>
          <a:xfrm>
            <a:off x="685800" y="228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ício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dc:language>en-US</dc:language>
  <cp:lastModifiedBy>Luis Otavio</cp:lastModifiedBy>
  <cp:lastPrinted>2001-08-28T17:59:37Z</cp:lastPrinted>
  <dcterms:modified xsi:type="dcterms:W3CDTF">2012-10-30T21:54:43Z</dcterms:modified>
  <cp:revision>543</cp:revision>
  <dc:subject/>
  <dc:title>Steven F. Ashby Center for Applied Scientific Computing  Month DD, 1997</dc:title>
</cp:coreProperties>
</file>