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D99-8AA4-4AE9-8E0E-DD65B245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224-0342-4144-B774-BAA9D39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158-DE32-48EB-9D57-889AF31A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7DB-43FC-4EDD-81AA-B1C2124B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22A-5AB0-4602-AAA5-9DAB7E7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125-2864-491F-9683-5CBF0BE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D15-9CC0-4DA4-AF05-F3937AE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4DD-8BCB-45BF-B880-CFF55BC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5F8-0226-471E-9A26-7D009996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CD0-920E-4C5F-AC8B-903BC5A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0B2-94F7-457F-B7FF-451F85F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F07-E954-4C53-BD5A-7CB67C2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9288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3928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5166-11C4-447D-878F-9E2F9E7C2F32}" type="slidenum">
              <a:rPr b="0" lang="en-US" sz="1400" spc="-1" strike="noStrike">
                <a:solidFill>
                  <a:srgbClr val="ff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Concepções de Sistema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acharelado em Sistemas de Informaçã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pt-BR" sz="2800" spc="-1" strike="noStrike" u="sng" baseline="30000">
                <a:solidFill>
                  <a:srgbClr val="3333cc"/>
                </a:solidFill>
                <a:uFillTx/>
                <a:latin typeface="Comic Sans MS"/>
              </a:rPr>
              <a:t>a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fa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4 crédi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te 2 de 8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43430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Prof. João Bosco da Mota Al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INE/CTC/UFS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rço de 2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8DD-A575-4DD3-801D-2F3E536A90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ordagem sistêm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través de TGS, oferece essa alternativa, descobrindo princípios comuns a todo tipo de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disciplinar, TGS pretende super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ragmentação do conhec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isolacionismo implícito nos especialismos científ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um mundo crescentemente complex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B83-7F66-4203-8378-D5081A3227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roblema, segundo Gerald Weinberg [1], é que a ciência e a engenharia foram incapazes de prever os efeitos colaterais de segunda ordem, produzidos pelas suas vitórias de primeira ord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uns exemplos podem esclarecer melhor esses efeitos de segunda ord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C16-0D5D-493C-82A5-E57F97745B48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ruição ambiental e mudança climá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matamento e desertific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úmulo de lixo (incluindo o nuclea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uição (ar, água,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minuição da camada ozôn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tinção de espé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são populacional e crimina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EAC-E653-4A5D-99D1-71E49199BEAF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rbanização, desemprego, misé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perdício de energia limit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ércio e empobrecimento cul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uição sonora, visual e de d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upção, drogas e A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iúra ambiental (concreto e asfal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342-CE44-405C-8F93-574BA0D4004D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clássica, superespecializada e compartimentalizada, era incapaz de manusear problemas de complexidade cresc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ntativa de reduzir a complexidade para estudar seus constituintes e, daí, compreender o todo pela compreensão de suas partes, não é mais válid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3BC-EE87-4F26-AC0B-3A4AF8549482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ão compreendendo de que o todo é maior que a soma das partes, cientistas montaram conhecimento em ilhas, formando um grande arquipélago de dados desconec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je, a biologia moderna mostrou que isso não funciona: física, química e biologia se uniram e criaram a biologia molec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BDD-9BB7-4EF9-8763-8DBADC831AA3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, então, aceito que um sistema (isto é, o todo) não pode ser compreendido apenas através de análise, até porqu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umas de suas propriedades derivam de relações entre seus constitui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cou claro que tudo no universo, incluindo ele, parecendo independente era, de fato, parte de um padrão orgânico, um t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986-68D8-4071-A3A0-44281D530BFD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nhuma parte desse todo era realmente separada das out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 possível vislumbrar universalidade de ordem e comportamento sistêmico, tanto em sistemas vivos quanto nos não viv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je, a função é o ponto mais importante, e não a anato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5AC-5259-42FA-A4D6-1C0FA2CA1FD4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nde tarefa é resolver problemas na vida re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es, fazer coisas era mais importante do que pensar sobre e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utomóvel resolvel vários problemas, mas pode ser o responsável por um aquecimento global, de proporções catastróf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F86-F186-42E4-9312-FC819F497AA7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 devido a essa compreensão que emergiu uma nova abordagem holística que é multidisciplinar, interdisciplinar e transdisciplinar: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ordagem sistêm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ismo significando juntar descobertas científicas fragmentadas de uma visão compreensiva do ser humano, da natureza e da socie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433-F465-487C-A51E-926153787E27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 prática, é uma busca de perspectiva par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er mel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uma rede para poder-s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tender mel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uma plataforma par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ir mel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as raízes foram formadas na segunda guerra e na mentalidade d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esquisa Operacion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759-2ECD-4BC6-91CB-A037E29E4228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erge o pensamento holí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(segundo Skyttner [1])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paradígma do Renasc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Mecanicismo e o Determinis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hegemonia do Determinis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ra da Relatividade e Mecânica Quânt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ra de Sistem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76F-18DE-4619-B602-177E9E3896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disciplina emergente manuseou decisões estratégicas militares, alocação de recursos, investimento, análise de riscos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de maneira pragmática, com o objetivo de ganhar a guer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principais linhas er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C91-9EB3-45DA-A5D4-75CD66CCFCC7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ão é necessário entender tudo, mas ter sob controle; pergunte o que, ao invés de por 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ão colete mais informação que o necessário para o trabalho; concentre-se nas principais conseqüências da tarefa, abandone detal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va os problemas de hoje, e saiba que os pré-requisitos e soluções logo ficam obsole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 deu margem à primeira metodologia de sucesso para sistemas complex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47A-D6F1-4AC3-9092-A4598B29BC60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as complexos não eram quebrados em partes disciplinares, mas tratados na globalidade por diferentes pesquisado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1954, a Sociedade Internacional para a Teoria Geral de Sistemas (ISGST, que significa International Society for General System Theory) foi fund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6BF-BC29-4894-B669-C366E839895E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s tarde chamada de Sociedade Internacional para a Ciência de Sistemas (ISSS - International Society for System Scienc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is proeminentes fundadores foram Ludwig von Bertalanffy e Kenneth Bou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00D-3ABF-4D59-BEA2-2ED14E944CC8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nda que Bertalanffy tenha esboçado suas idéias na década de 30, não foi reconhecido até um de seus artigos (agora clássico) ser publicado na revista Science em 195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idéia de um sistema ter característica diferente das áreas que o constituem é revolucionária e inovad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5BC-954C-4D40-B13F-BA9255918FC2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ulding publicou seu trabalho (também clássico) sobre hierarquia de sistemas em 195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equipe interdisciplinar de cientistas, que fundou a TGS, tinha interesse comum em ciência univers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tar disciplinas para estabelecer leis que fossem aplicadas a todas e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C5F-E5CF-4723-8A0D-3C29F1BB14DC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lvo pode ser resumido como seg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rar similaridades e relações dentro da ciê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ver comunicação entre fronteiras disciplin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elecer uma base teórica para a educação científica ge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A47-61B9-4700-9A9A-F192A60080D9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tegraç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veria ser promovida pela descoberta de analogias e isomorfismos que permitisse à nova ciência, TGS, manusear sistemas complex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alogi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ão explanações relacionando algo desconhecido com alguma coisa que já seja conhec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4F7-A0F9-456B-B75B-AE255A93B45F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somorf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iste quando estruturas, características, fórmulas e formas de organização são observadas em sistemas difere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to é, quando leis formalmente idênticas governam o funcionamento de fenômenos materialmente difere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essa identidade é parcial, em geral é chama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omomorf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25B-9FEA-4BE2-A8C2-4A506EA3A82D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uso de isomorfismo permite a simulação e a utilização de métodos independentes de conteúdo dentro de diferentes á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so-a-passo, cria-se uma teoria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Geral de Sistemas - T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ência básica, trabalha em nível abstrato com as propriedades gerais de sistemas, independente de forma e área aplic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2E7-F7E5-42F0-A6D7-7FD1D9F82F6B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erge o pensamento holí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esar do ser humano ser o foco das ciências humanas e sociais, cada delas tem seu próprio ponto de vista; p. ex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ência política concentra-se na organização política e administrativa da socie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onomia na organizaçã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grafia com estrutur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osofia com pensamento, vida e ide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79D-7046-477D-AB17-5935596AE1D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GS supõe que todos os tipos de sistemas (concreto, conceitual, abstrato, natural ou feito pelo homem) tem características comuns, independente de sua estrutura inter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s sistemas serviriam para descrever a natureza e nossa existê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objetivos da TGS, em suma, s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768-2A50-4E55-BF3A-0FD4F08ACA4A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r teorias generalizadas, incluin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ia de sistemas dinâm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rtamento orientado por obj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envolvimento histór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tura hierárqu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e de process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odologia que descreva funcionamento e comportamento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ar modelos generalizados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5EE-A099-4477-ACBC-13F73CEE08A6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ciência aplicada, a TGS passa a ser a Ciência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metadisciplina com conteúdo capaz de ser transferido de disciplina para discipli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u equivalente no laboratório clássico vem a ser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ut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94F-F01A-46A3-976E-5BBE684B625D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o invés de projetar-se experimentos com materiais reais, o próprio computador é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strato viável para a experiment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uso do computador como instrumento de cálculo, de simulação e de criação de realidade não existente, traz um novo fenômeno que não é nem real nem imaginário: é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A9E-7C47-4650-A896-CE2B481CE3BD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tual é um modo de existência simulada, resultante do comput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objetivo da ciência de sistemas é, não substituir, mas complementar a ciência tradi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bordagem sistêmica adquire maior importância na medida em que cresce a complexidade, incluindo o ser hum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33F-F845-4C7A-984E-EE42CFA3B59A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GS traz à tona a figura 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eneralista qualificad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a resolver problemas complexos melhor que os especial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étodos específicos foram desenvolvidos tais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mulaç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ag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jog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ordagem sistêm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 baseada no princípio fundamental de que todos os aspectos humanos devem ser tratados de forma integrada e de maneira 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E24-D683-4928-9F94-3570286B0CD7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mpir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agmát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 olhar o sistema de form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p dow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m vez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ottom 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o método,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álise de sistem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que adota uma perspectiva estritamente sistêmica, entrou em cena para assegurar que nenhum fator importante na estrutura fosse excluí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18C-C19F-4D28-B5DC-59152689FF1E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álise de sistem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ode, então, ser considerada um arcabouço interdisciplinar para ter-se visão comum de probl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extensão disso,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asínte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riada com a suposição de que, quanto mais visões se tiver, melhor se pode entender um probl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B75-8314-494D-97C2-1D02551792A2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se usa esse método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ag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mulaç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jog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áli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ínte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ão todos aplicados n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senvolvimento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é usado iterativamente, tanto no nível macro quanto no micro de sistemas de grande por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6D5-DDAF-48DD-A1B0-CA01D4ABD67A}" type="slidenum">
              <a:t>1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, o resultado é mais organizado, mais estruturado e mais adequado a problemas reais do que outros méto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á, também,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genharia de Sistem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um método que pode realizar a evolução ordenada de sistemas feitos pelo hom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58B-6202-4692-80AE-0A09629FD815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erge o pensamento holí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de Sistemas também tem seu próprio ponto de 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nder o ser humano e seu ambiente como parte de sistemas que se inter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udar essa interação sob múltiplas perspectivas, holist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í, seu ponto de vista histórico, contemporâneo e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33D-F48D-4467-B7B8-90D227745D4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método muito discutido é conhecido p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nâmica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nvolvido por Jay Forrester (1969), usa modelos dinâmicos por computador que mudam variáveis acopladas em uma re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i aplicada para estuda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lomerados urban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dinâmica urban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35D-813B-45D7-822A-780E3CF9AD02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 para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senvolvimento industr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o ocidente (dinâmica industri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 para o estudo do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naturais globa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dinâmica do mund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ando tudo isso, o homem pode ser considerado mais criador do que descobri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931-D31F-48FC-BA99-0E2B233C2B23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futuro, muito complexo para previsões ou para ser planejado: terá que ser cri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sa visão pragmática da realidade, projeto ou reprojeto são conceitos-chave da perspectiva de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especial, quando se deseja um mundo melhor, via construção ou melhoria de sistemas existe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012-728C-45EA-AFB8-F26EDCB4ACB0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to envolve processos necessários par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tender o problem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erar soluçõ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star solu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to de sistemas é um procedimento formal onde recursos humanos, artefatos, técnicas, informação e trabalho se integram em um sistema de forma a facilitar seu funcion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981-B150-4E7D-BA9F-FBDF209C005A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is recente perspectiva, quando se investiga sistemas, é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leolog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outrina em que o comportamento e a estrutura de um sistema obedece a u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bjetivo fi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leologia indica que o sistema é guiado não apenas por forças mecânicas, mas também procurando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uto-realiz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2BC-5944-4F65-BEB7-495A199BB3DD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qui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ações e organismos tem seus próprios objetiv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nquanto que artefatos (como máquinas) servem apenas a objetivos de outros, não possuindo os seus próp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stemas complexos podem, então, ser estudados de vários pontos de vista que sã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lementa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 não competitiv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25B-B243-4650-A8F0-17CD8E8288BA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ferramentas desse domínio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des de telecomunicaçõ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utado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ases de dad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tc., são encontradas na Informá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efeito dessa abordagem sistêmica é que subconjuntos de áreas científicas tradicionais se uniram formando novas discipli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367-9472-44DE-B90C-171BF45662D2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ência da Complexidade, que inclu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ção biológ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mática computa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utação parale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s não line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ia do Ca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es neurais e conexionis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459-76D2-4994-8B4B-8F4C5310CABA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o estimulou definições de novas qualidades sistêmicas recípro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xidade/simplic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ulativo/não simul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nova quantificação de complexidade foi introduz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lexidade de algo pode ser definida pelo tamanho mais curto (algorítmo) possível de sua descri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AA8-CDFF-48AF-9246-F7DE2450BF84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oria da complexidade trabalha entre dois extre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os compl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m comple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á, também, mais disciplinas ligadas à ciência de sistemas,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bernét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iôn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B09-BCC6-4534-94E2-28B613586027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erge o pensamento holí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m a TGS provê uma linguagem geral, fazendo a ponte entre várias áreas, isto é, um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unicação interdisciplin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estudante de TGS fará contato com várias disciplinas acadêmicas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losof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olog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ísic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iolog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é a grande necessidade da sociedade superespecia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8CF-9891-4113-9D4C-273B16AAA4D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Cibernética, criada por Norbert Wiener, em 1948, os sistemas vivos são estudados através de analogia com sistemas fís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iônica, cujo estudo de sistemas vivos tenta identificar conceitos aplicáveis em projeto de sistemas artificiais, foi criada por Major Steele, em 195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983-D4E8-4828-B653-83308126213A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mente,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, que signific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mand, Control, Communication and Intellig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rgiu pela necessidade de trabalhar-se com modernos sistemas gerenciais, que são baseados no intercâmbio entre pessoas, organizações e suporte téc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de sistemas aplicada como solucionador de problemas é, algumas vezes chamada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bernética Geren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D08-BDB8-43A9-A0AD-09E312948ABF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de sistemas, ocupada com projeto de estrutura organizacional, inclu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ecificação de subtarefas e partição de trabalh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to de comunicação entre subsiste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ção de áreas e autoridades para tomada de decis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to de sistemas de controle/coordenação visando os objetivos da organiz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4C6-7BFF-4F85-984E-A5CBE3B28A18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das contribuições mais importantes da área de sistemas é que fornece u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ocabulário simples e um conjunto unificado de conceitos aplicáveis a praticamente todas as áreas científ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81A-83DC-4621-8C67-DF5A4DA13DBD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opiniões e conhecimento, em qualquer era, são influenciados pelos paradígmas existentes nessa 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isão de mundo, na idade média, era satisfeita pel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aradígma escolás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smo sendo considerado um paradígma pré-científico, era uma filosofia completa criando uma ent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631-2F63-4D60-B38C-15FFDCA50E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a baseado nas seguintes proposi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atureza era viva e, então, mortal, finita e vulnerá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verso e natureza eram passíveis de serem compreend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lvação da alma era o desafio mais import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ências naturais subordinadas à teolog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683-216D-49AF-95CB-3B50F8CBB0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objetivo da ciência era mostrar a correlação entre a verdade do mundo físico e a verdade espirit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conhecimento era de natureza enciclopédica, classificada e catalog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rutura da sociedade era influenciada pelos céus e refletia uma ordem div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E17-2399-4C30-BB65-2A8DC270A4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envolvimento científico só era reconhecido quando suportava religi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métodos explicando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lexida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s fenômenos era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vela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iosidades científicas eram vistas como pecados; e pun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ções, experimentos e conclusões não eram encoraj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503-D8E2-4AAB-9E1D-C085B0A28C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nômenos naturais não compreendidos eram tidos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brenatur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lquimia e a Química eram confund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 a Astrologia e a Astrono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Física, as 5 (6) substâncias bás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rra, Fogo, Água, Ar, Quintessência (incluindo o éter) e, depois, Magnetism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693-8D6A-4291-B8B2-F5D5D5BFDE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que cartesiano, mecanic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a abordagem positivista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er Convite à Filosofia -Marlena Chau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da ciência cláss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foque sistêm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 a totalidade, uma visão holística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licitar iss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F8D-367B-4D19-AE52-7D9BDC26C0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paradígma Escolást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speito do misticismo, pode ser um erro considerar a Idade Média como primi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parente existência austera era compensada por uma abundante vida mental e imaginação espirit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leologia (sitema dirigido por objetivo; no caso, divino) imper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AC4-E393-4AF9-BC0F-7EA4199398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a chegada do século 16, o estágio pré-científico foi sucedido por outro que reconhecia a ciência como capaz de descrever fenômenos e levar ao conhec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ópria ciência vem a ser uma fonte para o desenvolvimento de novas tecnolog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F60-0774-4A41-9DAB-4C2AF2DF5C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 um respeito pelos fatos testados em experimentos váli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 a proficiência da comunicação e opiniões sobre o conhec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leologia é, gradualmente, abando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seu lugar, entram as chamadas “Leis da Natureza”, com base na Mecân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2FC-73F1-4C2B-969A-AD3E6B9BFA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vas possibilidades são advindas pelo crescente conhecimento da Astrono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stema Geocêntrico (de Ptolomeu, século II, AC) é, gradualmente, substituído pelo Sistema Heliocêntrico (de Copérnico 1473-154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 ainda considera o movimento dos corpos celeste perfeitamente circ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9D1-35C8-49B6-BF07-944A115EB8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samentos sobre o Universo infinito de Giordano Bruno (1548-1600) são tidos como provocação, a ponto de condená-lo à morte na fogueira, pela Inquisi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cho Brahe (1546-1601) desenvolveu nova técnica para observação planetá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annes Kepler (1571-1630) conseguiu implementá-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98F-9BBC-4EAF-B6FE-D5C3BB756C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pler usou-a para provar a natureza elíptica das órbitas dos planetas (as famos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rês Leis de Kep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a invenção do telescópio, que foi aperfeiçoado por Galileu Galilei (1564 - 1642), foi possível esclarecer-se, de uma vez por todas, qu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Terra era apenas um dentre vários planetas em órbita do s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B72-638E-427D-B144-04E4883ADF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scoberta de um imenso número de estrelas prova que o Universo é bem maior e bem mais diferente do que supunham a Igreja e os teólog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explanação teológica, de tudo convergir para a Terra (centro), é descart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seu lugar ficou a existência de forças agindo sobre os corpos celes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351-5C30-48FB-B050-B2B7D9213B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Galileu, surge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isão mecanici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a separação entre ciência e religião: o mundo da natureza é o campo da ciê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lileu é considerado o primeiro cientista moderno por sua abordagem matemática e experime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tal, diferenciava as propriedades qualitativas e quantit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F71-9657-446C-A45C-9BB792858E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né Descartes (1596-1650) extende a separação entre ciência e religião para a separação entre corpo e mente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ual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po pertence à realidade do mundo físic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e ao mun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jetiv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a mente com seus pensamentos e sentime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E92-617A-4937-9A91-41EE43C979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artir daí, começava a implacável retirada da tradição religiosa ocide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nsciência humana deixava de espelhar uma origem divina: apenas a sí próp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 a maioria dos fenômenos naturais continuavam sem explicação, isto é, sem causa aparente; suas explicações ainda são de natureza puramente supersticio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E49-A758-4A5D-8A9B-72084EE9A4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isão científica otimista, desenvolvida na França pelo filósofo Augusto Comte, atribuia o progresso ao desenvolvimento das ciências posi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s ciências permitiriam aos seres humanos “saber para prever e prever para prover”, contribuindo para o desenvolvimento so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30E-A05D-4C33-8D0D-FF664F678E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s cientistas 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nascimen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iam seu mundo como uma relativamente pequena ilha de certeza e um grande mar de mistério acei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nascimento da ciência moderna deve ser visto em relação ao poder da Igre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luência da teocracia papal influenciou o curso do desenvolvimento cientí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438-4C22-454C-9E69-574EECE5EB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a muito pequena a diferença entre o sacerddote e o cient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tentativas de Giordano Bruno e Galileu Galilei mostraram que a ciência estava em perigo caso enfrentasse o domínio e a autoridade do Pap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precisava declarar-se neutra e independ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1AE-634E-4EC1-9317-7AE36728ED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dígma do Renasci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eitos como objetivo e imparcial vem a se tornar sua marca registr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final do século XX, entretanto essa mentalidade científica perdeu seu signifi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entanto, a objetividade ainda é relevante, desde que se conheçam suas limita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A6B-22C9-48DF-B3B4-0BFBE14743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começo do século XVIII, o que hoje se tem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isão científica de mund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 firmemente estabelecida, ainda que com uma roupagem própria da épo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ção e especulação são substituídas pel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cional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pel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mpiric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explicá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, agora, ciência ainda não descober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D51-5EBE-4A3D-BA7F-89430D7FFB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cional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mpiric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inham a suposição de que os fenômeno naturais podiam e deviam ser investigados e explic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ncepção é que a realidade é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a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eterminada, formulada, explícita e que é possível controlar os fenômenos da natur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0DB2-4A64-4B11-8CE8-EA8436D20E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magem de mund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ra a de um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áqui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mbição da ciência era a de dominar e conquistar a natur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ordem física e espiritual, sintetizadas na Lei da Natureza (agora vista como uma entidade físico-matemática) ainda influenciava o universo t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BDC-CAEF-4094-BC8D-24EBD1BDC5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dos os mistérios ou a própria natureza podem, agora, ser explicados em termos mecanic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mundo físico forma uma máquina dentro da qual cada subfunção pode ser calcul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cada evento, em uma parte do universo, tem consequências em outras par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CB0-A154-4177-96DA-459A6FEF50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isso, se dá o nome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terminismo cláss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cada efeito, há uma cau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cada ação, há uma re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usa e evento iniciam uma cadeia de eventos interrelacion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se contínuo eterno, a aniquilação da matéria/energia é imposs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437-C0E9-4B8C-A7DF-829EA09EB0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stronomia vem a ser a área simbólica para a filosofia de mundo material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 universo mecanicista de corpos mortos, obedecem passivamente a ordem de forças ceg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é a visão sobre o ser humano muda, e é mecanicista, que vem a ser a lógica oposta à supersti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309-B539-4C89-94D8-9C649902F8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is (incluindo os ditos racionais) são, agora, nada mais que seres mecânicos muito bem elabor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coração humano passa a ser uma bomba que obedece princípios termodinâmicos em um sistema hidráulico/mecâ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ra Mecanici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 também chamada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ra da Máqui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06E-E1F8-49F9-B68D-EACA5B1EA3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 de Comte a idéia de “Ordem e Progresso”, que viria a fazer parte da bandeira brasileira do Brasil Republic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entanto, isso suscitou outra idé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História é descontínua e não progressi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a sociedade tem sua própria História, em vez de ser apenas uma etapa numa história universal das civilizaç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3A2-8731-4C28-8DE8-05A234C413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ter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ra da Máqui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também, foi influenciado pela importância das máquinas n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volução Industr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nome mais nobre na Física/Matemática  dessa era, é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saac Newt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1643-1727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seu livro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incip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Newton apresenta um Universo Mecanicista, independente da ordem espirit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F55-D29A-427A-A3A1-8EC57A6958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 mecânica newtoniana, o termo condição inicial denota o status material do mundo no começo dos temp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danças de status são especificadas pelas leis fís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ição e velocidade de um planeta em nosso sistema solar, conhecidas em um momento específico, são suficientes para determinar sua posição e velocidade em qualquer t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C8C-0D3E-4CC9-8975-06DE22B86F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canicismo e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is de Newt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inham, portanto, embutido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termin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rre Simon de Laplace (1749-1827), seguidor de Newton, usou-as para calcular posição e velocidade de partículas e para calcular o futuro do Unive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ava estabelida a idéia de Universo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canismo de um relóg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AE9-5854-4FA6-B37C-EB9B82EF46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visão uniforme de mundo estava emergindo em termos determiníst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universo, como um mecanismo, é obra do Cri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trabalha de acordo com sua estrutura interna e as leis causais da natur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osição, significado e existência são deixados de fora do próprio unive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F20-FE8E-432D-8970-D0C735821D6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onto da interpretação de mecanismo de relógio é que seu significado é externo à máquina, existindo apenas na mente de seu cria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us está para a natureza assim como o relojoeiro (fabricante) está para o relóg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C4B-C14C-4C47-A137-85A8366C23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mecanismo de relógio é visto, também, como a característica central 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incípio da Causalida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do efeito é precedid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 não seguido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por uma cau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causa mensurável sempre produz um efeito mensurável em qualquer sistema 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FD5-0600-494D-9671-547FBFE8601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, causas idênticas, impostas sobre sistemas racionais idênticos, produzem efeitos idênt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ão, relaçã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usa-efei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plica toda a existência, onde a primeira causa foi De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o, a livre vontade é tida como ilus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5E3-4724-4B14-9EBD-3E43AE76010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nção e liberdade de escolha perdem propósito em um universo determin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ão são necessários para explicar os fenômenos naturais e o comportamento hum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u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plica o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feit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mplet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base nessa visão,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ducion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m a ser a doutrina predomin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D25-A53A-40D8-AE5C-AAB6644E37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ionismo argumenta que das teorias científicas que explicam fenômenos em um nível, explicações de nível mais alto podem ser deduz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idade e nossa experiência podem ser reduzidas a um certo número de elementos básicos indivisíve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BEF-1FB6-4A81-B2E0-49F0A213C6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riedades qualitativas podem ser reduzidas a propriedades quantit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ôr pode ser reduzida à questão de comprimento de o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Ódio e amor à questão da composição da secreção interna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o reducionismo é inerente a todas as principais áreas científ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711-47EA-4E85-9050-726510A6A6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idéia de progresso passa a ser criticada porque serve como desculpa para legitimar colonialismos e imperialism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íses “adiantados” teriam o direito de dominar os países “atrasado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bém o progresso das ciências passa a ser critic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a sociedade tem sua própria Histó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EAF-2A9E-4169-BDA1-32C02E1C4B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Fís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Átomo com duas qualidades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ss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erg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Biolo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élula: tijolo de construção da vi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Linguís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emas: os elementos básicos da fa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AB2-B1B8-4C8C-A660-96BCD01687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reducionismo provê fundamento para o método analítico, com seus 3 estág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secar fisicamente/conceitual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render propriedades/comportamento das partes em sepa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s propriedades das partes, deduzir as propriedades e o comportamento do to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B18-0DD5-4D0C-94B0-158D2C7D430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ções e experimentos são os fundamentos d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odologia analítica reducion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o pré-requisito desse método é sua independência do 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ambiente é considerado irrelev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concei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boratório científ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 padroniza, e exclui o 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FC0-63F5-447F-82AF-7C6549FD5B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ão, os efeitos de diferentes variáveis podem ser estudados de maneira adequada, sem a influência do ambient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é proposi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a da atividade científica exercitada: descrever, controlar, prever e explicar os vários fenômen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cientista, pressupõe-se, fica de fora do experimento; pelo menos, ideal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2BA-C9C6-4D28-AA79-6138C3C1F0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onto, para o cientista, 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ão interven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tr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tiv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ssuposição metafísica, por traz  do conceito de laboratório, é que a natureza não é imprevisível, nem secreta, mas é computacionalmente reversí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0B7-1B83-462F-910C-EA8A7D02157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sibilidade implica que as mesmas leis da natureza são válidas em todas as partes do unive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ão secre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ntende-se que todos os aspectos são passíveis de serem revelados, mesmo que leve tem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ersibilidade computacional implica poder calcular-se o ocorrido previ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47E-8BEE-4546-A6CB-185A2749C1A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Método Científico tem sua própria abordagem, na seguinte ord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dução da complexidade através de aná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envolvimento de hipóte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jeto e replicação de experimen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ução de resultados e rejeição de hipót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metodologia, mesmo com suposição metafísica, é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a ciência empír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696-B5E2-4F39-BA48-F2E8C0614A5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resultado científico, obtido com essa metodologia, só é reconhecido com su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vulgaç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icial e irrestri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escrição do experimento que gerou o resultado tem que ser precisa, para que ela possa ser repetida por out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o não possa ser repetida, desconfia-se de fraude; e isso não é muito ra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3D3-F559-4CA8-A45D-DC9267C23C2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resultado científico obtido pode dar margem a outros experimentos, e assim constroi-se o conhecimento cientí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iência clássica empírica pode, também, revelar fenômenos ainda não descober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o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ndas de rád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reveladas p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xw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mostradas p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ertz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tos 20 anos depo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8A4-2287-43BC-BE98-78A07C7AA12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 método científico é baseado nos conceitos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mpir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termin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n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empirismo é a doutrina que garante ser o universo melhor compreendido quando se confrontam as evidências com os nossos senti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determinismo é o fluxo causa-efei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D56-EEDF-4056-84A0-C4DF976D34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Braisl, é grande o contrabando de plantas e animais para o exter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cê pode até importar animais exóticos de paises centrais, mas eles vem castrados, para que não possa haver re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so processo histórico é difer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que é bom para para alguns países pode ser mortal para out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688-45CB-418E-972A-C0E7604F9F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monismo implica a inseparabilidade inerente entre corpo e mente, base de todo pensamento ocide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s conceitos juntos são, às vezes, chamados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aradígma Cientï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estudos da eletricidade, magnetismo, luz e calor, o Paradígma Científico foi um grande suc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C69-7973-46D5-8665-620A2088EC7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otimismo humano cresce: espera-se que a ciência dê respostas a questões em todas as á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sitivismo científ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 trazido à tona por Auguste Comte (1798-1857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eitos como causa, significado e objetivo são descartados das ciências natur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AF8-836B-40D4-B387-74CE5E6B4D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nte uma realidade, possível de ser observada pelos nossos sentidos e de ser tratada logicamente, pode ser aceita como base de um conhecimento confiá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eção de fatos absolutos e suas quantificações representam a principal preocupação dos cientis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alidade positivista pode ser resum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3A5-ADFC-4A17-959C-726A7518E0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smo filosóf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po e mente são insepará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lidade obje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dade possível de experimentar-se com nossos senti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minal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o conhecimento é relacionado a objetos concretos; abstrações exigem existência re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44E-E5FF-4BFE-B15E-44B38B02FB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ir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o conhecimento é baseado na experiê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ti-normativ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larações normativas não tem base científica: não são falsas nem verdadei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smo metodológ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iste apenas um método científico, que nos é dado pelo paradígma científ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47D-4C79-4FBA-A3A8-8D44825696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nações caus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levância de objetivos, intenções e met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final dessa era do determinismo clássico, a interpretação mecanicista da termodinâmica traz nova lu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concei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trop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é introduzido: uma quantidade matemática abstrata, cuja interpretação física ainda é mistéri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0D0-E2D5-4C28-BEEB-ADCBF012C0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imeira Lei da Termodinâm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nergia total do universo é constante, não podendo ser perdida nem cri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ergia pode apenas ser transformada, de uma forma em outra, que é o princípio da conservação da (quantidade) ener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lei já tinha sido considerada 500 AC po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tágor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udo muda, nada se per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D43-6D99-4350-A4C5-A7AB410C09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unda Lei da Termodinâm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 a energia do universo se degrada irreversivel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diferenças entre formas de energia devem decrescer com o tempo: Princípio da Degradação (qualitativa) da ener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sistemas, a lei nos diz que a entropia de um sistema isolado sempre cres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91B-F567-42CB-87D0-CB26FEFE1CF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a conseqüê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dois sistemas se juntam, a entropia do todo é maior que a soma das entropias dos sistemas individu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ergia potencial é energia organizada (baixa entropia); enquanto que o calor é energia desorganizada (alta entropi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o, entropia resulta em desord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F39-F7CC-43EA-8BA3-0CAC83A3A6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a energia desorganizada ( derivada  da segunda lei da termodinâmica) é mais provável que a organizada, isso tem um impacto para a nossa visão de univer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conseqüência é ver-se o mundo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ót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ao determin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vimentos de átomos que criam vida e a evolução resultam de mutação, ao aca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68A-7856-437E-8B97-56C832FF04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suma, nem sempre um avanço científico-tecnológico gera uma diminuição das desigualdades soci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lo contrário, pode até agravá-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al da “globalização” científica e tecnológica é uma bale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 isso vale para as empre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í o roubo de segredos industri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768-09EA-4905-B44D-70FFBEE294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a conseqüência é que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lógio de mund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wtoniano tem tendência persistente em par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o, convenhamos, não é fácil de ser encar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físico francês, Léon Brillouin (1889 - 1969) resumiu essa preocup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9B2-2F47-468A-B5AC-3A2E10BC94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o é possível entender-se a vida quando o mundo inteiro é organizado de acordo com a segunda lei da termodinâmica, que aponta para a sua aniquil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éon Brillouin (1889 - 196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era do determinismo coincide com a era das máquinas e do conservadorismo da cultura Vitoria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DC6-216E-4A08-8561-F5FA03774F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bilidades humanas são crescentemente tomadas por máqui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efas manuais são quebradas em partes simples e monóton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desumanização do esforço produtivo e a subsequente alienação do trabalhador dá margem a teorias que mudariam a cara do planeta,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rxismo-Lenin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ED9-6E0F-4829-8208-6010233665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era do determinismo também pode ser chamada de era 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enticif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ó era realidade aquilo que pudesse ser expresso na linguagem das ciências naturais exatas e provadas quantitativ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pretação determinística da segunda lei da termodinâmica fornece as raízes ao pessimismo do final do século X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AD1-41FC-44AD-8C9D-8E3FE748F3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gemonia do Determinis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sol exaurindo seus recursos que dão margem à vida, faz a Terra se aproximar de uma era glacial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quanto se assiste ao fim da era do determinismo, novas perspectivas e novos impulsos surgem: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ra da Relatividade e da Mecânica Quân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2BF-7C47-4FB2-A56F-781E430F81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rimeiro golpe no determinismo, com sua visão estática de universo veio com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bert Einste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1879-1955) e su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Especial da Relativida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m 190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evento é, agora, definido com quatro números (três para posição e um para o tempo), o chamad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spaço-temp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que não existem individual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CFE-EEB4-4C34-AE23-66C961F1FC4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ão é possível imaginar espaço sem o tempo, ou vice-ver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ando se observa uma estrela a cem anos-luz da Terra, não só a estrela não mais está lá como, também, o que se vê é a sua imagem há cem anos atrá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espaço tetra-dimensional é introduzido com seu espaço tempo contínu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04F-1ADB-4382-ABE9-B8D36F9CCA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rontada essa teoria e a da gravitação de Newton, impõe-se um problema, que o próprio Einstein resolveu, em 1915, com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Geral da Relativ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vitação é conseqüência da curvatura do espaço-tempo, causada pelo conteúdo de massa e ener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9BE-E489-47F6-97B0-5923F0A1E6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ssa do sol curva o espaço-tempo em uma órbita circular mesmo que seja uma reta no mundo tetra-dimens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síntese de Einstein das quantidades fundamentais (tempo, espaço, massa e energia) é confirmada, pela primeira vez, em observações astronômicas nos anos 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 o público, em geral, era um misté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943-632D-42C9-ABF9-0D3F7F6DCC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visão contemporânea pode ser sintetizada no poema (tradução liv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via uma moça chamada Bright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ue viajava mais rápido que a luz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m dia ela viajou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 uma forma relativa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 chegou na noite anter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R. Bull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013-480F-4504-84AB-0BB882A62D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o precisa ficar claro para qualquer brasileiro; em especial, para qualquer profissional de Sistemas de Informa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você chegar a ser um instrumento de colonização, faça-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sciente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ssuma a responsabilidade daí decorr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mbre-se, também, que quem detém um segredo tecnológico não o repas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b pena de “entregar o ouro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C62-15C6-4A91-9727-0E6399915D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ro golpe mortal no determinismo foi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eoria Quân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á havia sido enunciada pelo físico alemã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x Plan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1858-1947), em 19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essa teoria, o conceito clássico da Mecânica começa a ser reformu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1927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rner Heisenber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1901-1976) especificou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incípio da Incert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BA4-1908-4C5B-A6B1-3B6EB5A5913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ípio da Incerte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 fundamentalmente impossível definir posição e velocidade para uma partícu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rincípio de Heisenberg deve ser considerado como um caso especial do Princípio da Complementaridade, que também foi articulado por Niels Bohr (1885-196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E05-1284-4C7C-B3A2-4410469EE5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ípio da Complementar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 experimento sobre um aspecto de um sistema (de dimensões atômicas) destroi a possibilidade de aprendizagem sobre um aspecto complementar do mesm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es princípios tem conseqüências que batem de frente na compreensão de entropia e determinis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321-7DD8-4B83-8C8E-4B4B903849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ova mecânica, a Mecânica Quântica, incluia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ão determinism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mo um princípio fundamental, ao focalizar-se um átomo e suas partícul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sas micro-dimensões, as cirunstâncias predominantes e especiais eram explicadas com a ajuda da teoria quân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 probabilidade, ao invés de certez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8BF-33AF-4E21-86FF-4A2F24B483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isão cosmológica predominante, que é conhecida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o padr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firma que o universo está em expansão, tendo como ponto de partida,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ig ba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que ocorreu há 15 bilhões de anos (o maior efeito sem caus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universo desenvolveu-se de um sistema imensamente denso, um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ngular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9C5-6C13-4AD0-9AC2-61F4B30C573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uma singularidade, as leis da natureza não existem, pelo menos como conhecidas ho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condição (de singularidade) não pode ser descrita nem pela Teoria Geral da Relatividade nem pela Mecânica Quân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s devem ser componentes de uma teoria final ainda inexist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CFD-B093-4A07-8112-F902BD9551D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várias disciplinas científicas tem desenvolvimento similar; cada campo de conhecimento passa por estág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ui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oberta de f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ínt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54C-6B66-4D86-A79A-0DC672BCE9F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íntese é um pré-requisito para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ensamento sistêmic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nosso tem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amente como a análise para a era mecanic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 sistema, como representa um todo, perde suas propriedades sinergéticas se é decomposto (como exige a anális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ão pode ser entendido por anál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A16-EC8C-49CA-B6AF-4A726CBA913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a síntese parte do todo para as partes, fazendo o caminho inverso da anál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ca o sistema cuja unidade é uma par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ica as propriedades ou comportamento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mente, explica as propriedades ou comportamento da unidade como uma parte ou função do sist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724-61FD-4C27-993F-AD1C928E1EF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íntese não cria conhecimento detalhado da estrutura do sis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a conhecimento a partir de sua função (em contraste com a anális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anto, a síntese deve ser considerada com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xplanaçã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nquanto que o método científico deve ser considerado como um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scri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001-CF7A-4C05-9348-039CC831CB3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o se pode ver sistema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bordagem positivist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a ciência clássica, porisso, tem se mostrado inadequada para o gerenciamento do impacto dos produtos da tecnolog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sistemas organizacionais (empres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sistemas sociais (sociedad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õe-se, portanto, uma alternativa para essa abord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E33-53A7-4F6E-AD0C-2553DE09AF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ensamento sistêmico expande o foco do observador, enquanto que o pensamento analítico o redu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 outras palavras, a análise olha o interior das coisas; a síntese, o exter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sa atitude do pensamento sistêmico é, freqüentemente chamada expansionismo, em contraste com o reducionismo cláss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E3D-50A2-4710-8F49-13C89AD415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quanto o pensamento analítico se concentra nas propriedades estáticas e estruturais, o pensamento sistêmico se concentra no comportamento e na função do sistema t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análise dá descrição e conhecimento e a síntese, explanação e entendi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34F-F840-4FD3-B4E0-4741C008E60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essa ênfase sobre variação e multiplicidade, ao invés de regularidades estatísticas, o pensamento sistêmico pertence à tradição holística das idé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pensamento sistêmico é uma resposta à falha do mecanicismo em tentar explicar fenômenos biológicos e soci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64E-767E-4206-B4F7-62854D328781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 tentativa de resolver a crise da ciência clássica, formulou novas abordagens de investigação científ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 década de 20, foram descobertas algumas propriedades nos organismos vivos, que foram reconhecidas pela comunidade científ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cia 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ensamento sistêm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38E-139F-4B50-B0C8-B9005900D844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cido na biologia, é fácil descobrir o porque da adoção de terminologia ligada à essa área: autonomia, sobrevivência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s diferentes estágios do pensamento humano, ferramentas específicas foram desenvolv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rramentas para análise, por excelência, foram o microscópio e o telescóp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A76-2DFA-4698-AECA-581280AB20F8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rramentas da era sistêmica são projetadas para realçar a sínt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computador é um bom candid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squisas nas várias áreas, como energia nuclear, aerodinâmica, biologia, química, etc., simulam, ao invés de construirem protótip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B7B-62A2-4849-BFF1-50560A305014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acelerador de partículas combina propriedades analíticas e sintéticas em um tipo de supermicroscópio capaz de ter resolução para objetos menores que o diâmetro do núcleo de um átom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élites dão oportunidade excepcional de entender fenômenos globais e de ver a terra de fora, pela primeira vez na histór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3CE-8D5D-4E3E-A61B-7349D3DB9FB5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vidade e Mec. Quân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rramentas como essas são chamadas, freqüentemente, de macroscóp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 essas considerações, você está no ponto para estudar a era em que vivemos, a era sistêmica, ou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ra de Sist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9BA-2B13-4489-BB32-6F1F6790DE20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 segunda metade do século XX, com a introdução do computador, da bomba de hidrogênio e da exploração espacial, os problemas de grande porte começam a emerg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áfego caótico nos grandes aglomerados urbanos, desastres ambientais e perigo nuclear entram para a agenda ociden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190-23E4-46AF-9C26-25ECF918BAB4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Era de Siste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ociedade encontra problemas em larga amplitude, que vai de problemas técnicos a organizacionais e de sociais a polít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is séculos de sucesso de tecnologia e ciência clássicas criaram desenvolvimento com efeitos a longo prazo aparentemente programados para serem devastadores para a human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E/CTC/UFSC - Teoria Geral de Sist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6D4-297E-4F3F-92AE-08FC39CC5F79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of. João Bosco da Mota Alv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4:39:36Z</dcterms:created>
  <dc:creator>beth</dc:creator>
  <dc:description/>
  <dc:language>en-US</dc:language>
  <cp:lastModifiedBy>beth</cp:lastModifiedBy>
  <dcterms:modified xsi:type="dcterms:W3CDTF">2000-02-27T21:53:28Z</dcterms:modified>
  <cp:revision>608</cp:revision>
  <dc:subject/>
  <dc:title>Concepções de sistemas  Bacharelado em Sistemas de Informação (1a fase - 4 créditos)  Parte 2 </dc:title>
</cp:coreProperties>
</file>