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CD7E-F2FD-492A-BDCC-0E095C278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8803-80EC-4A55-ABBC-1FE2B434A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0879-F440-4F64-B080-5418B7968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A88B-95D0-4603-B3CE-DC02451B2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75E4-1093-4289-A89C-70D2BF87A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0D26-4218-4812-B556-E3316B01E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FC45-0E94-46A0-AF66-C2BE45F9A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FBB3-58D2-48FD-ACFE-990E4A8F2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ECB6-B692-47D5-A4DB-5A08D0C99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B1F4-8C09-42AE-984B-332868E82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0CEB-523C-4106-8896-537EA1783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2A7F-CFD6-43D3-A651-041CC99BA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6400800"/>
            <a:ext cx="2210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33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4724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33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52920" y="640080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33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1AB7F-6F4F-4B63-A832-34EF6858FDBC}" type="slidenum">
              <a:rPr b="0" lang="en-US" sz="1400" spc="-1" strike="noStrike">
                <a:solidFill>
                  <a:srgbClr val="ff33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H="1">
            <a:off x="0" y="6324480"/>
            <a:ext cx="9144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3333cc"/>
                </a:solidFill>
                <a:latin typeface="Comic Sans MS"/>
              </a:rPr>
              <a:t>Teoria Geral de Sistemas</a:t>
            </a:r>
            <a:br>
              <a:rPr sz="4800"/>
            </a:b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Bacharelado em Sistemas de Informação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pt-BR" sz="2800" spc="-1" strike="noStrike" u="sng" baseline="30000">
                <a:solidFill>
                  <a:srgbClr val="3333cc"/>
                </a:solidFill>
                <a:uFillTx/>
                <a:latin typeface="Comic Sans MS"/>
              </a:rPr>
              <a:t>a</a:t>
            </a: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 fase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4 créditos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) 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Parte 1 de 8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440" y="4952880"/>
            <a:ext cx="79246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Comic Sans MS"/>
              </a:rPr>
              <a:t>Prof. João Bosco da Mota Alv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INE/CTC/UFS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aio de 200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226A-E223-4113-9D01-8D12A343BB9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omic Sans MS"/>
              </a:rPr>
              <a:t>Sistemas de Informaçã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1981080"/>
            <a:ext cx="50292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Comic Sans MS"/>
              </a:rPr>
              <a:t>Pronto?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Comic Sans MS"/>
              <a:ea typeface="Comic Sans MS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019920" y="3657600"/>
            <a:ext cx="2504880" cy="2371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626E-3920-42BA-9AEC-143B5D72256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omic Sans MS"/>
              </a:rPr>
              <a:t>Histórico e rumos da TG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Uma estória recente que realça a importância da </a:t>
            </a:r>
            <a:r>
              <a:rPr b="0" lang="pt-BR" sz="3200" spc="-1" strike="noStrike">
                <a:solidFill>
                  <a:srgbClr val="3333cc"/>
                </a:solidFill>
                <a:latin typeface="Comic Sans MS"/>
              </a:rPr>
              <a:t>Informaçã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O significado de cada uma das palavras em </a:t>
            </a:r>
            <a:r>
              <a:rPr b="0" lang="pt-BR" sz="3200" spc="-1" strike="noStrike">
                <a:solidFill>
                  <a:srgbClr val="3333cc"/>
                </a:solidFill>
                <a:latin typeface="Comic Sans MS"/>
              </a:rPr>
              <a:t>Teoria Geral de Sistemas (TG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TGS e Sistemas de Informação (SI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SI como oportunidades de negóci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8F7B-B296-46A4-B640-7CFC1F1C853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omic Sans MS"/>
              </a:rPr>
              <a:t>Uma estória recen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A indústria Volvo, sueca, teve sua divisão de veículos de passeio vendida por cerca de </a:t>
            </a:r>
            <a:r>
              <a:rPr b="0" lang="pt-BR" sz="3200" spc="-1" strike="noStrike">
                <a:solidFill>
                  <a:srgbClr val="3333cc"/>
                </a:solidFill>
                <a:latin typeface="Comic Sans MS"/>
              </a:rPr>
              <a:t>US$ 7 bilhõ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A empresa Yahoo, norte-americana, com atuação na Internet, foi vendida pela metade do valor acima, cerca de </a:t>
            </a:r>
            <a:r>
              <a:rPr b="0" lang="pt-BR" sz="3200" spc="-1" strike="noStrike">
                <a:solidFill>
                  <a:srgbClr val="3333cc"/>
                </a:solidFill>
                <a:latin typeface="Comic Sans MS"/>
              </a:rPr>
              <a:t>US$ 3.5 bilhõ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3E18-4D45-476E-A1E7-3083005A5EB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omic Sans MS"/>
              </a:rPr>
              <a:t>E daí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Afinal é assim que o capitalismo funcion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Qualquer empresa pode ser vendida ou comprad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O valor de compra e/ou venda, em geral, é o valor de mercad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E o que isso tem a ver com um curso de </a:t>
            </a:r>
            <a:r>
              <a:rPr b="0" lang="pt-BR" sz="3200" spc="-1" strike="noStrike">
                <a:solidFill>
                  <a:srgbClr val="3333cc"/>
                </a:solidFill>
                <a:latin typeface="Comic Sans MS"/>
              </a:rPr>
              <a:t>Bacharelado em Sistemas de Informação</a:t>
            </a: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EFEA-136F-4DFE-9E13-F43A3AC2498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omic Sans MS"/>
              </a:rPr>
              <a:t>Bem ..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Analise mais de perto as duas empres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Compare alguns dados das mesm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pt-BR" sz="3200" spc="-1" strike="noStrike" u="sng" baseline="30000">
                <a:solidFill>
                  <a:srgbClr val="000000"/>
                </a:solidFill>
                <a:uFillTx/>
                <a:latin typeface="Comic Sans MS"/>
              </a:rPr>
              <a:t>o</a:t>
            </a: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 espanto: o n</a:t>
            </a:r>
            <a:r>
              <a:rPr b="0" lang="pt-BR" sz="3200" spc="-1" strike="noStrike" u="sng" baseline="30000">
                <a:solidFill>
                  <a:srgbClr val="000000"/>
                </a:solidFill>
                <a:uFillTx/>
                <a:latin typeface="Comic Sans MS"/>
              </a:rPr>
              <a:t>o</a:t>
            </a: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 de funcionári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Volvo: cerca de </a:t>
            </a: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27.0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Yahoo: cerca de </a:t>
            </a: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Faça algumas cont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B5F5-20E2-40C5-96F4-5B6DDFAF39A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omic Sans MS"/>
              </a:rPr>
              <a:t>Onde alocar funcionário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O espaço físico necessário para alocar </a:t>
            </a:r>
            <a:r>
              <a:rPr b="0" lang="pt-BR" sz="3200" spc="-1" strike="noStrike">
                <a:solidFill>
                  <a:srgbClr val="3333cc"/>
                </a:solidFill>
                <a:latin typeface="Comic Sans MS"/>
              </a:rPr>
              <a:t>300</a:t>
            </a: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 pessoas precisa ser multiplicado por </a:t>
            </a:r>
            <a:r>
              <a:rPr b="0" lang="pt-BR" sz="3200" spc="-1" strike="noStrike">
                <a:solidFill>
                  <a:srgbClr val="3333cc"/>
                </a:solidFill>
                <a:latin typeface="Comic Sans MS"/>
              </a:rPr>
              <a:t>90</a:t>
            </a: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 para alocar </a:t>
            </a:r>
            <a:r>
              <a:rPr b="0" lang="pt-BR" sz="3200" spc="-1" strike="noStrike">
                <a:solidFill>
                  <a:srgbClr val="3333cc"/>
                </a:solidFill>
                <a:latin typeface="Comic Sans MS"/>
              </a:rPr>
              <a:t>27.000</a:t>
            </a: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 pesso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Não é absurdo supor-se que a Volvo pode ter gasto cerca de </a:t>
            </a:r>
            <a:r>
              <a:rPr b="0" lang="pt-BR" sz="3200" spc="-1" strike="noStrike">
                <a:solidFill>
                  <a:srgbClr val="3333cc"/>
                </a:solidFill>
                <a:latin typeface="Comic Sans MS"/>
              </a:rPr>
              <a:t>90</a:t>
            </a: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 vezes mais, só para alocação de seus funcionári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A Volvo deve “ganhar” de </a:t>
            </a:r>
            <a:r>
              <a:rPr b="0" lang="pt-BR" sz="3200" spc="-1" strike="noStrike">
                <a:solidFill>
                  <a:srgbClr val="3333cc"/>
                </a:solidFill>
                <a:latin typeface="Comic Sans MS"/>
              </a:rPr>
              <a:t>90 × 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DAB4-2ACE-4FE1-AD0B-EAA02AA8E65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omic Sans MS"/>
              </a:rPr>
              <a:t>Equipament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Fabricar cerca de </a:t>
            </a:r>
            <a:r>
              <a:rPr b="0" lang="pt-BR" sz="3200" spc="-1" strike="noStrike">
                <a:solidFill>
                  <a:srgbClr val="3333cc"/>
                </a:solidFill>
                <a:latin typeface="Comic Sans MS"/>
              </a:rPr>
              <a:t>400.000</a:t>
            </a: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 veículos por ano, com mais de uma linha de montagem, exige um fabuloso patrimônio (Volvo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Esse valor não pode ser comparado com algumas centenas de computadores entre servidores e clientes (Yahoo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0428-1E9F-4000-99B1-247397AAB8B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omic Sans MS"/>
              </a:rPr>
              <a:t>Logomarc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A Volvo data da década de </a:t>
            </a:r>
            <a:r>
              <a:rPr b="0" lang="pt-BR" sz="3200" spc="-1" strike="noStrike">
                <a:solidFill>
                  <a:srgbClr val="3333cc"/>
                </a:solidFill>
                <a:latin typeface="Comic Sans MS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A Yahoo não pode ser mais velha que a própria Internet (por volta de </a:t>
            </a:r>
            <a:r>
              <a:rPr b="0" lang="pt-BR" sz="3200" spc="-1" strike="noStrike">
                <a:solidFill>
                  <a:srgbClr val="3333cc"/>
                </a:solidFill>
                <a:latin typeface="Comic Sans MS"/>
              </a:rPr>
              <a:t>1993</a:t>
            </a: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Não há comparação entre uma logomarca com </a:t>
            </a:r>
            <a:r>
              <a:rPr b="0" lang="pt-BR" sz="3200" spc="-1" strike="noStrike">
                <a:solidFill>
                  <a:srgbClr val="3333cc"/>
                </a:solidFill>
                <a:latin typeface="Comic Sans MS"/>
              </a:rPr>
              <a:t>60</a:t>
            </a: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 anos e outra com cerca de </a:t>
            </a:r>
            <a:r>
              <a:rPr b="0" lang="pt-BR" sz="3200" spc="-1" strike="noStrike">
                <a:solidFill>
                  <a:srgbClr val="3333cc"/>
                </a:solidFill>
                <a:latin typeface="Comic Sans MS"/>
              </a:rPr>
              <a:t>6</a:t>
            </a: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 an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79CA-BC27-43F7-8553-5D09C592BDC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omic Sans MS"/>
              </a:rPr>
              <a:t>Onde está o valor da Yahoo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Informaçã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Isso mesmo, o </a:t>
            </a: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produto mais valioso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do começo do próximo milêni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Poder de fog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informação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que possui: </a:t>
            </a: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mais de 15 milhões de endereços eletrônic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Já pensou o que pode render um mercado de 17 milhões de consumidores potenciais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FC7E-63DF-48FB-9094-73A524EB243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57200" y="685800"/>
            <a:ext cx="5410080" cy="5410080"/>
          </a:xfrm>
          <a:prstGeom prst="rightArrowCallout">
            <a:avLst>
              <a:gd name="adj1" fmla="val 25002"/>
              <a:gd name="adj2" fmla="val 25000"/>
              <a:gd name="adj3" fmla="val 16667"/>
              <a:gd name="adj4" fmla="val 6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 rot="16963200">
            <a:off x="-796680" y="2396880"/>
            <a:ext cx="4952880" cy="198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Comic Sans MS"/>
              </a:rPr>
              <a:t>Informação</a:t>
            </a:r>
            <a:endParaRPr b="1" lang="en-US" sz="72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2" name=""/>
          <p:cNvSpPr txBox="1"/>
          <p:nvPr/>
        </p:nvSpPr>
        <p:spPr>
          <a:xfrm rot="5400000">
            <a:off x="6372000" y="2085840"/>
            <a:ext cx="2438280" cy="25336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$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72E0-F080-481A-A848-CD2EA05B1D5D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omic Sans MS"/>
              </a:rPr>
              <a:t>Sigl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INE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epartamento de Informática e de Estatístic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CTC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entro Tecnológic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UFSC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Universidade Federal de Santa Catarin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TGS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eoria Geral de Sistem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0ADE-BFC9-48D0-A75C-74035A79D52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omic Sans MS"/>
              </a:rPr>
              <a:t>Trabalho 1 (prazo: 2 semana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Hipóte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Você trabalha em uma empresa tentando se manter no mercado e precisa, para isso, buscar oportunidades de negóci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Sua tarefa (em grupos de 5, no máximo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Faça um relatório sobre o caso Yahoo/Volv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Extraia, do caso, oportunidades de negóci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Escolha uma delas e monte um negócio fictíci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Crie uma página (Internet) com o relatóri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BF1D-0705-4D93-AA64-7302C830EFE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omic Sans MS"/>
              </a:rPr>
              <a:t>Nosso curs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"/>
          <p:cNvSpPr txBox="1"/>
          <p:nvPr/>
        </p:nvSpPr>
        <p:spPr>
          <a:xfrm rot="19734600">
            <a:off x="609120" y="3200040"/>
            <a:ext cx="698184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Comic Sans MS"/>
              </a:rPr>
              <a:t>Sistemas de Informação</a:t>
            </a:r>
            <a:endParaRPr b="0" lang="en-US" sz="4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3C47-5416-4181-99B3-B4883D8F82F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omic Sans MS"/>
              </a:rPr>
              <a:t>Nossa disciplin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"/>
          <p:cNvSpPr txBox="1"/>
          <p:nvPr/>
        </p:nvSpPr>
        <p:spPr>
          <a:xfrm rot="19734600">
            <a:off x="609120" y="3200040"/>
            <a:ext cx="698184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Comic Sans MS"/>
              </a:rPr>
              <a:t>Teoria Geral de Sistemas</a:t>
            </a:r>
            <a:endParaRPr b="0" lang="en-US" sz="4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096E-B8FA-44F8-85B3-8E7510E94C1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omic Sans MS"/>
              </a:rPr>
              <a:t>Teoria Geral de Sistem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A importância da informaçã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Natural ter-se Sistemas de Informaçã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O que são Sistemas de Informação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Sistemas que manipulam informaçã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Como projetá-lo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Precisa-se de uma </a:t>
            </a: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Teoria Geral De Sistem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É ela que possibilita bons projet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5A8D-0B21-4553-832C-BEBF06E2B67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cc"/>
                </a:solidFill>
                <a:latin typeface="Comic Sans MS"/>
              </a:rPr>
              <a:t>Teoria</a:t>
            </a:r>
            <a:r>
              <a:rPr b="0" lang="pt-BR" sz="4400" spc="-1" strike="noStrike">
                <a:solidFill>
                  <a:srgbClr val="000000"/>
                </a:solidFill>
                <a:latin typeface="Comic Sans MS"/>
              </a:rPr>
              <a:t> Geral de Sistem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Dicionário Aurélio: do grego </a:t>
            </a:r>
            <a:r>
              <a:rPr b="0" i="1" lang="pt-BR" sz="3200" spc="-1" strike="noStrike">
                <a:solidFill>
                  <a:srgbClr val="3333cc"/>
                </a:solidFill>
                <a:latin typeface="Comic Sans MS"/>
              </a:rPr>
              <a:t>theoría</a:t>
            </a: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, ação de examinar, contemplar, estudar, etc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Covington [2]: </a:t>
            </a:r>
            <a:r>
              <a:rPr b="0" i="1" lang="pt-BR" sz="3200" spc="-1" strike="noStrike">
                <a:solidFill>
                  <a:srgbClr val="3333cc"/>
                </a:solidFill>
                <a:latin typeface="Comic Sans MS"/>
              </a:rPr>
              <a:t>teoria</a:t>
            </a:r>
            <a:r>
              <a:rPr b="0" i="1" lang="pt-BR" sz="3200" spc="-1" strike="noStrike">
                <a:solidFill>
                  <a:srgbClr val="000000"/>
                </a:solidFill>
                <a:latin typeface="Comic Sans MS"/>
              </a:rPr>
              <a:t> é um mapeamento para a observação de um fenômen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Por </a:t>
            </a:r>
            <a:r>
              <a:rPr b="0" i="1" lang="pt-BR" sz="3200" spc="-1" strike="noStrike">
                <a:solidFill>
                  <a:srgbClr val="3333cc"/>
                </a:solidFill>
                <a:latin typeface="Comic Sans MS"/>
              </a:rPr>
              <a:t>mapeamento</a:t>
            </a: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, entende-se uma visão abstrata e simplificada de um fenômeno para uma melhor compreensão do mesm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B43E-00C4-4EDB-9404-6F525B4C15F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cc"/>
                </a:solidFill>
                <a:latin typeface="Comic Sans MS"/>
              </a:rPr>
              <a:t>Teoria</a:t>
            </a:r>
            <a:r>
              <a:rPr b="0" lang="pt-BR" sz="4400" spc="-1" strike="noStrike">
                <a:solidFill>
                  <a:srgbClr val="000000"/>
                </a:solidFill>
                <a:latin typeface="Comic Sans MS"/>
              </a:rPr>
              <a:t> Geral de Sistem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4114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Considere a Lagoa da Conceição, em Florianópolis, S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5" name="lagoa2p" descr=""/>
          <p:cNvPicPr/>
          <p:nvPr/>
        </p:nvPicPr>
        <p:blipFill>
          <a:blip r:embed="rId1"/>
          <a:stretch/>
        </p:blipFill>
        <p:spPr>
          <a:xfrm>
            <a:off x="2133720" y="4038480"/>
            <a:ext cx="1523880" cy="1028880"/>
          </a:xfrm>
          <a:prstGeom prst="rect">
            <a:avLst/>
          </a:prstGeom>
          <a:ln w="0">
            <a:noFill/>
          </a:ln>
        </p:spPr>
      </p:pic>
      <p:pic>
        <p:nvPicPr>
          <p:cNvPr id="96" name="mapa_leste" descr=""/>
          <p:cNvPicPr/>
          <p:nvPr/>
        </p:nvPicPr>
        <p:blipFill>
          <a:blip r:embed="rId2"/>
          <a:stretch/>
        </p:blipFill>
        <p:spPr>
          <a:xfrm>
            <a:off x="5486400" y="2286000"/>
            <a:ext cx="3263760" cy="39117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 rot="1624200">
            <a:off x="6689520" y="4451040"/>
            <a:ext cx="1490400" cy="855720"/>
          </a:xfrm>
          <a:prstGeom prst="rect">
            <a:avLst/>
          </a:prstGeom>
          <a:noFill/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566000">
            <a:off x="6171840" y="3962520"/>
            <a:ext cx="533520" cy="380880"/>
          </a:xfrm>
          <a:prstGeom prst="rightArrow">
            <a:avLst>
              <a:gd name="adj1" fmla="val 50000"/>
              <a:gd name="adj2" fmla="val 3501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3D65-D33C-4B20-8505-B9132CBE068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cc"/>
                </a:solidFill>
                <a:latin typeface="Comic Sans MS"/>
              </a:rPr>
              <a:t>Teoria</a:t>
            </a:r>
            <a:r>
              <a:rPr b="0" lang="pt-BR" sz="4400" spc="-1" strike="noStrike">
                <a:solidFill>
                  <a:srgbClr val="000000"/>
                </a:solidFill>
                <a:latin typeface="Comic Sans MS"/>
              </a:rPr>
              <a:t> Geral de Sistem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Na foto, você tem informações que o mapa não contém; e vice-vers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A riqueza de detalhes e a exuberância da paisagem, apenas a foto mostr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Deixando os detalhes de lado, o mapa nos mostra a posição geográfica do local, bem como sua posição relativa a outros pontos de referênci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1B15-9D8F-420A-9A75-A310AA72389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cc"/>
                </a:solidFill>
                <a:latin typeface="Comic Sans MS"/>
              </a:rPr>
              <a:t>Teoria</a:t>
            </a:r>
            <a:r>
              <a:rPr b="0" lang="pt-BR" sz="4400" spc="-1" strike="noStrike">
                <a:solidFill>
                  <a:srgbClr val="000000"/>
                </a:solidFill>
                <a:latin typeface="Comic Sans MS"/>
              </a:rPr>
              <a:t> Geral de Sistem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É relevante, portanto, você possuir a </a:t>
            </a:r>
            <a:r>
              <a:rPr b="0" lang="pt-BR" sz="3200" spc="-1" strike="noStrike">
                <a:solidFill>
                  <a:srgbClr val="3333cc"/>
                </a:solidFill>
                <a:latin typeface="Comic Sans MS"/>
              </a:rPr>
              <a:t>visão real</a:t>
            </a: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 e a </a:t>
            </a:r>
            <a:r>
              <a:rPr b="0" lang="pt-BR" sz="3200" spc="-1" strike="noStrike">
                <a:solidFill>
                  <a:srgbClr val="3333cc"/>
                </a:solidFill>
                <a:latin typeface="Comic Sans MS"/>
              </a:rPr>
              <a:t>visão por mapeament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O </a:t>
            </a:r>
            <a:r>
              <a:rPr b="0" lang="pt-BR" sz="3200" spc="-1" strike="noStrike">
                <a:solidFill>
                  <a:srgbClr val="3333cc"/>
                </a:solidFill>
                <a:latin typeface="Comic Sans MS"/>
              </a:rPr>
              <a:t>cérebro</a:t>
            </a: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 se encarrega do resto, ou seja, a sua compreensão do local depende da </a:t>
            </a:r>
            <a:r>
              <a:rPr b="0" lang="pt-BR" sz="3200" spc="-1" strike="noStrike">
                <a:solidFill>
                  <a:srgbClr val="3333cc"/>
                </a:solidFill>
                <a:latin typeface="Comic Sans MS"/>
              </a:rPr>
              <a:t>construção ment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Essa construção mental recebe o nome de </a:t>
            </a:r>
            <a:r>
              <a:rPr b="0" lang="pt-BR" sz="3200" spc="-1" strike="noStrike">
                <a:solidFill>
                  <a:srgbClr val="3333cc"/>
                </a:solidFill>
                <a:latin typeface="Comic Sans MS"/>
              </a:rPr>
              <a:t>percepção</a:t>
            </a: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, que é diferente da </a:t>
            </a:r>
            <a:r>
              <a:rPr b="0" lang="pt-BR" sz="3200" spc="-1" strike="noStrike">
                <a:solidFill>
                  <a:srgbClr val="3333cc"/>
                </a:solidFill>
                <a:latin typeface="Comic Sans MS"/>
              </a:rPr>
              <a:t>sensaçã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8FBC-9462-4396-B578-5CA047DDF44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cc"/>
                </a:solidFill>
                <a:latin typeface="Comic Sans MS"/>
              </a:rPr>
              <a:t>Teoria</a:t>
            </a:r>
            <a:r>
              <a:rPr b="0" lang="pt-BR" sz="4400" spc="-1" strike="noStrike">
                <a:solidFill>
                  <a:srgbClr val="000000"/>
                </a:solidFill>
                <a:latin typeface="Comic Sans MS"/>
              </a:rPr>
              <a:t> Geral de Sistem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010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Outro </a:t>
            </a:r>
            <a:r>
              <a:rPr b="0" lang="pt-BR" sz="3200" spc="-1" strike="noStrike">
                <a:solidFill>
                  <a:srgbClr val="3333cc"/>
                </a:solidFill>
                <a:latin typeface="Comic Sans MS"/>
              </a:rPr>
              <a:t>exemplo</a:t>
            </a: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: as notas de uma turma de estudantes da UFSC podem ser alocadas em uma simples folha pap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A cada estudante é atribuído um número de matrícula e, a esse, sua not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1055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33cc"/>
                </a:solidFill>
                <a:latin typeface="Comic Sans MS"/>
              </a:rPr>
              <a:t>9813204-6  Manezinho da Ilha  9,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C4C3-0F44-4D9B-8673-D94B5D1FC3D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cc"/>
                </a:solidFill>
                <a:latin typeface="Comic Sans MS"/>
              </a:rPr>
              <a:t>Teoria</a:t>
            </a:r>
            <a:r>
              <a:rPr b="0" lang="pt-BR" sz="4400" spc="-1" strike="noStrike">
                <a:solidFill>
                  <a:srgbClr val="000000"/>
                </a:solidFill>
                <a:latin typeface="Comic Sans MS"/>
              </a:rPr>
              <a:t> Geral de Sistem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Note que o nome é </a:t>
            </a:r>
            <a:r>
              <a:rPr b="0" lang="pt-BR" sz="3200" spc="-1" strike="noStrike">
                <a:solidFill>
                  <a:srgbClr val="3333cc"/>
                </a:solidFill>
                <a:latin typeface="Comic Sans MS"/>
              </a:rPr>
              <a:t>redundan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Detalhes como peso, altura, cor dos cabelos, etc., não é relevante para a atribuição da referida not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981080" y="4038480"/>
            <a:ext cx="1914480" cy="21528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477120" y="3733920"/>
            <a:ext cx="1838160" cy="25336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544800" y="4191120"/>
            <a:ext cx="171540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3333cc"/>
                </a:solidFill>
                <a:latin typeface="Times New Roman"/>
              </a:rPr>
              <a:t>9815221-3  João dos Santos  9,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3333cc"/>
                </a:solidFill>
                <a:latin typeface="Times New Roman"/>
              </a:rPr>
              <a:t>xxxxxxxxx  xxxxxxxxxxx     xx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3333cc"/>
                </a:solidFill>
                <a:latin typeface="Times New Roman"/>
              </a:rPr>
              <a:t>xxxxxxxxx  xxxxxxxxxxx     xx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3333cc"/>
                </a:solidFill>
                <a:latin typeface="Times New Roman"/>
              </a:rPr>
              <a:t>xxxxxxxxx  xxxxxxxxxxx     xx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3333cc"/>
                </a:solidFill>
                <a:latin typeface="Times New Roman"/>
              </a:rPr>
              <a:t>xxxxxxxxx  xxxxxxxxxxx     xx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3333cc"/>
                </a:solidFill>
                <a:latin typeface="Times New Roman"/>
              </a:rPr>
              <a:t>xxxxxxxxx  xxxxxxxxxxx     xx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3333cc"/>
                </a:solidFill>
                <a:latin typeface="Times New Roman"/>
              </a:rPr>
              <a:t>xxxxxxxxx  xxxxxxxxxxx     xx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3333cc"/>
                </a:solidFill>
                <a:latin typeface="Times New Roman"/>
              </a:rPr>
              <a:t>xxxxxxxxx  xxxxxxxxxxx     xx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3333cc"/>
                </a:solidFill>
                <a:latin typeface="Times New Roman"/>
              </a:rPr>
              <a:t>xxxxxxxxx  xxxxxxxxxxx     xx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3333cc"/>
                </a:solidFill>
                <a:latin typeface="Times New Roman"/>
              </a:rPr>
              <a:t>xxxxxxxxx  xxxxxxxxxxx     xx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3333cc"/>
                </a:solidFill>
                <a:latin typeface="Times New Roman"/>
              </a:rPr>
              <a:t>xxxxxxxxx  xxxxxxxxxxx     xx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6F83-BB90-48B1-B00A-A7ADA4D57F6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omic Sans MS"/>
              </a:rPr>
              <a:t>Ement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Histórico e rumos da TG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oncepções de sistem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rtesiana e mecanicist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nfoque sistêmic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omponentes, características, tipos, classificaç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sta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odel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onceituaçõ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rocesso decisório e informativ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etodologia de desenvolvimento de Sistemas de Informaç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A25C-D8C8-4E3F-B27B-44257F301F2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cc"/>
                </a:solidFill>
                <a:latin typeface="Comic Sans MS"/>
              </a:rPr>
              <a:t>Teoria</a:t>
            </a:r>
            <a:r>
              <a:rPr b="0" lang="pt-BR" sz="4400" spc="-1" strike="noStrike">
                <a:solidFill>
                  <a:srgbClr val="000000"/>
                </a:solidFill>
                <a:latin typeface="Comic Sans MS"/>
              </a:rPr>
              <a:t> Geral de Sistem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Voltemos, agora, à afirmação de Covington: </a:t>
            </a:r>
            <a:r>
              <a:rPr b="0" i="1" lang="pt-BR" sz="3200" spc="-1" strike="noStrike">
                <a:solidFill>
                  <a:srgbClr val="000000"/>
                </a:solidFill>
                <a:latin typeface="Comic Sans MS"/>
              </a:rPr>
              <a:t>uma </a:t>
            </a:r>
            <a:r>
              <a:rPr b="0" i="1" lang="pt-BR" sz="3200" spc="-1" strike="noStrike">
                <a:solidFill>
                  <a:srgbClr val="3333cc"/>
                </a:solidFill>
                <a:latin typeface="Comic Sans MS"/>
              </a:rPr>
              <a:t>teoria</a:t>
            </a:r>
            <a:r>
              <a:rPr b="0" i="1" lang="pt-BR" sz="3200" spc="-1" strike="noStrike">
                <a:solidFill>
                  <a:srgbClr val="000000"/>
                </a:solidFill>
                <a:latin typeface="Comic Sans MS"/>
              </a:rPr>
              <a:t> é um mapeamento para a observação de um fenômen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Dado um determinado fenômeno, é possível elaborar uma teoria sobre o mesm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Essa teoria tem, por objetivo, melhorar nossa compreensão sobre o fenômen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C819-6E9E-4FE6-8BD6-0F189CD8228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cc"/>
                </a:solidFill>
                <a:latin typeface="Comic Sans MS"/>
              </a:rPr>
              <a:t>Teoria</a:t>
            </a:r>
            <a:r>
              <a:rPr b="0" lang="pt-BR" sz="4400" spc="-1" strike="noStrike">
                <a:solidFill>
                  <a:srgbClr val="000000"/>
                </a:solidFill>
                <a:latin typeface="Comic Sans MS"/>
              </a:rPr>
              <a:t> Geral de Sistem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Quando </a:t>
            </a:r>
            <a:r>
              <a:rPr b="0" lang="pt-BR" sz="3200" spc="-1" strike="noStrike">
                <a:solidFill>
                  <a:srgbClr val="3333cc"/>
                </a:solidFill>
                <a:latin typeface="Comic Sans MS"/>
              </a:rPr>
              <a:t>Isaac Newton</a:t>
            </a: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 elaborou a </a:t>
            </a:r>
            <a:r>
              <a:rPr b="0" lang="pt-BR" sz="3200" spc="-1" strike="noStrike">
                <a:solidFill>
                  <a:srgbClr val="3333cc"/>
                </a:solidFill>
                <a:latin typeface="Comic Sans MS"/>
              </a:rPr>
              <a:t>Teoria da Gravitação Universal</a:t>
            </a: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, queria compreender o porque dos corpos cairem; e por que os planetas ficam em órbita solar (</a:t>
            </a:r>
            <a:r>
              <a:rPr b="0" lang="pt-BR" sz="3200" spc="-1" strike="noStrike">
                <a:solidFill>
                  <a:srgbClr val="ff3300"/>
                </a:solidFill>
                <a:latin typeface="Comic Sans MS"/>
              </a:rPr>
              <a:t>MS Encarta 2000 - Gravitação</a:t>
            </a: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De sua genialidade nasceu tal teoria que é válida em todo o universo, dentro das restrições da mesm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EF79-30E3-4217-962D-828FF43C66E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cc"/>
                </a:solidFill>
                <a:latin typeface="Comic Sans MS"/>
              </a:rPr>
              <a:t>Teoria</a:t>
            </a:r>
            <a:r>
              <a:rPr b="0" lang="pt-BR" sz="4400" spc="-1" strike="noStrike">
                <a:solidFill>
                  <a:srgbClr val="000000"/>
                </a:solidFill>
                <a:latin typeface="Comic Sans MS"/>
              </a:rPr>
              <a:t> Geral de Sistem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3333cc"/>
                </a:solidFill>
                <a:latin typeface="Comic Sans MS"/>
              </a:rPr>
              <a:t>Na natureza, tudo se comporta como se massa atraísse massa, na razão direta de seu produto e inversa ao quadrado da distância entre as mesmas</a:t>
            </a:r>
            <a:r>
              <a:rPr b="0" i="1" lang="pt-B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(Issac Newton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Note que Newton deixou de lado coisas que, para o problema, não tinha relevância: côr, tamanho, forma, etc., reforçando a idéia de que teoria é um mapa do fenômen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08A2-6589-4A5F-8316-0FED6D525D2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cc"/>
                </a:solidFill>
                <a:latin typeface="Comic Sans MS"/>
              </a:rPr>
              <a:t>Teoria</a:t>
            </a:r>
            <a:r>
              <a:rPr b="0" lang="pt-BR" sz="4400" spc="-1" strike="noStrike">
                <a:solidFill>
                  <a:srgbClr val="000000"/>
                </a:solidFill>
                <a:latin typeface="Comic Sans MS"/>
              </a:rPr>
              <a:t> Geral de Sistem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5867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Outro exemplo é a </a:t>
            </a:r>
            <a:r>
              <a:rPr b="0" lang="pt-BR" sz="3200" spc="-1" strike="noStrike">
                <a:solidFill>
                  <a:srgbClr val="3333cc"/>
                </a:solidFill>
                <a:latin typeface="Comic Sans MS"/>
              </a:rPr>
              <a:t>Teoria da Evolução e da Seleção Natural</a:t>
            </a: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, de </a:t>
            </a:r>
            <a:r>
              <a:rPr b="0" lang="pt-BR" sz="3200" spc="-1" strike="noStrike">
                <a:solidFill>
                  <a:srgbClr val="3333cc"/>
                </a:solidFill>
                <a:latin typeface="Comic Sans MS"/>
              </a:rPr>
              <a:t>Charles Darw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Sendo válida para todos os seres vivos, deixou de lado o tipo de espécie, tamanho, etc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Novamente, um mapa do fenômen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095880" y="3665520"/>
            <a:ext cx="2819520" cy="2506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7A70-0CFA-465B-9CCC-A9D5E2983F2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cc"/>
                </a:solidFill>
                <a:latin typeface="Comic Sans MS"/>
              </a:rPr>
              <a:t>Teoria</a:t>
            </a:r>
            <a:r>
              <a:rPr b="0" lang="pt-BR" sz="4400" spc="-1" strike="noStrike">
                <a:solidFill>
                  <a:srgbClr val="000000"/>
                </a:solidFill>
                <a:latin typeface="Comic Sans MS"/>
              </a:rPr>
              <a:t> Geral de Sistem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Certamente, isso também vale para a </a:t>
            </a:r>
            <a:r>
              <a:rPr b="0" lang="pt-BR" sz="3200" spc="-1" strike="noStrike">
                <a:solidFill>
                  <a:srgbClr val="3333cc"/>
                </a:solidFill>
                <a:latin typeface="Comic Sans MS"/>
              </a:rPr>
              <a:t>Teoria Geral de Sistem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Comic Sans MS"/>
              </a:rPr>
              <a:t>Bertalanffy</a:t>
            </a: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, ao elaborar tal teoria, tinha consciência diss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Precisamos, pois, de um </a:t>
            </a:r>
            <a:r>
              <a:rPr b="0" lang="pt-BR" sz="3200" spc="-1" strike="noStrike">
                <a:solidFill>
                  <a:srgbClr val="3333cc"/>
                </a:solidFill>
                <a:latin typeface="Comic Sans MS"/>
              </a:rPr>
              <a:t>Mapa</a:t>
            </a: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pt-BR" sz="3200" spc="-1" strike="noStrike">
                <a:solidFill>
                  <a:srgbClr val="3333cc"/>
                </a:solidFill>
                <a:latin typeface="Comic Sans MS"/>
              </a:rPr>
              <a:t>Teoria</a:t>
            </a: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pt-BR" sz="3200" spc="-1" strike="noStrike">
                <a:solidFill>
                  <a:srgbClr val="3333cc"/>
                </a:solidFill>
                <a:latin typeface="Comic Sans MS"/>
              </a:rPr>
              <a:t>Geral de Sistemas</a:t>
            </a: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, que tenha validade para qualquer tipo de sistem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42B2-45B0-4211-8426-7D03C05DAC2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553080" y="3954600"/>
            <a:ext cx="2590920" cy="23018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cc"/>
                </a:solidFill>
                <a:latin typeface="Comic Sans MS"/>
              </a:rPr>
              <a:t>Teoria</a:t>
            </a:r>
            <a:r>
              <a:rPr b="0" lang="pt-BR" sz="4400" spc="-1" strike="noStrike">
                <a:solidFill>
                  <a:srgbClr val="000000"/>
                </a:solidFill>
                <a:latin typeface="Comic Sans MS"/>
              </a:rPr>
              <a:t> Geral de Sistem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86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Não fosse esse nível de abstração, como o robozinho chegaria ao planeta mart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Todas as viagens espaciais fazem uso ostensivo de diversas teori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A rigor, isso é comum em todas</a:t>
            </a:r>
            <a:r>
              <a:rPr b="0" lang="pt-BR" sz="3200" spc="-1" strike="noStrike">
                <a:solidFill>
                  <a:srgbClr val="ffff00"/>
                </a:solidFill>
                <a:latin typeface="Comic Sans MS"/>
              </a:rPr>
              <a:t> as áre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4876920"/>
            <a:ext cx="6248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Comic Sans MS"/>
              </a:rPr>
              <a:t>Nave Voyager 2 aproximando-se do planeta Ur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67AA-C23E-4B13-A59D-AA8B6CE80BC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572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cc"/>
                </a:solidFill>
                <a:latin typeface="Comic Sans MS"/>
              </a:rPr>
              <a:t>Teoria</a:t>
            </a:r>
            <a:r>
              <a:rPr b="0" lang="pt-BR" sz="4400" spc="-1" strike="noStrike">
                <a:solidFill>
                  <a:srgbClr val="000000"/>
                </a:solidFill>
                <a:latin typeface="Comic Sans MS"/>
              </a:rPr>
              <a:t> Geral de Siste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1752480"/>
            <a:ext cx="86868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Uma febre, por exemplo, faz o médico desconfiar de uma infecção no pac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O médico sabe disso pelo fato de conhecer a relação (teoria) que existe entre esses dois fenômenos (febre e infecçã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E lembre-se que o médico não vê nem a febre, nem a infecção: apenas seus efei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E, como visto, não passa de uma </a:t>
            </a:r>
            <a:r>
              <a:rPr b="0" lang="pt-BR" sz="3200" spc="-1" strike="noStrike">
                <a:solidFill>
                  <a:srgbClr val="3333cc"/>
                </a:solidFill>
                <a:latin typeface="Comic Sans MS"/>
              </a:rPr>
              <a:t>abstr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631D-48D8-4043-92A3-CAC45358082C}" type="slidenum">
              <a:t>3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257800" y="2862360"/>
            <a:ext cx="3657600" cy="325116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cc"/>
                </a:solidFill>
                <a:latin typeface="Comic Sans MS"/>
              </a:rPr>
              <a:t>Teoria</a:t>
            </a:r>
            <a:r>
              <a:rPr b="0" lang="pt-BR" sz="4400" spc="-1" strike="noStrike">
                <a:solidFill>
                  <a:srgbClr val="000000"/>
                </a:solidFill>
                <a:latin typeface="Comic Sans MS"/>
              </a:rPr>
              <a:t> Geral de Sistem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1752480"/>
            <a:ext cx="54100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Quando alguém queima a mão no fogão, por exemplo, de imediato a recolhe, por puro reflex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Há uma teoria para isso (</a:t>
            </a:r>
            <a:r>
              <a:rPr b="0" lang="pt-BR" sz="3200" spc="-1" strike="noStrike">
                <a:solidFill>
                  <a:srgbClr val="3333cc"/>
                </a:solidFill>
                <a:latin typeface="Comic Sans MS"/>
              </a:rPr>
              <a:t>Encarta - How a reflex works</a:t>
            </a: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EE29-F607-4DEF-A594-FB1F2099371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omic Sans MS"/>
              </a:rPr>
              <a:t>Teoria </a:t>
            </a:r>
            <a:r>
              <a:rPr b="0" lang="pt-BR" sz="4400" spc="-1" strike="noStrike">
                <a:solidFill>
                  <a:srgbClr val="3333cc"/>
                </a:solidFill>
                <a:latin typeface="Comic Sans MS"/>
              </a:rPr>
              <a:t>Geral</a:t>
            </a:r>
            <a:r>
              <a:rPr b="0" lang="pt-BR" sz="4400" spc="-1" strike="noStrike">
                <a:solidFill>
                  <a:srgbClr val="000000"/>
                </a:solidFill>
                <a:latin typeface="Comic Sans MS"/>
              </a:rPr>
              <a:t> de Sistem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Que esse mapa seja </a:t>
            </a:r>
            <a:r>
              <a:rPr b="0" lang="pt-BR" sz="3200" spc="-1" strike="noStrike">
                <a:solidFill>
                  <a:srgbClr val="3333cc"/>
                </a:solidFill>
                <a:latin typeface="Comic Sans MS"/>
              </a:rPr>
              <a:t>geral</a:t>
            </a: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, isto é, que possa ser </a:t>
            </a:r>
            <a:r>
              <a:rPr b="0" lang="pt-BR" sz="3200" spc="-1" strike="noStrike">
                <a:solidFill>
                  <a:srgbClr val="3333cc"/>
                </a:solidFill>
                <a:latin typeface="Comic Sans MS"/>
              </a:rPr>
              <a:t>aplicado a qualquer tipo de sistema</a:t>
            </a: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 abrangido pela teori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Não importando que seja físico, químico, biológico, econômico, administrativo, político, social, etc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Compreendendo-se, no entanto, que </a:t>
            </a:r>
            <a:r>
              <a:rPr b="0" lang="pt-BR" sz="3200" spc="-1" strike="noStrike">
                <a:solidFill>
                  <a:srgbClr val="3333cc"/>
                </a:solidFill>
                <a:latin typeface="Comic Sans MS"/>
              </a:rPr>
              <a:t>a generalização impõe a perda dos detalh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3D44-DB36-4669-9672-DE8D087567E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omic Sans MS"/>
              </a:rPr>
              <a:t>Teoria Geral de </a:t>
            </a:r>
            <a:r>
              <a:rPr b="0" lang="pt-BR" sz="4400" spc="-1" strike="noStrike">
                <a:solidFill>
                  <a:srgbClr val="3333cc"/>
                </a:solidFill>
                <a:latin typeface="Comic Sans MS"/>
              </a:rPr>
              <a:t>Sistem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Enfim, o que se entende por sistema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Segundo o Auréli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Conjunto de elementos, materiais ou ideais, entre os quais se possa encontrar ou definir alguma relaçã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Vamos a alguns exemplos do mesmo Auréli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DE01-5933-43E3-8F8E-3CA17452422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omic Sans MS"/>
              </a:rPr>
              <a:t>Material didátic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Apresentação em slid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Notas de aul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Enciclopédias em CD-RO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Víde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Referências bibliográficas adiciona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Bertalanffy, Covington, Flake, Skyttner, Lotka, etc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E96B-9CE0-4567-98B6-F6C01441F2A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omic Sans MS"/>
              </a:rPr>
              <a:t>Teoria Geral de </a:t>
            </a:r>
            <a:r>
              <a:rPr b="0" lang="pt-BR" sz="4400" spc="-1" strike="noStrike">
                <a:solidFill>
                  <a:srgbClr val="3333cc"/>
                </a:solidFill>
                <a:latin typeface="Comic Sans MS"/>
              </a:rPr>
              <a:t>Sistem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Sistema Internacional de Unidades de Medida, baseado em unidades fundamenta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Metro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, unidade de </a:t>
            </a: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compriment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Quilograma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, unidade de </a:t>
            </a: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mass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Segundo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, unidade de </a:t>
            </a: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temp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Ampère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, unidade de </a:t>
            </a: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corrente elétric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Kelvin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, unidade de </a:t>
            </a: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temperatur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Candela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, unidade de </a:t>
            </a: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intensidade luminos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6636-F065-4884-99C2-79F9B277B01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omic Sans MS"/>
              </a:rPr>
              <a:t>Teoria Geral de </a:t>
            </a:r>
            <a:r>
              <a:rPr b="0" lang="pt-BR" sz="4400" spc="-1" strike="noStrike">
                <a:solidFill>
                  <a:srgbClr val="3333cc"/>
                </a:solidFill>
                <a:latin typeface="Comic Sans MS"/>
              </a:rPr>
              <a:t>Sistem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Sistema Planetári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O conjunto dos planetas que giram em redor do sol (sistema solar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Sistema Operacion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Conjunto integrado de programas básicos, projetado para supervisionar e controlar a execução de programas de aplicação em um computador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776C-360D-46CC-A1BF-CCA450D39CF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omic Sans MS"/>
              </a:rPr>
              <a:t>Teoria Geral de </a:t>
            </a:r>
            <a:r>
              <a:rPr b="0" lang="pt-BR" sz="4400" spc="-1" strike="noStrike">
                <a:solidFill>
                  <a:srgbClr val="3333cc"/>
                </a:solidFill>
                <a:latin typeface="Comic Sans MS"/>
              </a:rPr>
              <a:t>Sistem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Sistema Especialista (SE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Sistema de computação que retém uma fração significativa do conhecimento de um especialista em uma determinada área, e que pode utilizar este conhecimento para sugerir conclusões às quais o especialista chegaria, se ambos fossem confrontados com os mesmos problem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DCAB-18BC-426C-BA3F-95A9C96D5AC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 exemplo de S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Que animal é ess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em pena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em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Voa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or qu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Estou tentando provar que é Pingüim; responda: o animal voa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8C34-3C0D-44B7-BF1A-DC48C0B82901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omic Sans MS"/>
              </a:rPr>
              <a:t>Sistema Especialist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838080" y="1224000"/>
          <a:ext cx="7467840" cy="494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224000"/>
                    <a:ext cx="7467840" cy="49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817B-0B3F-484F-A867-4072F08B21F7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omic Sans MS"/>
              </a:rPr>
              <a:t>Teoria Geral de </a:t>
            </a:r>
            <a:r>
              <a:rPr b="0" lang="pt-BR" sz="4400" spc="-1" strike="noStrike">
                <a:solidFill>
                  <a:srgbClr val="3333cc"/>
                </a:solidFill>
                <a:latin typeface="Comic Sans MS"/>
              </a:rPr>
              <a:t>Sistem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Sistema Nervoso Centr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Porção do sistema nervoso composta de encéfalo, medula espinhal e meninges que os recobr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Sistema de Numeraçã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Conjunto de regras para representação de númer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B54E-1B63-4A2B-BCE3-B535D0766A0B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1027080" y="431640"/>
          <a:ext cx="7548480" cy="603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7080" y="431640"/>
                    <a:ext cx="7548480" cy="603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 rot="16200000">
            <a:off x="-2066040" y="2932920"/>
            <a:ext cx="538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Sistemas de Numer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44D9-F2C9-4980-B426-4C894B70B20F}" type="slidenum">
              <a:t>4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omic Sans MS"/>
              </a:rPr>
              <a:t>Teoria Geral de Sistem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Neste ponto, espera-se, que você tenha tido uma boa idéia do que significam, isoladamente, as palavras contidas na fra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/>
          <p:nvPr/>
        </p:nvSpPr>
        <p:spPr>
          <a:xfrm>
            <a:off x="873720" y="4495680"/>
            <a:ext cx="767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3333cc"/>
                </a:solidFill>
                <a:latin typeface="Comic Sans MS"/>
              </a:rPr>
              <a:t>Teoria Geral de Sistem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D29F-FF09-4D60-AE59-F19DD96DA11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533520" y="609480"/>
            <a:ext cx="8153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omic Sans MS"/>
              </a:rPr>
              <a:t>Trabalho 2 (prazo: 1 seman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1523880"/>
            <a:ext cx="88390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Hipóte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A mesma do </a:t>
            </a: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Trabalho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Sua tarefa (em grupos de 5, no máxim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Escolha uma das oportunidades de negócios que você extraiu no </a:t>
            </a: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Trabalho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Descreva, suscintamente, o sistema resultante da oportunidade de negócio escolh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Descreva, se for o caso, os sub-sist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Crie uma página (Internet) com o relató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A3AA-0B2E-45BD-96F6-DF1CBDD1A176}" type="slidenum">
              <a:t>4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omic Sans MS"/>
              </a:rPr>
              <a:t>Teoria Geral de Sistem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O que mais se pode falar sobre TG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Uma teoria para tudo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Interdisciplinar, multidisciplinar, transdisciplinar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Universal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Lei das leis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Ilustração </a:t>
            </a:r>
            <a:r>
              <a:rPr b="1" lang="pt-BR" sz="3200" spc="-1" strike="noStrike">
                <a:solidFill>
                  <a:srgbClr val="3333cc"/>
                </a:solidFill>
                <a:latin typeface="Comic Sans MS"/>
              </a:rPr>
              <a:t>×</a:t>
            </a: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 Instrumento (o que, porque e como)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Abstrata </a:t>
            </a:r>
            <a:r>
              <a:rPr b="1" lang="pt-BR" sz="3200" spc="-1" strike="noStrike">
                <a:solidFill>
                  <a:srgbClr val="3333cc"/>
                </a:solidFill>
                <a:latin typeface="Comic Sans MS"/>
              </a:rPr>
              <a:t>×</a:t>
            </a: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 especializada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4938-E8B3-46E2-BF10-F9668C7A9A7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omic Sans MS"/>
              </a:rPr>
              <a:t>Bibliografia adicion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1. SKYTTNER, L. - </a:t>
            </a:r>
            <a:r>
              <a:rPr b="1" lang="pt-BR" sz="2400" spc="-1" strike="noStrike">
                <a:solidFill>
                  <a:srgbClr val="000000"/>
                </a:solidFill>
                <a:latin typeface="Comic Sans MS"/>
              </a:rPr>
              <a:t>General System Theory - An Introduction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, UK, Antony Rowe Ltda, 1996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 BERTALANFFY, L. von - </a:t>
            </a:r>
            <a:r>
              <a:rPr b="1" lang="pt-BR" sz="2400" spc="-1" strike="noStrike">
                <a:solidFill>
                  <a:srgbClr val="000000"/>
                </a:solidFill>
                <a:latin typeface="Comic Sans MS"/>
              </a:rPr>
              <a:t>General Theory of Systems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. N. York, George Braziller, 1969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 COVINGTON Jr., W. G. - </a:t>
            </a:r>
            <a:r>
              <a:rPr b="1" lang="pt-BR" sz="2400" spc="-1" strike="noStrike">
                <a:solidFill>
                  <a:srgbClr val="000000"/>
                </a:solidFill>
                <a:latin typeface="Comic Sans MS"/>
              </a:rPr>
              <a:t>Creativity and General Theory of Systems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. Parkland, Florida, Universal Publishers, 1998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4. FLAKE, G. W. - </a:t>
            </a:r>
            <a:r>
              <a:rPr b="1" lang="pt-BR" sz="2400" spc="-1" strike="noStrike">
                <a:solidFill>
                  <a:srgbClr val="000000"/>
                </a:solidFill>
                <a:latin typeface="Comic Sans MS"/>
              </a:rPr>
              <a:t>The Computational Beauty of Nature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. London, The MIT Press, 1998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 LOTKA, A. J. - </a:t>
            </a:r>
            <a:r>
              <a:rPr b="1" lang="pt-BR" sz="2400" spc="-1" strike="noStrike">
                <a:solidFill>
                  <a:srgbClr val="000000"/>
                </a:solidFill>
                <a:latin typeface="Comic Sans MS"/>
              </a:rPr>
              <a:t>Elements of Physical Biology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. (1925), N. York, Dover, 1956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7C37-E8B0-46E0-8D97-F1619AC391E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omic Sans MS"/>
              </a:rPr>
              <a:t>Teoria Geral de Sistem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Palavras de Kenneth Boulding [1]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Teoria Geral de Sistemas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é o esqueleto da ciência, pois visa prover uma estrutura de sistemas que reveste a carne e o sangue de disciplinas específicas, em um corpo de conhecimento ordenado e coerent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3223-A4AD-4CF3-9F03-2B217586DFC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 rot="16200000">
            <a:off x="-1104480" y="2705040"/>
            <a:ext cx="4191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omic Sans MS"/>
              </a:rPr>
              <a:t>Teoria Geral de Sistem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286000" y="228600"/>
          <a:ext cx="6172200" cy="601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28600"/>
                    <a:ext cx="6172200" cy="60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0833-8082-4C2E-AA17-3EAEB0C6EBB1}" type="slidenum">
              <a:t>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968400" y="685800"/>
          <a:ext cx="7208640" cy="56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8400" y="685800"/>
                    <a:ext cx="720864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 rot="16200000">
            <a:off x="1119960" y="4848840"/>
            <a:ext cx="163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Program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16200000">
            <a:off x="1523160" y="4553640"/>
            <a:ext cx="21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Lógica e Algorít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rot="16200000">
            <a:off x="1278360" y="3588480"/>
            <a:ext cx="40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Metodologia de Projeto de Siste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rot="16200000">
            <a:off x="2163240" y="3698640"/>
            <a:ext cx="381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Metodologia e Teoria de Siste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rot="16200000">
            <a:off x="3966120" y="4743360"/>
            <a:ext cx="173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Administr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rot="16200000">
            <a:off x="4218480" y="4302720"/>
            <a:ext cx="259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Teoria da Organiz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rot="16200000">
            <a:off x="5496120" y="4987800"/>
            <a:ext cx="126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Psicolog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rot="16200000">
            <a:off x="5243760" y="4083480"/>
            <a:ext cx="29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iências Sociais e Polít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rot="16200000">
            <a:off x="6230880" y="4472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Artes e Arquite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FF14-8256-4B7D-AECE-C4DB57EA8A1B}" type="slidenum">
              <a:t>5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omic Sans MS"/>
              </a:rPr>
              <a:t>Histórico e rumos da TG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Como visto, </a:t>
            </a:r>
            <a:r>
              <a:rPr b="0" lang="pt-BR" sz="3200" spc="-1" strike="noStrike">
                <a:solidFill>
                  <a:srgbClr val="3333cc"/>
                </a:solidFill>
                <a:latin typeface="Comic Sans MS"/>
              </a:rPr>
              <a:t>sistema</a:t>
            </a: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 é um dos conceitos mais difusos que se tem notíci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Quase qualquer coisa pode ser considerado como um sistem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E esse conceito já é preocupação humana há sécul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Dionísio falava da </a:t>
            </a:r>
            <a:r>
              <a:rPr b="0" lang="pt-BR" sz="3200" spc="-1" strike="noStrike">
                <a:solidFill>
                  <a:srgbClr val="3333cc"/>
                </a:solidFill>
                <a:latin typeface="Comic Sans MS"/>
              </a:rPr>
              <a:t>Hierarquia da Ordem </a:t>
            </a: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[2]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AAC2-872C-46BB-AF83-3315A4E2025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omic Sans MS"/>
              </a:rPr>
              <a:t>Histórico e rumos da TG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Nicholas de Cusa descreveu o que chamou de </a:t>
            </a:r>
            <a:r>
              <a:rPr b="0" lang="pt-BR" sz="3200" spc="-1" strike="noStrike">
                <a:solidFill>
                  <a:srgbClr val="3333cc"/>
                </a:solidFill>
                <a:latin typeface="Comic Sans MS"/>
              </a:rPr>
              <a:t>coincidentia oppositorium</a:t>
            </a: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, o fato de que existe uma batalha entre vários componentes de um sistema [2]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Esses trabalhos incipientes acabaram reforçando a necessidade de pesquisa sobre uma teoria que generalizasse a idéia de sistem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B0AD-7A68-450F-A096-900A6A5B49F4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omic Sans MS"/>
              </a:rPr>
              <a:t>Histórico e rumos da TG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Bertalanffy [1], em 1937, cunhou a expressão </a:t>
            </a:r>
            <a:r>
              <a:rPr b="0" lang="pt-BR" sz="3200" spc="-1" strike="noStrike">
                <a:solidFill>
                  <a:srgbClr val="3333cc"/>
                </a:solidFill>
                <a:latin typeface="Comic Sans MS"/>
              </a:rPr>
              <a:t>Teoria Geral de Sistem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Antes, portanto, da </a:t>
            </a:r>
            <a:r>
              <a:rPr b="0" lang="pt-BR" sz="3200" spc="-1" strike="noStrike">
                <a:solidFill>
                  <a:srgbClr val="3333cc"/>
                </a:solidFill>
                <a:latin typeface="Comic Sans MS"/>
              </a:rPr>
              <a:t>Cibernética</a:t>
            </a: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, por Norbert Wiener, na década de 194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Lotka [4] chegou perto antes, 1925, mas se restringiu a sistemas físic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Sendo estatístico (Lotka), trabalhava com populações, e </a:t>
            </a:r>
            <a:r>
              <a:rPr b="0" lang="pt-BR" sz="3200" spc="-1" strike="noStrike">
                <a:solidFill>
                  <a:srgbClr val="3333cc"/>
                </a:solidFill>
                <a:latin typeface="Comic Sans MS"/>
              </a:rPr>
              <a:t>não com organismo individu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C76A-DBCE-495A-9CF0-23D5E6F4879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omic Sans MS"/>
              </a:rPr>
              <a:t>Histórico e rumos da TG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Considerava populações (comunidades) como sistemas, mas via organismos individuais como </a:t>
            </a:r>
            <a:r>
              <a:rPr b="0" lang="pt-BR" sz="3200" spc="-1" strike="noStrike">
                <a:solidFill>
                  <a:srgbClr val="3333cc"/>
                </a:solidFill>
                <a:latin typeface="Comic Sans MS"/>
              </a:rPr>
              <a:t>soma de célul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Ficava claro, nos anos 1960, que a abordagem sistêmica (</a:t>
            </a:r>
            <a:r>
              <a:rPr b="0" lang="pt-BR" sz="3200" spc="-1" strike="noStrike">
                <a:solidFill>
                  <a:srgbClr val="3333cc"/>
                </a:solidFill>
                <a:latin typeface="Comic Sans MS"/>
              </a:rPr>
              <a:t>sob a luz de sistemas</a:t>
            </a: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) era uma necessida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A abordagem mecanicista não conseguia explicar certos fenômen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BC43-A513-4029-A36F-134A341DDF46}" type="slidenum">
              <a:t>5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omic Sans MS"/>
              </a:rPr>
              <a:t>Histórico e rumos da TG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Segundo o Auréli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O </a:t>
            </a: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mecanicismo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é uma doutrina que admite que determinado conjunto de fenômenos, ou mesmo toda a natureza, se reduz a um sistema de determinações mecânic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Concebe o movimento como determinado por lei causal rigorosa, e por negar todo tipo de finalismo ou de qualidade oculta para a determinação dos fenômenos natura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A0E3-9E87-404A-98D4-769D35C19C40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omic Sans MS"/>
              </a:rPr>
              <a:t>Histórico e rumos da TG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A abordagem mecanicista, portanto, é pobre ao tratar de organismos vivos, por exempl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O acúmulo de gordura em uma artéria do coração pode fazê-la entupir-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Quando isso acontece, o organismo se encarrega de gerar </a:t>
            </a:r>
            <a:r>
              <a:rPr b="0" lang="pt-BR" sz="3200" spc="-1" strike="noStrike">
                <a:solidFill>
                  <a:srgbClr val="3333cc"/>
                </a:solidFill>
                <a:latin typeface="Comic Sans MS"/>
              </a:rPr>
              <a:t>vasos sangüíneos paralelos</a:t>
            </a: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, para que o sangue possa passa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28E9-17E9-4B49-A4E6-068451BC4F6B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omic Sans MS"/>
              </a:rPr>
              <a:t>Histórico e rumos da TG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Isso bem que poderia ser considerado como uma </a:t>
            </a:r>
            <a:r>
              <a:rPr b="0" lang="pt-BR" sz="3200" spc="-1" strike="noStrike">
                <a:solidFill>
                  <a:srgbClr val="3333cc"/>
                </a:solidFill>
                <a:latin typeface="Comic Sans MS"/>
              </a:rPr>
              <a:t>qualidade oculta</a:t>
            </a: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, não admitida pela abordagem mecanicist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Pode parecer milagre, mas não é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Simplesmente cada componente faz a sua parte, em benefício do tod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É isso que a TGS tenta mostra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C98D-6CF2-4737-A2D8-20A4C8D7EB9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Áreas que precisam de TG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utomaçã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genhari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iência da Computaçã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ministraçã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iências Soci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Sistemas de Informação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62F4-4746-4E3F-8A3B-47F866365FC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omic Sans MS"/>
              </a:rPr>
              <a:t>Histórico e rumos da TG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gundo Bertalanffy [2], há dois modos de estudar-se TG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80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arte-se de conceitos teóricos de sistemas e deriva-se rigorosamente a teoria conseqüen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80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arte-se de problemas, existentes em várias ciências, mostrando-se a necessidade do enfoque sistêmico e, então, desenvolvem-se as idéias de TGS com exemplos ilustrativ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D61A-16EC-4F64-BC4F-5693620E6065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omic Sans MS"/>
              </a:rPr>
              <a:t>Histórico e rumos da TG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 próprio Bertalanffy prefere a segunda opçã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enso que esse ponto de vista é o mais adequado a um curso de graduação em Sistemas de Informaçã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eja que os exemplos ilustrativos são substituíveis, o que permite crescente aprimoramento da compreensão de TG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CC3A-753D-44F9-8E3B-C1DB8C8E253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omic Sans MS"/>
              </a:rPr>
              <a:t>Histórico e rumos da TG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á aspectos gerais, correspondências e isomorfismos comuns a “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stema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” que a TGS procura esclarec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TGS, então, é a exploração científica do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od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 da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otalida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ra, até há pouco tempo [2], isso era considerado noção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metafísic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 transcendia as fronteiras da ciênci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7995-E544-42DA-B79F-1B8C1E2A6BEE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pectos Gerais de Sistem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rês aspectos [2], não separáveis em conteúdo, mas distinguíveis em intençã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Ciência de Sistem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Tecnologia de Sistem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Fiolosofia de Sistem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m pequeno comentário sobre cada um desses aspectos se faz necessári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5086-E459-4A1C-8F4B-26926BC080F4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iência de Sistem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partir da TGS, novos modelos, campos da matemática e concepções, surgira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oria de Sistemas Dinâmic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ibernétic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oria de Autômat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álise de Sistem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ando-se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eoria de Conjunto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Red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eoria de Grafo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etc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0C78-2148-4EE2-891A-C5D65BD58C5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Tecnologia de Sistem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sse aspecto se refere aos problemas surgidos nas modernas tecnologias e nas sociedades ditas modern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rdware dos computador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utomação e Teoria de Contro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áquinas inteligen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ftware para novos desenvolvimentos tecnológicos, etc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EBCB-9F27-497B-80E8-E5EB428CFF5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olosofia de Sistem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o toda teoria científica [2], TGS tem aspectos metacientíficos ou filosófic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orientação da visão de mundo sobre sistemas, como um novo paradígm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m contraste com a visão mecanicista da ciência clássica com suas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leis cegas da naturez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359B-692E-47F6-BE37-7AA6C28C9CF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olosofia de Sistem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A filosofia de sistemas, então, divide-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Ontologia de sistem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Epistemologia de sistem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Valores em sistem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Novamente, tentemos compreender um pouco de cada dessas sub-divisõ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ED89-BA4C-4A2F-99B6-98FBF2612D8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omic Sans MS"/>
              </a:rPr>
              <a:t>Ontologia de sistem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Deve-se descobrir a </a:t>
            </a:r>
            <a:r>
              <a:rPr b="0" lang="pt-BR" sz="3200" spc="-1" strike="noStrike">
                <a:solidFill>
                  <a:srgbClr val="3333cc"/>
                </a:solidFill>
                <a:latin typeface="Comic Sans MS"/>
              </a:rPr>
              <a:t>natureza da best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O que significa </a:t>
            </a:r>
            <a:r>
              <a:rPr b="0" lang="pt-BR" sz="3200" spc="-1" strike="noStrike">
                <a:solidFill>
                  <a:srgbClr val="3333cc"/>
                </a:solidFill>
                <a:latin typeface="Comic Sans MS"/>
              </a:rPr>
              <a:t>sistem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E como os sistemas são constatados nos vários níveis do mundo de observaçã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O que se pode definir e descrever como sistema não é uma questão fácil de ser respondid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41F5-3AD0-43E1-9096-4A14C6AF0FF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omic Sans MS"/>
              </a:rPr>
              <a:t>Ontologia de sistem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Por um lado, é fácil concordar-se qu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Uma galáxi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Um cachorr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Uma célul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Um átom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são </a:t>
            </a: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sistemas rea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São entidades percebidas ou inferidas de observações, as quais existem independentemente do observado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C41E-E7C8-4254-A50B-6482394287D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omic Sans MS"/>
              </a:rPr>
              <a:t>Sistemas de Informaçã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Que bom que você passou no vestibula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O cursinho atingiu seus objetivos; mas já saiu de cena; mudou o objetiv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A meta, agora, é o mercado de trabalh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Nada de receita de bol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Você terá que ampliar sua base intelectu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Enfim, descobrir oportunidades de negóci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Para acompanhar, se antecipar ao mercad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6465-FC53-4E3F-BB79-3DFFFD82CF7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omic Sans MS"/>
              </a:rPr>
              <a:t>Ontologia de sistem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Por outro lado, há </a:t>
            </a:r>
            <a:r>
              <a:rPr b="0" lang="pt-BR" sz="3200" spc="-1" strike="noStrike">
                <a:solidFill>
                  <a:srgbClr val="3333cc"/>
                </a:solidFill>
                <a:latin typeface="Comic Sans MS"/>
              </a:rPr>
              <a:t>sistemas conceituais</a:t>
            </a: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, como Lógica, Matemática, as quais são construções simbólicas, mas que possuem correspondência com a realida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O ecossistema e um sistema social são reais o suficiente para o perceberm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Principalmente quando nos deparamos com poluição e fome, respectivamen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São </a:t>
            </a: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construções conceituais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, não podem ser observadas diretamen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6B39-22F1-4CC2-9132-88AD33CAA1A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omic Sans MS"/>
              </a:rPr>
              <a:t>Epistemologia de Sistem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A construção mental é um processo muito complexo que pode apenas ser indicado neste context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Depende de uma grande quantidade de fatores mentais que vã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da gestalt e processos de aprendizag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até fatores lingüísticos e cultura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Determinando o que se vê e se perceb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401B-C7E6-458C-BCEE-C8F9D619B81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omic Sans MS"/>
              </a:rPr>
              <a:t>Valores em sistem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Essa última parte da Filosofia de Sistemas, se refere às relações entre o ser humano e o mund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Denominada </a:t>
            </a:r>
            <a:r>
              <a:rPr b="0" lang="pt-BR" sz="3200" spc="-1" strike="noStrike">
                <a:solidFill>
                  <a:srgbClr val="3333cc"/>
                </a:solidFill>
                <a:latin typeface="Comic Sans MS"/>
              </a:rPr>
              <a:t>valores</a:t>
            </a: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, no linguajar filosófic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Há o mundo: </a:t>
            </a: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a única realidade verdadeir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Há o observador (ser humano): </a:t>
            </a: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sua visão de mundo será sempre parcial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46CF-FC14-4C47-B63C-AB0DA33B2C2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omic Sans MS"/>
              </a:rPr>
              <a:t>Valores em sistem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Se realidade é uma hierarquia de </a:t>
            </a:r>
            <a:r>
              <a:rPr b="0" lang="pt-BR" sz="3200" spc="-1" strike="noStrike">
                <a:solidFill>
                  <a:srgbClr val="3333cc"/>
                </a:solidFill>
                <a:latin typeface="Comic Sans MS"/>
              </a:rPr>
              <a:t>todos</a:t>
            </a: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 organizados, a imagem que o ser humano tem do mundo real será diferente des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E esse mundo é formado de partículas físicas governadas por eventos casua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Essa deve ser nossa compreensão do que realmente aconte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DA1C-E797-48F6-83B0-778D7BD3CAE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omic Sans MS"/>
              </a:rPr>
              <a:t>Valores em sistem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Coisas muito </a:t>
            </a:r>
            <a:r>
              <a:rPr b="0" lang="pt-BR" sz="3200" spc="-1" strike="noStrike">
                <a:solidFill>
                  <a:srgbClr val="3333cc"/>
                </a:solidFill>
                <a:latin typeface="Comic Sans MS"/>
              </a:rPr>
              <a:t>reais</a:t>
            </a: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, com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Mundo de símbol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Valor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Entidades socia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Cultur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devem ser incorporadas em uma ordem hierárquica capaz de fazer a ponte entre </a:t>
            </a:r>
            <a:r>
              <a:rPr b="0" lang="pt-BR" sz="3200" spc="-1" strike="noStrike">
                <a:solidFill>
                  <a:srgbClr val="3333cc"/>
                </a:solidFill>
                <a:latin typeface="Comic Sans MS"/>
              </a:rPr>
              <a:t>abordagens opost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4AA4-28BD-4B39-B185-05D323FD529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omic Sans MS"/>
              </a:rPr>
              <a:t>Valores em sistem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Essas abordagens opostas inclue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Ciência e Humanidad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Tecnologia e Históri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Ciências Sociais e Ciências Natura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Foi com essa </a:t>
            </a:r>
            <a:r>
              <a:rPr b="0" lang="pt-BR" sz="3200" spc="-1" strike="noStrike">
                <a:solidFill>
                  <a:srgbClr val="3333cc"/>
                </a:solidFill>
                <a:latin typeface="Comic Sans MS"/>
              </a:rPr>
              <a:t>preocupação humanística</a:t>
            </a: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 que Bertalanffy estabeleceu as bases da TG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2CED-6DF1-40C5-AEF8-BA2ED18A18E1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omic Sans MS"/>
              </a:rPr>
              <a:t>Valores em sistem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É essa preocupação humanística que, segundo Bertalanffy, estabelece a diferença ent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Teoria Clássica de Sistemas, mecanicista, de cunho tecnocrátic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Teoria Geral de Sistemas, com forte ênfase humanist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28EB-403F-4B48-A0DB-73BBA4BDB782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omic Sans MS"/>
              </a:rPr>
              <a:t>Valores em sistem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Segundo Bertalanffy, a abordagem mecanicista nos dá medo de ser um teoria de sistema que represente a última etapa em direção 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Mecanizaçã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Desvalorização do ser huma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E o caminho, sem volta, para uma sociedade tecnocrátic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716C-FC91-4BC3-9473-B739F94EEA5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omic Sans MS"/>
              </a:rPr>
              <a:t>Valores em sistem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Esses valores humanísticos, ainda segundo Bertalanffy, não podem ser incorporados em uma teoria de sistemas com visão restrita e fracionad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Um curso de Sistemas de Informação, como qualquer outro, que não tenha o ser humano como sua mais alta prioridade, não pode merecer o respeito de qualquer ser humano; </a:t>
            </a:r>
            <a:r>
              <a:rPr b="0" lang="pt-BR" sz="3200" spc="-1" strike="noStrike">
                <a:solidFill>
                  <a:srgbClr val="3333cc"/>
                </a:solidFill>
                <a:latin typeface="Comic Sans MS"/>
              </a:rPr>
              <a:t>ou você não concorda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1E21-7819-4270-837C-7529DD178641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530280" y="609480"/>
            <a:ext cx="8153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omic Sans MS"/>
              </a:rPr>
              <a:t>Trabalho 3 (prazo: 1 seman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1680" y="1523880"/>
            <a:ext cx="8537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Fazer um glossário com seguintes as palavras ou frases, as quais incorporam relevantes conceitos para a compreensão de T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Inform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Sistema de Inform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Oportunidade de negó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3603-0FC9-4E3E-B052-7ADD3DB95E03}" type="slidenum">
              <a:t>7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omic Sans MS"/>
              </a:rPr>
              <a:t>Sistemas de Informaçã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Para isso, você precisará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Correr atrás de informação em bibliotecas, meios de comunicação, Internet, etc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Cruzar informações para a formação de conceitos, com a conseqüente ampliação da base intelectual, científica e tecnológic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Palavras e expressões desconhecidas jamais deverão tornar-se obstáculos à sua formaçã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0DE2-825A-4596-8227-397DC6F16A2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omic Sans MS"/>
              </a:rPr>
              <a:t>Trabalho 3 (continuação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Construção ment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Percepçã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Sensaçã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Fenôme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Teori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Teoria da Evolução e da Seleção Natur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Abstraçã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Interdisciplina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200E-A680-4397-B340-44452FD88586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omic Sans MS"/>
              </a:rPr>
              <a:t>Trabalho 3 (continuação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Multidisciplina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Transdisciplina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Hierarqui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Ord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Cibernétic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Abordag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Abordagem mecanicist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Abordagem sistêmic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Metafísic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9FC9-3C2A-47FB-B00C-F29415CC084D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omic Sans MS"/>
              </a:rPr>
              <a:t>Trabalho 3 (continuaçã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Causal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Doutr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utôma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stema Está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stema Dinâm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oria de Autôma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ál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ínte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2577-6DAE-4985-AF9F-6BCD0906683E}" type="slidenum">
              <a:t>8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omic Sans MS"/>
              </a:rPr>
              <a:t>Trabalho 3 (continuação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Ontologi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Ontogenia (não citado no texto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Filogenia (não citado no texto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Epistemologi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Val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Ecossistem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Gestal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Tecnocrátic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C712-4944-4B84-AEB3-D2484BADC0E5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omic Sans MS"/>
              </a:rPr>
              <a:t>Sistemas de Informaçã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Então, não se surpreenda 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Um termo ou uma expressão desconhecida surgir, pois você pode (e deve) consultar várias fontes para descobrir seu significad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Você não tiver a menor idéia de como iniciar um trabalho solicitado, pois da criatividade e da ousadia é que depende o sucesso de seu curso e, junto, seu lugar no mercado de trabalho ou sua oportunidade de negóci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643A-9F23-479D-8B54-17C3CE10046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10:11:25Z</dcterms:created>
  <dc:creator>JBosco</dc:creator>
  <dc:description/>
  <dc:language>en-US</dc:language>
  <cp:lastModifiedBy>Joao Bosco da Mota Alves</cp:lastModifiedBy>
  <dcterms:modified xsi:type="dcterms:W3CDTF">2002-05-21T19:57:18Z</dcterms:modified>
  <cp:revision>398</cp:revision>
  <dc:subject/>
  <dc:title>Teoria Geral de Sistemas Prof. João Bosco da Mota Alves  Bacharelado em Sistemas de Informação</dc:title>
</cp:coreProperties>
</file>