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173-8F97-4F92-B697-4E7584BE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6710-08C5-493B-8C24-A51EDB1A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FCC4-7851-4E97-844C-FB2B6096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4D20-914C-412C-83EA-BEFC0911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A766-2A0D-4DD7-ABFB-46ADDF04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ABEF-0ECD-47D0-B566-1133A1A7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7533-0A65-4960-B9A1-CAD5505F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8021-35AC-40F5-A04D-3BD0986A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4DE1-CF50-4CCB-A867-EE9C5DAF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5984-15B7-4779-90DA-84586BA8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599B-4511-4F5E-BA92-A4D4DE1D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071D-99C2-4C67-81EE-6BCBD51E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1D34-2A3B-4DC4-AB45-3A2CC757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27AC-3658-4D5E-B07E-ED6499F0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A91C-C0D3-418A-A0A1-300B9A35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6D10-52F6-4436-B618-26A7AB25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703F-7495-46A9-8C75-2B75B474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43B9-015E-4A1A-B9E5-D6094925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294-BFFF-4EF0-B2AC-74EAA2F7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CDF4-464E-41FE-AD9A-E3FB7B6A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EC38-661C-44D8-8F0E-3C91EC86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BBA5-EB32-4500-8244-A58219B5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5EC-FF97-421C-B3B7-1064FA89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251E-7C49-4820-8399-8AE40558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9BED-320C-469A-BEF8-D0D943915BCB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F085-5CBB-4454-92BF-5F9F2D5559EB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9966"/>
                </a:solidFill>
                <a:latin typeface="Arial Unicode MS"/>
              </a:rPr>
              <a:t>Seminários da Disciplina Introdução à Informática Aplicada à Educaçã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676520" y="32767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ffff"/>
                </a:solidFill>
                <a:latin typeface="Arial Unicode MS"/>
              </a:rPr>
              <a:t>Condição Pós-moderna,</a:t>
            </a:r>
            <a:r>
              <a:rPr b="0" i="1" lang="pt-BR" sz="36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Arial Unicode MS"/>
              </a:rPr>
              <a:t>de David Harv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 Unicode MS"/>
              </a:rPr>
              <a:t>Síntese da Parte 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lha de Santa Catarina, abril de 2002 Carla Cabr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9966"/>
                </a:solidFill>
                <a:latin typeface="Arial Unicode MS"/>
              </a:rPr>
              <a:t>Período de transição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7400" y="1981080"/>
            <a:ext cx="17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Times New Roman"/>
              </a:rPr>
              <a:t>Rigidez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1981080"/>
            <a:ext cx="286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Times New Roman"/>
              </a:rPr>
              <a:t>Flexibilida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1981080"/>
            <a:ext cx="1600200" cy="83844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3048120"/>
            <a:ext cx="243828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ff99"/>
                </a:solidFill>
                <a:latin typeface="Benguiat Bk BT"/>
              </a:rPr>
              <a:t>1973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infl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44400" y="3048120"/>
            <a:ext cx="242568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ff99"/>
                </a:solidFill>
                <a:latin typeface="Benguiat Bk BT"/>
              </a:rPr>
              <a:t>1968-197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re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4648320"/>
            <a:ext cx="5867280" cy="149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ff99"/>
                </a:solidFill>
                <a:latin typeface="Benguiat Bk BT"/>
              </a:rPr>
              <a:t>70’ – 80’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Reestruturação econôm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Reajustamento social e polít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ha de Santa Catarina, abril de 2002 - Carla Cabr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9966"/>
                </a:solidFill>
                <a:latin typeface="Arial Unicode MS"/>
              </a:rPr>
              <a:t>Acumulação flexív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905120"/>
            <a:ext cx="3962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lexibilidade dos processos de trabalhos, mercados produtos e padrões de consum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ovação tecnológica, organizacional e comer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ornecimento de serviços financeiro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24280" y="1828800"/>
            <a:ext cx="3962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mprego no setor de serviços.complexos industriais em regiões subdesenvolvida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municação via satél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Times New Roman"/>
              </a:rPr>
              <a:t>Conhecimento como mercado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ha de Santa Catarina, abril de 2002 - Carla Cabr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8600" y="38088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66"/>
                </a:solidFill>
                <a:latin typeface="Times New Roman"/>
              </a:rPr>
              <a:t>Importância de se discutir este tipo de tema em cursos da área tecnológic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66"/>
                </a:solidFill>
                <a:latin typeface="Times New Roman"/>
              </a:rPr>
              <a:t>Especialização/territorialização do saber: fordism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ffff66"/>
                </a:solidFill>
                <a:latin typeface="Times New Roman"/>
              </a:rPr>
              <a:t>Negociação coletiv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66"/>
                </a:solidFill>
                <a:latin typeface="Times New Roman"/>
              </a:rPr>
              <a:t>A acumulação  flexível é solução ou só reparo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ha de Santa Catarina, abril de 2002 - Carla Cabr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9966"/>
                </a:solidFill>
                <a:latin typeface="Arial Unicode MS"/>
              </a:rPr>
              <a:t>Fordismo – modernidade</a:t>
            </a:r>
            <a:br>
              <a:rPr sz="4400"/>
            </a:br>
            <a:r>
              <a:rPr b="0" i="1" lang="pt-BR" sz="3600" spc="-1" strike="noStrike">
                <a:solidFill>
                  <a:srgbClr val="ffffff"/>
                </a:solidFill>
                <a:latin typeface="Times New Roman"/>
              </a:rPr>
              <a:t>padrão, racionalismo...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2819520"/>
            <a:ext cx="65534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9966"/>
                </a:solidFill>
                <a:latin typeface="Arial Unicode MS"/>
              </a:rPr>
              <a:t>Acumulação flexível 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9966"/>
                </a:solidFill>
                <a:latin typeface="Arial Unicode MS"/>
              </a:rPr>
              <a:t>pós-modernida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Times New Roman"/>
              </a:rPr>
              <a:t>Novo, fugidio,  efêmero, fugaz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ha de Santa Catarina, abril de 2002 - Carla Cabr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1523880"/>
            <a:ext cx="762012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ffff"/>
                </a:solidFill>
                <a:latin typeface="Times New Roman"/>
              </a:rPr>
              <a:t>A água é falsa, a água é boa.</a:t>
            </a:r>
            <a:br>
              <a:rPr sz="4400"/>
            </a:br>
            <a:r>
              <a:rPr b="1" i="1" lang="pt-BR" sz="4400" spc="-1" strike="noStrike">
                <a:solidFill>
                  <a:srgbClr val="00ffff"/>
                </a:solidFill>
                <a:latin typeface="Times New Roman"/>
              </a:rPr>
              <a:t>Nada, nadador!</a:t>
            </a:r>
            <a:br>
              <a:rPr sz="4400"/>
            </a:br>
            <a:br>
              <a:rPr sz="4400"/>
            </a:b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Jorge de Lim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ha de Santa Catarina, abril de 2002 - Carla Cabr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9966"/>
                </a:solidFill>
                <a:latin typeface="Arial Unicode MS"/>
              </a:rPr>
              <a:t>Parte II – </a:t>
            </a:r>
            <a:r>
              <a:rPr b="0" lang="pt-BR" sz="3200" spc="-1" strike="noStrike">
                <a:solidFill>
                  <a:srgbClr val="ff9966"/>
                </a:solidFill>
                <a:latin typeface="Arial Unicode MS"/>
              </a:rPr>
              <a:t>a transformação político-econômica do capitalismo do final do </a:t>
            </a:r>
            <a:br>
              <a:rPr sz="3200"/>
            </a:br>
            <a:r>
              <a:rPr b="0" lang="pt-BR" sz="3200" spc="-1" strike="noStrike">
                <a:solidFill>
                  <a:srgbClr val="ff9966"/>
                </a:solidFill>
                <a:latin typeface="Arial Unicode MS"/>
              </a:rPr>
              <a:t>século XX.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1981080"/>
            <a:ext cx="7494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3886200"/>
            <a:ext cx="7315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lação entre consumo e acumulaçã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rrespondência entre condições de produção e condição de reprodução dos assalari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ormas, hábitos, leis, redes de regulament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2057400"/>
            <a:ext cx="55627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Referencial teórico básic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escola da regulamentação”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Autores: Aglietta, Lipietz e Boy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ha de Santa Catarina, abril de 2002 - Carla Cabr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66680" y="609480"/>
            <a:ext cx="70106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9966"/>
                </a:solidFill>
                <a:latin typeface="Times New Roman"/>
              </a:rPr>
              <a:t>Instabilidade do capitalism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Anarquia dos mercados d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fixação de preço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Necessidade de controle sobre o trabalho: agregar valor à produção e lucro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ha de Santa Catarina, abril de 2002 - Carla Cabr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29880" y="1144440"/>
            <a:ext cx="28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Arial Unicode MS"/>
              </a:rPr>
              <a:t>Fordism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6960" y="2413080"/>
            <a:ext cx="384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Arial Unicode MS"/>
              </a:rPr>
              <a:t>Acumulação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Arial Unicode MS"/>
              </a:rPr>
              <a:t>flexíve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1447920"/>
            <a:ext cx="1647720" cy="1747800"/>
          </a:xfrm>
          <a:custGeom>
            <a:avLst/>
            <a:gdLst>
              <a:gd name="textAreaLeft" fmla="*/ 220680 w 1647720"/>
              <a:gd name="textAreaRight" fmla="*/ 1427040 w 1647720"/>
              <a:gd name="textAreaTop" fmla="*/ 305640 h 1747800"/>
              <a:gd name="textAreaBottom" fmla="*/ 1267200 h 17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56200" y="533520"/>
            <a:ext cx="643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66"/>
                </a:solidFill>
                <a:latin typeface="Times New Roman"/>
              </a:rPr>
              <a:t>Período pós Segunda Grande Guer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8840" y="1828800"/>
            <a:ext cx="31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66"/>
                </a:solidFill>
                <a:latin typeface="Times New Roman"/>
              </a:rPr>
              <a:t>Recessão de 197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7560" y="4038480"/>
            <a:ext cx="23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66"/>
                </a:solidFill>
                <a:latin typeface="Times New Roman"/>
              </a:rPr>
              <a:t>Globaliz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ha de Santa Catarina, abril de 2002 - Carla Cabr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00ff99"/>
                </a:solidFill>
                <a:latin typeface="Benguiat Bk BT"/>
              </a:rPr>
              <a:t>1914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47400" y="2133720"/>
            <a:ext cx="509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Jornada de oito hora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a cinco dóla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4191120"/>
            <a:ext cx="487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9966"/>
                </a:solidFill>
                <a:latin typeface="Arial Unicode MS"/>
              </a:rPr>
              <a:t>F O R D I S M 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ha de Santa Catarina, abril de 2002 - Carla Cabr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dução em massa significa consumo de mass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istema de reprodução da força de trabalh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olítica de controle e gerência do trabalh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ipo de sociedade democrática, racionalizada, modernista e populis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4876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9966"/>
                </a:solidFill>
                <a:latin typeface="Arial Unicode MS"/>
              </a:rPr>
              <a:t>Alguns princípio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ha de Santa Catarina, abril de 2002 - Carla Cabr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14240" y="5331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ff99"/>
                </a:solidFill>
                <a:latin typeface="Benguiat Bk BT"/>
              </a:rPr>
              <a:t>1914 - 1973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0114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ar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strução de nav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quipamentos de transpor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ç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dutos petroquím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orrach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letrodomést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2209680"/>
            <a:ext cx="976320" cy="22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40120" y="2819520"/>
            <a:ext cx="287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Times New Roman"/>
              </a:rPr>
              <a:t>Cresciment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66"/>
                </a:solidFill>
                <a:latin typeface="Times New Roman"/>
              </a:rPr>
              <a:t>econôm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ha de Santa Catarina, abril de 2002 - Carla Cabr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-4680" y="2209680"/>
            <a:ext cx="35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rabalho organiz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04280" y="3809880"/>
            <a:ext cx="45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Grande capital corpora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0400" y="2286000"/>
            <a:ext cx="24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ação-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1676520"/>
            <a:ext cx="2590920" cy="2133360"/>
          </a:xfrm>
          <a:prstGeom prst="flowChartExtra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28600"/>
            <a:ext cx="38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66"/>
                </a:solidFill>
                <a:latin typeface="Arial Unicode MS"/>
              </a:rPr>
              <a:t>Relação de forç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50720" y="4648320"/>
            <a:ext cx="44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66"/>
                </a:solidFill>
                <a:latin typeface="Arial Unicode MS"/>
              </a:rPr>
              <a:t>Tensão e Equilíbr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lha de Santa Catarina, abril de 2002 - Carla Cabr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00:55:31Z</dcterms:created>
  <dc:creator>Carla Cabral</dc:creator>
  <dc:description/>
  <dc:language>en-US</dc:language>
  <cp:lastModifiedBy>UFSC</cp:lastModifiedBy>
  <dcterms:modified xsi:type="dcterms:W3CDTF">2002-03-09T16:28:56Z</dcterms:modified>
  <cp:revision>9</cp:revision>
  <dc:subject/>
  <dc:title>Seminários da Disciplina Introdução à Informática Aplicada à Educação</dc:title>
</cp:coreProperties>
</file>