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4F4-0087-4B66-8F52-42DBDA61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0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4A4-FA56-47B4-8AAA-8F559228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5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9880" y="185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0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9880" y="400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CFF-D6D0-4905-A410-8071AA9F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5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200" y="185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12840" y="185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0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200" y="400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12840" y="400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B69-9547-47F5-8400-0C9EBE99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5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04A-46F2-49F9-AD4F-97C2FDB5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5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D98-7E28-45B8-BF26-6FF6332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5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9880" y="185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35A-AAF0-4413-8F6D-4ACD73EE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95E-E6AE-4AD8-9C43-86DDCFD1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80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412-8858-4822-AF59-2E097D3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5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9880" y="185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0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B39-DDB6-4A0A-BAAE-487661B3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5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9880" y="185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9880" y="400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451-B177-4AF7-A763-4842A28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5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9880" y="185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0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14F-4911-4F6B-89C4-A1F1622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19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1196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119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FB1C-D2B5-497F-94DC-61DA69A75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2800" y="6540480"/>
            <a:ext cx="38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99"/>
                </a:solidFill>
                <a:latin typeface="Verdana"/>
              </a:rPr>
              <a:t>ine 5624 – engenharia de usa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360" y="652140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Verdana"/>
              </a:rPr>
              <a:t>	</a:t>
            </a:r>
            <a:fld id="{BF51B793-1F63-4ACE-9759-25448D9B0983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/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187720" y="65469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critérios ergonôm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nr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22600"/>
          </a:xfrm>
          <a:prstGeom prst="rect">
            <a:avLst/>
          </a:prstGeom>
          <a:ln w="0">
            <a:noFill/>
          </a:ln>
        </p:spPr>
      </p:pic>
      <p:pic>
        <p:nvPicPr>
          <p:cNvPr id="45" name="Christian_Bastien" descr=""/>
          <p:cNvPicPr/>
          <p:nvPr/>
        </p:nvPicPr>
        <p:blipFill>
          <a:blip r:embed="rId2"/>
          <a:stretch/>
        </p:blipFill>
        <p:spPr>
          <a:xfrm>
            <a:off x="2684520" y="2951280"/>
            <a:ext cx="13460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Dominique.Scapin" descr=""/>
          <p:cNvPicPr/>
          <p:nvPr/>
        </p:nvPicPr>
        <p:blipFill>
          <a:blip r:embed="rId3"/>
          <a:stretch/>
        </p:blipFill>
        <p:spPr>
          <a:xfrm>
            <a:off x="357120" y="2917800"/>
            <a:ext cx="1206720" cy="180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57800" y="487836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hristian Bast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360" y="487836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ominique Sca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73760" y="2328840"/>
            <a:ext cx="24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http://www.inria.f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99200" y="174456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960" y="358128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inal do campo há uma flecha apontando para baixo que indica a existência de opçõe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enudeFormularioFechado" descr=""/>
          <p:cNvPicPr/>
          <p:nvPr/>
        </p:nvPicPr>
        <p:blipFill>
          <a:blip r:embed="rId1"/>
          <a:srcRect l="0" t="0" r="0" b="59069"/>
          <a:stretch/>
        </p:blipFill>
        <p:spPr>
          <a:xfrm>
            <a:off x="498600" y="2139840"/>
            <a:ext cx="6750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7880" y="174456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03920" y="2120760"/>
            <a:ext cx="307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e a tarefa requer uma seqüência específica de ações do usuário, a indicação da ação corrente requerida deve ser fornecida no prom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71600" y="2100240"/>
          <a:ext cx="4203720" cy="42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100240"/>
                    <a:ext cx="420372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09680" y="2360520"/>
            <a:ext cx="4352760" cy="368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 e distinção entre I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rupamento e distinção por loc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ério lógico para definir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rup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/ subgrupos de comandos, opções de menu, campos e mostradores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ério lógico para definir 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qüênci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as opções nos gru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 e distinção por lo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om-Opcoes-Word" descr=""/>
          <p:cNvPicPr/>
          <p:nvPr/>
        </p:nvPicPr>
        <p:blipFill>
          <a:blip r:embed="rId1"/>
          <a:srcRect l="0" t="0" r="0" b="61627"/>
          <a:stretch/>
        </p:blipFill>
        <p:spPr>
          <a:xfrm>
            <a:off x="582480" y="2087640"/>
            <a:ext cx="7085160" cy="317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42000" y="174456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4960" y="5408640"/>
            <a:ext cx="69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ação agrupada semantic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 e distinção por lo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8080" y="17305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11920" y="1981080"/>
            <a:ext cx="189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zar linhas separadoras para diferenciar itens ou grupos de it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istacomGrupos" descr=""/>
          <p:cNvPicPr/>
          <p:nvPr/>
        </p:nvPicPr>
        <p:blipFill>
          <a:blip r:embed="rId1"/>
          <a:stretch/>
        </p:blipFill>
        <p:spPr>
          <a:xfrm>
            <a:off x="531720" y="2081160"/>
            <a:ext cx="50958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 e distinção por lo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77000" y="17305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2120" y="4043520"/>
            <a:ext cx="8186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informações mais relevantes de uma tabela devem estar na coluna mais à esquerda e as menos significativas, nas colunas mais à dire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ordem das colunas segue a semântica das informações da tarefa; primeiro o período, depois os rendimentos e depois as dedu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abelaBOM" descr=""/>
          <p:cNvPicPr/>
          <p:nvPr/>
        </p:nvPicPr>
        <p:blipFill>
          <a:blip r:embed="rId1"/>
          <a:srcRect l="0" t="0" r="0" b="59233"/>
          <a:stretch/>
        </p:blipFill>
        <p:spPr>
          <a:xfrm>
            <a:off x="531720" y="2095560"/>
            <a:ext cx="81727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rupamento e distinção entre I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grupamento e distinção por form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istinguir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rótulos, dados entrados, valores default, instruções e orient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iferenciar os campos para dados obrigató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iferenciar cabeçalhos de listas, colunas, tabelas e tex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iferenciar mensagens crí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Esmaecer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opções não dispon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 e distinção por for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amposProtegidos" descr=""/>
          <p:cNvPicPr/>
          <p:nvPr/>
        </p:nvPicPr>
        <p:blipFill>
          <a:blip r:embed="rId1"/>
          <a:stretch/>
        </p:blipFill>
        <p:spPr>
          <a:xfrm>
            <a:off x="558720" y="2055960"/>
            <a:ext cx="6105600" cy="3301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1280" y="171468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5880" y="5475240"/>
            <a:ext cx="645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tilizar uma cor de cinza, para que o usuário tenha a indicação de que o campo está desabilitado. Com isso permitir que o usuário perceba de forma imediata quais os campos que não estão disponíveis para preenchim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 e distinção por for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040" y="17971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4165560"/>
            <a:ext cx="64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tabelas devem apresentar recursos para facilitar a varredura visual, como linhas em branco entre grupos de 5 linhas ou cores alternadas diferenciando linhas. Cores alternadas diferenciando linhas contíg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rdenar alfabeticamente" descr=""/>
          <p:cNvPicPr/>
          <p:nvPr/>
        </p:nvPicPr>
        <p:blipFill>
          <a:blip r:embed="rId1"/>
          <a:srcRect l="0" t="50427" r="43329" b="29092"/>
          <a:stretch/>
        </p:blipFill>
        <p:spPr>
          <a:xfrm>
            <a:off x="590400" y="2133720"/>
            <a:ext cx="6705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 e distinção por for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81560" y="1782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 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0040" y="3965400"/>
            <a:ext cx="64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ão há cores alternadas ou espaço em branco, ou qualquer outro recurso para apoiar a varredura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ndicadorContinuidadeListasLattesRUIM" descr=""/>
          <p:cNvPicPr/>
          <p:nvPr/>
        </p:nvPicPr>
        <p:blipFill>
          <a:blip r:embed="rId1"/>
          <a:srcRect l="0" t="11468" r="0" b="57339"/>
          <a:stretch/>
        </p:blipFill>
        <p:spPr>
          <a:xfrm>
            <a:off x="493560" y="2130480"/>
            <a:ext cx="76122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capin&amp;Bastien, 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(INRIA – Institut National de Recherche em Informatique et em Automatique da Franç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rga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ole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dap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estão de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Homogeneidade/Consist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gnificado dos Códigos e Denomin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at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imed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r sobre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isponibilida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r sobre 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mp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 um processamento demor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r sobre o resultado de um tra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imed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91471" r="36773" b="0"/>
          <a:stretch/>
        </p:blipFill>
        <p:spPr>
          <a:xfrm>
            <a:off x="579600" y="2065320"/>
            <a:ext cx="8075520" cy="779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0" t="92172" r="36773" b="0"/>
          <a:stretch/>
        </p:blipFill>
        <p:spPr>
          <a:xfrm>
            <a:off x="608040" y="3290760"/>
            <a:ext cx="8020080" cy="70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75480" y="2509920"/>
            <a:ext cx="501840" cy="1557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2440" y="4303800"/>
            <a:ext cx="7888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nformação sobre o estado do sistema deve ser automaticamente exibida quando os usuários possuem pouca experiência ou treinamento mínimo no sistema e não sabem como solicitar a exibição do stat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ste exemplo, ao editar um arquivo, o status de “edição” simbolizado pelo lápis escrevendo é automaticamente apresen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du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ntes legíve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 acordo com as necessidades de leitura (títulos e tex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um contraste texto-fundo adequ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ícon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ros e se necessário, com rótulos text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uma diagramação lógica para os elementos de telas, janelas e caix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ão abusar de estilos na apresentação de tex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linhas simples para bordas e del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ahoma"/>
              </a:rPr>
              <a:t>A conduçã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792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efinir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fontes legíveis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de acordo com as necessidades de leitura (títulos e tex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7920" indent="-285840">
              <a:lnSpc>
                <a:spcPct val="120000"/>
              </a:lnSpc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Monotype Corsiva"/>
              </a:rPr>
              <a:t>Definir um contraste texto-fundo adequ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efinir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ícones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claros e se necessário, com rótulos text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Monotype Corsiva"/>
              </a:rPr>
              <a:t>Definir uma diagramação lógica para os elementos de telas, janelas e caix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792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ão abusar de estilos na apresentação de tex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84480" y="5719680"/>
            <a:ext cx="6495840" cy="82548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7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Impact"/>
              </a:rPr>
              <a:t>Definir linhas simples para bordas e del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1596960"/>
            <a:ext cx="2689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ahoma"/>
              </a:rPr>
              <a:t>Leg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166400"/>
            <a:ext cx="8686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arga de trabal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z respeito a redução da carga perceptiva e/ou mnemônica do usuário e no aumento da eficiência n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re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04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i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04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ções Mí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nsidade Inform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isão (entradas e saídas individu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títulos, rótulos e denominações concis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códigos arbitrários cu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necer valor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equ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necer o preenchimento automático da vírgula, zeros decimais e de unidades de me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reenchimentoAutomaticoIRBOM" descr=""/>
          <p:cNvPicPr/>
          <p:nvPr/>
        </p:nvPicPr>
        <p:blipFill>
          <a:blip r:embed="rId1"/>
          <a:stretch/>
        </p:blipFill>
        <p:spPr>
          <a:xfrm>
            <a:off x="511200" y="2192400"/>
            <a:ext cx="7101000" cy="1968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94480" y="17287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7840" y="419256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 informar um valor numérico inteiro, o usuário não é obrigado a entrar os zeros decim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11680" y="17683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4680" y="4986360"/>
            <a:ext cx="59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 selecionar um campo, um menu é aberto mostrando as opções possíveis de preenchimento para aquele determinado 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MenudeFormulario" descr=""/>
          <p:cNvPicPr/>
          <p:nvPr/>
        </p:nvPicPr>
        <p:blipFill>
          <a:blip r:embed="rId1"/>
          <a:stretch/>
        </p:blipFill>
        <p:spPr>
          <a:xfrm>
            <a:off x="512640" y="2119320"/>
            <a:ext cx="6124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02080" y="17017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51200" y="2021040"/>
            <a:ext cx="402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tões de tela devem ser utilizados para a seleção de um pequeno número de valores, que se tornam efetivos imediatamente após a sele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BotoesdeTelaLigaDesliga" descr=""/>
          <p:cNvPicPr/>
          <p:nvPr/>
        </p:nvPicPr>
        <p:blipFill>
          <a:blip r:embed="rId1"/>
          <a:stretch/>
        </p:blipFill>
        <p:spPr>
          <a:xfrm>
            <a:off x="503280" y="2101680"/>
            <a:ext cx="39733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6480" indent="-180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ções Mínimas (diálog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6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necer opções d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and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equ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necer opções d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ando defau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equ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rras de ferrament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eclas de atalho, de fun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uturas de menu balance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cionar o cursor na posição inicial em um formul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ar a navegação pelos campos de um formul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fere-se aos meios empregados para orientar, situar, conduzir, informar e ajudar o usuário na interação com o 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rupamento e distinção entre i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47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rupamento e distinção por for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47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rupamento e distinção por lo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eedback imed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egibilidad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ções mí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abulacaoAutmatica" descr=""/>
          <p:cNvPicPr/>
          <p:nvPr/>
        </p:nvPicPr>
        <p:blipFill>
          <a:blip r:embed="rId1"/>
          <a:srcRect l="0" t="35419" r="0" b="0"/>
          <a:stretch/>
        </p:blipFill>
        <p:spPr>
          <a:xfrm>
            <a:off x="574560" y="2238480"/>
            <a:ext cx="4940280" cy="123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94240" y="182880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4520" y="3740040"/>
            <a:ext cx="495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todas as entradas tiverem comprimentos fixos em um formulário simples (fácil de memorizar), então a tabulação automática pode ser fornecida (o cursor salta automaticamente para o próximo campo a ser preenchido quando o preenchimento do campo atual foi concluí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sidade Informacional (tela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resentar soment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do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 opções de comando perti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icitar somente dados pertinentes ao usuá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ícones em pequeno núm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sidade Informac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22960" y="17287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Densidade%20Adequada%20-%20Formularios" descr=""/>
          <p:cNvPicPr/>
          <p:nvPr/>
        </p:nvPicPr>
        <p:blipFill>
          <a:blip r:embed="rId1"/>
          <a:stretch/>
        </p:blipFill>
        <p:spPr>
          <a:xfrm>
            <a:off x="584280" y="2076480"/>
            <a:ext cx="6659640" cy="2529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82480" y="4770360"/>
            <a:ext cx="58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tar uma sobrecarga de informações textuais que podem prejudicar a visualização de informaçõ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sidade Informac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IndicadorContinuidadeListasLattesRUIM" descr=""/>
          <p:cNvPicPr/>
          <p:nvPr/>
        </p:nvPicPr>
        <p:blipFill>
          <a:blip r:embed="rId1"/>
          <a:srcRect l="0" t="11468" r="0" b="0"/>
          <a:stretch/>
        </p:blipFill>
        <p:spPr>
          <a:xfrm>
            <a:off x="565200" y="2122560"/>
            <a:ext cx="6713640" cy="430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22960" y="17287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 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arga de trabalho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sidade Informac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84680" y="17287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 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Densidade%20Elevada%20-%20Formularios" descr=""/>
          <p:cNvPicPr/>
          <p:nvPr/>
        </p:nvPicPr>
        <p:blipFill>
          <a:blip r:embed="rId1"/>
          <a:stretch/>
        </p:blipFill>
        <p:spPr>
          <a:xfrm>
            <a:off x="546120" y="2068560"/>
            <a:ext cx="6364440" cy="3625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82480" y="5227560"/>
            <a:ext cx="58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tar uma sobrecarga de informações textuais que podem prejudicar a visualização de informaçõ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 controle explíci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z respeito (ao mesmo tempo) ao controle que tem o usuário sobre a interface ou o software, e ao caráter explícito de suas 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ções explícitas do usuári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e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 controle explíc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ções Explícitas do Usuári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 usuário deve comandar explicitamente o processamento demo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par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seleção e ativação de opç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itar ações d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pla repercussã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bre 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 controle explíc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e do usuári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opções para avançar, recuar, interromper, retomar, reiniciar, conclui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álogos seqüen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opção para interromper, retomar, reiniciar e finaliza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tamentos dem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 controle explícito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e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14800" y="166068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2656" t="14278" r="5313" b="5192"/>
          <a:stretch/>
        </p:blipFill>
        <p:spPr>
          <a:xfrm>
            <a:off x="698400" y="1974960"/>
            <a:ext cx="6235920" cy="4257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110360" y="1913040"/>
            <a:ext cx="174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opções para avançar, recuar, interromper, retomar, reiniciar, concluir diálogos seqüen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adaptabil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z respeito a capacidade do sistema de reagir conforme o contexto, e conforme as necessidades e preferências do usuár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dade/Person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ação da experiência do usuá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Títul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para telas, janelas e caixas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Rótul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para campos e mostradores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Orientaçõe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e informações necessárias presentes nas t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beçalh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para listas, colunas e tabelas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Títul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para gráficos e seus ei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adaptabil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lexibilidad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rciona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ilos de interaçã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ferentes para o mesmo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porcionar caminhos diferentes para o mesmo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ferentes padrões e unidades de me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rsonalizaçã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ossibilitar a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ersonalizaçã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e te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ossibilitar a criação de 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adaptabilidade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90960" y="171468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79880" y="2335320"/>
            <a:ext cx="39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ilitar a personalização das te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ersonalização" descr=""/>
          <p:cNvPicPr/>
          <p:nvPr/>
        </p:nvPicPr>
        <p:blipFill>
          <a:blip r:embed="rId1"/>
          <a:stretch/>
        </p:blipFill>
        <p:spPr>
          <a:xfrm>
            <a:off x="528480" y="1714680"/>
            <a:ext cx="422784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adaptabilidade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macro" descr=""/>
          <p:cNvPicPr/>
          <p:nvPr/>
        </p:nvPicPr>
        <p:blipFill>
          <a:blip r:embed="rId1"/>
          <a:stretch/>
        </p:blipFill>
        <p:spPr>
          <a:xfrm>
            <a:off x="604800" y="1947960"/>
            <a:ext cx="5410080" cy="4591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08160" y="19731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38720" y="518796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ilitar a criação de mac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5130720"/>
            <a:ext cx="3343320" cy="1447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adaptabil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sideração da Experiência do Usuári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rnecer estilos de diálogo de acordo com as habilidades d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indent="-1904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sponibilizar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teclas de atalho, mnemônic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indent="-1904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sponibilizar diálogo passo à passo, questão-resposta 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indent="-1904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rnecer níveis de apresentações e mensagens var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adaptabilidade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ação da experiência do usuá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5800" y="19321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2800" y="5597640"/>
            <a:ext cx="79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orcionar estilos de interação diferentes para o mesm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winzip%201" descr=""/>
          <p:cNvPicPr/>
          <p:nvPr/>
        </p:nvPicPr>
        <p:blipFill>
          <a:blip r:embed="rId1"/>
          <a:stretch/>
        </p:blipFill>
        <p:spPr>
          <a:xfrm>
            <a:off x="480960" y="1893960"/>
            <a:ext cx="3592440" cy="2535120"/>
          </a:xfrm>
          <a:prstGeom prst="rect">
            <a:avLst/>
          </a:prstGeom>
          <a:ln w="0">
            <a:noFill/>
          </a:ln>
        </p:spPr>
      </p:pic>
      <p:pic>
        <p:nvPicPr>
          <p:cNvPr id="216" name="winzip%202" descr=""/>
          <p:cNvPicPr/>
          <p:nvPr/>
        </p:nvPicPr>
        <p:blipFill>
          <a:blip r:embed="rId2"/>
          <a:stretch/>
        </p:blipFill>
        <p:spPr>
          <a:xfrm>
            <a:off x="4411800" y="3422520"/>
            <a:ext cx="41050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z respeito a todos os mecanismos que permitem evitar ou reduzir os erros, e por outro lado, corrigir qualquer erro observa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ção contra os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dade das mensagens de 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ção dos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ção contra os err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icita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rmaçõ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a ações perig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botão default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ão destr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ótulos com exemplos de entradas e unidades de me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máscaras e partição para os camp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r sinais de alerta do preenchimento completo de 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ção contra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Bom-AltaVista" descr=""/>
          <p:cNvPicPr/>
          <p:nvPr/>
        </p:nvPicPr>
        <p:blipFill>
          <a:blip r:embed="rId1"/>
          <a:srcRect l="0" t="7547" r="0" b="15094"/>
          <a:stretch/>
        </p:blipFill>
        <p:spPr>
          <a:xfrm>
            <a:off x="595440" y="2198520"/>
            <a:ext cx="5011560" cy="3033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699000" y="17431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 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760" y="5346720"/>
            <a:ext cx="48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 campo “Site na Web” deveria aparecer desabili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ção contra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7440" y="17431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 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5289480"/>
            <a:ext cx="48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ndicação dos valores permitidos não aparece em local algum da tela e só vai ficar ao alcance do usuário após um incidente, na mensagem de 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oomWordRUIM" descr=""/>
          <p:cNvPicPr/>
          <p:nvPr/>
        </p:nvPicPr>
        <p:blipFill>
          <a:blip r:embed="rId1"/>
          <a:stretch/>
        </p:blipFill>
        <p:spPr>
          <a:xfrm>
            <a:off x="550800" y="2112840"/>
            <a:ext cx="507996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ção contra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13320" y="17431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8200" y="4060800"/>
            <a:ext cx="487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nsagem de confirmação deve ser exibida quando o usuário solicita o desligamento do sistema, com indicação de quais dados seriam perdidos e de quais transações seriam abor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71680" y="2155680"/>
            <a:ext cx="49654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cont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Indicadores de continuidade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para apresentações de dados, botões de comando e opções de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vite às interações em links e botões de naveg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juda acessível (on-line),  contextual e orientada à taref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Bolhas de aj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3440" indent="-1904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otão de ajuda nas caixas de diálogo e nas mensagens de e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dade das mensagens de 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mensage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út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mensagens curtas e signific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mensagens sem códi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r mensagens neutras e pol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cionar adequadamente as informações nas mens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ar as mensagens no caso de seguidas re apresent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dade das mensagens de 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64320" y="186516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7040" y="597204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mensagens ú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7680" y="1911240"/>
            <a:ext cx="60703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dade das mensagens de 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4240" y="168768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03880" y="201132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mensagens ú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mensagem%20util" descr=""/>
          <p:cNvPicPr/>
          <p:nvPr/>
        </p:nvPicPr>
        <p:blipFill>
          <a:blip r:embed="rId1"/>
          <a:stretch/>
        </p:blipFill>
        <p:spPr>
          <a:xfrm>
            <a:off x="538200" y="2048040"/>
            <a:ext cx="56386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ção de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r funções de desfazer e refaz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rcionar o re-aproveitamento de entr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pera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ores origina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a a parametrização de fun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gestão de erros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ção de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67480" y="174636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200" y="4197240"/>
            <a:ext cx="79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orreção do erro pelo sistema deve ser utilizada quando o sistema tem acesso a uma solução potencial para o erro resultante de falha de hardware ou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1440" y="2135160"/>
            <a:ext cx="7961040" cy="18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228680" y="2933640"/>
            <a:ext cx="7027920" cy="519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sistênci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Homogeneid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re-se à consistência quanto as escolhas de projeto, conservadas idênticas em contextos idênticos, e diferentes para contextos difer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nsistênci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Homogeneid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ção de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cação de te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njo de tel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ização, apresentação e forma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 orientações, rótulos, campos de dados e coman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enho de ícon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ribuições das teclas de funçõ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 significado dos códigos e denomin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z respeito a adequação entre o conteúdo da informação e a sua correspondente expressão na tela do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r o vocabulário de rótulos, títulos, cabeçalhos, mensagens, opções de me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guras significativ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 os í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r abreviaturas significativ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 significado dos códigos e denomin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MensagemConducaoLattesBOM" descr=""/>
          <p:cNvPicPr/>
          <p:nvPr/>
        </p:nvPicPr>
        <p:blipFill>
          <a:blip r:embed="rId1"/>
          <a:stretch/>
        </p:blipFill>
        <p:spPr>
          <a:xfrm>
            <a:off x="528480" y="2087640"/>
            <a:ext cx="7566120" cy="2682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165720" y="1728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0680" y="4910040"/>
            <a:ext cx="758664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ondução deve empregar termos que a população de usuários utiliza para executar suas taref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 mensagem de condução a palavra “grade” pertence certamente ao vocabulário dos projet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15080" y="3521160"/>
            <a:ext cx="1487520" cy="1023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mpatibil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fere-se as relações entre as habilidades, expectativas e estratégias do usuário em sua tarefa e a interface de uma dada aplica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7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atibilidade com o usuário e tare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atibilidade com 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ormulario" descr=""/>
          <p:cNvPicPr/>
          <p:nvPr/>
        </p:nvPicPr>
        <p:blipFill>
          <a:blip r:embed="rId1"/>
          <a:srcRect l="0" t="0" r="0" b="52630"/>
          <a:stretch/>
        </p:blipFill>
        <p:spPr>
          <a:xfrm>
            <a:off x="301680" y="2101680"/>
            <a:ext cx="3903480" cy="2352960"/>
          </a:xfrm>
          <a:prstGeom prst="rect">
            <a:avLst/>
          </a:prstGeom>
          <a:ln w="0">
            <a:noFill/>
          </a:ln>
        </p:spPr>
      </p:pic>
      <p:pic>
        <p:nvPicPr>
          <p:cNvPr id="61" name="CaixaSelecao" descr=""/>
          <p:cNvPicPr/>
          <p:nvPr/>
        </p:nvPicPr>
        <p:blipFill>
          <a:blip r:embed="rId2"/>
          <a:stretch/>
        </p:blipFill>
        <p:spPr>
          <a:xfrm>
            <a:off x="4324320" y="2692440"/>
            <a:ext cx="4641840" cy="228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6240" y="164628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9680" y="5186520"/>
            <a:ext cx="84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rompts de comandos ou dados devem ser apresentados em local padrão, próximos ao campo de entrada.(1) os rótulos aparecem à esquerda dos campos.(2) os rótulos aparecem  à direita em caixas ou botões de sele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mpat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atibilidade com o usuário e tare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álogos compatíveis com a dinâmica da tare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rmulários compatíveis com os documentos orig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rmatos e unidades convencionadas pel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ntenças e frases diretas (leiturabilid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mpatibilidade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o usuário e tare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FormularioIRendaBOM" descr=""/>
          <p:cNvPicPr/>
          <p:nvPr/>
        </p:nvPicPr>
        <p:blipFill>
          <a:blip r:embed="rId1"/>
          <a:stretch/>
        </p:blipFill>
        <p:spPr>
          <a:xfrm>
            <a:off x="504720" y="2155680"/>
            <a:ext cx="7099560" cy="2494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694480" y="17287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0680" y="4809960"/>
            <a:ext cx="686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 formulário do Imposto de Renda reproduz a ordem com que as informações são apresentadas nas declarações de rendimentos anuais fornecidas pel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mpatibilidade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o usuário e tare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64080" y="173340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1720" y="5330880"/>
            <a:ext cx="57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numeração de itens deve iniciar com o número um, e não com 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CamposProtegidos" descr=""/>
          <p:cNvPicPr/>
          <p:nvPr/>
        </p:nvPicPr>
        <p:blipFill>
          <a:blip r:embed="rId1"/>
          <a:stretch/>
        </p:blipFill>
        <p:spPr>
          <a:xfrm>
            <a:off x="561960" y="2116080"/>
            <a:ext cx="58896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mpat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dade com 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09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eitar os estilos de apresentação e diálogo dos amb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mpatibilidade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AbrirWindowsBOM" descr=""/>
          <p:cNvPicPr/>
          <p:nvPr/>
        </p:nvPicPr>
        <p:blipFill>
          <a:blip r:embed="rId1"/>
          <a:srcRect l="0" t="0" r="0" b="9843"/>
          <a:stretch/>
        </p:blipFill>
        <p:spPr>
          <a:xfrm>
            <a:off x="533520" y="2106720"/>
            <a:ext cx="5263920" cy="3576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21120" y="171468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77080" y="2395440"/>
            <a:ext cx="268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so de opções icônicas à esquerda da tela para acessar grupos de informações distintos se torna um estereotipo para usuários de sistemas no ambiente window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compatibilidade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1120" y="171468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 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7080" y="2066760"/>
            <a:ext cx="268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opções de comando encontram-se em uma posição inesperada, à direita da tela, na medida em que os menus encontram-se tradicionalmente à esquerda nas te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cpgccRUIM" descr=""/>
          <p:cNvPicPr/>
          <p:nvPr/>
        </p:nvPicPr>
        <p:blipFill>
          <a:blip r:embed="rId1"/>
          <a:stretch/>
        </p:blipFill>
        <p:spPr>
          <a:xfrm>
            <a:off x="552600" y="2125800"/>
            <a:ext cx="52909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nterfa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43000" y="171468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360" y="5010120"/>
            <a:ext cx="474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ação sobre unidades de medida para os valores a entrar deve ser fornecida de forma clara, dentro do campo de entrada ou nos rótulos associados ao campo.Campos com unidades monetárias, métricas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ndicacaoUnidade" descr=""/>
          <p:cNvPicPr/>
          <p:nvPr/>
        </p:nvPicPr>
        <p:blipFill>
          <a:blip r:embed="rId1"/>
          <a:stretch/>
        </p:blipFill>
        <p:spPr>
          <a:xfrm>
            <a:off x="569880" y="2095560"/>
            <a:ext cx="3367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8640" y="171468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360" y="4910040"/>
            <a:ext cx="513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cas com relação a entrada de dados devem ser apresentadas de forma clara, dentro do campo de entrada ou nos rótulos associados ao campo.Campos data podem ter informações como __ /__ /____ ou 99/99/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ndicacaoFormato" descr=""/>
          <p:cNvPicPr/>
          <p:nvPr/>
        </p:nvPicPr>
        <p:blipFill>
          <a:blip r:embed="rId1"/>
          <a:srcRect l="0" t="28409" r="0" b="0"/>
          <a:stretch/>
        </p:blipFill>
        <p:spPr>
          <a:xfrm>
            <a:off x="517680" y="2079720"/>
            <a:ext cx="5406840" cy="276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62440" y="2538360"/>
            <a:ext cx="2892240" cy="736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166400"/>
            <a:ext cx="8426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condução –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vite/Pres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200" y="289080"/>
            <a:ext cx="83995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Critérios Ergonômicos para Interfaces Humano-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3320" y="1716120"/>
            <a:ext cx="19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360" y="5110200"/>
            <a:ext cx="51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m campo cujas bordas indicam exatamente o seu tamanho, em termos de número de linhas, não dando margem ao aparecimento de barras de rol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om-AltaVista" descr=""/>
          <p:cNvPicPr/>
          <p:nvPr/>
        </p:nvPicPr>
        <p:blipFill>
          <a:blip r:embed="rId1"/>
          <a:srcRect l="0" t="7547" r="0" b="15094"/>
          <a:stretch/>
        </p:blipFill>
        <p:spPr>
          <a:xfrm>
            <a:off x="536400" y="2095560"/>
            <a:ext cx="4973760" cy="2987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2880" y="3029040"/>
            <a:ext cx="5554800" cy="1338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14:07:20Z</dcterms:created>
  <dc:creator>CTAI</dc:creator>
  <dc:description/>
  <dc:language>en-US</dc:language>
  <cp:lastModifiedBy>André Fabiano Dyck</cp:lastModifiedBy>
  <dcterms:modified xsi:type="dcterms:W3CDTF">2004-04-16T21:28:28Z</dcterms:modified>
  <cp:revision>296</cp:revision>
  <dc:subject/>
  <dc:title>Slide sem título </dc:title>
</cp:coreProperties>
</file>