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A5A-3A49-4ACB-B5E7-9F532A5C3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D3C-9B73-4218-ACCF-3204BC06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86A-A163-4C63-946F-D9972134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E229-A542-4250-9895-BF76EC52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81E1-0F9C-4512-8516-CBBD2C715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82C6-8A2B-4136-ADD2-29D0D199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52FB-8C9C-4C18-907B-1A25B0C0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4489-79A3-476C-8F9B-4A5590673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A52C-F937-4624-99FB-BCCA14DC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0ECA-A58A-451C-B4E8-2A6CE797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15B1-0B77-4EEF-8458-05753AA0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783-986F-4750-9200-2A9AE705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E8CD-3A94-49ED-B4A5-F027665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D4440-5AD7-4394-A2AC-79F0931F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F8A5-19B4-412A-A0BF-E03CBB802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F7AC-04B0-4A04-B332-A8828120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E5ACE-CC66-4B80-8DCB-CDA781A53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918C-97C8-45D7-9B1B-B78F74C8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437-4880-414B-A3B4-54E5B47C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4547-D099-4680-8B22-2AF2AFA2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B858-AF40-4C1A-97A3-983A8D41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494-0CF3-41FA-A910-40E902A6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FC2-0915-49F5-A35D-079542B8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598E-E377-48BD-A9E3-C71FBA6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E8F8-4289-449B-AF08-57DF73440FA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2070000"/>
            <a:ext cx="7391520" cy="33530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27000"/>
            <a:ext cx="7162920" cy="990720"/>
          </a:xfrm>
          <a:prstGeom prst="rect">
            <a:avLst/>
          </a:pr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84200"/>
            <a:ext cx="8991720" cy="1828800"/>
          </a:xfrm>
          <a:prstGeom prst="pie">
            <a:avLst/>
          </a:prstGeom>
          <a:solidFill>
            <a:srgbClr val="66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060720"/>
            <a:ext cx="8305920" cy="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4DF0-9B1C-47B5-B713-A80B4B6DE829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Usuários Especiais: Idoso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unos: Helion Cardozo Juni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riam Silvei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sana Müll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t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cursos de navegação livres de menus ou listas do tipo pull dow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uários idosos com problemas visuais e dificuldades de coordenação motora tem dificuldades para realizar movimentos preci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ursor destacado nas tel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ormatos e tamanhos para que seja encontrado faci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ma simples ação de clicar sobre um link pode se tornar um desafio para os ido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t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bjetos de controle (links, botões de comando, etc.): área gran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ara permitir um fácil e confortável acionamento por parte do usuário idos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suários idosos com declínio em suas capacidades de controle motor fino apresentam dificuldades para “acertar” sobre minúsculas áreas sensíveis de objetos de contr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lex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endas e descrições sonoras sincroniz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iculdades com um canal perceptivo serão compensadas outro, no momento mais adequado (de forma oportun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ilidade de operação por meio de diferentes dispositivos (teclado e mou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osos podem ter destreza reduzida ou incapacidade de ver o cursor na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 prevenir a LER pois proporciona outros meios de inter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g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aste favorável entre cores do texto e do fu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osos podem ter dificuldades para realizar a discriminação entre certas c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omendado: texto com letras brancas em fundo esc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ção expressa por cores: também percebida sem o uso de co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exclusivo de cores pode reduzir a acessibilidade para idosos com dificuldades visua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g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ntes sem serif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dosos e/ou pessoas com deficiências visuais acabam tendo sua visão embaralhada durante a lei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spaçamento duplo entre linhas e até no máximo 50 caracteres por linh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vorece a realização de movimentos oculares ráp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g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os escritos em letras maiúsculas e minúscu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rmite que as pessoas possam identificar as palavras também por sua topografia ou perf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os escritos completamente em letras maiúsculas e em itálico: somente nos cabeçal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xtos sublinhados: somente para lin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amanho das fontes: no mínimo 12 ou 14 pon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g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o alinhado à esquer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vorece a leitura por criar espaços uniformes entre as palavras e minimizar as distâncias para os movimentos oculares ráp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reviaturas e siglas descritas e realçadas na primeira ocorrência em cada pág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 o entendimento dos conteúdos das páginas, diminuindo a carga cognitiva dos usuá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g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ível de brilho das cores: menor possíve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idosos e/ou pessoas com problemas visuais o brilho excessivo de fundos pode ofuscar a visão dificultando ou impossibilitando a lei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xtos importantes livres de rolagem auto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osos terão dificuldade para ler um texto que se movimenta na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grupamento por Localizaçã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ocos de informação e documentos extensos subdivididos em sessões cur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eensão de blocos extens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refa cognitiva complexa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er o emprego constante da memória de curto ter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osos têm estas habilidades prejudic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ções importantes colocadas em desta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modo a serem os primeiros percebidos pelos usuários, principalmente os idosos com dificuldades percep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grupamento por Localizaçã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nks textuais colocados lado a lado: visualmente distintos e separados por caracteres que não funcionem como 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minui a carga perceptiva de idosos com dificuldade de aprendizagem e problemas visuais e que utilizam leitor de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nks naturalmente relacionados: agrup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minui a carga cognitiva de idosos com problemas visuais e aqueles que utilizam leitor de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trodução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gundo a Organização Mundial de Saúde – OM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doso: todo indivíduo com idade igual ou superior a sessenta ano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role de Usuári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áginas livres de atualizações automá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 atrapalhar a leitura da página por usuários idosos com problemas visuais e/ou que estiverem usando um software leitor de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gnificado dos Códig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tino de cada link claramente identificado em seu enunciado text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 a navegação para idosos com dificuldade de cognição ou aprendizagem, com problemas visuais ou que utilizem leitor de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Ícones grandes, legíveis, significativos, facilmente discriminados e rotul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os idosos com problemas de visão, a percepção das imagens de ícones pode ser um incômodo e à vezes impossível de ser realiz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stez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ítulo (identificação) que sugere a finalidade do fr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ui a carga cognitiva do usuário que busca situar-se n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to posicionamento dos objetos de interação em relação aos seus respectivos rótulos de identificaçã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ui as possibilidades de erros e hesitaçõ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stez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ções identificadoras (títulos e cabeçalhos) no início de parágrafos, listas, etc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uem a carga cognitiva de usuários normais e, principalmente, daqueles com dificuldades de retenção e/ou que utilizam leitor de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mos de figuras e tabe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 a compreensão por alguém que emprega um leitor de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stez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ção sobre a localização da página n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minui a carga cognitiva, facilita e reduz erros de navegação para idosos com dificuldade de aprendiz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ões de navegação com rótulos legíveis "página anterior" e "próxima página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ta incidentes na interação principalmente de ido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stez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pa do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e recurso para a orientação de usuários em geral e de idosos, em part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ções de ajuda facilmente acessíve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e recurso para a orientação de usuários em geral e de idosos com dificuldades de aprendizado, em particu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ções Mínima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uário está livre de ações repetitivas durante a operação do 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rga de trabalho adicional considerável, principalmente para os idosos, para os quais a interação deveria ser a mais curta e objetiva possí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sistênci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ções e objetos de interação repetidos nas diferentes páginas: apresentados em posições e formas consist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vorece em particular os idosos com dificuldade de aprendizag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nsidade Informacio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áginas livres de informações irrelevantes, repetitivas ou impertin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vorece os idosos com dificuldades percepti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 informações desviam o idoso de seu objetivo e/ou o induzem a er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uários Especiais: Idos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blemas de ordem tecnológ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ções cognitiva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erenças de percepção, deficiências de linguagem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ações visuai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icultam a lei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uários Especiais: Idos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oblemas de ordem tecnológic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terações de movimentaçã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dem afetar a capacidade de utilização do teclado ou do mouse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terações de audição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dem dificultar o reconhecimento de sinais sonoros como beeps de aviso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cessibilidade na Intern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racterizada p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lexibilidade da informação disponível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ível de interação com o usu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ermi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so por pessoas com necessidades especiai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ção em diferentes ambientes e situaçõ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uários Especiais: Idoso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aracterísticas desejáveis de uma interface web para idos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tirado do cheklist de Márcia Bar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t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quivalentes textuais para componentes que não sejam textua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iculdades com um canal perceptivo são compensadas por outro ca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são em texto para páginas com apresentações visuais ou son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a o acesso para usuários com dificuldade visuais, pois o texto pode ser lido por um leitor de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t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áginas livres de elementos intermit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 desencadear crises em pessoas com epilepsia fotossensí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estam usuários idosos com problemas visuais e que estejam usando um software leitor de te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ções de busca: diferentes tipos de pesquisa e de apresentaçã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itos recursos são complexos demais para serem usados por idosos e nova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atibilida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xto escrito na voz 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 habilidade de compreender um texto diminui com a ida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inguagem simples, clara, familiar, no idioma do usuá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ite a perda de habilidades de recordar e processar simultaneamente informações novas pelos ido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23:28:42Z</dcterms:created>
  <dc:creator>Rosana Müller</dc:creator>
  <dc:description/>
  <dc:language>en-US</dc:language>
  <cp:lastModifiedBy>Rosana Müller</cp:lastModifiedBy>
  <dcterms:modified xsi:type="dcterms:W3CDTF">2004-07-07T23:44:58Z</dcterms:modified>
  <cp:revision>142</cp:revision>
  <dc:subject/>
  <dc:title>Avaliação de Usabilidade</dc:title>
</cp:coreProperties>
</file>