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81A5-74AB-4164-B42C-D10AC12B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58F-70BC-401D-BF09-AD9B2E2A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7A25-0BA5-4908-9AB1-69036262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32DB-0704-4722-B58F-C63781B8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BE37-EBC6-49E4-BD3B-91A2FAA2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A3BF-D2D1-4FD9-B1F3-5E5D131A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EA7A-8327-4C5D-AA03-435E774E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5975-E217-499E-BD2A-9CB60ECE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BC8F-EBB5-4FC8-8358-B87BEAD8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F538-D443-4B81-A409-3C3ACC89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8467-5B31-415C-AE77-34FF7A10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8A62-ED2D-4980-A018-0C20A280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B253-E56B-4DAB-9D4B-52B630622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nhembi.br/" TargetMode="External"/><Relationship Id="rId2" Type="http://schemas.openxmlformats.org/officeDocument/2006/relationships/hyperlink" Target="http://www.gamesbrasil.com.br/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loonygames.com/content/1.16/guest/" TargetMode="External"/><Relationship Id="rId2" Type="http://schemas.openxmlformats.org/officeDocument/2006/relationships/hyperlink" Target="http://www.gamespot.com/" TargetMode="External"/><Relationship Id="rId3" Type="http://schemas.openxmlformats.org/officeDocument/2006/relationships/hyperlink" Target="http://www.ign.com/" TargetMode="External"/><Relationship Id="rId4" Type="http://schemas.openxmlformats.org/officeDocument/2006/relationships/hyperlink" Target="http://www.magnet.com.br/bits/games/2004/05/0033" TargetMode="External"/><Relationship Id="rId5" Type="http://schemas.openxmlformats.org/officeDocument/2006/relationships/hyperlink" Target="http://www.sitededicas.com.br/" TargetMode="Externa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85800"/>
            <a:ext cx="6705720" cy="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914400"/>
            <a:ext cx="3276360" cy="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52280"/>
            <a:ext cx="228600" cy="6400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57240" y="1981080"/>
            <a:ext cx="431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Verdana"/>
              </a:rPr>
              <a:t>Interfaces Especia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Verdana"/>
              </a:rPr>
              <a:t>G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6537240"/>
            <a:ext cx="608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ccccff"/>
                </a:solidFill>
                <a:latin typeface="Verdana"/>
              </a:rPr>
              <a:t>Por Alysson Marques, Luciana Schmitz, Pedro Germani, Renato Pessette, Sergio Moser – Julho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522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erdana"/>
              </a:rPr>
              <a:t>UFSC – CTC - INE – Engenharia de Usa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25880" y="3886200"/>
            <a:ext cx="2337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ccff"/>
                </a:solidFill>
                <a:latin typeface="Verdana"/>
              </a:rPr>
              <a:t>Alysson Mar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ccff"/>
                </a:solidFill>
                <a:latin typeface="Verdana"/>
              </a:rPr>
              <a:t>Luciana Schmi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ccff"/>
                </a:solidFill>
                <a:latin typeface="Verdana"/>
              </a:rPr>
              <a:t>Pedro Germa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ccff"/>
                </a:solidFill>
                <a:latin typeface="Verdana"/>
              </a:rPr>
              <a:t>Renato Pesse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ccff"/>
                </a:solidFill>
                <a:latin typeface="Verdana"/>
              </a:rPr>
              <a:t>Sergio Mo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apete" descr=""/>
          <p:cNvPicPr/>
          <p:nvPr/>
        </p:nvPicPr>
        <p:blipFill>
          <a:blip r:embed="rId1"/>
          <a:stretch/>
        </p:blipFill>
        <p:spPr>
          <a:xfrm>
            <a:off x="5105520" y="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91" name="pistola" descr=""/>
          <p:cNvPicPr/>
          <p:nvPr/>
        </p:nvPicPr>
        <p:blipFill>
          <a:blip r:embed="rId2"/>
          <a:srcRect l="4547" t="21211" r="7574" b="0"/>
          <a:stretch/>
        </p:blipFill>
        <p:spPr>
          <a:xfrm>
            <a:off x="4343400" y="3630600"/>
            <a:ext cx="4800600" cy="3227400"/>
          </a:xfrm>
          <a:prstGeom prst="rect">
            <a:avLst/>
          </a:prstGeom>
          <a:ln w="0">
            <a:noFill/>
          </a:ln>
        </p:spPr>
      </p:pic>
      <p:pic>
        <p:nvPicPr>
          <p:cNvPr id="92" name="controleps2" descr=""/>
          <p:cNvPicPr/>
          <p:nvPr/>
        </p:nvPicPr>
        <p:blipFill>
          <a:blip r:embed="rId3"/>
          <a:stretch/>
        </p:blipFill>
        <p:spPr>
          <a:xfrm>
            <a:off x="0" y="3313080"/>
            <a:ext cx="4038480" cy="3544920"/>
          </a:xfrm>
          <a:prstGeom prst="rect">
            <a:avLst/>
          </a:prstGeom>
          <a:ln w="0">
            <a:noFill/>
          </a:ln>
        </p:spPr>
      </p:pic>
      <p:pic>
        <p:nvPicPr>
          <p:cNvPr id="93" name="volante" descr=""/>
          <p:cNvPicPr/>
          <p:nvPr/>
        </p:nvPicPr>
        <p:blipFill>
          <a:blip r:embed="rId4"/>
          <a:stretch/>
        </p:blipFill>
        <p:spPr>
          <a:xfrm>
            <a:off x="0" y="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eye_screen003" descr=""/>
          <p:cNvPicPr/>
          <p:nvPr/>
        </p:nvPicPr>
        <p:blipFill>
          <a:blip r:embed="rId1"/>
          <a:stretch/>
        </p:blipFill>
        <p:spPr>
          <a:xfrm>
            <a:off x="-685800" y="-152280"/>
            <a:ext cx="10744200" cy="71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eye_screen004" descr=""/>
          <p:cNvPicPr/>
          <p:nvPr/>
        </p:nvPicPr>
        <p:blipFill>
          <a:blip r:embed="rId1"/>
          <a:stretch/>
        </p:blipFill>
        <p:spPr>
          <a:xfrm>
            <a:off x="-990720" y="-279360"/>
            <a:ext cx="11049120" cy="73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685800"/>
            <a:ext cx="6705720" cy="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914400"/>
            <a:ext cx="3276360" cy="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152280"/>
            <a:ext cx="228600" cy="6400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02520" y="152280"/>
            <a:ext cx="50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Verdana"/>
              </a:rPr>
              <a:t>Interfaces Especiais: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6537240"/>
            <a:ext cx="608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ccccff"/>
                </a:solidFill>
                <a:latin typeface="Verdana"/>
              </a:rPr>
              <a:t>Por Alysson Marques, Luciana Schmitz, Pedro Germani, Renato Pessette, Sergio Moser – Julho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13040" y="6858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erdana"/>
              </a:rPr>
              <a:t>Jogos Educ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295280"/>
            <a:ext cx="8305560" cy="18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>
              <a:lnSpc>
                <a:spcPct val="85000"/>
              </a:lnSpc>
              <a:spcAft>
                <a:spcPts val="751"/>
              </a:spcAft>
              <a:buClr>
                <a:srgbClr val="ccccff"/>
              </a:buClr>
              <a:buFont typeface="Verdana"/>
              <a:buChar char="o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melhante ao Jogo da Forc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85000"/>
              </a:lnSpc>
              <a:spcAft>
                <a:spcPts val="751"/>
              </a:spcAft>
              <a:buClr>
                <a:srgbClr val="ccccff"/>
              </a:buClr>
              <a:buFont typeface="Verdana"/>
              <a:buChar char="o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raz o aprendizado da criança por grupo de palavras temát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85000"/>
              </a:lnSpc>
              <a:spcAft>
                <a:spcPts val="751"/>
              </a:spcAft>
              <a:buClr>
                <a:srgbClr val="ccccff"/>
              </a:buClr>
              <a:buFont typeface="Verdana"/>
              <a:buChar char="o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emplos: coisas do campo, coisas da cidade, coisas da escola, etc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7181" t="15627" r="29525" b="39322"/>
          <a:stretch/>
        </p:blipFill>
        <p:spPr>
          <a:xfrm>
            <a:off x="2438280" y="2743200"/>
            <a:ext cx="472464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685800"/>
            <a:ext cx="6705720" cy="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914400"/>
            <a:ext cx="3276360" cy="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152280"/>
            <a:ext cx="228600" cy="6400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2520" y="152280"/>
            <a:ext cx="50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Verdana"/>
              </a:rPr>
              <a:t>Interfaces Especiais: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920" y="6537240"/>
            <a:ext cx="608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ccccff"/>
                </a:solidFill>
                <a:latin typeface="Verdana"/>
              </a:rPr>
              <a:t>Por Alysson Marques, Luciana Schmitz, Pedro Germani, Renato Pessette, Sergio Moser – Julho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13040" y="6858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erdana"/>
              </a:rPr>
              <a:t>Jogos Educ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295280"/>
            <a:ext cx="8305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>
              <a:lnSpc>
                <a:spcPct val="85000"/>
              </a:lnSpc>
              <a:spcAft>
                <a:spcPts val="751"/>
              </a:spcAft>
              <a:buClr>
                <a:srgbClr val="ccccff"/>
              </a:buClr>
              <a:buFont typeface="Verdana"/>
              <a:buChar char="o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juda desenvolver a capacidade de memorização e concent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28572" t="17709" r="30581" b="45686"/>
          <a:stretch/>
        </p:blipFill>
        <p:spPr>
          <a:xfrm>
            <a:off x="1600200" y="2100240"/>
            <a:ext cx="61722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85800"/>
            <a:ext cx="6705720" cy="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914400"/>
            <a:ext cx="3276360" cy="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52280"/>
            <a:ext cx="228600" cy="6400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02520" y="152280"/>
            <a:ext cx="50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Verdana"/>
              </a:rPr>
              <a:t>Interfaces Especiais: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920" y="6537240"/>
            <a:ext cx="608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ccccff"/>
                </a:solidFill>
                <a:latin typeface="Verdana"/>
              </a:rPr>
              <a:t>Por Alysson Marques, Luciana Schmitz, Pedro Germani, Renato Pessette, Sergio Moser – Julho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13040" y="6858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erdana"/>
              </a:rPr>
              <a:t>Jogos Educ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295280"/>
            <a:ext cx="830556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>
              <a:lnSpc>
                <a:spcPct val="85000"/>
              </a:lnSpc>
              <a:spcAft>
                <a:spcPts val="751"/>
              </a:spcAft>
              <a:buClr>
                <a:srgbClr val="ccccff"/>
              </a:buClr>
              <a:buFont typeface="Verdana"/>
              <a:buChar char="o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m forte apelo educativo, já que trabalha diretamente com a percepção visual e lógic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85000"/>
              </a:lnSpc>
              <a:spcAft>
                <a:spcPts val="751"/>
              </a:spcAft>
              <a:buClr>
                <a:srgbClr val="ccccff"/>
              </a:buClr>
              <a:buFont typeface="Verdana"/>
              <a:buChar char="o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ratégico, de percepção, lógica e previsão de tempo futu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47658" t="15627" r="19532" b="37501"/>
          <a:stretch/>
        </p:blipFill>
        <p:spPr>
          <a:xfrm>
            <a:off x="2133720" y="2362320"/>
            <a:ext cx="464796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685800"/>
            <a:ext cx="6705720" cy="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914400"/>
            <a:ext cx="3276360" cy="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52280"/>
            <a:ext cx="228600" cy="6400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2520" y="152280"/>
            <a:ext cx="50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Verdana"/>
              </a:rPr>
              <a:t>Interfaces Especiais: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920" y="6537240"/>
            <a:ext cx="608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ccccff"/>
                </a:solidFill>
                <a:latin typeface="Verdana"/>
              </a:rPr>
              <a:t>Por Alysson Marques, Luciana Schmitz, Pedro Germani, Renato Pessette, Sergio Moser – Julho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95840" y="685800"/>
            <a:ext cx="44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ccff"/>
                </a:solidFill>
                <a:latin typeface="Verdana"/>
              </a:rPr>
              <a:t>MauMau – Jogo para 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295280"/>
            <a:ext cx="548640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>
              <a:lnSpc>
                <a:spcPct val="85000"/>
              </a:lnSpc>
              <a:spcAft>
                <a:spcPts val="751"/>
              </a:spcAft>
              <a:buClr>
                <a:srgbClr val="ccccff"/>
              </a:buClr>
              <a:buFont typeface="Verdana"/>
              <a:buChar char="o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Jogo de cartas “Mau-Mau” (Vence quem primeiro eliminar as cartas) para celular ou palm desenvolvida no Brasi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85000"/>
              </a:lnSpc>
              <a:spcAft>
                <a:spcPts val="751"/>
              </a:spcAft>
              <a:buClr>
                <a:srgbClr val="ccccff"/>
              </a:buClr>
              <a:buFont typeface="Verdana"/>
              <a:buChar char="o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85000"/>
              </a:lnSpc>
              <a:spcAft>
                <a:spcPts val="751"/>
              </a:spcAft>
              <a:buClr>
                <a:srgbClr val="ccccff"/>
              </a:buClr>
              <a:buFont typeface="Verdana"/>
              <a:buChar char="o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Desenvolvido por alunos de Ciência da Computação da Faculdade Senac, Rogério de Paula Aguilar e Luiz Fernando Forgas como trabalho de conclusão de curs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85000"/>
              </a:lnSpc>
              <a:spcAft>
                <a:spcPts val="751"/>
              </a:spcAft>
              <a:buClr>
                <a:srgbClr val="ccccff"/>
              </a:buClr>
              <a:buFont typeface="Verdana"/>
              <a:buChar char="o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85000"/>
              </a:lnSpc>
              <a:spcAft>
                <a:spcPts val="751"/>
              </a:spcAft>
              <a:buClr>
                <a:srgbClr val="ccccff"/>
              </a:buClr>
              <a:buFont typeface="Verdana"/>
              <a:buChar char="o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Possibilita ao jogador competir com o próprio aparelho ou com outros participantes on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maumau" descr=""/>
          <p:cNvPicPr/>
          <p:nvPr/>
        </p:nvPicPr>
        <p:blipFill>
          <a:blip r:embed="rId1"/>
          <a:stretch/>
        </p:blipFill>
        <p:spPr>
          <a:xfrm>
            <a:off x="6019920" y="1371600"/>
            <a:ext cx="2782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685800"/>
            <a:ext cx="6705720" cy="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914400"/>
            <a:ext cx="3276360" cy="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52280"/>
            <a:ext cx="228600" cy="6400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02520" y="152280"/>
            <a:ext cx="50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Verdana"/>
              </a:rPr>
              <a:t>Interfaces Especiais: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920" y="6537240"/>
            <a:ext cx="608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ccccff"/>
                </a:solidFill>
                <a:latin typeface="Verdana"/>
              </a:rPr>
              <a:t>Por Alysson Marques, Luciana Schmitz, Pedro Germani, Renato Pessette, Sergio Moser – Julho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2000" y="6858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erdana"/>
              </a:rPr>
              <a:t>Notí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295280"/>
            <a:ext cx="8305560" cy="43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 algn="just">
              <a:lnSpc>
                <a:spcPct val="85000"/>
              </a:lnSpc>
              <a:spcAft>
                <a:spcPts val="675"/>
              </a:spcAft>
              <a:buClr>
                <a:srgbClr val="ccccff"/>
              </a:buClr>
              <a:buFont typeface="Arial"/>
              <a:buChar char="o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Universidade Anhembi Morumbi/SP, oferece curso superior de Design e Planejamento de Games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www.anhembi.br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85000"/>
              </a:lnSpc>
              <a:spcAft>
                <a:spcPts val="675"/>
              </a:spcAft>
              <a:buClr>
                <a:srgbClr val="ccccff"/>
              </a:buClr>
              <a:buFont typeface="Arial"/>
              <a:buChar char="o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85000"/>
              </a:lnSpc>
              <a:spcAft>
                <a:spcPts val="675"/>
              </a:spcAft>
              <a:buClr>
                <a:srgbClr val="ccccff"/>
              </a:buClr>
              <a:buFont typeface="Arial"/>
              <a:buChar char="o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Atualmente está sendo oferecido um curso de pós-graduação em Desenvolvimento de Jogos pela Unicenp, do Paraná;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(Games Brasi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85000"/>
              </a:lnSpc>
              <a:spcAft>
                <a:spcPts val="675"/>
              </a:spcAft>
              <a:buClr>
                <a:srgbClr val="ccccff"/>
              </a:buClr>
              <a:buFont typeface="Arial"/>
              <a:buChar char="o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85000"/>
              </a:lnSpc>
              <a:spcAft>
                <a:spcPts val="675"/>
              </a:spcAft>
              <a:buClr>
                <a:srgbClr val="ccccff"/>
              </a:buClr>
              <a:buFont typeface="Arial"/>
              <a:buChar char="o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m setembro será a final brasileira do concurso da World Cyber Games, que levará o ganhador em outubro na Final Mundial em São Francisco – EUA;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www.gamesbrasil.com.br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85000"/>
              </a:lnSpc>
              <a:spcAft>
                <a:spcPts val="675"/>
              </a:spcAft>
              <a:buClr>
                <a:srgbClr val="ccccff"/>
              </a:buClr>
              <a:buFont typeface="Arial"/>
              <a:buChar char="o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85000"/>
              </a:lnSpc>
              <a:spcAft>
                <a:spcPts val="675"/>
              </a:spcAft>
              <a:buClr>
                <a:srgbClr val="ccccff"/>
              </a:buClr>
              <a:buFont typeface="Arial"/>
              <a:buChar char="o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685800"/>
            <a:ext cx="6705720" cy="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914400"/>
            <a:ext cx="3276360" cy="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52280"/>
            <a:ext cx="228600" cy="6400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02520" y="152280"/>
            <a:ext cx="50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Verdana"/>
              </a:rPr>
              <a:t>Interfaces Especiais: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920" y="6537240"/>
            <a:ext cx="608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ccccff"/>
                </a:solidFill>
                <a:latin typeface="Verdana"/>
              </a:rPr>
              <a:t>Por Alysson Marques, Luciana Schmitz, Pedro Germani, Renato Pessette, Sergio Moser – Julho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32040" y="68580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erdana"/>
              </a:rPr>
              <a:t>Referê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295280"/>
            <a:ext cx="830556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>
              <a:lnSpc>
                <a:spcPct val="100000"/>
              </a:lnSpc>
              <a:buClr>
                <a:srgbClr val="ccccff"/>
              </a:buClr>
              <a:buFont typeface="Arial"/>
              <a:buChar char="o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pt-BR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loonygames.com/content/1.16/gues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85000"/>
              </a:lnSpc>
              <a:spcAft>
                <a:spcPts val="901"/>
              </a:spcAft>
              <a:buClr>
                <a:srgbClr val="ccccff"/>
              </a:buClr>
              <a:buFont typeface="Arial"/>
              <a:buChar char="o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85000"/>
              </a:lnSpc>
              <a:spcAft>
                <a:spcPts val="901"/>
              </a:spcAft>
              <a:buClr>
                <a:srgbClr val="ccccff"/>
              </a:buClr>
              <a:buFont typeface="Arial"/>
              <a:buChar char="o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pt-BR" sz="2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www.gamespo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85000"/>
              </a:lnSpc>
              <a:spcAft>
                <a:spcPts val="901"/>
              </a:spcAft>
              <a:buClr>
                <a:srgbClr val="ccccff"/>
              </a:buClr>
              <a:buFont typeface="Arial"/>
              <a:buChar char="o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85000"/>
              </a:lnSpc>
              <a:spcAft>
                <a:spcPts val="901"/>
              </a:spcAft>
              <a:buClr>
                <a:srgbClr val="ccccff"/>
              </a:buClr>
              <a:buFont typeface="Arial"/>
              <a:buChar char="o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pt-BR" sz="2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3"/>
              </a:rPr>
              <a:t>www.ign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85000"/>
              </a:lnSpc>
              <a:spcAft>
                <a:spcPts val="901"/>
              </a:spcAft>
              <a:buClr>
                <a:srgbClr val="ccccff"/>
              </a:buClr>
              <a:buFont typeface="Arial"/>
              <a:buChar char="o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85000"/>
              </a:lnSpc>
              <a:spcAft>
                <a:spcPts val="901"/>
              </a:spcAft>
              <a:buClr>
                <a:srgbClr val="ccccff"/>
              </a:buClr>
              <a:buFont typeface="Arial"/>
              <a:buChar char="o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pt-BR" sz="2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4"/>
              </a:rPr>
              <a:t>www.magnet.com.br/bits/games/2004/05/00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85000"/>
              </a:lnSpc>
              <a:spcAft>
                <a:spcPts val="901"/>
              </a:spcAft>
              <a:buClr>
                <a:srgbClr val="ccccff"/>
              </a:buClr>
              <a:buFont typeface="Arial"/>
              <a:buChar char="o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85000"/>
              </a:lnSpc>
              <a:spcAft>
                <a:spcPts val="901"/>
              </a:spcAft>
              <a:buClr>
                <a:srgbClr val="ccccff"/>
              </a:buClr>
              <a:buFont typeface="Arial"/>
              <a:buChar char="o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pt-BR" sz="2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5"/>
              </a:rPr>
              <a:t>www.sitededicas.com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85000"/>
              </a:lnSpc>
              <a:spcAft>
                <a:spcPts val="901"/>
              </a:spcAft>
              <a:buClr>
                <a:srgbClr val="ccccff"/>
              </a:buClr>
              <a:buFont typeface="Arial"/>
              <a:buChar char="o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85000"/>
              </a:lnSpc>
              <a:spcAft>
                <a:spcPts val="901"/>
              </a:spcAft>
              <a:buClr>
                <a:srgbClr val="ccccff"/>
              </a:buClr>
              <a:buFont typeface="Arial"/>
              <a:buChar char="o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85800"/>
            <a:ext cx="6705720" cy="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914400"/>
            <a:ext cx="3276360" cy="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152280"/>
            <a:ext cx="228600" cy="6400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02520" y="152280"/>
            <a:ext cx="50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Verdana"/>
              </a:rPr>
              <a:t>Interfaces Especiais: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920" y="6537240"/>
            <a:ext cx="608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ccccff"/>
                </a:solidFill>
                <a:latin typeface="Verdana"/>
              </a:rPr>
              <a:t>Por Alysson Marques, Luciana Schmitz, Pedro Germani, Renato Pessette, Sergio Moser – Julho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2438280"/>
            <a:ext cx="5715000" cy="32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Verdana"/>
              </a:rPr>
              <a:t>F I M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100000"/>
              </a:lnSpc>
              <a:buClr>
                <a:srgbClr val="cccc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685800"/>
            <a:ext cx="6705720" cy="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914400"/>
            <a:ext cx="3276360" cy="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52280"/>
            <a:ext cx="228600" cy="6400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02520" y="152280"/>
            <a:ext cx="50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Verdana"/>
              </a:rPr>
              <a:t>Interfaces Especiais: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6537240"/>
            <a:ext cx="608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ccccff"/>
                </a:solidFill>
                <a:latin typeface="Verdana"/>
              </a:rPr>
              <a:t>Por Alysson Marques, Luciana Schmitz, Pedro Germani, Renato Pessette, Sergio Moser – Julho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04400" y="68580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erdana"/>
              </a:rPr>
              <a:t>O que é um jo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1600200"/>
            <a:ext cx="784872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>
              <a:lnSpc>
                <a:spcPct val="100000"/>
              </a:lnSpc>
              <a:buClr>
                <a:srgbClr val="cccc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Ambiente modificado por decis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100000"/>
              </a:lnSpc>
              <a:buClr>
                <a:srgbClr val="cccc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100000"/>
              </a:lnSpc>
              <a:buClr>
                <a:srgbClr val="cccc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Decisões devem ser coisas muito divertidas de ser fa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100000"/>
              </a:lnSpc>
              <a:buClr>
                <a:srgbClr val="cccc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100000"/>
              </a:lnSpc>
              <a:buClr>
                <a:srgbClr val="cccc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Interfaces priorizam decisões, facilitando as decisões 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mais importantes (feitas com maior frequênc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100000"/>
              </a:lnSpc>
              <a:buClr>
                <a:srgbClr val="cccc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100000"/>
              </a:lnSpc>
              <a:buClr>
                <a:srgbClr val="cccc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Nos jogos ocorrem muitas decisões por min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100000"/>
              </a:lnSpc>
              <a:buClr>
                <a:srgbClr val="cccc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100000"/>
              </a:lnSpc>
              <a:buClr>
                <a:srgbClr val="cccc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Não confund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“‘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navegando na interface’ com ‘jogando o jogo’”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arry Teasle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desenvolvedor do Half-Lif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685800"/>
            <a:ext cx="6705720" cy="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914400"/>
            <a:ext cx="3276360" cy="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52280"/>
            <a:ext cx="228600" cy="6400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2520" y="152280"/>
            <a:ext cx="50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Verdana"/>
              </a:rPr>
              <a:t>Interfaces Especiais: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6537240"/>
            <a:ext cx="608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ccccff"/>
                </a:solidFill>
                <a:latin typeface="Verdana"/>
              </a:rPr>
              <a:t>Por Alysson Marques, Luciana Schmitz, Pedro Germani, Renato Pessette, Sergio Moser – Julho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27080" y="68580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erdana"/>
              </a:rPr>
              <a:t>Interfaces de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125360"/>
            <a:ext cx="83059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Decisões óbvias geralmente não são decisões divertidas de se tomar. Não forçar o jogador a realizar explicitamente decisões óbvias repetid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100000"/>
              </a:lnSpc>
              <a:buClr>
                <a:srgbClr val="cccc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Exemplo: pegar um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10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</a:rPr>
              <a:t>Quake.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Simples mas não envolv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10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</a:rPr>
              <a:t>Grim Fandango.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Botão de ação. Simples com bom controle do personag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10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</a:rPr>
              <a:t>Ultima.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Com mais opções, requer maior esforço do jog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10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</a:rPr>
              <a:t>Trespasser.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Complexo demais, tira o jogador do foco. Botões para Expirar/Inspir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100000"/>
              </a:lnSpc>
              <a:buClr>
                <a:srgbClr val="cccc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Mouselook: Interface do movimento orbital do 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personagem através do m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685800"/>
            <a:ext cx="6705720" cy="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914400"/>
            <a:ext cx="3276360" cy="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52280"/>
            <a:ext cx="228600" cy="6400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02520" y="152280"/>
            <a:ext cx="50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Verdana"/>
              </a:rPr>
              <a:t>Interfaces Especiais: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920" y="6537240"/>
            <a:ext cx="608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ccccff"/>
                </a:solidFill>
                <a:latin typeface="Verdana"/>
              </a:rPr>
              <a:t>Por Alysson Marques, Luciana Schmitz, Pedro Germani, Renato Pessette, Sergio Moser – Julho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99360" y="68580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erdana"/>
              </a:rPr>
              <a:t>Tipos de J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125360"/>
            <a:ext cx="8305920" cy="52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>
              <a:lnSpc>
                <a:spcPct val="100000"/>
              </a:lnSpc>
              <a:buClr>
                <a:srgbClr val="cccc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Ação (1a. Pessoa, 3a. Pesso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100000"/>
              </a:lnSpc>
              <a:buClr>
                <a:srgbClr val="cccc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100000"/>
              </a:lnSpc>
              <a:buClr>
                <a:srgbClr val="cccc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Estratégia (Tempo Real e Turno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100000"/>
              </a:lnSpc>
              <a:buClr>
                <a:srgbClr val="cccc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100000"/>
              </a:lnSpc>
              <a:buClr>
                <a:srgbClr val="cccc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RPG (Tempo Real e Turno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100000"/>
              </a:lnSpc>
              <a:buClr>
                <a:srgbClr val="cccc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100000"/>
              </a:lnSpc>
              <a:buClr>
                <a:srgbClr val="cccc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Espor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100000"/>
              </a:lnSpc>
              <a:buClr>
                <a:srgbClr val="cccc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100000"/>
              </a:lnSpc>
              <a:buClr>
                <a:srgbClr val="cccc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Corri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100000"/>
              </a:lnSpc>
              <a:buClr>
                <a:srgbClr val="cccc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100000"/>
              </a:lnSpc>
              <a:buClr>
                <a:srgbClr val="cccc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Adventu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100000"/>
              </a:lnSpc>
              <a:buClr>
                <a:srgbClr val="cccc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100000"/>
              </a:lnSpc>
              <a:buClr>
                <a:srgbClr val="cccc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Simul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100000"/>
              </a:lnSpc>
              <a:buClr>
                <a:srgbClr val="cccc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100000"/>
              </a:lnSpc>
              <a:buClr>
                <a:srgbClr val="cccc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Quebra-Cabeç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s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oe2017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fifa04_0700903_5" descr=""/>
          <p:cNvPicPr/>
          <p:nvPr/>
        </p:nvPicPr>
        <p:blipFill>
          <a:blip r:embed="rId1"/>
          <a:stretch/>
        </p:blipFill>
        <p:spPr>
          <a:xfrm>
            <a:off x="-228600" y="-50760"/>
            <a:ext cx="9753480" cy="70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_screen007" descr=""/>
          <p:cNvPicPr/>
          <p:nvPr/>
        </p:nvPicPr>
        <p:blipFill>
          <a:blip r:embed="rId1"/>
          <a:stretch/>
        </p:blipFill>
        <p:spPr>
          <a:xfrm>
            <a:off x="-685800" y="-76320"/>
            <a:ext cx="10439280" cy="695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685800"/>
            <a:ext cx="6705720" cy="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914400"/>
            <a:ext cx="3276360" cy="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152280"/>
            <a:ext cx="228600" cy="6400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02520" y="152280"/>
            <a:ext cx="50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Verdana"/>
              </a:rPr>
              <a:t>Interfaces Especiais: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920" y="6537240"/>
            <a:ext cx="608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ccccff"/>
                </a:solidFill>
                <a:latin typeface="Verdana"/>
              </a:rPr>
              <a:t>Por Alysson Marques, Luciana Schmitz, Pedro Germani, Renato Pessette, Sergio Moser – Julho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76040" y="685800"/>
            <a:ext cx="39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erdana"/>
              </a:rPr>
              <a:t>Dispositivos d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125360"/>
            <a:ext cx="830592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85000"/>
              </a:lnSpc>
              <a:spcAft>
                <a:spcPts val="2999"/>
              </a:spcAft>
              <a:buClr>
                <a:srgbClr val="cccc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clado e Mou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85000"/>
              </a:lnSpc>
              <a:spcAft>
                <a:spcPts val="2999"/>
              </a:spcAft>
              <a:buClr>
                <a:srgbClr val="cccc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trole (Joystic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85000"/>
              </a:lnSpc>
              <a:spcAft>
                <a:spcPts val="2999"/>
              </a:spcAft>
              <a:buClr>
                <a:srgbClr val="cccc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olante, Arma, Tapete, Luva, Capace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85000"/>
              </a:lnSpc>
              <a:spcAft>
                <a:spcPts val="2999"/>
              </a:spcAft>
              <a:buClr>
                <a:srgbClr val="cccc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ancha, Mo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85000"/>
              </a:lnSpc>
              <a:spcAft>
                <a:spcPts val="2999"/>
              </a:spcAft>
              <a:buClr>
                <a:srgbClr val="cccc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oz (microfone) - Lif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85000"/>
              </a:lnSpc>
              <a:spcAft>
                <a:spcPts val="2999"/>
              </a:spcAft>
              <a:buClr>
                <a:srgbClr val="cccc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 próprio corpo (câmera) - EyeToy: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100000"/>
              </a:lnSpc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80880">
              <a:lnSpc>
                <a:spcPct val="100000"/>
              </a:lnSpc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8T17:10:55Z</dcterms:created>
  <dc:creator>LAboratório de Sistemas e Conhecimento</dc:creator>
  <dc:description/>
  <dc:language>en-US</dc:language>
  <cp:lastModifiedBy>LAboratório de Sistemas e Conhecimento</cp:lastModifiedBy>
  <dcterms:modified xsi:type="dcterms:W3CDTF">2004-07-09T21:43:01Z</dcterms:modified>
  <cp:revision>48</cp:revision>
  <dc:subject/>
  <dc:title>Apresentação do PowerPoint</dc:title>
</cp:coreProperties>
</file>