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800" y="4300200"/>
            <a:ext cx="777096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800" y="430020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7760" y="430020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0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13440" y="1904760"/>
            <a:ext cx="25020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40720" y="1904760"/>
            <a:ext cx="25020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800" y="4300200"/>
            <a:ext cx="25020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13440" y="4300200"/>
            <a:ext cx="25020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40720" y="4300200"/>
            <a:ext cx="25020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0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30020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0960" cy="4586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67760" y="430020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800" y="4300200"/>
            <a:ext cx="777096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685800" y="4300200"/>
            <a:ext cx="777096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85800" y="430020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67760" y="430020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0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313440" y="1904760"/>
            <a:ext cx="25020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940720" y="1904760"/>
            <a:ext cx="25020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685800" y="4300200"/>
            <a:ext cx="25020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313440" y="4300200"/>
            <a:ext cx="25020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940720" y="4300200"/>
            <a:ext cx="250200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096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93680" y="283680"/>
            <a:ext cx="777096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800" y="430020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7760" y="430020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7760" y="1904760"/>
            <a:ext cx="379188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800" y="4300200"/>
            <a:ext cx="7770960" cy="21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0" y="1512720"/>
            <a:ext cx="8458200" cy="87480"/>
          </a:xfrm>
          <a:prstGeom prst="roundRect">
            <a:avLst>
              <a:gd name="adj" fmla="val 1852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960" bIns="39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247680" y="0"/>
            <a:ext cx="793800" cy="1841400"/>
          </a:xfrm>
          <a:custGeom>
            <a:avLst/>
            <a:gdLst>
              <a:gd name="textAreaLeft" fmla="*/ 360 w 793800"/>
              <a:gd name="textAreaRight" fmla="*/ 793440 w 793800"/>
              <a:gd name="textAreaTop" fmla="*/ 360 h 1841400"/>
              <a:gd name="textAreaBottom" fmla="*/ 1841040 h 1841400"/>
            </a:gdLst>
            <a:ahLst/>
            <a:rect l="textAreaLeft" t="textAreaTop" r="textAreaRight" b="textAreaBottom"/>
            <a:pathLst>
              <a:path w="21600" h="50093">
                <a:moveTo>
                  <a:pt x="43" y="0"/>
                </a:moveTo>
                <a:arcTo wR="43" hR="43" stAng="16200000" swAng="-5400000"/>
                <a:lnTo>
                  <a:pt x="0" y="50050"/>
                </a:lnTo>
                <a:arcTo wR="43" hR="43" stAng="10800000" swAng="-5400000"/>
                <a:lnTo>
                  <a:pt x="21557" y="50093"/>
                </a:lnTo>
                <a:arcTo wR="43" hR="43" stAng="5400000" swAng="-5400000"/>
                <a:lnTo>
                  <a:pt x="21600" y="43"/>
                </a:lnTo>
                <a:arcTo wR="43" hR="43" stAng="0" swAng="-5400000"/>
                <a:close/>
              </a:path>
            </a:pathLst>
          </a:cu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7067520" y="6553080"/>
            <a:ext cx="2076480" cy="79560"/>
          </a:xfrm>
          <a:prstGeom prst="roundRect">
            <a:avLst>
              <a:gd name="adj" fmla="val 2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2040" bIns="320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096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0960" cy="458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84200" y="1549440"/>
            <a:ext cx="8158320" cy="1689120"/>
          </a:xfrm>
          <a:prstGeom prst="roundRect">
            <a:avLst>
              <a:gd name="adj" fmla="val 93"/>
            </a:avLst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28600" y="320688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28600" y="1482840"/>
            <a:ext cx="86868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8623440" y="124632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34880" y="1252440"/>
            <a:ext cx="77760" cy="2235240"/>
          </a:xfrm>
          <a:custGeom>
            <a:avLst/>
            <a:gdLst>
              <a:gd name="textAreaLeft" fmla="*/ 11160 w 77760"/>
              <a:gd name="textAreaRight" fmla="*/ 66600 w 77760"/>
              <a:gd name="textAreaTop" fmla="*/ 11160 h 2235240"/>
              <a:gd name="textAreaBottom" fmla="*/ 2224080 h 2235240"/>
            </a:gdLst>
            <a:ahLst/>
            <a:rect l="textAreaLeft" t="textAreaTop" r="textAreaRight" b="textAreaBottom"/>
            <a:pathLst>
              <a:path w="21600" h="618138">
                <a:moveTo>
                  <a:pt x="10800" y="0"/>
                </a:moveTo>
                <a:arcTo wR="10800" hR="10800" stAng="16200000" swAng="-5400000"/>
                <a:lnTo>
                  <a:pt x="0" y="607338"/>
                </a:lnTo>
                <a:arcTo wR="10800" hR="10800" stAng="10800000" swAng="-5400000"/>
                <a:lnTo>
                  <a:pt x="10800" y="618138"/>
                </a:lnTo>
                <a:arcTo wR="10800" hR="10800" stAng="5400000" swAng="-5400000"/>
                <a:lnTo>
                  <a:pt x="21600" y="10800"/>
                </a:lnTo>
                <a:arcTo wR="10800" hR="10800" stAng="0" swAng="-5400000"/>
                <a:close/>
              </a:path>
            </a:pathLst>
          </a:cu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830680" y="5783400"/>
            <a:ext cx="3481200" cy="77760"/>
          </a:xfrm>
          <a:prstGeom prst="roundRect">
            <a:avLst>
              <a:gd name="adj" fmla="val 50000"/>
            </a:avLst>
          </a:prstGeom>
          <a:solidFill>
            <a:srgbClr val="3333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8640" bIns="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095720" y="5734080"/>
            <a:ext cx="949320" cy="176040"/>
          </a:xfrm>
          <a:prstGeom prst="roundRect">
            <a:avLst>
              <a:gd name="adj" fmla="val 907"/>
            </a:avLst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0960" cy="1141560"/>
          </a:xfrm>
          <a:prstGeom prst="rect">
            <a:avLst/>
          </a:prstGeom>
          <a:blipFill rotWithShape="0">
            <a:blip r:embed="rId5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body"/>
          </p:nvPr>
        </p:nvSpPr>
        <p:spPr>
          <a:xfrm>
            <a:off x="671040" y="1906200"/>
            <a:ext cx="7807320" cy="43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1" marL="741240" indent="-284040">
              <a:spcBef>
                <a:spcPts val="799"/>
              </a:spcBef>
              <a:buClr>
                <a:srgbClr val="333333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264c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264c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264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image" Target="../media/image4.png"/><Relationship Id="rId9" Type="http://schemas.openxmlformats.org/officeDocument/2006/relationships/image" Target="../media/image4.png"/><Relationship Id="rId10" Type="http://schemas.openxmlformats.org/officeDocument/2006/relationships/image" Target="../media/image4.png"/><Relationship Id="rId1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752120"/>
            <a:ext cx="7772400" cy="1143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en-US" sz="4400" spc="-1" strike="noStrike">
                <a:solidFill>
                  <a:srgbClr val="ffffe9"/>
                </a:solidFill>
                <a:latin typeface="Verdana"/>
              </a:rPr>
              <a:t>Interfaces Especiais</a:t>
            </a:r>
            <a:br>
              <a:rPr sz="4400"/>
            </a:br>
            <a:r>
              <a:rPr b="1" lang="en-US" sz="4400" spc="-1" strike="noStrike">
                <a:solidFill>
                  <a:srgbClr val="ffffe9"/>
                </a:solidFill>
                <a:latin typeface="Verdana"/>
              </a:rPr>
              <a:t>Interface para Carro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371600" y="3746160"/>
            <a:ext cx="6400800" cy="198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Verdana"/>
              </a:rPr>
              <a:t>Bruno Koerich de Paula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Verdana"/>
              </a:rPr>
              <a:t>Henrique Schaeffer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Verdana"/>
              </a:rPr>
              <a:t>Priscila Lugon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1600" spc="-1" strike="noStrike">
                <a:solidFill>
                  <a:srgbClr val="00264c"/>
                </a:solidFill>
                <a:latin typeface="Verdana"/>
              </a:rPr>
              <a:t>Thiago Rossato</a:t>
            </a: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Verdana"/>
              </a:rPr>
              <a:t>Acesso às Informaçõ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O acesso às informações deve ser o mais fácil e rápido possível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A interação deve-se dar a partir de botões no volante e no próprio painel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Verdana"/>
              </a:rPr>
              <a:t>Legibilidade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57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As fontes devem ser grandes e legívei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O contraste deve ser regulável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Os ícones devem ter significados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Ex: A bomba de gasolina representa a necessidade de abastecer; 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As cores devem ter significado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Ex: vermelho = alerta, problema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          </a:t>
            </a: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amarelo = atençã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Verdana"/>
              </a:rPr>
              <a:t>Posicionamento das Informaçõ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O posicionamento das informações constantes deve ser de modo que o motorista não necessite mudar o ângulo da cabeça, e sim apenas os olho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2286000" y="3505320"/>
            <a:ext cx="4191120" cy="2619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000" spc="-1" strike="noStrike">
                <a:solidFill>
                  <a:srgbClr val="333333"/>
                </a:solidFill>
                <a:latin typeface="Verdana"/>
              </a:rPr>
              <a:t>Posicionamento das Informações</a:t>
            </a:r>
            <a:endParaRPr b="0" lang="en-US" sz="40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Para as informações adicionais aceita-se uma mínima mudança no ângulo da cabeça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3"/>
          <a:stretch/>
        </p:blipFill>
        <p:spPr>
          <a:xfrm>
            <a:off x="2819520" y="3124080"/>
            <a:ext cx="2514600" cy="26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Verdana"/>
              </a:rPr>
              <a:t>Introduçã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A interface é um subsistema do software interativo, cujos componentes e processos apóiam a interação com o usuári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Ou seja, iremos apresentar um interface entre o usuário do veículo e o veícul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Nesta interface o usuário irá interagir com o computador de bordo do veícul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Verdana"/>
              </a:rPr>
              <a:t>Contexto de Uso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Uma interface deve ser criada de acordo com o contexto no qual o sistema será empregad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Neste caso a interface tem que ser baseada nas necessidades do motorista, assim como responder às tarefas e se adequar ao ambiente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Verdana"/>
              </a:rPr>
              <a:t>Características Gerai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Não deve distrair o motorista de sua função principal, e sim conduzi-lo para que o faça da melhor forma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Deve se permitir um fácil manuseio das funçõe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Deve ter um posicionamento adequado no painel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Fácil legibilidade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Verdana"/>
              </a:rPr>
              <a:t>Características Gerai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Alertar quando acontecer algo inesperad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Conter apenas as informações relevante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Verdana"/>
              </a:rPr>
              <a:t>Tipos de Informações</a:t>
            </a:r>
            <a:r>
              <a:rPr b="0" lang="en-US" sz="3600" spc="-1" strike="noStrike">
                <a:solidFill>
                  <a:srgbClr val="333333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As informações contidas na interface são de dois tipo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Existem as informações que devem permacer constantes no campo de visão do condutor, pois tratam-se de informações essenciai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Existem ainda as informações que deverão ser mostradas quando acessadas, ou quando alertam para algum problema; 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Verdana"/>
              </a:rPr>
              <a:t>Informações Constante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Velocidade do veícul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Farol ligado/desligado, alto/baix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Quantidade de combustível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Indicadores de pisca-pisca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Indicador do nível de combustível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Indicador da temperatura do líquido de arrefeciment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Indicador de falha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Verdana"/>
              </a:rPr>
              <a:t>Informações Adicionai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72400" cy="465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Leitura do consumo de combustível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Leitura da velocidade média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4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Leitura do tempo de viagem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5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Aponta falha no sistema/luz de frei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6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Aponta lâmpadas queimada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7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Aponta baixa/alta voltagem de bateria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8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Aponta baixo nível de lavador de para-brisa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9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Distância percorrida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10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Média de km por litro de combustível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093680" y="283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333333"/>
                </a:solidFill>
                <a:latin typeface="Verdana"/>
              </a:rPr>
              <a:t>Informações Adicionais</a:t>
            </a:r>
            <a:endParaRPr b="0" lang="en-US" sz="44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2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Distância percorrida desde o último abasteciment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-341280">
              <a:lnSpc>
                <a:spcPct val="100000"/>
              </a:lnSpc>
              <a:spcBef>
                <a:spcPts val="601"/>
              </a:spcBef>
              <a:buSzPct val="116546"/>
              <a:buBlip>
                <a:blip r:embed="rId3"/>
              </a:buBlip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Em quantos km será necessário novo abastecimento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  <a:p>
            <a:pPr marL="3412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264c"/>
                </a:solidFill>
                <a:latin typeface="Verdana"/>
              </a:rPr>
              <a:t>ps: Excesso de informações pode atrapalhar o motorista, sendo assim, deve-se separar adequadamente as informações;</a:t>
            </a:r>
            <a:endParaRPr b="0" lang="en-US" sz="2400" spc="-1" strike="noStrike">
              <a:solidFill>
                <a:srgbClr val="00264c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uardo</cp:lastModifiedBy>
  <dcterms:modified xsi:type="dcterms:W3CDTF">2004-07-09T22:10:54Z</dcterms:modified>
  <cp:revision>3</cp:revision>
  <dc:subject/>
  <dc:title>Interfaces Especiais Interface para Carros</dc:title>
</cp:coreProperties>
</file>