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EC2-A5B6-4E6C-9D74-766E25CF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72D-049E-4181-8051-2D333D14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FADB-38BB-4689-BCD5-D1219C8C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73E2-29E7-4DB6-97E9-1F4E62BF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046F-764B-4DEA-B6D5-233F445F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F2BE-A945-4AF3-8082-96F32230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432B-B7D8-434D-9B25-387CD877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103C-A9A9-456D-9824-7275174F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942B-035A-40C7-9241-4EE57830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450A-F741-48CD-9C43-F9CB082A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3BDE-9B98-424E-94DB-4F69F8D3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72E-BA99-49AF-A199-39560C81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E328-A047-442B-9862-A5AD4D02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1897-BCA3-4DAD-8E89-D7BCDDE7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2AD7-A024-43A8-9DCC-B1476D42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133E-6168-420C-9158-71EF3FA4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5CF7-44A2-40E4-A56A-15E7A289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51AE-2B5D-42CC-8508-33172417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571C-BD00-420F-AB03-65C481C1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EE6-1413-41D1-A458-628D9201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E5A-BDE0-4BC3-A981-F52042FC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7821-0156-48DE-B059-C7FA55E0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BC8-5B0F-4A15-AB8A-01319A61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DA6-8A21-43BD-AD0D-7FD23FF1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CC34-B9E5-43EE-8312-46A585402B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0EF2-56D3-4481-9299-E2B8F836FD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99"/>
                </a:solidFill>
                <a:latin typeface="Tahoma"/>
              </a:rPr>
              <a:t>Avaliação da Usabilidade do</a:t>
            </a:r>
            <a:br>
              <a:rPr sz="3600"/>
            </a:br>
            <a:r>
              <a:rPr b="0" lang="pt-BR" sz="3600" spc="-1" strike="noStrike">
                <a:solidFill>
                  <a:srgbClr val="333399"/>
                </a:solidFill>
                <a:latin typeface="Tahoma"/>
              </a:rPr>
              <a:t>Beta Browser – Browser Estruturado em  Tecnologias Assistiva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sé Ramire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árcio Zomer Al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ian Carlo Salva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ictor Hugo Marques Cos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56236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058480" y="1219320"/>
            <a:ext cx="48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figurações – Dicion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142920"/>
          <a:ext cx="9144000" cy="658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2920"/>
                    <a:ext cx="914400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152280"/>
          <a:ext cx="9144000" cy="658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914400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152280"/>
          <a:ext cx="9144000" cy="658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9144000" cy="65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152280"/>
          <a:ext cx="9144000" cy="658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9144000" cy="65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120" y="10663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valiação da Usabilida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2278080"/>
            <a:ext cx="7924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aliar a eficiência do brows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aliar a capacidade de utilização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uári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ificar o tempo de acesso as páginas em comparação com o browser convencion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f0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gerir melhori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1600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as maneir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liação Heurístic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aio de Interaçã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752120" y="10663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valiação da Usabilida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10663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valiação Heuríst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2492280"/>
            <a:ext cx="746784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ita durante o desenvolvimento do produto pelo próprio programador, onde detectou-se algumas falhas no programa em si, e problemas ergonômico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ões do dicionário de palavras muito pequen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aque dos botões insuficien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040" y="10663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saio de Interaçã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743200"/>
            <a:ext cx="746784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ita após o projeto desenvolvido, com um usuário portador de deficiência motora, possuindo capacidade intelectual de navegar na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ensaio tomou um dia com a duração de 45 minu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7040" y="10663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saio de Interaçã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1916280"/>
            <a:ext cx="746784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Õ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 usuário conseguiu intuitivament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nder e utilizar o navegad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ificuldade na compreensã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lado virtual devido a gr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dade de informações (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5120" y="10663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99"/>
                </a:solidFill>
                <a:latin typeface="Tahoma"/>
              </a:rPr>
              <a:t>Beta Brows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2492280"/>
            <a:ext cx="777240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egador de internet para pessoas com deficiência motora que possui um sistema de varredura de teclas e um teclado virtual para a digitação dos endereços, afim de que os usuários com limitação motora possam navegar na Web, com maior facilidade e menor desgaste físico e emo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7040" y="10663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saio de Interaçã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2421000"/>
            <a:ext cx="82803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Õ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vido a falta de coordenação motor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usuário possui dificuldade de, até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mo, clicar o botão do m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 impossibilidade de acesso a internet pelo usuário devido a sua deficiência motora, foi superada com o uso do softwar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057040" y="10663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saio de Interaçã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80520" y="2057400"/>
            <a:ext cx="860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s botões da lista de palavras precisam ter melhor destaque conforme verificado na avaliação heurística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 ensaio deve ser feito com uma amost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dos usuários para melhores conclus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, conseqüentemente, um melhor aperfeiço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produ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1066680"/>
            <a:ext cx="472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saio de Inter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040" y="10663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saio de Interaçã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2133720"/>
            <a:ext cx="7467840" cy="55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ESTÕ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stacar de forma mais definida tod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botõ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Utilizar um hardware específico para usuários com deficiência mot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tiva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2708280"/>
            <a:ext cx="8156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motivação para os testes ergonômicos sobre o Beta Browser, surge no tipo de usuários que o utiliz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tratar-se de usuários com deficiência, a interface deve ser o mais amigável possível para diminuir o desconforto da falta de coordenação motor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ição dos usuá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2205000"/>
            <a:ext cx="7940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erenciação entre os tipos de usuários deve ser feita em cima do grau de coordenação motora, pois este é o principal fator de desconforto na utilização da interfac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entende-se desconforto, neste caso, o tempo para acessar as pág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ém disso, a devida classificação do tipo de deficiência delimitaria este escopo, pois eliminaria algumas classes de usuá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ali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680760" y="2244600"/>
            <a:ext cx="6340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ordenador / responsável téc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ictor Hugo Marques Co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- Avali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ian Carlo Salv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osé Ramir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árcio Zomer A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06680" y="3287880"/>
            <a:ext cx="633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resentação do progra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8001000" cy="3287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74000" y="114300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ela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562360" cy="4525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46320" y="1219320"/>
            <a:ext cx="68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figurações – Dispositivos de en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562360" cy="4525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98040" y="1219320"/>
            <a:ext cx="39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figurações – Tec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22:03:30Z</dcterms:created>
  <dc:creator>victor</dc:creator>
  <dc:description/>
  <dc:language>en-US</dc:language>
  <cp:lastModifiedBy>victor</cp:lastModifiedBy>
  <dcterms:modified xsi:type="dcterms:W3CDTF">2004-07-02T22:06:43Z</dcterms:modified>
  <cp:revision>24</cp:revision>
  <dc:subject/>
  <dc:title>Beta Browser – Browser Estruturado em  Tecnologias Assistivas</dc:title>
</cp:coreProperties>
</file>