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35D-7101-4A89-909D-EC5FB0DB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5D2-2E42-4399-B22D-E023CE80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63B-2D86-4690-AF23-E0D7F74F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011-9CA4-40AB-8483-5009813F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2F5F-6766-45F1-91C2-923E8957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A4AB-D0D8-49DC-936E-96A89B19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9249-4A1D-4630-9BCF-3302C07E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1D79-DAFD-4340-AE0D-AEB1987A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7874-20B4-404D-9607-2A391944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7129-2179-44E8-9203-E1D7BED6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A7D5-0F8F-4F35-8B8F-54CA4BF3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13B-B219-4E34-8874-7B26AAB8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AEBC-FD5E-4781-865F-91B9DD0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5990-B9FB-4FC0-80F8-EE3AC259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96A5-EB28-49F0-9D72-11B04F0B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AD5D-61EA-4B24-ABFF-4CDD7A8F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56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2880" y="205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60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7856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42880" y="4127040"/>
            <a:ext cx="20606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06EB-B6D4-4348-863F-8885516C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7C6-9061-4467-A8ED-C58E4925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DFC-4FB1-487B-B989-22C6F2C3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C65-EE41-4B49-9E0A-A13F5A60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304560"/>
            <a:ext cx="6477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A93-5660-404D-9A0B-AC6FA838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07D-C67C-48AC-9DCC-1FB6EF0F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94560" y="412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297-61F9-47EE-9EC3-9731A4CF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4560" y="2057040"/>
            <a:ext cx="312336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14600" y="4127040"/>
            <a:ext cx="640080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525-E59F-4AE9-ABE7-62EE228B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279F-11E4-4BE0-B6D6-2B849114D7BA}" type="datetime">
              <a:rPr b="0" lang="pt-BR" sz="1400" spc="-1" strike="noStrike">
                <a:solidFill>
                  <a:srgbClr val="009999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11AA-708C-49A7-8737-892267428FFB}" type="slidenum">
              <a:rPr b="0" lang="pt-B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7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095880"/>
            <a:ext cx="19047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31B1-F8B3-4CC0-8E10-4659E945AEDF}" type="datetime">
              <a:rPr b="0" lang="pt-BR" sz="1400" spc="-1" strike="noStrike">
                <a:solidFill>
                  <a:srgbClr val="009999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095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8216-5AF2-4933-93BC-14C61316C400}" type="slidenum">
              <a:rPr b="0" lang="pt-B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drade@inf.ufsc.br" TargetMode="External"/><Relationship Id="rId2" Type="http://schemas.openxmlformats.org/officeDocument/2006/relationships/hyperlink" Target="http://www.inf.ufsc.br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stat.auckland.ac.nz/serj" TargetMode="External"/><Relationship Id="rId2" Type="http://schemas.openxmlformats.org/officeDocument/2006/relationships/hyperlink" Target="http://www.stat.auckland.ac.nz/serj" TargetMode="Externa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inep.gov.br/download/saeb/2004/" TargetMode="Externa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Medindo Altura com Questionário</a:t>
            </a:r>
            <a:r>
              <a:rPr b="1" lang="pt-BR" sz="60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alton F. Andrade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- INE/CTC/UFSC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dandrade@inf.ufsc.b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www.inf.ufsc.br/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9966"/>
                </a:solidFill>
                <a:latin typeface="Arial"/>
              </a:rPr>
              <a:t>~dandra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RBras/SEAGRO 2007 – Santa Maria,RS  26/07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92BA-AD26-4FA8-B315-1531C61826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Como medir ?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4. A partir de respostas dadas por indivíduos a um conjunto     de itens (prova, questionário) deseja-se :</a:t>
            </a:r>
            <a:r>
              <a:rPr b="0" lang="pt-BR" sz="25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5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estimar os parâmetros dos itens (calibração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estimar a “proficiência” do respondent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     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estimar a proficiência média de um grupo de respondente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5. A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 probabilidade de uma certa resposta a um item é modelada  como</a:t>
            </a:r>
            <a:r>
              <a:rPr b="0" lang="pt-BR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 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função da proficiência do aluno e de parâmetros que  expressam certas propriedades dos itens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006-BA1E-4F35-B224-AD3F187070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Como medir ?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6. Quanto maior a proficiência do respondente, maior a probabilidade de ele “acertar” o item (modelo acumulativo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i="1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obs: existem modelos não acumulativos (modelos de desdobramento) - propostos para medir atitu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7. Propriedade importante: os parâmetros dos itens e as proficiências dos indivíduos são invariantes,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exceto pela escolha de origem e escala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183-C577-44B4-AF7F-4059B2643B0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Teoria da Resposta ao Item -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94616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295280"/>
            <a:ext cx="81532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 Narrow"/>
              </a:rPr>
              <a:t>Modelos: dependem do tipo de item</a:t>
            </a:r>
            <a:br>
              <a:rPr sz="2800"/>
            </a:b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tens corrigidos como certo/errado: múltipla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scolha ou aberto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Modelo Logístico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(unidimensional) com 1 (Rasch), 2 ou 3 parâmetros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87280" y="4376880"/>
                <a:ext cx="6337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2C7-99CE-48D4-BB0F-468ACF03CE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               </a:t>
            </a: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Modelo Logístico de 3 parâmetro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1355760" y="19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32000" y="1341360"/>
          <a:ext cx="5500440" cy="31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5500440" cy="31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04156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4508640"/>
            <a:ext cx="773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a: discriminação ou inclinação do ite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b: dificuldade (medido na mesma métrica do traço latent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c: probabilidade de acerto para indiv. com baixa proficiênci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2CA-ABEF-4A94-A7E2-785F235300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Modelos -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2510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60680" y="2784600"/>
            <a:ext cx="474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944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2666880"/>
          <a:ext cx="6400800" cy="18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66880"/>
                    <a:ext cx="6400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7696080" cy="77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37040" y="56498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74880" y="1916280"/>
            <a:ext cx="679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6002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o Nominal: considera todas as categorias de 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resposta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B9A-2A78-4D78-9E4C-3E9760D537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 Narrow"/>
              </a:rPr>
              <a:t>        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4280" y="914400"/>
          <a:ext cx="640584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914400"/>
                    <a:ext cx="64058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D84-124E-42F3-A9D8-79E7288D27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Modelos -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2727360" y="2754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20600" y="2286000"/>
                <a:ext cx="6427800" cy="26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651040" y="49640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62320" y="5334120"/>
                <a:ext cx="33526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33520" y="1447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 Narrow"/>
              </a:rPr>
              <a:t>Modelo de Resposta Gradual: categorias ordinai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F69-A184-45C8-B852-FDFD46DBF0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52480" y="990720"/>
          <a:ext cx="586764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990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232-FCA7-4707-A0F4-B054451724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380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336699"/>
                </a:solidFill>
                <a:latin typeface="Times New Roman"/>
              </a:rPr>
              <a:t>Modelos - TRI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784872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Modelo de Crédito Parcial: Modelo de Resposta 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  Gradual com todos os itens com o mesmo parâmetro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  de discriminação </a:t>
            </a:r>
            <a:r>
              <a:rPr b="0" i="1" lang="pt-BR" sz="32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Modelo de Escala Gradual: Modelo de Resposta </a:t>
            </a:r>
            <a:br>
              <a:rPr sz="2800"/>
            </a:b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  Gradual com b</a:t>
            </a:r>
            <a:r>
              <a:rPr b="0" lang="pt-BR" sz="2800" spc="-1" strike="noStrike" baseline="-25000">
                <a:solidFill>
                  <a:srgbClr val="009999"/>
                </a:solidFill>
                <a:latin typeface="Times New Roman"/>
              </a:rPr>
              <a:t>is</a:t>
            </a: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 = b</a:t>
            </a:r>
            <a:r>
              <a:rPr b="0" lang="pt-BR" sz="28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 – d</a:t>
            </a:r>
            <a:r>
              <a:rPr b="0" lang="pt-BR" sz="2800" spc="-1" strike="noStrike" baseline="-25000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Times New Roman"/>
              </a:rPr>
              <a:t>Modelo de Grupos Múltiplos (várias populações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A42-1CB0-47EC-BEB6-9555AC7A87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Estimação na TRI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ndependência entre as respostas dos estudantes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ndependência entre as respostas dadas aos itens, para uma dada proficiência (local ou condicional)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Baker, F.B., Kim, S-H.(2004)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Item Response Theory: parameter estimation technique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 New Yook: Marcel Dekker, Inc. 2</a:t>
            </a:r>
            <a:r>
              <a:rPr b="0" lang="pt-BR" sz="2400" spc="-1" strike="noStrike" baseline="30000">
                <a:solidFill>
                  <a:srgbClr val="009999"/>
                </a:solidFill>
                <a:latin typeface="Arial"/>
              </a:rPr>
              <a:t>nd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Editio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D97-51FF-4564-B956-3F6988503D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Objetivo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83920"/>
            <a:ext cx="861048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Introdução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Apresentar os principais modelos e conceitos da TR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Aplicações em diferentes áreas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Potencial uso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E46-4F78-4771-A903-4C74DFBF377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Estimação n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Uma populaçã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áxima verossimilhança conjunta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onde U=(u</a:t>
            </a:r>
            <a:r>
              <a:rPr b="0" lang="pt-BR" sz="2400" spc="-1" strike="noStrike" baseline="-25000">
                <a:solidFill>
                  <a:srgbClr val="009999"/>
                </a:solidFill>
                <a:latin typeface="Arial"/>
              </a:rPr>
              <a:t>ij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) é a matriz das respostas (NxI) e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ξ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é o vector(qIx1) dos parâmetros dos itens. Para o modelo logístico de 3 parâmetros, q=3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39640" y="2637000"/>
                <a:ext cx="6624720" cy="23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∏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20D-01D1-40E9-A546-952FB16B8A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Estimação n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Máxima verossimilhança conjunt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Precisamos encontrar os valores de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ξ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que maximizam logL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Técnica Iterativa Newton-Raphso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Precisamos das derivadas parciais de 1a. e 2a. de logL com respeito a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e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ξ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Indeterminação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: existem diferentes valores de </a:t>
            </a:r>
            <a:r>
              <a:rPr b="0" i="1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e 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que fornecem o mesmo valor de  P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i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Uma solução: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’s com média 0 e desvio padrão 1, escala (0,1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0F3-F08D-4C5E-B073-4265787CB9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Estimação n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Máxima verossimilhança margina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idéia básica é “libertar” o processo de estimação dos parâmetros dos itens de sua dependência de 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asso 1: estimação dos parâmetros dos iten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asso 2: assumindo que as estimativas dos parâmetros dos itens são seus verdadeiros valores, estimamos os 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’s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344-203C-47EA-93A6-778185B62B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Estimação n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áxima verossimilhança margi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g(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|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η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) é a distribuição de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, com parâmetros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η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=(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,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. Em geral, consideramos a normal padrão (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=0 e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900000" y="1844640"/>
                <a:ext cx="5977080" cy="290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∮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</m:e>
                        </m:nary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ξ</m:t>
                            </m:r>
                            <m:r>
                              <m:t xml:space="preserve">,</m:t>
                            </m:r>
                            <m:r>
                              <m:t xml:space="preserve">η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AE2-5278-4269-9794-D1890C58C3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Estimação n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áxima verossimilhança margin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s estimativas  dos parâmetros dos itens são os valores de 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ξ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que maximizam L(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ξ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,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η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Algoritmo EM: U e 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são os dados completos, e U  é dado observado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Assumindo 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ξ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“conhecido”, voltamos para L(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ξ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,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) = L(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) e maximizamos para 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6CF-AB6D-4701-9571-4069FD006D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Estimação n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Estimação Bayesian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istribution a priori para a: Lognorm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istribution a priori para b: Norma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istribution a priori para c: Be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ornece estimativas para todos os itens com u=1 or u=0 para todos os respondentes. A estimação por máxima verossimilhança não fornec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O mesmo para todos os respondentes que reponderam u=1 or u=0 para todos os iten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87B-5163-492D-8406-CF064F65B3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Estimação n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uas ou mais populaçõ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aso 1: Estimação para cada população em separad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requer uma “equalização a posteriori” para termos todos os</a:t>
            </a:r>
            <a:br>
              <a:rPr sz="2400"/>
            </a:b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resultados na mesma escala (métrica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aso 2: Estimação envolvendo todas as populações ao mesmo temp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Enfoque de Grupos Múltiplo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: Estabelecemos uma das </a:t>
            </a:r>
            <a:br>
              <a:rPr sz="2400"/>
            </a:b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populações (grupos) como a referência, e obtemos todos os</a:t>
            </a:r>
            <a:br>
              <a:rPr sz="2400"/>
            </a:b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resultados na mesma escala. Por exemplo, estabelecemos a</a:t>
            </a:r>
            <a:br>
              <a:rPr sz="2400"/>
            </a:b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escala (0,1) para a população 1, e todos os resultados das</a:t>
            </a:r>
            <a:br>
              <a:rPr sz="2400"/>
            </a:b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outras populações estarão na mesma escal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385-595D-4091-ADFC-FD03430FD4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Arial Narrow"/>
              </a:rPr>
              <a:t>Modelo de Rasch como Modelo Hierárquico/Multinível (Raudenbush &amp; Bryk, 2004 – pág. 365)</a:t>
            </a:r>
            <a:endParaRPr b="1" lang="en-US" sz="3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Um teste(prova, questionário etc) com I itens(questões), cada item “corrigido” como certo (1) ou errado (0), respondido por J alun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pt-BR" sz="2400" spc="-1" strike="noStrike" baseline="-25000">
                <a:solidFill>
                  <a:srgbClr val="009999"/>
                </a:solidFill>
                <a:latin typeface="Arial"/>
              </a:rPr>
              <a:t>ij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: “resposta do aluno j ao item i (= 0 ou 1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84360" y="3429000"/>
                <a:ext cx="648144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com 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209-00FA-4899-9E7E-748DDCDCEEEE}" type="slidenum">
              <a:t>27</a:t>
            </a:fld>
          </a:p>
        </p:txBody>
      </p:sp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Arial Narrow"/>
              </a:rPr>
              <a:t>Modelo de Rasch como Modelo Hierárquico/Multinível</a:t>
            </a:r>
            <a:endParaRPr b="1" lang="en-US" sz="3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Nível 1.1: Modelo amostr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        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pt-BR" sz="2400" spc="-1" strike="noStrike" baseline="-25000">
                <a:solidFill>
                  <a:srgbClr val="009999"/>
                </a:solidFill>
                <a:latin typeface="Arial"/>
              </a:rPr>
              <a:t>ij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|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φ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 ~ Bernoulli(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φ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==&gt;  E(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pt-BR" sz="2400" spc="-1" strike="noStrike" baseline="-25000">
                <a:solidFill>
                  <a:srgbClr val="009999"/>
                </a:solidFill>
                <a:latin typeface="Arial"/>
              </a:rPr>
              <a:t>ij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|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φ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) =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φ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e  Var(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pt-BR" sz="2400" spc="-1" strike="noStrike" baseline="-25000">
                <a:solidFill>
                  <a:srgbClr val="009999"/>
                </a:solidFill>
                <a:latin typeface="Arial"/>
              </a:rPr>
              <a:t>ij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|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φ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) =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φ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(1-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φ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φ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i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: probabilidade do aluno j responder corretamente ao item 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Nível 1.2: Função de ligaçã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71640" y="4365720"/>
                <a:ext cx="187164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A31-7B18-4B0A-9530-01E939F6C393}" type="slidenum">
              <a:t>28</a:t>
            </a:fld>
          </a:p>
        </p:txBody>
      </p:sp>
    </p:spTree>
  </p:cSld>
  <p:transition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3757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Arial Narrow"/>
              </a:rPr>
              <a:t>Modelo de Rasch como Modelo Hierárquico/Multinível</a:t>
            </a:r>
            <a:endParaRPr b="1" lang="en-US" sz="3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84872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Nível 1.3: Modelo estrutur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onde,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π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0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é a proficiência do aluno j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i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é uma variável dummy, com valor 1 se a resposta do aluno j é para o item I e 0 caso contrári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ij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é a diferença em log-odds de uma resposta correta entre o item i e um item referência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979640" y="1773360"/>
                <a:ext cx="37447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272-5DDF-4D86-9FD5-E46FB03A3FD5}" type="slidenum">
              <a:t>29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Introdu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104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Criar escala para medir Traço Latente</a:t>
            </a:r>
            <a:r>
              <a:rPr b="1" lang="pt-BR" sz="1600" spc="-1" strike="noStrike">
                <a:solidFill>
                  <a:srgbClr val="009999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Grau de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satisfaçã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Grau de depressã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Nível de qualidade de vid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Proficiência em matemátic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Extensão do uso de estatística no mercado de trabalh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Índice de Intenção de Discriminação em relação às pessoas com HIV/AIDS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et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633-9F63-4F90-8E53-16A85BDE7FA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3757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Arial Narrow"/>
              </a:rPr>
              <a:t>Modelo de Rasch como Modelo Hierárquico/Multinível</a:t>
            </a:r>
            <a:endParaRPr b="1" lang="en-US" sz="3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84872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ível 2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π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Times New Roman"/>
                <a:ea typeface="Times New Roman"/>
              </a:rPr>
              <a:t>0j</a:t>
            </a:r>
            <a:r>
              <a:rPr b="0" lang="en-US" sz="2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= </a:t>
            </a:r>
            <a:r>
              <a:rPr b="0" lang="el-GR" sz="2700" spc="-1" strike="noStrike">
                <a:solidFill>
                  <a:srgbClr val="009999"/>
                </a:solidFill>
                <a:latin typeface="Arial"/>
                <a:ea typeface="Times New Roman"/>
              </a:rPr>
              <a:t>β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00</a:t>
            </a:r>
            <a:r>
              <a:rPr b="0" lang="en-US" sz="2700" spc="-1" strike="noStrike">
                <a:solidFill>
                  <a:srgbClr val="009999"/>
                </a:solidFill>
                <a:latin typeface="Arial"/>
                <a:ea typeface="Times New Roman"/>
              </a:rPr>
              <a:t> + u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0j</a:t>
            </a:r>
            <a:r>
              <a:rPr b="0" lang="en-US" sz="2700" spc="-1" strike="noStrike">
                <a:solidFill>
                  <a:srgbClr val="009999"/>
                </a:solidFill>
                <a:latin typeface="Arial"/>
                <a:ea typeface="Times New Roman"/>
              </a:rPr>
              <a:t> ,      u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0j</a:t>
            </a:r>
            <a:r>
              <a:rPr b="0" lang="en-US" sz="2700" spc="-1" strike="noStrike">
                <a:solidFill>
                  <a:srgbClr val="009999"/>
                </a:solidFill>
                <a:latin typeface="Arial"/>
                <a:ea typeface="Times New Roman"/>
              </a:rPr>
              <a:t>  ~ NID(0, </a:t>
            </a:r>
            <a:r>
              <a:rPr b="0" lang="el-GR" sz="2700" spc="-1" strike="noStrike">
                <a:solidFill>
                  <a:srgbClr val="009999"/>
                </a:solidFill>
                <a:latin typeface="Arial"/>
                <a:ea typeface="Arial"/>
              </a:rPr>
              <a:t>τ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00</a:t>
            </a:r>
            <a:r>
              <a:rPr b="0" lang="en-US" sz="2700" spc="-1" strike="noStrike">
                <a:solidFill>
                  <a:srgbClr val="009999"/>
                </a:solidFill>
                <a:latin typeface="Arial"/>
                <a:ea typeface="Arial"/>
              </a:rPr>
              <a:t>)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π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Times New Roman"/>
                <a:ea typeface="Times New Roman"/>
              </a:rPr>
              <a:t>ij</a:t>
            </a:r>
            <a:r>
              <a:rPr b="0" lang="en-US" sz="2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= </a:t>
            </a:r>
            <a:r>
              <a:rPr b="0" lang="el-GR" sz="2700" spc="-1" strike="noStrike">
                <a:solidFill>
                  <a:srgbClr val="009999"/>
                </a:solidFill>
                <a:latin typeface="Arial"/>
                <a:ea typeface="Times New Roman"/>
              </a:rPr>
              <a:t>β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i0</a:t>
            </a:r>
            <a:r>
              <a:rPr b="0" lang="en-US" sz="2700" spc="-1" strike="noStrike">
                <a:solidFill>
                  <a:srgbClr val="009999"/>
                </a:solidFill>
                <a:latin typeface="Arial"/>
                <a:ea typeface="Times New Roman"/>
              </a:rPr>
              <a:t> para i &gt; 0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9999"/>
                </a:solidFill>
                <a:latin typeface="Arial"/>
                <a:ea typeface="Arial"/>
              </a:rPr>
              <a:t>τ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00</a:t>
            </a:r>
            <a:r>
              <a:rPr b="0" lang="en-US" sz="2700" spc="-1" strike="noStrike">
                <a:solidFill>
                  <a:srgbClr val="009999"/>
                </a:solidFill>
                <a:latin typeface="Arial"/>
                <a:ea typeface="Arial"/>
              </a:rPr>
              <a:t> é a variância da população de proficiências 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9999"/>
                </a:solidFill>
                <a:latin typeface="Arial"/>
                <a:ea typeface="Times New Roman"/>
              </a:rPr>
              <a:t>β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00 </a:t>
            </a:r>
            <a:r>
              <a:rPr b="0" lang="en-US" sz="2700" spc="-1" strike="noStrike">
                <a:solidFill>
                  <a:srgbClr val="009999"/>
                </a:solidFill>
                <a:latin typeface="Arial"/>
                <a:ea typeface="Arial"/>
              </a:rPr>
              <a:t>é a média da população de proficiências 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9999"/>
                </a:solidFill>
                <a:latin typeface="Arial"/>
                <a:ea typeface="Times New Roman"/>
              </a:rPr>
              <a:t>β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i0 </a:t>
            </a:r>
            <a:r>
              <a:rPr b="0" lang="en-US" sz="2700" spc="-1" strike="noStrike">
                <a:solidFill>
                  <a:srgbClr val="009999"/>
                </a:solidFill>
                <a:latin typeface="Arial"/>
                <a:ea typeface="Arial"/>
              </a:rPr>
              <a:t>é a média das diferenças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A63-2FF2-4F0E-B50C-233D05698943}" type="slidenum">
              <a:t>30</a:t>
            </a:fld>
          </a:p>
        </p:txBody>
      </p:sp>
    </p:spTree>
  </p:cSld>
  <p:transition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37576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Arial Narrow"/>
              </a:rPr>
              <a:t>Modelo de Rasch como Modelo Hierárquico/Multinível</a:t>
            </a:r>
            <a:endParaRPr b="1" lang="en-US" sz="3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84872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mplicações do modelo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arâmetro do item 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pt-BR" sz="2800" spc="-1" strike="noStrike" baseline="-25000">
                <a:solidFill>
                  <a:srgbClr val="009999"/>
                </a:solidFill>
                <a:latin typeface="Arial"/>
              </a:rPr>
              <a:t>i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= 0 para o item referênci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= - 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i0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para os outros ite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Proficiência do aluno j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  </a:t>
            </a:r>
            <a:r>
              <a:rPr b="0" lang="el-GR" sz="28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j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= </a:t>
            </a:r>
            <a:r>
              <a:rPr b="0" lang="el-GR" sz="2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π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Times New Roman"/>
                <a:ea typeface="Times New Roman"/>
              </a:rPr>
              <a:t>0j</a:t>
            </a:r>
            <a:r>
              <a:rPr b="0" lang="en-US" sz="2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= </a:t>
            </a:r>
            <a:r>
              <a:rPr b="0" lang="el-GR" sz="2700" spc="-1" strike="noStrike">
                <a:solidFill>
                  <a:srgbClr val="009999"/>
                </a:solidFill>
                <a:latin typeface="Arial"/>
                <a:ea typeface="Times New Roman"/>
              </a:rPr>
              <a:t>β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00</a:t>
            </a:r>
            <a:r>
              <a:rPr b="0" lang="en-US" sz="2700" spc="-1" strike="noStrike">
                <a:solidFill>
                  <a:srgbClr val="009999"/>
                </a:solidFill>
                <a:latin typeface="Arial"/>
                <a:ea typeface="Times New Roman"/>
              </a:rPr>
              <a:t> + u</a:t>
            </a:r>
            <a:r>
              <a:rPr b="0" lang="en-US" sz="2700" spc="-1" strike="noStrike" baseline="-25000">
                <a:solidFill>
                  <a:srgbClr val="009999"/>
                </a:solidFill>
                <a:latin typeface="Arial"/>
                <a:ea typeface="Times New Roman"/>
              </a:rPr>
              <a:t>0j</a:t>
            </a:r>
            <a:r>
              <a:rPr b="0" lang="en-US" sz="27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ED1-3E79-4555-9086-88D7C5244EDD}" type="slidenum">
              <a:t>31</a:t>
            </a:fld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Aplicação: Altura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espostas dos indivíduos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xemplo: Medindo altur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Questionário com 14 itens (pergunta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odelo Logístico de dois parâmetros (c=0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rquivos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Questionário_alturaAplicado.doc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ltura.dat (identificação, resposta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Programa: BilogM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Resultados: Altura_Nova.x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28C-DF2A-4B89-B2F3-B6EBD5944A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64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AEB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522360"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Banco de Itens: itens calibrados na mesma escal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22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lvl="1" marL="522360" algn="just"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Estimativa dos rendimentos médios na mesma escala, para cada uma das disciplinas, para todas as séries e ao longo dos an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522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Klein,R. (2003).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 Utilização da Teoria de Resposta ao Item no Sistema Nacional de Avaliação da Educação Básica (SAEB).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Ensaio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: Avaliação e Políticas Públicas em Educação, Rio de Janeiro, v.11, n.40, p.283-296, 2003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0B3-96EC-4777-AF3B-D5702DFD2D9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7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55640" y="1341360"/>
          <a:ext cx="7488360" cy="438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8836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0EA-D2BA-4DB7-BDA8-35E1567FB2A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91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TRI – Outras Aplicações em Avaliação Educacional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PISA –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rogramme for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nternational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tudent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sessment (Programa Internacional de Avaliação de Aluno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- anos: 2000(Leitura), 2003(Matemática), 2006(Ciências)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- alunos com 15 anos (independente da séri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- itens de múltipla escolha e itens abertos (corrigidos 0,1,2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- modelo de 1 parâmetro (somente parâmetro b: dificuldad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- esquema BI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- 32 países em 2000 – OCDE + convidad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http://www.inep.gov.br/internacional/pisa/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618-9F42-4D97-80F7-5EB0D71456B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91400" cy="110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TRI – Outras Aplicações em Avaliação Educacional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úblicas: Estaduais/Municipa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ARESP (São Paulo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PAECE (Ceará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AEPE (Pernambuco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unicípio do Rio de Janeir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unicípio de São Paul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Privada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IMA: Sistema Marista de Avaliaçã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Fundação Bradesco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54D-1A24-49BC-A9DB-5CA84350CB2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91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ducação Estatístic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9999"/>
                </a:solidFill>
                <a:latin typeface="Arial"/>
                <a:ea typeface="Arial"/>
              </a:rPr>
              <a:t>θ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nsão do uso de estatística no local de trabalho.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Questionário com 46 técnicas estatísticas e métodos de pesquisa (itens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Harraway, J.A. and Barker, R.J. (2005). Statistics in the workplace: a survey of use by recent graduates with higher degrees. </a:t>
            </a: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Statistics Education Research Journal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, 4(2), 43-58, </a:t>
            </a:r>
            <a:r>
              <a:rPr b="0" lang="en-US" sz="20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www.stat.auckland.ac.nz/serj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Harraway, J.A., Andrade, D.F.(2006). An item response analysis of statistics use in the workplace. (</a:t>
            </a:r>
            <a:r>
              <a:rPr b="1" lang="pt-BR" sz="2000" spc="-1" strike="noStrike">
                <a:solidFill>
                  <a:srgbClr val="009999"/>
                </a:solidFill>
                <a:latin typeface="Arial"/>
              </a:rPr>
              <a:t>apresentado no ICOTS7, Salvador)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2D2-EA3E-4342-A516-DCD313B6E84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8375760" cy="96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77708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</a:rPr>
              <a:t>Educação Estatístic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71640" y="1700280"/>
          <a:ext cx="7345440" cy="48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00280"/>
                    <a:ext cx="73454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99A-B8B1-4F7E-A815-4B9148A9F60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6699"/>
                </a:solidFill>
                <a:latin typeface="Arial Narrow"/>
              </a:rPr>
              <a:t>Referências bibliográfica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Lord, F.M., Norvick, M.R. (1968)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Statistical Theories of Mental Test Score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. Reading: Addison-Wesle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Lord, F.M. (1980)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Applications of Item Response Theory to Practical Testing Problem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. Hillsdale: Lawrence Erlbaum Associ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Hambleton, R.K., Swaminathan, H., Rogers, H.J. (1991)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Fundamentals of Item Response Theory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. Newburry Park: Sage Publication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Andrade, D.F., Tavares, H.R., Cunha, R.V. (2000)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Teoria da Resposta ao Item: Conceitos e Aplicaçõe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. São Paulo: Associação Brasileira de Estatístic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414-0B97-49C8-8C8F-03115B9C8E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Introdu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83920"/>
            <a:ext cx="861048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9999"/>
                </a:solidFill>
                <a:latin typeface="Arial"/>
                <a:ea typeface="Times New Roman"/>
              </a:rPr>
              <a:t>Construção do instrumento de medida</a:t>
            </a:r>
            <a:r>
              <a:rPr b="1" lang="pt-BR" sz="3600" spc="-1" strike="noStrike">
                <a:solidFill>
                  <a:srgbClr val="009999"/>
                </a:solidFill>
                <a:latin typeface="Arial"/>
                <a:ea typeface="Times New Roman"/>
              </a:rPr>
              <a:t> 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Prova de matemátic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Inventário de Depressão de Beck - BDI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Outros exemplo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360-0158-4A7C-9052-463DCBAF905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304920"/>
            <a:ext cx="8231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37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ducação Médic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valiar o desempenho do aluno de curso de medicin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Prova realizada uma vez por ano por todos os alunos (1a.-6a.)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omissão de avaliação do curso de medicina da UEL, PR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akai, M., Mashima, D., Ferreira Filho, O.F., Matsuo, T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676-68AB-43B7-AF0F-007248D4FEB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304920"/>
            <a:ext cx="8231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Qualidade de Vid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esbah, M., Cole, B.F. and Lee, M.L.T.(2002). Ed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Statistical methods for quality of life studies: design, measurements and analysi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 Boston: Kluwer Academic Publisher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0E4-469D-4E41-85B4-62B2C75CB05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304920"/>
            <a:ext cx="8231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</a:rPr>
              <a:t>HIT (Headache Impact Test)</a:t>
            </a:r>
            <a:r>
              <a:rPr b="0" lang="pt-BR" sz="32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edir o impacto causado por dor de cabeça em diferentes situações (no trabalho, em casa e em ocasiões sociais)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are, J.E., Bjorner, J. B., Kosinski, M. (2000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.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Practical Implications of Item Response Theory and Computerized Adaptive Testing. A Brief Summary of Ongoing Studies of Widely Used Headache Impact Scales.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edical Care, v.38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ww.amihealthy.co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274-24CB-424A-BB0A-582FC210FAB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</a:rPr>
              <a:t>Medir o Grau de Satisfação do Consumidor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osta, M.B.F. (2001). Técnica derivada da teoria da resposta ao item aplicada ao setor de serviços.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Dissertação de Mestrado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– PPGMUE/UFP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ortolotti, S.L.V. (2003). Aplicação de um modelo de   desdobramento da teoria da resposta ao item – TRI.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Dissertação de Mestrado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. EPS/UFSC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ayley, S. (2001). Measuring customer satisfaction.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valuation Journal of Australasia, v. 1, no. 1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, 8-16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E55-5BE4-4CD1-9D35-460A2C10D1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</a:rPr>
              <a:t>Psiquiatria/Psicologi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Escalas psiquiátrica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Inventário de depressão de Beck (BDI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Escala de sintomas Depressivos (CES-D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Escala de rastreamento de dependência de sexo (ERD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chaeffer, N. C. (1988). An Application of Item Response to the Measurement of Depression.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9999"/>
                </a:solidFill>
                <a:latin typeface="Arial"/>
              </a:rPr>
              <a:t>Sociological Methodology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1" i="1" lang="pt-BR" sz="2400" spc="-1" strike="noStrike">
                <a:solidFill>
                  <a:srgbClr val="009999"/>
                </a:solidFill>
                <a:latin typeface="Arial"/>
              </a:rPr>
              <a:t>18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, 271–307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mbretson, S. E. and Reise, S. P. (2000).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Item response theory for psychologist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 New Jersey: Lawrence Erlbaum Associates, Inc., Publishers.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9FD-15F4-446B-B808-0BD883E85CC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Psiquiatria/Psicologi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leman, M. J., Matthysse, S., Levy, D. L., Cook, S., Lo, J. B. Y.,Rubin, D. B. and Holzman, P. S. (2002). Spatial and object working memory impairments in schizophrenia patients: a bayesian item-response theory analysis.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Journal of Abnormal Psychology, 111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umber 3,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425-435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Hays, R., Morales, L. S. e Reise, S. P. (2000). Item response theory and health outcomes measurement in the 21st century,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Medical Care, v.38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Kirisci, L., Hsu, T. C. e Tarter, R. (1994). Fitting a two-parameter logistic item response model to clarify the psychometric properties of the drug use screening inventory for adolescent alcohol and drug abusers,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Alcohol Clin. Exp. Res 18: 1335–1341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05C-0926-401A-BE84-2F64DE37D2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</a:rPr>
              <a:t>Psiquiatria/Psicologi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Langenbucher, J. W., Labouvie, E., Sanjuan, P. M., Bavly, L., Martin, C. S. e Kirisci, L. (2004). An application of item response theory analysis to alcohol, cannabis and cocaine criteria in DSM-IV,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Journal of Abnormal Psychology 113: 72–80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Yesavage JA, Brink TL Rose TL et al. (1983). Development and  validation of a geriatric depression screening scale: a preliminary report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J Psychiat Re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, 17:37-49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úri, M. (2006). Análise de questionários com itens constrange-dores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Tese de Doutorado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 IME/USP. São Paul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757-065B-4881-8CC9-A12210555B2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</a:rPr>
              <a:t>Nutrição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agnóstico de insegurança alimentar: Escala Brasileira de Medida de Segurança Alimentar - EBIA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fa. Ana Maria Segall Corrêa – Dep. Medicina Preventiva e Social – FCM/UNICAM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rke E. Wilde, Gerald J. and Dorothy R. Friedman (2004). Differential   Response Patterns Affect Food-Security Prevalence Estimates for Households with and without Children.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J. Nutr.134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: 1910–1915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BC0-A05A-449A-B005-F0BC6505EB1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</a:rPr>
              <a:t>Serviço Médico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Jishnu Das, Jeffrey Hammer (2005). Which doctor? Combining vignettes and item response to measure clinical competence.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Journal of Development Economics 78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, 348-383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</a:rPr>
              <a:t>Genétic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avares, H. R.; Andrade, D. F.; Pereira, C.A. (2004) Detection of determinant genes and diagnostic via item response theory.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Genetics and Molecular Biology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, v. 27, n. 4, p. 679-685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4FB-87C4-43EE-AB25-EFA1A55A1D2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23104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RI - Aplicaçã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9999"/>
                </a:solidFill>
                <a:latin typeface="Arial"/>
              </a:rPr>
              <a:t>Gestão pela Qualidade Total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lexandre,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J.W.C., Andrade, D.F., Vasconcelos, A.P. e Araújo, A.M.S.(2002). Uma proposta de análise de um construto para a medição dos fatores críticos da gestão pela qualidade através da teoria da resposta ao item.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Gestão &amp; Produção, v.9, n.2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,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p.129-14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90F-DE9A-458B-AE6F-7188C8AE059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Introdu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777440" cy="482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Construção do instrumento de medida</a:t>
            </a:r>
            <a:r>
              <a:rPr b="1" lang="pt-BR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Pesquisa sobre Comportamento Sexual e Percepçõ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da População Brasileira sobre HIV/AIDS. 1998-2005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Você acha que o teste de AIDS deveria ser obrigatório: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. para admissão no emprego?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. antes do casamento?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. antes de internações em hospitais?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. para as mulheres grávidas?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. para entrar nas Forças Armadas?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6. para usuários de drogas?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7. para os estrangeiros entrarem no país?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. para as prostitutas?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. para todas as pessoas?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383-EB28-4945-87BC-060C55C91C7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99"/>
                </a:solidFill>
                <a:latin typeface="Arial Narrow"/>
              </a:rPr>
              <a:t>Equaliza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esultados de diferentes provas em uma mesma escal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xemplo: SAEB (entre séries e ano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omo obter resultados comparáveis?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tens comuns entre séries e ano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Kolen, M.J., Brennan, R.L. (2004).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 Test Equating: Methods  and Practices (2nd ed.)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 New York: Springe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1A8-2AEF-48B2-8EB2-A0045DC0423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99"/>
                </a:solidFill>
                <a:latin typeface="Arial Narrow"/>
              </a:rPr>
              <a:t>Equaliza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alibração (estimação dos parâmetros dos itens) em separado para cada uma das populações envolvid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Equalização pelo princípio da invariância: a posterior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Exemplo: dados do SARESP (estado de São Paulo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3a. série 96 – 28 itens (abri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4a. série 97 – 30 itens (abri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3a. série 97 – 32 itens (novembro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11 itens comuns entre 3a. 96 e 3a. 97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21 itens comuns entre 4a. 96 e 3a. 97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CB9-DF36-4291-8AA4-E2FCFB35738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99"/>
                </a:solidFill>
                <a:latin typeface="Arial Narrow"/>
              </a:rPr>
              <a:t>Equaliza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xemplo: dados do SARES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9640" y="2060640"/>
          <a:ext cx="7777440" cy="33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60640"/>
                    <a:ext cx="7777440" cy="33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6DC-E72F-4E89-940F-B0645AD1590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99"/>
                </a:solidFill>
                <a:latin typeface="Arial Narrow"/>
              </a:rPr>
              <a:t>Equaliza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xemplo: dados do SARES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84360" y="2060640"/>
          <a:ext cx="7704000" cy="38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704000" cy="38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D94-2E60-4BFE-8CED-E18D822ABC4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9140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99"/>
                </a:solidFill>
                <a:latin typeface="Arial Narrow"/>
              </a:rPr>
              <a:t>Equaliza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alibração simultânea: Modelo dos Grupos Múltiplo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uestões: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- Número e distribuição de itens comun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- Como ¨posicionar¨ novos grupos em uma escala já construíd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- Avaliações Estaduais e outras: itens calibrados + itens novo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Andrade, D.F. (2001). Desempenhos de grupos de alunos por intermédio da teoria da resposta ao item. </a:t>
            </a:r>
            <a:r>
              <a:rPr b="1" lang="pt-BR" sz="2000" spc="-1" strike="noStrike">
                <a:solidFill>
                  <a:srgbClr val="009999"/>
                </a:solidFill>
                <a:latin typeface="Arial"/>
              </a:rPr>
              <a:t>Estudos em Avaliação Educacional, no. 23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, 31-70.</a:t>
            </a:r>
            <a:r>
              <a:rPr b="0" lang="pt-BR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71640" y="1844640"/>
                <a:ext cx="63990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948-FC26-43A8-8094-CB8C371286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9999"/>
                </a:solidFill>
                <a:latin typeface="Arial Narrow"/>
              </a:rPr>
              <a:t>Construindo e Interpretando Escala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813564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eaton, A.E., Allen, N.L. (1992). Interpreting scales through scale anchoring.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Journal of Educational Statistics, 17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, 191-204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alle, R.C. (2001). Construção e interpretação de escalas de conhecimento: um estudo de caso.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Estudos em Avaliação Educacional, no. 23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, 71-92.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724-5BFB-4752-811F-F760B361E73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9999"/>
                </a:solidFill>
                <a:latin typeface="Arial Narrow"/>
              </a:rPr>
              <a:t>Construindo e Interpretando Escala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704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scala Nacional de Proficiência – INEP/MEC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Régua (métrica) criada a partir dos resultados do SAE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- Média 250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(rendimento médio dos alunos da 8a. Série em 1997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- Desvio padrão 50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-  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www.inep.gov.br/download/saeb/2004/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resultados/BRASIL.pdf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285-8DB6-459C-9EEF-FA135F3377C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99"/>
                </a:solidFill>
                <a:latin typeface="Arial Narrow"/>
              </a:rPr>
              <a:t>Modelos mais recentes da TRI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odelos Longitudinais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pt-BR" sz="35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studantes são acompanhados ao longo do tempo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ndrade, D.F. Tavares, H.R. ( 2005). Item response theory for longitudinal data: population parameter estimation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Journal of Multivariate Analysis 95,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1– 22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Tavares, H.R., Andrade, D.F.(2006). Item response theory for longitudinal data; item and population ability parameters estimation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Test 15(1)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, 97-123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EC2-C556-4E26-A6DD-43F8E110331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99"/>
                </a:solidFill>
                <a:latin typeface="Arial Narrow"/>
              </a:rPr>
              <a:t>Exemplo Dados Longitudinai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nternational Project on Mathematical Attainment - IPMA   (Profa. Ednéia Consolin Poli – UEL)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68360" y="2133720"/>
            <a:ext cx="8152920" cy="3886200"/>
            <a:chOff x="468360" y="2133720"/>
            <a:chExt cx="8152920" cy="3886200"/>
          </a:xfrm>
        </p:grpSpPr>
        <p:grpSp>
          <p:nvGrpSpPr>
            <p:cNvPr id="307" name=""/>
            <p:cNvGrpSpPr/>
            <p:nvPr/>
          </p:nvGrpSpPr>
          <p:grpSpPr>
            <a:xfrm>
              <a:off x="474840" y="2137320"/>
              <a:ext cx="8138520" cy="3877560"/>
              <a:chOff x="474840" y="2137320"/>
              <a:chExt cx="8138520" cy="387756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474840" y="2137320"/>
                <a:ext cx="1786320" cy="1305720"/>
                <a:chOff x="474840" y="2137320"/>
                <a:chExt cx="1786320" cy="13057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70960" y="2137320"/>
                  <a:ext cx="159408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74840" y="2137320"/>
                  <a:ext cx="1786320" cy="13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261520" y="2137320"/>
                <a:ext cx="934920" cy="652680"/>
                <a:chOff x="2261520" y="2137320"/>
                <a:chExt cx="934920" cy="6526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357640" y="2137320"/>
                  <a:ext cx="74232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1999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61520" y="2137320"/>
                  <a:ext cx="93492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196800" y="2137320"/>
                <a:ext cx="1493280" cy="652680"/>
                <a:chOff x="3196800" y="2137320"/>
                <a:chExt cx="1493280" cy="6526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292560" y="2137320"/>
                  <a:ext cx="130176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000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196800" y="2137320"/>
                  <a:ext cx="149328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690800" y="2137320"/>
                <a:ext cx="1493640" cy="652680"/>
                <a:chOff x="4690800" y="2137320"/>
                <a:chExt cx="1493640" cy="6526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786920" y="2137320"/>
                  <a:ext cx="130104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001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690800" y="2137320"/>
                  <a:ext cx="149364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85160" y="2137320"/>
                <a:ext cx="1493640" cy="652680"/>
                <a:chOff x="6185160" y="2137320"/>
                <a:chExt cx="1493640" cy="6526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281280" y="2137320"/>
                  <a:ext cx="130104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002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85160" y="2137320"/>
                  <a:ext cx="149364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679160" y="2137320"/>
                <a:ext cx="934200" cy="652680"/>
                <a:chOff x="7679160" y="2137320"/>
                <a:chExt cx="934200" cy="6526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774920" y="2137320"/>
                  <a:ext cx="74196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003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679160" y="2137320"/>
                  <a:ext cx="93420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2261520" y="2790000"/>
                <a:ext cx="934920" cy="652680"/>
                <a:chOff x="2261520" y="2790000"/>
                <a:chExt cx="934920" cy="6526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357640" y="2790000"/>
                  <a:ext cx="74232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G1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1ª.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61520" y="2790000"/>
                  <a:ext cx="93492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3196800" y="2790000"/>
                <a:ext cx="745920" cy="652680"/>
                <a:chOff x="3196800" y="2790000"/>
                <a:chExt cx="745920" cy="652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292560" y="2790000"/>
                  <a:ext cx="55440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G1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ª.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196800" y="2790000"/>
                  <a:ext cx="74592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3943440" y="2790000"/>
                <a:ext cx="746640" cy="652680"/>
                <a:chOff x="3943440" y="2790000"/>
                <a:chExt cx="746640" cy="6526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039560" y="2790000"/>
                  <a:ext cx="55440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G2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1ª.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943440" y="2790000"/>
                  <a:ext cx="74664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690800" y="2790000"/>
                <a:ext cx="746640" cy="652680"/>
                <a:chOff x="4690800" y="2790000"/>
                <a:chExt cx="746640" cy="652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786920" y="2790000"/>
                  <a:ext cx="55440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G1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3ª.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690800" y="2790000"/>
                  <a:ext cx="74664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37800" y="2790000"/>
                <a:ext cx="746640" cy="652680"/>
                <a:chOff x="5437800" y="2790000"/>
                <a:chExt cx="746640" cy="6526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533920" y="2790000"/>
                  <a:ext cx="55404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G2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ª.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437800" y="2790000"/>
                  <a:ext cx="74664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6185160" y="2790000"/>
                <a:ext cx="746640" cy="652680"/>
                <a:chOff x="6185160" y="2790000"/>
                <a:chExt cx="746640" cy="6526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281280" y="2790000"/>
                  <a:ext cx="55404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G1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4ª.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185160" y="2790000"/>
                  <a:ext cx="74664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932160" y="2790000"/>
                <a:ext cx="746640" cy="652680"/>
                <a:chOff x="6932160" y="2790000"/>
                <a:chExt cx="746640" cy="6526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7027920" y="2790000"/>
                  <a:ext cx="55440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G2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3ª.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932160" y="2790000"/>
                  <a:ext cx="74664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679160" y="2790000"/>
                <a:ext cx="934200" cy="652680"/>
                <a:chOff x="7679160" y="2790000"/>
                <a:chExt cx="934200" cy="6526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774920" y="2790000"/>
                  <a:ext cx="741960" cy="6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G2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4ª.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679160" y="2790000"/>
                  <a:ext cx="934200" cy="652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74840" y="3443040"/>
                <a:ext cx="1786320" cy="514440"/>
                <a:chOff x="474840" y="3443040"/>
                <a:chExt cx="1786320" cy="5144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70960" y="3443040"/>
                  <a:ext cx="159408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Professores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74840" y="3443040"/>
                  <a:ext cx="178632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261520" y="3443040"/>
                <a:ext cx="934920" cy="514440"/>
                <a:chOff x="2261520" y="3443040"/>
                <a:chExt cx="934920" cy="5144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357640" y="3443040"/>
                  <a:ext cx="74232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2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261520" y="3443040"/>
                  <a:ext cx="93492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3196800" y="3443040"/>
                <a:ext cx="745920" cy="514440"/>
                <a:chOff x="3196800" y="3443040"/>
                <a:chExt cx="745920" cy="5144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3292560" y="3443040"/>
                  <a:ext cx="55440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2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196800" y="3443040"/>
                  <a:ext cx="74592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943440" y="3443040"/>
                <a:ext cx="746640" cy="514440"/>
                <a:chOff x="3943440" y="3443040"/>
                <a:chExt cx="746640" cy="5144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039560" y="3443040"/>
                  <a:ext cx="55440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2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943440" y="3443040"/>
                  <a:ext cx="74664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690800" y="3443040"/>
                <a:ext cx="746640" cy="514440"/>
                <a:chOff x="4690800" y="3443040"/>
                <a:chExt cx="746640" cy="5144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786920" y="3443040"/>
                  <a:ext cx="55440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0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690800" y="3443040"/>
                  <a:ext cx="74664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437800" y="3443040"/>
                <a:ext cx="746640" cy="514440"/>
                <a:chOff x="5437800" y="3443040"/>
                <a:chExt cx="746640" cy="5144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533920" y="3443040"/>
                  <a:ext cx="55404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18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437800" y="3443040"/>
                  <a:ext cx="74664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85160" y="3443040"/>
                <a:ext cx="746640" cy="514440"/>
                <a:chOff x="6185160" y="3443040"/>
                <a:chExt cx="746640" cy="5144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281280" y="3443040"/>
                  <a:ext cx="55404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4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85160" y="3443040"/>
                  <a:ext cx="74664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6932160" y="3443040"/>
                <a:ext cx="746640" cy="514440"/>
                <a:chOff x="6932160" y="3443040"/>
                <a:chExt cx="746640" cy="5144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027920" y="3443040"/>
                  <a:ext cx="55440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16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932160" y="3443040"/>
                  <a:ext cx="74664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7679160" y="3443040"/>
                <a:ext cx="934200" cy="514440"/>
                <a:chOff x="7679160" y="3443040"/>
                <a:chExt cx="934200" cy="5144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7774920" y="3443040"/>
                  <a:ext cx="74196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17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679160" y="3443040"/>
                  <a:ext cx="93420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74840" y="3957480"/>
                <a:ext cx="1786320" cy="514080"/>
                <a:chOff x="474840" y="3957480"/>
                <a:chExt cx="1786320" cy="5140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70960" y="3957480"/>
                  <a:ext cx="159408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Alunos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74840" y="3957480"/>
                  <a:ext cx="178632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2261520" y="3957480"/>
                <a:ext cx="934920" cy="514080"/>
                <a:chOff x="2261520" y="3957480"/>
                <a:chExt cx="934920" cy="5140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357640" y="3957480"/>
                  <a:ext cx="74232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568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261520" y="3957480"/>
                  <a:ext cx="93492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196800" y="3957480"/>
                <a:ext cx="745920" cy="514080"/>
                <a:chOff x="3196800" y="3957480"/>
                <a:chExt cx="745920" cy="5140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3292560" y="395748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557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3196800" y="3957480"/>
                  <a:ext cx="74592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943440" y="3957480"/>
                <a:ext cx="746640" cy="514080"/>
                <a:chOff x="3943440" y="3957480"/>
                <a:chExt cx="746640" cy="5140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4039560" y="395748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512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943440" y="395748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4690800" y="3957480"/>
                <a:ext cx="746640" cy="514080"/>
                <a:chOff x="4690800" y="3957480"/>
                <a:chExt cx="746640" cy="5140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786920" y="395748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395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690800" y="395748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437800" y="3957480"/>
                <a:ext cx="746640" cy="514080"/>
                <a:chOff x="5437800" y="3957480"/>
                <a:chExt cx="746640" cy="5140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533920" y="3957480"/>
                  <a:ext cx="55404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309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437800" y="395748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6185160" y="3957480"/>
                <a:ext cx="746640" cy="514080"/>
                <a:chOff x="6185160" y="3957480"/>
                <a:chExt cx="746640" cy="51408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281280" y="3957480"/>
                  <a:ext cx="55404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307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185160" y="395748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6932160" y="3957480"/>
                <a:ext cx="746640" cy="514080"/>
                <a:chOff x="6932160" y="3957480"/>
                <a:chExt cx="746640" cy="5140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027920" y="395748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82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932160" y="395748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7679160" y="3957480"/>
                <a:ext cx="934200" cy="514080"/>
                <a:chOff x="7679160" y="3957480"/>
                <a:chExt cx="934200" cy="5140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774920" y="3957480"/>
                  <a:ext cx="74196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70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79160" y="3957480"/>
                  <a:ext cx="93420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74840" y="4471920"/>
                <a:ext cx="1786320" cy="514080"/>
                <a:chOff x="474840" y="4471920"/>
                <a:chExt cx="1786320" cy="5140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570960" y="4471920"/>
                  <a:ext cx="159408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Escolas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74840" y="4471920"/>
                  <a:ext cx="178632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2261520" y="4471920"/>
                <a:ext cx="934920" cy="514080"/>
                <a:chOff x="2261520" y="4471920"/>
                <a:chExt cx="934920" cy="51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2357640" y="4471920"/>
                  <a:ext cx="74232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61520" y="4471920"/>
                  <a:ext cx="93492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3196800" y="4471920"/>
                <a:ext cx="745920" cy="514080"/>
                <a:chOff x="3196800" y="4471920"/>
                <a:chExt cx="745920" cy="5140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3292560" y="447192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196800" y="4471920"/>
                  <a:ext cx="74592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943440" y="4471920"/>
                <a:ext cx="746640" cy="514080"/>
                <a:chOff x="3943440" y="4471920"/>
                <a:chExt cx="746640" cy="51408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039560" y="447192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3440" y="447192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4690800" y="4471920"/>
                <a:ext cx="746640" cy="514080"/>
                <a:chOff x="4690800" y="4471920"/>
                <a:chExt cx="746640" cy="5140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4786920" y="447192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90800" y="447192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437800" y="4471920"/>
                <a:ext cx="746640" cy="514080"/>
                <a:chOff x="5437800" y="4471920"/>
                <a:chExt cx="746640" cy="5140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533920" y="4471920"/>
                  <a:ext cx="55404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437800" y="447192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185160" y="4471920"/>
                <a:ext cx="746640" cy="514080"/>
                <a:chOff x="6185160" y="4471920"/>
                <a:chExt cx="746640" cy="5140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281280" y="4471920"/>
                  <a:ext cx="55404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8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185160" y="447192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6932160" y="4471920"/>
                <a:ext cx="746640" cy="514080"/>
                <a:chOff x="6932160" y="4471920"/>
                <a:chExt cx="746640" cy="5140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027920" y="447192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932160" y="447192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7679160" y="4471920"/>
                <a:ext cx="934200" cy="514080"/>
                <a:chOff x="7679160" y="4471920"/>
                <a:chExt cx="934200" cy="5140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7774920" y="4471920"/>
                  <a:ext cx="74196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679160" y="4471920"/>
                  <a:ext cx="93420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74840" y="4986360"/>
                <a:ext cx="1786320" cy="514440"/>
                <a:chOff x="474840" y="4986360"/>
                <a:chExt cx="1786320" cy="5144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70960" y="4986360"/>
                  <a:ext cx="159408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No. de itens 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74840" y="4986360"/>
                  <a:ext cx="178632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2261520" y="4986360"/>
                <a:ext cx="934920" cy="514440"/>
                <a:chOff x="2261520" y="4986360"/>
                <a:chExt cx="934920" cy="5144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357640" y="4986360"/>
                  <a:ext cx="74232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0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261520" y="4986360"/>
                  <a:ext cx="93492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3196800" y="4986360"/>
                <a:ext cx="745920" cy="514440"/>
                <a:chOff x="3196800" y="4986360"/>
                <a:chExt cx="745920" cy="5144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292560" y="4986360"/>
                  <a:ext cx="55440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40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196800" y="4986360"/>
                  <a:ext cx="74592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3943440" y="4986360"/>
                <a:ext cx="746640" cy="514440"/>
                <a:chOff x="3943440" y="4986360"/>
                <a:chExt cx="746640" cy="5144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4039560" y="4986360"/>
                  <a:ext cx="55440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20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943440" y="4986360"/>
                  <a:ext cx="74664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4690800" y="4986360"/>
                <a:ext cx="746640" cy="514440"/>
                <a:chOff x="4690800" y="4986360"/>
                <a:chExt cx="746640" cy="5144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4786920" y="4986360"/>
                  <a:ext cx="55440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60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690800" y="4986360"/>
                  <a:ext cx="74664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5437800" y="4986360"/>
                <a:ext cx="746640" cy="514440"/>
                <a:chOff x="5437800" y="4986360"/>
                <a:chExt cx="746640" cy="5144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533920" y="4986360"/>
                  <a:ext cx="55404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40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37800" y="4986360"/>
                  <a:ext cx="74664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185160" y="4986360"/>
                <a:ext cx="746640" cy="514440"/>
                <a:chOff x="6185160" y="4986360"/>
                <a:chExt cx="746640" cy="5144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281280" y="4986360"/>
                  <a:ext cx="55404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80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185160" y="4986360"/>
                  <a:ext cx="74664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6932160" y="4986360"/>
                <a:ext cx="746640" cy="514440"/>
                <a:chOff x="6932160" y="4986360"/>
                <a:chExt cx="746640" cy="5144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7027920" y="4986360"/>
                  <a:ext cx="55440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60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932160" y="4986360"/>
                  <a:ext cx="74664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7679160" y="4986360"/>
                <a:ext cx="934200" cy="514440"/>
                <a:chOff x="7679160" y="4986360"/>
                <a:chExt cx="934200" cy="5144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7774920" y="4986360"/>
                  <a:ext cx="74196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80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679160" y="4986360"/>
                  <a:ext cx="934200" cy="51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74840" y="5500800"/>
                <a:ext cx="1786320" cy="514080"/>
                <a:chOff x="474840" y="5500800"/>
                <a:chExt cx="1786320" cy="5140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570960" y="5500800"/>
                  <a:ext cx="159408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Fatores Assoc.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74840" y="5500800"/>
                  <a:ext cx="178632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2261520" y="5500800"/>
                <a:ext cx="934920" cy="514080"/>
                <a:chOff x="2261520" y="5500800"/>
                <a:chExt cx="934920" cy="51408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2357640" y="5500800"/>
                  <a:ext cx="74232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261520" y="5500800"/>
                  <a:ext cx="93492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3196800" y="5500800"/>
                <a:ext cx="745920" cy="514080"/>
                <a:chOff x="3196800" y="5500800"/>
                <a:chExt cx="745920" cy="5140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3292560" y="550080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196800" y="5500800"/>
                  <a:ext cx="74592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3943440" y="5500800"/>
                <a:ext cx="746640" cy="514080"/>
                <a:chOff x="3943440" y="5500800"/>
                <a:chExt cx="746640" cy="5140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4039560" y="550080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943440" y="550080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4690800" y="5500800"/>
                <a:ext cx="746640" cy="514080"/>
                <a:chOff x="4690800" y="5500800"/>
                <a:chExt cx="746640" cy="5140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786920" y="550080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690800" y="550080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437800" y="5500800"/>
                <a:ext cx="746640" cy="514080"/>
                <a:chOff x="5437800" y="5500800"/>
                <a:chExt cx="746640" cy="5140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533920" y="5500800"/>
                  <a:ext cx="55404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37800" y="550080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185160" y="5500800"/>
                <a:ext cx="746640" cy="514080"/>
                <a:chOff x="6185160" y="5500800"/>
                <a:chExt cx="746640" cy="5140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281280" y="5500800"/>
                  <a:ext cx="55404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sim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185160" y="550080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6932160" y="5500800"/>
                <a:ext cx="746640" cy="514080"/>
                <a:chOff x="6932160" y="5500800"/>
                <a:chExt cx="746640" cy="514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027920" y="5500800"/>
                  <a:ext cx="55440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-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932160" y="5500800"/>
                  <a:ext cx="74664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679160" y="5500800"/>
                <a:ext cx="934200" cy="514080"/>
                <a:chOff x="7679160" y="5500800"/>
                <a:chExt cx="934200" cy="5140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7774920" y="5500800"/>
                  <a:ext cx="741960" cy="51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100" spc="-1" strike="noStrike">
                      <a:solidFill>
                        <a:srgbClr val="009999"/>
                      </a:solidFill>
                      <a:latin typeface="Verdana"/>
                      <a:ea typeface="Times New Roman"/>
                    </a:rPr>
                    <a:t>sim</a:t>
                  </a: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679160" y="5500800"/>
                  <a:ext cx="934200" cy="51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5" name=""/>
            <p:cNvSpPr/>
            <p:nvPr/>
          </p:nvSpPr>
          <p:spPr>
            <a:xfrm>
              <a:off x="468360" y="2133720"/>
              <a:ext cx="815292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B34-E60B-49F0-A386-06580FD4CD5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99"/>
                </a:solidFill>
                <a:latin typeface="Arial Narrow"/>
              </a:rPr>
              <a:t>Modelos mais recentes d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ando a Proficiência Média: curva de cresciment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n-US" sz="35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n-US" sz="35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n-US" sz="35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el-GR" sz="3500" spc="-1" strike="noStrike">
                <a:solidFill>
                  <a:srgbClr val="009999"/>
                </a:solidFill>
                <a:latin typeface="Arial"/>
                <a:ea typeface="Arial"/>
              </a:rPr>
              <a:t>μ</a:t>
            </a:r>
            <a:r>
              <a:rPr b="0" lang="en-US" sz="35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k</a:t>
            </a:r>
            <a:r>
              <a:rPr b="0" lang="en-US" sz="3500" spc="-1" strike="noStrike">
                <a:solidFill>
                  <a:srgbClr val="009999"/>
                </a:solidFill>
                <a:latin typeface="Arial"/>
                <a:ea typeface="Arial"/>
              </a:rPr>
              <a:t> = f(t</a:t>
            </a:r>
            <a:r>
              <a:rPr b="0" lang="en-US" sz="3500" spc="-1" strike="noStrike" baseline="-25000">
                <a:solidFill>
                  <a:srgbClr val="009999"/>
                </a:solidFill>
                <a:latin typeface="Arial"/>
                <a:ea typeface="Arial"/>
              </a:rPr>
              <a:t>k</a:t>
            </a:r>
            <a:r>
              <a:rPr b="0" lang="en-US" sz="3500" spc="-1" strike="noStrike">
                <a:solidFill>
                  <a:srgbClr val="009999"/>
                </a:solidFill>
                <a:latin typeface="Arial"/>
                <a:ea typeface="Arial"/>
              </a:rPr>
              <a:t>,</a:t>
            </a:r>
            <a:r>
              <a:rPr b="1" lang="el-GR" sz="3500" spc="-1" strike="noStrike">
                <a:solidFill>
                  <a:srgbClr val="009999"/>
                </a:solidFill>
                <a:latin typeface="Arial"/>
                <a:ea typeface="Arial"/>
              </a:rPr>
              <a:t>α</a:t>
            </a:r>
            <a:r>
              <a:rPr b="0" lang="en-US" sz="3500" spc="-1" strike="noStrike">
                <a:solidFill>
                  <a:srgbClr val="009999"/>
                </a:solidFill>
                <a:latin typeface="Arial"/>
                <a:ea typeface="Arial"/>
              </a:rPr>
              <a:t>)</a:t>
            </a:r>
            <a:endParaRPr b="0" lang="en-US" sz="35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Tavares, H.R., Andrade, D.F.(2005). Growth curve models for longitudinal item response data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Presented at AERA2005 in Montreal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8DC-C5AC-4570-B6AF-3DC658DB5F4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Introdu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777440" cy="482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Construção do instrumento de medida</a:t>
            </a:r>
            <a:r>
              <a:rPr b="1" lang="pt-BR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Questionário para medir altura: alguns iten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1. Na cama, eu frequentemente sinto frio nos pé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2. Eu frequentemente desço as escadas de dois em dois degrau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3. Eu acho que me daria bem em um time de basquete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4. Como policial, eu impressionaria muito.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5. Na maioria dos carros eu me sinto desconfortável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6. Eu literalmente olho para meus colegas de cima para baixo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E08-CF79-4EF7-9A92-B2623F5D92F5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99"/>
                </a:solidFill>
                <a:latin typeface="Arial Narrow"/>
              </a:rPr>
              <a:t>Modelos mais recentes d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odelos de Desdobrament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ão modelos não acumulativ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ão bastante utilizados em estudos de atitud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Roberts, J. S., Laughlin, J. E. A.(1996) Unidimensional item response model for unfolding responses from a graded disagree-agree response scale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. Applied Psychological Measurement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, 20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, p. 231-255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Roberts, J. S., Donoghue, J.R., Laughlin, J. E.(2000) A general model for unfolding Unidimensional polychromous responses using item response theory.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Applied Psychological Measurement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, 24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, p. 3-32.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Roberts, J. S., LIN, Y., Laughlin, J. E.(2001) Computerized adaptive testing with the generalized graded unfolding model.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Applied Psychological Measurement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, 25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, p. 177-196.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55D-C951-41B2-A49F-FCE096B78A3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99"/>
                </a:solidFill>
                <a:latin typeface="Arial Narrow"/>
              </a:rPr>
              <a:t>Outros Modelos d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odelos Multidimensionais: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ais de uma dimensão para representar o traço latent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islevy, R.J. (1986). Recent development in the factor analysis of categorical data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Journal of Educational Statistics, 11,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3-31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Wood, R., Wilson, D., Gibbons, R., Schilling, S., Muraki, E., Bock, D. (2003)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Testfact 4: Test Scoring, Item Statistics and Item Factor Analysi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 Chicago: scientific Software, Inc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91A-9EB7-410B-BFCF-3A186910496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99"/>
                </a:solidFill>
                <a:latin typeface="Arial Narrow"/>
              </a:rPr>
              <a:t>Outros Modelos d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odelos Multidimensionais: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ais de uma dimensão para representar o traço latent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Reckase, M. D. (1997). A linear logistic multidimensional model for dichotomous item response data. In W. J. Linden &amp; R. K. Hambleton (Eds.), </a:t>
            </a: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Handbook of modern item response theory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(pp. 271-286). New York: Springer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Nojosa, R. T. (2001). Modelos Multidimensionais para a Teoria da Resposta ao Item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Dissertação de Mestrado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 Departamento de Estatística. Universidade Federal de Pernambuc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F7C-2F08-4F1C-9A8B-E5B80255A72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3364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796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6699"/>
                </a:solidFill>
                <a:latin typeface="Arial Narrow"/>
              </a:rPr>
              <a:t>Outros Modelos da TRI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odelos Multivariados: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mais de um traço latente para o mesmo aluno: matemática e português.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atos, G. S. (2001). Teoria da Resposta ao Item: Uma Proposta de Modelo Multivariado.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Dissertação de Mestrado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. Departamento de Estatística. Universidade Federal de Pernambuc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Exemplo: Projeto FUNDESCOLA / INEP-MEC      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lunos de 4a. série (1999) acompanhados até a 8a. série (2003) - Longitudin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Disciplinas: matemática e Português - Bivariad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Dados Incompletos: alunos podem sair e entra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5C9-3DBA-4844-B246-6797201CEA4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4470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010000"/>
                </a:solidFill>
                <a:latin typeface="Arial Narrow"/>
                <a:ea typeface="Arial"/>
              </a:rPr>
              <a:t> </a:t>
            </a: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Introdução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Construção do instrumento de medid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Arial"/>
              </a:rPr>
              <a:t>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Arial"/>
              </a:rPr>
              <a:t>SAEB – Avaliação da Educação Básic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Avaliar o sistema de ensin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Séries terminais (4a./8a. EF + 3a. EM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Várias disciplinas (Português, Matemática, ...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edir a proficiência do alun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plicado nos anos ímpares (1995, 1997, ..., 2007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companhamento longitudin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82E-9D70-440E-8501-A59A3181A9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Como medir ?</a:t>
            </a:r>
            <a:r>
              <a:rPr b="1" lang="pt-BR" sz="54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Arial"/>
              </a:rPr>
              <a:t>Teoria Clássica de Medida - TCM: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1. Resultados dependem do particular conjunto de questões que compõem a prova (questionário) e dos indivíduos que a fizeram, ou seja, as análises e interpretações estão sempre associadas à prova como um todo e ao grupo de indivíduos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2.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omparação entre indivíduos ou grupos de indivíduos somente é possível quando eles são submetidos às mesmas provas ou, pelo menos, ao que se denomina de provas paralelas, quase sempre difíceis de serem construídas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A89-B820-4101-830D-DB0998D156B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Como medir ?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  <a:ea typeface="Times New Roman"/>
              </a:rPr>
              <a:t>Teoria da Resposta ao Item – TRI: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1.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Arial"/>
              </a:rPr>
              <a:t>Muda o foco de análise da prova (questionário) como um todo para a análise de cada item (questão)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2. Conjunto de modelos matemáticos que relacionam um ou mais traços latentes (não observados) de um indivíduo com a probabilidade deste dar uma certa resposta a um ite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3. Traço latente: habilidade/proficiência em Matemática, Português, grau de depressão etc ..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B3B-EDFF-4C05-8C38-482F823D9D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do</cp:lastModifiedBy>
  <dcterms:modified xsi:type="dcterms:W3CDTF">2007-07-26T01:01:29Z</dcterms:modified>
  <cp:revision>220</cp:revision>
  <dc:subject/>
  <dc:title>Apresentação do PowerPoint</dc:title>
</cp:coreProperties>
</file>