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D67-9B9E-40F1-816B-095F72BA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EC1-0BFA-4A58-A0B0-D1F63EB9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83B-61CA-4EF5-B56F-99BE3A4B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F3C-68DD-447C-B83C-B8F66BED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090-3E7D-4443-AED6-2B657492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ABF-4A72-40E5-A29C-60D828BD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8DD-1E5E-432A-814A-56327FFF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488-0A4B-4BA0-BF2B-F2137870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826-BBB4-4D80-853D-57213783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58D-8117-41C5-A218-9DCB0B68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0A4-C0D2-40EC-B20A-CD8337D8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2AB-DA42-41F0-B879-AF93FE92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1B75-99D9-4E7E-B679-0CCD0691F9B8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31320" y="1440"/>
            <a:ext cx="177768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5120" y="3885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resentação baseada no livro “Análise gerencial de custos: aplicação em empresas modernas”, de Antonio Cezar B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Empresa Moder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o Ambiente Competi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57440" y="3428640"/>
            <a:ext cx="4267080" cy="26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a Ec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rta &gt; Proc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6640" y="2895480"/>
          <a:ext cx="4192560" cy="30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2895480"/>
                    <a:ext cx="419256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496040" cy="405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ção acir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ços ditados pelo mer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tividade e Qualid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05520" y="3429000"/>
          <a:ext cx="460512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429000"/>
                    <a:ext cx="46051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resas Modernas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6781680" cy="318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horia Contínua e Eliminação de Desperdí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es de Produção Peque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xos Esto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xo Contínuo de Materi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dade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543800" y="2895480"/>
          <a:ext cx="189540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895480"/>
                    <a:ext cx="18954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balho x Desperd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817640"/>
            <a:ext cx="89154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o Efetivo - valor real adicio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o Adicional - valor empresarial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adicio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perdício - sem valor adicio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balho x Desperd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19320" y="2517840"/>
          <a:ext cx="5333760" cy="38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7840"/>
                    <a:ext cx="533376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4711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perdícios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(7 Perd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647960" cy="38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produ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tos defeituo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teria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4120" y="2971800"/>
          <a:ext cx="45720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971800"/>
                    <a:ext cx="4572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4T21:02:30Z</dcterms:created>
  <dc:creator>Adrian C. Ferreira</dc:creator>
  <dc:description/>
  <dc:language>en-US</dc:language>
  <cp:lastModifiedBy>Cezar</cp:lastModifiedBy>
  <dcterms:modified xsi:type="dcterms:W3CDTF">2009-03-13T13:21:45Z</dcterms:modified>
  <cp:revision>53</cp:revision>
  <dc:subject/>
  <dc:title>No Slide Title</dc:title>
</cp:coreProperties>
</file>