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23E6-2862-431E-950B-C8BC6FC3F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B6EB-D5D9-4F3D-8A8C-1DA7F606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A11C-1510-477F-8F16-4C11B8A2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5E1D-1218-4495-8CB2-21C287D66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8A1B-9147-451C-ABD3-E67EE1B4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8AB2-7CD9-4E86-BCE8-924EC783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08B5-F536-44C3-943D-C045F193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08CB-9068-44B0-90FD-31DF9DF5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FA1E-CC9D-4AC0-8011-09D39B7C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7BD4-A93C-4E73-BA86-A1CB678E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0A6D-555A-4D81-9E3D-5FD7C2F4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CFE2-131C-47E3-89AD-48E65872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4458-3F4F-4848-8244-A7F807933B9D}" type="slidenum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28080" y="1440"/>
            <a:ext cx="1778040" cy="237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0840" y="3715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presentação baseada no livro “Análise gerencial de custos: aplicação em empresas modernas”, de Antonio Cezar Bor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eio Variável (Diret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123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 custos fixo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ã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ão alocados aos produ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tivo gerencial. Apoio a tomadas de decisões de curto praz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99920" y="115560"/>
            <a:ext cx="6421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- custeio variá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1756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ção: 80.000 un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s fixos: $1.000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s variáveis: $ 400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$ 5,00 / un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.000.000            do perí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5562720"/>
            <a:ext cx="106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971800" y="3733920"/>
            <a:ext cx="1886040" cy="1124640"/>
            <a:chOff x="2971800" y="3733920"/>
            <a:chExt cx="1886040" cy="1124640"/>
          </a:xfrm>
        </p:grpSpPr>
        <p:sp>
          <p:nvSpPr>
            <p:cNvPr id="89" name=""/>
            <p:cNvSpPr/>
            <p:nvPr/>
          </p:nvSpPr>
          <p:spPr>
            <a:xfrm>
              <a:off x="2971800" y="4257360"/>
              <a:ext cx="18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33720" y="3733920"/>
              <a:ext cx="1568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400.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98960" y="4343040"/>
              <a:ext cx="1271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80.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10840" y="228240"/>
            <a:ext cx="663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eio p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rção Id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73200" y="278100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os os custos são alocados aos produtos de acordo com sua utilização eficiente. Os custos mal utilizados (desperdícios) são do perío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tivo gerencial. Apoio ao controle e ao processo de melhoria contínua da empr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11200" y="209520"/>
            <a:ext cx="537048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- custei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 absorção id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4448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dade: 100.000 un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ção: 80.000 un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s fixos: $1.000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s variáveis: $ 5 / un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 =                   + 5  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$ 15,00 / un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200.000,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erdí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282840" y="4464000"/>
            <a:ext cx="1886040" cy="1125000"/>
            <a:chOff x="3282840" y="4464000"/>
            <a:chExt cx="1886040" cy="1125000"/>
          </a:xfrm>
        </p:grpSpPr>
        <p:sp>
          <p:nvSpPr>
            <p:cNvPr id="97" name=""/>
            <p:cNvSpPr/>
            <p:nvPr/>
          </p:nvSpPr>
          <p:spPr>
            <a:xfrm>
              <a:off x="3282840" y="4987800"/>
              <a:ext cx="18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44760" y="4464000"/>
              <a:ext cx="1766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1.000.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10360" y="5073480"/>
              <a:ext cx="1469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100.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232160" y="6237360"/>
            <a:ext cx="205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14400" y="228240"/>
            <a:ext cx="5370480" cy="11430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s de Cu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73640" y="2438280"/>
            <a:ext cx="5849280" cy="5763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Arial"/>
              </a:rPr>
              <a:t>Sistema = Princípio + Mét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7120" y="228240"/>
            <a:ext cx="537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rincípios e Méto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504800" y="2971800"/>
            <a:ext cx="7772400" cy="1235160"/>
            <a:chOff x="1504800" y="2971800"/>
            <a:chExt cx="7772400" cy="1235160"/>
          </a:xfrm>
        </p:grpSpPr>
        <p:sp>
          <p:nvSpPr>
            <p:cNvPr id="47" name=""/>
            <p:cNvSpPr/>
            <p:nvPr/>
          </p:nvSpPr>
          <p:spPr>
            <a:xfrm>
              <a:off x="4419720" y="2971800"/>
              <a:ext cx="1942920" cy="1235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000000"/>
                  </a:solidFill>
                  <a:latin typeface="Times New Roman"/>
                </a:rPr>
                <a:t>Process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000000"/>
                  </a:solidFill>
                  <a:latin typeface="Times New Roman"/>
                </a:rPr>
                <a:t>Produtiv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362640" y="3589200"/>
              <a:ext cx="291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504800" y="3589200"/>
              <a:ext cx="291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282760" y="2971800"/>
              <a:ext cx="1943280" cy="6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000000"/>
                  </a:solidFill>
                  <a:latin typeface="Times New Roman"/>
                </a:rPr>
                <a:t>insum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82760" y="3589200"/>
              <a:ext cx="194328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000000"/>
                  </a:solidFill>
                  <a:latin typeface="Times New Roman"/>
                </a:rPr>
                <a:t>(custos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140600" y="2971800"/>
              <a:ext cx="1942920" cy="6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000000"/>
                  </a:solidFill>
                  <a:latin typeface="Times New Roman"/>
                </a:rPr>
                <a:t>produt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66680" y="4800600"/>
            <a:ext cx="3276720" cy="1371600"/>
          </a:xfrm>
          <a:prstGeom prst="cloudCallout">
            <a:avLst>
              <a:gd name="adj1" fmla="val 11240"/>
              <a:gd name="adj2" fmla="val -100231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Quais cus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15000" y="4648320"/>
            <a:ext cx="3429000" cy="1371600"/>
          </a:xfrm>
          <a:prstGeom prst="cloudCallout">
            <a:avLst>
              <a:gd name="adj1" fmla="val 10648"/>
              <a:gd name="adj2" fmla="val -113888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Como distribu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9880" y="6095880"/>
            <a:ext cx="17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incíp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15000" y="603576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ét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s de Cu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9760" y="2438280"/>
            <a:ext cx="5849280" cy="5763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Arial"/>
              </a:rPr>
              <a:t>Sistema = Princípio + Mét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914400" y="3048120"/>
            <a:ext cx="8991720" cy="3662280"/>
            <a:chOff x="914400" y="3048120"/>
            <a:chExt cx="8991720" cy="3662280"/>
          </a:xfrm>
        </p:grpSpPr>
        <p:sp>
          <p:nvSpPr>
            <p:cNvPr id="60" name=""/>
            <p:cNvSpPr/>
            <p:nvPr/>
          </p:nvSpPr>
          <p:spPr>
            <a:xfrm flipH="1">
              <a:off x="2895480" y="3048120"/>
              <a:ext cx="1371600" cy="990360"/>
            </a:xfrm>
            <a:prstGeom prst="line">
              <a:avLst/>
            </a:prstGeom>
            <a:ln w="12600">
              <a:solidFill>
                <a:srgbClr val="003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629400" y="3048120"/>
              <a:ext cx="228600" cy="761760"/>
            </a:xfrm>
            <a:prstGeom prst="line">
              <a:avLst/>
            </a:prstGeom>
            <a:ln w="12600">
              <a:solidFill>
                <a:srgbClr val="003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14400" y="4114800"/>
              <a:ext cx="4114800" cy="25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buClr>
                  <a:srgbClr val="0000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Quais informações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49"/>
                </a:spcBef>
                <a:buClr>
                  <a:srgbClr val="0000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Quais custos?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901"/>
                </a:spcBef>
                <a:buClr>
                  <a:srgbClr val="0000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e00"/>
                  </a:solidFill>
                  <a:latin typeface="Arial"/>
                </a:rPr>
                <a:t>fixos-variáve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901"/>
                </a:spcBef>
                <a:buClr>
                  <a:srgbClr val="0000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e00"/>
                  </a:solidFill>
                  <a:latin typeface="Arial"/>
                </a:rPr>
                <a:t>ideais-desperdíci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49"/>
                </a:spcBef>
                <a:buClr>
                  <a:srgbClr val="0000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Objetivos do sistema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543640" y="3809880"/>
              <a:ext cx="4362480" cy="266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Operacionalização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0000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Como obter a informação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0000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Cálculo do custo (custos indiretos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s de Cu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36960" y="2971800"/>
            <a:ext cx="5849280" cy="5763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Arial"/>
              </a:rPr>
              <a:t>Sistema = Princípio + Mét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80880" y="3565440"/>
            <a:ext cx="9231480" cy="3063960"/>
            <a:chOff x="380880" y="3565440"/>
            <a:chExt cx="9231480" cy="3063960"/>
          </a:xfrm>
        </p:grpSpPr>
        <p:sp>
          <p:nvSpPr>
            <p:cNvPr id="67" name=""/>
            <p:cNvSpPr/>
            <p:nvPr/>
          </p:nvSpPr>
          <p:spPr>
            <a:xfrm flipH="1">
              <a:off x="2361960" y="3565440"/>
              <a:ext cx="2251080" cy="1082880"/>
            </a:xfrm>
            <a:prstGeom prst="line">
              <a:avLst/>
            </a:prstGeom>
            <a:ln w="12600">
              <a:solidFill>
                <a:srgbClr val="003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10280" y="3581280"/>
              <a:ext cx="228600" cy="304920"/>
            </a:xfrm>
            <a:prstGeom prst="line">
              <a:avLst/>
            </a:prstGeom>
            <a:ln w="12600">
              <a:solidFill>
                <a:srgbClr val="003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0880" y="4724280"/>
              <a:ext cx="5832720" cy="15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Custeio variáv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Custeio por absorção integr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Custeio por absorção ide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248520" y="3962520"/>
              <a:ext cx="3363840" cy="26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Custo padrã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RKW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AB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UE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et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s de Cu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065240" y="2286000"/>
          <a:ext cx="7991280" cy="43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2286000"/>
                    <a:ext cx="799128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ípios de Custe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eio por absorçã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ral (Tot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01920" y="28195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os os custos são alocados aos produ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tivo contábil: fornecer informações a usuários exter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26840" y="414000"/>
            <a:ext cx="6421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- custeio integ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73200" y="2895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ção: 80.000 un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s totais: $1.400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 =                   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$ 17,50 / un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211560" y="4267080"/>
            <a:ext cx="1886040" cy="1125360"/>
            <a:chOff x="3211560" y="4267080"/>
            <a:chExt cx="1886040" cy="1125360"/>
          </a:xfrm>
        </p:grpSpPr>
        <p:sp>
          <p:nvSpPr>
            <p:cNvPr id="80" name=""/>
            <p:cNvSpPr/>
            <p:nvPr/>
          </p:nvSpPr>
          <p:spPr>
            <a:xfrm>
              <a:off x="3211560" y="4791240"/>
              <a:ext cx="18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73480" y="4267080"/>
              <a:ext cx="1766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1.400.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38720" y="4876920"/>
              <a:ext cx="1271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80.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9T22:00:00Z</dcterms:created>
  <dc:creator>Adrian C. Ferreira</dc:creator>
  <dc:description/>
  <cp:keywords/>
  <dc:language>en-US</dc:language>
  <cp:lastModifiedBy>Rafael</cp:lastModifiedBy>
  <dcterms:modified xsi:type="dcterms:W3CDTF">2009-03-06T01:09:02Z</dcterms:modified>
  <cp:revision>29</cp:revision>
  <dc:subject/>
  <dc:title>Princípios de Custeio</dc:title>
</cp:coreProperties>
</file>