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Click to move the slide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4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5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6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7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8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9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9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1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3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3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4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6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0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29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6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30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31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33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34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0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36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37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38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39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40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41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3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42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43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44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45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46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47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48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48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2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2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0200" y="533520"/>
            <a:ext cx="50212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5800" y="2971800"/>
            <a:ext cx="8769240" cy="17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45800" y="4922280"/>
            <a:ext cx="8769240" cy="17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0200" y="533520"/>
            <a:ext cx="50212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5800" y="2971800"/>
            <a:ext cx="4279320" cy="17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9320" y="2971800"/>
            <a:ext cx="4279320" cy="17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5800" y="4922280"/>
            <a:ext cx="4279320" cy="17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9320" y="4922280"/>
            <a:ext cx="4279320" cy="17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0200" y="533520"/>
            <a:ext cx="50212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5800" y="2971800"/>
            <a:ext cx="2823480" cy="17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10760" y="2971800"/>
            <a:ext cx="2823480" cy="17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75720" y="2971800"/>
            <a:ext cx="2823480" cy="17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45800" y="4922280"/>
            <a:ext cx="2823480" cy="17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10760" y="4922280"/>
            <a:ext cx="2823480" cy="17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75720" y="4922280"/>
            <a:ext cx="2823480" cy="17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60200" y="533520"/>
            <a:ext cx="50212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45800" y="2971800"/>
            <a:ext cx="876924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0200" y="533520"/>
            <a:ext cx="50212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45800" y="2971800"/>
            <a:ext cx="876924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0200" y="533520"/>
            <a:ext cx="50212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5800" y="2971800"/>
            <a:ext cx="427932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9320" y="2971800"/>
            <a:ext cx="427932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0200" y="533520"/>
            <a:ext cx="50212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60200" y="533520"/>
            <a:ext cx="50212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0200" y="533520"/>
            <a:ext cx="50212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5800" y="2971800"/>
            <a:ext cx="4279320" cy="17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9320" y="2971800"/>
            <a:ext cx="427932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45800" y="4922280"/>
            <a:ext cx="4279320" cy="17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0200" y="533520"/>
            <a:ext cx="50212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5800" y="2971800"/>
            <a:ext cx="427932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9320" y="2971800"/>
            <a:ext cx="4279320" cy="17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9320" y="4922280"/>
            <a:ext cx="4279320" cy="17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0200" y="533520"/>
            <a:ext cx="50212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5800" y="2971800"/>
            <a:ext cx="4279320" cy="17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9320" y="2971800"/>
            <a:ext cx="4279320" cy="17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45800" y="4922280"/>
            <a:ext cx="8769240" cy="17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0200" y="533520"/>
            <a:ext cx="50212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Click to edit the title text format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5800" y="2971800"/>
            <a:ext cx="876924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3000"/>
          </a:bodyPr>
          <a:p>
            <a:pPr marL="250200" indent="-250200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  <a:p>
            <a:pPr lvl="1" marL="542160" indent="-208440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  <a:p>
            <a:pPr lvl="2" marL="834120" indent="-166680">
              <a:spcBef>
                <a:spcPts val="2001"/>
              </a:spcBef>
              <a:buClr>
                <a:srgbClr val="fc0128"/>
              </a:buClr>
              <a:buSzPct val="64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  <a:p>
            <a:pPr lvl="3" marL="1167840" indent="-166680">
              <a:spcBef>
                <a:spcPts val="2001"/>
              </a:spcBef>
              <a:buClr>
                <a:srgbClr val="fc0128"/>
              </a:buClr>
              <a:buSzPct val="64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  <a:p>
            <a:pPr lvl="4" marL="1501560" indent="-166680">
              <a:spcBef>
                <a:spcPts val="2001"/>
              </a:spcBef>
              <a:buClr>
                <a:srgbClr val="fc0128"/>
              </a:buClr>
              <a:buSzPct val="64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  <a:p>
            <a:pPr lvl="5" marL="1501560" indent="-166680">
              <a:spcBef>
                <a:spcPts val="2001"/>
              </a:spcBef>
              <a:buClr>
                <a:srgbClr val="00279f"/>
              </a:buClr>
              <a:buSzPct val="64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  <a:p>
            <a:pPr lvl="6" marL="1501560" indent="-166680">
              <a:spcBef>
                <a:spcPts val="2001"/>
              </a:spcBef>
              <a:buClr>
                <a:srgbClr val="00279f"/>
              </a:buClr>
              <a:buSzPct val="64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346880" y="1440"/>
            <a:ext cx="1778040" cy="237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81d58"/>
                </a:solidFill>
                <a:latin typeface="Bookman Old Style"/>
              </a:rPr>
              <a:t>Apresentação baseada no livro “Análise gerencial de custos: aplicação em empresas modernas”, de Antonio Cezar Bornia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0200" y="390600"/>
            <a:ext cx="517392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Unificação da Produção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0280" y="2274480"/>
            <a:ext cx="8585280" cy="40878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1400" bIns="41400" anchor="t">
            <a:normAutofit fontScale="98000"/>
          </a:bodyPr>
          <a:p>
            <a:pPr marL="295560" indent="-295560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Se: 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P1 = </a:t>
            </a:r>
            <a:r>
              <a:rPr b="0" lang="en-US" sz="2800" spc="-1" strike="noStrike">
                <a:solidFill>
                  <a:srgbClr val="6e0043"/>
                </a:solidFill>
                <a:latin typeface="Arial"/>
              </a:rPr>
              <a:t>1,0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 UEP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295560" indent="0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P2 = </a:t>
            </a:r>
            <a:r>
              <a:rPr b="0" lang="en-US" sz="2800" spc="-1" strike="noStrike">
                <a:solidFill>
                  <a:srgbClr val="6e0043"/>
                </a:solidFill>
                <a:latin typeface="Arial"/>
              </a:rPr>
              <a:t>1,1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 UEP 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295560" indent="0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P3 = </a:t>
            </a:r>
            <a:r>
              <a:rPr b="0" lang="en-US" sz="2800" spc="-1" strike="noStrike">
                <a:solidFill>
                  <a:srgbClr val="6e0043"/>
                </a:solidFill>
                <a:latin typeface="Arial"/>
              </a:rPr>
              <a:t>1,3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 UEP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295560" indent="0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3e00"/>
                </a:solidFill>
                <a:latin typeface="Arial"/>
              </a:rPr>
              <a:t>Produção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295560" indent="0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800" spc="-1" strike="noStrike">
                <a:solidFill>
                  <a:srgbClr val="003e00"/>
                </a:solidFill>
                <a:latin typeface="Arial"/>
              </a:rPr>
              <a:t>Mês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     </a:t>
            </a:r>
            <a:r>
              <a:rPr b="1" i="1" lang="en-US" sz="2800" spc="-1" strike="noStrike">
                <a:solidFill>
                  <a:srgbClr val="618ffd"/>
                </a:solidFill>
                <a:latin typeface="Arial"/>
              </a:rPr>
              <a:t>P1</a:t>
            </a:r>
            <a:r>
              <a:rPr b="1" lang="en-US" sz="28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618ffd"/>
                </a:solidFill>
                <a:latin typeface="Arial"/>
              </a:rPr>
              <a:t>P2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618ffd"/>
                </a:solidFill>
                <a:latin typeface="Arial"/>
              </a:rPr>
              <a:t>P3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e00"/>
                </a:solidFill>
                <a:latin typeface="Arial"/>
              </a:rPr>
              <a:t>Total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295560" indent="0">
              <a:spcBef>
                <a:spcPts val="1749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Out:  1</a:t>
            </a:r>
            <a:r>
              <a:rPr b="0" lang="en-US" sz="1800" spc="-1" strike="noStrike">
                <a:solidFill>
                  <a:srgbClr val="003e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1.000 + </a:t>
            </a:r>
            <a:r>
              <a:rPr b="1" lang="en-US" sz="2800" spc="-1" strike="noStrike">
                <a:solidFill>
                  <a:srgbClr val="004e47"/>
                </a:solidFill>
                <a:latin typeface="Arial"/>
              </a:rPr>
              <a:t>1,1</a:t>
            </a:r>
            <a:r>
              <a:rPr b="1" lang="en-US" sz="1800" spc="-1" strike="noStrike">
                <a:solidFill>
                  <a:srgbClr val="003e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2.000 + </a:t>
            </a:r>
            <a:r>
              <a:rPr b="1" lang="en-US" sz="2800" spc="-1" strike="noStrike">
                <a:solidFill>
                  <a:srgbClr val="004e47"/>
                </a:solidFill>
                <a:latin typeface="Arial"/>
              </a:rPr>
              <a:t>1,3</a:t>
            </a:r>
            <a:r>
              <a:rPr b="1" lang="en-US" sz="1800" spc="-1" strike="noStrike">
                <a:solidFill>
                  <a:srgbClr val="003e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3.000 = </a:t>
            </a:r>
            <a:r>
              <a:rPr b="0" lang="en-US" sz="2800" spc="-1" strike="noStrike">
                <a:solidFill>
                  <a:srgbClr val="6e0043"/>
                </a:solidFill>
                <a:latin typeface="Arial"/>
              </a:rPr>
              <a:t>7.100 UEP</a:t>
            </a:r>
            <a:r>
              <a:rPr b="1" lang="en-US" sz="2800" spc="-1" strike="noStrike">
                <a:solidFill>
                  <a:srgbClr val="003e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295560" indent="0">
              <a:spcBef>
                <a:spcPts val="1749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Nov: 1</a:t>
            </a:r>
            <a:r>
              <a:rPr b="0" lang="en-US" sz="1800" spc="-1" strike="noStrike">
                <a:solidFill>
                  <a:srgbClr val="003e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2.000 + </a:t>
            </a:r>
            <a:r>
              <a:rPr b="1" lang="en-US" sz="2800" spc="-1" strike="noStrike">
                <a:solidFill>
                  <a:srgbClr val="004e47"/>
                </a:solidFill>
                <a:latin typeface="Arial"/>
              </a:rPr>
              <a:t>1,1</a:t>
            </a:r>
            <a:r>
              <a:rPr b="1" lang="en-US" sz="1800" spc="-1" strike="noStrike">
                <a:solidFill>
                  <a:srgbClr val="003e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1.500 + </a:t>
            </a:r>
            <a:r>
              <a:rPr b="1" lang="en-US" sz="2800" spc="-1" strike="noStrike">
                <a:solidFill>
                  <a:srgbClr val="004e47"/>
                </a:solidFill>
                <a:latin typeface="Arial"/>
              </a:rPr>
              <a:t>1,3</a:t>
            </a:r>
            <a:r>
              <a:rPr b="1" lang="en-US" sz="1800" spc="-1" strike="noStrike">
                <a:solidFill>
                  <a:srgbClr val="003e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2.600 = </a:t>
            </a:r>
            <a:r>
              <a:rPr b="0" lang="en-US" sz="2800" spc="-1" strike="noStrike">
                <a:solidFill>
                  <a:srgbClr val="6e0043"/>
                </a:solidFill>
                <a:latin typeface="Arial"/>
              </a:rPr>
              <a:t>7.030 UEP</a:t>
            </a:r>
            <a:r>
              <a:rPr b="1" lang="en-US" sz="2800" spc="-1" strike="noStrike">
                <a:solidFill>
                  <a:srgbClr val="003e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295560" indent="0">
              <a:spcBef>
                <a:spcPts val="1749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Dez: 1</a:t>
            </a:r>
            <a:r>
              <a:rPr b="0" lang="en-US" sz="1800" spc="-1" strike="noStrike">
                <a:solidFill>
                  <a:srgbClr val="003e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3.000 + </a:t>
            </a:r>
            <a:r>
              <a:rPr b="1" lang="en-US" sz="2800" spc="-1" strike="noStrike">
                <a:solidFill>
                  <a:srgbClr val="004e47"/>
                </a:solidFill>
                <a:latin typeface="Arial"/>
              </a:rPr>
              <a:t>1,1</a:t>
            </a:r>
            <a:r>
              <a:rPr b="1" lang="en-US" sz="1800" spc="-1" strike="noStrike">
                <a:solidFill>
                  <a:srgbClr val="003e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1.000 + </a:t>
            </a:r>
            <a:r>
              <a:rPr b="1" lang="en-US" sz="2800" spc="-1" strike="noStrike">
                <a:solidFill>
                  <a:srgbClr val="004e47"/>
                </a:solidFill>
                <a:latin typeface="Arial"/>
              </a:rPr>
              <a:t>1,3</a:t>
            </a:r>
            <a:r>
              <a:rPr b="1" lang="en-US" sz="1800" spc="-1" strike="noStrike">
                <a:solidFill>
                  <a:srgbClr val="003e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2.300 = </a:t>
            </a:r>
            <a:r>
              <a:rPr b="0" lang="en-US" sz="2800" spc="-1" strike="noStrike">
                <a:solidFill>
                  <a:srgbClr val="6e0043"/>
                </a:solidFill>
                <a:latin typeface="Arial"/>
              </a:rPr>
              <a:t>7.090 UEP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03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4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4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0200" y="533520"/>
            <a:ext cx="502128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Exemplo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3040" y="2447640"/>
            <a:ext cx="8769600" cy="3886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1400" bIns="41400" anchor="t">
            <a:normAutofit/>
          </a:bodyPr>
          <a:p>
            <a:pPr marL="301680" indent="-301680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Ex: CT = $ 6.000.000,00  (outubro)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301680" indent="-301680">
              <a:spcBef>
                <a:spcPts val="35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CT</a:t>
            </a:r>
            <a:r>
              <a:rPr b="0" lang="en-US" sz="2800" spc="-1" strike="noStrike" baseline="-25000">
                <a:solidFill>
                  <a:srgbClr val="003e00"/>
                </a:solidFill>
                <a:latin typeface="Arial"/>
              </a:rPr>
              <a:t>P1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 = CT</a:t>
            </a:r>
            <a:r>
              <a:rPr b="0" lang="en-US" sz="2800" spc="-1" strike="noStrike" baseline="-25000">
                <a:solidFill>
                  <a:srgbClr val="003e00"/>
                </a:solidFill>
                <a:latin typeface="Arial"/>
              </a:rPr>
              <a:t>P2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 = CT</a:t>
            </a:r>
            <a:r>
              <a:rPr b="0" lang="en-US" sz="2800" spc="-1" strike="noStrike" baseline="-25000">
                <a:solidFill>
                  <a:srgbClr val="003e00"/>
                </a:solidFill>
                <a:latin typeface="Arial"/>
              </a:rPr>
              <a:t>P3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 =    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 = $ 845,07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12840" y="4510080"/>
          <a:ext cx="8475480" cy="200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840" y="4510080"/>
                    <a:ext cx="8475480" cy="20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4102200" y="2976480"/>
            <a:ext cx="216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6.000.000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58600" y="3508200"/>
            <a:ext cx="1196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7.100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41800" y="3543480"/>
            <a:ext cx="18018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2480" y="3809880"/>
            <a:ext cx="8384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95480" y="3809880"/>
            <a:ext cx="8384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830240" y="380988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1</a:t>
            </a:r>
            <a:endParaRPr b="0" lang="en-US" sz="2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73240" y="380988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3</a:t>
            </a:r>
            <a:endParaRPr b="0" lang="en-US" sz="2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0200" y="533520"/>
            <a:ext cx="502128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Unificação da Produção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9080" y="2790360"/>
            <a:ext cx="8626320" cy="3886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1400" bIns="41400" anchor="t">
            <a:normAutofit/>
          </a:bodyPr>
          <a:p>
            <a:pPr marL="301680" indent="-301680" algn="just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Unificar a produção significa encontrar uma unidade de medida comum a toda a produção da empresa.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301680" indent="-301680" algn="just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Baseia-se no trabalho realizado pelas operações produtivas na transformação da matéria-prima em produto acabado, ou seja, nos </a:t>
            </a:r>
            <a:r>
              <a:rPr b="0" lang="en-US" sz="2800" spc="-1" strike="noStrike">
                <a:solidFill>
                  <a:srgbClr val="6e0043"/>
                </a:solidFill>
                <a:latin typeface="Arial"/>
              </a:rPr>
              <a:t>esforços de produção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 da empresa.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29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2760" y="533520"/>
            <a:ext cx="578340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Esforço de Produção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5960" y="2971440"/>
            <a:ext cx="8226720" cy="33591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1400" bIns="41400" anchor="t">
            <a:normAutofit fontScale="97000"/>
          </a:bodyPr>
          <a:p>
            <a:pPr marL="292320" indent="-292320" algn="just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É o trabalho de transformação na empresa.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292320" indent="-292320" algn="just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Esforços de produção são gerados por: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lvl="1" marL="634320" indent="-231120">
              <a:spcBef>
                <a:spcPts val="624"/>
              </a:spcBef>
              <a:buClr>
                <a:srgbClr val="081d58"/>
              </a:buClr>
              <a:buSzPct val="75000"/>
              <a:buFont typeface="Monotype Sorts" charset="2"/>
              <a:buChar char="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500" spc="-1" strike="noStrike">
                <a:solidFill>
                  <a:srgbClr val="003e00"/>
                </a:solidFill>
                <a:latin typeface="Arial"/>
              </a:rPr>
              <a:t>Trabalho da mão-de-obra direta.</a:t>
            </a:r>
            <a:endParaRPr b="0" lang="en-US" sz="2500" spc="-1" strike="noStrike">
              <a:solidFill>
                <a:srgbClr val="003e00"/>
              </a:solidFill>
              <a:latin typeface="Arial"/>
            </a:endParaRPr>
          </a:p>
          <a:p>
            <a:pPr lvl="1" marL="634320" indent="-231120">
              <a:spcBef>
                <a:spcPts val="624"/>
              </a:spcBef>
              <a:buClr>
                <a:srgbClr val="081d58"/>
              </a:buClr>
              <a:buSzPct val="75000"/>
              <a:buFont typeface="Monotype Sorts" charset="2"/>
              <a:buChar char="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500" spc="-1" strike="noStrike">
                <a:solidFill>
                  <a:srgbClr val="003e00"/>
                </a:solidFill>
                <a:latin typeface="Arial"/>
              </a:rPr>
              <a:t>Desgaste do equipamento (depreciação).</a:t>
            </a:r>
            <a:endParaRPr b="0" lang="en-US" sz="2500" spc="-1" strike="noStrike">
              <a:solidFill>
                <a:srgbClr val="003e00"/>
              </a:solidFill>
              <a:latin typeface="Arial"/>
            </a:endParaRPr>
          </a:p>
          <a:p>
            <a:pPr lvl="1" marL="634320" indent="-231120">
              <a:spcBef>
                <a:spcPts val="624"/>
              </a:spcBef>
              <a:buClr>
                <a:srgbClr val="081d58"/>
              </a:buClr>
              <a:buSzPct val="75000"/>
              <a:buFont typeface="Monotype Sorts" charset="2"/>
              <a:buChar char="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500" spc="-1" strike="noStrike">
                <a:solidFill>
                  <a:srgbClr val="003e00"/>
                </a:solidFill>
                <a:latin typeface="Arial"/>
              </a:rPr>
              <a:t>Consumo de energia.</a:t>
            </a:r>
            <a:endParaRPr b="0" lang="en-US" sz="2500" spc="-1" strike="noStrike">
              <a:solidFill>
                <a:srgbClr val="003e00"/>
              </a:solidFill>
              <a:latin typeface="Arial"/>
            </a:endParaRPr>
          </a:p>
          <a:p>
            <a:pPr lvl="1" marL="634320" indent="-231120">
              <a:spcBef>
                <a:spcPts val="624"/>
              </a:spcBef>
              <a:buClr>
                <a:srgbClr val="081d58"/>
              </a:buClr>
              <a:buSzPct val="75000"/>
              <a:buFont typeface="Monotype Sorts" charset="2"/>
              <a:buChar char="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500" spc="-1" strike="noStrike">
                <a:solidFill>
                  <a:srgbClr val="003e00"/>
                </a:solidFill>
                <a:latin typeface="Arial"/>
              </a:rPr>
              <a:t>Trabalho da mão-de-obra indireta.</a:t>
            </a:r>
            <a:endParaRPr b="0" lang="en-US" sz="2500" spc="-1" strike="noStrike">
              <a:solidFill>
                <a:srgbClr val="003e00"/>
              </a:solidFill>
              <a:latin typeface="Arial"/>
            </a:endParaRPr>
          </a:p>
          <a:p>
            <a:pPr lvl="1" marL="634320" indent="-231120">
              <a:spcBef>
                <a:spcPts val="624"/>
              </a:spcBef>
              <a:buClr>
                <a:srgbClr val="081d58"/>
              </a:buClr>
              <a:buSzPct val="75000"/>
              <a:buFont typeface="Monotype Sorts" charset="2"/>
              <a:buChar char="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500" spc="-1" strike="noStrike">
                <a:solidFill>
                  <a:srgbClr val="003e00"/>
                </a:solidFill>
                <a:latin typeface="Arial"/>
              </a:rPr>
              <a:t>etc.</a:t>
            </a:r>
            <a:endParaRPr b="0" lang="en-US" sz="2500" spc="-1" strike="noStrike">
              <a:solidFill>
                <a:srgbClr val="003e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6" dur="2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6240" y="533520"/>
            <a:ext cx="578304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Postos Operativos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74760" y="2752200"/>
            <a:ext cx="8454960" cy="16765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1400" bIns="41400" anchor="t">
            <a:normAutofit/>
          </a:bodyPr>
          <a:p>
            <a:pPr marL="301680" indent="-301680" algn="just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Conjunto de operações produtivas </a:t>
            </a:r>
            <a:r>
              <a:rPr b="0" lang="en-US" sz="2800" spc="-1" strike="noStrike">
                <a:solidFill>
                  <a:srgbClr val="6e0043"/>
                </a:solidFill>
                <a:latin typeface="Arial"/>
              </a:rPr>
              <a:t>homogêneas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, ou seja, todos os produtos que passam pelo posto sofrem trabalhos similares.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200" y="533520"/>
            <a:ext cx="502128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Homogeneidade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126" name=""/>
          <p:cNvSpPr/>
          <p:nvPr/>
        </p:nvSpPr>
        <p:spPr>
          <a:xfrm>
            <a:off x="1528920" y="2786040"/>
            <a:ext cx="4817880" cy="3201840"/>
          </a:xfrm>
          <a:prstGeom prst="roundRect">
            <a:avLst>
              <a:gd name="adj" fmla="val 8306"/>
            </a:avLst>
          </a:prstGeom>
          <a:solidFill>
            <a:srgbClr val="c0fef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40960" y="2111400"/>
            <a:ext cx="42123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e47"/>
                </a:solidFill>
                <a:latin typeface="Arial"/>
              </a:rPr>
              <a:t>Posto Operativo: TORNO</a:t>
            </a:r>
            <a:endParaRPr b="0" lang="en-US" sz="2800" spc="-1" strike="noStrike">
              <a:solidFill>
                <a:srgbClr val="00279f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739880" y="2940120"/>
            <a:ext cx="2006640" cy="2895480"/>
            <a:chOff x="1739880" y="2940120"/>
            <a:chExt cx="2006640" cy="2895480"/>
          </a:xfrm>
        </p:grpSpPr>
        <p:sp>
          <p:nvSpPr>
            <p:cNvPr id="129" name=""/>
            <p:cNvSpPr/>
            <p:nvPr/>
          </p:nvSpPr>
          <p:spPr>
            <a:xfrm>
              <a:off x="1739880" y="2940120"/>
              <a:ext cx="2006640" cy="2895480"/>
            </a:xfrm>
            <a:custGeom>
              <a:avLst/>
              <a:gdLst>
                <a:gd name="textAreaLeft" fmla="*/ 63360 w 2006640"/>
                <a:gd name="textAreaRight" fmla="*/ 1943280 w 2006640"/>
                <a:gd name="textAreaTop" fmla="*/ 63360 h 2895480"/>
                <a:gd name="textAreaBottom" fmla="*/ 2832120 h 2895480"/>
              </a:gdLst>
              <a:ahLst/>
              <a:rect l="textAreaLeft" t="textAreaTop" r="textAreaRight" b="textAreaBottom"/>
              <a:pathLst>
                <a:path w="21600" h="31166">
                  <a:moveTo>
                    <a:pt x="2333" y="0"/>
                  </a:moveTo>
                  <a:arcTo wR="2333" hR="2333" stAng="16200000" swAng="-5400000"/>
                  <a:lnTo>
                    <a:pt x="0" y="28833"/>
                  </a:lnTo>
                  <a:arcTo wR="2333" hR="2333" stAng="10800000" swAng="-5400000"/>
                  <a:lnTo>
                    <a:pt x="19267" y="31166"/>
                  </a:lnTo>
                  <a:arcTo wR="2333" hR="2333" stAng="5400000" swAng="-5400000"/>
                  <a:lnTo>
                    <a:pt x="21600" y="2333"/>
                  </a:lnTo>
                  <a:arcTo wR="2333" hR="2333" stAng="0" swAng="-5400000"/>
                  <a:close/>
                </a:path>
              </a:pathLst>
            </a:custGeom>
            <a:solidFill>
              <a:srgbClr val="eeffdd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887840" y="3075120"/>
              <a:ext cx="1774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4e47"/>
                  </a:solidFill>
                  <a:latin typeface="Arial"/>
                </a:rPr>
                <a:t>Operação 1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0800" y="3378240"/>
              <a:ext cx="1671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4e47"/>
                  </a:solidFill>
                  <a:latin typeface="Arial"/>
                </a:rPr>
                <a:t>(Desbaste)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3997440" y="2940120"/>
            <a:ext cx="2159640" cy="2895480"/>
            <a:chOff x="3997440" y="2940120"/>
            <a:chExt cx="2159640" cy="2895480"/>
          </a:xfrm>
        </p:grpSpPr>
        <p:sp>
          <p:nvSpPr>
            <p:cNvPr id="133" name=""/>
            <p:cNvSpPr/>
            <p:nvPr/>
          </p:nvSpPr>
          <p:spPr>
            <a:xfrm>
              <a:off x="3997440" y="2940120"/>
              <a:ext cx="2149200" cy="2895480"/>
            </a:xfrm>
            <a:custGeom>
              <a:avLst/>
              <a:gdLst>
                <a:gd name="textAreaLeft" fmla="*/ 67320 w 2149200"/>
                <a:gd name="textAreaRight" fmla="*/ 2081880 w 2149200"/>
                <a:gd name="textAreaTop" fmla="*/ 67320 h 2895480"/>
                <a:gd name="textAreaBottom" fmla="*/ 2828160 h 2895480"/>
              </a:gdLst>
              <a:ahLst/>
              <a:rect l="textAreaLeft" t="textAreaTop" r="textAreaRight" b="textAreaBottom"/>
              <a:pathLst>
                <a:path w="21600" h="29099">
                  <a:moveTo>
                    <a:pt x="2319" y="0"/>
                  </a:moveTo>
                  <a:arcTo wR="2319" hR="2319" stAng="16200000" swAng="-5400000"/>
                  <a:lnTo>
                    <a:pt x="0" y="26780"/>
                  </a:lnTo>
                  <a:arcTo wR="2319" hR="2319" stAng="10800000" swAng="-5400000"/>
                  <a:lnTo>
                    <a:pt x="19281" y="29099"/>
                  </a:lnTo>
                  <a:arcTo wR="2319" hR="2319" stAng="5400000" swAng="-5400000"/>
                  <a:lnTo>
                    <a:pt x="21600" y="2319"/>
                  </a:lnTo>
                  <a:arcTo wR="2319" hR="2319" stAng="0" swAng="-5400000"/>
                  <a:close/>
                </a:path>
              </a:pathLst>
            </a:custGeom>
            <a:solidFill>
              <a:srgbClr val="eeffdd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250160" y="3075120"/>
              <a:ext cx="1774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4e47"/>
                  </a:solidFill>
                  <a:latin typeface="Arial"/>
                </a:rPr>
                <a:t>Operação 2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061520" y="3378240"/>
              <a:ext cx="2095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4e47"/>
                  </a:solidFill>
                  <a:latin typeface="Arial"/>
                </a:rPr>
                <a:t>(Acabamento)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2254320" y="4906800"/>
            <a:ext cx="3288960" cy="454680"/>
            <a:chOff x="2254320" y="4906800"/>
            <a:chExt cx="3288960" cy="454680"/>
          </a:xfrm>
        </p:grpSpPr>
        <p:sp>
          <p:nvSpPr>
            <p:cNvPr id="137" name=""/>
            <p:cNvSpPr/>
            <p:nvPr/>
          </p:nvSpPr>
          <p:spPr>
            <a:xfrm>
              <a:off x="2254320" y="4906800"/>
              <a:ext cx="926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4e47"/>
                  </a:solidFill>
                  <a:latin typeface="Arial"/>
                </a:rPr>
                <a:t>2 min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616640" y="4906800"/>
              <a:ext cx="926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4e47"/>
                  </a:solidFill>
                  <a:latin typeface="Arial"/>
                </a:rPr>
                <a:t>4 min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334800" y="3782880"/>
            <a:ext cx="8738280" cy="815040"/>
            <a:chOff x="334800" y="3782880"/>
            <a:chExt cx="8738280" cy="815040"/>
          </a:xfrm>
        </p:grpSpPr>
        <p:sp>
          <p:nvSpPr>
            <p:cNvPr id="140" name=""/>
            <p:cNvSpPr/>
            <p:nvPr/>
          </p:nvSpPr>
          <p:spPr>
            <a:xfrm>
              <a:off x="6510240" y="4419720"/>
              <a:ext cx="2454480" cy="0"/>
            </a:xfrm>
            <a:prstGeom prst="line">
              <a:avLst/>
            </a:prstGeom>
            <a:ln w="381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34800" y="3782880"/>
              <a:ext cx="6159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4e47"/>
                  </a:solidFill>
                  <a:latin typeface="Arial"/>
                </a:rPr>
                <a:t>P1</a:t>
              </a:r>
              <a:endParaRPr b="0" lang="en-US" sz="28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254320" y="4143240"/>
              <a:ext cx="926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4e47"/>
                  </a:solidFill>
                  <a:latin typeface="Arial"/>
                </a:rPr>
                <a:t>1 min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616640" y="4143240"/>
              <a:ext cx="926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4e47"/>
                  </a:solidFill>
                  <a:latin typeface="Arial"/>
                </a:rPr>
                <a:t>2 min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392160" y="3989520"/>
              <a:ext cx="2680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4e47"/>
                  </a:solidFill>
                  <a:latin typeface="Arial"/>
                </a:rPr>
                <a:t>Tempo P1 = 3 min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8120" y="4343400"/>
              <a:ext cx="977760" cy="0"/>
            </a:xfrm>
            <a:prstGeom prst="line">
              <a:avLst/>
            </a:prstGeom>
            <a:ln w="381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334800" y="4754520"/>
            <a:ext cx="8744760" cy="917280"/>
            <a:chOff x="334800" y="4754520"/>
            <a:chExt cx="8744760" cy="917280"/>
          </a:xfrm>
        </p:grpSpPr>
        <p:sp>
          <p:nvSpPr>
            <p:cNvPr id="147" name=""/>
            <p:cNvSpPr/>
            <p:nvPr/>
          </p:nvSpPr>
          <p:spPr>
            <a:xfrm>
              <a:off x="6510240" y="5181480"/>
              <a:ext cx="2454480" cy="0"/>
            </a:xfrm>
            <a:prstGeom prst="line">
              <a:avLst/>
            </a:prstGeom>
            <a:ln w="381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4800" y="5156280"/>
              <a:ext cx="6159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4e47"/>
                  </a:solidFill>
                  <a:latin typeface="Arial"/>
                </a:rPr>
                <a:t>P2</a:t>
              </a:r>
              <a:endParaRPr b="0" lang="en-US" sz="28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398640" y="4754520"/>
              <a:ext cx="2680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4e47"/>
                  </a:solidFill>
                  <a:latin typeface="Arial"/>
                </a:rPr>
                <a:t>Tempo P2 = 6 min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61800" y="5105520"/>
              <a:ext cx="978120" cy="0"/>
            </a:xfrm>
            <a:prstGeom prst="line">
              <a:avLst/>
            </a:prstGeom>
            <a:ln w="381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533520"/>
            <a:ext cx="525780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Potenciais </a:t>
            </a:r>
            <a:br>
              <a:rPr sz="4400"/>
            </a:b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Produtivos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31840" y="2704680"/>
            <a:ext cx="8626320" cy="3886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1400" bIns="41400" anchor="t">
            <a:normAutofit/>
          </a:bodyPr>
          <a:p>
            <a:pPr marL="301680" indent="-301680" algn="just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Os Esforços de Produção são concentrados nos Postos Operativos e repassados aos produtos que os utilizam.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301680" indent="-301680" algn="just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Cada Posto Operativo possui capacidade de gerar (ou repassar) esforço de produção (</a:t>
            </a:r>
            <a:r>
              <a:rPr b="0" lang="en-US" sz="2800" spc="-1" strike="noStrike">
                <a:solidFill>
                  <a:srgbClr val="6e0043"/>
                </a:solidFill>
                <a:latin typeface="Arial"/>
              </a:rPr>
              <a:t>Potencial Produtivo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8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8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8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0200" y="533520"/>
            <a:ext cx="502128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Postos Operativos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5920" y="2095560"/>
            <a:ext cx="3484080" cy="1454040"/>
            <a:chOff x="385920" y="2095560"/>
            <a:chExt cx="3484080" cy="1454040"/>
          </a:xfrm>
        </p:grpSpPr>
        <p:sp>
          <p:nvSpPr>
            <p:cNvPr id="159" name=""/>
            <p:cNvSpPr/>
            <p:nvPr/>
          </p:nvSpPr>
          <p:spPr>
            <a:xfrm>
              <a:off x="2041560" y="2662200"/>
              <a:ext cx="1590480" cy="88740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5920" y="2095560"/>
              <a:ext cx="3484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Esforço do equipamento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188280" y="3570120"/>
            <a:ext cx="3443760" cy="454680"/>
            <a:chOff x="188280" y="3570120"/>
            <a:chExt cx="3443760" cy="454680"/>
          </a:xfrm>
        </p:grpSpPr>
        <p:sp>
          <p:nvSpPr>
            <p:cNvPr id="162" name=""/>
            <p:cNvSpPr/>
            <p:nvPr/>
          </p:nvSpPr>
          <p:spPr>
            <a:xfrm>
              <a:off x="2763720" y="3782880"/>
              <a:ext cx="868320" cy="180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8280" y="3570120"/>
              <a:ext cx="2435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Esforço da MOD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9440" y="4160520"/>
            <a:ext cx="3432600" cy="769320"/>
            <a:chOff x="199440" y="4160520"/>
            <a:chExt cx="3432600" cy="769320"/>
          </a:xfrm>
        </p:grpSpPr>
        <p:sp>
          <p:nvSpPr>
            <p:cNvPr id="165" name=""/>
            <p:cNvSpPr/>
            <p:nvPr/>
          </p:nvSpPr>
          <p:spPr>
            <a:xfrm flipV="1">
              <a:off x="2643120" y="4160520"/>
              <a:ext cx="988920" cy="50940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9440" y="4475160"/>
              <a:ext cx="2301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Esforço da MOI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171720" y="4389120"/>
            <a:ext cx="3460320" cy="1664640"/>
            <a:chOff x="171720" y="4389120"/>
            <a:chExt cx="3460320" cy="1664640"/>
          </a:xfrm>
        </p:grpSpPr>
        <p:sp>
          <p:nvSpPr>
            <p:cNvPr id="168" name=""/>
            <p:cNvSpPr/>
            <p:nvPr/>
          </p:nvSpPr>
          <p:spPr>
            <a:xfrm flipV="1">
              <a:off x="2529000" y="4389120"/>
              <a:ext cx="1103040" cy="116676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71720" y="5599080"/>
              <a:ext cx="2334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Outros esforços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3333240" y="2538360"/>
            <a:ext cx="3095280" cy="2160720"/>
            <a:chOff x="3333240" y="2538360"/>
            <a:chExt cx="3095280" cy="2160720"/>
          </a:xfrm>
        </p:grpSpPr>
        <p:grpSp>
          <p:nvGrpSpPr>
            <p:cNvPr id="171" name=""/>
            <p:cNvGrpSpPr/>
            <p:nvPr/>
          </p:nvGrpSpPr>
          <p:grpSpPr>
            <a:xfrm>
              <a:off x="3333240" y="2538360"/>
              <a:ext cx="3095280" cy="2160720"/>
              <a:chOff x="3333240" y="2538360"/>
              <a:chExt cx="3095280" cy="2160720"/>
            </a:xfrm>
          </p:grpSpPr>
          <p:sp>
            <p:nvSpPr>
              <p:cNvPr id="172" name=""/>
              <p:cNvSpPr/>
              <p:nvPr/>
            </p:nvSpPr>
            <p:spPr>
              <a:xfrm>
                <a:off x="3651120" y="3263760"/>
                <a:ext cx="2238480" cy="1435320"/>
              </a:xfrm>
              <a:prstGeom prst="rect">
                <a:avLst/>
              </a:prstGeom>
              <a:solidFill>
                <a:srgbClr val="c0fef9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333240" y="2538360"/>
                <a:ext cx="309528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279f"/>
                    </a:solidFill>
                    <a:latin typeface="Arial"/>
                  </a:rPr>
                  <a:t>Posto Operativo</a:t>
                </a:r>
                <a:endParaRPr b="0" lang="en-US" sz="3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862800" y="3451320"/>
              <a:ext cx="1897560" cy="1063800"/>
            </a:xfrm>
            <a:prstGeom prst="rect">
              <a:avLst/>
            </a:prstGeom>
            <a:solidFill>
              <a:srgbClr val="c0f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279f"/>
                  </a:solidFill>
                  <a:latin typeface="Arial"/>
                </a:rPr>
                <a:t>Potencial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279f"/>
                  </a:solidFill>
                  <a:latin typeface="Arial"/>
                </a:rPr>
                <a:t>Produtivo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10120" y="3755880"/>
            <a:ext cx="2813040" cy="576360"/>
            <a:chOff x="5910120" y="3755880"/>
            <a:chExt cx="2813040" cy="576360"/>
          </a:xfrm>
        </p:grpSpPr>
        <p:sp>
          <p:nvSpPr>
            <p:cNvPr id="176" name=""/>
            <p:cNvSpPr/>
            <p:nvPr/>
          </p:nvSpPr>
          <p:spPr>
            <a:xfrm flipV="1">
              <a:off x="5910120" y="4011120"/>
              <a:ext cx="938520" cy="39960"/>
            </a:xfrm>
            <a:prstGeom prst="line">
              <a:avLst/>
            </a:prstGeom>
            <a:ln w="381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915600" y="3755880"/>
              <a:ext cx="18075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279f"/>
                  </a:solidFill>
                  <a:latin typeface="Arial"/>
                </a:rPr>
                <a:t>Produtos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68580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Potenciais </a:t>
            </a:r>
            <a:br>
              <a:rPr sz="4400"/>
            </a:b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Produtivos Determinação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5800" y="3200040"/>
            <a:ext cx="8569080" cy="28558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1400" bIns="41400" anchor="t">
            <a:normAutofit/>
          </a:bodyPr>
          <a:p>
            <a:pPr marL="301680" indent="-301680" algn="just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O método da UEP quantifica os esforços de produção a partir da determinação dos potenciais produtivos.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301680" indent="-301680" algn="just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Procura-se determinar </a:t>
            </a:r>
            <a:r>
              <a:rPr b="0" lang="en-US" sz="2800" spc="-1" strike="noStrike">
                <a:solidFill>
                  <a:srgbClr val="6e0043"/>
                </a:solidFill>
                <a:latin typeface="Arial"/>
              </a:rPr>
              <a:t>relações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 entre os potenciais produtivos dos postos operativos.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9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8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8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8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8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0200" y="533520"/>
            <a:ext cx="502128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Exemplo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74240" y="2676240"/>
            <a:ext cx="8769240" cy="3886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1400" bIns="41400" anchor="t">
            <a:normAutofit/>
          </a:bodyPr>
          <a:p>
            <a:pPr marL="301680" indent="-301680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2 máquinas: uma manual e outra automática.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144440" y="3578400"/>
            <a:ext cx="2872080" cy="1434960"/>
            <a:chOff x="1144440" y="3578400"/>
            <a:chExt cx="2872080" cy="1434960"/>
          </a:xfrm>
        </p:grpSpPr>
        <p:sp>
          <p:nvSpPr>
            <p:cNvPr id="187" name=""/>
            <p:cNvSpPr/>
            <p:nvPr/>
          </p:nvSpPr>
          <p:spPr>
            <a:xfrm>
              <a:off x="1144440" y="3578400"/>
              <a:ext cx="2872080" cy="1434960"/>
            </a:xfrm>
            <a:prstGeom prst="roundRect">
              <a:avLst>
                <a:gd name="adj" fmla="val 12486"/>
              </a:avLst>
            </a:prstGeom>
            <a:solidFill>
              <a:srgbClr val="fcfeb9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398240" y="3703680"/>
              <a:ext cx="243252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Máquina manual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MOD “básica”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Baixo valor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732200" y="3578400"/>
            <a:ext cx="3291120" cy="1434960"/>
            <a:chOff x="4732200" y="3578400"/>
            <a:chExt cx="3291120" cy="1434960"/>
          </a:xfrm>
        </p:grpSpPr>
        <p:sp>
          <p:nvSpPr>
            <p:cNvPr id="190" name=""/>
            <p:cNvSpPr/>
            <p:nvPr/>
          </p:nvSpPr>
          <p:spPr>
            <a:xfrm>
              <a:off x="4732200" y="3578400"/>
              <a:ext cx="3291120" cy="1434960"/>
            </a:xfrm>
            <a:prstGeom prst="roundRect">
              <a:avLst>
                <a:gd name="adj" fmla="val 12486"/>
              </a:avLst>
            </a:prstGeom>
            <a:solidFill>
              <a:srgbClr val="fcfeb9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912200" y="3703680"/>
              <a:ext cx="292464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Máquina automática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MOD especializada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Alto valor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969840" y="5419800"/>
            <a:ext cx="657864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1d58"/>
                </a:solidFill>
                <a:latin typeface="Arial"/>
              </a:rPr>
              <a:t>Qual delas tem a maior capacidade de produzir esforços de produção?</a:t>
            </a:r>
            <a:endParaRPr b="0" lang="en-US" sz="2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0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9920" y="2104920"/>
            <a:ext cx="6030720" cy="12859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Método da Unidade de Esforço de Produção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38040" y="4430520"/>
            <a:ext cx="3562200" cy="6714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1400" bIns="41400" anchor="t">
            <a:noAutofit/>
          </a:bodyPr>
          <a:p>
            <a:pPr marL="301680" indent="0" algn="ctr">
              <a:spcBef>
                <a:spcPts val="4124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i="1" lang="en-US" sz="6600" spc="-1" strike="noStrike">
                <a:solidFill>
                  <a:srgbClr val="081d58"/>
                </a:solidFill>
                <a:latin typeface="Arial"/>
              </a:rPr>
              <a:t>UEP</a:t>
            </a:r>
            <a:endParaRPr b="0" lang="en-US" sz="6600" spc="-1" strike="noStrike">
              <a:solidFill>
                <a:srgbClr val="003e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289080" y="3200040"/>
            <a:ext cx="8340480" cy="35053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1400" bIns="41400" anchor="t">
            <a:normAutofit/>
          </a:bodyPr>
          <a:p>
            <a:pPr marL="301680" indent="-301680" algn="just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Para cada Posto Operativo, calculam-se seus índices de custos ($/h) da forma mais precisa possível (</a:t>
            </a:r>
            <a:r>
              <a:rPr b="0" lang="en-US" sz="2800" spc="-1" strike="noStrike">
                <a:solidFill>
                  <a:srgbClr val="6e0043"/>
                </a:solidFill>
                <a:latin typeface="Arial"/>
              </a:rPr>
              <a:t>Custos Técnicos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301680" indent="-301680" algn="just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As relações entre os potenciais produtivos (UEP/h) são estimadas usando as relações entre índices de custos.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838080"/>
            <a:ext cx="51055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280049"/>
                </a:solidFill>
                <a:latin typeface="Bookman Old Style"/>
              </a:rPr>
              <a:t>Potenciais </a:t>
            </a:r>
            <a:endParaRPr b="0" lang="en-US" sz="4400" spc="-1" strike="noStrike">
              <a:solidFill>
                <a:srgbClr val="00279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280049"/>
                </a:solidFill>
                <a:latin typeface="Bookman Old Style"/>
              </a:rPr>
              <a:t>Produtivos Quantificação</a:t>
            </a:r>
            <a:endParaRPr b="0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578340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Exemplo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4797360" cy="6573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1400" bIns="41400" anchor="t">
            <a:normAutofit/>
          </a:bodyPr>
          <a:p>
            <a:pPr marL="301680" indent="-301680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Três postos operativos: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411280" y="2690640"/>
            <a:ext cx="6278760" cy="1209960"/>
            <a:chOff x="2411280" y="2690640"/>
            <a:chExt cx="6278760" cy="1209960"/>
          </a:xfrm>
        </p:grpSpPr>
        <p:sp>
          <p:nvSpPr>
            <p:cNvPr id="202" name=""/>
            <p:cNvSpPr/>
            <p:nvPr/>
          </p:nvSpPr>
          <p:spPr>
            <a:xfrm>
              <a:off x="2411280" y="2690640"/>
              <a:ext cx="1677960" cy="1209960"/>
            </a:xfrm>
            <a:prstGeom prst="roundRect">
              <a:avLst>
                <a:gd name="adj" fmla="val 18352"/>
              </a:avLst>
            </a:prstGeom>
            <a:solidFill>
              <a:srgbClr val="fcfeb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711680" y="2690640"/>
              <a:ext cx="1677960" cy="1209960"/>
            </a:xfrm>
            <a:prstGeom prst="roundRect">
              <a:avLst>
                <a:gd name="adj" fmla="val 18352"/>
              </a:avLst>
            </a:prstGeom>
            <a:solidFill>
              <a:srgbClr val="fcfeb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012080" y="2690640"/>
              <a:ext cx="1677960" cy="1209960"/>
            </a:xfrm>
            <a:prstGeom prst="roundRect">
              <a:avLst>
                <a:gd name="adj" fmla="val 18352"/>
              </a:avLst>
            </a:prstGeom>
            <a:solidFill>
              <a:srgbClr val="fcfeb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803320" y="3130560"/>
              <a:ext cx="790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1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101920" y="3130560"/>
              <a:ext cx="790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2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402320" y="3130560"/>
              <a:ext cx="790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3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487440" y="4037040"/>
            <a:ext cx="7983720" cy="820440"/>
            <a:chOff x="487440" y="4037040"/>
            <a:chExt cx="7983720" cy="820440"/>
          </a:xfrm>
        </p:grpSpPr>
        <p:sp>
          <p:nvSpPr>
            <p:cNvPr id="209" name=""/>
            <p:cNvSpPr/>
            <p:nvPr/>
          </p:nvSpPr>
          <p:spPr>
            <a:xfrm>
              <a:off x="487440" y="4037040"/>
              <a:ext cx="16383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Índices 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e Custos: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626920" y="4351320"/>
              <a:ext cx="1283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$100 / h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887360" y="4351320"/>
              <a:ext cx="1283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$200 / h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187760" y="4351320"/>
              <a:ext cx="1283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$150 / h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3284640" y="4881600"/>
            <a:ext cx="4232160" cy="1116000"/>
            <a:chOff x="3284640" y="4881600"/>
            <a:chExt cx="4232160" cy="1116000"/>
          </a:xfrm>
        </p:grpSpPr>
        <p:sp>
          <p:nvSpPr>
            <p:cNvPr id="214" name=""/>
            <p:cNvSpPr/>
            <p:nvPr/>
          </p:nvSpPr>
          <p:spPr>
            <a:xfrm>
              <a:off x="3284640" y="4894200"/>
              <a:ext cx="0" cy="1090800"/>
            </a:xfrm>
            <a:prstGeom prst="line">
              <a:avLst/>
            </a:prstGeom>
            <a:ln w="255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394240" y="4894200"/>
              <a:ext cx="0" cy="1090800"/>
            </a:xfrm>
            <a:prstGeom prst="line">
              <a:avLst/>
            </a:prstGeom>
            <a:ln w="255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504200" y="4894200"/>
              <a:ext cx="0" cy="1090800"/>
            </a:xfrm>
            <a:prstGeom prst="line">
              <a:avLst/>
            </a:prstGeom>
            <a:ln w="255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298680" y="4881600"/>
              <a:ext cx="1871640" cy="1039680"/>
            </a:xfrm>
            <a:prstGeom prst="line">
              <a:avLst/>
            </a:prstGeom>
            <a:ln w="12600">
              <a:solidFill>
                <a:srgbClr val="618ffd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298680" y="4881600"/>
              <a:ext cx="3770280" cy="1116000"/>
            </a:xfrm>
            <a:prstGeom prst="line">
              <a:avLst/>
            </a:prstGeom>
            <a:ln w="12600">
              <a:solidFill>
                <a:srgbClr val="618ffd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3484080" y="4881600"/>
              <a:ext cx="1922760" cy="1039680"/>
            </a:xfrm>
            <a:prstGeom prst="line">
              <a:avLst/>
            </a:prstGeom>
            <a:ln w="12600">
              <a:solidFill>
                <a:srgbClr val="618ffd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408640" y="4881600"/>
              <a:ext cx="1941480" cy="1116000"/>
            </a:xfrm>
            <a:prstGeom prst="line">
              <a:avLst/>
            </a:prstGeom>
            <a:ln w="12600">
              <a:solidFill>
                <a:srgbClr val="618ffd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5594400" y="4881600"/>
              <a:ext cx="1922400" cy="1039680"/>
            </a:xfrm>
            <a:prstGeom prst="line">
              <a:avLst/>
            </a:prstGeom>
            <a:ln w="12600">
              <a:solidFill>
                <a:srgbClr val="618ffd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3835440" y="4881600"/>
              <a:ext cx="3681360" cy="1116000"/>
            </a:xfrm>
            <a:prstGeom prst="line">
              <a:avLst/>
            </a:prstGeom>
            <a:ln w="12600">
              <a:solidFill>
                <a:srgbClr val="618ffd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487800" y="5659560"/>
            <a:ext cx="8084160" cy="826200"/>
            <a:chOff x="487800" y="5659560"/>
            <a:chExt cx="8084160" cy="826200"/>
          </a:xfrm>
        </p:grpSpPr>
        <p:sp>
          <p:nvSpPr>
            <p:cNvPr id="224" name=""/>
            <p:cNvSpPr/>
            <p:nvPr/>
          </p:nvSpPr>
          <p:spPr>
            <a:xfrm>
              <a:off x="487800" y="5659560"/>
              <a:ext cx="17053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tenciais 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odutivos: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526120" y="6031080"/>
              <a:ext cx="1484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 UEP/h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786920" y="6031080"/>
              <a:ext cx="1484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0 UEP/h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087320" y="6031080"/>
              <a:ext cx="1484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5 UEP/h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7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200" y="533520"/>
            <a:ext cx="594360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Princípio das Relações Constantes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88520" y="3047760"/>
            <a:ext cx="8226360" cy="36003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1400" bIns="41400" anchor="t">
            <a:normAutofit/>
          </a:bodyPr>
          <a:p>
            <a:pPr marL="301680" indent="-301680" algn="just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As relações entre os Potenciais Produtivos não são alteradas se não houver modificações na estrutura produtiva.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301680" indent="-301680" algn="just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O método da UEP é implantado e seus cálculos de implantação podem ser refeitos a cada biênio ou anualmente.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146160" y="2742840"/>
            <a:ext cx="8616960" cy="3999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1400" bIns="41400" anchor="t">
            <a:normAutofit fontScale="47000"/>
          </a:bodyPr>
          <a:p>
            <a:pPr marL="141480" indent="-141480" algn="just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Os esforços são alocados aos produtos de acordo com os tempos de passagem nos postos.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131400" y="419040"/>
            <a:ext cx="558324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Esforços de </a:t>
            </a:r>
            <a:br>
              <a:rPr sz="4400"/>
            </a:b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Produção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917640" y="3780000"/>
            <a:ext cx="6912000" cy="1352520"/>
            <a:chOff x="917640" y="3780000"/>
            <a:chExt cx="6912000" cy="1352520"/>
          </a:xfrm>
        </p:grpSpPr>
        <p:sp>
          <p:nvSpPr>
            <p:cNvPr id="237" name=""/>
            <p:cNvSpPr/>
            <p:nvPr/>
          </p:nvSpPr>
          <p:spPr>
            <a:xfrm>
              <a:off x="917640" y="3808440"/>
              <a:ext cx="2162160" cy="1319040"/>
            </a:xfrm>
            <a:prstGeom prst="roundRect">
              <a:avLst>
                <a:gd name="adj" fmla="val 18389"/>
              </a:avLst>
            </a:prstGeom>
            <a:solidFill>
              <a:srgbClr val="fcfeb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305160" y="3780000"/>
              <a:ext cx="2165400" cy="1323720"/>
            </a:xfrm>
            <a:prstGeom prst="roundRect">
              <a:avLst>
                <a:gd name="adj" fmla="val 18324"/>
              </a:avLst>
            </a:prstGeom>
            <a:solidFill>
              <a:srgbClr val="fcfeb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664240" y="3808440"/>
              <a:ext cx="2165400" cy="1324080"/>
            </a:xfrm>
            <a:prstGeom prst="roundRect">
              <a:avLst>
                <a:gd name="adj" fmla="val 18324"/>
              </a:avLst>
            </a:prstGeom>
            <a:solidFill>
              <a:srgbClr val="fcfeb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519920" y="3957480"/>
              <a:ext cx="84456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PO1</a:t>
              </a:r>
              <a:endParaRPr b="0" lang="en-US" sz="26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907440" y="3929040"/>
              <a:ext cx="84456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PO2</a:t>
              </a:r>
              <a:endParaRPr b="0" lang="en-US" sz="26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266520" y="3957480"/>
              <a:ext cx="84456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PO3</a:t>
              </a:r>
              <a:endParaRPr b="0" lang="en-US" sz="26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218240" y="4456080"/>
              <a:ext cx="159876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10 UEP/h</a:t>
              </a:r>
              <a:endParaRPr b="0" lang="en-US" sz="26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564720" y="4427640"/>
              <a:ext cx="159876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20 UEP/h</a:t>
              </a:r>
              <a:endParaRPr b="0" lang="en-US" sz="26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923440" y="4456080"/>
              <a:ext cx="159876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15 UEP/h</a:t>
              </a:r>
              <a:endParaRPr b="0" lang="en-US" sz="26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162000" y="4788000"/>
            <a:ext cx="9008280" cy="1167480"/>
            <a:chOff x="162000" y="4788000"/>
            <a:chExt cx="9008280" cy="1167480"/>
          </a:xfrm>
        </p:grpSpPr>
        <p:sp>
          <p:nvSpPr>
            <p:cNvPr id="247" name=""/>
            <p:cNvSpPr/>
            <p:nvPr/>
          </p:nvSpPr>
          <p:spPr>
            <a:xfrm>
              <a:off x="3317040" y="5423040"/>
              <a:ext cx="209412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1 h (20 UEP)</a:t>
              </a:r>
              <a:endParaRPr b="0" lang="en-US" sz="26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676120" y="5451480"/>
              <a:ext cx="209412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2 h (30 UEP)</a:t>
              </a:r>
              <a:endParaRPr b="0" lang="en-US" sz="26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62000" y="5394240"/>
              <a:ext cx="661680" cy="56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P1</a:t>
              </a:r>
              <a:endParaRPr b="0" lang="en-US" sz="31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970560" y="5451480"/>
              <a:ext cx="209412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3 h (30 UEP)</a:t>
              </a:r>
              <a:endParaRPr b="0" lang="en-US" sz="26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7846560" y="4788000"/>
              <a:ext cx="1323720" cy="1148400"/>
              <a:chOff x="7846560" y="4788000"/>
              <a:chExt cx="1323720" cy="1148400"/>
            </a:xfrm>
          </p:grpSpPr>
          <p:sp>
            <p:nvSpPr>
              <p:cNvPr id="252" name=""/>
              <p:cNvSpPr/>
              <p:nvPr/>
            </p:nvSpPr>
            <p:spPr>
              <a:xfrm>
                <a:off x="7846560" y="4788000"/>
                <a:ext cx="1249920" cy="48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Arial"/>
                  </a:rPr>
                  <a:t>TOTAL</a:t>
                </a:r>
                <a:endParaRPr b="0" lang="en-US" sz="26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847640" y="5451480"/>
                <a:ext cx="1322640" cy="48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Arial"/>
                  </a:rPr>
                  <a:t>80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Arial"/>
                  </a:rPr>
                  <a:t> UEP</a:t>
                </a:r>
                <a:endParaRPr b="0" lang="en-US" sz="26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4" name=""/>
          <p:cNvGrpSpPr/>
          <p:nvPr/>
        </p:nvGrpSpPr>
        <p:grpSpPr>
          <a:xfrm>
            <a:off x="162000" y="6058080"/>
            <a:ext cx="9025920" cy="561240"/>
            <a:chOff x="162000" y="6058080"/>
            <a:chExt cx="9025920" cy="561240"/>
          </a:xfrm>
        </p:grpSpPr>
        <p:sp>
          <p:nvSpPr>
            <p:cNvPr id="255" name=""/>
            <p:cNvSpPr/>
            <p:nvPr/>
          </p:nvSpPr>
          <p:spPr>
            <a:xfrm>
              <a:off x="162000" y="6058080"/>
              <a:ext cx="661680" cy="56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P2</a:t>
              </a:r>
              <a:endParaRPr b="0" lang="en-US" sz="31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970560" y="6114960"/>
              <a:ext cx="209412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1 h (10 UEP)</a:t>
              </a:r>
              <a:endParaRPr b="0" lang="en-US" sz="26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317040" y="6086520"/>
              <a:ext cx="209412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3 h (60 UEP)</a:t>
              </a:r>
              <a:endParaRPr b="0" lang="en-US" sz="26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676120" y="6114960"/>
              <a:ext cx="209412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2 h (30 UEP)</a:t>
              </a:r>
              <a:endParaRPr b="0" lang="en-US" sz="26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680600" y="6114960"/>
              <a:ext cx="150732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 UEP</a:t>
              </a:r>
              <a:endParaRPr b="0" lang="en-US" sz="26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9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0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60200" y="533520"/>
            <a:ext cx="517392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UEP - Implantação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46120" y="3276720"/>
            <a:ext cx="7454880" cy="28382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1400" bIns="41400" anchor="t">
            <a:normAutofit fontScale="91000"/>
          </a:bodyPr>
          <a:p>
            <a:pPr marL="274320" indent="-274320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Definição dos Postos Operativos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274320" indent="-274320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Cálculo dos Índices de Custos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274320" indent="-274320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Escolha do Produto Base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274320" indent="-274320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Determinação dos Potenciais Produtivos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274320" indent="-274320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Cálculo das Equivalentes dos Produtos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0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34440" y="590400"/>
            <a:ext cx="538020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Definição dos </a:t>
            </a:r>
            <a:br>
              <a:rPr sz="4400"/>
            </a:b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Postos Operativos 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60080" y="2971440"/>
            <a:ext cx="8397720" cy="28638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1400" bIns="41400" anchor="t">
            <a:normAutofit/>
          </a:bodyPr>
          <a:p>
            <a:pPr marL="301680" indent="-301680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Conjunto de operações produtivas elementares homogêneas.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301680" indent="-301680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Preferencialmente, </a:t>
            </a:r>
            <a:r>
              <a:rPr b="0" lang="en-US" sz="2800" spc="-1" strike="noStrike">
                <a:solidFill>
                  <a:srgbClr val="6e0043"/>
                </a:solidFill>
                <a:latin typeface="Arial"/>
              </a:rPr>
              <a:t>1 máquina = 1 posto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301680" indent="-301680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O posto operativo é o foco concentrador dos esforços de produção.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0" dur="2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74320" y="533520"/>
            <a:ext cx="528804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Cálculo dos </a:t>
            </a:r>
            <a:br>
              <a:rPr sz="4400"/>
            </a:b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Índices de Custos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02840" y="2647440"/>
            <a:ext cx="8426520" cy="3886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1400" bIns="41400" anchor="t">
            <a:normAutofit/>
          </a:bodyPr>
          <a:p>
            <a:pPr marL="301680" indent="-301680" algn="just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4e47"/>
                </a:solidFill>
                <a:latin typeface="Arial"/>
              </a:rPr>
              <a:t>Custos devem representar da forma mais acurada possível o dispêndio de insumos por parte dos postos em funcionamento.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301680" indent="-301680" algn="just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4e47"/>
                </a:solidFill>
                <a:latin typeface="Arial"/>
              </a:rPr>
              <a:t>Principais itens: 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lvl="1" marL="654120" indent="-238320">
              <a:spcBef>
                <a:spcPts val="624"/>
              </a:spcBef>
              <a:buClr>
                <a:srgbClr val="081d58"/>
              </a:buClr>
              <a:buSzPct val="75000"/>
              <a:buFont typeface="Monotype Sorts" charset="2"/>
              <a:buChar char="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500" spc="-1" strike="noStrike">
                <a:solidFill>
                  <a:srgbClr val="004e47"/>
                </a:solidFill>
                <a:latin typeface="Arial"/>
              </a:rPr>
              <a:t>MOD</a:t>
            </a:r>
            <a:endParaRPr b="0" lang="en-US" sz="2500" spc="-1" strike="noStrike">
              <a:solidFill>
                <a:srgbClr val="003e00"/>
              </a:solidFill>
              <a:latin typeface="Arial"/>
            </a:endParaRPr>
          </a:p>
          <a:p>
            <a:pPr lvl="1" marL="654120" indent="-238320">
              <a:spcBef>
                <a:spcPts val="624"/>
              </a:spcBef>
              <a:buClr>
                <a:srgbClr val="081d58"/>
              </a:buClr>
              <a:buSzPct val="75000"/>
              <a:buFont typeface="Monotype Sorts" charset="2"/>
              <a:buChar char="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500" spc="-1" strike="noStrike">
                <a:solidFill>
                  <a:srgbClr val="004e47"/>
                </a:solidFill>
                <a:latin typeface="Arial"/>
              </a:rPr>
              <a:t>MOI</a:t>
            </a:r>
            <a:endParaRPr b="0" lang="en-US" sz="2500" spc="-1" strike="noStrike">
              <a:solidFill>
                <a:srgbClr val="003e00"/>
              </a:solidFill>
              <a:latin typeface="Arial"/>
            </a:endParaRPr>
          </a:p>
          <a:p>
            <a:pPr lvl="1" marL="654120" indent="-238320">
              <a:spcBef>
                <a:spcPts val="624"/>
              </a:spcBef>
              <a:buClr>
                <a:srgbClr val="081d58"/>
              </a:buClr>
              <a:buSzPct val="75000"/>
              <a:buFont typeface="Monotype Sorts" charset="2"/>
              <a:buChar char="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500" spc="-1" strike="noStrike">
                <a:solidFill>
                  <a:srgbClr val="004e47"/>
                </a:solidFill>
                <a:latin typeface="Arial"/>
              </a:rPr>
              <a:t>Depreciação</a:t>
            </a:r>
            <a:endParaRPr b="0" lang="en-US" sz="2500" spc="-1" strike="noStrike">
              <a:solidFill>
                <a:srgbClr val="003e00"/>
              </a:solidFill>
              <a:latin typeface="Arial"/>
            </a:endParaRPr>
          </a:p>
          <a:p>
            <a:pPr lvl="1" marL="654120" indent="-238320">
              <a:spcBef>
                <a:spcPts val="624"/>
              </a:spcBef>
              <a:buClr>
                <a:srgbClr val="081d58"/>
              </a:buClr>
              <a:buSzPct val="75000"/>
              <a:buFont typeface="Monotype Sorts" charset="2"/>
              <a:buChar char="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500" spc="-1" strike="noStrike">
                <a:solidFill>
                  <a:srgbClr val="004e47"/>
                </a:solidFill>
                <a:latin typeface="Arial"/>
              </a:rPr>
              <a:t>Materiais de Consumo</a:t>
            </a:r>
            <a:endParaRPr b="0" lang="en-US" sz="25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495680" y="4724280"/>
            <a:ext cx="3486240" cy="18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280049"/>
              </a:buClr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4e47"/>
                </a:solidFill>
                <a:latin typeface="Arial"/>
              </a:rPr>
              <a:t>Energia Elétrica</a:t>
            </a:r>
            <a:endParaRPr b="0" lang="en-US" sz="2500" spc="-1" strike="noStrike">
              <a:solidFill>
                <a:srgbClr val="00279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280049"/>
              </a:buClr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4e47"/>
                </a:solidFill>
                <a:latin typeface="Arial"/>
              </a:rPr>
              <a:t>Manutenção</a:t>
            </a:r>
            <a:endParaRPr b="0" lang="en-US" sz="2500" spc="-1" strike="noStrike">
              <a:solidFill>
                <a:srgbClr val="00279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280049"/>
              </a:buClr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4e47"/>
                </a:solidFill>
                <a:latin typeface="Arial"/>
              </a:rPr>
              <a:t>Utilidades</a:t>
            </a:r>
            <a:endParaRPr b="0" lang="en-US" sz="25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2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587" dur="20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2" dur="2000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7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4" dur="10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20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20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20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60200" y="533520"/>
            <a:ext cx="502128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Escolha do Produto Base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88520" y="2762280"/>
            <a:ext cx="8255160" cy="386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1400" bIns="41400" anchor="t">
            <a:normAutofit/>
          </a:bodyPr>
          <a:p>
            <a:pPr marL="301680" indent="-301680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Produto real ou fictício que represente o uso da estrutura produtiva.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301680" indent="-301680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Sua função é amortecer variações individuais dos potenciais produtivos.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301680" indent="-301680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O custo do produto base é a referência de comparação para a determinação das relações entre os potenciais produtivos.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0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640" y="533520"/>
            <a:ext cx="619452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Cálculo dos </a:t>
            </a:r>
            <a:br>
              <a:rPr sz="4400"/>
            </a:b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Potenciais Produtivos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45800" y="2971800"/>
            <a:ext cx="8769240" cy="37339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1400" bIns="41400" anchor="t">
            <a:normAutofit/>
          </a:bodyPr>
          <a:p>
            <a:pPr marL="301680" indent="-301680" algn="just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Os potenciais produtivos são determinados dividindo-se os índices de custos pelo custo do produto base.</a:t>
            </a: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80880" y="5029200"/>
            <a:ext cx="8388000" cy="1415880"/>
            <a:chOff x="380880" y="5029200"/>
            <a:chExt cx="8388000" cy="1415880"/>
          </a:xfrm>
        </p:grpSpPr>
        <p:sp>
          <p:nvSpPr>
            <p:cNvPr id="282" name=""/>
            <p:cNvSpPr/>
            <p:nvPr/>
          </p:nvSpPr>
          <p:spPr>
            <a:xfrm>
              <a:off x="380880" y="5029200"/>
              <a:ext cx="8388000" cy="1415880"/>
            </a:xfrm>
            <a:prstGeom prst="roundRect">
              <a:avLst>
                <a:gd name="adj" fmla="val 12486"/>
              </a:avLst>
            </a:prstGeom>
            <a:solidFill>
              <a:srgbClr val="feffe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440280" y="5122800"/>
              <a:ext cx="8108280" cy="1267200"/>
              <a:chOff x="440280" y="5122800"/>
              <a:chExt cx="8108280" cy="1267200"/>
            </a:xfrm>
          </p:grpSpPr>
          <p:sp>
            <p:nvSpPr>
              <p:cNvPr id="284" name=""/>
              <p:cNvSpPr/>
              <p:nvPr/>
            </p:nvSpPr>
            <p:spPr>
              <a:xfrm>
                <a:off x="5062320" y="5730120"/>
                <a:ext cx="3486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40280" y="5427000"/>
                <a:ext cx="1905120" cy="59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300" spc="-1" strike="noStrike">
                    <a:solidFill>
                      <a:srgbClr val="003e00"/>
                    </a:solidFill>
                    <a:latin typeface="Arial"/>
                  </a:rPr>
                  <a:t>Potencial</a:t>
                </a:r>
                <a:endParaRPr b="0" lang="en-US" sz="33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462040" y="5427000"/>
                <a:ext cx="1952280" cy="59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300" spc="-1" strike="noStrike">
                    <a:solidFill>
                      <a:srgbClr val="003e00"/>
                    </a:solidFill>
                    <a:latin typeface="Arial"/>
                  </a:rPr>
                  <a:t>Produtivo</a:t>
                </a:r>
                <a:endParaRPr b="0" lang="en-US" sz="33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973400" y="5122800"/>
                <a:ext cx="1299960" cy="59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300" spc="-1" strike="noStrike">
                    <a:solidFill>
                      <a:srgbClr val="003e00"/>
                    </a:solidFill>
                    <a:latin typeface="Arial"/>
                  </a:rPr>
                  <a:t>Índice</a:t>
                </a:r>
                <a:endParaRPr b="0" lang="en-US" sz="33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352920" y="5122800"/>
                <a:ext cx="647640" cy="59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300" spc="-1" strike="noStrike">
                    <a:solidFill>
                      <a:srgbClr val="003e00"/>
                    </a:solidFill>
                    <a:latin typeface="Arial"/>
                  </a:rPr>
                  <a:t>de</a:t>
                </a:r>
                <a:endParaRPr b="0" lang="en-US" sz="33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006320" y="5122800"/>
                <a:ext cx="1487520" cy="59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300" spc="-1" strike="noStrike">
                    <a:solidFill>
                      <a:srgbClr val="003e00"/>
                    </a:solidFill>
                    <a:latin typeface="Arial"/>
                  </a:rPr>
                  <a:t>Custos</a:t>
                </a:r>
                <a:endParaRPr b="0" lang="en-US" sz="33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979520" y="5798520"/>
                <a:ext cx="1019520" cy="59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300" spc="-1" strike="noStrike">
                    <a:solidFill>
                      <a:srgbClr val="003e00"/>
                    </a:solidFill>
                    <a:latin typeface="Arial"/>
                  </a:rPr>
                  <a:t>Foto</a:t>
                </a:r>
                <a:endParaRPr b="0" lang="en-US" sz="33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047640" y="5798520"/>
                <a:ext cx="1277280" cy="59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300" spc="-1" strike="noStrike">
                    <a:solidFill>
                      <a:srgbClr val="003e00"/>
                    </a:solidFill>
                    <a:latin typeface="Arial"/>
                  </a:rPr>
                  <a:t>Custo</a:t>
                </a:r>
                <a:endParaRPr b="0" lang="en-US" sz="33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384680" y="5798520"/>
                <a:ext cx="1136880" cy="59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300" spc="-1" strike="noStrike">
                    <a:solidFill>
                      <a:srgbClr val="003e00"/>
                    </a:solidFill>
                    <a:latin typeface="Arial"/>
                  </a:rPr>
                  <a:t>Base</a:t>
                </a:r>
                <a:endParaRPr b="0" lang="en-US" sz="33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529520" y="5427000"/>
                <a:ext cx="515160" cy="59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300" spc="-1" strike="noStrike">
                    <a:solidFill>
                      <a:srgbClr val="003e00"/>
                    </a:solidFill>
                    <a:latin typeface="Symbol"/>
                    <a:ea typeface="Symbol"/>
                  </a:rPr>
                  <a:t></a:t>
                </a:r>
                <a:endParaRPr b="0" lang="en-US" sz="33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2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60200" y="533520"/>
            <a:ext cx="502128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Equivalentes dos Produtos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3000" y="3151080"/>
            <a:ext cx="8111880" cy="11080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1400" bIns="41400" anchor="t">
            <a:normAutofit/>
          </a:bodyPr>
          <a:p>
            <a:pPr marL="301680" indent="-301680" algn="just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Os produtos absorvem os esforços de produção em sua passagem pelos postos operativos.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0200" y="533520"/>
            <a:ext cx="502128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UEP - Histórico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5800" y="3033360"/>
            <a:ext cx="8769240" cy="31050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1400" bIns="41400" anchor="t">
            <a:normAutofit/>
          </a:bodyPr>
          <a:p>
            <a:pPr marL="301680" indent="-301680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1945 - Eng. Georges Perrin - Método GP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301680" indent="-301680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1960 - Eng. Franz Allora - Método da UEP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301680" indent="-301680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1986 - Prof. Francisco Kliemann (UFSC)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301680" indent="-301680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2001 - +-120 empresas (RS, SC, PR, SP)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586728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Exemplo</a:t>
            </a:r>
            <a:br>
              <a:rPr sz="4400"/>
            </a:b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Implantação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74400" y="2790360"/>
            <a:ext cx="7683480" cy="20955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1400" bIns="41400" anchor="t">
            <a:normAutofit/>
          </a:bodyPr>
          <a:p>
            <a:pPr marL="301680" indent="0" algn="ctr">
              <a:spcBef>
                <a:spcPts val="2001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200" spc="-1" strike="noStrike">
                <a:solidFill>
                  <a:srgbClr val="6e0043"/>
                </a:solidFill>
                <a:latin typeface="Arial"/>
              </a:rPr>
              <a:t>Definicão dos Postos Operativos</a:t>
            </a: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  <a:p>
            <a:pPr marL="301680" indent="-301680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4 Postos Operativos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301680" indent="-301680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4 Produtos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4" dur="8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5" dur="8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6" dur="8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10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9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93680" y="2625840"/>
            <a:ext cx="8572320" cy="3884400"/>
          </a:xfrm>
          <a:prstGeom prst="rect">
            <a:avLst/>
          </a:prstGeom>
          <a:solidFill>
            <a:srgbClr val="fcfeb9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60200" y="533520"/>
            <a:ext cx="502128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Cálculo dos Índices de Custos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306" name=""/>
          <p:cNvSpPr/>
          <p:nvPr/>
        </p:nvSpPr>
        <p:spPr>
          <a:xfrm>
            <a:off x="3006720" y="262908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006720" y="2637000"/>
            <a:ext cx="7920" cy="38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905400" y="2631960"/>
            <a:ext cx="11588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tem de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722040" y="2631960"/>
            <a:ext cx="37526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Índices de custos ($ / h)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006720" y="302112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014640" y="3021120"/>
            <a:ext cx="1434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449600" y="3021120"/>
            <a:ext cx="97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459320" y="3021120"/>
            <a:ext cx="1427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886360" y="3021120"/>
            <a:ext cx="97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896080" y="3021120"/>
            <a:ext cx="1430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326360" y="3021120"/>
            <a:ext cx="9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335720" y="3021120"/>
            <a:ext cx="14288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006720" y="3029040"/>
            <a:ext cx="7920" cy="38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035720" y="3024360"/>
            <a:ext cx="9396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usto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299760" y="3024360"/>
            <a:ext cx="755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O 1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737960" y="3024360"/>
            <a:ext cx="755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O 2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174720" y="3024360"/>
            <a:ext cx="755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O 3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616160" y="3024360"/>
            <a:ext cx="755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O 4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006720" y="341460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449600" y="3414600"/>
            <a:ext cx="97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006720" y="3422520"/>
            <a:ext cx="7920" cy="384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130040" y="3416400"/>
            <a:ext cx="773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OD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625200" y="341640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951440" y="3416400"/>
            <a:ext cx="2764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400440" y="3429000"/>
            <a:ext cx="369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848360" y="3411360"/>
            <a:ext cx="369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006720" y="3807000"/>
            <a:ext cx="7920" cy="38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216800" y="3800520"/>
            <a:ext cx="625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OI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504960" y="3809880"/>
            <a:ext cx="369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057280" y="380052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393960" y="3800520"/>
            <a:ext cx="369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829640" y="3800520"/>
            <a:ext cx="2764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006720" y="4191120"/>
            <a:ext cx="7920" cy="38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8840" y="4184640"/>
            <a:ext cx="1971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preciação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513240" y="4184640"/>
            <a:ext cx="2764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51440" y="4184640"/>
            <a:ext cx="2764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400440" y="4191120"/>
            <a:ext cx="369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848360" y="4179960"/>
            <a:ext cx="369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006720" y="4575240"/>
            <a:ext cx="7920" cy="38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39040" y="4568760"/>
            <a:ext cx="23173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nerg. Elétrica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625200" y="456876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951440" y="4568760"/>
            <a:ext cx="2764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495840" y="456876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941600" y="456876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006720" y="4960800"/>
            <a:ext cx="7920" cy="384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1360" y="4954680"/>
            <a:ext cx="2282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t. Consumo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619080" y="495468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057280" y="495468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400440" y="4950000"/>
            <a:ext cx="369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829280" y="4954680"/>
            <a:ext cx="369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006720" y="5345280"/>
            <a:ext cx="7920" cy="38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61160" y="5338800"/>
            <a:ext cx="19346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nutenção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619080" y="533880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951440" y="5338800"/>
            <a:ext cx="2764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00440" y="5334120"/>
            <a:ext cx="369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848360" y="5334120"/>
            <a:ext cx="369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006720" y="5729400"/>
            <a:ext cx="7920" cy="38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62040" y="5722920"/>
            <a:ext cx="15825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tilidades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619080" y="572292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063400" y="572292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495840" y="5722920"/>
            <a:ext cx="1105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829640" y="5722920"/>
            <a:ext cx="2019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006720" y="611352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449600" y="611352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31760" y="6507000"/>
            <a:ext cx="2874960" cy="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006720" y="6122880"/>
            <a:ext cx="7920" cy="38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006720" y="6507000"/>
            <a:ext cx="7920" cy="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014640" y="6507000"/>
            <a:ext cx="1434960" cy="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49600" y="6507000"/>
            <a:ext cx="9720" cy="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59320" y="6507000"/>
            <a:ext cx="1427040" cy="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886360" y="6507000"/>
            <a:ext cx="9720" cy="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896080" y="6507000"/>
            <a:ext cx="1430280" cy="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326360" y="6507000"/>
            <a:ext cx="9360" cy="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335720" y="6507000"/>
            <a:ext cx="1428840" cy="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96440" y="6116760"/>
            <a:ext cx="18752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otal (FIPO)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12880" y="6116760"/>
            <a:ext cx="369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51080" y="6116760"/>
            <a:ext cx="369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387840" y="6116760"/>
            <a:ext cx="369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829280" y="6116760"/>
            <a:ext cx="369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90440" y="2637000"/>
            <a:ext cx="0" cy="387000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12760" y="2625840"/>
            <a:ext cx="85582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01600" y="3409920"/>
            <a:ext cx="85708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766000" y="2633760"/>
            <a:ext cx="0" cy="387180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60200" y="533520"/>
            <a:ext cx="502128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Escolha do Produto Base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392" name=""/>
          <p:cNvSpPr/>
          <p:nvPr/>
        </p:nvSpPr>
        <p:spPr>
          <a:xfrm>
            <a:off x="471600" y="3000240"/>
            <a:ext cx="6120" cy="97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71600" y="3000240"/>
            <a:ext cx="6120" cy="97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635200" y="3000240"/>
            <a:ext cx="6480" cy="97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71600" y="3019320"/>
            <a:ext cx="6120" cy="42876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71600" y="3457440"/>
            <a:ext cx="6120" cy="4478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85640" y="3895560"/>
            <a:ext cx="2138400" cy="972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71600" y="3914640"/>
            <a:ext cx="6120" cy="478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71600" y="3971880"/>
            <a:ext cx="6120" cy="4478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85640" y="4410000"/>
            <a:ext cx="2138400" cy="972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71600" y="4429080"/>
            <a:ext cx="6120" cy="4478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1600" y="4884840"/>
            <a:ext cx="6120" cy="4474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71600" y="5342040"/>
            <a:ext cx="6120" cy="4474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1600" y="5799240"/>
            <a:ext cx="6120" cy="936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71600" y="5799240"/>
            <a:ext cx="6120" cy="936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635200" y="5799240"/>
            <a:ext cx="6480" cy="936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075200" y="5799240"/>
            <a:ext cx="6120" cy="936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394840" y="5799240"/>
            <a:ext cx="6120" cy="936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394840" y="5799240"/>
            <a:ext cx="6120" cy="936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394840" y="3019320"/>
            <a:ext cx="6120" cy="42876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394840" y="3457440"/>
            <a:ext cx="6120" cy="4478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8394840" y="3971880"/>
            <a:ext cx="6120" cy="4478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8394840" y="4429080"/>
            <a:ext cx="6120" cy="4478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85640" y="4865760"/>
            <a:ext cx="2138400" cy="936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394840" y="4884840"/>
            <a:ext cx="6120" cy="4474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394840" y="5342040"/>
            <a:ext cx="6120" cy="4474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838080" y="5618160"/>
            <a:ext cx="2138400" cy="936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838080" y="6094440"/>
            <a:ext cx="2138400" cy="936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002040" y="6094440"/>
            <a:ext cx="1415880" cy="936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443480" y="6094440"/>
            <a:ext cx="1415880" cy="936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867280" y="6094440"/>
            <a:ext cx="6480" cy="936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883120" y="6094440"/>
            <a:ext cx="1416240" cy="936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307280" y="6094440"/>
            <a:ext cx="6480" cy="936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323120" y="6094440"/>
            <a:ext cx="1416240" cy="936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838080" y="3314880"/>
            <a:ext cx="2138400" cy="42840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987640" y="3314880"/>
            <a:ext cx="5749920" cy="428400"/>
          </a:xfrm>
          <a:prstGeom prst="rect">
            <a:avLst/>
          </a:prstGeom>
          <a:solidFill>
            <a:srgbClr val="f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25240" y="3276720"/>
            <a:ext cx="555804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79f"/>
                </a:solidFill>
                <a:latin typeface="Arial"/>
              </a:rPr>
              <a:t>Tempos de passagem (horas)</a:t>
            </a: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38080" y="3753000"/>
            <a:ext cx="2138400" cy="42840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147680" y="3713040"/>
            <a:ext cx="164304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79f"/>
                </a:solidFill>
                <a:latin typeface="Arial"/>
              </a:rPr>
              <a:t>Produto</a:t>
            </a: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987640" y="3753000"/>
            <a:ext cx="1430280" cy="447480"/>
          </a:xfrm>
          <a:prstGeom prst="rect">
            <a:avLst/>
          </a:prstGeom>
          <a:solidFill>
            <a:srgbClr val="f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181680" y="3726000"/>
            <a:ext cx="10486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79f"/>
                </a:solidFill>
                <a:latin typeface="Arial"/>
              </a:rPr>
              <a:t>PO 1</a:t>
            </a: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427640" y="3753000"/>
            <a:ext cx="1430280" cy="44748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619880" y="3726000"/>
            <a:ext cx="10486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79f"/>
                </a:solidFill>
                <a:latin typeface="Arial"/>
              </a:rPr>
              <a:t>PO 2</a:t>
            </a: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867280" y="3753000"/>
            <a:ext cx="1430280" cy="447480"/>
          </a:xfrm>
          <a:prstGeom prst="rect">
            <a:avLst/>
          </a:prstGeom>
          <a:solidFill>
            <a:srgbClr val="f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059880" y="3726000"/>
            <a:ext cx="10486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79f"/>
                </a:solidFill>
                <a:latin typeface="Arial"/>
              </a:rPr>
              <a:t>PO 3</a:t>
            </a: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307280" y="3753000"/>
            <a:ext cx="1430280" cy="44748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501320" y="3726000"/>
            <a:ext cx="10486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79f"/>
                </a:solidFill>
                <a:latin typeface="Arial"/>
              </a:rPr>
              <a:t>PO 4</a:t>
            </a: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838080" y="4210200"/>
            <a:ext cx="2138400" cy="9360"/>
          </a:xfrm>
          <a:prstGeom prst="rect">
            <a:avLst/>
          </a:prstGeom>
          <a:solidFill>
            <a:srgbClr val="dadada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838080" y="4248000"/>
            <a:ext cx="2138400" cy="97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987640" y="4210200"/>
            <a:ext cx="36720" cy="9360"/>
          </a:xfrm>
          <a:prstGeom prst="rect">
            <a:avLst/>
          </a:prstGeom>
          <a:solidFill>
            <a:srgbClr val="dadada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87640" y="4248000"/>
            <a:ext cx="36720" cy="97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033720" y="4210200"/>
            <a:ext cx="1384200" cy="9360"/>
          </a:xfrm>
          <a:prstGeom prst="rect">
            <a:avLst/>
          </a:prstGeom>
          <a:solidFill>
            <a:srgbClr val="dadada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33720" y="4248000"/>
            <a:ext cx="1384200" cy="97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427640" y="4210200"/>
            <a:ext cx="36360" cy="9360"/>
          </a:xfrm>
          <a:prstGeom prst="rect">
            <a:avLst/>
          </a:prstGeom>
          <a:solidFill>
            <a:srgbClr val="dadada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427640" y="4248000"/>
            <a:ext cx="36360" cy="97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73720" y="4210200"/>
            <a:ext cx="1384200" cy="9360"/>
          </a:xfrm>
          <a:prstGeom prst="rect">
            <a:avLst/>
          </a:prstGeom>
          <a:solidFill>
            <a:srgbClr val="dadada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473720" y="4248000"/>
            <a:ext cx="1384200" cy="97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867280" y="4210200"/>
            <a:ext cx="36720" cy="9360"/>
          </a:xfrm>
          <a:prstGeom prst="rect">
            <a:avLst/>
          </a:prstGeom>
          <a:solidFill>
            <a:srgbClr val="dadada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867280" y="4248000"/>
            <a:ext cx="36720" cy="97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913360" y="4210200"/>
            <a:ext cx="1384200" cy="9360"/>
          </a:xfrm>
          <a:prstGeom prst="rect">
            <a:avLst/>
          </a:prstGeom>
          <a:solidFill>
            <a:srgbClr val="dadada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913360" y="4248000"/>
            <a:ext cx="1384200" cy="97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307280" y="4210200"/>
            <a:ext cx="36360" cy="9360"/>
          </a:xfrm>
          <a:prstGeom prst="rect">
            <a:avLst/>
          </a:prstGeom>
          <a:solidFill>
            <a:srgbClr val="dadada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307280" y="4248000"/>
            <a:ext cx="36360" cy="97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353360" y="4210200"/>
            <a:ext cx="1384200" cy="9360"/>
          </a:xfrm>
          <a:prstGeom prst="rect">
            <a:avLst/>
          </a:prstGeom>
          <a:solidFill>
            <a:srgbClr val="dadada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353360" y="4248000"/>
            <a:ext cx="1384200" cy="97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747280" y="4210200"/>
            <a:ext cx="6120" cy="475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38080" y="4267080"/>
            <a:ext cx="2138400" cy="42876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580400" y="4227480"/>
            <a:ext cx="64764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79f"/>
                </a:solidFill>
                <a:latin typeface="Arial"/>
              </a:rPr>
              <a:t>P1</a:t>
            </a: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987640" y="4267080"/>
            <a:ext cx="1430280" cy="447840"/>
          </a:xfrm>
          <a:prstGeom prst="rect">
            <a:avLst/>
          </a:prstGeom>
          <a:solidFill>
            <a:srgbClr val="f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242880" y="4240080"/>
            <a:ext cx="92196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79f"/>
                </a:solidFill>
                <a:latin typeface="Arial"/>
              </a:rPr>
              <a:t>0,03</a:t>
            </a: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427640" y="4267080"/>
            <a:ext cx="1430280" cy="44784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681080" y="4240080"/>
            <a:ext cx="92196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79f"/>
                </a:solidFill>
                <a:latin typeface="Arial"/>
              </a:rPr>
              <a:t>0,20</a:t>
            </a: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867280" y="4267080"/>
            <a:ext cx="1430280" cy="447840"/>
          </a:xfrm>
          <a:prstGeom prst="rect">
            <a:avLst/>
          </a:prstGeom>
          <a:solidFill>
            <a:srgbClr val="f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103440" y="4226040"/>
            <a:ext cx="92196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79f"/>
                </a:solidFill>
                <a:latin typeface="Arial"/>
              </a:rPr>
              <a:t>0,03</a:t>
            </a: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307280" y="4267080"/>
            <a:ext cx="1430280" cy="44784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560720" y="4240080"/>
            <a:ext cx="92196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79f"/>
                </a:solidFill>
                <a:latin typeface="Arial"/>
              </a:rPr>
              <a:t>0,04</a:t>
            </a: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838080" y="4724280"/>
            <a:ext cx="2138400" cy="42876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580400" y="4684680"/>
            <a:ext cx="64764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79f"/>
                </a:solidFill>
                <a:latin typeface="Arial"/>
              </a:rPr>
              <a:t>P2</a:t>
            </a: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987640" y="4724280"/>
            <a:ext cx="1430280" cy="447840"/>
          </a:xfrm>
          <a:prstGeom prst="rect">
            <a:avLst/>
          </a:prstGeom>
          <a:solidFill>
            <a:srgbClr val="f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242880" y="4697280"/>
            <a:ext cx="92196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79f"/>
                </a:solidFill>
                <a:latin typeface="Arial"/>
              </a:rPr>
              <a:t>0,03</a:t>
            </a: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427640" y="4724280"/>
            <a:ext cx="1430280" cy="44784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681080" y="4697280"/>
            <a:ext cx="92196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79f"/>
                </a:solidFill>
                <a:latin typeface="Arial"/>
              </a:rPr>
              <a:t>0,04</a:t>
            </a: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867280" y="4724280"/>
            <a:ext cx="1430280" cy="447840"/>
          </a:xfrm>
          <a:prstGeom prst="rect">
            <a:avLst/>
          </a:prstGeom>
          <a:solidFill>
            <a:srgbClr val="f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121080" y="4697280"/>
            <a:ext cx="92196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79f"/>
                </a:solidFill>
                <a:latin typeface="Arial"/>
              </a:rPr>
              <a:t>0,03</a:t>
            </a: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307280" y="4724280"/>
            <a:ext cx="1430280" cy="44784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543440" y="4683240"/>
            <a:ext cx="92196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79f"/>
                </a:solidFill>
                <a:latin typeface="Arial"/>
              </a:rPr>
              <a:t>0,20</a:t>
            </a: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38080" y="5180040"/>
            <a:ext cx="2138400" cy="42876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580400" y="5140440"/>
            <a:ext cx="64764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79f"/>
                </a:solidFill>
                <a:latin typeface="Arial"/>
              </a:rPr>
              <a:t>P3</a:t>
            </a: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987640" y="5180040"/>
            <a:ext cx="1430280" cy="447480"/>
          </a:xfrm>
          <a:prstGeom prst="rect">
            <a:avLst/>
          </a:prstGeom>
          <a:solidFill>
            <a:srgbClr val="f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242880" y="5153040"/>
            <a:ext cx="92196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79f"/>
                </a:solidFill>
                <a:latin typeface="Arial"/>
              </a:rPr>
              <a:t>0,05</a:t>
            </a: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427640" y="5180040"/>
            <a:ext cx="1430280" cy="44748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684320" y="5122800"/>
            <a:ext cx="92196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79f"/>
                </a:solidFill>
                <a:latin typeface="Arial"/>
              </a:rPr>
              <a:t>0,05</a:t>
            </a: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867280" y="5180040"/>
            <a:ext cx="1430280" cy="447480"/>
          </a:xfrm>
          <a:prstGeom prst="rect">
            <a:avLst/>
          </a:prstGeom>
          <a:solidFill>
            <a:srgbClr val="f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121080" y="5153040"/>
            <a:ext cx="92196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79f"/>
                </a:solidFill>
                <a:latin typeface="Arial"/>
              </a:rPr>
              <a:t>0,05</a:t>
            </a: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307280" y="5180040"/>
            <a:ext cx="1430280" cy="44748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560720" y="5153040"/>
            <a:ext cx="92196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79f"/>
                </a:solidFill>
                <a:latin typeface="Arial"/>
              </a:rPr>
              <a:t>0,10</a:t>
            </a: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838080" y="5637240"/>
            <a:ext cx="2138400" cy="44748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580400" y="5610240"/>
            <a:ext cx="64764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79f"/>
                </a:solidFill>
                <a:latin typeface="Arial"/>
              </a:rPr>
              <a:t>P4</a:t>
            </a: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987640" y="5637240"/>
            <a:ext cx="1430280" cy="447480"/>
          </a:xfrm>
          <a:prstGeom prst="rect">
            <a:avLst/>
          </a:prstGeom>
          <a:solidFill>
            <a:srgbClr val="f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242880" y="5610240"/>
            <a:ext cx="92196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79f"/>
                </a:solidFill>
                <a:latin typeface="Arial"/>
              </a:rPr>
              <a:t>0,01</a:t>
            </a: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427640" y="5637240"/>
            <a:ext cx="1430280" cy="44748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681080" y="5610240"/>
            <a:ext cx="92196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79f"/>
                </a:solidFill>
                <a:latin typeface="Arial"/>
              </a:rPr>
              <a:t>0,11</a:t>
            </a: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867280" y="5637240"/>
            <a:ext cx="1430280" cy="447480"/>
          </a:xfrm>
          <a:prstGeom prst="rect">
            <a:avLst/>
          </a:prstGeom>
          <a:solidFill>
            <a:srgbClr val="f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21080" y="5610240"/>
            <a:ext cx="92196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79f"/>
                </a:solidFill>
                <a:latin typeface="Arial"/>
              </a:rPr>
              <a:t>0,01</a:t>
            </a: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307280" y="5637240"/>
            <a:ext cx="1430280" cy="44748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560720" y="5610240"/>
            <a:ext cx="92196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79f"/>
                </a:solidFill>
                <a:latin typeface="Arial"/>
              </a:rPr>
              <a:t>0,01</a:t>
            </a: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990880" y="3301920"/>
            <a:ext cx="0" cy="277812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49240" y="6086520"/>
            <a:ext cx="79009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41320" y="3301920"/>
            <a:ext cx="0" cy="277812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8755200" y="3313080"/>
            <a:ext cx="0" cy="277812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849240" y="4710240"/>
            <a:ext cx="7902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849240" y="5160960"/>
            <a:ext cx="7902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849240" y="5610240"/>
            <a:ext cx="7902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861840" y="3745080"/>
            <a:ext cx="78775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419720" y="3753000"/>
            <a:ext cx="0" cy="232704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848200" y="3753000"/>
            <a:ext cx="0" cy="232704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04040" y="3753000"/>
            <a:ext cx="0" cy="232704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849240" y="3306600"/>
            <a:ext cx="7902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04920" y="5791320"/>
            <a:ext cx="380880" cy="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5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5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"/>
          <p:cNvGrpSpPr/>
          <p:nvPr/>
        </p:nvGrpSpPr>
        <p:grpSpPr>
          <a:xfrm>
            <a:off x="228600" y="4343400"/>
            <a:ext cx="8637480" cy="1382760"/>
            <a:chOff x="228600" y="4343400"/>
            <a:chExt cx="8637480" cy="1382760"/>
          </a:xfrm>
        </p:grpSpPr>
        <p:grpSp>
          <p:nvGrpSpPr>
            <p:cNvPr id="511" name=""/>
            <p:cNvGrpSpPr/>
            <p:nvPr/>
          </p:nvGrpSpPr>
          <p:grpSpPr>
            <a:xfrm>
              <a:off x="228600" y="4343400"/>
              <a:ext cx="8637480" cy="1382760"/>
              <a:chOff x="228600" y="4343400"/>
              <a:chExt cx="8637480" cy="1382760"/>
            </a:xfrm>
          </p:grpSpPr>
          <p:grpSp>
            <p:nvGrpSpPr>
              <p:cNvPr id="512" name=""/>
              <p:cNvGrpSpPr/>
              <p:nvPr/>
            </p:nvGrpSpPr>
            <p:grpSpPr>
              <a:xfrm>
                <a:off x="228600" y="4343400"/>
                <a:ext cx="8637480" cy="1376280"/>
                <a:chOff x="228600" y="4343400"/>
                <a:chExt cx="8637480" cy="137628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228600" y="4343400"/>
                  <a:ext cx="8637480" cy="1376280"/>
                </a:xfrm>
                <a:prstGeom prst="rect">
                  <a:avLst/>
                </a:prstGeom>
                <a:solidFill>
                  <a:srgbClr val="fcfeb9"/>
                </a:soli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275040" y="4357440"/>
                  <a:ext cx="247860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0" spc="-1" strike="noStrike">
                      <a:solidFill>
                        <a:srgbClr val="000000"/>
                      </a:solidFill>
                      <a:latin typeface="Arial"/>
                    </a:rPr>
                    <a:t>Produto Base</a:t>
                  </a:r>
                  <a:endParaRPr b="0" lang="en-US" sz="30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2984400" y="4357440"/>
                  <a:ext cx="8679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0" spc="-1" strike="noStrike">
                      <a:solidFill>
                        <a:srgbClr val="000000"/>
                      </a:solidFill>
                      <a:latin typeface="Arial"/>
                    </a:rPr>
                    <a:t>PO 1</a:t>
                  </a:r>
                  <a:endParaRPr b="0" lang="en-US" sz="30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4165560" y="4357440"/>
                  <a:ext cx="8679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0" spc="-1" strike="noStrike">
                      <a:solidFill>
                        <a:srgbClr val="000000"/>
                      </a:solidFill>
                      <a:latin typeface="Arial"/>
                    </a:rPr>
                    <a:t>PO 2</a:t>
                  </a:r>
                  <a:endParaRPr b="0" lang="en-US" sz="30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5353200" y="4357440"/>
                  <a:ext cx="8679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0" spc="-1" strike="noStrike">
                      <a:solidFill>
                        <a:srgbClr val="000000"/>
                      </a:solidFill>
                      <a:latin typeface="Arial"/>
                    </a:rPr>
                    <a:t>PO 3</a:t>
                  </a:r>
                  <a:endParaRPr b="0" lang="en-US" sz="30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6534360" y="4357440"/>
                  <a:ext cx="8679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0" spc="-1" strike="noStrike">
                      <a:solidFill>
                        <a:srgbClr val="000000"/>
                      </a:solidFill>
                      <a:latin typeface="Arial"/>
                    </a:rPr>
                    <a:t>PO 4</a:t>
                  </a:r>
                  <a:endParaRPr b="0" lang="en-US" sz="30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7780680" y="4357440"/>
                  <a:ext cx="9104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0" spc="-1" strike="noStrike">
                      <a:solidFill>
                        <a:srgbClr val="000000"/>
                      </a:solidFill>
                      <a:latin typeface="Arial"/>
                    </a:rPr>
                    <a:t>Total</a:t>
                  </a:r>
                  <a:endParaRPr b="0" lang="en-US" sz="30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520920" y="4817880"/>
                  <a:ext cx="20534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0" spc="-1" strike="noStrike">
                      <a:solidFill>
                        <a:srgbClr val="000000"/>
                      </a:solidFill>
                      <a:latin typeface="Arial"/>
                    </a:rPr>
                    <a:t>Tempos (h)</a:t>
                  </a:r>
                  <a:endParaRPr b="0" lang="en-US" sz="30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3040920" y="4817880"/>
                  <a:ext cx="7412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000" spc="-1" strike="noStrike">
                      <a:solidFill>
                        <a:srgbClr val="000000"/>
                      </a:solidFill>
                      <a:latin typeface="Arial"/>
                    </a:rPr>
                    <a:t>0,01</a:t>
                  </a:r>
                  <a:endParaRPr b="0" lang="en-US" sz="30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4222080" y="4817880"/>
                  <a:ext cx="7412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000" spc="-1" strike="noStrike">
                      <a:solidFill>
                        <a:srgbClr val="000000"/>
                      </a:solidFill>
                      <a:latin typeface="Arial"/>
                    </a:rPr>
                    <a:t>0,11</a:t>
                  </a:r>
                  <a:endParaRPr b="0" lang="en-US" sz="30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5409360" y="4817880"/>
                  <a:ext cx="7412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000" spc="-1" strike="noStrike">
                      <a:solidFill>
                        <a:srgbClr val="000000"/>
                      </a:solidFill>
                      <a:latin typeface="Arial"/>
                    </a:rPr>
                    <a:t>0,01</a:t>
                  </a:r>
                  <a:endParaRPr b="0" lang="en-US" sz="30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6590520" y="4817880"/>
                  <a:ext cx="7412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000" spc="-1" strike="noStrike">
                      <a:solidFill>
                        <a:srgbClr val="000000"/>
                      </a:solidFill>
                      <a:latin typeface="Arial"/>
                    </a:rPr>
                    <a:t>0,01</a:t>
                  </a:r>
                  <a:endParaRPr b="0" lang="en-US" sz="30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7715160" y="4817880"/>
                  <a:ext cx="3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6" name=""/>
              <p:cNvSpPr/>
              <p:nvPr/>
            </p:nvSpPr>
            <p:spPr>
              <a:xfrm>
                <a:off x="7535880" y="4811760"/>
                <a:ext cx="7920" cy="453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535880" y="5271840"/>
                <a:ext cx="7920" cy="454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  <p:sp>
          <p:nvSpPr>
            <p:cNvPr id="528" name=""/>
            <p:cNvSpPr/>
            <p:nvPr/>
          </p:nvSpPr>
          <p:spPr>
            <a:xfrm>
              <a:off x="7535880" y="4351320"/>
              <a:ext cx="7920" cy="45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572040" y="5278320"/>
            <a:ext cx="7934400" cy="457200"/>
            <a:chOff x="572040" y="5278320"/>
            <a:chExt cx="7934400" cy="457200"/>
          </a:xfrm>
        </p:grpSpPr>
        <p:sp>
          <p:nvSpPr>
            <p:cNvPr id="530" name=""/>
            <p:cNvSpPr/>
            <p:nvPr/>
          </p:nvSpPr>
          <p:spPr>
            <a:xfrm>
              <a:off x="572040" y="5278320"/>
              <a:ext cx="1948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Foto custo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040920" y="5278320"/>
              <a:ext cx="741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0,35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222080" y="5278320"/>
              <a:ext cx="741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3,30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409360" y="5278320"/>
              <a:ext cx="741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0,70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590520" y="5278320"/>
              <a:ext cx="741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0,65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765200" y="5278320"/>
              <a:ext cx="741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800080"/>
                  </a:solidFill>
                  <a:latin typeface="Arial"/>
                </a:rPr>
                <a:t>5,00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60200" y="533520"/>
            <a:ext cx="502128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Escolha do Produto Base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539" name=""/>
          <p:cNvSpPr/>
          <p:nvPr/>
        </p:nvSpPr>
        <p:spPr>
          <a:xfrm>
            <a:off x="3606840" y="283860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889520" y="28386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453440" y="283860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889520" y="32972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49400" y="3757680"/>
            <a:ext cx="34574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606840" y="375768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614760" y="3757680"/>
            <a:ext cx="1274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889520" y="37576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896000" y="3757680"/>
            <a:ext cx="1274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170760" y="375768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178680" y="3757680"/>
            <a:ext cx="1274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453440" y="375768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461360" y="3757680"/>
            <a:ext cx="12729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200640" y="328464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727360" y="4410000"/>
            <a:ext cx="7920" cy="453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20600" y="4863960"/>
            <a:ext cx="2606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727360" y="486396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735280" y="4863960"/>
            <a:ext cx="117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909960" y="48639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916440" y="4863960"/>
            <a:ext cx="117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091120" y="486396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099040" y="4863960"/>
            <a:ext cx="1181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280200" y="48639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286680" y="4863960"/>
            <a:ext cx="117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461360" y="486396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469280" y="4863960"/>
            <a:ext cx="13460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727360" y="4870440"/>
            <a:ext cx="7920" cy="453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20600" y="5324400"/>
            <a:ext cx="2606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727360" y="532440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735280" y="5324400"/>
            <a:ext cx="117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909960" y="53244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916440" y="5324400"/>
            <a:ext cx="117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091120" y="532440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099040" y="5324400"/>
            <a:ext cx="1181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280200" y="53244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286680" y="5324400"/>
            <a:ext cx="117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461360" y="532440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469280" y="5324400"/>
            <a:ext cx="13460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727360" y="5330880"/>
            <a:ext cx="7920" cy="453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824920" y="5943600"/>
            <a:ext cx="2947680" cy="576360"/>
          </a:xfrm>
          <a:prstGeom prst="rect">
            <a:avLst/>
          </a:prstGeom>
          <a:solidFill>
            <a:srgbClr val="dbffb8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 UEP = $ 5,00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149400" y="2832120"/>
            <a:ext cx="8616600" cy="925560"/>
            <a:chOff x="149400" y="2832120"/>
            <a:chExt cx="8616600" cy="925560"/>
          </a:xfrm>
        </p:grpSpPr>
        <p:sp>
          <p:nvSpPr>
            <p:cNvPr id="580" name=""/>
            <p:cNvSpPr/>
            <p:nvPr/>
          </p:nvSpPr>
          <p:spPr>
            <a:xfrm>
              <a:off x="154080" y="2832120"/>
              <a:ext cx="8611920" cy="92556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49400" y="2838600"/>
              <a:ext cx="345744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614760" y="2838600"/>
              <a:ext cx="127476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896000" y="2838600"/>
              <a:ext cx="127476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170760" y="2838600"/>
              <a:ext cx="792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8680" y="2838600"/>
              <a:ext cx="127476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461360" y="2838600"/>
              <a:ext cx="127296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97520" y="2840040"/>
              <a:ext cx="2941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Posto Operativo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873600" y="2840040"/>
              <a:ext cx="867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PO 1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146920" y="2840040"/>
              <a:ext cx="867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PO 2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427800" y="2840040"/>
              <a:ext cx="867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PO 3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710480" y="2840040"/>
              <a:ext cx="867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PO 4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637080" y="3284640"/>
              <a:ext cx="792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834840" y="3297240"/>
              <a:ext cx="2221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Índices ($/h)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078800" y="3297240"/>
              <a:ext cx="4244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352120" y="3297240"/>
              <a:ext cx="4244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633000" y="3297240"/>
              <a:ext cx="4244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915680" y="3297240"/>
              <a:ext cx="4244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74600" y="3306600"/>
              <a:ext cx="8585280" cy="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618000" y="2840040"/>
              <a:ext cx="0" cy="91116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258480" y="3952800"/>
            <a:ext cx="8585640" cy="1954440"/>
            <a:chOff x="258480" y="3952800"/>
            <a:chExt cx="8585640" cy="1954440"/>
          </a:xfrm>
        </p:grpSpPr>
        <p:grpSp>
          <p:nvGrpSpPr>
            <p:cNvPr id="603" name=""/>
            <p:cNvGrpSpPr/>
            <p:nvPr/>
          </p:nvGrpSpPr>
          <p:grpSpPr>
            <a:xfrm>
              <a:off x="258480" y="3952800"/>
              <a:ext cx="8577720" cy="1944720"/>
              <a:chOff x="258480" y="3952800"/>
              <a:chExt cx="8577720" cy="1944720"/>
            </a:xfrm>
          </p:grpSpPr>
          <p:sp>
            <p:nvSpPr>
              <p:cNvPr id="604" name=""/>
              <p:cNvSpPr/>
              <p:nvPr/>
            </p:nvSpPr>
            <p:spPr>
              <a:xfrm>
                <a:off x="351000" y="4968720"/>
                <a:ext cx="3338280" cy="460440"/>
              </a:xfrm>
              <a:prstGeom prst="rect">
                <a:avLst/>
              </a:prstGeom>
              <a:solidFill>
                <a:srgbClr val="dbff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grpSp>
            <p:nvGrpSpPr>
              <p:cNvPr id="605" name=""/>
              <p:cNvGrpSpPr/>
              <p:nvPr/>
            </p:nvGrpSpPr>
            <p:grpSpPr>
              <a:xfrm>
                <a:off x="258480" y="3952800"/>
                <a:ext cx="8577720" cy="1944720"/>
                <a:chOff x="258480" y="3952800"/>
                <a:chExt cx="8577720" cy="1944720"/>
              </a:xfrm>
            </p:grpSpPr>
            <p:sp>
              <p:nvSpPr>
                <p:cNvPr id="606" name=""/>
                <p:cNvSpPr/>
                <p:nvPr/>
              </p:nvSpPr>
              <p:spPr>
                <a:xfrm>
                  <a:off x="309600" y="4968720"/>
                  <a:ext cx="4680" cy="460440"/>
                </a:xfrm>
                <a:prstGeom prst="rect">
                  <a:avLst/>
                </a:prstGeom>
                <a:solidFill>
                  <a:srgbClr val="005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309600" y="5437080"/>
                  <a:ext cx="4680" cy="460440"/>
                </a:xfrm>
                <a:prstGeom prst="rect">
                  <a:avLst/>
                </a:prstGeom>
                <a:solidFill>
                  <a:srgbClr val="005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8831160" y="5437080"/>
                  <a:ext cx="5040" cy="460440"/>
                </a:xfrm>
                <a:prstGeom prst="rect">
                  <a:avLst/>
                </a:prstGeom>
                <a:solidFill>
                  <a:srgbClr val="005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8831160" y="4968720"/>
                  <a:ext cx="5040" cy="460440"/>
                </a:xfrm>
                <a:prstGeom prst="rect">
                  <a:avLst/>
                </a:prstGeom>
                <a:solidFill>
                  <a:srgbClr val="005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3699000" y="4968720"/>
                  <a:ext cx="1276200" cy="460440"/>
                </a:xfrm>
                <a:prstGeom prst="rect">
                  <a:avLst/>
                </a:prstGeom>
                <a:solidFill>
                  <a:srgbClr val="f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4986360" y="4968720"/>
                  <a:ext cx="1276200" cy="460440"/>
                </a:xfrm>
                <a:prstGeom prst="rect">
                  <a:avLst/>
                </a:prstGeom>
                <a:solidFill>
                  <a:srgbClr val="dbff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6272280" y="4968720"/>
                  <a:ext cx="1276200" cy="460440"/>
                </a:xfrm>
                <a:prstGeom prst="rect">
                  <a:avLst/>
                </a:prstGeom>
                <a:solidFill>
                  <a:srgbClr val="f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7558200" y="4968720"/>
                  <a:ext cx="1263600" cy="460440"/>
                </a:xfrm>
                <a:prstGeom prst="rect">
                  <a:avLst/>
                </a:prstGeom>
                <a:solidFill>
                  <a:srgbClr val="dbff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14" name=""/>
                <p:cNvGrpSpPr/>
                <p:nvPr/>
              </p:nvGrpSpPr>
              <p:grpSpPr>
                <a:xfrm>
                  <a:off x="258480" y="3952800"/>
                  <a:ext cx="8577720" cy="1575000"/>
                  <a:chOff x="258480" y="3952800"/>
                  <a:chExt cx="8577720" cy="1575000"/>
                </a:xfrm>
              </p:grpSpPr>
              <p:sp>
                <p:nvSpPr>
                  <p:cNvPr id="615" name=""/>
                  <p:cNvSpPr/>
                  <p:nvPr/>
                </p:nvSpPr>
                <p:spPr>
                  <a:xfrm>
                    <a:off x="309600" y="3952800"/>
                    <a:ext cx="4680" cy="4788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" bIns="1080" anchor="ctr">
                    <a:noAutofit/>
                  </a:bodyPr>
                  <a:p>
                    <a:endParaRPr b="0" lang="en-US" sz="2400" spc="-1" strike="noStrike">
                      <a:solidFill>
                        <a:srgbClr val="00279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>
                    <a:off x="8831160" y="3990960"/>
                    <a:ext cx="5040" cy="97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2400" spc="-1" strike="noStrike">
                      <a:solidFill>
                        <a:srgbClr val="00279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>
                    <a:off x="8831160" y="3990960"/>
                    <a:ext cx="5040" cy="97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2400" spc="-1" strike="noStrike">
                      <a:solidFill>
                        <a:srgbClr val="00279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>
                    <a:off x="309600" y="4010040"/>
                    <a:ext cx="4680" cy="46044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279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8831160" y="4010040"/>
                    <a:ext cx="5040" cy="46044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279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351000" y="4010040"/>
                    <a:ext cx="3338280" cy="460440"/>
                  </a:xfrm>
                  <a:prstGeom prst="rect">
                    <a:avLst/>
                  </a:prstGeom>
                  <a:solidFill>
                    <a:srgbClr val="dbffb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279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>
                    <a:off x="258480" y="3975120"/>
                    <a:ext cx="3503880" cy="57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200" spc="-1" strike="noStrike">
                        <a:solidFill>
                          <a:srgbClr val="00279f"/>
                        </a:solidFill>
                        <a:latin typeface="Arial"/>
                      </a:rPr>
                      <a:t>Postos Operativos</a:t>
                    </a:r>
                    <a:endParaRPr b="0" lang="en-US" sz="3200" spc="-1" strike="noStrike">
                      <a:solidFill>
                        <a:srgbClr val="00279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>
                    <a:off x="3699000" y="4010040"/>
                    <a:ext cx="1276200" cy="460440"/>
                  </a:xfrm>
                  <a:prstGeom prst="rect">
                    <a:avLst/>
                  </a:prstGeom>
                  <a:solidFill>
                    <a:srgbClr val="fff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279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>
                    <a:off x="3847320" y="3975120"/>
                    <a:ext cx="1108080" cy="57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200" spc="-1" strike="noStrike">
                        <a:solidFill>
                          <a:srgbClr val="00279f"/>
                        </a:solidFill>
                        <a:latin typeface="Arial"/>
                      </a:rPr>
                      <a:t>PO 1</a:t>
                    </a:r>
                    <a:endParaRPr b="0" lang="en-US" sz="3200" spc="-1" strike="noStrike">
                      <a:solidFill>
                        <a:srgbClr val="00279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>
                    <a:off x="4986360" y="4010040"/>
                    <a:ext cx="1276200" cy="460440"/>
                  </a:xfrm>
                  <a:prstGeom prst="rect">
                    <a:avLst/>
                  </a:prstGeom>
                  <a:solidFill>
                    <a:srgbClr val="dbffb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279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5132880" y="3975120"/>
                    <a:ext cx="1108080" cy="57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200" spc="-1" strike="noStrike">
                        <a:solidFill>
                          <a:srgbClr val="00279f"/>
                        </a:solidFill>
                        <a:latin typeface="Arial"/>
                      </a:rPr>
                      <a:t>PO 2</a:t>
                    </a:r>
                    <a:endParaRPr b="0" lang="en-US" sz="3200" spc="-1" strike="noStrike">
                      <a:solidFill>
                        <a:srgbClr val="00279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>
                    <a:off x="6272280" y="4010040"/>
                    <a:ext cx="1276200" cy="460440"/>
                  </a:xfrm>
                  <a:prstGeom prst="rect">
                    <a:avLst/>
                  </a:prstGeom>
                  <a:solidFill>
                    <a:srgbClr val="fff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279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>
                    <a:off x="6418800" y="3975120"/>
                    <a:ext cx="1108080" cy="57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200" spc="-1" strike="noStrike">
                        <a:solidFill>
                          <a:srgbClr val="00279f"/>
                        </a:solidFill>
                        <a:latin typeface="Arial"/>
                      </a:rPr>
                      <a:t>PO 3</a:t>
                    </a:r>
                    <a:endParaRPr b="0" lang="en-US" sz="3200" spc="-1" strike="noStrike">
                      <a:solidFill>
                        <a:srgbClr val="00279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>
                    <a:off x="7558200" y="4010040"/>
                    <a:ext cx="1263600" cy="460440"/>
                  </a:xfrm>
                  <a:prstGeom prst="rect">
                    <a:avLst/>
                  </a:prstGeom>
                  <a:solidFill>
                    <a:srgbClr val="dbffb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279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>
                    <a:off x="7704720" y="3975120"/>
                    <a:ext cx="1108080" cy="57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200" spc="-1" strike="noStrike">
                        <a:solidFill>
                          <a:srgbClr val="00279f"/>
                        </a:solidFill>
                        <a:latin typeface="Arial"/>
                      </a:rPr>
                      <a:t>PO 4</a:t>
                    </a:r>
                    <a:endParaRPr b="0" lang="en-US" sz="3200" spc="-1" strike="noStrike">
                      <a:solidFill>
                        <a:srgbClr val="00279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>
                    <a:off x="351000" y="4489560"/>
                    <a:ext cx="3338280" cy="324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00279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>
                    <a:off x="3719520" y="4489560"/>
                    <a:ext cx="1255680" cy="324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00279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>
                    <a:off x="4986360" y="4489560"/>
                    <a:ext cx="11160" cy="324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00279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>
                    <a:off x="5006880" y="4489560"/>
                    <a:ext cx="1255680" cy="324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00279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>
                    <a:off x="6272280" y="4489560"/>
                    <a:ext cx="11160" cy="324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00279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>
                    <a:off x="6292800" y="4489560"/>
                    <a:ext cx="1255680" cy="324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00279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>
                    <a:off x="7578720" y="4489560"/>
                    <a:ext cx="1243080" cy="324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00279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309600" y="4498920"/>
                    <a:ext cx="4680" cy="46044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279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8831160" y="4498920"/>
                    <a:ext cx="5040" cy="46044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279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>
                    <a:off x="351000" y="4498920"/>
                    <a:ext cx="3338280" cy="460440"/>
                  </a:xfrm>
                  <a:prstGeom prst="rect">
                    <a:avLst/>
                  </a:prstGeom>
                  <a:solidFill>
                    <a:srgbClr val="dbffb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279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>
                    <a:off x="3699000" y="4498920"/>
                    <a:ext cx="1276200" cy="460440"/>
                  </a:xfrm>
                  <a:prstGeom prst="rect">
                    <a:avLst/>
                  </a:prstGeom>
                  <a:solidFill>
                    <a:srgbClr val="fff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279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>
                    <a:off x="4052520" y="4464000"/>
                    <a:ext cx="632520" cy="57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200" spc="-1" strike="noStrike">
                        <a:solidFill>
                          <a:srgbClr val="00279f"/>
                        </a:solidFill>
                        <a:latin typeface="Arial"/>
                      </a:rPr>
                      <a:t>35</a:t>
                    </a:r>
                    <a:endParaRPr b="0" lang="en-US" sz="3200" spc="-1" strike="noStrike">
                      <a:solidFill>
                        <a:srgbClr val="00279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>
                    <a:off x="4986360" y="4498920"/>
                    <a:ext cx="1276200" cy="460440"/>
                  </a:xfrm>
                  <a:prstGeom prst="rect">
                    <a:avLst/>
                  </a:prstGeom>
                  <a:solidFill>
                    <a:srgbClr val="dbffb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279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>
                    <a:off x="5338440" y="4464000"/>
                    <a:ext cx="632520" cy="57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200" spc="-1" strike="noStrike">
                        <a:solidFill>
                          <a:srgbClr val="00279f"/>
                        </a:solidFill>
                        <a:latin typeface="Arial"/>
                      </a:rPr>
                      <a:t>30</a:t>
                    </a:r>
                    <a:endParaRPr b="0" lang="en-US" sz="3200" spc="-1" strike="noStrike">
                      <a:solidFill>
                        <a:srgbClr val="00279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>
                    <a:off x="6272280" y="4498920"/>
                    <a:ext cx="1276200" cy="460440"/>
                  </a:xfrm>
                  <a:prstGeom prst="rect">
                    <a:avLst/>
                  </a:prstGeom>
                  <a:solidFill>
                    <a:srgbClr val="fff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279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>
                    <a:off x="6624360" y="4464000"/>
                    <a:ext cx="632520" cy="57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200" spc="-1" strike="noStrike">
                        <a:solidFill>
                          <a:srgbClr val="00279f"/>
                        </a:solidFill>
                        <a:latin typeface="Arial"/>
                      </a:rPr>
                      <a:t>70</a:t>
                    </a:r>
                    <a:endParaRPr b="0" lang="en-US" sz="3200" spc="-1" strike="noStrike">
                      <a:solidFill>
                        <a:srgbClr val="00279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7558200" y="4498920"/>
                    <a:ext cx="1263600" cy="460440"/>
                  </a:xfrm>
                  <a:prstGeom prst="rect">
                    <a:avLst/>
                  </a:prstGeom>
                  <a:solidFill>
                    <a:srgbClr val="dbffb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279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>
                    <a:off x="7910280" y="4464000"/>
                    <a:ext cx="632520" cy="57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200" spc="-1" strike="noStrike">
                        <a:solidFill>
                          <a:srgbClr val="00279f"/>
                        </a:solidFill>
                        <a:latin typeface="Arial"/>
                      </a:rPr>
                      <a:t>65</a:t>
                    </a:r>
                    <a:endParaRPr b="0" lang="en-US" sz="3200" spc="-1" strike="noStrike">
                      <a:solidFill>
                        <a:srgbClr val="00279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>
                    <a:off x="460800" y="4464000"/>
                    <a:ext cx="2961360" cy="106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200" spc="-1" strike="noStrike">
                        <a:solidFill>
                          <a:srgbClr val="00279f"/>
                        </a:solidFill>
                        <a:latin typeface="Arial"/>
                      </a:rPr>
                      <a:t>Índices Custos </a:t>
                    </a:r>
                    <a:endParaRPr b="0" lang="en-US" sz="3200" spc="-1" strike="noStrike">
                      <a:solidFill>
                        <a:srgbClr val="00279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200" spc="-1" strike="noStrike">
                        <a:solidFill>
                          <a:srgbClr val="00279f"/>
                        </a:solidFill>
                        <a:latin typeface="Arial"/>
                      </a:rPr>
                      <a:t>($/h)</a:t>
                    </a:r>
                    <a:endParaRPr b="0" lang="en-US" sz="3200" spc="-1" strike="noStrike">
                      <a:solidFill>
                        <a:srgbClr val="00279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349200" y="4479840"/>
                    <a:ext cx="8483760" cy="0"/>
                  </a:xfrm>
                  <a:prstGeom prst="line">
                    <a:avLst/>
                  </a:prstGeom>
                  <a:ln w="25560">
                    <a:solidFill>
                      <a:srgbClr val="00279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279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650" name=""/>
            <p:cNvSpPr/>
            <p:nvPr/>
          </p:nvSpPr>
          <p:spPr>
            <a:xfrm>
              <a:off x="334800" y="4003560"/>
              <a:ext cx="8509320" cy="1903680"/>
            </a:xfrm>
            <a:prstGeom prst="rect">
              <a:avLst/>
            </a:prstGeom>
            <a:noFill/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640" y="533520"/>
            <a:ext cx="558468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Cálculo dos Poten-</a:t>
            </a:r>
            <a:br>
              <a:rPr sz="4400"/>
            </a:b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ciais Produtivos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652" name=""/>
          <p:cNvSpPr/>
          <p:nvPr/>
        </p:nvSpPr>
        <p:spPr>
          <a:xfrm>
            <a:off x="2836080" y="2662200"/>
            <a:ext cx="2947680" cy="57636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 UEP = $ 5,00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09600" y="4479840"/>
            <a:ext cx="4680" cy="9720"/>
          </a:xfrm>
          <a:prstGeom prst="rect">
            <a:avLst/>
          </a:prstGeom>
          <a:solidFill>
            <a:srgbClr val="00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51000" y="4476600"/>
            <a:ext cx="3338280" cy="3240"/>
          </a:xfrm>
          <a:prstGeom prst="rect">
            <a:avLst/>
          </a:prstGeom>
          <a:solidFill>
            <a:srgbClr val="00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699000" y="4476600"/>
            <a:ext cx="11160" cy="3240"/>
          </a:xfrm>
          <a:prstGeom prst="rect">
            <a:avLst/>
          </a:prstGeom>
          <a:solidFill>
            <a:srgbClr val="00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699000" y="4489560"/>
            <a:ext cx="11160" cy="3240"/>
          </a:xfrm>
          <a:prstGeom prst="rect">
            <a:avLst/>
          </a:prstGeom>
          <a:solidFill>
            <a:srgbClr val="00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719520" y="4476600"/>
            <a:ext cx="1255680" cy="3240"/>
          </a:xfrm>
          <a:prstGeom prst="rect">
            <a:avLst/>
          </a:prstGeom>
          <a:solidFill>
            <a:srgbClr val="00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986360" y="4476600"/>
            <a:ext cx="11160" cy="3240"/>
          </a:xfrm>
          <a:prstGeom prst="rect">
            <a:avLst/>
          </a:prstGeom>
          <a:solidFill>
            <a:srgbClr val="00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006880" y="4476600"/>
            <a:ext cx="1255680" cy="3240"/>
          </a:xfrm>
          <a:prstGeom prst="rect">
            <a:avLst/>
          </a:prstGeom>
          <a:solidFill>
            <a:srgbClr val="00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272280" y="4476600"/>
            <a:ext cx="11160" cy="3240"/>
          </a:xfrm>
          <a:prstGeom prst="rect">
            <a:avLst/>
          </a:prstGeom>
          <a:solidFill>
            <a:srgbClr val="00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292800" y="4476600"/>
            <a:ext cx="1255680" cy="3240"/>
          </a:xfrm>
          <a:prstGeom prst="rect">
            <a:avLst/>
          </a:prstGeom>
          <a:solidFill>
            <a:srgbClr val="00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7558200" y="4476600"/>
            <a:ext cx="11160" cy="3240"/>
          </a:xfrm>
          <a:prstGeom prst="rect">
            <a:avLst/>
          </a:prstGeom>
          <a:solidFill>
            <a:srgbClr val="00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558200" y="4489560"/>
            <a:ext cx="11160" cy="3240"/>
          </a:xfrm>
          <a:prstGeom prst="rect">
            <a:avLst/>
          </a:prstGeom>
          <a:solidFill>
            <a:srgbClr val="00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578720" y="4476600"/>
            <a:ext cx="1243080" cy="3240"/>
          </a:xfrm>
          <a:prstGeom prst="rect">
            <a:avLst/>
          </a:prstGeom>
          <a:solidFill>
            <a:srgbClr val="00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8831160" y="4479840"/>
            <a:ext cx="5040" cy="9720"/>
          </a:xfrm>
          <a:prstGeom prst="rect">
            <a:avLst/>
          </a:prstGeom>
          <a:solidFill>
            <a:srgbClr val="00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254160" y="5014800"/>
            <a:ext cx="8582040" cy="963720"/>
            <a:chOff x="254160" y="5014800"/>
            <a:chExt cx="8582040" cy="963720"/>
          </a:xfrm>
        </p:grpSpPr>
        <p:grpSp>
          <p:nvGrpSpPr>
            <p:cNvPr id="667" name=""/>
            <p:cNvGrpSpPr/>
            <p:nvPr/>
          </p:nvGrpSpPr>
          <p:grpSpPr>
            <a:xfrm>
              <a:off x="254160" y="5402160"/>
              <a:ext cx="8582040" cy="576360"/>
              <a:chOff x="254160" y="5402160"/>
              <a:chExt cx="8582040" cy="576360"/>
            </a:xfrm>
          </p:grpSpPr>
          <p:sp>
            <p:nvSpPr>
              <p:cNvPr id="668" name=""/>
              <p:cNvSpPr/>
              <p:nvPr/>
            </p:nvSpPr>
            <p:spPr>
              <a:xfrm>
                <a:off x="309600" y="5907240"/>
                <a:ext cx="4680" cy="47520"/>
              </a:xfrm>
              <a:prstGeom prst="rect">
                <a:avLst/>
              </a:prstGeom>
              <a:solidFill>
                <a:srgbClr val="00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831160" y="5907240"/>
                <a:ext cx="5040" cy="9360"/>
              </a:xfrm>
              <a:prstGeom prst="rect">
                <a:avLst/>
              </a:prstGeom>
              <a:solidFill>
                <a:srgbClr val="00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8831160" y="5907240"/>
                <a:ext cx="5040" cy="9360"/>
              </a:xfrm>
              <a:prstGeom prst="rect">
                <a:avLst/>
              </a:prstGeom>
              <a:solidFill>
                <a:srgbClr val="00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51000" y="5437080"/>
                <a:ext cx="3338280" cy="460440"/>
              </a:xfrm>
              <a:prstGeom prst="rect">
                <a:avLst/>
              </a:prstGeom>
              <a:solidFill>
                <a:srgbClr val="dbff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699000" y="5437080"/>
                <a:ext cx="1276200" cy="460440"/>
              </a:xfrm>
              <a:prstGeom prst="rect">
                <a:avLst/>
              </a:prstGeom>
              <a:solidFill>
                <a:srgbClr val="fff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4147920" y="5402160"/>
                <a:ext cx="40716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279f"/>
                    </a:solidFill>
                    <a:latin typeface="Arial"/>
                  </a:rPr>
                  <a:t>7</a:t>
                </a:r>
                <a:endParaRPr b="0" lang="en-US" sz="3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986360" y="5437080"/>
                <a:ext cx="1276200" cy="460440"/>
              </a:xfrm>
              <a:prstGeom prst="rect">
                <a:avLst/>
              </a:prstGeom>
              <a:solidFill>
                <a:srgbClr val="dbff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439960" y="5402160"/>
                <a:ext cx="40716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279f"/>
                    </a:solidFill>
                    <a:latin typeface="Arial"/>
                  </a:rPr>
                  <a:t>6</a:t>
                </a:r>
                <a:endParaRPr b="0" lang="en-US" sz="3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6272280" y="5437080"/>
                <a:ext cx="1276200" cy="460440"/>
              </a:xfrm>
              <a:prstGeom prst="rect">
                <a:avLst/>
              </a:prstGeom>
              <a:solidFill>
                <a:srgbClr val="fff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6719400" y="5402160"/>
                <a:ext cx="63252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279f"/>
                    </a:solidFill>
                    <a:latin typeface="Arial"/>
                  </a:rPr>
                  <a:t>14</a:t>
                </a:r>
                <a:endParaRPr b="0" lang="en-US" sz="3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7558200" y="5437080"/>
                <a:ext cx="1263600" cy="460440"/>
              </a:xfrm>
              <a:prstGeom prst="rect">
                <a:avLst/>
              </a:prstGeom>
              <a:solidFill>
                <a:srgbClr val="dbff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005320" y="5402160"/>
                <a:ext cx="63252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279f"/>
                    </a:solidFill>
                    <a:latin typeface="Arial"/>
                  </a:rPr>
                  <a:t>13</a:t>
                </a:r>
                <a:endParaRPr b="0" lang="en-US" sz="3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54160" y="5402160"/>
                <a:ext cx="343368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279f"/>
                    </a:solidFill>
                    <a:latin typeface="Arial"/>
                  </a:rPr>
                  <a:t>Pot. Prod.(UEP/h)</a:t>
                </a:r>
                <a:endParaRPr b="0" lang="en-US" sz="3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345960" y="5492880"/>
                <a:ext cx="8483760" cy="0"/>
              </a:xfrm>
              <a:prstGeom prst="line">
                <a:avLst/>
              </a:prstGeom>
              <a:ln w="255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  <p:grpSp>
          <p:nvGrpSpPr>
            <p:cNvPr id="682" name=""/>
            <p:cNvGrpSpPr/>
            <p:nvPr/>
          </p:nvGrpSpPr>
          <p:grpSpPr>
            <a:xfrm>
              <a:off x="4343400" y="5014800"/>
              <a:ext cx="3886200" cy="401760"/>
              <a:chOff x="4343400" y="5014800"/>
              <a:chExt cx="3886200" cy="401760"/>
            </a:xfrm>
          </p:grpSpPr>
          <p:sp>
            <p:nvSpPr>
              <p:cNvPr id="683" name=""/>
              <p:cNvSpPr/>
              <p:nvPr/>
            </p:nvSpPr>
            <p:spPr>
              <a:xfrm>
                <a:off x="4343400" y="5014800"/>
                <a:ext cx="0" cy="401760"/>
              </a:xfrm>
              <a:prstGeom prst="line">
                <a:avLst/>
              </a:prstGeom>
              <a:ln w="12600">
                <a:solidFill>
                  <a:srgbClr val="00279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638680" y="5014800"/>
                <a:ext cx="0" cy="401760"/>
              </a:xfrm>
              <a:prstGeom prst="line">
                <a:avLst/>
              </a:prstGeom>
              <a:ln w="12600">
                <a:solidFill>
                  <a:srgbClr val="00279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934320" y="5014800"/>
                <a:ext cx="0" cy="401760"/>
              </a:xfrm>
              <a:prstGeom prst="line">
                <a:avLst/>
              </a:prstGeom>
              <a:ln w="12600">
                <a:solidFill>
                  <a:srgbClr val="00279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8229600" y="5014800"/>
                <a:ext cx="0" cy="401760"/>
              </a:xfrm>
              <a:prstGeom prst="line">
                <a:avLst/>
              </a:prstGeom>
              <a:ln w="12600">
                <a:solidFill>
                  <a:srgbClr val="00279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60200" y="533520"/>
            <a:ext cx="502128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Equivalentes dos Produtos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graphicFrame>
        <p:nvGraphicFramePr>
          <p:cNvPr id="690" name=""/>
          <p:cNvGraphicFramePr/>
          <p:nvPr/>
        </p:nvGraphicFramePr>
        <p:xfrm>
          <a:off x="-57240" y="2990880"/>
          <a:ext cx="9242640" cy="3112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7240" y="2990880"/>
                    <a:ext cx="9242640" cy="31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60200" y="533520"/>
            <a:ext cx="502128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UEP - Opera-cionalização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374760" y="2541600"/>
            <a:ext cx="7254720" cy="3821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1400" bIns="41400" anchor="t">
            <a:normAutofit/>
          </a:bodyPr>
          <a:p>
            <a:pPr marL="301680" indent="-301680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800" spc="-1" strike="noStrike">
                <a:solidFill>
                  <a:srgbClr val="003e00"/>
                </a:solidFill>
                <a:latin typeface="Arial"/>
              </a:rPr>
              <a:t>Medição da Produção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301680" indent="-301680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800" spc="-1" strike="noStrike">
                <a:solidFill>
                  <a:srgbClr val="003e00"/>
                </a:solidFill>
                <a:latin typeface="Arial"/>
              </a:rPr>
              <a:t>Custeio dos Produtos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301680" indent="-301680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800" spc="-1" strike="noStrike">
                <a:solidFill>
                  <a:srgbClr val="003e00"/>
                </a:solidFill>
                <a:latin typeface="Arial"/>
              </a:rPr>
              <a:t>Lucratividade dos Produtos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301680" indent="-301680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800" spc="-1" strike="noStrike">
                <a:solidFill>
                  <a:srgbClr val="003e00"/>
                </a:solidFill>
                <a:latin typeface="Arial"/>
              </a:rPr>
              <a:t>Capacidades de Produção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301680" indent="-301680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800" spc="-1" strike="noStrike">
                <a:solidFill>
                  <a:srgbClr val="003e00"/>
                </a:solidFill>
                <a:latin typeface="Arial"/>
              </a:rPr>
              <a:t>Medidas de Desempenho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301680" indent="-301680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800" spc="-1" strike="noStrike">
                <a:solidFill>
                  <a:srgbClr val="003e00"/>
                </a:solidFill>
                <a:latin typeface="Arial"/>
              </a:rPr>
              <a:t>Planejamento da Produção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5" dur="500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0" dur="500"/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2000"/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4" dur="2000" fill="hold"/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2000" fill="hold"/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0" dur="80"/>
                                        <p:tgtEl>
                                          <p:spTgt spid="6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1" dur="80"/>
                                        <p:tgtEl>
                                          <p:spTgt spid="6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2" dur="80"/>
                                        <p:tgtEl>
                                          <p:spTgt spid="6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6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6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9" dur="500"/>
                                        <p:tgtEl>
                                          <p:spTgt spid="6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145800" y="2971800"/>
            <a:ext cx="8769240" cy="37339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1400" bIns="41400" anchor="t">
            <a:normAutofit/>
          </a:bodyPr>
          <a:p>
            <a:pPr marL="301680" indent="0">
              <a:spcBef>
                <a:spcPts val="1749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301680" indent="0">
              <a:spcBef>
                <a:spcPts val="1749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301680" indent="0">
              <a:spcBef>
                <a:spcPts val="1749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301680" indent="-301680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 - Quantidade física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301680" indent="-301680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UEP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 - Equivalente do produto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title"/>
          </p:nvPr>
        </p:nvSpPr>
        <p:spPr>
          <a:xfrm>
            <a:off x="189000" y="504720"/>
            <a:ext cx="544968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Medição da </a:t>
            </a:r>
            <a:br>
              <a:rPr sz="4400"/>
            </a:b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Produção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grpSp>
        <p:nvGrpSpPr>
          <p:cNvPr id="700" name=""/>
          <p:cNvGrpSpPr/>
          <p:nvPr/>
        </p:nvGrpSpPr>
        <p:grpSpPr>
          <a:xfrm>
            <a:off x="968400" y="3430440"/>
            <a:ext cx="5445000" cy="897120"/>
            <a:chOff x="968400" y="3430440"/>
            <a:chExt cx="5445000" cy="897120"/>
          </a:xfrm>
        </p:grpSpPr>
        <p:sp>
          <p:nvSpPr>
            <p:cNvPr id="701" name=""/>
            <p:cNvSpPr/>
            <p:nvPr/>
          </p:nvSpPr>
          <p:spPr>
            <a:xfrm>
              <a:off x="968400" y="3483000"/>
              <a:ext cx="5445000" cy="844560"/>
            </a:xfrm>
            <a:prstGeom prst="roundRect">
              <a:avLst>
                <a:gd name="adj" fmla="val 12486"/>
              </a:avLst>
            </a:prstGeom>
            <a:solidFill>
              <a:srgbClr val="ccfff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grpSp>
          <p:nvGrpSpPr>
            <p:cNvPr id="702" name=""/>
            <p:cNvGrpSpPr/>
            <p:nvPr/>
          </p:nvGrpSpPr>
          <p:grpSpPr>
            <a:xfrm>
              <a:off x="1337760" y="3430440"/>
              <a:ext cx="4798440" cy="804960"/>
              <a:chOff x="1337760" y="3430440"/>
              <a:chExt cx="4798440" cy="804960"/>
            </a:xfrm>
          </p:grpSpPr>
          <p:sp>
            <p:nvSpPr>
              <p:cNvPr id="703" name=""/>
              <p:cNvSpPr/>
              <p:nvPr/>
            </p:nvSpPr>
            <p:spPr>
              <a:xfrm>
                <a:off x="1337760" y="3557520"/>
                <a:ext cx="2343960" cy="65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700" spc="-1" strike="noStrike">
                    <a:solidFill>
                      <a:srgbClr val="003e00"/>
                    </a:solidFill>
                    <a:latin typeface="Arial"/>
                  </a:rPr>
                  <a:t>Produção</a:t>
                </a:r>
                <a:endParaRPr b="0" lang="en-US" sz="37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4484160" y="3557520"/>
                <a:ext cx="547200" cy="65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700" spc="-1" strike="noStrike">
                    <a:solidFill>
                      <a:srgbClr val="003e00"/>
                    </a:solidFill>
                    <a:latin typeface="Arial"/>
                  </a:rPr>
                  <a:t>Q</a:t>
                </a:r>
                <a:endParaRPr b="0" lang="en-US" sz="37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4852440" y="3557520"/>
                <a:ext cx="312480" cy="65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700" spc="-1" strike="noStrike">
                    <a:solidFill>
                      <a:srgbClr val="003e00"/>
                    </a:solidFill>
                    <a:latin typeface="Arial"/>
                  </a:rPr>
                  <a:t>.</a:t>
                </a:r>
                <a:endParaRPr b="0" lang="en-US" sz="37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991760" y="3557520"/>
                <a:ext cx="1144440" cy="65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700" spc="-1" strike="noStrike">
                    <a:solidFill>
                      <a:srgbClr val="003e00"/>
                    </a:solidFill>
                    <a:latin typeface="Arial"/>
                  </a:rPr>
                  <a:t>UEP</a:t>
                </a:r>
                <a:endParaRPr b="0" lang="en-US" sz="37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3559680" y="3557520"/>
                <a:ext cx="554760" cy="65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700" spc="-1" strike="noStrike">
                    <a:solidFill>
                      <a:srgbClr val="003e00"/>
                    </a:solidFill>
                    <a:latin typeface="Symbol"/>
                    <a:ea typeface="Symbol"/>
                  </a:rPr>
                  <a:t></a:t>
                </a:r>
                <a:endParaRPr b="0" lang="en-US" sz="37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3999960" y="3430440"/>
                <a:ext cx="597600" cy="80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700" spc="-1" strike="noStrike">
                    <a:solidFill>
                      <a:srgbClr val="003e00"/>
                    </a:solidFill>
                    <a:latin typeface="Symbol"/>
                    <a:ea typeface="Symbol"/>
                  </a:rPr>
                  <a:t></a:t>
                </a:r>
                <a:endParaRPr b="0" lang="en-US" sz="47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2000"/>
                                        <p:tgtEl>
                                          <p:spTgt spid="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2000" fill="hold"/>
                                        <p:tgtEl>
                                          <p:spTgt spid="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2000" fill="hold"/>
                                        <p:tgtEl>
                                          <p:spTgt spid="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1000"/>
                                        <p:tgtEl>
                                          <p:spTgt spid="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59840" y="533520"/>
            <a:ext cx="494676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Custeio dos Produtos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690480" y="2814480"/>
            <a:ext cx="7045560" cy="1211400"/>
            <a:chOff x="690480" y="2814480"/>
            <a:chExt cx="7045560" cy="1211400"/>
          </a:xfrm>
        </p:grpSpPr>
        <p:sp>
          <p:nvSpPr>
            <p:cNvPr id="713" name=""/>
            <p:cNvSpPr/>
            <p:nvPr/>
          </p:nvSpPr>
          <p:spPr>
            <a:xfrm>
              <a:off x="690480" y="2870280"/>
              <a:ext cx="7045560" cy="1155600"/>
            </a:xfrm>
            <a:prstGeom prst="roundRect">
              <a:avLst>
                <a:gd name="adj" fmla="val 12486"/>
              </a:avLst>
            </a:prstGeom>
            <a:solidFill>
              <a:srgbClr val="e7fff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grpSp>
          <p:nvGrpSpPr>
            <p:cNvPr id="714" name=""/>
            <p:cNvGrpSpPr/>
            <p:nvPr/>
          </p:nvGrpSpPr>
          <p:grpSpPr>
            <a:xfrm>
              <a:off x="909360" y="2814480"/>
              <a:ext cx="6677280" cy="1203480"/>
              <a:chOff x="909360" y="2814480"/>
              <a:chExt cx="6677280" cy="1203480"/>
            </a:xfrm>
          </p:grpSpPr>
          <p:sp>
            <p:nvSpPr>
              <p:cNvPr id="715" name=""/>
              <p:cNvSpPr/>
              <p:nvPr/>
            </p:nvSpPr>
            <p:spPr>
              <a:xfrm>
                <a:off x="2217600" y="3403440"/>
                <a:ext cx="5369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909360" y="3084480"/>
                <a:ext cx="469440" cy="60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003e00"/>
                    </a:solidFill>
                    <a:latin typeface="Arial"/>
                  </a:rPr>
                  <a:t>V</a:t>
                </a:r>
                <a:endParaRPr b="0" lang="en-US" sz="3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2125800" y="2814480"/>
                <a:ext cx="1524240" cy="60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003e00"/>
                    </a:solidFill>
                    <a:latin typeface="Arial"/>
                  </a:rPr>
                  <a:t>Custos</a:t>
                </a:r>
                <a:endParaRPr b="0" lang="en-US" sz="3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3705480" y="2814480"/>
                <a:ext cx="659880" cy="60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003e00"/>
                    </a:solidFill>
                    <a:latin typeface="Arial"/>
                  </a:rPr>
                  <a:t>de</a:t>
                </a:r>
                <a:endParaRPr b="0" lang="en-US" sz="3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4344120" y="2814480"/>
                <a:ext cx="3080160" cy="60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003e00"/>
                    </a:solidFill>
                    <a:latin typeface="Arial"/>
                  </a:rPr>
                  <a:t>Transformação</a:t>
                </a:r>
                <a:endParaRPr b="0" lang="en-US" sz="3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3798000" y="3411360"/>
                <a:ext cx="2025360" cy="60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003e00"/>
                    </a:solidFill>
                    <a:latin typeface="Arial"/>
                  </a:rPr>
                  <a:t>Produção</a:t>
                </a:r>
                <a:endParaRPr b="0" lang="en-US" sz="3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1164240" y="3379680"/>
                <a:ext cx="627840" cy="34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3e00"/>
                    </a:solidFill>
                    <a:latin typeface="Arial"/>
                  </a:rPr>
                  <a:t>UEP</a:t>
                </a:r>
                <a:endParaRPr b="0" lang="en-US" sz="17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1701000" y="3084480"/>
                <a:ext cx="524520" cy="60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003e00"/>
                    </a:solidFill>
                    <a:latin typeface="Symbol"/>
                    <a:ea typeface="Symbol"/>
                  </a:rPr>
                  <a:t></a:t>
                </a:r>
                <a:endParaRPr b="0" lang="en-US" sz="3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3" name=""/>
          <p:cNvGrpSpPr/>
          <p:nvPr/>
        </p:nvGrpSpPr>
        <p:grpSpPr>
          <a:xfrm>
            <a:off x="2065320" y="5075280"/>
            <a:ext cx="4302000" cy="852480"/>
            <a:chOff x="2065320" y="5075280"/>
            <a:chExt cx="4302000" cy="852480"/>
          </a:xfrm>
        </p:grpSpPr>
        <p:sp>
          <p:nvSpPr>
            <p:cNvPr id="724" name=""/>
            <p:cNvSpPr/>
            <p:nvPr/>
          </p:nvSpPr>
          <p:spPr>
            <a:xfrm>
              <a:off x="2065320" y="5075280"/>
              <a:ext cx="4302000" cy="852480"/>
            </a:xfrm>
            <a:prstGeom prst="roundRect">
              <a:avLst>
                <a:gd name="adj" fmla="val 12486"/>
              </a:avLst>
            </a:prstGeom>
            <a:solidFill>
              <a:srgbClr val="e0ffcd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356200" y="5099040"/>
              <a:ext cx="856440" cy="698400"/>
            </a:xfrm>
            <a:prstGeom prst="rect">
              <a:avLst/>
            </a:prstGeom>
            <a:solidFill>
              <a:srgbClr val="e0ff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CT</a:t>
              </a:r>
              <a:endParaRPr b="0" lang="en-US" sz="4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762000" y="5099040"/>
              <a:ext cx="51984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4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791240" y="5099040"/>
              <a:ext cx="122400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UEP</a:t>
              </a:r>
              <a:endParaRPr b="0" lang="en-US" sz="4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006720" y="5472000"/>
              <a:ext cx="350640" cy="393840"/>
            </a:xfrm>
            <a:prstGeom prst="rect">
              <a:avLst/>
            </a:prstGeom>
            <a:solidFill>
              <a:srgbClr val="e0ff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067640" y="5472000"/>
              <a:ext cx="7041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EP</a:t>
              </a:r>
              <a:endParaRPr b="0" lang="en-US" sz="2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796000" y="5472000"/>
              <a:ext cx="350640" cy="393840"/>
            </a:xfrm>
            <a:prstGeom prst="rect">
              <a:avLst/>
            </a:prstGeom>
            <a:solidFill>
              <a:srgbClr val="e0ff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279240" y="5099040"/>
              <a:ext cx="585360" cy="698400"/>
            </a:xfrm>
            <a:prstGeom prst="rect">
              <a:avLst/>
            </a:prstGeom>
            <a:solidFill>
              <a:srgbClr val="e0ff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4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640040" y="5099040"/>
              <a:ext cx="32328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4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sp>
        <p:nvSpPr>
          <p:cNvPr id="733" name=""/>
          <p:cNvSpPr/>
          <p:nvPr/>
        </p:nvSpPr>
        <p:spPr>
          <a:xfrm>
            <a:off x="394200" y="6019920"/>
            <a:ext cx="72025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CT</a:t>
            </a:r>
            <a:r>
              <a:rPr b="0" lang="en-US" sz="2800" spc="-1" strike="noStrike" baseline="-25000">
                <a:solidFill>
                  <a:srgbClr val="00279f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 - Custo de Transformação do Produto P</a:t>
            </a:r>
            <a:endParaRPr b="0" lang="en-US" sz="2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97520" y="4114800"/>
            <a:ext cx="6795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00279f"/>
                </a:solidFill>
                <a:latin typeface="Arial"/>
              </a:rPr>
              <a:t>UEP</a:t>
            </a: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Valor monetário da UEP no período</a:t>
            </a:r>
            <a:endParaRPr b="0" lang="en-US" sz="2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2" dur="2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07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12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577880" y="2635200"/>
            <a:ext cx="5102280" cy="1330200"/>
          </a:xfrm>
          <a:prstGeom prst="roundRect">
            <a:avLst>
              <a:gd name="adj" fmla="val 12486"/>
            </a:avLst>
          </a:prstGeom>
          <a:solidFill>
            <a:srgbClr val="fcfeb9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60200" y="533520"/>
            <a:ext cx="502128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Lucratividade dos Produtos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45800" y="2971800"/>
            <a:ext cx="8769240" cy="37339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1400" bIns="41400" anchor="t">
            <a:normAutofit/>
          </a:bodyPr>
          <a:p>
            <a:pPr marL="301680" indent="0">
              <a:spcBef>
                <a:spcPts val="1749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301680" indent="0">
              <a:spcBef>
                <a:spcPts val="1749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301680" indent="-301680">
              <a:spcBef>
                <a:spcPts val="5250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R</a:t>
            </a:r>
            <a:r>
              <a:rPr b="0" lang="en-US" sz="2800" spc="-1" strike="noStrike" baseline="-25000">
                <a:solidFill>
                  <a:srgbClr val="00279f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 - Rotação do Produto P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301680" indent="-301680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279f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 - Preço (despesas variáveis descontadas)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1811160" y="2693880"/>
            <a:ext cx="4584240" cy="1261080"/>
            <a:chOff x="1811160" y="2693880"/>
            <a:chExt cx="4584240" cy="1261080"/>
          </a:xfrm>
        </p:grpSpPr>
        <p:sp>
          <p:nvSpPr>
            <p:cNvPr id="741" name=""/>
            <p:cNvSpPr/>
            <p:nvPr/>
          </p:nvSpPr>
          <p:spPr>
            <a:xfrm>
              <a:off x="2874960" y="3294000"/>
              <a:ext cx="342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811160" y="2968560"/>
              <a:ext cx="49248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3e00"/>
                  </a:solidFill>
                  <a:latin typeface="Arial"/>
                </a:rPr>
                <a:t>R</a:t>
              </a:r>
              <a:endParaRPr b="0" lang="en-US" sz="3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775960" y="2693880"/>
              <a:ext cx="46944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3e00"/>
                  </a:solidFill>
                  <a:latin typeface="Arial"/>
                </a:rPr>
                <a:t>P</a:t>
              </a:r>
              <a:endParaRPr b="0" lang="en-US" sz="3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170160" y="2693880"/>
              <a:ext cx="30168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3e00"/>
                  </a:solidFill>
                  <a:latin typeface="Arial"/>
                </a:rPr>
                <a:t> </a:t>
              </a:r>
              <a:endParaRPr b="0" lang="en-US" sz="3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370320" y="2693880"/>
              <a:ext cx="32472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3e00"/>
                  </a:solidFill>
                  <a:latin typeface="Arial"/>
                </a:rPr>
                <a:t>-</a:t>
              </a:r>
              <a:endParaRPr b="0" lang="en-US" sz="3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628800" y="2693880"/>
              <a:ext cx="30168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3e00"/>
                  </a:solidFill>
                  <a:latin typeface="Arial"/>
                </a:rPr>
                <a:t> </a:t>
              </a:r>
              <a:endParaRPr b="0" lang="en-US" sz="3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757680" y="2693880"/>
              <a:ext cx="32472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3e00"/>
                  </a:solidFill>
                  <a:latin typeface="Arial"/>
                </a:rPr>
                <a:t>(</a:t>
              </a:r>
              <a:endParaRPr b="0" lang="en-US" sz="3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903480" y="2693880"/>
              <a:ext cx="82908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3e00"/>
                  </a:solidFill>
                  <a:latin typeface="Arial"/>
                </a:rPr>
                <a:t>MP</a:t>
              </a:r>
              <a:endParaRPr b="0" lang="en-US" sz="3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659120" y="2693880"/>
              <a:ext cx="30168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3e00"/>
                  </a:solidFill>
                  <a:latin typeface="Arial"/>
                </a:rPr>
                <a:t> </a:t>
              </a:r>
              <a:endParaRPr b="0" lang="en-US" sz="3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873680" y="2693880"/>
              <a:ext cx="43308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3e00"/>
                  </a:solidFill>
                  <a:latin typeface="Arial"/>
                </a:rPr>
                <a:t>+</a:t>
              </a:r>
              <a:endParaRPr b="0" lang="en-US" sz="3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213160" y="2693880"/>
              <a:ext cx="87624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3e00"/>
                  </a:solidFill>
                  <a:latin typeface="Arial"/>
                </a:rPr>
                <a:t> </a:t>
              </a:r>
              <a:r>
                <a:rPr b="0" lang="en-US" sz="3400" spc="-1" strike="noStrike">
                  <a:solidFill>
                    <a:srgbClr val="003e00"/>
                  </a:solidFill>
                  <a:latin typeface="Arial"/>
                </a:rPr>
                <a:t>CT</a:t>
              </a:r>
              <a:endParaRPr b="0" lang="en-US" sz="3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070680" y="2693880"/>
              <a:ext cx="32472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3e00"/>
                  </a:solidFill>
                  <a:latin typeface="Arial"/>
                </a:rPr>
                <a:t>)</a:t>
              </a:r>
              <a:endParaRPr b="0" lang="en-US" sz="3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136760" y="3301920"/>
              <a:ext cx="75600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3e00"/>
                  </a:solidFill>
                  <a:latin typeface="Arial"/>
                </a:rPr>
                <a:t>CT</a:t>
              </a:r>
              <a:endParaRPr b="0" lang="en-US" sz="3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136240" y="3271680"/>
              <a:ext cx="32616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e00"/>
                  </a:solidFill>
                  <a:latin typeface="Arial"/>
                </a:rPr>
                <a:t>P</a:t>
              </a:r>
              <a:endParaRPr b="0" lang="en-US" sz="17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03120" y="2998800"/>
              <a:ext cx="32616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e00"/>
                  </a:solidFill>
                  <a:latin typeface="Arial"/>
                </a:rPr>
                <a:t>P</a:t>
              </a:r>
              <a:endParaRPr b="0" lang="en-US" sz="17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492080" y="2998800"/>
              <a:ext cx="32616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e00"/>
                  </a:solidFill>
                  <a:latin typeface="Arial"/>
                </a:rPr>
                <a:t>P</a:t>
              </a:r>
              <a:endParaRPr b="0" lang="en-US" sz="17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881320" y="2998800"/>
              <a:ext cx="32616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e00"/>
                  </a:solidFill>
                  <a:latin typeface="Arial"/>
                </a:rPr>
                <a:t>P</a:t>
              </a:r>
              <a:endParaRPr b="0" lang="en-US" sz="17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681080" y="3606840"/>
              <a:ext cx="32616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e00"/>
                  </a:solidFill>
                  <a:latin typeface="Arial"/>
                </a:rPr>
                <a:t>P</a:t>
              </a:r>
              <a:endParaRPr b="0" lang="en-US" sz="17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342160" y="2968560"/>
              <a:ext cx="52452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3e00"/>
                  </a:solidFill>
                  <a:latin typeface="Symbol"/>
                  <a:ea typeface="Symbol"/>
                </a:rPr>
                <a:t></a:t>
              </a:r>
              <a:endParaRPr b="0" lang="en-US" sz="3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8" dur="1000"/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7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7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7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200" y="533520"/>
            <a:ext cx="502128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Princípio do Valor Agregado 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996840" y="3025800"/>
            <a:ext cx="6829560" cy="1206360"/>
            <a:chOff x="996840" y="3025800"/>
            <a:chExt cx="6829560" cy="1206360"/>
          </a:xfrm>
        </p:grpSpPr>
        <p:sp>
          <p:nvSpPr>
            <p:cNvPr id="55" name=""/>
            <p:cNvSpPr/>
            <p:nvPr/>
          </p:nvSpPr>
          <p:spPr>
            <a:xfrm>
              <a:off x="5499000" y="3705120"/>
              <a:ext cx="1660680" cy="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676600" y="3025800"/>
              <a:ext cx="3117600" cy="120636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716560" y="3365640"/>
              <a:ext cx="29138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279f"/>
                  </a:solidFill>
                  <a:latin typeface="Arial"/>
                </a:rPr>
                <a:t>Transformação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996840" y="3705120"/>
              <a:ext cx="1660680" cy="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44520" y="3137040"/>
              <a:ext cx="7909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279f"/>
                  </a:solidFill>
                  <a:latin typeface="Arial"/>
                </a:rPr>
                <a:t>MP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8840" y="3137040"/>
              <a:ext cx="18075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279f"/>
                  </a:solidFill>
                  <a:latin typeface="Arial"/>
                </a:rPr>
                <a:t>Produtos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5800" y="2971800"/>
            <a:ext cx="8769240" cy="37339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1400" bIns="41400" anchor="t">
            <a:normAutofit/>
          </a:bodyPr>
          <a:p>
            <a:pPr marL="301680" indent="0">
              <a:spcBef>
                <a:spcPts val="1749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301680" indent="0">
              <a:spcBef>
                <a:spcPts val="1749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301680" indent="0">
              <a:spcBef>
                <a:spcPts val="1749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301680" indent="0">
              <a:spcBef>
                <a:spcPts val="1749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O método da UEP trabalha apenas os custos de transformação.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35080" y="3206880"/>
            <a:ext cx="8673840" cy="1330200"/>
          </a:xfrm>
          <a:prstGeom prst="roundRect">
            <a:avLst>
              <a:gd name="adj" fmla="val 12486"/>
            </a:avLst>
          </a:prstGeom>
          <a:solidFill>
            <a:srgbClr val="e0ffcd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60200" y="533520"/>
            <a:ext cx="502128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Rotação a Lucro Zero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340560" y="3216240"/>
            <a:ext cx="8251200" cy="1323000"/>
            <a:chOff x="340560" y="3216240"/>
            <a:chExt cx="8251200" cy="1323000"/>
          </a:xfrm>
        </p:grpSpPr>
        <p:sp>
          <p:nvSpPr>
            <p:cNvPr id="765" name=""/>
            <p:cNvSpPr/>
            <p:nvPr/>
          </p:nvSpPr>
          <p:spPr>
            <a:xfrm>
              <a:off x="2614680" y="3817800"/>
              <a:ext cx="593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40560" y="3490920"/>
              <a:ext cx="188064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Arial"/>
                </a:rPr>
                <a:t>Rotação</a:t>
              </a:r>
              <a:endParaRPr b="0" lang="en-US" sz="3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518560" y="3216240"/>
              <a:ext cx="607320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Arial"/>
                </a:rPr>
                <a:t>Despesas de Estrutura Fixas</a:t>
              </a:r>
              <a:endParaRPr b="0" lang="en-US" sz="3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043440" y="3825720"/>
              <a:ext cx="549864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Arial"/>
                </a:rPr>
                <a:t>Custos de Transformação</a:t>
              </a:r>
              <a:endParaRPr b="0" lang="en-US" sz="3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081880" y="3490920"/>
              <a:ext cx="52452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518560" y="3780000"/>
              <a:ext cx="57024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</a:t>
              </a:r>
              <a:endParaRPr b="0" lang="en-US" sz="4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806480" y="5121360"/>
            <a:ext cx="4873680" cy="930240"/>
          </a:xfrm>
          <a:prstGeom prst="roundRect">
            <a:avLst>
              <a:gd name="adj" fmla="val 12486"/>
            </a:avLst>
          </a:prstGeom>
          <a:solidFill>
            <a:srgbClr val="e0ffcd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434960" y="2664000"/>
            <a:ext cx="5245200" cy="1044360"/>
          </a:xfrm>
          <a:prstGeom prst="roundRect">
            <a:avLst>
              <a:gd name="adj" fmla="val 12486"/>
            </a:avLst>
          </a:prstGeom>
          <a:solidFill>
            <a:srgbClr val="e0ffcd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60200" y="533520"/>
            <a:ext cx="502128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Lucratividade do produto P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45800" y="2971800"/>
            <a:ext cx="8769240" cy="37339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1400" bIns="41400" anchor="t">
            <a:normAutofit/>
          </a:bodyPr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301680" indent="0">
              <a:spcBef>
                <a:spcPts val="3149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RL</a:t>
            </a:r>
            <a:r>
              <a:rPr b="0" lang="en-US" sz="2800" spc="-1" strike="noStrike" baseline="-25000">
                <a:solidFill>
                  <a:srgbClr val="00279f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 - Rotação Lucrativa do Produto P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</p:txBody>
      </p:sp>
      <p:grpSp>
        <p:nvGrpSpPr>
          <p:cNvPr id="777" name=""/>
          <p:cNvGrpSpPr/>
          <p:nvPr/>
        </p:nvGrpSpPr>
        <p:grpSpPr>
          <a:xfrm>
            <a:off x="1644840" y="2817720"/>
            <a:ext cx="4892400" cy="749520"/>
            <a:chOff x="1644840" y="2817720"/>
            <a:chExt cx="4892400" cy="749520"/>
          </a:xfrm>
        </p:grpSpPr>
        <p:sp>
          <p:nvSpPr>
            <p:cNvPr id="778" name=""/>
            <p:cNvSpPr/>
            <p:nvPr/>
          </p:nvSpPr>
          <p:spPr>
            <a:xfrm>
              <a:off x="1644840" y="2817720"/>
              <a:ext cx="85644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4e47"/>
                  </a:solidFill>
                  <a:latin typeface="Arial"/>
                </a:rPr>
                <a:t>RL</a:t>
              </a:r>
              <a:endParaRPr b="0" lang="en-US" sz="4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084480" y="2817720"/>
              <a:ext cx="54720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4e47"/>
                  </a:solidFill>
                  <a:latin typeface="Arial"/>
                </a:rPr>
                <a:t>R</a:t>
              </a:r>
              <a:endParaRPr b="0" lang="en-US" sz="4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69840" y="2817720"/>
              <a:ext cx="32328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4e47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908520" y="2817720"/>
              <a:ext cx="35064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4e47"/>
                  </a:solidFill>
                  <a:latin typeface="Arial"/>
                </a:rPr>
                <a:t>-</a:t>
              </a:r>
              <a:endParaRPr b="0" lang="en-US" sz="4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214520" y="2817720"/>
              <a:ext cx="232272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4e47"/>
                  </a:solidFill>
                  <a:latin typeface="Arial"/>
                </a:rPr>
                <a:t> </a:t>
              </a:r>
              <a:r>
                <a:rPr b="1" lang="en-US" sz="4000" spc="-1" strike="noStrike">
                  <a:solidFill>
                    <a:srgbClr val="004e47"/>
                  </a:solidFill>
                  <a:latin typeface="Arial"/>
                </a:rPr>
                <a:t>Rotação</a:t>
              </a:r>
              <a:endParaRPr b="0" lang="en-US" sz="4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362320" y="3173400"/>
              <a:ext cx="350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4e47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471840" y="3173400"/>
              <a:ext cx="350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4e47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606040" y="2817720"/>
              <a:ext cx="58536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4e47"/>
                  </a:solidFill>
                  <a:latin typeface="Symbol"/>
                  <a:ea typeface="Symbol"/>
                </a:rPr>
                <a:t></a:t>
              </a:r>
              <a:endParaRPr b="0" lang="en-US" sz="4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1970640" y="5219640"/>
            <a:ext cx="4536360" cy="750960"/>
            <a:chOff x="1970640" y="5219640"/>
            <a:chExt cx="4536360" cy="750960"/>
          </a:xfrm>
        </p:grpSpPr>
        <p:sp>
          <p:nvSpPr>
            <p:cNvPr id="787" name=""/>
            <p:cNvSpPr/>
            <p:nvPr/>
          </p:nvSpPr>
          <p:spPr>
            <a:xfrm>
              <a:off x="1970640" y="5219640"/>
              <a:ext cx="158976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4e47"/>
                  </a:solidFill>
                  <a:latin typeface="Arial"/>
                </a:rPr>
                <a:t>Lucro</a:t>
              </a:r>
              <a:endParaRPr b="0" lang="en-US" sz="4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134240" y="5219640"/>
              <a:ext cx="85644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4e47"/>
                  </a:solidFill>
                  <a:latin typeface="Arial"/>
                </a:rPr>
                <a:t>RL</a:t>
              </a:r>
              <a:endParaRPr b="0" lang="en-US" sz="4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049360" y="5219640"/>
              <a:ext cx="32328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4e47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357880" y="5219640"/>
              <a:ext cx="99828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4e47"/>
                  </a:solidFill>
                  <a:latin typeface="Arial"/>
                </a:rPr>
                <a:t> </a:t>
              </a:r>
              <a:r>
                <a:rPr b="1" lang="en-US" sz="4000" spc="-1" strike="noStrike">
                  <a:solidFill>
                    <a:srgbClr val="004e47"/>
                  </a:solidFill>
                  <a:latin typeface="Arial"/>
                </a:rPr>
                <a:t>CT</a:t>
              </a:r>
              <a:endParaRPr b="0" lang="en-US" sz="4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408480" y="5576760"/>
              <a:ext cx="350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4e47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849920" y="5576760"/>
              <a:ext cx="350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4e47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156360" y="5576760"/>
              <a:ext cx="350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4e47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193360" y="5413320"/>
              <a:ext cx="34452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4e47"/>
                  </a:solidFill>
                  <a:latin typeface="Arial"/>
                </a:rPr>
                <a:t>x</a:t>
              </a:r>
              <a:endParaRPr b="0" lang="en-US" sz="23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654000" y="5219640"/>
              <a:ext cx="58536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4e47"/>
                  </a:solidFill>
                  <a:latin typeface="Symbol"/>
                  <a:ea typeface="Symbol"/>
                </a:rPr>
                <a:t></a:t>
              </a:r>
              <a:endParaRPr b="0" lang="en-US" sz="4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2000"/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60200" y="533520"/>
            <a:ext cx="502128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Capacidades de Produção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17320" y="2971800"/>
            <a:ext cx="8055000" cy="37339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1400" bIns="41400" anchor="t">
            <a:normAutofit/>
          </a:bodyPr>
          <a:p>
            <a:pPr marL="301680" indent="-301680" algn="just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6e0043"/>
                </a:solidFill>
                <a:latin typeface="Arial"/>
              </a:rPr>
              <a:t>Capacidade Teórica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 - Total de produção que pode ser obtida em um período de trabalho, considerando-se o tempo potencial disponível.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301680" indent="-301680" algn="just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6e0043"/>
                </a:solidFill>
                <a:latin typeface="Arial"/>
              </a:rPr>
              <a:t>Capacidade Prática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 - Total de produção que pode ser obtida em um período de trabalho, considerando-se apenas o tempo real disponível.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5000" fill="hold"/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0" fill="hold"/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2000"/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6" dur="2000" fill="hold"/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2000" fill="hold"/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60200" y="533520"/>
            <a:ext cx="502128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Medidas de Desempenho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grpSp>
        <p:nvGrpSpPr>
          <p:cNvPr id="803" name=""/>
          <p:cNvGrpSpPr/>
          <p:nvPr/>
        </p:nvGrpSpPr>
        <p:grpSpPr>
          <a:xfrm>
            <a:off x="434880" y="2606760"/>
            <a:ext cx="7245360" cy="1272960"/>
            <a:chOff x="434880" y="2606760"/>
            <a:chExt cx="7245360" cy="1272960"/>
          </a:xfrm>
        </p:grpSpPr>
        <p:sp>
          <p:nvSpPr>
            <p:cNvPr id="804" name=""/>
            <p:cNvSpPr/>
            <p:nvPr/>
          </p:nvSpPr>
          <p:spPr>
            <a:xfrm>
              <a:off x="434880" y="2606760"/>
              <a:ext cx="7245360" cy="1272960"/>
            </a:xfrm>
            <a:prstGeom prst="roundRect">
              <a:avLst>
                <a:gd name="adj" fmla="val 12486"/>
              </a:avLst>
            </a:prstGeom>
            <a:solidFill>
              <a:srgbClr val="fcfeb9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grpSp>
          <p:nvGrpSpPr>
            <p:cNvPr id="805" name=""/>
            <p:cNvGrpSpPr/>
            <p:nvPr/>
          </p:nvGrpSpPr>
          <p:grpSpPr>
            <a:xfrm>
              <a:off x="642240" y="2676600"/>
              <a:ext cx="6803280" cy="1149480"/>
              <a:chOff x="642240" y="2676600"/>
              <a:chExt cx="6803280" cy="1149480"/>
            </a:xfrm>
          </p:grpSpPr>
          <p:sp>
            <p:nvSpPr>
              <p:cNvPr id="806" name=""/>
              <p:cNvSpPr/>
              <p:nvPr/>
            </p:nvSpPr>
            <p:spPr>
              <a:xfrm>
                <a:off x="3062160" y="3243240"/>
                <a:ext cx="438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642240" y="2936880"/>
                <a:ext cx="192024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4e47"/>
                    </a:solidFill>
                    <a:latin typeface="Arial"/>
                  </a:rPr>
                  <a:t>Eficiência</a:t>
                </a:r>
                <a:endParaRPr b="0" lang="en-US" sz="3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224600" y="2676600"/>
                <a:ext cx="192024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4e47"/>
                    </a:solidFill>
                    <a:latin typeface="Arial"/>
                  </a:rPr>
                  <a:t>Produção</a:t>
                </a:r>
                <a:endParaRPr b="0" lang="en-US" sz="3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966760" y="3249720"/>
                <a:ext cx="368064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4e47"/>
                    </a:solidFill>
                    <a:latin typeface="Arial"/>
                  </a:rPr>
                  <a:t>Capacidade teórica</a:t>
                </a:r>
                <a:endParaRPr b="0" lang="en-US" sz="3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556000" y="2936880"/>
                <a:ext cx="50436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4e47"/>
                    </a:solidFill>
                    <a:latin typeface="Symbol"/>
                    <a:ea typeface="Symbol"/>
                  </a:rPr>
                  <a:t></a:t>
                </a:r>
                <a:endParaRPr b="0" lang="en-US" sz="3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1" name=""/>
          <p:cNvGrpSpPr/>
          <p:nvPr/>
        </p:nvGrpSpPr>
        <p:grpSpPr>
          <a:xfrm>
            <a:off x="457200" y="3962520"/>
            <a:ext cx="7245360" cy="1272960"/>
            <a:chOff x="457200" y="3962520"/>
            <a:chExt cx="7245360" cy="1272960"/>
          </a:xfrm>
        </p:grpSpPr>
        <p:sp>
          <p:nvSpPr>
            <p:cNvPr id="812" name=""/>
            <p:cNvSpPr/>
            <p:nvPr/>
          </p:nvSpPr>
          <p:spPr>
            <a:xfrm>
              <a:off x="457200" y="3962520"/>
              <a:ext cx="7245360" cy="1272960"/>
            </a:xfrm>
            <a:prstGeom prst="roundRect">
              <a:avLst>
                <a:gd name="adj" fmla="val 12486"/>
              </a:avLst>
            </a:prstGeom>
            <a:solidFill>
              <a:srgbClr val="fcfeb9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grpSp>
          <p:nvGrpSpPr>
            <p:cNvPr id="813" name=""/>
            <p:cNvGrpSpPr/>
            <p:nvPr/>
          </p:nvGrpSpPr>
          <p:grpSpPr>
            <a:xfrm>
              <a:off x="668160" y="4003560"/>
              <a:ext cx="6161040" cy="1170720"/>
              <a:chOff x="668160" y="4003560"/>
              <a:chExt cx="6161040" cy="1170720"/>
            </a:xfrm>
          </p:grpSpPr>
          <p:sp>
            <p:nvSpPr>
              <p:cNvPr id="814" name=""/>
              <p:cNvSpPr/>
              <p:nvPr/>
            </p:nvSpPr>
            <p:spPr>
              <a:xfrm>
                <a:off x="2765520" y="4584240"/>
                <a:ext cx="4063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668160" y="4263480"/>
                <a:ext cx="1649160" cy="59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300" spc="-1" strike="noStrike">
                    <a:solidFill>
                      <a:srgbClr val="004e47"/>
                    </a:solidFill>
                    <a:latin typeface="Arial"/>
                  </a:rPr>
                  <a:t>Eficácia</a:t>
                </a:r>
                <a:endParaRPr b="0" lang="en-US" sz="33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3752640" y="4003560"/>
                <a:ext cx="1976760" cy="59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300" spc="-1" strike="noStrike">
                    <a:solidFill>
                      <a:srgbClr val="004e47"/>
                    </a:solidFill>
                    <a:latin typeface="Arial"/>
                  </a:rPr>
                  <a:t>Produção</a:t>
                </a:r>
                <a:endParaRPr b="0" lang="en-US" sz="33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2671920" y="4582800"/>
                <a:ext cx="3794760" cy="59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300" spc="-1" strike="noStrike">
                    <a:solidFill>
                      <a:srgbClr val="004e47"/>
                    </a:solidFill>
                    <a:latin typeface="Arial"/>
                  </a:rPr>
                  <a:t>Capacidade prática</a:t>
                </a:r>
                <a:endParaRPr b="0" lang="en-US" sz="33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2269080" y="4263480"/>
                <a:ext cx="515160" cy="59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300" spc="-1" strike="noStrike">
                    <a:solidFill>
                      <a:srgbClr val="004e47"/>
                    </a:solidFill>
                    <a:latin typeface="Symbol"/>
                    <a:ea typeface="Symbol"/>
                  </a:rPr>
                  <a:t></a:t>
                </a:r>
                <a:endParaRPr b="0" lang="en-US" sz="33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9" name=""/>
          <p:cNvGrpSpPr/>
          <p:nvPr/>
        </p:nvGrpSpPr>
        <p:grpSpPr>
          <a:xfrm>
            <a:off x="501480" y="5410080"/>
            <a:ext cx="7245360" cy="1393560"/>
            <a:chOff x="501480" y="5410080"/>
            <a:chExt cx="7245360" cy="1393560"/>
          </a:xfrm>
        </p:grpSpPr>
        <p:sp>
          <p:nvSpPr>
            <p:cNvPr id="820" name=""/>
            <p:cNvSpPr/>
            <p:nvPr/>
          </p:nvSpPr>
          <p:spPr>
            <a:xfrm>
              <a:off x="501480" y="5410080"/>
              <a:ext cx="7245360" cy="1393560"/>
            </a:xfrm>
            <a:prstGeom prst="roundRect">
              <a:avLst>
                <a:gd name="adj" fmla="val 12486"/>
              </a:avLst>
            </a:prstGeom>
            <a:solidFill>
              <a:srgbClr val="fcfeb9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grpSp>
          <p:nvGrpSpPr>
            <p:cNvPr id="821" name=""/>
            <p:cNvGrpSpPr/>
            <p:nvPr/>
          </p:nvGrpSpPr>
          <p:grpSpPr>
            <a:xfrm>
              <a:off x="635760" y="5470920"/>
              <a:ext cx="6738120" cy="1199880"/>
              <a:chOff x="635760" y="5470920"/>
              <a:chExt cx="6738120" cy="1199880"/>
            </a:xfrm>
          </p:grpSpPr>
          <p:sp>
            <p:nvSpPr>
              <p:cNvPr id="822" name=""/>
              <p:cNvSpPr/>
              <p:nvPr/>
            </p:nvSpPr>
            <p:spPr>
              <a:xfrm>
                <a:off x="3873600" y="6092640"/>
                <a:ext cx="3500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635760" y="5752080"/>
                <a:ext cx="266400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4e47"/>
                    </a:solidFill>
                    <a:latin typeface="Arial"/>
                  </a:rPr>
                  <a:t>Produtividade</a:t>
                </a:r>
                <a:endParaRPr b="0" lang="en-US" sz="3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4591440" y="5470920"/>
                <a:ext cx="192024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4e47"/>
                    </a:solidFill>
                    <a:latin typeface="Arial"/>
                  </a:rPr>
                  <a:t>Produção</a:t>
                </a:r>
                <a:endParaRPr b="0" lang="en-US" sz="3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750480" y="6094440"/>
                <a:ext cx="350064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4e47"/>
                    </a:solidFill>
                    <a:latin typeface="Arial"/>
                  </a:rPr>
                  <a:t>Horas trabalhadas</a:t>
                </a:r>
                <a:endParaRPr b="0" lang="en-US" sz="3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382560" y="5752080"/>
                <a:ext cx="50436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4e47"/>
                    </a:solidFill>
                    <a:latin typeface="Symbol"/>
                    <a:ea typeface="Symbol"/>
                  </a:rPr>
                  <a:t></a:t>
                </a:r>
                <a:endParaRPr b="0" lang="en-US" sz="3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4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0" dur="2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2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2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578340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Exemplo - Operacionalização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828" name=""/>
          <p:cNvSpPr/>
          <p:nvPr/>
        </p:nvSpPr>
        <p:spPr>
          <a:xfrm>
            <a:off x="6249960" y="3206880"/>
            <a:ext cx="1317600" cy="3511440"/>
          </a:xfrm>
          <a:custGeom>
            <a:avLst/>
            <a:gdLst>
              <a:gd name="textAreaLeft" fmla="*/ 56880 w 1317600"/>
              <a:gd name="textAreaRight" fmla="*/ 1260720 w 1317600"/>
              <a:gd name="textAreaTop" fmla="*/ 56880 h 3511440"/>
              <a:gd name="textAreaBottom" fmla="*/ 3454560 h 3511440"/>
            </a:gdLst>
            <a:ahLst/>
            <a:rect l="textAreaLeft" t="textAreaTop" r="textAreaRight" b="textAreaBottom"/>
            <a:pathLst>
              <a:path w="21600" h="57555">
                <a:moveTo>
                  <a:pt x="3183" y="0"/>
                </a:moveTo>
                <a:arcTo wR="3183" hR="3183" stAng="16200000" swAng="-5400000"/>
                <a:lnTo>
                  <a:pt x="0" y="54372"/>
                </a:lnTo>
                <a:arcTo wR="3183" hR="3183" stAng="10800000" swAng="-5400000"/>
                <a:lnTo>
                  <a:pt x="18417" y="57555"/>
                </a:lnTo>
                <a:arcTo wR="3183" hR="3183" stAng="5400000" swAng="-5400000"/>
                <a:lnTo>
                  <a:pt x="21600" y="3183"/>
                </a:lnTo>
                <a:arcTo wR="3183" hR="3183" stAng="0" swAng="-5400000"/>
                <a:close/>
              </a:path>
            </a:pathLst>
          </a:custGeom>
          <a:solidFill>
            <a:srgbClr val="fcfeb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363920" y="3206880"/>
            <a:ext cx="1317600" cy="3511440"/>
          </a:xfrm>
          <a:custGeom>
            <a:avLst/>
            <a:gdLst>
              <a:gd name="textAreaLeft" fmla="*/ 56880 w 1317600"/>
              <a:gd name="textAreaRight" fmla="*/ 1260720 w 1317600"/>
              <a:gd name="textAreaTop" fmla="*/ 56880 h 3511440"/>
              <a:gd name="textAreaBottom" fmla="*/ 3454560 h 3511440"/>
            </a:gdLst>
            <a:ahLst/>
            <a:rect l="textAreaLeft" t="textAreaTop" r="textAreaRight" b="textAreaBottom"/>
            <a:pathLst>
              <a:path w="21600" h="57555">
                <a:moveTo>
                  <a:pt x="3183" y="0"/>
                </a:moveTo>
                <a:arcTo wR="3183" hR="3183" stAng="16200000" swAng="-5400000"/>
                <a:lnTo>
                  <a:pt x="0" y="54372"/>
                </a:lnTo>
                <a:arcTo wR="3183" hR="3183" stAng="10800000" swAng="-5400000"/>
                <a:lnTo>
                  <a:pt x="18417" y="57555"/>
                </a:lnTo>
                <a:arcTo wR="3183" hR="3183" stAng="5400000" swAng="-5400000"/>
                <a:lnTo>
                  <a:pt x="21600" y="3183"/>
                </a:lnTo>
                <a:arcTo wR="3183" hR="3183" stAng="0" swAng="-5400000"/>
                <a:close/>
              </a:path>
            </a:pathLst>
          </a:custGeom>
          <a:solidFill>
            <a:srgbClr val="fcfeb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583000" y="3225960"/>
            <a:ext cx="1317600" cy="3511440"/>
          </a:xfrm>
          <a:custGeom>
            <a:avLst/>
            <a:gdLst>
              <a:gd name="textAreaLeft" fmla="*/ 56880 w 1317600"/>
              <a:gd name="textAreaRight" fmla="*/ 1260720 w 1317600"/>
              <a:gd name="textAreaTop" fmla="*/ 56880 h 3511440"/>
              <a:gd name="textAreaBottom" fmla="*/ 3454560 h 3511440"/>
            </a:gdLst>
            <a:ahLst/>
            <a:rect l="textAreaLeft" t="textAreaTop" r="textAreaRight" b="textAreaBottom"/>
            <a:pathLst>
              <a:path w="21600" h="57555">
                <a:moveTo>
                  <a:pt x="3183" y="0"/>
                </a:moveTo>
                <a:arcTo wR="3183" hR="3183" stAng="16200000" swAng="-5400000"/>
                <a:lnTo>
                  <a:pt x="0" y="54372"/>
                </a:lnTo>
                <a:arcTo wR="3183" hR="3183" stAng="10800000" swAng="-5400000"/>
                <a:lnTo>
                  <a:pt x="18417" y="57555"/>
                </a:lnTo>
                <a:arcTo wR="3183" hR="3183" stAng="5400000" swAng="-5400000"/>
                <a:lnTo>
                  <a:pt x="21600" y="3183"/>
                </a:lnTo>
                <a:arcTo wR="3183" hR="3183" stAng="0" swAng="-5400000"/>
                <a:close/>
              </a:path>
            </a:pathLst>
          </a:custGeom>
          <a:solidFill>
            <a:srgbClr val="fcfeb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949320" y="2433600"/>
            <a:ext cx="790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PO1</a:t>
            </a: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887560" y="2462040"/>
            <a:ext cx="790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PO2</a:t>
            </a: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510080" y="2433600"/>
            <a:ext cx="790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PO3</a:t>
            </a: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391440" y="2405160"/>
            <a:ext cx="790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PO4</a:t>
            </a: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grpSp>
        <p:nvGrpSpPr>
          <p:cNvPr id="835" name=""/>
          <p:cNvGrpSpPr/>
          <p:nvPr/>
        </p:nvGrpSpPr>
        <p:grpSpPr>
          <a:xfrm>
            <a:off x="797040" y="2711520"/>
            <a:ext cx="6779880" cy="483120"/>
            <a:chOff x="797040" y="2711520"/>
            <a:chExt cx="6779880" cy="483120"/>
          </a:xfrm>
        </p:grpSpPr>
        <p:sp>
          <p:nvSpPr>
            <p:cNvPr id="836" name=""/>
            <p:cNvSpPr/>
            <p:nvPr/>
          </p:nvSpPr>
          <p:spPr>
            <a:xfrm>
              <a:off x="797040" y="2739960"/>
              <a:ext cx="1170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UEP/h</a:t>
              </a:r>
              <a:endParaRPr b="0" lang="en-US" sz="2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647800" y="2739960"/>
              <a:ext cx="1170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UEP/h</a:t>
              </a:r>
              <a:endParaRPr b="0" lang="en-US" sz="2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356000" y="2739960"/>
              <a:ext cx="1339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4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UEP/h</a:t>
              </a:r>
              <a:endParaRPr b="0" lang="en-US" sz="2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237360" y="2711520"/>
              <a:ext cx="1339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3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UEP/h</a:t>
              </a:r>
              <a:endParaRPr b="0" lang="en-US" sz="2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sp>
        <p:nvSpPr>
          <p:cNvPr id="840" name=""/>
          <p:cNvSpPr/>
          <p:nvPr/>
        </p:nvSpPr>
        <p:spPr>
          <a:xfrm>
            <a:off x="773280" y="3216240"/>
            <a:ext cx="1317600" cy="3511440"/>
          </a:xfrm>
          <a:custGeom>
            <a:avLst/>
            <a:gdLst>
              <a:gd name="textAreaLeft" fmla="*/ 56880 w 1317600"/>
              <a:gd name="textAreaRight" fmla="*/ 1260720 w 1317600"/>
              <a:gd name="textAreaTop" fmla="*/ 56880 h 3511440"/>
              <a:gd name="textAreaBottom" fmla="*/ 3454560 h 3511440"/>
            </a:gdLst>
            <a:ahLst/>
            <a:rect l="textAreaLeft" t="textAreaTop" r="textAreaRight" b="textAreaBottom"/>
            <a:pathLst>
              <a:path w="21600" h="57555">
                <a:moveTo>
                  <a:pt x="3183" y="0"/>
                </a:moveTo>
                <a:arcTo wR="3183" hR="3183" stAng="16200000" swAng="-5400000"/>
                <a:lnTo>
                  <a:pt x="0" y="54372"/>
                </a:lnTo>
                <a:arcTo wR="3183" hR="3183" stAng="10800000" swAng="-5400000"/>
                <a:lnTo>
                  <a:pt x="18417" y="57555"/>
                </a:lnTo>
                <a:arcTo wR="3183" hR="3183" stAng="5400000" swAng="-5400000"/>
                <a:lnTo>
                  <a:pt x="21600" y="3183"/>
                </a:lnTo>
                <a:arcTo wR="3183" hR="3183" stAng="0" swAng="-5400000"/>
                <a:close/>
              </a:path>
            </a:pathLst>
          </a:custGeom>
          <a:solidFill>
            <a:srgbClr val="fcfeb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797040" y="3503520"/>
            <a:ext cx="1382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,2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EP</a:t>
            </a:r>
            <a:endParaRPr b="0" lang="en-US" sz="2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800800" y="3271680"/>
            <a:ext cx="888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0043"/>
                </a:solidFill>
                <a:latin typeface="Arial"/>
              </a:rPr>
              <a:t>0,20 h</a:t>
            </a:r>
            <a:endParaRPr b="0" lang="en-US" sz="2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590920" y="3505320"/>
            <a:ext cx="1382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2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EP</a:t>
            </a:r>
            <a:endParaRPr b="0" lang="en-US" sz="2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6504480" y="3243240"/>
            <a:ext cx="888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0043"/>
                </a:solidFill>
                <a:latin typeface="Arial"/>
              </a:rPr>
              <a:t>0,04 h</a:t>
            </a:r>
            <a:endParaRPr b="0" lang="en-US" sz="2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248520" y="3505320"/>
            <a:ext cx="1382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,5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EP</a:t>
            </a:r>
            <a:endParaRPr b="0" lang="en-US" sz="2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7543800" y="3200400"/>
            <a:ext cx="1382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,35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EP</a:t>
            </a:r>
            <a:endParaRPr b="0" lang="en-US" sz="2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948240" y="3243240"/>
            <a:ext cx="888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0043"/>
                </a:solidFill>
                <a:latin typeface="Arial"/>
              </a:rPr>
              <a:t>0,03 h</a:t>
            </a:r>
            <a:endParaRPr b="0" lang="en-US" sz="2000" spc="-1" strike="noStrike">
              <a:solidFill>
                <a:srgbClr val="00279f"/>
              </a:solidFill>
              <a:latin typeface="Times New Roman"/>
            </a:endParaRPr>
          </a:p>
        </p:txBody>
      </p:sp>
      <p:grpSp>
        <p:nvGrpSpPr>
          <p:cNvPr id="850" name=""/>
          <p:cNvGrpSpPr/>
          <p:nvPr/>
        </p:nvGrpSpPr>
        <p:grpSpPr>
          <a:xfrm>
            <a:off x="228960" y="3112920"/>
            <a:ext cx="8426160" cy="3430800"/>
            <a:chOff x="228960" y="3112920"/>
            <a:chExt cx="8426160" cy="3430800"/>
          </a:xfrm>
        </p:grpSpPr>
        <p:sp>
          <p:nvSpPr>
            <p:cNvPr id="851" name=""/>
            <p:cNvSpPr/>
            <p:nvPr/>
          </p:nvSpPr>
          <p:spPr>
            <a:xfrm>
              <a:off x="399960" y="3695760"/>
              <a:ext cx="403200" cy="0"/>
            </a:xfrm>
            <a:prstGeom prst="line">
              <a:avLst/>
            </a:prstGeom>
            <a:ln w="381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grpSp>
          <p:nvGrpSpPr>
            <p:cNvPr id="852" name=""/>
            <p:cNvGrpSpPr/>
            <p:nvPr/>
          </p:nvGrpSpPr>
          <p:grpSpPr>
            <a:xfrm>
              <a:off x="228960" y="3112920"/>
              <a:ext cx="8426160" cy="3430800"/>
              <a:chOff x="228960" y="3112920"/>
              <a:chExt cx="8426160" cy="3430800"/>
            </a:xfrm>
          </p:grpSpPr>
          <p:sp>
            <p:nvSpPr>
              <p:cNvPr id="853" name=""/>
              <p:cNvSpPr/>
              <p:nvPr/>
            </p:nvSpPr>
            <p:spPr>
              <a:xfrm>
                <a:off x="228960" y="3112920"/>
                <a:ext cx="553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279f"/>
                    </a:solidFill>
                    <a:latin typeface="Arial"/>
                  </a:rPr>
                  <a:t>P1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994200" y="3724200"/>
                <a:ext cx="326880" cy="0"/>
              </a:xfrm>
              <a:prstGeom prst="line">
                <a:avLst/>
              </a:prstGeom>
              <a:ln w="38160">
                <a:solidFill>
                  <a:srgbClr val="00279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157480" y="3724200"/>
                <a:ext cx="325440" cy="0"/>
              </a:xfrm>
              <a:prstGeom prst="line">
                <a:avLst/>
              </a:prstGeom>
              <a:ln w="38160">
                <a:solidFill>
                  <a:srgbClr val="00279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5775480" y="3724200"/>
                <a:ext cx="393480" cy="0"/>
              </a:xfrm>
              <a:prstGeom prst="line">
                <a:avLst/>
              </a:prstGeom>
              <a:ln w="38160">
                <a:solidFill>
                  <a:srgbClr val="00279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7651800" y="3695760"/>
                <a:ext cx="933480" cy="0"/>
              </a:xfrm>
              <a:prstGeom prst="line">
                <a:avLst/>
              </a:prstGeom>
              <a:ln w="38160">
                <a:solidFill>
                  <a:srgbClr val="00279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2149560" y="4610160"/>
                <a:ext cx="344520" cy="0"/>
              </a:xfrm>
              <a:prstGeom prst="line">
                <a:avLst/>
              </a:prstGeom>
              <a:ln w="38160">
                <a:solidFill>
                  <a:srgbClr val="00279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4006800" y="4638600"/>
                <a:ext cx="344520" cy="0"/>
              </a:xfrm>
              <a:prstGeom prst="line">
                <a:avLst/>
              </a:prstGeom>
              <a:ln w="38160">
                <a:solidFill>
                  <a:srgbClr val="00279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5778360" y="4638600"/>
                <a:ext cx="414360" cy="0"/>
              </a:xfrm>
              <a:prstGeom prst="line">
                <a:avLst/>
              </a:prstGeom>
              <a:ln w="38160">
                <a:solidFill>
                  <a:srgbClr val="00279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7677000" y="4610160"/>
                <a:ext cx="978120" cy="0"/>
              </a:xfrm>
              <a:prstGeom prst="line">
                <a:avLst/>
              </a:prstGeom>
              <a:ln w="38160">
                <a:solidFill>
                  <a:srgbClr val="00279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380880" y="4572000"/>
                <a:ext cx="424080" cy="0"/>
              </a:xfrm>
              <a:prstGeom prst="line">
                <a:avLst/>
              </a:prstGeom>
              <a:ln w="38160">
                <a:solidFill>
                  <a:srgbClr val="00279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228960" y="4030560"/>
                <a:ext cx="553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279f"/>
                    </a:solidFill>
                    <a:latin typeface="Arial"/>
                  </a:rPr>
                  <a:t>P2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2149560" y="6515280"/>
                <a:ext cx="344520" cy="0"/>
              </a:xfrm>
              <a:prstGeom prst="line">
                <a:avLst/>
              </a:prstGeom>
              <a:ln w="38160">
                <a:solidFill>
                  <a:srgbClr val="00279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006800" y="6543720"/>
                <a:ext cx="344520" cy="0"/>
              </a:xfrm>
              <a:prstGeom prst="line">
                <a:avLst/>
              </a:prstGeom>
              <a:ln w="38160">
                <a:solidFill>
                  <a:srgbClr val="00279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778360" y="6543720"/>
                <a:ext cx="414360" cy="0"/>
              </a:xfrm>
              <a:prstGeom prst="line">
                <a:avLst/>
              </a:prstGeom>
              <a:ln w="38160">
                <a:solidFill>
                  <a:srgbClr val="00279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7677000" y="6515280"/>
                <a:ext cx="978120" cy="0"/>
              </a:xfrm>
              <a:prstGeom prst="line">
                <a:avLst/>
              </a:prstGeom>
              <a:ln w="38160">
                <a:solidFill>
                  <a:srgbClr val="00279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380880" y="6477120"/>
                <a:ext cx="424080" cy="0"/>
              </a:xfrm>
              <a:prstGeom prst="line">
                <a:avLst/>
              </a:prstGeom>
              <a:ln w="38160">
                <a:solidFill>
                  <a:srgbClr val="00279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228960" y="5867280"/>
                <a:ext cx="553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279f"/>
                    </a:solidFill>
                    <a:latin typeface="Arial"/>
                  </a:rPr>
                  <a:t>P4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2149560" y="5600880"/>
                <a:ext cx="344520" cy="0"/>
              </a:xfrm>
              <a:prstGeom prst="line">
                <a:avLst/>
              </a:prstGeom>
              <a:ln w="38160">
                <a:solidFill>
                  <a:srgbClr val="00279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006800" y="5629320"/>
                <a:ext cx="344520" cy="0"/>
              </a:xfrm>
              <a:prstGeom prst="line">
                <a:avLst/>
              </a:prstGeom>
              <a:ln w="38160">
                <a:solidFill>
                  <a:srgbClr val="00279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5778360" y="5629320"/>
                <a:ext cx="414360" cy="0"/>
              </a:xfrm>
              <a:prstGeom prst="line">
                <a:avLst/>
              </a:prstGeom>
              <a:ln w="38160">
                <a:solidFill>
                  <a:srgbClr val="00279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677000" y="5600880"/>
                <a:ext cx="978120" cy="0"/>
              </a:xfrm>
              <a:prstGeom prst="line">
                <a:avLst/>
              </a:prstGeom>
              <a:ln w="38160">
                <a:solidFill>
                  <a:srgbClr val="00279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380880" y="5562720"/>
                <a:ext cx="424080" cy="0"/>
              </a:xfrm>
              <a:prstGeom prst="line">
                <a:avLst/>
              </a:prstGeom>
              <a:ln w="38160">
                <a:solidFill>
                  <a:srgbClr val="00279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228960" y="4948200"/>
                <a:ext cx="553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279f"/>
                    </a:solidFill>
                    <a:latin typeface="Arial"/>
                  </a:rPr>
                  <a:t>P3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76" name=""/>
          <p:cNvSpPr/>
          <p:nvPr/>
        </p:nvSpPr>
        <p:spPr>
          <a:xfrm>
            <a:off x="4553280" y="3276720"/>
            <a:ext cx="888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0043"/>
                </a:solidFill>
                <a:latin typeface="Arial"/>
              </a:rPr>
              <a:t>0,03 h</a:t>
            </a:r>
            <a:endParaRPr b="0" lang="en-US" sz="2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343400" y="3505320"/>
            <a:ext cx="1382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,4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EP</a:t>
            </a:r>
            <a:endParaRPr b="0" lang="en-US" sz="2000" spc="-1" strike="noStrike">
              <a:solidFill>
                <a:srgbClr val="00279f"/>
              </a:solidFill>
              <a:latin typeface="Times New Roman"/>
            </a:endParaRPr>
          </a:p>
        </p:txBody>
      </p:sp>
      <p:grpSp>
        <p:nvGrpSpPr>
          <p:cNvPr id="878" name=""/>
          <p:cNvGrpSpPr/>
          <p:nvPr/>
        </p:nvGrpSpPr>
        <p:grpSpPr>
          <a:xfrm>
            <a:off x="948240" y="4162320"/>
            <a:ext cx="6474600" cy="2259360"/>
            <a:chOff x="948240" y="4162320"/>
            <a:chExt cx="6474600" cy="2259360"/>
          </a:xfrm>
        </p:grpSpPr>
        <p:sp>
          <p:nvSpPr>
            <p:cNvPr id="879" name=""/>
            <p:cNvSpPr/>
            <p:nvPr/>
          </p:nvSpPr>
          <p:spPr>
            <a:xfrm>
              <a:off x="948240" y="4162320"/>
              <a:ext cx="888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e0043"/>
                  </a:solidFill>
                  <a:latin typeface="Arial"/>
                </a:rPr>
                <a:t>0,03 h</a:t>
              </a:r>
              <a:endParaRPr b="0" lang="en-US" sz="2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594680" y="4162320"/>
              <a:ext cx="888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e0043"/>
                  </a:solidFill>
                  <a:latin typeface="Arial"/>
                </a:rPr>
                <a:t>0,03 h</a:t>
              </a:r>
              <a:endParaRPr b="0" lang="en-US" sz="2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800800" y="4191120"/>
              <a:ext cx="888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e0043"/>
                  </a:solidFill>
                  <a:latin typeface="Arial"/>
                </a:rPr>
                <a:t>0,04 h</a:t>
              </a:r>
              <a:endParaRPr b="0" lang="en-US" sz="2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948240" y="5999040"/>
              <a:ext cx="888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e0043"/>
                  </a:solidFill>
                  <a:latin typeface="Arial"/>
                </a:rPr>
                <a:t>0,01 h</a:t>
              </a:r>
              <a:endParaRPr b="0" lang="en-US" sz="2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594680" y="5999040"/>
              <a:ext cx="888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e0043"/>
                  </a:solidFill>
                  <a:latin typeface="Arial"/>
                </a:rPr>
                <a:t>0,01 h</a:t>
              </a:r>
              <a:endParaRPr b="0" lang="en-US" sz="2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504480" y="5999040"/>
              <a:ext cx="888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e0043"/>
                  </a:solidFill>
                  <a:latin typeface="Arial"/>
                </a:rPr>
                <a:t>0,01 h</a:t>
              </a:r>
              <a:endParaRPr b="0" lang="en-US" sz="2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800800" y="6027840"/>
              <a:ext cx="888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e0043"/>
                  </a:solidFill>
                  <a:latin typeface="Arial"/>
                </a:rPr>
                <a:t>0,11 h</a:t>
              </a:r>
              <a:endParaRPr b="0" lang="en-US" sz="2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948240" y="5079960"/>
              <a:ext cx="888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e0043"/>
                  </a:solidFill>
                  <a:latin typeface="Arial"/>
                </a:rPr>
                <a:t>0,05 h</a:t>
              </a:r>
              <a:endParaRPr b="0" lang="en-US" sz="2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594680" y="5079960"/>
              <a:ext cx="888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e0043"/>
                  </a:solidFill>
                  <a:latin typeface="Arial"/>
                </a:rPr>
                <a:t>0,05 h</a:t>
              </a:r>
              <a:endParaRPr b="0" lang="en-US" sz="2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504480" y="5079960"/>
              <a:ext cx="888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e0043"/>
                  </a:solidFill>
                  <a:latin typeface="Arial"/>
                </a:rPr>
                <a:t>0,10 h</a:t>
              </a:r>
              <a:endParaRPr b="0" lang="en-US" sz="2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00800" y="5105520"/>
              <a:ext cx="888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e0043"/>
                  </a:solidFill>
                  <a:latin typeface="Arial"/>
                </a:rPr>
                <a:t>0,05 h</a:t>
              </a:r>
              <a:endParaRPr b="0" lang="en-US" sz="2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534360" y="4191120"/>
              <a:ext cx="888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e0043"/>
                  </a:solidFill>
                  <a:latin typeface="Arial"/>
                </a:rPr>
                <a:t>0,04 h</a:t>
              </a:r>
              <a:endParaRPr b="0" lang="en-US" sz="2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891" name=""/>
          <p:cNvGrpSpPr/>
          <p:nvPr/>
        </p:nvGrpSpPr>
        <p:grpSpPr>
          <a:xfrm>
            <a:off x="797040" y="4114800"/>
            <a:ext cx="8205480" cy="2616840"/>
            <a:chOff x="797040" y="4114800"/>
            <a:chExt cx="8205480" cy="2616840"/>
          </a:xfrm>
        </p:grpSpPr>
        <p:sp>
          <p:nvSpPr>
            <p:cNvPr id="892" name=""/>
            <p:cNvSpPr/>
            <p:nvPr/>
          </p:nvSpPr>
          <p:spPr>
            <a:xfrm>
              <a:off x="797040" y="4421160"/>
              <a:ext cx="1382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,21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UEP</a:t>
              </a:r>
              <a:endParaRPr b="0" lang="en-US" sz="2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590920" y="4495680"/>
              <a:ext cx="1382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,24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UEP</a:t>
              </a:r>
              <a:endParaRPr b="0" lang="en-US" sz="2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343400" y="4419720"/>
              <a:ext cx="1382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,42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UEP</a:t>
              </a:r>
              <a:endParaRPr b="0" lang="en-US" sz="2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620120" y="4114800"/>
              <a:ext cx="1382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,47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UEP</a:t>
              </a:r>
              <a:endParaRPr b="0" lang="en-US" sz="2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97040" y="6259680"/>
              <a:ext cx="1382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,07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UEP</a:t>
              </a:r>
              <a:endParaRPr b="0" lang="en-US" sz="2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590920" y="6276960"/>
              <a:ext cx="1382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,66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UEP</a:t>
              </a:r>
              <a:endParaRPr b="0" lang="en-US" sz="2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289400" y="6259680"/>
              <a:ext cx="1382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,14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UEP</a:t>
              </a:r>
              <a:endParaRPr b="0" lang="en-US" sz="2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199200" y="6259680"/>
              <a:ext cx="1382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,13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UEP</a:t>
              </a:r>
              <a:endParaRPr b="0" lang="en-US" sz="2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620120" y="5943600"/>
              <a:ext cx="1382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,00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UEP</a:t>
              </a:r>
              <a:endParaRPr b="0" lang="en-US" sz="2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97040" y="5340240"/>
              <a:ext cx="1382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,35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UEP</a:t>
              </a:r>
              <a:endParaRPr b="0" lang="en-US" sz="2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441680" y="5340240"/>
              <a:ext cx="1382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,70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UEP</a:t>
              </a:r>
              <a:endParaRPr b="0" lang="en-US" sz="2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265800" y="5340240"/>
              <a:ext cx="1382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,30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UEP</a:t>
              </a:r>
              <a:endParaRPr b="0" lang="en-US" sz="2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620120" y="5029200"/>
              <a:ext cx="1382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,65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UEP</a:t>
              </a:r>
              <a:endParaRPr b="0" lang="en-US" sz="2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590920" y="5410080"/>
              <a:ext cx="1382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,30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UEP</a:t>
              </a:r>
              <a:endParaRPr b="0" lang="en-US" sz="2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248520" y="4495680"/>
              <a:ext cx="1382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,52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UEP</a:t>
              </a:r>
              <a:endParaRPr b="0" lang="en-US" sz="2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0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1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9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20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4" dur="20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20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20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3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0" dur="1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2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2" dur="1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8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8" dur="8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8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8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77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8" dur="770" fill="hold"/>
                                        <p:tgtEl>
                                          <p:spTgt spid="8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60" dur="77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62" dur="77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0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5" dur="2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6" dur="20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20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6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60200" y="533520"/>
            <a:ext cx="502128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Exemplo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317520" y="2247840"/>
            <a:ext cx="4911840" cy="6667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1400" bIns="41400" anchor="t">
            <a:normAutofit/>
          </a:bodyPr>
          <a:p>
            <a:pPr marL="301680" indent="-301680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Quantidades Produzidas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</p:txBody>
      </p:sp>
      <p:graphicFrame>
        <p:nvGraphicFramePr>
          <p:cNvPr id="911" name=""/>
          <p:cNvGraphicFramePr/>
          <p:nvPr/>
        </p:nvGraphicFramePr>
        <p:xfrm>
          <a:off x="214200" y="3286080"/>
          <a:ext cx="8148600" cy="354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200" y="3286080"/>
                    <a:ext cx="8148600" cy="35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60200" y="533520"/>
            <a:ext cx="471672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Medição da </a:t>
            </a:r>
            <a:br>
              <a:rPr sz="4400"/>
            </a:b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Produção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914" name=""/>
          <p:cNvSpPr/>
          <p:nvPr/>
        </p:nvSpPr>
        <p:spPr>
          <a:xfrm>
            <a:off x="5761080" y="2924280"/>
            <a:ext cx="14400" cy="46836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761080" y="3392640"/>
            <a:ext cx="14400" cy="45540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5761080" y="3848040"/>
            <a:ext cx="14400" cy="190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5761080" y="3886200"/>
            <a:ext cx="14400" cy="190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761080" y="3905280"/>
            <a:ext cx="14400" cy="45576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761080" y="4361040"/>
            <a:ext cx="14400" cy="45540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5761080" y="4816440"/>
            <a:ext cx="14400" cy="45576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761080" y="5272200"/>
            <a:ext cx="14400" cy="45540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761080" y="5727600"/>
            <a:ext cx="14400" cy="190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761080" y="5765760"/>
            <a:ext cx="14400" cy="190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761080" y="5784840"/>
            <a:ext cx="14400" cy="45576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grpSp>
        <p:nvGrpSpPr>
          <p:cNvPr id="925" name=""/>
          <p:cNvGrpSpPr/>
          <p:nvPr/>
        </p:nvGrpSpPr>
        <p:grpSpPr>
          <a:xfrm>
            <a:off x="4132440" y="3392640"/>
            <a:ext cx="1643040" cy="2904840"/>
            <a:chOff x="4132440" y="3392640"/>
            <a:chExt cx="1643040" cy="2904840"/>
          </a:xfrm>
        </p:grpSpPr>
        <p:sp>
          <p:nvSpPr>
            <p:cNvPr id="926" name=""/>
            <p:cNvSpPr/>
            <p:nvPr/>
          </p:nvSpPr>
          <p:spPr>
            <a:xfrm>
              <a:off x="4132440" y="3848040"/>
              <a:ext cx="4572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132440" y="3886200"/>
              <a:ext cx="4572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132440" y="5727600"/>
              <a:ext cx="4572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132440" y="5765760"/>
              <a:ext cx="4572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132440" y="6240600"/>
              <a:ext cx="4572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132440" y="6278400"/>
              <a:ext cx="4572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132440" y="3392640"/>
              <a:ext cx="1598400" cy="45540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556160" y="3405240"/>
              <a:ext cx="785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279f"/>
                  </a:solidFill>
                  <a:latin typeface="Arial"/>
                </a:rPr>
                <a:t>UEP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178160" y="3848040"/>
              <a:ext cx="155268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178160" y="3886200"/>
              <a:ext cx="155268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132440" y="3905280"/>
              <a:ext cx="1598400" cy="43668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951800" y="3886200"/>
              <a:ext cx="636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279f"/>
                  </a:solidFill>
                  <a:latin typeface="Arial"/>
                </a:rPr>
                <a:t>940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132440" y="4341960"/>
              <a:ext cx="1598400" cy="1908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132440" y="4361040"/>
              <a:ext cx="1598400" cy="43632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624920" y="4373640"/>
              <a:ext cx="953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279f"/>
                  </a:solidFill>
                  <a:latin typeface="Arial"/>
                </a:rPr>
                <a:t>2.776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132440" y="4797360"/>
              <a:ext cx="1598400" cy="1908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132440" y="4816440"/>
              <a:ext cx="1598400" cy="43668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624920" y="4829040"/>
              <a:ext cx="953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279f"/>
                  </a:solidFill>
                  <a:latin typeface="Arial"/>
                </a:rPr>
                <a:t>1.060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132440" y="5253120"/>
              <a:ext cx="1598400" cy="1908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132440" y="5272200"/>
              <a:ext cx="1598400" cy="43632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624920" y="5284800"/>
              <a:ext cx="953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279f"/>
                  </a:solidFill>
                  <a:latin typeface="Arial"/>
                </a:rPr>
                <a:t>1.200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132440" y="5708520"/>
              <a:ext cx="1598400" cy="1908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178160" y="5727600"/>
              <a:ext cx="155268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178160" y="5765760"/>
              <a:ext cx="155268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178160" y="6240600"/>
              <a:ext cx="155268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178160" y="6278400"/>
              <a:ext cx="155268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132440" y="5784840"/>
              <a:ext cx="1598400" cy="45576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647240" y="5791320"/>
              <a:ext cx="953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279f"/>
                  </a:solidFill>
                  <a:latin typeface="Arial"/>
                </a:rPr>
                <a:t>5.976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730840" y="3392640"/>
              <a:ext cx="14400" cy="45540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730840" y="3848040"/>
              <a:ext cx="1440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730840" y="3886200"/>
              <a:ext cx="1440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730840" y="3905280"/>
              <a:ext cx="14400" cy="45576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730840" y="4361040"/>
              <a:ext cx="14400" cy="45540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730840" y="4816440"/>
              <a:ext cx="14400" cy="45576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730840" y="5272200"/>
              <a:ext cx="14400" cy="45540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730840" y="5727600"/>
              <a:ext cx="1440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730840" y="5765760"/>
              <a:ext cx="1440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730840" y="5784840"/>
              <a:ext cx="14400" cy="45576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730840" y="6240600"/>
              <a:ext cx="4464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730840" y="6278400"/>
              <a:ext cx="4464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158760" y="2867040"/>
            <a:ext cx="8859960" cy="3838680"/>
            <a:chOff x="158760" y="2867040"/>
            <a:chExt cx="8859960" cy="3838680"/>
          </a:xfrm>
        </p:grpSpPr>
        <p:sp>
          <p:nvSpPr>
            <p:cNvPr id="967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158760" y="3392640"/>
              <a:ext cx="15840" cy="45540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89000" y="3392640"/>
              <a:ext cx="15840" cy="45540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495520" y="3392640"/>
              <a:ext cx="15840" cy="45540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04840" y="3392640"/>
              <a:ext cx="2290680" cy="455400"/>
            </a:xfrm>
            <a:prstGeom prst="rect">
              <a:avLst/>
            </a:prstGeom>
            <a:solidFill>
              <a:srgbClr val="cb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622440" y="3405240"/>
              <a:ext cx="1462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279f"/>
                  </a:solidFill>
                  <a:latin typeface="Arial"/>
                </a:rPr>
                <a:t>Produto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541600" y="3392640"/>
              <a:ext cx="1590840" cy="45540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784600" y="3405240"/>
              <a:ext cx="1079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279f"/>
                  </a:solidFill>
                  <a:latin typeface="Arial"/>
                </a:rPr>
                <a:t>Física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89000" y="3848040"/>
              <a:ext cx="15840" cy="572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58760" y="3848040"/>
              <a:ext cx="15840" cy="572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04840" y="3848040"/>
              <a:ext cx="229068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04840" y="3886200"/>
              <a:ext cx="229068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495520" y="3848040"/>
              <a:ext cx="1584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495520" y="3886200"/>
              <a:ext cx="1584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541600" y="3848040"/>
              <a:ext cx="159084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541600" y="3886200"/>
              <a:ext cx="159084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58760" y="3905280"/>
              <a:ext cx="15840" cy="45576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89000" y="3905280"/>
              <a:ext cx="15840" cy="45576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495520" y="3905280"/>
              <a:ext cx="15840" cy="45576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04840" y="3905280"/>
              <a:ext cx="2290680" cy="455760"/>
            </a:xfrm>
            <a:prstGeom prst="rect">
              <a:avLst/>
            </a:prstGeom>
            <a:solidFill>
              <a:srgbClr val="cb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94920" y="3917880"/>
              <a:ext cx="572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279f"/>
                  </a:solidFill>
                  <a:latin typeface="Arial"/>
                </a:rPr>
                <a:t>P1 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541600" y="3905280"/>
              <a:ext cx="1590840" cy="43668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011760" y="3917880"/>
              <a:ext cx="636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279f"/>
                  </a:solidFill>
                  <a:latin typeface="Arial"/>
                </a:rPr>
                <a:t>400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541600" y="4341960"/>
              <a:ext cx="1590840" cy="1908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58760" y="4361040"/>
              <a:ext cx="15840" cy="45540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89000" y="4361040"/>
              <a:ext cx="15840" cy="45540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495520" y="4361040"/>
              <a:ext cx="15840" cy="45540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04840" y="4361040"/>
              <a:ext cx="2290680" cy="455400"/>
            </a:xfrm>
            <a:prstGeom prst="rect">
              <a:avLst/>
            </a:prstGeom>
            <a:solidFill>
              <a:srgbClr val="cb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94920" y="4373640"/>
              <a:ext cx="572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279f"/>
                  </a:solidFill>
                  <a:latin typeface="Arial"/>
                </a:rPr>
                <a:t>P2 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541600" y="4361040"/>
              <a:ext cx="1590840" cy="43632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011760" y="4373640"/>
              <a:ext cx="636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279f"/>
                  </a:solidFill>
                  <a:latin typeface="Arial"/>
                </a:rPr>
                <a:t>800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541600" y="4797360"/>
              <a:ext cx="1590840" cy="1908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58760" y="4816440"/>
              <a:ext cx="15840" cy="45576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89000" y="4816440"/>
              <a:ext cx="15840" cy="45576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495520" y="4816440"/>
              <a:ext cx="15840" cy="45576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04840" y="4816440"/>
              <a:ext cx="2290680" cy="455760"/>
            </a:xfrm>
            <a:prstGeom prst="rect">
              <a:avLst/>
            </a:prstGeom>
            <a:solidFill>
              <a:srgbClr val="cb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94920" y="4829040"/>
              <a:ext cx="572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279f"/>
                  </a:solidFill>
                  <a:latin typeface="Arial"/>
                </a:rPr>
                <a:t>P3 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541600" y="4816440"/>
              <a:ext cx="1590840" cy="43668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011760" y="4829040"/>
              <a:ext cx="636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279f"/>
                  </a:solidFill>
                  <a:latin typeface="Arial"/>
                </a:rPr>
                <a:t>400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541600" y="5253120"/>
              <a:ext cx="1590840" cy="1908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58760" y="5272200"/>
              <a:ext cx="15840" cy="45540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89000" y="5272200"/>
              <a:ext cx="15840" cy="45540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495520" y="5272200"/>
              <a:ext cx="15840" cy="45540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04840" y="5272200"/>
              <a:ext cx="2290680" cy="455400"/>
            </a:xfrm>
            <a:prstGeom prst="rect">
              <a:avLst/>
            </a:prstGeom>
            <a:solidFill>
              <a:srgbClr val="cb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94920" y="5284800"/>
              <a:ext cx="572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279f"/>
                  </a:solidFill>
                  <a:latin typeface="Arial"/>
                </a:rPr>
                <a:t>P4 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541600" y="5272200"/>
              <a:ext cx="1590840" cy="43632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817720" y="5257800"/>
              <a:ext cx="848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279f"/>
                  </a:solidFill>
                  <a:latin typeface="Arial"/>
                </a:rPr>
                <a:t>1200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541600" y="5708520"/>
              <a:ext cx="1590840" cy="1908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89000" y="5727600"/>
              <a:ext cx="15840" cy="572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58760" y="5727600"/>
              <a:ext cx="15840" cy="572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04840" y="5727600"/>
              <a:ext cx="229068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04840" y="5765760"/>
              <a:ext cx="229068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495520" y="5727600"/>
              <a:ext cx="1584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495520" y="5765760"/>
              <a:ext cx="1584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541600" y="5727600"/>
              <a:ext cx="159084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541600" y="5765760"/>
              <a:ext cx="159084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58760" y="5784840"/>
              <a:ext cx="15840" cy="45576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89000" y="5784840"/>
              <a:ext cx="15840" cy="45576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58760" y="6240600"/>
              <a:ext cx="15840" cy="568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158760" y="6278400"/>
              <a:ext cx="4608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89000" y="6240600"/>
              <a:ext cx="1584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89000" y="6240600"/>
              <a:ext cx="1584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04840" y="6240600"/>
              <a:ext cx="229068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04840" y="6278400"/>
              <a:ext cx="229068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495520" y="5784840"/>
              <a:ext cx="15840" cy="45576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495520" y="6240600"/>
              <a:ext cx="4608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495520" y="6278400"/>
              <a:ext cx="4608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541600" y="6240600"/>
              <a:ext cx="159084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541600" y="6278400"/>
              <a:ext cx="159084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04840" y="5784840"/>
              <a:ext cx="2290680" cy="455760"/>
            </a:xfrm>
            <a:prstGeom prst="rect">
              <a:avLst/>
            </a:prstGeom>
            <a:solidFill>
              <a:srgbClr val="cb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889200" y="5797440"/>
              <a:ext cx="9104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279f"/>
                  </a:solidFill>
                  <a:latin typeface="Arial"/>
                </a:rPr>
                <a:t>Total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541600" y="5784840"/>
              <a:ext cx="1590840" cy="45576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013200" y="5797440"/>
              <a:ext cx="127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279f"/>
                  </a:solidFill>
                  <a:latin typeface="Arial"/>
                </a:rPr>
                <a:t>-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525760" y="3392640"/>
              <a:ext cx="15840" cy="45540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525760" y="3848040"/>
              <a:ext cx="1584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525760" y="3886200"/>
              <a:ext cx="1584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525760" y="3905280"/>
              <a:ext cx="15840" cy="45576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525760" y="4361040"/>
              <a:ext cx="15840" cy="45540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525760" y="4816440"/>
              <a:ext cx="15840" cy="45576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525760" y="5272200"/>
              <a:ext cx="15840" cy="45540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grpSp>
          <p:nvGrpSpPr>
            <p:cNvPr id="1048" name=""/>
            <p:cNvGrpSpPr/>
            <p:nvPr/>
          </p:nvGrpSpPr>
          <p:grpSpPr>
            <a:xfrm>
              <a:off x="965160" y="3917880"/>
              <a:ext cx="1508040" cy="1733040"/>
              <a:chOff x="965160" y="3917880"/>
              <a:chExt cx="1508040" cy="1733040"/>
            </a:xfrm>
          </p:grpSpPr>
          <p:sp>
            <p:nvSpPr>
              <p:cNvPr id="1049" name=""/>
              <p:cNvSpPr/>
              <p:nvPr/>
            </p:nvSpPr>
            <p:spPr>
              <a:xfrm>
                <a:off x="965160" y="3917880"/>
                <a:ext cx="1508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279f"/>
                    </a:solidFill>
                    <a:latin typeface="Arial"/>
                  </a:rPr>
                  <a:t>(2,35 UEP)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965160" y="4373640"/>
                <a:ext cx="1508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279f"/>
                    </a:solidFill>
                    <a:latin typeface="Arial"/>
                  </a:rPr>
                  <a:t>(3,47 UEP)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965160" y="4829040"/>
                <a:ext cx="1508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279f"/>
                    </a:solidFill>
                    <a:latin typeface="Arial"/>
                  </a:rPr>
                  <a:t>(2,65 UEP)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965160" y="5284800"/>
                <a:ext cx="1508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279f"/>
                    </a:solidFill>
                    <a:latin typeface="Arial"/>
                  </a:rPr>
                  <a:t>(1,00 UEP)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  <p:sp>
          <p:nvSpPr>
            <p:cNvPr id="1053" name=""/>
            <p:cNvSpPr/>
            <p:nvPr/>
          </p:nvSpPr>
          <p:spPr>
            <a:xfrm>
              <a:off x="2525760" y="5727600"/>
              <a:ext cx="1584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525760" y="5765760"/>
              <a:ext cx="1584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525760" y="5784840"/>
              <a:ext cx="15840" cy="45576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775480" y="3392640"/>
              <a:ext cx="1592280" cy="455400"/>
            </a:xfrm>
            <a:prstGeom prst="rect">
              <a:avLst/>
            </a:prstGeom>
            <a:solidFill>
              <a:srgbClr val="dbf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019920" y="3405240"/>
              <a:ext cx="1079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279f"/>
                  </a:solidFill>
                  <a:latin typeface="Arial"/>
                </a:rPr>
                <a:t>Física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775480" y="3848040"/>
              <a:ext cx="159228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775480" y="3886200"/>
              <a:ext cx="159228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775480" y="3905280"/>
              <a:ext cx="1592280" cy="436680"/>
            </a:xfrm>
            <a:prstGeom prst="rect">
              <a:avLst/>
            </a:prstGeom>
            <a:solidFill>
              <a:srgbClr val="dbf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247080" y="3917880"/>
              <a:ext cx="636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279f"/>
                  </a:solidFill>
                  <a:latin typeface="Arial"/>
                </a:rPr>
                <a:t>800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775480" y="4341960"/>
              <a:ext cx="1592280" cy="19080"/>
            </a:xfrm>
            <a:prstGeom prst="rect">
              <a:avLst/>
            </a:prstGeom>
            <a:solidFill>
              <a:srgbClr val="dbf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775480" y="4361040"/>
              <a:ext cx="1592280" cy="436320"/>
            </a:xfrm>
            <a:prstGeom prst="rect">
              <a:avLst/>
            </a:prstGeom>
            <a:solidFill>
              <a:srgbClr val="dbf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247080" y="4373640"/>
              <a:ext cx="636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279f"/>
                  </a:solidFill>
                  <a:latin typeface="Arial"/>
                </a:rPr>
                <a:t>400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775480" y="4797360"/>
              <a:ext cx="1592280" cy="19080"/>
            </a:xfrm>
            <a:prstGeom prst="rect">
              <a:avLst/>
            </a:prstGeom>
            <a:solidFill>
              <a:srgbClr val="dbf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775480" y="4816440"/>
              <a:ext cx="1592280" cy="436680"/>
            </a:xfrm>
            <a:prstGeom prst="rect">
              <a:avLst/>
            </a:prstGeom>
            <a:solidFill>
              <a:srgbClr val="dbf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247080" y="4829040"/>
              <a:ext cx="636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279f"/>
                  </a:solidFill>
                  <a:latin typeface="Arial"/>
                </a:rPr>
                <a:t>800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775480" y="5253120"/>
              <a:ext cx="1592280" cy="19080"/>
            </a:xfrm>
            <a:prstGeom prst="rect">
              <a:avLst/>
            </a:prstGeom>
            <a:solidFill>
              <a:srgbClr val="dbf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775480" y="5272200"/>
              <a:ext cx="1592280" cy="436320"/>
            </a:xfrm>
            <a:prstGeom prst="rect">
              <a:avLst/>
            </a:prstGeom>
            <a:solidFill>
              <a:srgbClr val="dbf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247080" y="5284800"/>
              <a:ext cx="636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279f"/>
                  </a:solidFill>
                  <a:latin typeface="Arial"/>
                </a:rPr>
                <a:t>800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775480" y="5708520"/>
              <a:ext cx="1592280" cy="19080"/>
            </a:xfrm>
            <a:prstGeom prst="rect">
              <a:avLst/>
            </a:prstGeom>
            <a:solidFill>
              <a:srgbClr val="dbf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775480" y="5727600"/>
              <a:ext cx="159228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775480" y="5765760"/>
              <a:ext cx="159228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775480" y="6240600"/>
              <a:ext cx="159228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775480" y="6278400"/>
              <a:ext cx="159228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5775480" y="5784840"/>
              <a:ext cx="1592280" cy="455760"/>
            </a:xfrm>
            <a:prstGeom prst="rect">
              <a:avLst/>
            </a:prstGeom>
            <a:solidFill>
              <a:srgbClr val="dbf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6248520" y="5797440"/>
              <a:ext cx="127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279f"/>
                  </a:solidFill>
                  <a:latin typeface="Arial"/>
                </a:rPr>
                <a:t>-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grpSp>
          <p:nvGrpSpPr>
            <p:cNvPr id="1078" name=""/>
            <p:cNvGrpSpPr/>
            <p:nvPr/>
          </p:nvGrpSpPr>
          <p:grpSpPr>
            <a:xfrm>
              <a:off x="158760" y="2867040"/>
              <a:ext cx="8859960" cy="527040"/>
              <a:chOff x="158760" y="2867040"/>
              <a:chExt cx="8859960" cy="527040"/>
            </a:xfrm>
          </p:grpSpPr>
          <p:sp>
            <p:nvSpPr>
              <p:cNvPr id="1079" name=""/>
              <p:cNvSpPr/>
              <p:nvPr/>
            </p:nvSpPr>
            <p:spPr>
              <a:xfrm>
                <a:off x="2541600" y="2867040"/>
                <a:ext cx="3189240" cy="190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2541600" y="2905200"/>
                <a:ext cx="3189240" cy="190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5775480" y="2867040"/>
                <a:ext cx="3197160" cy="190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5775480" y="2905200"/>
                <a:ext cx="3197160" cy="190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2525760" y="2924280"/>
                <a:ext cx="15840" cy="46836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2541600" y="2924280"/>
                <a:ext cx="3189240" cy="455400"/>
              </a:xfrm>
              <a:prstGeom prst="rect">
                <a:avLst/>
              </a:prstGeom>
              <a:solidFill>
                <a:srgbClr val="fcfe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158760" y="2867040"/>
                <a:ext cx="15840" cy="5724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58760" y="2867040"/>
                <a:ext cx="46080" cy="190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89000" y="2905200"/>
                <a:ext cx="15840" cy="190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89000" y="2905200"/>
                <a:ext cx="15840" cy="190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04840" y="2867040"/>
                <a:ext cx="2290680" cy="190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04840" y="2905200"/>
                <a:ext cx="2290680" cy="190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2495520" y="2867040"/>
                <a:ext cx="46080" cy="190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2495520" y="2905200"/>
                <a:ext cx="46080" cy="190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158760" y="2924280"/>
                <a:ext cx="15840" cy="46836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189000" y="2924280"/>
                <a:ext cx="15840" cy="46836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2495520" y="2924280"/>
                <a:ext cx="15840" cy="46836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204840" y="2924280"/>
                <a:ext cx="2290680" cy="468360"/>
              </a:xfrm>
              <a:prstGeom prst="rect">
                <a:avLst/>
              </a:prstGeom>
              <a:solidFill>
                <a:srgbClr val="cb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2541600" y="2936880"/>
                <a:ext cx="29437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279f"/>
                    </a:solidFill>
                    <a:latin typeface="Arial"/>
                  </a:rPr>
                  <a:t>Produção (Nov.)</a:t>
                </a:r>
                <a:endParaRPr b="0" lang="en-US" sz="30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5775480" y="2924280"/>
                <a:ext cx="3197160" cy="455400"/>
              </a:xfrm>
              <a:prstGeom prst="rect">
                <a:avLst/>
              </a:prstGeom>
              <a:solidFill>
                <a:srgbClr val="dbff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5775120" y="2936880"/>
                <a:ext cx="29008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279f"/>
                    </a:solidFill>
                    <a:latin typeface="Arial"/>
                  </a:rPr>
                  <a:t>Produção (Dez.)</a:t>
                </a:r>
                <a:endParaRPr b="0" lang="en-US" sz="30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5730840" y="2867040"/>
                <a:ext cx="44640" cy="190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5730840" y="2905200"/>
                <a:ext cx="44640" cy="190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5730840" y="2924280"/>
                <a:ext cx="14400" cy="46836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9002880" y="2867040"/>
                <a:ext cx="15840" cy="5724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8972640" y="2867040"/>
                <a:ext cx="46080" cy="190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8972640" y="2905200"/>
                <a:ext cx="15840" cy="190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8972640" y="2905200"/>
                <a:ext cx="15840" cy="190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8972640" y="2924280"/>
                <a:ext cx="15840" cy="46836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9002880" y="2924280"/>
                <a:ext cx="15840" cy="46836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9" name=""/>
          <p:cNvGrpSpPr/>
          <p:nvPr/>
        </p:nvGrpSpPr>
        <p:grpSpPr>
          <a:xfrm>
            <a:off x="7367760" y="3392640"/>
            <a:ext cx="1650960" cy="2904840"/>
            <a:chOff x="7367760" y="3392640"/>
            <a:chExt cx="1650960" cy="2904840"/>
          </a:xfrm>
        </p:grpSpPr>
        <p:sp>
          <p:nvSpPr>
            <p:cNvPr id="1110" name=""/>
            <p:cNvSpPr/>
            <p:nvPr/>
          </p:nvSpPr>
          <p:spPr>
            <a:xfrm>
              <a:off x="7367760" y="3848040"/>
              <a:ext cx="4428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367760" y="3886200"/>
              <a:ext cx="4428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367760" y="5727600"/>
              <a:ext cx="4428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367760" y="5765760"/>
              <a:ext cx="4428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7367760" y="6240600"/>
              <a:ext cx="4428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7367760" y="6278400"/>
              <a:ext cx="4428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8972640" y="3392640"/>
              <a:ext cx="15840" cy="45540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9002880" y="3392640"/>
              <a:ext cx="15840" cy="45540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367760" y="3392640"/>
              <a:ext cx="1604880" cy="455400"/>
            </a:xfrm>
            <a:prstGeom prst="rect">
              <a:avLst/>
            </a:prstGeom>
            <a:solidFill>
              <a:srgbClr val="dbf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791480" y="3405240"/>
              <a:ext cx="785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279f"/>
                  </a:solidFill>
                  <a:latin typeface="Arial"/>
                </a:rPr>
                <a:t>UEP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412040" y="3848040"/>
              <a:ext cx="156060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7412040" y="3886200"/>
              <a:ext cx="156060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9002880" y="3848040"/>
              <a:ext cx="15840" cy="572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8972640" y="3848040"/>
              <a:ext cx="15840" cy="572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972640" y="3905280"/>
              <a:ext cx="15840" cy="45576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9002880" y="3905280"/>
              <a:ext cx="15840" cy="45576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7367760" y="3905280"/>
              <a:ext cx="1604880" cy="436680"/>
            </a:xfrm>
            <a:prstGeom prst="rect">
              <a:avLst/>
            </a:prstGeom>
            <a:solidFill>
              <a:srgbClr val="dbf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7695000" y="3963960"/>
              <a:ext cx="953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279f"/>
                  </a:solidFill>
                  <a:latin typeface="Arial"/>
                </a:rPr>
                <a:t>1.880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367760" y="4341960"/>
              <a:ext cx="1604880" cy="19080"/>
            </a:xfrm>
            <a:prstGeom prst="rect">
              <a:avLst/>
            </a:prstGeom>
            <a:solidFill>
              <a:srgbClr val="dbf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8972640" y="4361040"/>
              <a:ext cx="15840" cy="45540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9002880" y="4361040"/>
              <a:ext cx="15840" cy="45540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7367760" y="4361040"/>
              <a:ext cx="1604880" cy="436320"/>
            </a:xfrm>
            <a:prstGeom prst="rect">
              <a:avLst/>
            </a:prstGeom>
            <a:solidFill>
              <a:srgbClr val="dbf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695000" y="4419720"/>
              <a:ext cx="953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279f"/>
                  </a:solidFill>
                  <a:latin typeface="Arial"/>
                </a:rPr>
                <a:t>1.388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7367760" y="4797360"/>
              <a:ext cx="1604880" cy="19080"/>
            </a:xfrm>
            <a:prstGeom prst="rect">
              <a:avLst/>
            </a:prstGeom>
            <a:solidFill>
              <a:srgbClr val="dbf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8972640" y="4816440"/>
              <a:ext cx="15840" cy="45576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9002880" y="4816440"/>
              <a:ext cx="15840" cy="45576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67760" y="4816440"/>
              <a:ext cx="1604880" cy="436680"/>
            </a:xfrm>
            <a:prstGeom prst="rect">
              <a:avLst/>
            </a:prstGeom>
            <a:solidFill>
              <a:srgbClr val="dbf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701480" y="4829040"/>
              <a:ext cx="953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279f"/>
                  </a:solidFill>
                  <a:latin typeface="Arial"/>
                </a:rPr>
                <a:t>2.120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7367760" y="5253120"/>
              <a:ext cx="1604880" cy="19080"/>
            </a:xfrm>
            <a:prstGeom prst="rect">
              <a:avLst/>
            </a:prstGeom>
            <a:solidFill>
              <a:srgbClr val="dbf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8972640" y="5272200"/>
              <a:ext cx="15840" cy="45540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9002880" y="5272200"/>
              <a:ext cx="15840" cy="45540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367760" y="5272200"/>
              <a:ext cx="1604880" cy="436320"/>
            </a:xfrm>
            <a:prstGeom prst="rect">
              <a:avLst/>
            </a:prstGeom>
            <a:solidFill>
              <a:srgbClr val="dbf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7999560" y="5257800"/>
              <a:ext cx="636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279f"/>
                  </a:solidFill>
                  <a:latin typeface="Arial"/>
                </a:rPr>
                <a:t>800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7367760" y="5708520"/>
              <a:ext cx="1604880" cy="19080"/>
            </a:xfrm>
            <a:prstGeom prst="rect">
              <a:avLst/>
            </a:prstGeom>
            <a:solidFill>
              <a:srgbClr val="dbf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7412040" y="5727600"/>
              <a:ext cx="156060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7412040" y="5765760"/>
              <a:ext cx="156060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9002880" y="5727600"/>
              <a:ext cx="15840" cy="572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8972640" y="5727600"/>
              <a:ext cx="15840" cy="572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7412040" y="6240600"/>
              <a:ext cx="156060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7412040" y="6278400"/>
              <a:ext cx="156060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8972640" y="5784840"/>
              <a:ext cx="15840" cy="45576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9002880" y="5784840"/>
              <a:ext cx="15840" cy="45576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9002880" y="6240600"/>
              <a:ext cx="15840" cy="568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8972640" y="6278400"/>
              <a:ext cx="4608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8972640" y="6240600"/>
              <a:ext cx="1584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8972640" y="6240600"/>
              <a:ext cx="1584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367760" y="5784840"/>
              <a:ext cx="1604880" cy="455760"/>
            </a:xfrm>
            <a:prstGeom prst="rect">
              <a:avLst/>
            </a:prstGeom>
            <a:solidFill>
              <a:srgbClr val="dbf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7701480" y="5797440"/>
              <a:ext cx="953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279f"/>
                  </a:solidFill>
                  <a:latin typeface="Arial"/>
                </a:rPr>
                <a:t>6.188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93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98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03120" y="676440"/>
            <a:ext cx="464976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Valor Monetário </a:t>
            </a:r>
            <a:br>
              <a:rPr sz="4400"/>
            </a:b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da UEP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1161" name=""/>
          <p:cNvSpPr/>
          <p:nvPr/>
        </p:nvSpPr>
        <p:spPr>
          <a:xfrm>
            <a:off x="444960" y="3054240"/>
            <a:ext cx="420768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e0043"/>
                </a:solidFill>
                <a:latin typeface="Arial"/>
              </a:rPr>
              <a:t>Dados Operacionais</a:t>
            </a:r>
            <a:endParaRPr b="0" lang="en-US" sz="35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574960" y="3497400"/>
            <a:ext cx="9648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79f"/>
                </a:solidFill>
                <a:latin typeface="Arial"/>
              </a:rPr>
              <a:t>Nov.</a:t>
            </a: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7447320" y="3497400"/>
            <a:ext cx="8596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79f"/>
                </a:solidFill>
                <a:latin typeface="Arial"/>
              </a:rPr>
              <a:t>Dez</a:t>
            </a: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09880" y="3954600"/>
            <a:ext cx="456156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79f"/>
                </a:solidFill>
                <a:latin typeface="Arial"/>
              </a:rPr>
              <a:t>Custos de Transformação</a:t>
            </a: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5027400" y="3962520"/>
            <a:ext cx="17694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79f"/>
                </a:solidFill>
                <a:latin typeface="Arial"/>
              </a:rPr>
              <a:t>$597.600</a:t>
            </a: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6932160" y="3962520"/>
            <a:ext cx="17694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79f"/>
                </a:solidFill>
                <a:latin typeface="Arial"/>
              </a:rPr>
              <a:t>$649.740</a:t>
            </a: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151920" y="5256360"/>
            <a:ext cx="8990280" cy="14493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1400" bIns="41400" anchor="t">
            <a:normAutofit/>
          </a:bodyPr>
          <a:p>
            <a:pPr marL="301680" indent="-301680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003e00"/>
                </a:solidFill>
                <a:latin typeface="Arial"/>
              </a:rPr>
              <a:t>UEP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 = 597600 / 5976 = </a:t>
            </a:r>
            <a:r>
              <a:rPr b="0" lang="en-US" sz="2800" spc="-1" strike="noStrike">
                <a:solidFill>
                  <a:srgbClr val="6e0043"/>
                </a:solidFill>
                <a:latin typeface="Arial"/>
              </a:rPr>
              <a:t>$100,00 / UEP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 (Nov.)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301680" indent="-301680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003e00"/>
                </a:solidFill>
                <a:latin typeface="Arial"/>
              </a:rPr>
              <a:t>UEP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 = 649740 / 6188 = </a:t>
            </a:r>
            <a:r>
              <a:rPr b="0" lang="en-US" sz="2800" spc="-1" strike="noStrike">
                <a:solidFill>
                  <a:srgbClr val="6e0043"/>
                </a:solidFill>
                <a:latin typeface="Arial"/>
              </a:rPr>
              <a:t>$105,00 / UEP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(Dez.)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1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1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1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1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9" dur="500"/>
                                        <p:tgtEl>
                                          <p:spTgt spid="1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2000"/>
                                        <p:tgtEl>
                                          <p:spTgt spid="1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5" dur="2000" fill="hold"/>
                                        <p:tgtEl>
                                          <p:spTgt spid="1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2000" fill="hold"/>
                                        <p:tgtEl>
                                          <p:spTgt spid="1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570708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Custeio dos </a:t>
            </a:r>
            <a:br>
              <a:rPr sz="4400"/>
            </a:b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Produtos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6626160" cy="10666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1400" bIns="41400" anchor="t">
            <a:normAutofit/>
          </a:bodyPr>
          <a:p>
            <a:pPr marL="301680" indent="-301680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003e00"/>
                </a:solidFill>
                <a:latin typeface="Arial"/>
              </a:rPr>
              <a:t>UEP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 = $100,00 / UEP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(Nov.)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4226040" y="3556080"/>
            <a:ext cx="3195360" cy="190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226040" y="3592440"/>
            <a:ext cx="3195360" cy="190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4210200" y="3611520"/>
            <a:ext cx="15840" cy="4381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7421400" y="3611520"/>
            <a:ext cx="8280" cy="438120"/>
          </a:xfrm>
          <a:prstGeom prst="rect">
            <a:avLst/>
          </a:prstGeom>
          <a:solidFill>
            <a:srgbClr val="7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7421400" y="3611520"/>
            <a:ext cx="8280" cy="438120"/>
          </a:xfrm>
          <a:prstGeom prst="rect">
            <a:avLst/>
          </a:prstGeom>
          <a:solidFill>
            <a:srgbClr val="7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7421400" y="3611520"/>
            <a:ext cx="8280" cy="438120"/>
          </a:xfrm>
          <a:prstGeom prst="rect">
            <a:avLst/>
          </a:prstGeom>
          <a:solidFill>
            <a:srgbClr val="7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1766880" y="4049640"/>
            <a:ext cx="7920" cy="54000"/>
          </a:xfrm>
          <a:prstGeom prst="rect">
            <a:avLst/>
          </a:prstGeom>
          <a:solidFill>
            <a:srgbClr val="7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7421400" y="4049640"/>
            <a:ext cx="8280" cy="176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7421400" y="4067280"/>
            <a:ext cx="8280" cy="190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7421400" y="4086360"/>
            <a:ext cx="8280" cy="17280"/>
          </a:xfrm>
          <a:prstGeom prst="rect">
            <a:avLst/>
          </a:prstGeom>
          <a:solidFill>
            <a:srgbClr val="7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grpSp>
        <p:nvGrpSpPr>
          <p:cNvPr id="1182" name=""/>
          <p:cNvGrpSpPr/>
          <p:nvPr/>
        </p:nvGrpSpPr>
        <p:grpSpPr>
          <a:xfrm>
            <a:off x="1766880" y="3556080"/>
            <a:ext cx="2497320" cy="3003480"/>
            <a:chOff x="1766880" y="3556080"/>
            <a:chExt cx="2497320" cy="3003480"/>
          </a:xfrm>
        </p:grpSpPr>
        <p:sp>
          <p:nvSpPr>
            <p:cNvPr id="1183" name=""/>
            <p:cNvSpPr/>
            <p:nvPr/>
          </p:nvSpPr>
          <p:spPr>
            <a:xfrm>
              <a:off x="1774800" y="3556080"/>
              <a:ext cx="240516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1774800" y="3592440"/>
              <a:ext cx="240516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179960" y="3556080"/>
              <a:ext cx="4608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179960" y="3592440"/>
              <a:ext cx="4608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179960" y="3611520"/>
              <a:ext cx="15840" cy="43812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1782720" y="3611520"/>
              <a:ext cx="2397240" cy="438120"/>
            </a:xfrm>
            <a:prstGeom prst="rect">
              <a:avLst/>
            </a:pr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774800" y="4049640"/>
              <a:ext cx="2397240" cy="54000"/>
            </a:xfrm>
            <a:prstGeom prst="rect">
              <a:avLst/>
            </a:pr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172040" y="4049640"/>
              <a:ext cx="15840" cy="5400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172040" y="4049640"/>
              <a:ext cx="46080" cy="176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202280" y="4086360"/>
              <a:ext cx="15840" cy="172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202280" y="4086360"/>
              <a:ext cx="15840" cy="172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218120" y="4049640"/>
              <a:ext cx="46080" cy="176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218120" y="4086360"/>
              <a:ext cx="46080" cy="172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172040" y="4103640"/>
              <a:ext cx="15840" cy="46980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202280" y="4103640"/>
              <a:ext cx="15840" cy="46980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1774800" y="4103640"/>
              <a:ext cx="2397240" cy="469800"/>
            </a:xfrm>
            <a:prstGeom prst="rect">
              <a:avLst/>
            </a:pr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530440" y="4116240"/>
              <a:ext cx="150948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279f"/>
                  </a:solidFill>
                  <a:latin typeface="Arial"/>
                </a:rPr>
                <a:t>Produto</a:t>
              </a:r>
              <a:endParaRPr b="0" lang="en-US" sz="31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766880" y="4573440"/>
              <a:ext cx="2405160" cy="176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1766880" y="4610160"/>
              <a:ext cx="2405160" cy="172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172040" y="4573440"/>
              <a:ext cx="15840" cy="176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172040" y="4610160"/>
              <a:ext cx="15840" cy="172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202280" y="4573440"/>
              <a:ext cx="15840" cy="176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202280" y="4610160"/>
              <a:ext cx="15840" cy="172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172040" y="4627440"/>
              <a:ext cx="15840" cy="47016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202280" y="4627440"/>
              <a:ext cx="15840" cy="47016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1774800" y="4627440"/>
              <a:ext cx="2397240" cy="470160"/>
            </a:xfrm>
            <a:prstGeom prst="rect">
              <a:avLst/>
            </a:pr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2165400" y="4640400"/>
              <a:ext cx="5904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279f"/>
                  </a:solidFill>
                  <a:latin typeface="Arial"/>
                </a:rPr>
                <a:t>P1 </a:t>
              </a:r>
              <a:endParaRPr b="0" lang="en-US" sz="31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2573280" y="4653000"/>
              <a:ext cx="1508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(2,35 UEP)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172040" y="5097600"/>
              <a:ext cx="15840" cy="46800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202280" y="5097600"/>
              <a:ext cx="15840" cy="46800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1774800" y="5097600"/>
              <a:ext cx="2397240" cy="468000"/>
            </a:xfrm>
            <a:prstGeom prst="rect">
              <a:avLst/>
            </a:prstGeom>
            <a:solidFill>
              <a:srgbClr val="9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165400" y="5108400"/>
              <a:ext cx="5904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279f"/>
                  </a:solidFill>
                  <a:latin typeface="Arial"/>
                </a:rPr>
                <a:t>P2 </a:t>
              </a:r>
              <a:endParaRPr b="0" lang="en-US" sz="31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573280" y="5121360"/>
              <a:ext cx="1508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(3,47 UEP)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172040" y="5565600"/>
              <a:ext cx="15840" cy="47016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4202280" y="5565600"/>
              <a:ext cx="15840" cy="47016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1774800" y="5565600"/>
              <a:ext cx="2397240" cy="470160"/>
            </a:xfrm>
            <a:prstGeom prst="rect">
              <a:avLst/>
            </a:pr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2165400" y="5578560"/>
              <a:ext cx="5904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279f"/>
                  </a:solidFill>
                  <a:latin typeface="Arial"/>
                </a:rPr>
                <a:t>P3 </a:t>
              </a:r>
              <a:endParaRPr b="0" lang="en-US" sz="31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2573280" y="5591160"/>
              <a:ext cx="1508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(2,65 UEP)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1766880" y="6504120"/>
              <a:ext cx="240516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1766880" y="6540480"/>
              <a:ext cx="240516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172040" y="6035760"/>
              <a:ext cx="15840" cy="46836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202280" y="6035760"/>
              <a:ext cx="15840" cy="46836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172040" y="6504120"/>
              <a:ext cx="4608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172040" y="6540480"/>
              <a:ext cx="4608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1774800" y="6035760"/>
              <a:ext cx="2397240" cy="468360"/>
            </a:xfrm>
            <a:prstGeom prst="rect">
              <a:avLst/>
            </a:prstGeom>
            <a:solidFill>
              <a:srgbClr val="9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2165400" y="6046920"/>
              <a:ext cx="5904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279f"/>
                  </a:solidFill>
                  <a:latin typeface="Arial"/>
                </a:rPr>
                <a:t>P4 </a:t>
              </a:r>
              <a:endParaRPr b="0" lang="en-US" sz="31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2573280" y="6059520"/>
              <a:ext cx="1508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(1,00 UEP)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1230" name=""/>
          <p:cNvGrpSpPr/>
          <p:nvPr/>
        </p:nvGrpSpPr>
        <p:grpSpPr>
          <a:xfrm>
            <a:off x="4218120" y="3611520"/>
            <a:ext cx="3203280" cy="2948040"/>
            <a:chOff x="4218120" y="3611520"/>
            <a:chExt cx="3203280" cy="2948040"/>
          </a:xfrm>
        </p:grpSpPr>
        <p:sp>
          <p:nvSpPr>
            <p:cNvPr id="1231" name=""/>
            <p:cNvSpPr/>
            <p:nvPr/>
          </p:nvSpPr>
          <p:spPr>
            <a:xfrm>
              <a:off x="4226040" y="3611520"/>
              <a:ext cx="3195360" cy="438120"/>
            </a:xfrm>
            <a:prstGeom prst="rect">
              <a:avLst/>
            </a:pr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5502240" y="3622680"/>
              <a:ext cx="10476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279f"/>
                  </a:solidFill>
                  <a:latin typeface="Arial"/>
                </a:rPr>
                <a:t>CT ($)</a:t>
              </a:r>
              <a:endParaRPr b="0" lang="en-US" sz="29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264200" y="4049640"/>
              <a:ext cx="1544400" cy="176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264200" y="4086360"/>
              <a:ext cx="1544400" cy="172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808600" y="4049640"/>
              <a:ext cx="46080" cy="176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808600" y="4086360"/>
              <a:ext cx="46080" cy="172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218120" y="4103640"/>
              <a:ext cx="1590480" cy="469800"/>
            </a:xfrm>
            <a:prstGeom prst="rect">
              <a:avLst/>
            </a:pr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799880" y="4116240"/>
              <a:ext cx="85248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279f"/>
                  </a:solidFill>
                  <a:latin typeface="Arial"/>
                </a:rPr>
                <a:t>Nov.</a:t>
              </a:r>
              <a:endParaRPr b="0" lang="en-US" sz="31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218120" y="4573440"/>
              <a:ext cx="1590480" cy="176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218120" y="4610160"/>
              <a:ext cx="1590480" cy="172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808600" y="4573440"/>
              <a:ext cx="46080" cy="176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808600" y="4610160"/>
              <a:ext cx="46080" cy="172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218120" y="4627440"/>
              <a:ext cx="1590480" cy="451080"/>
            </a:xfrm>
            <a:prstGeom prst="rect">
              <a:avLst/>
            </a:pr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509000" y="4640400"/>
              <a:ext cx="120024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279f"/>
                  </a:solidFill>
                  <a:latin typeface="Arial"/>
                </a:rPr>
                <a:t>235,00</a:t>
              </a:r>
              <a:endParaRPr b="0" lang="en-US" sz="31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218120" y="5078520"/>
              <a:ext cx="1590480" cy="19080"/>
            </a:xfrm>
            <a:prstGeom prst="rect">
              <a:avLst/>
            </a:pr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218120" y="5097600"/>
              <a:ext cx="1590480" cy="450720"/>
            </a:xfrm>
            <a:prstGeom prst="rect">
              <a:avLst/>
            </a:prstGeom>
            <a:solidFill>
              <a:srgbClr val="9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509000" y="5108400"/>
              <a:ext cx="120024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279f"/>
                  </a:solidFill>
                  <a:latin typeface="Arial"/>
                </a:rPr>
                <a:t>347,00</a:t>
              </a:r>
              <a:endParaRPr b="0" lang="en-US" sz="31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218120" y="5548320"/>
              <a:ext cx="1590480" cy="17280"/>
            </a:xfrm>
            <a:prstGeom prst="rect">
              <a:avLst/>
            </a:prstGeom>
            <a:solidFill>
              <a:srgbClr val="9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218120" y="5565600"/>
              <a:ext cx="1590480" cy="451080"/>
            </a:xfrm>
            <a:prstGeom prst="rect">
              <a:avLst/>
            </a:pr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509000" y="5578560"/>
              <a:ext cx="120024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279f"/>
                  </a:solidFill>
                  <a:latin typeface="Arial"/>
                </a:rPr>
                <a:t>265,00</a:t>
              </a:r>
              <a:endParaRPr b="0" lang="en-US" sz="31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4218120" y="6016680"/>
              <a:ext cx="1590480" cy="19080"/>
            </a:xfrm>
            <a:prstGeom prst="rect">
              <a:avLst/>
            </a:pr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218120" y="6504120"/>
              <a:ext cx="159048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218120" y="6540480"/>
              <a:ext cx="159048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808600" y="6504120"/>
              <a:ext cx="4608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808600" y="6540480"/>
              <a:ext cx="4608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4218120" y="6035760"/>
              <a:ext cx="1590480" cy="450720"/>
            </a:xfrm>
            <a:prstGeom prst="rect">
              <a:avLst/>
            </a:prstGeom>
            <a:solidFill>
              <a:srgbClr val="9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509000" y="6046920"/>
              <a:ext cx="120024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279f"/>
                  </a:solidFill>
                  <a:latin typeface="Arial"/>
                </a:rPr>
                <a:t>100,00</a:t>
              </a:r>
              <a:endParaRPr b="0" lang="en-US" sz="31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218120" y="6486480"/>
              <a:ext cx="1590480" cy="17640"/>
            </a:xfrm>
            <a:prstGeom prst="rect">
              <a:avLst/>
            </a:prstGeom>
            <a:solidFill>
              <a:srgbClr val="9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1259" name=""/>
          <p:cNvGrpSpPr/>
          <p:nvPr/>
        </p:nvGrpSpPr>
        <p:grpSpPr>
          <a:xfrm>
            <a:off x="5808600" y="4049640"/>
            <a:ext cx="1621080" cy="2509920"/>
            <a:chOff x="5808600" y="4049640"/>
            <a:chExt cx="1621080" cy="2509920"/>
          </a:xfrm>
        </p:grpSpPr>
        <p:sp>
          <p:nvSpPr>
            <p:cNvPr id="1260" name=""/>
            <p:cNvSpPr/>
            <p:nvPr/>
          </p:nvSpPr>
          <p:spPr>
            <a:xfrm>
              <a:off x="5854680" y="4049640"/>
              <a:ext cx="1566720" cy="176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854680" y="4086360"/>
              <a:ext cx="1566720" cy="172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808600" y="4103640"/>
              <a:ext cx="1621080" cy="469800"/>
            </a:xfrm>
            <a:prstGeom prst="rect">
              <a:avLst/>
            </a:pr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427440" y="4116240"/>
              <a:ext cx="80856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279f"/>
                  </a:solidFill>
                  <a:latin typeface="Arial"/>
                </a:rPr>
                <a:t>Dez.</a:t>
              </a:r>
              <a:endParaRPr b="0" lang="en-US" sz="31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854680" y="4573440"/>
              <a:ext cx="1575000" cy="176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854680" y="4610160"/>
              <a:ext cx="1575000" cy="172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808600" y="4627440"/>
              <a:ext cx="1621080" cy="451080"/>
            </a:xfrm>
            <a:prstGeom prst="rect">
              <a:avLst/>
            </a:pr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123600" y="4640400"/>
              <a:ext cx="120024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279f"/>
                  </a:solidFill>
                  <a:latin typeface="Arial"/>
                </a:rPr>
                <a:t>246,75</a:t>
              </a:r>
              <a:endParaRPr b="0" lang="en-US" sz="31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808600" y="5078520"/>
              <a:ext cx="1621080" cy="19080"/>
            </a:xfrm>
            <a:prstGeom prst="rect">
              <a:avLst/>
            </a:pr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808600" y="5097600"/>
              <a:ext cx="1621080" cy="450720"/>
            </a:xfrm>
            <a:prstGeom prst="rect">
              <a:avLst/>
            </a:prstGeom>
            <a:solidFill>
              <a:srgbClr val="9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6123600" y="5108400"/>
              <a:ext cx="120024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279f"/>
                  </a:solidFill>
                  <a:latin typeface="Arial"/>
                </a:rPr>
                <a:t>364,35</a:t>
              </a:r>
              <a:endParaRPr b="0" lang="en-US" sz="31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808600" y="5548320"/>
              <a:ext cx="1621080" cy="17280"/>
            </a:xfrm>
            <a:prstGeom prst="rect">
              <a:avLst/>
            </a:prstGeom>
            <a:solidFill>
              <a:srgbClr val="9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808600" y="5565600"/>
              <a:ext cx="1621080" cy="451080"/>
            </a:xfrm>
            <a:prstGeom prst="rect">
              <a:avLst/>
            </a:pr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123600" y="5578560"/>
              <a:ext cx="120024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279f"/>
                  </a:solidFill>
                  <a:latin typeface="Arial"/>
                </a:rPr>
                <a:t>278,25</a:t>
              </a:r>
              <a:endParaRPr b="0" lang="en-US" sz="31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5808600" y="6016680"/>
              <a:ext cx="1621080" cy="19080"/>
            </a:xfrm>
            <a:prstGeom prst="rect">
              <a:avLst/>
            </a:pr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5854680" y="6504120"/>
              <a:ext cx="157500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5854680" y="6540480"/>
              <a:ext cx="157500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808600" y="6035760"/>
              <a:ext cx="1621080" cy="450720"/>
            </a:xfrm>
            <a:prstGeom prst="rect">
              <a:avLst/>
            </a:prstGeom>
            <a:solidFill>
              <a:srgbClr val="9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123600" y="6046920"/>
              <a:ext cx="120024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279f"/>
                  </a:solidFill>
                  <a:latin typeface="Arial"/>
                </a:rPr>
                <a:t>105,00</a:t>
              </a:r>
              <a:endParaRPr b="0" lang="en-US" sz="31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808600" y="6486480"/>
              <a:ext cx="1621080" cy="17640"/>
            </a:xfrm>
            <a:prstGeom prst="rect">
              <a:avLst/>
            </a:prstGeom>
            <a:solidFill>
              <a:srgbClr val="9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sp>
        <p:nvSpPr>
          <p:cNvPr id="1280" name=""/>
          <p:cNvSpPr/>
          <p:nvPr/>
        </p:nvSpPr>
        <p:spPr>
          <a:xfrm>
            <a:off x="304920" y="2895480"/>
            <a:ext cx="6626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normAutofit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003e00"/>
                </a:solidFill>
                <a:latin typeface="Arial"/>
              </a:rPr>
              <a:t>UEP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 = $105,00 / UEP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(Dez.)</a:t>
            </a:r>
            <a:endParaRPr b="0" lang="en-US" sz="2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3" dur="1000"/>
                                        <p:tgtEl>
                                          <p:spTgt spid="1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1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1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2" dur="10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9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20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4" dur="20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20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159840" y="533520"/>
            <a:ext cx="540252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Medidas de Desempenho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1282" name=""/>
          <p:cNvSpPr/>
          <p:nvPr/>
        </p:nvSpPr>
        <p:spPr>
          <a:xfrm>
            <a:off x="171360" y="2724120"/>
            <a:ext cx="7920" cy="446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208080" y="2760840"/>
            <a:ext cx="79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208080" y="2760840"/>
            <a:ext cx="79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227160" y="2760840"/>
            <a:ext cx="245088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687760" y="2760840"/>
            <a:ext cx="4428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2741760" y="2760840"/>
            <a:ext cx="14443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195800" y="2760840"/>
            <a:ext cx="4428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4249800" y="2760840"/>
            <a:ext cx="158760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5846760" y="2760840"/>
            <a:ext cx="4428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5900760" y="2760840"/>
            <a:ext cx="14479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7358040" y="2760840"/>
            <a:ext cx="4464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7412040" y="2760840"/>
            <a:ext cx="158760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9009000" y="2760840"/>
            <a:ext cx="79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9009000" y="2760840"/>
            <a:ext cx="79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171360" y="2778120"/>
            <a:ext cx="7920" cy="338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208080" y="2778120"/>
            <a:ext cx="7920" cy="338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4195800" y="2778120"/>
            <a:ext cx="7920" cy="338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4232160" y="2778120"/>
            <a:ext cx="7920" cy="338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4213080" y="2778120"/>
            <a:ext cx="6480" cy="338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208080" y="3125880"/>
            <a:ext cx="7920" cy="172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171360" y="3125880"/>
            <a:ext cx="7920" cy="172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4232160" y="3125880"/>
            <a:ext cx="7920" cy="172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4195800" y="3125880"/>
            <a:ext cx="7920" cy="172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171360" y="3154320"/>
            <a:ext cx="7920" cy="338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08080" y="3154320"/>
            <a:ext cx="7920" cy="338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4195800" y="3154320"/>
            <a:ext cx="7920" cy="338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4232160" y="3154320"/>
            <a:ext cx="7920" cy="338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208080" y="3502080"/>
            <a:ext cx="7920" cy="442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71360" y="3502080"/>
            <a:ext cx="7920" cy="442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227160" y="3502080"/>
            <a:ext cx="245088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227160" y="3538440"/>
            <a:ext cx="245088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2687760" y="3502080"/>
            <a:ext cx="79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2687760" y="3538440"/>
            <a:ext cx="79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2724120" y="3502080"/>
            <a:ext cx="79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2724120" y="3538440"/>
            <a:ext cx="79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2741760" y="3502080"/>
            <a:ext cx="71424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2741760" y="3538440"/>
            <a:ext cx="71424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3465360" y="3502080"/>
            <a:ext cx="4464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3465360" y="3538440"/>
            <a:ext cx="4464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519360" y="3502080"/>
            <a:ext cx="66528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3519360" y="3538440"/>
            <a:ext cx="66528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4195800" y="3502080"/>
            <a:ext cx="79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195800" y="3538440"/>
            <a:ext cx="79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232160" y="3502080"/>
            <a:ext cx="79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4232160" y="3538440"/>
            <a:ext cx="79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4249800" y="3502080"/>
            <a:ext cx="7873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4249800" y="3538440"/>
            <a:ext cx="7873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5046840" y="3502080"/>
            <a:ext cx="4428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5046840" y="3538440"/>
            <a:ext cx="4428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100480" y="3502080"/>
            <a:ext cx="7351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100480" y="3538440"/>
            <a:ext cx="7351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5846760" y="3502080"/>
            <a:ext cx="79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5846760" y="3538440"/>
            <a:ext cx="79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5883120" y="3502080"/>
            <a:ext cx="79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5883120" y="3538440"/>
            <a:ext cx="79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5900760" y="3502080"/>
            <a:ext cx="71748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5900760" y="3538440"/>
            <a:ext cx="71748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6627960" y="3502080"/>
            <a:ext cx="4428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6627960" y="3538440"/>
            <a:ext cx="4428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6681960" y="3502080"/>
            <a:ext cx="6649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681960" y="3538440"/>
            <a:ext cx="6649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7358040" y="3502080"/>
            <a:ext cx="79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7358040" y="3538440"/>
            <a:ext cx="79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7394400" y="3502080"/>
            <a:ext cx="828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7394400" y="3538440"/>
            <a:ext cx="828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7412040" y="3502080"/>
            <a:ext cx="78408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7412040" y="3538440"/>
            <a:ext cx="78408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8205840" y="3502080"/>
            <a:ext cx="4428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8205840" y="3538440"/>
            <a:ext cx="4428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8261280" y="3502080"/>
            <a:ext cx="73836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8261280" y="3538440"/>
            <a:ext cx="73836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9045720" y="2724120"/>
            <a:ext cx="7920" cy="446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9009000" y="2778120"/>
            <a:ext cx="7920" cy="338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9045720" y="2778120"/>
            <a:ext cx="7920" cy="338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7375680" y="2778120"/>
            <a:ext cx="6120" cy="338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9026640" y="2778120"/>
            <a:ext cx="6120" cy="338040"/>
          </a:xfrm>
          <a:prstGeom prst="rect">
            <a:avLst/>
          </a:prstGeom>
          <a:solidFill>
            <a:srgbClr val="b2ff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9045720" y="3125880"/>
            <a:ext cx="7920" cy="172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9009000" y="3125880"/>
            <a:ext cx="7920" cy="172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9009000" y="3154320"/>
            <a:ext cx="7920" cy="338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9045720" y="3154320"/>
            <a:ext cx="7920" cy="338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9045720" y="3502080"/>
            <a:ext cx="7920" cy="442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9009000" y="3502080"/>
            <a:ext cx="7920" cy="442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171360" y="3556080"/>
            <a:ext cx="7920" cy="3538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208080" y="3556080"/>
            <a:ext cx="7920" cy="3538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195800" y="3556080"/>
            <a:ext cx="7920" cy="3538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4232160" y="3556080"/>
            <a:ext cx="7920" cy="3538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171360" y="3919680"/>
            <a:ext cx="7920" cy="365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208080" y="3919680"/>
            <a:ext cx="7920" cy="365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4195800" y="3919680"/>
            <a:ext cx="7920" cy="365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4232160" y="3919680"/>
            <a:ext cx="7920" cy="365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71360" y="4294080"/>
            <a:ext cx="7920" cy="36540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208080" y="4294080"/>
            <a:ext cx="7920" cy="36540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4195800" y="4294080"/>
            <a:ext cx="7920" cy="36540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4232160" y="4294080"/>
            <a:ext cx="7920" cy="36540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171360" y="4668840"/>
            <a:ext cx="7920" cy="365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208080" y="4668840"/>
            <a:ext cx="7920" cy="365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195800" y="4668840"/>
            <a:ext cx="7920" cy="365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4232160" y="4668840"/>
            <a:ext cx="7920" cy="365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171360" y="5043600"/>
            <a:ext cx="7920" cy="365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208080" y="5043600"/>
            <a:ext cx="7920" cy="365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4195800" y="5043600"/>
            <a:ext cx="7920" cy="365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4232160" y="5043600"/>
            <a:ext cx="7920" cy="365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171360" y="5419800"/>
            <a:ext cx="7920" cy="365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208080" y="5419800"/>
            <a:ext cx="7920" cy="365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4195800" y="5419800"/>
            <a:ext cx="7920" cy="365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4232160" y="5419800"/>
            <a:ext cx="7920" cy="365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171360" y="5794200"/>
            <a:ext cx="7920" cy="36540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208080" y="5794200"/>
            <a:ext cx="7920" cy="36540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4195800" y="5794200"/>
            <a:ext cx="7920" cy="36540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4232160" y="5794200"/>
            <a:ext cx="7920" cy="36540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171360" y="6168960"/>
            <a:ext cx="7920" cy="365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208080" y="6168960"/>
            <a:ext cx="7920" cy="365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171360" y="6545160"/>
            <a:ext cx="7920" cy="446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208080" y="6545160"/>
            <a:ext cx="79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208080" y="6545160"/>
            <a:ext cx="79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4195800" y="6168960"/>
            <a:ext cx="7920" cy="365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4232160" y="6168960"/>
            <a:ext cx="7920" cy="365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9009000" y="3556080"/>
            <a:ext cx="7920" cy="3538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9045720" y="3556080"/>
            <a:ext cx="7920" cy="3538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9009000" y="3919680"/>
            <a:ext cx="7920" cy="365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9045720" y="3919680"/>
            <a:ext cx="7920" cy="365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9009000" y="4294080"/>
            <a:ext cx="7920" cy="36540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9045720" y="4294080"/>
            <a:ext cx="7920" cy="36540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9009000" y="4668840"/>
            <a:ext cx="7920" cy="365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9045720" y="4668840"/>
            <a:ext cx="7920" cy="365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9009000" y="5043600"/>
            <a:ext cx="7920" cy="365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9045720" y="5043600"/>
            <a:ext cx="7920" cy="365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9009000" y="5419800"/>
            <a:ext cx="7920" cy="365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9045720" y="5419800"/>
            <a:ext cx="7920" cy="365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9009000" y="5794200"/>
            <a:ext cx="7920" cy="36540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9045720" y="5794200"/>
            <a:ext cx="7920" cy="36540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9009000" y="6168960"/>
            <a:ext cx="7920" cy="365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9045720" y="6168960"/>
            <a:ext cx="7920" cy="365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9045720" y="6545160"/>
            <a:ext cx="7920" cy="446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9009000" y="6545160"/>
            <a:ext cx="79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9009000" y="6545160"/>
            <a:ext cx="79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grpSp>
        <p:nvGrpSpPr>
          <p:cNvPr id="1418" name=""/>
          <p:cNvGrpSpPr/>
          <p:nvPr/>
        </p:nvGrpSpPr>
        <p:grpSpPr>
          <a:xfrm>
            <a:off x="0" y="2403360"/>
            <a:ext cx="8881560" cy="4454640"/>
            <a:chOff x="0" y="2403360"/>
            <a:chExt cx="8881560" cy="4454640"/>
          </a:xfrm>
        </p:grpSpPr>
        <p:sp>
          <p:nvSpPr>
            <p:cNvPr id="1419" name=""/>
            <p:cNvSpPr/>
            <p:nvPr/>
          </p:nvSpPr>
          <p:spPr>
            <a:xfrm>
              <a:off x="2952360" y="64008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0" y="2876400"/>
              <a:ext cx="44280" cy="792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5440" y="2876400"/>
              <a:ext cx="2450520" cy="792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2516040" y="2876400"/>
              <a:ext cx="43920" cy="792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2570040" y="2876400"/>
              <a:ext cx="1443960" cy="792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024080" y="2876400"/>
              <a:ext cx="43920" cy="792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4078080" y="2876400"/>
              <a:ext cx="1587240" cy="792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675040" y="2876400"/>
              <a:ext cx="43920" cy="792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729040" y="2876400"/>
              <a:ext cx="1447560" cy="792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7186320" y="2876400"/>
              <a:ext cx="44280" cy="792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7240320" y="2876400"/>
              <a:ext cx="1587240" cy="792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8837280" y="2876400"/>
              <a:ext cx="44280" cy="792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516040" y="2930400"/>
              <a:ext cx="7560" cy="3380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2552400" y="2930400"/>
              <a:ext cx="7560" cy="3380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675040" y="2930400"/>
              <a:ext cx="7560" cy="3380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711400" y="2930400"/>
              <a:ext cx="7560" cy="3380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692680" y="2930400"/>
              <a:ext cx="5760" cy="33804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2552400" y="3278160"/>
              <a:ext cx="7560" cy="172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2516040" y="3278160"/>
              <a:ext cx="7560" cy="172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5711400" y="3278160"/>
              <a:ext cx="7560" cy="172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675040" y="3278160"/>
              <a:ext cx="7560" cy="172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2516040" y="3306600"/>
              <a:ext cx="7560" cy="3380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2552400" y="3306600"/>
              <a:ext cx="7560" cy="3380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675040" y="3306600"/>
              <a:ext cx="7560" cy="3380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711400" y="3306600"/>
              <a:ext cx="7560" cy="3380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7186320" y="2930400"/>
              <a:ext cx="7560" cy="3380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7222680" y="2930400"/>
              <a:ext cx="7920" cy="3380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5440" y="2930400"/>
              <a:ext cx="2450520" cy="338040"/>
            </a:xfrm>
            <a:prstGeom prst="rect">
              <a:avLst/>
            </a:prstGeom>
            <a:solidFill>
              <a:srgbClr val="7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570040" y="2930400"/>
              <a:ext cx="1443960" cy="338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2896560" y="2887560"/>
              <a:ext cx="790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PO1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4078080" y="2930400"/>
              <a:ext cx="1587240" cy="33804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4473000" y="2887560"/>
              <a:ext cx="790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PO2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729040" y="2930400"/>
              <a:ext cx="1447560" cy="338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6054120" y="2887560"/>
              <a:ext cx="790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PO3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7240320" y="2930400"/>
              <a:ext cx="1587240" cy="33804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7633800" y="2887560"/>
              <a:ext cx="790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PO4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55440" y="3278160"/>
              <a:ext cx="2450520" cy="17280"/>
            </a:xfrm>
            <a:prstGeom prst="rect">
              <a:avLst/>
            </a:prstGeom>
            <a:solidFill>
              <a:srgbClr val="7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2570040" y="3278160"/>
              <a:ext cx="713880" cy="172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3293640" y="3278160"/>
              <a:ext cx="17280" cy="172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3320640" y="3278160"/>
              <a:ext cx="691920" cy="172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4078080" y="3278160"/>
              <a:ext cx="786960" cy="172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4875120" y="3278160"/>
              <a:ext cx="16920" cy="172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4901760" y="3278160"/>
              <a:ext cx="763560" cy="172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5729040" y="3278160"/>
              <a:ext cx="717120" cy="172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456240" y="3278160"/>
              <a:ext cx="16920" cy="172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483240" y="3278160"/>
              <a:ext cx="691560" cy="172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7222680" y="3278160"/>
              <a:ext cx="7920" cy="172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7186320" y="3278160"/>
              <a:ext cx="7560" cy="172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7240320" y="3278160"/>
              <a:ext cx="783720" cy="172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8034120" y="3278160"/>
              <a:ext cx="16920" cy="172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8061120" y="3278160"/>
              <a:ext cx="764640" cy="172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7186320" y="3306600"/>
              <a:ext cx="7560" cy="3380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7222680" y="3306600"/>
              <a:ext cx="7920" cy="3380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55440" y="3306600"/>
              <a:ext cx="2450520" cy="338040"/>
            </a:xfrm>
            <a:prstGeom prst="rect">
              <a:avLst/>
            </a:prstGeom>
            <a:solidFill>
              <a:srgbClr val="7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2570040" y="3306600"/>
              <a:ext cx="713880" cy="338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2541600" y="3263760"/>
              <a:ext cx="756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Nov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3293640" y="3306600"/>
              <a:ext cx="720360" cy="338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3308400" y="3263760"/>
              <a:ext cx="722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Dez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4078080" y="3306600"/>
              <a:ext cx="786960" cy="33804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4081680" y="3263760"/>
              <a:ext cx="756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Nov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875120" y="3306600"/>
              <a:ext cx="790200" cy="33804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4921200" y="3263760"/>
              <a:ext cx="722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Dez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5729040" y="3306600"/>
              <a:ext cx="717120" cy="338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5699160" y="3263760"/>
              <a:ext cx="756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Nov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456240" y="3306600"/>
              <a:ext cx="720360" cy="338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465960" y="3263760"/>
              <a:ext cx="722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Dez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7240320" y="3306600"/>
              <a:ext cx="783720" cy="33804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7242120" y="3263760"/>
              <a:ext cx="756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Nov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8034120" y="3306600"/>
              <a:ext cx="793440" cy="33804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8083800" y="3263760"/>
              <a:ext cx="722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Dez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2516040" y="3708360"/>
              <a:ext cx="7560" cy="3538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2552400" y="3708360"/>
              <a:ext cx="7560" cy="3538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5675040" y="3708360"/>
              <a:ext cx="7560" cy="3538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5711400" y="3708360"/>
              <a:ext cx="7560" cy="3538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55440" y="3708360"/>
              <a:ext cx="2450520" cy="353880"/>
            </a:xfrm>
            <a:prstGeom prst="rect">
              <a:avLst/>
            </a:prstGeom>
            <a:solidFill>
              <a:srgbClr val="7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44640" y="3663720"/>
              <a:ext cx="247500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279f"/>
                  </a:solidFill>
                  <a:latin typeface="Arial"/>
                </a:rPr>
                <a:t>Horas Teóricas</a:t>
              </a:r>
              <a:endParaRPr b="0" lang="en-US" sz="25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2570040" y="3708360"/>
              <a:ext cx="713880" cy="328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2568600" y="365436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20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2570040" y="4046400"/>
              <a:ext cx="713880" cy="144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3293640" y="3708360"/>
              <a:ext cx="720360" cy="328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3322800" y="365436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20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3293640" y="4046400"/>
              <a:ext cx="720360" cy="144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2516040" y="4071960"/>
              <a:ext cx="7560" cy="3650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2552400" y="4071960"/>
              <a:ext cx="7560" cy="3650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5675040" y="4071960"/>
              <a:ext cx="7560" cy="3650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5711400" y="4071960"/>
              <a:ext cx="7560" cy="3650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55440" y="4071960"/>
              <a:ext cx="2450520" cy="365040"/>
            </a:xfrm>
            <a:prstGeom prst="rect">
              <a:avLst/>
            </a:prstGeom>
            <a:solidFill>
              <a:srgbClr val="7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294120" y="4025880"/>
              <a:ext cx="198432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279f"/>
                  </a:solidFill>
                  <a:latin typeface="Arial"/>
                </a:rPr>
                <a:t>Horas reais</a:t>
              </a:r>
              <a:endParaRPr b="0" lang="en-US" sz="26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570040" y="4071960"/>
              <a:ext cx="713880" cy="328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2568600" y="401796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8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2570040" y="4410000"/>
              <a:ext cx="713880" cy="270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3293640" y="4071960"/>
              <a:ext cx="720360" cy="328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3322440" y="401796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85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3293640" y="4410000"/>
              <a:ext cx="720360" cy="270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516040" y="4446360"/>
              <a:ext cx="7560" cy="36540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552400" y="4446360"/>
              <a:ext cx="7560" cy="36540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5675040" y="4446360"/>
              <a:ext cx="7560" cy="36540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5711400" y="4446360"/>
              <a:ext cx="7560" cy="36540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55440" y="4446360"/>
              <a:ext cx="2450520" cy="365400"/>
            </a:xfrm>
            <a:prstGeom prst="rect">
              <a:avLst/>
            </a:prstGeom>
            <a:solidFill>
              <a:srgbClr val="7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18360" y="4400280"/>
              <a:ext cx="253764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279f"/>
                  </a:solidFill>
                  <a:latin typeface="Arial"/>
                </a:rPr>
                <a:t>Capac. Teórica</a:t>
              </a:r>
              <a:endParaRPr b="0" lang="en-US" sz="26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2570040" y="4446360"/>
              <a:ext cx="713880" cy="328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2495880" y="4419360"/>
              <a:ext cx="858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140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2570040" y="4784760"/>
              <a:ext cx="713880" cy="270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3293640" y="4446360"/>
              <a:ext cx="720360" cy="328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3181680" y="4419360"/>
              <a:ext cx="858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140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3293640" y="4784760"/>
              <a:ext cx="720360" cy="270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2516040" y="4821120"/>
              <a:ext cx="7560" cy="3650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2552400" y="4821120"/>
              <a:ext cx="7560" cy="3650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5675040" y="4821120"/>
              <a:ext cx="7560" cy="3650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5711400" y="4821120"/>
              <a:ext cx="7560" cy="3650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55440" y="4821120"/>
              <a:ext cx="2450520" cy="365040"/>
            </a:xfrm>
            <a:prstGeom prst="rect">
              <a:avLst/>
            </a:prstGeom>
            <a:solidFill>
              <a:srgbClr val="7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55800" y="4775040"/>
              <a:ext cx="246276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279f"/>
                  </a:solidFill>
                  <a:latin typeface="Arial"/>
                </a:rPr>
                <a:t>Capac. Prática</a:t>
              </a:r>
              <a:endParaRPr b="0" lang="en-US" sz="26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2570040" y="4821120"/>
              <a:ext cx="713880" cy="328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2568600" y="47671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56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2570040" y="5160960"/>
              <a:ext cx="713880" cy="270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3293640" y="4821120"/>
              <a:ext cx="720360" cy="328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3322800" y="47671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595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3293640" y="5160960"/>
              <a:ext cx="720360" cy="270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2516040" y="5195880"/>
              <a:ext cx="7560" cy="3650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2552400" y="5195880"/>
              <a:ext cx="7560" cy="3650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5675040" y="5195880"/>
              <a:ext cx="7560" cy="3650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711400" y="5195880"/>
              <a:ext cx="7560" cy="3650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55440" y="5195880"/>
              <a:ext cx="2450520" cy="365040"/>
            </a:xfrm>
            <a:prstGeom prst="rect">
              <a:avLst/>
            </a:prstGeom>
            <a:solidFill>
              <a:srgbClr val="7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429120" y="5149800"/>
              <a:ext cx="171000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279f"/>
                  </a:solidFill>
                  <a:latin typeface="Arial"/>
                </a:rPr>
                <a:t>Produção</a:t>
              </a:r>
              <a:endParaRPr b="0" lang="en-US" sz="26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2570040" y="5195880"/>
              <a:ext cx="713880" cy="328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2568600" y="514188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476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2570040" y="5535360"/>
              <a:ext cx="713880" cy="270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3293640" y="5195880"/>
              <a:ext cx="720360" cy="328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3322800" y="514188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588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3293640" y="5535360"/>
              <a:ext cx="720360" cy="270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2516040" y="5572080"/>
              <a:ext cx="7560" cy="3650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2552400" y="5572080"/>
              <a:ext cx="7560" cy="3650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5675040" y="5572080"/>
              <a:ext cx="7560" cy="3650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5711400" y="5572080"/>
              <a:ext cx="7560" cy="3650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55440" y="5572080"/>
              <a:ext cx="2450520" cy="365040"/>
            </a:xfrm>
            <a:prstGeom prst="rect">
              <a:avLst/>
            </a:prstGeom>
            <a:solidFill>
              <a:srgbClr val="7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421200" y="5526000"/>
              <a:ext cx="172692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279f"/>
                  </a:solidFill>
                  <a:latin typeface="Arial"/>
                </a:rPr>
                <a:t>Eficiência</a:t>
              </a:r>
              <a:endParaRPr b="0" lang="en-US" sz="26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2570040" y="5572080"/>
              <a:ext cx="713880" cy="338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2527200" y="5527440"/>
              <a:ext cx="774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0,34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2570040" y="5919840"/>
              <a:ext cx="713880" cy="172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3293640" y="5572080"/>
              <a:ext cx="720360" cy="338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3281040" y="5527440"/>
              <a:ext cx="774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0,42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3293640" y="5919840"/>
              <a:ext cx="720360" cy="172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2516040" y="5946480"/>
              <a:ext cx="7560" cy="36540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2552400" y="5946480"/>
              <a:ext cx="7560" cy="36540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5675040" y="5946480"/>
              <a:ext cx="7560" cy="36540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5711400" y="5946480"/>
              <a:ext cx="7560" cy="36540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55440" y="5946480"/>
              <a:ext cx="2450520" cy="365400"/>
            </a:xfrm>
            <a:prstGeom prst="rect">
              <a:avLst/>
            </a:prstGeom>
            <a:solidFill>
              <a:srgbClr val="7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567720" y="5900760"/>
              <a:ext cx="143280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279f"/>
                  </a:solidFill>
                  <a:latin typeface="Arial"/>
                </a:rPr>
                <a:t>Eficácia</a:t>
              </a:r>
              <a:endParaRPr b="0" lang="en-US" sz="26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2570040" y="5946480"/>
              <a:ext cx="713880" cy="3384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2527200" y="5902200"/>
              <a:ext cx="774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0,85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2570040" y="6294240"/>
              <a:ext cx="713880" cy="176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3293640" y="5946480"/>
              <a:ext cx="720360" cy="3384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3281040" y="5902200"/>
              <a:ext cx="774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0,99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3293640" y="6294240"/>
              <a:ext cx="720360" cy="176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2516040" y="6321240"/>
              <a:ext cx="7560" cy="3650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2552400" y="6321240"/>
              <a:ext cx="7560" cy="3650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5675040" y="6321240"/>
              <a:ext cx="7560" cy="3650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5711400" y="6321240"/>
              <a:ext cx="7560" cy="3650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514080" y="640080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0" y="6732360"/>
              <a:ext cx="44280" cy="792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55440" y="6697440"/>
              <a:ext cx="2450520" cy="792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55440" y="6732360"/>
              <a:ext cx="2450520" cy="792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2516040" y="6697440"/>
              <a:ext cx="43920" cy="792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2516040" y="6732360"/>
              <a:ext cx="43920" cy="792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2570040" y="6697440"/>
              <a:ext cx="713880" cy="792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2570040" y="6732360"/>
              <a:ext cx="713880" cy="792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3293640" y="6697440"/>
              <a:ext cx="44280" cy="792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3293640" y="6732360"/>
              <a:ext cx="44280" cy="792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3347640" y="6697440"/>
              <a:ext cx="664920" cy="792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3347640" y="6732360"/>
              <a:ext cx="664920" cy="792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4024080" y="6697440"/>
              <a:ext cx="43920" cy="792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4024080" y="6732360"/>
              <a:ext cx="43920" cy="792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55440" y="6321240"/>
              <a:ext cx="2450520" cy="365040"/>
            </a:xfrm>
            <a:prstGeom prst="rect">
              <a:avLst/>
            </a:prstGeom>
            <a:solidFill>
              <a:srgbClr val="7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93960" y="6275160"/>
              <a:ext cx="238968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279f"/>
                  </a:solidFill>
                  <a:latin typeface="Arial"/>
                </a:rPr>
                <a:t>Produtividade</a:t>
              </a:r>
              <a:endParaRPr b="0" lang="en-US" sz="26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2570040" y="6321240"/>
              <a:ext cx="713880" cy="338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2610720" y="6276960"/>
              <a:ext cx="605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5,9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2570040" y="6669000"/>
              <a:ext cx="713880" cy="172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3293640" y="6321240"/>
              <a:ext cx="720360" cy="338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3280680" y="6276960"/>
              <a:ext cx="605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6,9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3293640" y="6669000"/>
              <a:ext cx="720360" cy="172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7186320" y="3708360"/>
              <a:ext cx="7560" cy="3538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222680" y="3708360"/>
              <a:ext cx="7920" cy="3538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4078080" y="3708360"/>
              <a:ext cx="786960" cy="32868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4111920" y="365436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30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4078080" y="4046400"/>
              <a:ext cx="786960" cy="1440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4875120" y="3708360"/>
              <a:ext cx="790200" cy="32868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4937400" y="365436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30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4875120" y="4046400"/>
              <a:ext cx="790200" cy="1440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5729040" y="3708360"/>
              <a:ext cx="717120" cy="328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5727960" y="365436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20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5729040" y="4046400"/>
              <a:ext cx="717120" cy="144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6456240" y="3708360"/>
              <a:ext cx="720360" cy="328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481800" y="365436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20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6456240" y="4046400"/>
              <a:ext cx="720360" cy="144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240320" y="3708360"/>
              <a:ext cx="783720" cy="32868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7272360" y="365436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30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7240320" y="4046400"/>
              <a:ext cx="783720" cy="1440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8034120" y="3708360"/>
              <a:ext cx="793440" cy="32868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8099640" y="365436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30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8034120" y="4046400"/>
              <a:ext cx="793440" cy="1440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7186320" y="4071960"/>
              <a:ext cx="7560" cy="3650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7222680" y="4071960"/>
              <a:ext cx="7920" cy="3650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4078080" y="4071960"/>
              <a:ext cx="786960" cy="32832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4111920" y="401796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28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4078080" y="4410000"/>
              <a:ext cx="786960" cy="2700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4875120" y="4071960"/>
              <a:ext cx="790200" cy="32832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4937400" y="401796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28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4875120" y="4410000"/>
              <a:ext cx="790200" cy="2700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5729040" y="4071960"/>
              <a:ext cx="717120" cy="328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5727960" y="401796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15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5729040" y="4410000"/>
              <a:ext cx="717120" cy="270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6456240" y="4071960"/>
              <a:ext cx="720360" cy="328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6481800" y="401796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15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6456240" y="4410000"/>
              <a:ext cx="720360" cy="270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7240320" y="4071960"/>
              <a:ext cx="783720" cy="32832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7272360" y="401796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25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240320" y="4410000"/>
              <a:ext cx="783720" cy="2700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8034120" y="4071960"/>
              <a:ext cx="793440" cy="32832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8099640" y="401796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26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8034120" y="4410000"/>
              <a:ext cx="793440" cy="2700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7186320" y="4446360"/>
              <a:ext cx="7560" cy="36540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7222680" y="4446360"/>
              <a:ext cx="7920" cy="36540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4078080" y="4446360"/>
              <a:ext cx="786960" cy="32868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4028040" y="4392360"/>
              <a:ext cx="858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180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4078080" y="4784760"/>
              <a:ext cx="786960" cy="2700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4875120" y="4446360"/>
              <a:ext cx="790200" cy="32868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4851720" y="4392360"/>
              <a:ext cx="858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180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875120" y="4784760"/>
              <a:ext cx="790200" cy="2700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5729040" y="4446360"/>
              <a:ext cx="717120" cy="328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5620320" y="4419360"/>
              <a:ext cx="858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280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5729040" y="4784760"/>
              <a:ext cx="717120" cy="270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6456240" y="4446360"/>
              <a:ext cx="720360" cy="328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6458400" y="4419360"/>
              <a:ext cx="858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280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6456240" y="4784760"/>
              <a:ext cx="720360" cy="270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7240320" y="4446360"/>
              <a:ext cx="783720" cy="32868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7187040" y="4392360"/>
              <a:ext cx="858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390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7240320" y="4784760"/>
              <a:ext cx="783720" cy="2700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8034120" y="4446360"/>
              <a:ext cx="793440" cy="32868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8014320" y="4392360"/>
              <a:ext cx="858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390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8034120" y="4784760"/>
              <a:ext cx="793440" cy="2700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7186320" y="4821120"/>
              <a:ext cx="7560" cy="3650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222680" y="4821120"/>
              <a:ext cx="7920" cy="3650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4078080" y="4821120"/>
              <a:ext cx="786960" cy="32868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4112280" y="4767120"/>
              <a:ext cx="858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168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4078080" y="5160960"/>
              <a:ext cx="786960" cy="2700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4875120" y="4821120"/>
              <a:ext cx="790200" cy="32868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4858200" y="4800600"/>
              <a:ext cx="858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168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4875120" y="5160960"/>
              <a:ext cx="790200" cy="2700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5729040" y="4821120"/>
              <a:ext cx="717120" cy="328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5620320" y="4800600"/>
              <a:ext cx="858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140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5729040" y="5160960"/>
              <a:ext cx="717120" cy="270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6456240" y="4821120"/>
              <a:ext cx="720360" cy="328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6382080" y="4800600"/>
              <a:ext cx="858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140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6456240" y="5160960"/>
              <a:ext cx="720360" cy="270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7240320" y="4821120"/>
              <a:ext cx="783720" cy="32868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7272720" y="4767120"/>
              <a:ext cx="858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325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7240320" y="5160960"/>
              <a:ext cx="783720" cy="2700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8034120" y="4821120"/>
              <a:ext cx="793440" cy="32868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8011080" y="4767120"/>
              <a:ext cx="858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338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8034120" y="5160960"/>
              <a:ext cx="793440" cy="2700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7186320" y="5195880"/>
              <a:ext cx="7560" cy="3650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7222680" y="5195880"/>
              <a:ext cx="7920" cy="3650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4078080" y="5195880"/>
              <a:ext cx="786960" cy="32868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4112280" y="5141880"/>
              <a:ext cx="858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1584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4078080" y="5535360"/>
              <a:ext cx="786960" cy="2700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4875120" y="5195880"/>
              <a:ext cx="790200" cy="32868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4858200" y="5181480"/>
              <a:ext cx="858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1824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4875120" y="5535360"/>
              <a:ext cx="790200" cy="2700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5729040" y="5195880"/>
              <a:ext cx="717120" cy="328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5727960" y="514188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952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5729040" y="5535360"/>
              <a:ext cx="717120" cy="270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6456240" y="5195880"/>
              <a:ext cx="720360" cy="2682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6423480" y="5141880"/>
              <a:ext cx="858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1176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6456240" y="5475240"/>
              <a:ext cx="720360" cy="871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7240320" y="5195880"/>
              <a:ext cx="783720" cy="32868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7272720" y="5141880"/>
              <a:ext cx="858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2964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7240320" y="5535360"/>
              <a:ext cx="783720" cy="2700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8034120" y="5195880"/>
              <a:ext cx="793440" cy="29052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8020440" y="5143320"/>
              <a:ext cx="858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260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8034120" y="5495760"/>
              <a:ext cx="793440" cy="6660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7186320" y="5572080"/>
              <a:ext cx="7560" cy="3650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7222680" y="5572080"/>
              <a:ext cx="7920" cy="3650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4078080" y="5572080"/>
              <a:ext cx="786960" cy="33804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4070160" y="5527440"/>
              <a:ext cx="774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0,88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4078080" y="5919840"/>
              <a:ext cx="786960" cy="1728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4875120" y="5572080"/>
              <a:ext cx="790200" cy="33804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4893840" y="5527440"/>
              <a:ext cx="774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1,01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4875120" y="5919840"/>
              <a:ext cx="790200" cy="1728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5729040" y="5572080"/>
              <a:ext cx="717120" cy="338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5684400" y="5527440"/>
              <a:ext cx="774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0,34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5729040" y="5919840"/>
              <a:ext cx="717120" cy="172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6456240" y="5572080"/>
              <a:ext cx="720360" cy="338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6438600" y="5527440"/>
              <a:ext cx="774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0,42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6456240" y="5919840"/>
              <a:ext cx="720360" cy="172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7240320" y="5572080"/>
              <a:ext cx="783720" cy="33804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7229160" y="5527440"/>
              <a:ext cx="774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0,76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7240320" y="5919840"/>
              <a:ext cx="783720" cy="1728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8034120" y="5572080"/>
              <a:ext cx="793440" cy="33804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8056440" y="5527440"/>
              <a:ext cx="774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0,67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8034120" y="5919840"/>
              <a:ext cx="793440" cy="1728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7186320" y="5946480"/>
              <a:ext cx="7560" cy="36540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222680" y="5946480"/>
              <a:ext cx="7920" cy="36540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4078080" y="5946480"/>
              <a:ext cx="786960" cy="33840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4070160" y="5902200"/>
              <a:ext cx="774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0,94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4078080" y="6294240"/>
              <a:ext cx="786960" cy="1764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4875120" y="5946480"/>
              <a:ext cx="790200" cy="33840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4893840" y="5902200"/>
              <a:ext cx="774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1,09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4875120" y="6294240"/>
              <a:ext cx="790200" cy="1764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5729040" y="5946480"/>
              <a:ext cx="717120" cy="3384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5684400" y="5902200"/>
              <a:ext cx="774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0,68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5729040" y="6294240"/>
              <a:ext cx="717120" cy="176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6456240" y="5946480"/>
              <a:ext cx="720360" cy="3384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6438600" y="5902200"/>
              <a:ext cx="774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0,84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6456240" y="6294240"/>
              <a:ext cx="720360" cy="176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7240320" y="5946480"/>
              <a:ext cx="783720" cy="33840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7229160" y="5902200"/>
              <a:ext cx="774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0,91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7240320" y="6294240"/>
              <a:ext cx="783720" cy="1764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8034120" y="5946480"/>
              <a:ext cx="793440" cy="33840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8056440" y="5902200"/>
              <a:ext cx="774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0,77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8034120" y="6294240"/>
              <a:ext cx="793440" cy="1764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4078080" y="6697440"/>
              <a:ext cx="786960" cy="792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4078080" y="6732360"/>
              <a:ext cx="786960" cy="792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4875120" y="6697440"/>
              <a:ext cx="43920" cy="792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4875120" y="6732360"/>
              <a:ext cx="43920" cy="792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4928760" y="6697440"/>
              <a:ext cx="734760" cy="792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4928760" y="6732360"/>
              <a:ext cx="734760" cy="792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5675040" y="6697440"/>
              <a:ext cx="43920" cy="792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5675040" y="6732360"/>
              <a:ext cx="43920" cy="792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5729040" y="6697440"/>
              <a:ext cx="717120" cy="792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5729040" y="6732360"/>
              <a:ext cx="717120" cy="792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6456240" y="6697440"/>
              <a:ext cx="43920" cy="792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6456240" y="6732360"/>
              <a:ext cx="43920" cy="792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6510240" y="6697440"/>
              <a:ext cx="664560" cy="792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6510240" y="6732360"/>
              <a:ext cx="664560" cy="792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7186320" y="6321240"/>
              <a:ext cx="7560" cy="3650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7222680" y="6321240"/>
              <a:ext cx="7920" cy="3650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7186320" y="6697440"/>
              <a:ext cx="44280" cy="792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7186320" y="6732360"/>
              <a:ext cx="44280" cy="792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7240320" y="6697440"/>
              <a:ext cx="783720" cy="792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7240320" y="6732360"/>
              <a:ext cx="783720" cy="792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8034120" y="6697440"/>
              <a:ext cx="43920" cy="792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8034120" y="6732360"/>
              <a:ext cx="43920" cy="792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8089560" y="6697440"/>
              <a:ext cx="738000" cy="792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8089560" y="6732360"/>
              <a:ext cx="738000" cy="792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8837280" y="6732360"/>
              <a:ext cx="44280" cy="792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4078080" y="6321240"/>
              <a:ext cx="786960" cy="33804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4154040" y="6276960"/>
              <a:ext cx="605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5,7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4078080" y="6669000"/>
              <a:ext cx="786960" cy="1728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4875120" y="6321240"/>
              <a:ext cx="790200" cy="33804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4977720" y="6276960"/>
              <a:ext cx="605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6,5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4875120" y="6669000"/>
              <a:ext cx="790200" cy="1728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5729040" y="6321240"/>
              <a:ext cx="717120" cy="338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5768280" y="6276960"/>
              <a:ext cx="605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9,5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5729040" y="6669000"/>
              <a:ext cx="717120" cy="172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6456240" y="6321240"/>
              <a:ext cx="720360" cy="338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6438600" y="6276960"/>
              <a:ext cx="774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11,8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6456240" y="6669000"/>
              <a:ext cx="720360" cy="172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7240320" y="6321240"/>
              <a:ext cx="783720" cy="33804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7229160" y="6276960"/>
              <a:ext cx="774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11,9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7240320" y="6669000"/>
              <a:ext cx="783720" cy="1728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8034120" y="6321240"/>
              <a:ext cx="793440" cy="33804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8056440" y="6276960"/>
              <a:ext cx="774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10,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8034120" y="6669000"/>
              <a:ext cx="793440" cy="1728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2786040" y="2403360"/>
              <a:ext cx="122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279f"/>
                  </a:solidFill>
                  <a:latin typeface="Times New Roman"/>
                </a:rPr>
                <a:t>7 UEP/h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4249800" y="2438280"/>
              <a:ext cx="122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279f"/>
                  </a:solidFill>
                  <a:latin typeface="Times New Roman"/>
                </a:rPr>
                <a:t>6 UEP/h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5849640" y="2438280"/>
              <a:ext cx="137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279f"/>
                  </a:solidFill>
                  <a:latin typeface="Times New Roman"/>
                </a:rPr>
                <a:t>14 UEP/h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7373880" y="2438280"/>
              <a:ext cx="137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279f"/>
                  </a:solidFill>
                  <a:latin typeface="Times New Roman"/>
                </a:rPr>
                <a:t>13 UEP/h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0200" y="533520"/>
            <a:ext cx="502128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Empresa Uniprodutora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5800" y="3190680"/>
            <a:ext cx="8769240" cy="35146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1400" bIns="41400" anchor="t">
            <a:normAutofit/>
          </a:bodyPr>
          <a:p>
            <a:pPr marL="301680" indent="-301680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Produção conhecida.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301680" indent="-301680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Gestão simplificada. 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291960" y="4727520"/>
            <a:ext cx="8417160" cy="1476360"/>
            <a:chOff x="291960" y="4727520"/>
            <a:chExt cx="8417160" cy="1476360"/>
          </a:xfrm>
        </p:grpSpPr>
        <p:sp>
          <p:nvSpPr>
            <p:cNvPr id="67" name=""/>
            <p:cNvSpPr/>
            <p:nvPr/>
          </p:nvSpPr>
          <p:spPr>
            <a:xfrm>
              <a:off x="291960" y="4759200"/>
              <a:ext cx="8417160" cy="1444680"/>
            </a:xfrm>
            <a:prstGeom prst="roundRect">
              <a:avLst>
                <a:gd name="adj" fmla="val 12486"/>
              </a:avLst>
            </a:prstGeom>
            <a:solidFill>
              <a:srgbClr val="fcfeb9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886200" y="5402160"/>
              <a:ext cx="4595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5072040"/>
              <a:ext cx="2857680" cy="6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004e47"/>
                  </a:solidFill>
                  <a:latin typeface="Times New Roman"/>
                </a:rPr>
                <a:t>Custo unitário</a:t>
              </a:r>
              <a:endParaRPr b="0" lang="en-US" sz="37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69840" y="4727520"/>
              <a:ext cx="4736520" cy="6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004e47"/>
                  </a:solidFill>
                  <a:latin typeface="Times New Roman"/>
                </a:rPr>
                <a:t>Custos totais do período</a:t>
              </a:r>
              <a:endParaRPr b="0" lang="en-US" sz="37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993480" y="5491080"/>
              <a:ext cx="4120920" cy="6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004e47"/>
                  </a:solidFill>
                  <a:latin typeface="Times New Roman"/>
                </a:rPr>
                <a:t>Produção do Período</a:t>
              </a:r>
              <a:endParaRPr b="0" lang="en-US" sz="37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339720" y="5100480"/>
              <a:ext cx="554760" cy="6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004e47"/>
                  </a:solidFill>
                  <a:latin typeface="Symbol"/>
                  <a:ea typeface="Symbol"/>
                </a:rPr>
                <a:t></a:t>
              </a:r>
              <a:endParaRPr b="0" lang="en-US" sz="37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9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159840" y="533520"/>
            <a:ext cx="540252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Medidas de Desempenho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1787" name=""/>
          <p:cNvSpPr/>
          <p:nvPr/>
        </p:nvSpPr>
        <p:spPr>
          <a:xfrm>
            <a:off x="171360" y="2724120"/>
            <a:ext cx="7920" cy="446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208080" y="2760840"/>
            <a:ext cx="79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208080" y="2760840"/>
            <a:ext cx="79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227160" y="2760840"/>
            <a:ext cx="245088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2687760" y="2760840"/>
            <a:ext cx="4428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2741760" y="2760840"/>
            <a:ext cx="14443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4195800" y="2760840"/>
            <a:ext cx="4428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4249800" y="2760840"/>
            <a:ext cx="158760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5846760" y="2760840"/>
            <a:ext cx="4428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5900760" y="2760840"/>
            <a:ext cx="14479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7358040" y="2760840"/>
            <a:ext cx="4464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7412040" y="2760840"/>
            <a:ext cx="158760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9009000" y="2760840"/>
            <a:ext cx="79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9009000" y="2760840"/>
            <a:ext cx="79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171360" y="2778120"/>
            <a:ext cx="7920" cy="338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208080" y="2778120"/>
            <a:ext cx="7920" cy="338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4195800" y="2778120"/>
            <a:ext cx="7920" cy="338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4232160" y="2778120"/>
            <a:ext cx="7920" cy="338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4213080" y="2778120"/>
            <a:ext cx="6480" cy="338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208080" y="3125880"/>
            <a:ext cx="7920" cy="172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171360" y="3125880"/>
            <a:ext cx="7920" cy="172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4232160" y="3125880"/>
            <a:ext cx="7920" cy="172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4195800" y="3125880"/>
            <a:ext cx="7920" cy="172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171360" y="3154320"/>
            <a:ext cx="7920" cy="338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208080" y="3154320"/>
            <a:ext cx="7920" cy="338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4195800" y="3154320"/>
            <a:ext cx="7920" cy="338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4232160" y="3154320"/>
            <a:ext cx="7920" cy="338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208080" y="3502080"/>
            <a:ext cx="7920" cy="442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171360" y="3502080"/>
            <a:ext cx="7920" cy="442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227160" y="3502080"/>
            <a:ext cx="245088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227160" y="3538440"/>
            <a:ext cx="245088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2687760" y="3502080"/>
            <a:ext cx="79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2687760" y="3538440"/>
            <a:ext cx="79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2724120" y="3502080"/>
            <a:ext cx="79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2724120" y="3538440"/>
            <a:ext cx="79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2741760" y="3502080"/>
            <a:ext cx="71424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2741760" y="3538440"/>
            <a:ext cx="71424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3465360" y="3502080"/>
            <a:ext cx="4464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3465360" y="3538440"/>
            <a:ext cx="4464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3519360" y="3502080"/>
            <a:ext cx="66528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3519360" y="3538440"/>
            <a:ext cx="66528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4195800" y="3502080"/>
            <a:ext cx="79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4195800" y="3538440"/>
            <a:ext cx="79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4232160" y="3502080"/>
            <a:ext cx="79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4232160" y="3538440"/>
            <a:ext cx="79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4249800" y="3502080"/>
            <a:ext cx="7873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4249800" y="3538440"/>
            <a:ext cx="7873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5046840" y="3502080"/>
            <a:ext cx="4428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5046840" y="3538440"/>
            <a:ext cx="4428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5100480" y="3502080"/>
            <a:ext cx="7351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5100480" y="3538440"/>
            <a:ext cx="7351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5846760" y="3502080"/>
            <a:ext cx="79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5846760" y="3538440"/>
            <a:ext cx="79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5883120" y="3502080"/>
            <a:ext cx="79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5883120" y="3538440"/>
            <a:ext cx="79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5900760" y="3502080"/>
            <a:ext cx="71748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5900760" y="3538440"/>
            <a:ext cx="71748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6627960" y="3502080"/>
            <a:ext cx="4428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6627960" y="3538440"/>
            <a:ext cx="4428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6681960" y="3502080"/>
            <a:ext cx="6649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6681960" y="3538440"/>
            <a:ext cx="6649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7358040" y="3502080"/>
            <a:ext cx="79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7358040" y="3538440"/>
            <a:ext cx="79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7394400" y="3502080"/>
            <a:ext cx="828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7394400" y="3538440"/>
            <a:ext cx="828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7412040" y="3502080"/>
            <a:ext cx="78408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7412040" y="3538440"/>
            <a:ext cx="78408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8205840" y="3502080"/>
            <a:ext cx="4428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8205840" y="3538440"/>
            <a:ext cx="4428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8261280" y="3502080"/>
            <a:ext cx="73836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8261280" y="3538440"/>
            <a:ext cx="73836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171360" y="3556080"/>
            <a:ext cx="7920" cy="3538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208080" y="3556080"/>
            <a:ext cx="7920" cy="3538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4195800" y="3556080"/>
            <a:ext cx="7920" cy="3538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4232160" y="3556080"/>
            <a:ext cx="7920" cy="3538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171360" y="3919680"/>
            <a:ext cx="7920" cy="365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208080" y="3919680"/>
            <a:ext cx="7920" cy="365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4195800" y="3919680"/>
            <a:ext cx="7920" cy="365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4232160" y="3919680"/>
            <a:ext cx="7920" cy="365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171360" y="4294080"/>
            <a:ext cx="7920" cy="36540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208080" y="4294080"/>
            <a:ext cx="7920" cy="36540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4195800" y="4294080"/>
            <a:ext cx="7920" cy="36540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4232160" y="4294080"/>
            <a:ext cx="7920" cy="36540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171360" y="4668840"/>
            <a:ext cx="7920" cy="365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208080" y="4668840"/>
            <a:ext cx="7920" cy="365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4195800" y="4668840"/>
            <a:ext cx="7920" cy="365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4232160" y="4668840"/>
            <a:ext cx="7920" cy="365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171360" y="5043600"/>
            <a:ext cx="7920" cy="365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208080" y="5043600"/>
            <a:ext cx="7920" cy="365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4195800" y="5043600"/>
            <a:ext cx="7920" cy="365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4232160" y="5043600"/>
            <a:ext cx="7920" cy="365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171360" y="5419800"/>
            <a:ext cx="7920" cy="365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208080" y="5419800"/>
            <a:ext cx="7920" cy="365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4195800" y="5419800"/>
            <a:ext cx="7920" cy="365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4232160" y="5419800"/>
            <a:ext cx="7920" cy="365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171360" y="5794200"/>
            <a:ext cx="7920" cy="36540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208080" y="5794200"/>
            <a:ext cx="7920" cy="36540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4195800" y="5794200"/>
            <a:ext cx="7920" cy="36540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4232160" y="5794200"/>
            <a:ext cx="7920" cy="36540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171360" y="6168960"/>
            <a:ext cx="7920" cy="365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208080" y="6168960"/>
            <a:ext cx="7920" cy="365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171360" y="6545160"/>
            <a:ext cx="7920" cy="446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208080" y="6545160"/>
            <a:ext cx="79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208080" y="6545160"/>
            <a:ext cx="79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4195800" y="6168960"/>
            <a:ext cx="7920" cy="365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4232160" y="6168960"/>
            <a:ext cx="7920" cy="365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graphicFrame>
        <p:nvGraphicFramePr>
          <p:cNvPr id="1893" name=""/>
          <p:cNvGraphicFramePr/>
          <p:nvPr/>
        </p:nvGraphicFramePr>
        <p:xfrm>
          <a:off x="0" y="2403360"/>
          <a:ext cx="9144000" cy="433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03360"/>
                    <a:ext cx="9144000" cy="43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0200" y="533520"/>
            <a:ext cx="502128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Exemplo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0080" y="3630600"/>
            <a:ext cx="7512120" cy="23162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1400" bIns="41400" anchor="t">
            <a:normAutofit fontScale="94000"/>
          </a:bodyPr>
          <a:p>
            <a:pPr marL="283320" indent="-283320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Custo total = $ 6.000.000,00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283320" indent="-283320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Produção = 6.000 unidades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283320" indent="0">
              <a:spcBef>
                <a:spcPts val="1749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283320" indent="-283320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6e0043"/>
                </a:solidFill>
                <a:latin typeface="Arial"/>
              </a:rPr>
              <a:t>Custo = $ 1.000 / unidade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0200" y="533520"/>
            <a:ext cx="502128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Empresa Multiprodutora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17320" y="3594240"/>
            <a:ext cx="7483320" cy="17301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1400" bIns="41400" anchor="t">
            <a:normAutofit/>
          </a:bodyPr>
          <a:p>
            <a:pPr marL="301680" indent="-301680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Produção conhecida ?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301680" indent="-301680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Gestão complexa.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0200" y="533520"/>
            <a:ext cx="502128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Exemplo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120" y="2895120"/>
            <a:ext cx="7696440" cy="36385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1400" bIns="41400" anchor="t">
            <a:normAutofit fontScale="95000"/>
          </a:bodyPr>
          <a:p>
            <a:pPr marL="286560" indent="0">
              <a:spcBef>
                <a:spcPts val="1749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Produto  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      Outubro  Novembro Dezembro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286560" indent="0">
              <a:spcBef>
                <a:spcPts val="1749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P1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1.000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2.000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  3.000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286560" indent="0">
              <a:spcBef>
                <a:spcPts val="349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P2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2.000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1.500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  1.000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286560" indent="0">
              <a:spcBef>
                <a:spcPts val="349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P3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3.000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2.600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  2.300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286560" indent="0">
              <a:spcBef>
                <a:spcPts val="1749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Produção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e0043"/>
                </a:solidFill>
                <a:latin typeface="Arial"/>
              </a:rPr>
              <a:t>6.000 ?</a:t>
            </a:r>
            <a:r>
              <a:rPr b="0" lang="en-US" sz="2800" spc="-1" strike="noStrike">
                <a:solidFill>
                  <a:srgbClr val="6e004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e0043"/>
                </a:solidFill>
                <a:latin typeface="Arial"/>
              </a:rPr>
              <a:t>6.100 ?</a:t>
            </a:r>
            <a:r>
              <a:rPr b="0" lang="en-US" sz="2800" spc="-1" strike="noStrike">
                <a:solidFill>
                  <a:srgbClr val="6e004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e0043"/>
                </a:solidFill>
                <a:latin typeface="Arial"/>
              </a:rPr>
              <a:t>  6.300 ?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286560" indent="0">
              <a:spcBef>
                <a:spcPts val="4550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CT</a:t>
            </a:r>
            <a:r>
              <a:rPr b="0" lang="en-US" sz="2800" spc="-1" strike="noStrike" baseline="-25000">
                <a:solidFill>
                  <a:srgbClr val="003e00"/>
                </a:solidFill>
                <a:latin typeface="Arial"/>
              </a:rPr>
              <a:t>P1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 = CT</a:t>
            </a:r>
            <a:r>
              <a:rPr b="0" lang="en-US" sz="2800" spc="-1" strike="noStrike" baseline="-25000">
                <a:solidFill>
                  <a:srgbClr val="003e00"/>
                </a:solidFill>
                <a:latin typeface="Arial"/>
              </a:rPr>
              <a:t>P2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 = CT</a:t>
            </a:r>
            <a:r>
              <a:rPr b="0" lang="en-US" sz="2800" spc="-1" strike="noStrike" baseline="-25000">
                <a:solidFill>
                  <a:srgbClr val="003e00"/>
                </a:solidFill>
                <a:latin typeface="Arial"/>
              </a:rPr>
              <a:t>P3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  (?)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286560" indent="0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5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5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9840" y="390600"/>
            <a:ext cx="578340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Exemplo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03040" y="2133360"/>
            <a:ext cx="8769600" cy="3886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1400" bIns="41400" anchor="t">
            <a:normAutofit/>
          </a:bodyPr>
          <a:p>
            <a:pPr marL="301680" indent="-301680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800" spc="-1" strike="noStrike">
                <a:solidFill>
                  <a:srgbClr val="003e00"/>
                </a:solidFill>
                <a:latin typeface="Arial"/>
              </a:rPr>
              <a:t>Ex: CT = $ 6.000.000,00  (outubro)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301680" indent="-301680">
              <a:spcBef>
                <a:spcPts val="35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800" spc="-1" strike="noStrike">
                <a:solidFill>
                  <a:srgbClr val="003e00"/>
                </a:solidFill>
                <a:latin typeface="Arial"/>
              </a:rPr>
              <a:t>CT</a:t>
            </a:r>
            <a:r>
              <a:rPr b="1" lang="en-US" sz="2800" spc="-1" strike="noStrike" baseline="-25000">
                <a:solidFill>
                  <a:srgbClr val="003e00"/>
                </a:solidFill>
                <a:latin typeface="Arial"/>
              </a:rPr>
              <a:t>P1</a:t>
            </a:r>
            <a:r>
              <a:rPr b="1" lang="en-US" sz="2800" spc="-1" strike="noStrike">
                <a:solidFill>
                  <a:srgbClr val="003e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CT</a:t>
            </a:r>
            <a:r>
              <a:rPr b="0" lang="en-US" sz="2800" spc="-1" strike="noStrike" baseline="-25000">
                <a:solidFill>
                  <a:srgbClr val="003e00"/>
                </a:solidFill>
                <a:latin typeface="Arial"/>
              </a:rPr>
              <a:t>P2</a:t>
            </a:r>
            <a:r>
              <a:rPr b="1" lang="en-US" sz="2800" spc="-1" strike="noStrike">
                <a:solidFill>
                  <a:srgbClr val="003e00"/>
                </a:solidFill>
                <a:latin typeface="Arial"/>
              </a:rPr>
              <a:t> = CT</a:t>
            </a:r>
            <a:r>
              <a:rPr b="1" lang="en-US" sz="2800" spc="-1" strike="noStrike" baseline="-25000">
                <a:solidFill>
                  <a:srgbClr val="003e00"/>
                </a:solidFill>
                <a:latin typeface="Arial"/>
              </a:rPr>
              <a:t>P3</a:t>
            </a:r>
            <a:r>
              <a:rPr b="1" lang="en-US" sz="2800" spc="-1" strike="noStrike">
                <a:solidFill>
                  <a:srgbClr val="003e00"/>
                </a:solidFill>
                <a:latin typeface="Arial"/>
              </a:rPr>
              <a:t> =    </a:t>
            </a:r>
            <a:r>
              <a:rPr b="1" lang="en-US" sz="28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e00"/>
                </a:solidFill>
                <a:latin typeface="Arial"/>
              </a:rPr>
              <a:t> = $ 1.000,00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98520" y="4481640"/>
          <a:ext cx="8475480" cy="2147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8520" y="4481640"/>
                    <a:ext cx="8475480" cy="21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4073400" y="2719440"/>
            <a:ext cx="2017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6.000.000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30160" y="3251160"/>
            <a:ext cx="1196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6.000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13360" y="3286080"/>
            <a:ext cx="18018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2-24T16:35:52Z</dcterms:created>
  <dc:creator>Adrian C. Ferreira</dc:creator>
  <dc:description/>
  <cp:keywords/>
  <dc:language>en-US</dc:language>
  <cp:lastModifiedBy>Rafael</cp:lastModifiedBy>
  <dcterms:modified xsi:type="dcterms:W3CDTF">2009-03-06T01:01:16Z</dcterms:modified>
  <cp:revision>21</cp:revision>
  <dc:subject/>
  <dc:title>CUSTEIO BASEADO EM ATIVIDADES</dc:title>
</cp:coreProperties>
</file>