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0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168-D44C-497A-B7F0-DB1A5F0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9CC-55EA-4E31-B62E-7632053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57A-8125-47BD-964A-BFD3C257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4E6-F341-4696-A154-399156A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0AC-0531-4972-84AB-2A698EC9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EAA-8820-4FF4-9339-2EA08541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50F-5D84-482C-A032-B83AA77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94E-C2BF-43AF-833E-0F9DDB4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6B1-8BBE-4A71-91A7-FB8C80E2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67E-64DC-4356-8EFF-55F9088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4F7-444D-4EC9-A4D8-06E51AE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D8D-5B81-4BEF-B6D9-CFFDAAB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AEF5-85F5-4CA4-AD3A-CCF5F19EE957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.png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8.png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9.png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0.png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.png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1.png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2.png"/><Relationship Id="rId61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228600"/>
            <a:ext cx="14018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Processo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635040"/>
            <a:ext cx="6734160" cy="12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11120"/>
            <a:ext cx="11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1311120"/>
            <a:ext cx="9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770040"/>
            <a:ext cx="154296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7920" y="770040"/>
            <a:ext cx="154296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3640" y="770040"/>
            <a:ext cx="154332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46240" y="1311120"/>
            <a:ext cx="84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0880" y="13111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770040"/>
            <a:ext cx="8839080" cy="2706480"/>
            <a:chOff x="0" y="770040"/>
            <a:chExt cx="8839080" cy="2706480"/>
          </a:xfrm>
        </p:grpSpPr>
        <p:sp>
          <p:nvSpPr>
            <p:cNvPr id="162" name=""/>
            <p:cNvSpPr/>
            <p:nvPr/>
          </p:nvSpPr>
          <p:spPr>
            <a:xfrm>
              <a:off x="1403280" y="2124000"/>
              <a:ext cx="2384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279f"/>
                  </a:solidFill>
                  <a:latin typeface="Arial"/>
                </a:rPr>
                <a:t>Macro atividade 1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262160" y="1717560"/>
              <a:ext cx="141120" cy="811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46240" y="1717560"/>
              <a:ext cx="2244960" cy="811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46240" y="770040"/>
              <a:ext cx="4910400" cy="175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122480" y="770040"/>
              <a:ext cx="280800" cy="175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29000"/>
              <a:ext cx="8839080" cy="947520"/>
              <a:chOff x="0" y="2529000"/>
              <a:chExt cx="8839080" cy="94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1122120" y="2529000"/>
                <a:ext cx="6734520" cy="94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0292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8792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7328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3070440"/>
                <a:ext cx="112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57000" y="307044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46240" y="30704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31240" y="30704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0" y="2664000"/>
            <a:ext cx="6594480" cy="2706120"/>
            <a:chOff x="0" y="2664000"/>
            <a:chExt cx="6594480" cy="2706120"/>
          </a:xfrm>
        </p:grpSpPr>
        <p:sp>
          <p:nvSpPr>
            <p:cNvPr id="177" name=""/>
            <p:cNvSpPr/>
            <p:nvPr/>
          </p:nvSpPr>
          <p:spPr>
            <a:xfrm>
              <a:off x="5332320" y="2664000"/>
              <a:ext cx="279360" cy="148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122480" y="2664000"/>
              <a:ext cx="2665440" cy="148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0" y="3746520"/>
              <a:ext cx="6594480" cy="1623600"/>
              <a:chOff x="0" y="3746520"/>
              <a:chExt cx="6594480" cy="1623600"/>
            </a:xfrm>
          </p:grpSpPr>
          <p:sp>
            <p:nvSpPr>
              <p:cNvPr id="180" name=""/>
              <p:cNvSpPr/>
              <p:nvPr/>
            </p:nvSpPr>
            <p:spPr>
              <a:xfrm>
                <a:off x="1122480" y="4152240"/>
                <a:ext cx="4489920" cy="121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2920" y="4287600"/>
                <a:ext cx="1543320" cy="94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Micro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88280" y="4287600"/>
                <a:ext cx="1543320" cy="94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Micro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640" y="3746520"/>
                <a:ext cx="2385000" cy="54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 1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29040"/>
                <a:ext cx="112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12400" y="482904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6240" y="48290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2665440" y="3340080"/>
              <a:ext cx="112248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2320" y="3340080"/>
              <a:ext cx="13968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684440" y="4287960"/>
            <a:ext cx="6313320" cy="2570040"/>
            <a:chOff x="1684440" y="4287960"/>
            <a:chExt cx="6313320" cy="2570040"/>
          </a:xfrm>
        </p:grpSpPr>
        <p:grpSp>
          <p:nvGrpSpPr>
            <p:cNvPr id="190" name=""/>
            <p:cNvGrpSpPr/>
            <p:nvPr/>
          </p:nvGrpSpPr>
          <p:grpSpPr>
            <a:xfrm>
              <a:off x="1684440" y="6046920"/>
              <a:ext cx="6313320" cy="811080"/>
              <a:chOff x="1684440" y="6046920"/>
              <a:chExt cx="6313320" cy="811080"/>
            </a:xfrm>
          </p:grpSpPr>
          <p:sp>
            <p:nvSpPr>
              <p:cNvPr id="191" name=""/>
              <p:cNvSpPr/>
              <p:nvPr/>
            </p:nvSpPr>
            <p:spPr>
              <a:xfrm>
                <a:off x="2806560" y="6046920"/>
                <a:ext cx="4208760" cy="81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6960" y="6181920"/>
                <a:ext cx="154296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1960" y="6181920"/>
                <a:ext cx="154296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15680" y="645228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90280" y="645228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84440" y="6452280"/>
                <a:ext cx="112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flipH="1">
              <a:off x="2806560" y="4287960"/>
              <a:ext cx="982800" cy="175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2320" y="4287960"/>
              <a:ext cx="1683000" cy="175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8160" y="5234040"/>
              <a:ext cx="42084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2320" y="5234040"/>
              <a:ext cx="84132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2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Processos x Departamentos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2743200"/>
          <a:ext cx="890604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890604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81d58"/>
                </a:solidFill>
                <a:latin typeface="Bookman Old Style"/>
              </a:rPr>
              <a:t>Alocação dos Custos às Atividad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Cálculo mais trabalhoso do que n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uitos custos são diretos em relação aos centros de custos, mas indiretos em relação à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Rastreament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Exemplo - Função Comercial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480" y="21337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Dedicação dos funcionários às 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tividades: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de produto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Atendimento a clientes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de sistema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Reparos de produtos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por representante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Cursos para clientes.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0240" y="3803760"/>
            <a:ext cx="1440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2920" y="3803760"/>
            <a:ext cx="1296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1960" y="3803760"/>
            <a:ext cx="1440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3840" y="2695680"/>
            <a:ext cx="8813160" cy="1127160"/>
            <a:chOff x="123840" y="2695680"/>
            <a:chExt cx="8813160" cy="1127160"/>
          </a:xfrm>
        </p:grpSpPr>
        <p:sp>
          <p:nvSpPr>
            <p:cNvPr id="212" name=""/>
            <p:cNvSpPr/>
            <p:nvPr/>
          </p:nvSpPr>
          <p:spPr>
            <a:xfrm>
              <a:off x="123840" y="2695680"/>
              <a:ext cx="7635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7400" y="26956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9720" y="2695680"/>
              <a:ext cx="64166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6360" y="26956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46880" y="2695680"/>
              <a:ext cx="8049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51840" y="26956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72360" y="2695680"/>
              <a:ext cx="757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7400" y="2720880"/>
              <a:ext cx="144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26360" y="2720880"/>
              <a:ext cx="126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0320" y="272088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0200" y="273384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1800" y="2720880"/>
              <a:ext cx="642456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25200" y="2733840"/>
              <a:ext cx="14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ividade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8960" y="2720880"/>
              <a:ext cx="8128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51840" y="272088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10320" y="27338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A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7400" y="3081240"/>
              <a:ext cx="144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6360" y="3081240"/>
              <a:ext cx="126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320" y="308124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6640" y="309420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i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1800" y="3081240"/>
              <a:ext cx="340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61880" y="3094200"/>
              <a:ext cx="10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9920" y="3081240"/>
              <a:ext cx="30164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63720" y="309420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upor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38960" y="3081240"/>
              <a:ext cx="8128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8360" y="3094200"/>
              <a:ext cx="79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om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1840" y="308124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24000" y="3094200"/>
              <a:ext cx="47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LA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87400" y="3441600"/>
              <a:ext cx="14400" cy="362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6360" y="3441600"/>
              <a:ext cx="12600" cy="362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0320" y="3441600"/>
              <a:ext cx="7570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4280" y="34545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nári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1800" y="3441600"/>
              <a:ext cx="114912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42560" y="345456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Produt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0920" y="3441600"/>
              <a:ext cx="121932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4920" y="345456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istem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0240" y="3441600"/>
              <a:ext cx="101916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5400" y="34545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epre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9400" y="3441600"/>
              <a:ext cx="97164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040" y="345456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tend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61040" y="3441600"/>
              <a:ext cx="10792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20880" y="3454560"/>
              <a:ext cx="115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Repa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0320" y="3441600"/>
              <a:ext cx="98604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6800" y="3454560"/>
              <a:ext cx="96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Cu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8960" y="3441600"/>
              <a:ext cx="8128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1840" y="3441600"/>
              <a:ext cx="777960" cy="3621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3760" y="3454560"/>
              <a:ext cx="54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RI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840" y="3803760"/>
              <a:ext cx="76356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740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800" y="3803760"/>
              <a:ext cx="1149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092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65320" y="3803760"/>
              <a:ext cx="12049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4640" y="3803760"/>
              <a:ext cx="9982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940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3800" y="3803760"/>
              <a:ext cx="95724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61040" y="3803760"/>
              <a:ext cx="126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73640" y="3803760"/>
              <a:ext cx="10666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032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4720" y="3803760"/>
              <a:ext cx="95724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6360" y="3803760"/>
              <a:ext cx="126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38960" y="3803760"/>
              <a:ext cx="8128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184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6240" y="3803760"/>
              <a:ext cx="76356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87400" y="3822840"/>
            <a:ext cx="14400" cy="144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1960" y="3822840"/>
            <a:ext cx="14400" cy="144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30320" y="3822840"/>
            <a:ext cx="8799480" cy="378720"/>
            <a:chOff x="130320" y="3822840"/>
            <a:chExt cx="8799480" cy="378720"/>
          </a:xfrm>
        </p:grpSpPr>
        <p:sp>
          <p:nvSpPr>
            <p:cNvPr id="278" name=""/>
            <p:cNvSpPr/>
            <p:nvPr/>
          </p:nvSpPr>
          <p:spPr>
            <a:xfrm>
              <a:off x="130320" y="382284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560" y="3835440"/>
              <a:ext cx="54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n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1800" y="382284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0480" y="3835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0920" y="382284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1360" y="3835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0240" y="382284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360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2920" y="382284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248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61040" y="382284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812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40320" y="382284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6376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26360" y="382284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8600" y="3835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1840" y="382284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13560" y="3835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30320" y="4183200"/>
            <a:ext cx="8799480" cy="378720"/>
            <a:chOff x="130320" y="4183200"/>
            <a:chExt cx="8799480" cy="378720"/>
          </a:xfrm>
        </p:grpSpPr>
        <p:sp>
          <p:nvSpPr>
            <p:cNvPr id="297" name=""/>
            <p:cNvSpPr/>
            <p:nvPr/>
          </p:nvSpPr>
          <p:spPr>
            <a:xfrm>
              <a:off x="130320" y="418320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7320" y="419580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Joã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1800" y="418320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048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0920" y="418320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136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0240" y="418320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736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82920" y="418320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248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61040" y="418320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812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40320" y="418320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6376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26360" y="418320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08600" y="41958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1840" y="418320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13560" y="41958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30320" y="4543560"/>
            <a:ext cx="8799480" cy="378720"/>
            <a:chOff x="130320" y="4543560"/>
            <a:chExt cx="8799480" cy="378720"/>
          </a:xfrm>
        </p:grpSpPr>
        <p:sp>
          <p:nvSpPr>
            <p:cNvPr id="316" name=""/>
            <p:cNvSpPr/>
            <p:nvPr/>
          </p:nvSpPr>
          <p:spPr>
            <a:xfrm>
              <a:off x="130320" y="454356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5520" y="4556160"/>
              <a:ext cx="64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José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01800" y="454356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00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0920" y="454356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97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0240" y="454356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13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2920" y="454356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1600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61040" y="454356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128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40320" y="454356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7340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6360" y="454356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8600" y="45561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51840" y="454356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13560" y="45561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23840" y="4903920"/>
            <a:ext cx="8969400" cy="777240"/>
            <a:chOff x="123840" y="4903920"/>
            <a:chExt cx="8969400" cy="777240"/>
          </a:xfrm>
        </p:grpSpPr>
        <p:sp>
          <p:nvSpPr>
            <p:cNvPr id="335" name=""/>
            <p:cNvSpPr/>
            <p:nvPr/>
          </p:nvSpPr>
          <p:spPr>
            <a:xfrm>
              <a:off x="123840" y="5264280"/>
              <a:ext cx="7635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87400" y="52642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09720" y="5264280"/>
              <a:ext cx="114120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092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71800" y="5264280"/>
              <a:ext cx="1198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702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90760" y="5264280"/>
              <a:ext cx="9921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292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03800" y="5264280"/>
              <a:ext cx="9572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610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81560" y="5264280"/>
              <a:ext cx="10587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40320" y="52642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2640" y="5264280"/>
              <a:ext cx="949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196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32840" y="5264280"/>
              <a:ext cx="81900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518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2360" y="5264280"/>
              <a:ext cx="757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0320" y="490392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800" y="491652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Mari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800" y="490392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00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0920" y="490392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7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0240" y="490392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13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2920" y="490392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1600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61040" y="490392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128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40320" y="490392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7340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26360" y="490392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08600" y="49165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1840" y="490392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13560" y="49165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66040" y="537228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78920" y="537228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68640" y="5315040"/>
              <a:ext cx="152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: 1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Exemplo - Função Comercial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480" y="20574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Alocação dos itens de custos às 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80" y="2712960"/>
            <a:ext cx="14446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1000" y="2712960"/>
            <a:ext cx="64706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8920" y="2712960"/>
            <a:ext cx="106992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440" y="3063960"/>
            <a:ext cx="144792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08920" y="3063960"/>
            <a:ext cx="1052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80" y="3081240"/>
            <a:ext cx="144468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1000" y="3081240"/>
            <a:ext cx="348120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19840" y="3081240"/>
            <a:ext cx="295416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91640" y="3081240"/>
            <a:ext cx="106992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80" y="3430440"/>
            <a:ext cx="14446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1000" y="3430440"/>
            <a:ext cx="12128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33840" y="3430440"/>
            <a:ext cx="12380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71880" y="3430440"/>
            <a:ext cx="10414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75120" y="3430440"/>
            <a:ext cx="10382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30640" y="3430440"/>
            <a:ext cx="90180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440" y="3430440"/>
            <a:ext cx="111780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50240" y="3430440"/>
            <a:ext cx="93636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11480" y="2722680"/>
            <a:ext cx="8628480" cy="1083600"/>
            <a:chOff x="411480" y="2722680"/>
            <a:chExt cx="8628480" cy="1083600"/>
          </a:xfrm>
        </p:grpSpPr>
        <p:sp>
          <p:nvSpPr>
            <p:cNvPr id="393" name=""/>
            <p:cNvSpPr/>
            <p:nvPr/>
          </p:nvSpPr>
          <p:spPr>
            <a:xfrm>
              <a:off x="503280" y="2722680"/>
              <a:ext cx="59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97520" y="2722680"/>
              <a:ext cx="14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ividade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5680" y="30909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d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4520" y="3090960"/>
              <a:ext cx="10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93280" y="30909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upor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57880" y="3090960"/>
              <a:ext cx="98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480" y="3440160"/>
              <a:ext cx="79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29280" y="344016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Produt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54720" y="344016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istem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92760" y="34401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epre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40000" y="344016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end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52960" y="3440160"/>
              <a:ext cx="115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Repa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71120" y="3440160"/>
              <a:ext cx="96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u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8002440" y="3430440"/>
            <a:ext cx="10702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8680" y="3798720"/>
            <a:ext cx="9058680" cy="375840"/>
            <a:chOff x="58680" y="3798720"/>
            <a:chExt cx="9058680" cy="375840"/>
          </a:xfrm>
        </p:grpSpPr>
        <p:sp>
          <p:nvSpPr>
            <p:cNvPr id="408" name=""/>
            <p:cNvSpPr/>
            <p:nvPr/>
          </p:nvSpPr>
          <p:spPr>
            <a:xfrm>
              <a:off x="58680" y="3798720"/>
              <a:ext cx="14446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120" y="3808440"/>
              <a:ext cx="109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Salári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1000" y="3798720"/>
              <a:ext cx="12128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496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33840" y="3798720"/>
              <a:ext cx="12380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1508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1880" y="3798720"/>
              <a:ext cx="1041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5988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4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30640" y="3798720"/>
              <a:ext cx="901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7640" y="380844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32440" y="3798720"/>
              <a:ext cx="1117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32760" y="3808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50240" y="3798720"/>
              <a:ext cx="93636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59840" y="3808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02440" y="3798720"/>
              <a:ext cx="1068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16480" y="3808440"/>
              <a:ext cx="110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8680" y="4148280"/>
            <a:ext cx="9049680" cy="375480"/>
            <a:chOff x="58680" y="4148280"/>
            <a:chExt cx="9049680" cy="375480"/>
          </a:xfrm>
        </p:grpSpPr>
        <p:sp>
          <p:nvSpPr>
            <p:cNvPr id="425" name=""/>
            <p:cNvSpPr/>
            <p:nvPr/>
          </p:nvSpPr>
          <p:spPr>
            <a:xfrm>
              <a:off x="58680" y="4148280"/>
              <a:ext cx="14446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520" y="4157640"/>
              <a:ext cx="14925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Serv. Terc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21000" y="4148280"/>
              <a:ext cx="12128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7576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3840" y="4148280"/>
              <a:ext cx="12380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0768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71880" y="4148280"/>
              <a:ext cx="1041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5212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30640" y="4148280"/>
              <a:ext cx="901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24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32440" y="4148280"/>
              <a:ext cx="1117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4616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50240" y="4148280"/>
              <a:ext cx="936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1000" y="415764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2440" y="4148280"/>
              <a:ext cx="1068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76320" y="41576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8680" y="4498920"/>
            <a:ext cx="9049680" cy="374040"/>
            <a:chOff x="58680" y="4498920"/>
            <a:chExt cx="9049680" cy="374040"/>
          </a:xfrm>
        </p:grpSpPr>
        <p:sp>
          <p:nvSpPr>
            <p:cNvPr id="442" name=""/>
            <p:cNvSpPr/>
            <p:nvPr/>
          </p:nvSpPr>
          <p:spPr>
            <a:xfrm>
              <a:off x="58680" y="449892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40" y="4506840"/>
              <a:ext cx="128700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Comunic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1000" y="449892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416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33840" y="449892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9428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1880" y="449892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3872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0640" y="449892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1684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32440" y="449892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3276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0240" y="449892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5984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02440" y="449892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76320" y="45068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8680" y="4848120"/>
            <a:ext cx="9049680" cy="375840"/>
            <a:chOff x="58680" y="4848120"/>
            <a:chExt cx="9049680" cy="375840"/>
          </a:xfrm>
        </p:grpSpPr>
        <p:sp>
          <p:nvSpPr>
            <p:cNvPr id="459" name=""/>
            <p:cNvSpPr/>
            <p:nvPr/>
          </p:nvSpPr>
          <p:spPr>
            <a:xfrm>
              <a:off x="58680" y="484812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120" y="4857840"/>
              <a:ext cx="10994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Viagen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1000" y="484812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6416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3840" y="484812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428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71880" y="484812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3872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0640" y="484812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1684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32440" y="484812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6160" y="48578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50240" y="484812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73240" y="48578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2440" y="484812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76320" y="48578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8680" y="5197320"/>
            <a:ext cx="9038880" cy="375840"/>
            <a:chOff x="58680" y="5197320"/>
            <a:chExt cx="9038880" cy="375840"/>
          </a:xfrm>
        </p:grpSpPr>
        <p:sp>
          <p:nvSpPr>
            <p:cNvPr id="476" name=""/>
            <p:cNvSpPr/>
            <p:nvPr/>
          </p:nvSpPr>
          <p:spPr>
            <a:xfrm>
              <a:off x="58680" y="5197320"/>
              <a:ext cx="14446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880" y="5207040"/>
              <a:ext cx="147600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Mat. Con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1000" y="5197320"/>
              <a:ext cx="12128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6416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33840" y="5197320"/>
              <a:ext cx="12380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9428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71880" y="5197320"/>
              <a:ext cx="1041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3872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0640" y="5197320"/>
              <a:ext cx="901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1684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2440" y="5197320"/>
              <a:ext cx="1117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276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50240" y="5197320"/>
              <a:ext cx="93636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5984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02440" y="5197320"/>
              <a:ext cx="1068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4720" y="5207040"/>
              <a:ext cx="7628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7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8680" y="5546880"/>
            <a:ext cx="9038880" cy="375480"/>
            <a:chOff x="58680" y="5546880"/>
            <a:chExt cx="9038880" cy="375480"/>
          </a:xfrm>
        </p:grpSpPr>
        <p:sp>
          <p:nvSpPr>
            <p:cNvPr id="493" name=""/>
            <p:cNvSpPr/>
            <p:nvPr/>
          </p:nvSpPr>
          <p:spPr>
            <a:xfrm>
              <a:off x="58680" y="5546880"/>
              <a:ext cx="14446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400" y="5556240"/>
              <a:ext cx="11847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Dive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1000" y="5546880"/>
              <a:ext cx="12128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480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5546880"/>
              <a:ext cx="12380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7492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71880" y="5546880"/>
              <a:ext cx="1041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1792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0640" y="5546880"/>
              <a:ext cx="901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9748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2440" y="5546880"/>
              <a:ext cx="1117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340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0240" y="5546880"/>
              <a:ext cx="936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3904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02440" y="5546880"/>
              <a:ext cx="1068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34720" y="5556240"/>
              <a:ext cx="7628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680" y="5915160"/>
            <a:ext cx="9052200" cy="375480"/>
            <a:chOff x="58680" y="5915160"/>
            <a:chExt cx="9052200" cy="375480"/>
          </a:xfrm>
        </p:grpSpPr>
        <p:sp>
          <p:nvSpPr>
            <p:cNvPr id="510" name=""/>
            <p:cNvSpPr/>
            <p:nvPr/>
          </p:nvSpPr>
          <p:spPr>
            <a:xfrm>
              <a:off x="58680" y="591516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960" y="5924520"/>
              <a:ext cx="98208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21000" y="591516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8496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3840" y="591516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1508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5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71880" y="591516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5988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0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0640" y="591516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3764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32440" y="591516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32760" y="592452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0240" y="591516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8100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02440" y="591516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10000" y="5924520"/>
              <a:ext cx="110088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72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8001000" y="6264360"/>
            <a:ext cx="15840" cy="1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5440" y="2695680"/>
            <a:ext cx="9031320" cy="3956040"/>
            <a:chOff x="55440" y="2695680"/>
            <a:chExt cx="9031320" cy="3956040"/>
          </a:xfrm>
        </p:grpSpPr>
        <p:grpSp>
          <p:nvGrpSpPr>
            <p:cNvPr id="528" name=""/>
            <p:cNvGrpSpPr/>
            <p:nvPr/>
          </p:nvGrpSpPr>
          <p:grpSpPr>
            <a:xfrm>
              <a:off x="1521000" y="3063960"/>
              <a:ext cx="6487920" cy="17280"/>
              <a:chOff x="1521000" y="3063960"/>
              <a:chExt cx="6487920" cy="17280"/>
            </a:xfrm>
          </p:grpSpPr>
          <p:sp>
            <p:nvSpPr>
              <p:cNvPr id="529" name=""/>
              <p:cNvSpPr/>
              <p:nvPr/>
            </p:nvSpPr>
            <p:spPr>
              <a:xfrm>
                <a:off x="1521000" y="3063960"/>
                <a:ext cx="348120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02200" y="3063960"/>
                <a:ext cx="1764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19840" y="3063960"/>
                <a:ext cx="295416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74000" y="3063960"/>
                <a:ext cx="1764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91640" y="3063960"/>
                <a:ext cx="1728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991640" y="3063960"/>
                <a:ext cx="1728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5440" y="2695680"/>
              <a:ext cx="9031320" cy="3956040"/>
              <a:chOff x="55440" y="2695680"/>
              <a:chExt cx="9031320" cy="395604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55440" y="2695680"/>
                <a:ext cx="9023400" cy="17280"/>
                <a:chOff x="55440" y="2695680"/>
                <a:chExt cx="9023400" cy="172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5440" y="2695680"/>
                  <a:ext cx="1447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521000" y="2695680"/>
                  <a:ext cx="6470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91640" y="269568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08920" y="2695680"/>
                  <a:ext cx="1069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440" y="3781440"/>
                <a:ext cx="9031320" cy="17280"/>
                <a:chOff x="55440" y="3781440"/>
                <a:chExt cx="9031320" cy="172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440" y="3781440"/>
                  <a:ext cx="1447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21000" y="3781440"/>
                  <a:ext cx="1212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3384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51120" y="3781440"/>
                  <a:ext cx="122076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7188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89520" y="3781440"/>
                  <a:ext cx="1023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1336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030640" y="3781440"/>
                  <a:ext cx="90180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93244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950080" y="3781440"/>
                  <a:ext cx="110016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05024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67520" y="3781440"/>
                  <a:ext cx="9190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986600" y="3781440"/>
                  <a:ext cx="15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02440" y="3781440"/>
                  <a:ext cx="10684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070920" y="3781440"/>
                  <a:ext cx="15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5440" y="5897520"/>
                <a:ext cx="9015480" cy="17640"/>
                <a:chOff x="55440" y="5897520"/>
                <a:chExt cx="9015480" cy="176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5440" y="5897520"/>
                  <a:ext cx="144792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21000" y="5897520"/>
                  <a:ext cx="1212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3384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51120" y="5897520"/>
                  <a:ext cx="122076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97188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989520" y="5897520"/>
                  <a:ext cx="1023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030640" y="5897520"/>
                  <a:ext cx="90180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93244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950080" y="5897520"/>
                  <a:ext cx="110016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05024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067520" y="5897520"/>
                  <a:ext cx="9190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986600" y="5897520"/>
                  <a:ext cx="15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02440" y="5897520"/>
                  <a:ext cx="10684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5440" y="6264360"/>
                <a:ext cx="9015480" cy="19080"/>
                <a:chOff x="55440" y="6264360"/>
                <a:chExt cx="9015480" cy="190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55440" y="6264360"/>
                  <a:ext cx="144792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521000" y="6264360"/>
                  <a:ext cx="1212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3384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751120" y="6264360"/>
                  <a:ext cx="122076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97188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989520" y="6264360"/>
                  <a:ext cx="1023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030640" y="6264360"/>
                  <a:ext cx="90180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3244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950080" y="6264360"/>
                  <a:ext cx="109836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048440" y="6264360"/>
                  <a:ext cx="15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5024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67520" y="6264360"/>
                  <a:ext cx="915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98336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016840" y="6264360"/>
                  <a:ext cx="10540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503360" y="2695680"/>
                <a:ext cx="17640" cy="3956040"/>
                <a:chOff x="1503360" y="2695680"/>
                <a:chExt cx="17640" cy="39560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503360" y="269568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03360" y="2712960"/>
                  <a:ext cx="176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503360" y="306396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0336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503360" y="3430440"/>
                  <a:ext cx="176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50336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03360" y="3798720"/>
                  <a:ext cx="1764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50336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503360" y="591516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50336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503360" y="62834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03360" y="663264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002200" y="3081240"/>
                <a:ext cx="28440" cy="3570480"/>
                <a:chOff x="5002200" y="3081240"/>
                <a:chExt cx="28440" cy="35704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00220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13360" y="3430440"/>
                  <a:ext cx="1728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013360" y="3798720"/>
                  <a:ext cx="1728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1336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13360" y="5915160"/>
                  <a:ext cx="1728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1336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13360" y="6283440"/>
                  <a:ext cx="1728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013360" y="663264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7974000" y="2712960"/>
                <a:ext cx="34920" cy="3938760"/>
                <a:chOff x="7974000" y="2712960"/>
                <a:chExt cx="34920" cy="39387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7991640" y="2712960"/>
                  <a:ext cx="1728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97400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986600" y="3430440"/>
                  <a:ext cx="158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986600" y="3798720"/>
                  <a:ext cx="1584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986600" y="5915160"/>
                  <a:ext cx="158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983360" y="62834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983360" y="663264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55440" y="6632640"/>
              <a:ext cx="9015480" cy="19080"/>
              <a:chOff x="55440" y="6632640"/>
              <a:chExt cx="9015480" cy="19080"/>
            </a:xfrm>
          </p:grpSpPr>
          <p:sp>
            <p:nvSpPr>
              <p:cNvPr id="617" name=""/>
              <p:cNvSpPr/>
              <p:nvPr/>
            </p:nvSpPr>
            <p:spPr>
              <a:xfrm>
                <a:off x="55440" y="6632640"/>
                <a:ext cx="144792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521000" y="6632640"/>
                <a:ext cx="1212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3840" y="6632640"/>
                <a:ext cx="1728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51120" y="6632640"/>
                <a:ext cx="122076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71880" y="6632640"/>
                <a:ext cx="176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89520" y="6632640"/>
                <a:ext cx="1023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30640" y="6632640"/>
                <a:ext cx="90180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32440" y="6632640"/>
                <a:ext cx="176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50080" y="6632640"/>
                <a:ext cx="109836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048440" y="6632640"/>
                <a:ext cx="15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64280" y="6632640"/>
                <a:ext cx="91908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01000" y="6632640"/>
                <a:ext cx="106992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58680" y="6283440"/>
            <a:ext cx="9012240" cy="375480"/>
            <a:chOff x="58680" y="6283440"/>
            <a:chExt cx="9012240" cy="375480"/>
          </a:xfrm>
        </p:grpSpPr>
        <p:sp>
          <p:nvSpPr>
            <p:cNvPr id="630" name=""/>
            <p:cNvSpPr/>
            <p:nvPr/>
          </p:nvSpPr>
          <p:spPr>
            <a:xfrm>
              <a:off x="58680" y="628344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400" y="6292800"/>
              <a:ext cx="145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Percentu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1000" y="628344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564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4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33840" y="628344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6900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6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71880" y="628344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10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2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0640" y="628344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91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4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32440" y="6283440"/>
              <a:ext cx="11160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86680" y="629280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48440" y="6283440"/>
              <a:ext cx="93492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34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8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01000" y="6283440"/>
              <a:ext cx="106992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23400" y="629280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 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28600" y="2971800"/>
            <a:ext cx="6781680" cy="3597120"/>
            <a:chOff x="228600" y="2971800"/>
            <a:chExt cx="6781680" cy="3597120"/>
          </a:xfrm>
        </p:grpSpPr>
        <p:sp>
          <p:nvSpPr>
            <p:cNvPr id="648" name=""/>
            <p:cNvSpPr/>
            <p:nvPr/>
          </p:nvSpPr>
          <p:spPr>
            <a:xfrm>
              <a:off x="228600" y="2971800"/>
              <a:ext cx="753480" cy="359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90360" y="297180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90360" y="365688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90360" y="434196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3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90360" y="605484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9040" y="4815360"/>
              <a:ext cx="60264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04640" y="314280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04640" y="399924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04640" y="588348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k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6800" y="4684680"/>
              <a:ext cx="60264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2080" y="331416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2080" y="399924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2080" y="468468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82080" y="639756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94680" y="3314160"/>
              <a:ext cx="21096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94680" y="3314160"/>
              <a:ext cx="2109600" cy="10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94680" y="3314160"/>
              <a:ext cx="2109600" cy="27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694680" y="3485160"/>
              <a:ext cx="2109600" cy="51372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694680" y="3656880"/>
              <a:ext cx="2109600" cy="1027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694680" y="3656520"/>
              <a:ext cx="2109600" cy="2740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94680" y="3999240"/>
              <a:ext cx="2109600" cy="34236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4680" y="3999240"/>
              <a:ext cx="2109600" cy="205524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694680" y="4512960"/>
              <a:ext cx="2109600" cy="171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94680" y="4513320"/>
              <a:ext cx="2109600" cy="188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4680" y="4684680"/>
              <a:ext cx="2109600" cy="1541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694680" y="6225840"/>
              <a:ext cx="2109600" cy="171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913320" y="213372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Arial"/>
              </a:rPr>
              <a:t>Sistema de dois estági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76" name=""/>
          <p:cNvSpPr/>
          <p:nvPr/>
        </p:nvSpPr>
        <p:spPr>
          <a:xfrm>
            <a:off x="303120" y="190512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Arial"/>
              </a:rPr>
              <a:t>Sistema de múltiplos estági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2590920"/>
            <a:ext cx="7848000" cy="3994200"/>
            <a:chOff x="228600" y="2590920"/>
            <a:chExt cx="7848000" cy="3994200"/>
          </a:xfrm>
        </p:grpSpPr>
        <p:sp>
          <p:nvSpPr>
            <p:cNvPr id="678" name=""/>
            <p:cNvSpPr/>
            <p:nvPr/>
          </p:nvSpPr>
          <p:spPr>
            <a:xfrm>
              <a:off x="228600" y="3042000"/>
              <a:ext cx="871920" cy="35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100520" y="2590920"/>
              <a:ext cx="6976080" cy="3994200"/>
              <a:chOff x="1100520" y="2590920"/>
              <a:chExt cx="6976080" cy="3994200"/>
            </a:xfrm>
          </p:grpSpPr>
          <p:sp>
            <p:nvSpPr>
              <p:cNvPr id="680" name=""/>
              <p:cNvSpPr/>
              <p:nvPr/>
            </p:nvSpPr>
            <p:spPr>
              <a:xfrm>
                <a:off x="1972440" y="304200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972440" y="371664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2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72440" y="439164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3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972440" y="607896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n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248560" y="485784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81600" y="321048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681600" y="405432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2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681600" y="591012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k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04680" y="472896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00520" y="337932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00520" y="405432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100520" y="472896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00520" y="641628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239720" y="368856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D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39720" y="537588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Di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88560" y="422280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00520" y="2590920"/>
                <a:ext cx="3662640" cy="1096200"/>
              </a:xfrm>
              <a:custGeom>
                <a:avLst/>
                <a:gdLst/>
                <a:ahLst/>
                <a:rect l="l" t="t" r="r" b="b"/>
                <a:pathLst>
                  <a:path w="3024" h="936">
                    <a:moveTo>
                      <a:pt x="0" y="504"/>
                    </a:moveTo>
                    <a:cubicBezTo>
                      <a:pt x="540" y="252"/>
                      <a:pt x="1080" y="0"/>
                      <a:pt x="1584" y="72"/>
                    </a:cubicBezTo>
                    <a:cubicBezTo>
                      <a:pt x="2088" y="144"/>
                      <a:pt x="2784" y="792"/>
                      <a:pt x="3024" y="9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00520" y="5713200"/>
                <a:ext cx="31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18960" y="5882040"/>
                <a:ext cx="122076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018960" y="4194720"/>
                <a:ext cx="1569600" cy="219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018960" y="4194720"/>
                <a:ext cx="122076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018960" y="4700880"/>
                <a:ext cx="1220760" cy="84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018960" y="4026240"/>
                <a:ext cx="12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018960" y="4026240"/>
                <a:ext cx="139500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18960" y="3351240"/>
                <a:ext cx="1569600" cy="2024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18960" y="3351240"/>
                <a:ext cx="1220760" cy="506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286240" y="3519720"/>
                <a:ext cx="139500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86240" y="4026240"/>
                <a:ext cx="1395000" cy="33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86240" y="4026240"/>
                <a:ext cx="1569600" cy="20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286240" y="3688560"/>
                <a:ext cx="1395000" cy="20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286240" y="4700880"/>
                <a:ext cx="156960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286240" y="5713200"/>
                <a:ext cx="139500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s custos das atividades são alocados aos produtos através de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direcionadores de custos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(Cost Driver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7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incipais causas  dos custos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presentam as bases de geração de custos pel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onceito análogo às unidades de trabalho do métod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7" dur="1" fill="hold"/>
                                  <p:tgtEl>
                                    <p:spTgt spid="7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de Custos -</a:t>
            </a: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 Exempl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741240" y="3376440"/>
          <a:ext cx="7305840" cy="26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3376440"/>
                    <a:ext cx="7305840" cy="268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474747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" y="1828440"/>
            <a:ext cx="567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BASEADO EM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365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f00"/>
                </a:solidFill>
                <a:latin typeface="Times New Roman"/>
              </a:rPr>
              <a:t>ACTIVITY-BASED COSTING (ABC)</a:t>
            </a:r>
            <a:endParaRPr b="0" lang="en-US" sz="36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-</a:t>
            </a: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 Vendas por representant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9296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Custo = $ 205</a:t>
            </a: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Número de pedidos = 8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Custo unitário = 205 / 8 = $ 25,625 / pedido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03040" y="4915080"/>
            <a:ext cx="1575720" cy="1507320"/>
            <a:chOff x="203040" y="4915080"/>
            <a:chExt cx="1575720" cy="1507320"/>
          </a:xfrm>
        </p:grpSpPr>
        <p:grpSp>
          <p:nvGrpSpPr>
            <p:cNvPr id="722" name=""/>
            <p:cNvGrpSpPr/>
            <p:nvPr/>
          </p:nvGrpSpPr>
          <p:grpSpPr>
            <a:xfrm>
              <a:off x="203040" y="4915080"/>
              <a:ext cx="1408320" cy="1507320"/>
              <a:chOff x="203040" y="4915080"/>
              <a:chExt cx="1408320" cy="1507320"/>
            </a:xfrm>
          </p:grpSpPr>
          <p:sp>
            <p:nvSpPr>
              <p:cNvPr id="723" name=""/>
              <p:cNvSpPr/>
              <p:nvPr/>
            </p:nvSpPr>
            <p:spPr>
              <a:xfrm>
                <a:off x="203040" y="4915080"/>
                <a:ext cx="140832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03040" y="5311800"/>
                <a:ext cx="1408320" cy="366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6360" y="532440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3040" y="5678640"/>
                <a:ext cx="1408320" cy="36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46360" y="56912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3040" y="6043680"/>
                <a:ext cx="1408320" cy="36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46360" y="605628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508680" y="4927680"/>
              <a:ext cx="1270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611360" y="4915080"/>
            <a:ext cx="1604520" cy="1507320"/>
            <a:chOff x="1611360" y="4915080"/>
            <a:chExt cx="1604520" cy="1507320"/>
          </a:xfrm>
        </p:grpSpPr>
        <p:sp>
          <p:nvSpPr>
            <p:cNvPr id="732" name=""/>
            <p:cNvSpPr/>
            <p:nvPr/>
          </p:nvSpPr>
          <p:spPr>
            <a:xfrm>
              <a:off x="1611360" y="4915080"/>
              <a:ext cx="1438200" cy="396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11360" y="5311800"/>
              <a:ext cx="143820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1080" y="53244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11360" y="5672160"/>
              <a:ext cx="1438200" cy="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11360" y="5678640"/>
              <a:ext cx="1438200" cy="35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1080" y="5691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11360" y="6043680"/>
              <a:ext cx="143820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1080" y="6056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11360" y="6404040"/>
              <a:ext cx="1438200" cy="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26000" y="4927680"/>
              <a:ext cx="1289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ff"/>
                  </a:solidFill>
                  <a:latin typeface="Arial"/>
                </a:rPr>
                <a:t>Pedidos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284880" y="4915080"/>
            <a:ext cx="2646720" cy="1507320"/>
            <a:chOff x="6284880" y="4915080"/>
            <a:chExt cx="2646720" cy="1507320"/>
          </a:xfrm>
        </p:grpSpPr>
        <p:grpSp>
          <p:nvGrpSpPr>
            <p:cNvPr id="743" name=""/>
            <p:cNvGrpSpPr/>
            <p:nvPr/>
          </p:nvGrpSpPr>
          <p:grpSpPr>
            <a:xfrm>
              <a:off x="6284880" y="4915080"/>
              <a:ext cx="2374920" cy="1507320"/>
              <a:chOff x="6284880" y="4915080"/>
              <a:chExt cx="2374920" cy="1507320"/>
            </a:xfrm>
          </p:grpSpPr>
          <p:sp>
            <p:nvSpPr>
              <p:cNvPr id="744" name=""/>
              <p:cNvSpPr/>
              <p:nvPr/>
            </p:nvSpPr>
            <p:spPr>
              <a:xfrm>
                <a:off x="6284880" y="4915080"/>
                <a:ext cx="237492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84880" y="5311800"/>
                <a:ext cx="237492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3640" y="5324400"/>
                <a:ext cx="764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6,4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84880" y="5672160"/>
                <a:ext cx="23749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84880" y="5678640"/>
                <a:ext cx="2374920" cy="358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58320" y="56912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25,6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84880" y="6043680"/>
                <a:ext cx="237492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58320" y="60562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12,8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84880" y="6404040"/>
                <a:ext cx="2374920" cy="6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6687720" y="4927680"/>
              <a:ext cx="2243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usto unitári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611360" y="6037200"/>
            <a:ext cx="143820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049560" y="6037200"/>
            <a:ext cx="125568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05240" y="6037200"/>
            <a:ext cx="197964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84880" y="6037200"/>
            <a:ext cx="237492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049560" y="4915080"/>
            <a:ext cx="1303920" cy="1507320"/>
            <a:chOff x="3049560" y="4915080"/>
            <a:chExt cx="1303920" cy="1507320"/>
          </a:xfrm>
        </p:grpSpPr>
        <p:grpSp>
          <p:nvGrpSpPr>
            <p:cNvPr id="759" name=""/>
            <p:cNvGrpSpPr/>
            <p:nvPr/>
          </p:nvGrpSpPr>
          <p:grpSpPr>
            <a:xfrm>
              <a:off x="3049560" y="4915080"/>
              <a:ext cx="1303920" cy="1495080"/>
              <a:chOff x="3049560" y="4915080"/>
              <a:chExt cx="1303920" cy="1495080"/>
            </a:xfrm>
          </p:grpSpPr>
          <p:sp>
            <p:nvSpPr>
              <p:cNvPr id="760" name=""/>
              <p:cNvSpPr/>
              <p:nvPr/>
            </p:nvSpPr>
            <p:spPr>
              <a:xfrm>
                <a:off x="3049560" y="4915080"/>
                <a:ext cx="125568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13880" y="4927680"/>
                <a:ext cx="939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Custo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49560" y="5311800"/>
                <a:ext cx="125568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67520" y="53244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25,6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560" y="5672160"/>
                <a:ext cx="125568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049560" y="5678640"/>
                <a:ext cx="1255680" cy="358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67520" y="56912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51,25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49560" y="6043680"/>
                <a:ext cx="125568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49560" y="6404040"/>
                <a:ext cx="1255680" cy="6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402720" y="605628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8,1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305240" y="4915080"/>
            <a:ext cx="2195280" cy="1507320"/>
            <a:chOff x="4305240" y="4915080"/>
            <a:chExt cx="2195280" cy="1507320"/>
          </a:xfrm>
        </p:grpSpPr>
        <p:sp>
          <p:nvSpPr>
            <p:cNvPr id="771" name=""/>
            <p:cNvSpPr/>
            <p:nvPr/>
          </p:nvSpPr>
          <p:spPr>
            <a:xfrm>
              <a:off x="4305240" y="4915080"/>
              <a:ext cx="1979640" cy="396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05240" y="5311800"/>
              <a:ext cx="1979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05240" y="5672160"/>
              <a:ext cx="1979640" cy="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05240" y="5678640"/>
              <a:ext cx="1979640" cy="35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05240" y="6043680"/>
              <a:ext cx="1979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677120" y="4927680"/>
              <a:ext cx="1823400" cy="1494720"/>
              <a:chOff x="4677120" y="4927680"/>
              <a:chExt cx="1823400" cy="1494720"/>
            </a:xfrm>
          </p:grpSpPr>
          <p:sp>
            <p:nvSpPr>
              <p:cNvPr id="777" name=""/>
              <p:cNvSpPr/>
              <p:nvPr/>
            </p:nvSpPr>
            <p:spPr>
              <a:xfrm>
                <a:off x="4677120" y="4927680"/>
                <a:ext cx="182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ffff"/>
                    </a:solidFill>
                    <a:latin typeface="Arial"/>
                  </a:rPr>
                  <a:t>Quantidade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19640" y="53244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19640" y="56912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35760" y="605628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4305240" y="6404040"/>
              <a:ext cx="1979640" cy="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6020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83" name=""/>
          <p:cNvSpPr/>
          <p:nvPr/>
        </p:nvSpPr>
        <p:spPr>
          <a:xfrm>
            <a:off x="96840" y="1752480"/>
            <a:ext cx="569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locar os custos das atividades aos produtos.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0" y="2989440"/>
          <a:ext cx="7767720" cy="25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89440"/>
                    <a:ext cx="7767720" cy="2546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88880" y="5516640"/>
          <a:ext cx="7540560" cy="13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5516640"/>
                    <a:ext cx="7540560" cy="1341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7679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omentári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lhor análise dos custos indire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odelo de apoio a decisões de longo praz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lhor análise das despesas de estrutura (serviç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omentári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cânica semelhante à d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Diferenças fundamentais na ótica do princípi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Normalmente, associado ao custeio ideal (eliminação de desperdíci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Visão horizontal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nálise do Process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Análise detalhada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Separação de atividades agregadoras ou não de valor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3652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Bookman Old Style"/>
              </a:rPr>
              <a:t>Atividade Vendas por Representantes</a:t>
            </a:r>
            <a:endParaRPr b="1" i="1" lang="en-US" sz="32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34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locação dos itens de custos às micro-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228600" y="2666880"/>
          <a:ext cx="8915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os Process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Vendas / Suporte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1. Vendas de produto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2. Vendas de sistema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3. Vendas por representante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4. Atendimento a clie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5. Reparos de produtos defeituoso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6. Cursos a cliente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7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a Ativ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5800" y="25146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Vendas por Representantes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1. Cadastro de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2. Acompanhamento de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3. Atendimento aos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4. Recebimento de pedido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5. Arquivamento de pedido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6. Viagen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7. Burocracia interna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8. Atividades de promoção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M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Gerenciamento por atividades (Activity-Based Management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Gestão da empresa focalizada n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7" dur="1" fill="hold"/>
                                  <p:tgtEl>
                                    <p:spTgt spid="8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158760" y="2368440"/>
            <a:ext cx="6500880" cy="4330800"/>
            <a:chOff x="158760" y="2368440"/>
            <a:chExt cx="6500880" cy="4330800"/>
          </a:xfrm>
        </p:grpSpPr>
        <p:sp>
          <p:nvSpPr>
            <p:cNvPr id="805" name=""/>
            <p:cNvSpPr/>
            <p:nvPr/>
          </p:nvSpPr>
          <p:spPr>
            <a:xfrm>
              <a:off x="158760" y="2368440"/>
              <a:ext cx="6500880" cy="4330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0280" y="2484360"/>
              <a:ext cx="1111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ABM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2800" y="3005280"/>
              <a:ext cx="5671440" cy="5799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Gerenciamento das 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80960" y="3532320"/>
              <a:ext cx="4402080" cy="1372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planejament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medidas de desempenh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ações corretivas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54120" y="5108400"/>
            <a:ext cx="5594400" cy="1308240"/>
            <a:chOff x="654120" y="5108400"/>
            <a:chExt cx="5594400" cy="1308240"/>
          </a:xfrm>
        </p:grpSpPr>
        <p:sp>
          <p:nvSpPr>
            <p:cNvPr id="810" name=""/>
            <p:cNvSpPr/>
            <p:nvPr/>
          </p:nvSpPr>
          <p:spPr>
            <a:xfrm>
              <a:off x="654120" y="5108400"/>
              <a:ext cx="5594400" cy="130824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9640" y="5245200"/>
              <a:ext cx="1067400" cy="579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AB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15000" y="5735520"/>
              <a:ext cx="4203720" cy="579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Custeio por 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e ABM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istóric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 ABC já era conhecido no início do século XX, segundo alguns autor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onhecido e usado na década de 60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Divulgação extensiva nos anos 80 (Robert Kaplan e Robin Cooper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0200" y="3049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Ilustrativ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580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1 departamento produtivo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2 Matérias-primas (M1, M2) 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3 produtos (P1, P2, P3)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920880" y="3892680"/>
            <a:ext cx="3446280" cy="2806560"/>
            <a:chOff x="920880" y="3892680"/>
            <a:chExt cx="3446280" cy="2806560"/>
          </a:xfrm>
        </p:grpSpPr>
        <p:sp>
          <p:nvSpPr>
            <p:cNvPr id="817" name=""/>
            <p:cNvSpPr/>
            <p:nvPr/>
          </p:nvSpPr>
          <p:spPr>
            <a:xfrm>
              <a:off x="920880" y="3892680"/>
              <a:ext cx="1203120" cy="81576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20880" y="4970520"/>
              <a:ext cx="1203120" cy="81576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44840" y="604836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44840" y="497052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44840" y="397512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30480" y="4300560"/>
              <a:ext cx="13078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30480" y="5295960"/>
              <a:ext cx="13078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0480" y="4300560"/>
              <a:ext cx="1307880" cy="215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030560"/>
              <a:ext cx="74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7000" y="5108400"/>
              <a:ext cx="74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533400" y="402444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33400" y="502596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33400" y="610380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3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32" dur="20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Ilustrativo - Dad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06280" y="3067200"/>
            <a:ext cx="8599680" cy="439560"/>
            <a:chOff x="206280" y="3067200"/>
            <a:chExt cx="8599680" cy="439560"/>
          </a:xfrm>
        </p:grpSpPr>
        <p:sp>
          <p:nvSpPr>
            <p:cNvPr id="832" name=""/>
            <p:cNvSpPr/>
            <p:nvPr/>
          </p:nvSpPr>
          <p:spPr>
            <a:xfrm>
              <a:off x="206280" y="3067200"/>
              <a:ext cx="3119400" cy="423720"/>
            </a:xfrm>
            <a:prstGeom prst="rect">
              <a:avLst/>
            </a:prstGeom>
            <a:solidFill>
              <a:srgbClr val="19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5680" y="3067200"/>
              <a:ext cx="13478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3264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73520" y="3067200"/>
              <a:ext cx="10796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4404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53160" y="3067200"/>
              <a:ext cx="107316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22368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3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26320" y="3067200"/>
              <a:ext cx="19796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46600" y="3079800"/>
              <a:ext cx="1181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06280" y="3490920"/>
            <a:ext cx="3119400" cy="42372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3560" y="3503520"/>
            <a:ext cx="282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rodução (unid.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325680" y="3490920"/>
            <a:ext cx="13478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76600" y="350352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.0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73520" y="3490920"/>
            <a:ext cx="10796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45120" y="3503520"/>
            <a:ext cx="59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53160" y="3490920"/>
            <a:ext cx="107316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6200" y="3503520"/>
            <a:ext cx="59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26320" y="3490920"/>
            <a:ext cx="19796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09040" y="350352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.4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9520" y="3876840"/>
            <a:ext cx="8599680" cy="438120"/>
            <a:chOff x="209520" y="3876840"/>
            <a:chExt cx="8599680" cy="438120"/>
          </a:xfrm>
        </p:grpSpPr>
        <p:sp>
          <p:nvSpPr>
            <p:cNvPr id="852" name=""/>
            <p:cNvSpPr/>
            <p:nvPr/>
          </p:nvSpPr>
          <p:spPr>
            <a:xfrm>
              <a:off x="209520" y="3876840"/>
              <a:ext cx="3119400" cy="424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5000" y="3888000"/>
              <a:ext cx="1599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MP ($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28920" y="3876840"/>
              <a:ext cx="13478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820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76760" y="3876840"/>
              <a:ext cx="10796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136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6400" y="3876840"/>
              <a:ext cx="107316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3244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29560" y="3876840"/>
              <a:ext cx="19796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20360" y="3888000"/>
              <a:ext cx="178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4.0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09520" y="4300560"/>
            <a:ext cx="8599680" cy="439560"/>
            <a:chOff x="209520" y="4300560"/>
            <a:chExt cx="8599680" cy="439560"/>
          </a:xfrm>
        </p:grpSpPr>
        <p:sp>
          <p:nvSpPr>
            <p:cNvPr id="863" name=""/>
            <p:cNvSpPr/>
            <p:nvPr/>
          </p:nvSpPr>
          <p:spPr>
            <a:xfrm>
              <a:off x="209520" y="430056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26800" y="4313160"/>
              <a:ext cx="3019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Horas MOD (h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28920" y="430056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7312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76760" y="430056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4628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56400" y="430056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2736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29560" y="430056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910640" y="43131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.24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09520" y="4724280"/>
            <a:ext cx="8599680" cy="439560"/>
            <a:chOff x="209520" y="4724280"/>
            <a:chExt cx="8599680" cy="439560"/>
          </a:xfrm>
        </p:grpSpPr>
        <p:sp>
          <p:nvSpPr>
            <p:cNvPr id="874" name=""/>
            <p:cNvSpPr/>
            <p:nvPr/>
          </p:nvSpPr>
          <p:spPr>
            <a:xfrm>
              <a:off x="209520" y="472428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" y="4736880"/>
              <a:ext cx="189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MOD ($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28920" y="472428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7692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76760" y="472428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4828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6400" y="472428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936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29560" y="472428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18280" y="4736880"/>
              <a:ext cx="1684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2.4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09520" y="5148360"/>
            <a:ext cx="8599680" cy="439560"/>
            <a:chOff x="209520" y="5148360"/>
            <a:chExt cx="8599680" cy="439560"/>
          </a:xfrm>
        </p:grpSpPr>
        <p:sp>
          <p:nvSpPr>
            <p:cNvPr id="885" name=""/>
            <p:cNvSpPr/>
            <p:nvPr/>
          </p:nvSpPr>
          <p:spPr>
            <a:xfrm>
              <a:off x="209520" y="514836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6440" y="5160960"/>
              <a:ext cx="2586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Horas-máquina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28920" y="514836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7312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76760" y="514836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4628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56400" y="514836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736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9560" y="514836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0640" y="51609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5.2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09520" y="5572080"/>
            <a:ext cx="8599680" cy="439560"/>
            <a:chOff x="209520" y="5572080"/>
            <a:chExt cx="8599680" cy="439560"/>
          </a:xfrm>
        </p:grpSpPr>
        <p:sp>
          <p:nvSpPr>
            <p:cNvPr id="896" name=""/>
            <p:cNvSpPr/>
            <p:nvPr/>
          </p:nvSpPr>
          <p:spPr>
            <a:xfrm>
              <a:off x="209520" y="557208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4280" y="5584680"/>
              <a:ext cx="110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CIF ($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28920" y="557208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76760" y="557208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56400" y="557208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29560" y="557208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20360" y="5584680"/>
              <a:ext cx="178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223.4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520" y="3049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étodo RKW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04" name=""/>
          <p:cNvSpPr/>
          <p:nvPr/>
        </p:nvSpPr>
        <p:spPr>
          <a:xfrm>
            <a:off x="152280" y="1905120"/>
            <a:ext cx="8610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Rateio por horas-máquin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AXA = 223400 / 5200 = 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$42,96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/ hmáq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(0,5).(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42,96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 = 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,48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usto = MP + MOD + CIF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2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 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= 10 +  6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,48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37,48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Recebimento de materiai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ovimentação de materiai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reparação de máquina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peração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6" dur="20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5" dur="1" fill="hold"/>
                                  <p:tgtEl>
                                    <p:spTgt spid="9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71280" y="3390840"/>
          <a:ext cx="8960040" cy="29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390840"/>
                    <a:ext cx="8960040" cy="293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474747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Dados Complementar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1" name=""/>
          <p:cNvSpPr/>
          <p:nvPr/>
        </p:nvSpPr>
        <p:spPr>
          <a:xfrm>
            <a:off x="3986280" y="2986200"/>
            <a:ext cx="11746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60960" y="2986200"/>
            <a:ext cx="10810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242040" y="2986200"/>
            <a:ext cx="9478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89920" y="2986200"/>
            <a:ext cx="180972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46080" y="2654280"/>
            <a:ext cx="8953560" cy="1028520"/>
            <a:chOff x="46080" y="2654280"/>
            <a:chExt cx="8953560" cy="1028520"/>
          </a:xfrm>
        </p:grpSpPr>
        <p:sp>
          <p:nvSpPr>
            <p:cNvPr id="916" name=""/>
            <p:cNvSpPr/>
            <p:nvPr/>
          </p:nvSpPr>
          <p:spPr>
            <a:xfrm>
              <a:off x="46080" y="2654280"/>
              <a:ext cx="3940200" cy="33804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86280" y="2654280"/>
              <a:ext cx="11746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0828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160960" y="2654280"/>
              <a:ext cx="10810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4336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42040" y="2654280"/>
              <a:ext cx="9478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6252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3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89920" y="2654280"/>
              <a:ext cx="180972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06600" y="2660760"/>
              <a:ext cx="942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080" y="299232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920" y="3000240"/>
              <a:ext cx="343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rodução e vendas (unid.)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86280" y="299232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5760" y="3000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.0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60960" y="299232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86480" y="3000240"/>
              <a:ext cx="489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42040" y="299232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04200" y="3000240"/>
              <a:ext cx="489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89920" y="299232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22440" y="3000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.4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080" y="332568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800" y="3332160"/>
              <a:ext cx="200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Horas-máquina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86280" y="3325680"/>
              <a:ext cx="11746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9208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60960" y="3325680"/>
              <a:ext cx="10810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0404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42040" y="3325680"/>
              <a:ext cx="9478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2320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89920" y="332568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36400" y="33321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.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6080" y="3657600"/>
            <a:ext cx="8953560" cy="357120"/>
            <a:chOff x="46080" y="3657600"/>
            <a:chExt cx="8953560" cy="357120"/>
          </a:xfrm>
        </p:grpSpPr>
        <p:sp>
          <p:nvSpPr>
            <p:cNvPr id="946" name=""/>
            <p:cNvSpPr/>
            <p:nvPr/>
          </p:nvSpPr>
          <p:spPr>
            <a:xfrm>
              <a:off x="46080" y="365760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800" y="3664080"/>
              <a:ext cx="223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Lotes produzidos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86280" y="365760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1872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60960" y="365760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5560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42040" y="365760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7296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9920" y="365760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5248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7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6080" y="3990960"/>
            <a:ext cx="8953560" cy="357120"/>
            <a:chOff x="46080" y="3990960"/>
            <a:chExt cx="8953560" cy="357120"/>
          </a:xfrm>
        </p:grpSpPr>
        <p:sp>
          <p:nvSpPr>
            <p:cNvPr id="957" name=""/>
            <p:cNvSpPr/>
            <p:nvPr/>
          </p:nvSpPr>
          <p:spPr>
            <a:xfrm>
              <a:off x="46080" y="399096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360" y="3997440"/>
              <a:ext cx="2670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Ordens de produção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86280" y="3990960"/>
              <a:ext cx="11746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29360" y="399744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6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0960" y="3990960"/>
              <a:ext cx="10810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44360" y="399744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42040" y="3990960"/>
              <a:ext cx="9478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62080" y="399744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89920" y="399096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855200" y="399744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6080" y="4322880"/>
            <a:ext cx="8953560" cy="356760"/>
            <a:chOff x="46080" y="4322880"/>
            <a:chExt cx="8953560" cy="356760"/>
          </a:xfrm>
        </p:grpSpPr>
        <p:sp>
          <p:nvSpPr>
            <p:cNvPr id="968" name=""/>
            <p:cNvSpPr/>
            <p:nvPr/>
          </p:nvSpPr>
          <p:spPr>
            <a:xfrm>
              <a:off x="46080" y="4322880"/>
              <a:ext cx="3940200" cy="331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720" y="4329000"/>
              <a:ext cx="299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Lotes de MP recebidos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86280" y="4322880"/>
              <a:ext cx="11746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8720" y="432900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60960" y="4322880"/>
              <a:ext cx="10810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55600" y="432900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42040" y="4322880"/>
              <a:ext cx="9478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736320" y="432900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89920" y="4322880"/>
              <a:ext cx="180972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4400" y="432900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6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6080" y="4654440"/>
            <a:ext cx="8953560" cy="357120"/>
            <a:chOff x="46080" y="4654440"/>
            <a:chExt cx="8953560" cy="357120"/>
          </a:xfrm>
        </p:grpSpPr>
        <p:sp>
          <p:nvSpPr>
            <p:cNvPr id="979" name=""/>
            <p:cNvSpPr/>
            <p:nvPr/>
          </p:nvSpPr>
          <p:spPr>
            <a:xfrm>
              <a:off x="46080" y="465444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0120" y="4660920"/>
              <a:ext cx="99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CIF ($)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86280" y="465444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60960" y="465444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42040" y="465444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89920" y="465444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13920" y="4660920"/>
              <a:ext cx="146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23.4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6080" y="4987800"/>
            <a:ext cx="8953560" cy="1685880"/>
            <a:chOff x="46080" y="4987800"/>
            <a:chExt cx="8953560" cy="1685880"/>
          </a:xfrm>
        </p:grpSpPr>
        <p:sp>
          <p:nvSpPr>
            <p:cNvPr id="987" name=""/>
            <p:cNvSpPr/>
            <p:nvPr/>
          </p:nvSpPr>
          <p:spPr>
            <a:xfrm>
              <a:off x="46080" y="498780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240" y="4994280"/>
              <a:ext cx="206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Recebiment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080" y="531972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880" y="5326200"/>
              <a:ext cx="2245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Movimentaçã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080" y="565164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920" y="5659560"/>
              <a:ext cx="361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Preparação de máquinas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080" y="5985000"/>
              <a:ext cx="3940200" cy="331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0840" y="5991120"/>
              <a:ext cx="942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PCP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080" y="631656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320" y="6323040"/>
              <a:ext cx="1626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Operaçã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86280" y="4987800"/>
              <a:ext cx="11746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60960" y="4987800"/>
              <a:ext cx="10810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42040" y="4987800"/>
              <a:ext cx="9478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89920" y="498780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679160" y="499428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54.9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89920" y="531972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79160" y="532620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17.5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89920" y="565164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45120" y="5659560"/>
              <a:ext cx="1140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7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89920" y="5985000"/>
              <a:ext cx="180972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679160" y="599112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40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89920" y="631656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13920" y="6323040"/>
              <a:ext cx="146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104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505320" y="1752480"/>
            <a:ext cx="2728080" cy="839520"/>
            <a:chOff x="3505320" y="1752480"/>
            <a:chExt cx="2728080" cy="839520"/>
          </a:xfrm>
        </p:grpSpPr>
        <p:sp>
          <p:nvSpPr>
            <p:cNvPr id="1011" name=""/>
            <p:cNvSpPr/>
            <p:nvPr/>
          </p:nvSpPr>
          <p:spPr>
            <a:xfrm>
              <a:off x="3549600" y="1752480"/>
              <a:ext cx="81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05320" y="2117880"/>
              <a:ext cx="81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11720" y="2362320"/>
              <a:ext cx="25704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40680" y="213372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11720" y="1981080"/>
              <a:ext cx="25704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41040" y="175248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57200" y="1752480"/>
            <a:ext cx="2499480" cy="839520"/>
            <a:chOff x="457200" y="1752480"/>
            <a:chExt cx="2499480" cy="839520"/>
          </a:xfrm>
        </p:grpSpPr>
        <p:sp>
          <p:nvSpPr>
            <p:cNvPr id="1018" name=""/>
            <p:cNvSpPr/>
            <p:nvPr/>
          </p:nvSpPr>
          <p:spPr>
            <a:xfrm>
              <a:off x="501480" y="176832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200" y="213372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35000" y="2362320"/>
              <a:ext cx="2574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63960" y="213372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35000" y="1981080"/>
              <a:ext cx="2574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64320" y="175248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Unitários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83520" y="2787480"/>
            <a:ext cx="8118000" cy="519120"/>
            <a:chOff x="83520" y="2787480"/>
            <a:chExt cx="8118000" cy="519120"/>
          </a:xfrm>
        </p:grpSpPr>
        <p:sp>
          <p:nvSpPr>
            <p:cNvPr id="1026" name=""/>
            <p:cNvSpPr/>
            <p:nvPr/>
          </p:nvSpPr>
          <p:spPr>
            <a:xfrm>
              <a:off x="83520" y="2787480"/>
              <a:ext cx="4371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Recebimento = 54900 / 6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79920" y="2787480"/>
              <a:ext cx="362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900 / lote recebi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3160" y="3427560"/>
            <a:ext cx="8593200" cy="519120"/>
            <a:chOff x="83160" y="3427560"/>
            <a:chExt cx="8593200" cy="519120"/>
          </a:xfrm>
        </p:grpSpPr>
        <p:sp>
          <p:nvSpPr>
            <p:cNvPr id="1029" name=""/>
            <p:cNvSpPr/>
            <p:nvPr/>
          </p:nvSpPr>
          <p:spPr>
            <a:xfrm>
              <a:off x="83160" y="3427560"/>
              <a:ext cx="458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ovimentação = 17500 / 7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79200" y="342756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250 / lote processa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82440" y="4067280"/>
            <a:ext cx="8593920" cy="519120"/>
            <a:chOff x="82440" y="4067280"/>
            <a:chExt cx="8593920" cy="519120"/>
          </a:xfrm>
        </p:grpSpPr>
        <p:sp>
          <p:nvSpPr>
            <p:cNvPr id="1032" name=""/>
            <p:cNvSpPr/>
            <p:nvPr/>
          </p:nvSpPr>
          <p:spPr>
            <a:xfrm>
              <a:off x="82440" y="4067280"/>
              <a:ext cx="4133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Prepar. máq. = 7000 / 7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200" y="406728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100 / lote processa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82800" y="4707000"/>
            <a:ext cx="7384320" cy="519120"/>
            <a:chOff x="82800" y="4707000"/>
            <a:chExt cx="7384320" cy="519120"/>
          </a:xfrm>
        </p:grpSpPr>
        <p:sp>
          <p:nvSpPr>
            <p:cNvPr id="1035" name=""/>
            <p:cNvSpPr/>
            <p:nvPr/>
          </p:nvSpPr>
          <p:spPr>
            <a:xfrm>
              <a:off x="82800" y="4707000"/>
              <a:ext cx="3002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PCP = 40000 / 2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9920" y="4707000"/>
              <a:ext cx="288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2.000 / ordem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83160" y="5345280"/>
            <a:ext cx="7086240" cy="519120"/>
            <a:chOff x="83160" y="5345280"/>
            <a:chExt cx="7086240" cy="519120"/>
          </a:xfrm>
        </p:grpSpPr>
        <p:sp>
          <p:nvSpPr>
            <p:cNvPr id="1038" name=""/>
            <p:cNvSpPr/>
            <p:nvPr/>
          </p:nvSpPr>
          <p:spPr>
            <a:xfrm>
              <a:off x="83160" y="5345280"/>
              <a:ext cx="443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peração = 104000 / 52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9560" y="5345280"/>
              <a:ext cx="258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 20 / h-máq.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9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1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41" name=""/>
          <p:cNvSpPr/>
          <p:nvPr/>
        </p:nvSpPr>
        <p:spPr>
          <a:xfrm>
            <a:off x="76320" y="3124080"/>
            <a:ext cx="8991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50x900 +50x250 +50x100 +16x2000) / 10000 + 0,5x20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19,45</a:t>
            </a:r>
            <a:r>
              <a:rPr b="0" lang="en-US" sz="24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10x900 + 10x250 + 10x100 + 2x2000) / 200 + 0,5x20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92,50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1x900 + 10x250 + 10x100 + 2x2000) / 200 + 0,5x20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52,00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1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19,45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  35,45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2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92,50 =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$108,5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3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54,00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  68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36160" y="304920"/>
            <a:ext cx="669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x RKW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067680" cy="14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Por quê o custo de P1 caiu?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253800" indent="-25380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Por quê o custo de P2 é maior do que o de P3?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253800" indent="-253800" algn="just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O custo de P2 apresentou uma diferença de </a:t>
            </a: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189%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299880" y="2363760"/>
          <a:ext cx="5662800" cy="14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363760"/>
                    <a:ext cx="5662800" cy="1446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279f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2" dur="1" fill="hold"/>
                                  <p:tgtEl>
                                    <p:spTgt spid="10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étodos Tradicionai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s métodos “tradicionais” normalmente usam bases de rateio relacionadas com o volume de produção, como MOD e horas-máquina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uitos itens de custos importantes variam não de acordo com o volume de produção, mas sim com a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x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do sistema produtiv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ustos da Complexidade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8440" y="1730520"/>
            <a:ext cx="3035160" cy="2293200"/>
            <a:chOff x="298440" y="1730520"/>
            <a:chExt cx="3035160" cy="2293200"/>
          </a:xfrm>
        </p:grpSpPr>
        <p:graphicFrame>
          <p:nvGraphicFramePr>
            <p:cNvPr id="52" name=""/>
            <p:cNvGraphicFramePr/>
            <p:nvPr/>
          </p:nvGraphicFramePr>
          <p:xfrm>
            <a:off x="907920" y="1730520"/>
            <a:ext cx="5968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792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517760" y="1730520"/>
            <a:ext cx="5968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1776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127240" y="1730520"/>
            <a:ext cx="5968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2724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2127240" y="2340000"/>
            <a:ext cx="59688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724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517760" y="2340000"/>
            <a:ext cx="596880" cy="596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1776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907920" y="2340000"/>
            <a:ext cx="596880" cy="59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0792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298440" y="2340000"/>
            <a:ext cx="596880" cy="596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844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2127240" y="2949480"/>
            <a:ext cx="596880" cy="59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2724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517760" y="2949480"/>
            <a:ext cx="596880" cy="59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1776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907920" y="2949480"/>
            <a:ext cx="596880" cy="596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0792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98440" y="2949480"/>
            <a:ext cx="596880" cy="596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736720" y="1730520"/>
            <a:ext cx="596880" cy="596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3672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736720" y="2340000"/>
            <a:ext cx="59688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73672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736720" y="2949480"/>
            <a:ext cx="596880" cy="5968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73672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51200" y="3565440"/>
              <a:ext cx="1488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Fábrica 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298440" y="1730520"/>
            <a:ext cx="596880" cy="596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9844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" name=""/>
          <p:cNvGrpSpPr/>
          <p:nvPr/>
        </p:nvGrpSpPr>
        <p:grpSpPr>
          <a:xfrm>
            <a:off x="298440" y="4245120"/>
            <a:ext cx="3035160" cy="2293200"/>
            <a:chOff x="298440" y="4245120"/>
            <a:chExt cx="3035160" cy="2293200"/>
          </a:xfrm>
        </p:grpSpPr>
        <p:graphicFrame>
          <p:nvGraphicFramePr>
            <p:cNvPr id="84" name=""/>
            <p:cNvGraphicFramePr/>
            <p:nvPr/>
          </p:nvGraphicFramePr>
          <p:xfrm>
            <a:off x="298440" y="4245120"/>
            <a:ext cx="596880" cy="5968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9844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907920" y="4245120"/>
            <a:ext cx="596880" cy="5968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90792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1517760" y="4245120"/>
            <a:ext cx="596880" cy="5968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51776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2127240" y="4245120"/>
            <a:ext cx="596880" cy="5968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12724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2127240" y="4854600"/>
            <a:ext cx="596880" cy="59688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12724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1517760" y="4854600"/>
            <a:ext cx="596880" cy="5968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151776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907920" y="4854600"/>
            <a:ext cx="596880" cy="5968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90792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98440" y="4854600"/>
            <a:ext cx="596880" cy="5968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29844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2127240" y="5464080"/>
            <a:ext cx="596880" cy="5968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212724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1517760" y="5464080"/>
            <a:ext cx="596880" cy="5968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51776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907920" y="5464080"/>
            <a:ext cx="596880" cy="59688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90792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298440" y="5464080"/>
            <a:ext cx="596880" cy="5968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29844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2736720" y="4245120"/>
            <a:ext cx="596880" cy="59688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273672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2736720" y="4854600"/>
            <a:ext cx="596880" cy="59688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273672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736720" y="5464080"/>
            <a:ext cx="596880" cy="59688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273672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1189440" y="6080040"/>
              <a:ext cx="1487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F</a:t>
              </a:r>
              <a:r>
                <a:rPr b="0" lang="en-US" sz="2400" spc="-1" strike="noStrike">
                  <a:solidFill>
                    <a:srgbClr val="438e00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f35b1b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714400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8901f3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7240" y="312408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l fábrica tem maiores custos de movimentação, PCP, preparação de máquinas, controle de materiais, estoques, etc?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29680" indent="-229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or quê?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6480" y="348948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040" y="3413160"/>
            <a:ext cx="148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0040" y="3489480"/>
            <a:ext cx="148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Lógica de Funcionament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8769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tividades consomem recursos, gerando custos, e produtos utilizam as atividades, absorvendo seus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257800"/>
            <a:ext cx="1659240" cy="673200"/>
            <a:chOff x="228600" y="5257800"/>
            <a:chExt cx="1659240" cy="673200"/>
          </a:xfrm>
        </p:grpSpPr>
        <p:sp>
          <p:nvSpPr>
            <p:cNvPr id="122" name=""/>
            <p:cNvSpPr/>
            <p:nvPr/>
          </p:nvSpPr>
          <p:spPr>
            <a:xfrm>
              <a:off x="228600" y="5257800"/>
              <a:ext cx="1599480" cy="673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920" y="5297760"/>
              <a:ext cx="1609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Arial"/>
                </a:rPr>
                <a:t>Produtos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819520" y="5257800"/>
            <a:ext cx="2113560" cy="672840"/>
            <a:chOff x="2819520" y="5257800"/>
            <a:chExt cx="2113560" cy="672840"/>
          </a:xfrm>
        </p:grpSpPr>
        <p:sp>
          <p:nvSpPr>
            <p:cNvPr id="125" name=""/>
            <p:cNvSpPr/>
            <p:nvPr/>
          </p:nvSpPr>
          <p:spPr>
            <a:xfrm>
              <a:off x="2819520" y="5257800"/>
              <a:ext cx="2057400" cy="6728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3520" y="5297400"/>
              <a:ext cx="2059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828800" y="5638680"/>
            <a:ext cx="990720" cy="0"/>
          </a:xfrm>
          <a:prstGeom prst="line">
            <a:avLst/>
          </a:prstGeom>
          <a:ln w="1260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120" y="510552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usam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5638680"/>
            <a:ext cx="1828800" cy="0"/>
          </a:xfrm>
          <a:prstGeom prst="line">
            <a:avLst/>
          </a:prstGeom>
          <a:ln w="1260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0292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consomem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1840" y="5264280"/>
            <a:ext cx="1746360" cy="672840"/>
          </a:xfrm>
          <a:prstGeom prst="rect">
            <a:avLst/>
          </a:prstGeom>
          <a:solidFill>
            <a:srgbClr val="fcfeb9"/>
          </a:solidFill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952880"/>
            <a:ext cx="1904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5800" y="2742840"/>
            <a:ext cx="274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s alo-cados às atividades e, após, a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odelo do ABC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11440" y="3054240"/>
            <a:ext cx="2425680" cy="613440"/>
            <a:chOff x="3511440" y="3054240"/>
            <a:chExt cx="2425680" cy="613440"/>
          </a:xfrm>
        </p:grpSpPr>
        <p:sp>
          <p:nvSpPr>
            <p:cNvPr id="136" name=""/>
            <p:cNvSpPr/>
            <p:nvPr/>
          </p:nvSpPr>
          <p:spPr>
            <a:xfrm>
              <a:off x="3511440" y="305424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92240" y="3087720"/>
              <a:ext cx="145152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3657600"/>
            <a:ext cx="0" cy="838080"/>
          </a:xfrm>
          <a:prstGeom prst="line">
            <a:avLst/>
          </a:prstGeom>
          <a:ln w="38160">
            <a:solidFill>
              <a:srgbClr val="6e00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11440" y="4502160"/>
            <a:ext cx="2425680" cy="613440"/>
            <a:chOff x="3511440" y="4502160"/>
            <a:chExt cx="2425680" cy="613440"/>
          </a:xfrm>
        </p:grpSpPr>
        <p:sp>
          <p:nvSpPr>
            <p:cNvPr id="140" name=""/>
            <p:cNvSpPr/>
            <p:nvPr/>
          </p:nvSpPr>
          <p:spPr>
            <a:xfrm>
              <a:off x="3511440" y="450216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17720" y="4535640"/>
              <a:ext cx="205956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38160">
            <a:solidFill>
              <a:srgbClr val="6e00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11440" y="5950080"/>
            <a:ext cx="2425680" cy="613080"/>
            <a:chOff x="3511440" y="5950080"/>
            <a:chExt cx="2425680" cy="613080"/>
          </a:xfrm>
        </p:grpSpPr>
        <p:sp>
          <p:nvSpPr>
            <p:cNvPr id="144" name=""/>
            <p:cNvSpPr/>
            <p:nvPr/>
          </p:nvSpPr>
          <p:spPr>
            <a:xfrm>
              <a:off x="3511440" y="595008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4040" y="5983200"/>
              <a:ext cx="181116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936320" y="3780000"/>
            <a:ext cx="393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Custeio do Process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37400" y="5227560"/>
            <a:ext cx="406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Custeio dos Produt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- Etap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apeamento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locação dos custos à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Redistribuição dos custos das atividades indiretas às direta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álculo dos custos d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Mapeamento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Atividade é mais detalhada do que centro de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Visão horizontal (process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Detalhamento depende dos objetiv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31T18:40:14Z</dcterms:created>
  <dc:creator>Adrian C. Ferreira</dc:creator>
  <dc:description/>
  <cp:keywords/>
  <dc:language>en-US</dc:language>
  <cp:lastModifiedBy>Rafael</cp:lastModifiedBy>
  <dcterms:modified xsi:type="dcterms:W3CDTF">2009-03-06T01:01:19Z</dcterms:modified>
  <cp:revision>36</cp:revision>
  <dc:subject/>
  <dc:title>CUSTEIO BASEADO EM ATIVIDADES</dc:title>
</cp:coreProperties>
</file>