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20F-739E-46BF-B7F6-03A06DB6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5800" y="4849200"/>
            <a:ext cx="8769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690-50F2-4DBC-A87D-8383F31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5800" y="484920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484920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DA1-4418-49A4-88ED-080BFBD4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281916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281916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5800" y="484920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484920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84920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232-3FCF-4858-946B-4FF7A02C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CA6-4B1F-4722-A51E-630D2AEF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42C-BA5C-4219-BB2A-AF1775B4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37B-D051-422B-9A53-0A74786D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659-1CE6-47AE-A23B-DDC01B8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840" y="533520"/>
            <a:ext cx="5783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F87-127F-4522-BF2D-110C24F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5800" y="484920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C10-533A-456D-8C36-68256FC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484920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B1D-67C0-4FB1-A0C9-7B9DF0C4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800" y="4849200"/>
            <a:ext cx="8769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8BF-8F6B-4741-8CC6-73630E7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EF22CD-9EC6-446B-948E-4D408F84CC3F}" type="slidenum"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1" marL="564480" indent="-217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2" marL="868680" indent="-17352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3" marL="1216080" indent="-17352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4" marL="1563480" indent="-17352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5" marL="1563480" indent="-17352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6" marL="1563480" indent="-17352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672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594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õ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3798720" y="3048120"/>
            <a:ext cx="63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8720" y="3657600"/>
            <a:ext cx="63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31200" y="2257560"/>
            <a:ext cx="7472520" cy="4605840"/>
            <a:chOff x="331200" y="2257560"/>
            <a:chExt cx="7472520" cy="4605840"/>
          </a:xfrm>
        </p:grpSpPr>
        <p:sp>
          <p:nvSpPr>
            <p:cNvPr id="112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5772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9400" y="2895480"/>
              <a:ext cx="4286160" cy="3278160"/>
            </a:xfrm>
            <a:custGeom>
              <a:avLst/>
              <a:gdLst/>
              <a:ahLst/>
              <a:rect l="l" t="t" r="r" b="b"/>
              <a:pathLst>
                <a:path w="2700" h="2065">
                  <a:moveTo>
                    <a:pt x="0" y="0"/>
                  </a:moveTo>
                  <a:lnTo>
                    <a:pt x="0" y="2064"/>
                  </a:lnTo>
                  <a:lnTo>
                    <a:pt x="2699" y="2064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552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2384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1200" y="4238640"/>
              <a:ext cx="7423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2320" y="621972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055520" y="3740040"/>
            <a:ext cx="3510000" cy="2425680"/>
            <a:chOff x="1055520" y="3740040"/>
            <a:chExt cx="3510000" cy="2425680"/>
          </a:xfrm>
        </p:grpSpPr>
        <p:sp>
          <p:nvSpPr>
            <p:cNvPr id="120" name=""/>
            <p:cNvSpPr/>
            <p:nvPr/>
          </p:nvSpPr>
          <p:spPr>
            <a:xfrm>
              <a:off x="1055520" y="3740040"/>
              <a:ext cx="3510000" cy="2425680"/>
            </a:xfrm>
            <a:prstGeom prst="rect">
              <a:avLst/>
            </a:prstGeom>
            <a:solidFill>
              <a:srgbClr val="e7ffe7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5520" y="4502160"/>
              <a:ext cx="2138400" cy="1663560"/>
            </a:xfrm>
            <a:prstGeom prst="rect">
              <a:avLst/>
            </a:prstGeom>
            <a:solidFill>
              <a:srgbClr val="e7ffe7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22440" y="28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73160" y="2909880"/>
            <a:ext cx="3110760" cy="1579680"/>
            <a:chOff x="1073160" y="2909880"/>
            <a:chExt cx="3110760" cy="1579680"/>
          </a:xfrm>
        </p:grpSpPr>
        <p:sp>
          <p:nvSpPr>
            <p:cNvPr id="124" name=""/>
            <p:cNvSpPr/>
            <p:nvPr/>
          </p:nvSpPr>
          <p:spPr>
            <a:xfrm>
              <a:off x="1073160" y="3740040"/>
              <a:ext cx="212076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981080" y="3276360"/>
              <a:ext cx="381240" cy="68580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75440" y="2909880"/>
              <a:ext cx="160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MPpreç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6880" y="4502160"/>
            <a:ext cx="3720240" cy="1663560"/>
            <a:chOff x="3206880" y="4502160"/>
            <a:chExt cx="3720240" cy="1663560"/>
          </a:xfrm>
        </p:grpSpPr>
        <p:sp>
          <p:nvSpPr>
            <p:cNvPr id="128" name=""/>
            <p:cNvSpPr/>
            <p:nvPr/>
          </p:nvSpPr>
          <p:spPr>
            <a:xfrm>
              <a:off x="3206880" y="4502160"/>
              <a:ext cx="1358640" cy="1663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267080" y="4876920"/>
              <a:ext cx="838440" cy="38088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18640" y="4510080"/>
              <a:ext cx="160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MPquant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86200" y="3017880"/>
            <a:ext cx="2017080" cy="1096560"/>
            <a:chOff x="3886200" y="3017880"/>
            <a:chExt cx="2017080" cy="1096560"/>
          </a:xfrm>
        </p:grpSpPr>
        <p:sp>
          <p:nvSpPr>
            <p:cNvPr id="132" name=""/>
            <p:cNvSpPr/>
            <p:nvPr/>
          </p:nvSpPr>
          <p:spPr>
            <a:xfrm flipV="1">
              <a:off x="3886200" y="3352320"/>
              <a:ext cx="1447920" cy="76212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9840" y="301788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e0043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Mist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35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680" y="3476520"/>
            <a:ext cx="6890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57720" y="6219720"/>
            <a:ext cx="57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9400" y="2895480"/>
            <a:ext cx="4286160" cy="3278160"/>
          </a:xfrm>
          <a:custGeom>
            <a:avLst/>
            <a:gdLst/>
            <a:ahLst/>
            <a:rect l="l" t="t" r="r" b="b"/>
            <a:pathLst>
              <a:path w="2700" h="2065">
                <a:moveTo>
                  <a:pt x="0" y="0"/>
                </a:moveTo>
                <a:lnTo>
                  <a:pt x="0" y="2064"/>
                </a:lnTo>
                <a:lnTo>
                  <a:pt x="2699" y="2064"/>
                </a:lnTo>
              </a:path>
            </a:pathLst>
          </a:custGeom>
          <a:noFill/>
          <a:ln cap="rnd" w="12600">
            <a:solidFill>
              <a:srgbClr val="003e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520" y="2257560"/>
            <a:ext cx="12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eç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23840" y="5915160"/>
            <a:ext cx="227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idad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1200" y="4238640"/>
            <a:ext cx="742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2320" y="621972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6880" y="3740040"/>
            <a:ext cx="135864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8240" y="3013200"/>
            <a:ext cx="510408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mista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(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-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. (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960" y="3476520"/>
            <a:ext cx="6890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57720" y="6219720"/>
            <a:ext cx="57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9400" y="2895480"/>
            <a:ext cx="4286160" cy="3278160"/>
          </a:xfrm>
          <a:custGeom>
            <a:avLst/>
            <a:gdLst/>
            <a:ahLst/>
            <a:rect l="l" t="t" r="r" b="b"/>
            <a:pathLst>
              <a:path w="2700" h="2065">
                <a:moveTo>
                  <a:pt x="0" y="0"/>
                </a:moveTo>
                <a:lnTo>
                  <a:pt x="0" y="2064"/>
                </a:lnTo>
                <a:lnTo>
                  <a:pt x="2699" y="2064"/>
                </a:lnTo>
              </a:path>
            </a:pathLst>
          </a:custGeom>
          <a:noFill/>
          <a:ln cap="rnd" w="12600">
            <a:solidFill>
              <a:srgbClr val="003e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5520" y="2257560"/>
            <a:ext cx="12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eç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23840" y="5915160"/>
            <a:ext cx="227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idad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200" y="4238640"/>
            <a:ext cx="742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2320" y="621972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3160" y="3740040"/>
            <a:ext cx="212076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de Preç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57" name=""/>
          <p:cNvSpPr/>
          <p:nvPr/>
        </p:nvSpPr>
        <p:spPr>
          <a:xfrm>
            <a:off x="4849200" y="3241800"/>
            <a:ext cx="416340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reç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(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73160" y="2909880"/>
            <a:ext cx="3492360" cy="1579680"/>
            <a:chOff x="1073160" y="2909880"/>
            <a:chExt cx="3492360" cy="1579680"/>
          </a:xfrm>
        </p:grpSpPr>
        <p:sp>
          <p:nvSpPr>
            <p:cNvPr id="159" name=""/>
            <p:cNvSpPr/>
            <p:nvPr/>
          </p:nvSpPr>
          <p:spPr>
            <a:xfrm>
              <a:off x="2575440" y="2909880"/>
              <a:ext cx="160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MPpreç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3160" y="3740040"/>
              <a:ext cx="349236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981080" y="3276360"/>
              <a:ext cx="381240" cy="68580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73160" y="2562120"/>
            <a:ext cx="3492360" cy="1927440"/>
            <a:chOff x="1073160" y="2562120"/>
            <a:chExt cx="3492360" cy="1927440"/>
          </a:xfrm>
        </p:grpSpPr>
        <p:sp>
          <p:nvSpPr>
            <p:cNvPr id="164" name=""/>
            <p:cNvSpPr/>
            <p:nvPr/>
          </p:nvSpPr>
          <p:spPr>
            <a:xfrm>
              <a:off x="1073160" y="3740040"/>
              <a:ext cx="349236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91000" y="2562120"/>
              <a:ext cx="13791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MP</a:t>
              </a:r>
              <a:r>
                <a:rPr b="0" lang="en-US" sz="3200" spc="-1" strike="noStrike" baseline="-25000">
                  <a:solidFill>
                    <a:srgbClr val="081d58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27440" y="3195360"/>
              <a:ext cx="366480" cy="8492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31200" y="2257560"/>
            <a:ext cx="7472520" cy="4605840"/>
            <a:chOff x="331200" y="2257560"/>
            <a:chExt cx="7472520" cy="4605840"/>
          </a:xfrm>
        </p:grpSpPr>
        <p:sp>
          <p:nvSpPr>
            <p:cNvPr id="169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5772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9400" y="2895480"/>
              <a:ext cx="4286160" cy="3278160"/>
            </a:xfrm>
            <a:custGeom>
              <a:avLst/>
              <a:gdLst/>
              <a:ahLst/>
              <a:rect l="l" t="t" r="r" b="b"/>
              <a:pathLst>
                <a:path w="2700" h="2065">
                  <a:moveTo>
                    <a:pt x="0" y="0"/>
                  </a:moveTo>
                  <a:lnTo>
                    <a:pt x="0" y="2064"/>
                  </a:lnTo>
                  <a:lnTo>
                    <a:pt x="2699" y="2064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552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384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1200" y="4238640"/>
              <a:ext cx="7423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2320" y="621972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06880" y="4502160"/>
            <a:ext cx="3911760" cy="1663560"/>
            <a:chOff x="3206880" y="4502160"/>
            <a:chExt cx="3911760" cy="1663560"/>
          </a:xfrm>
        </p:grpSpPr>
        <p:sp>
          <p:nvSpPr>
            <p:cNvPr id="177" name=""/>
            <p:cNvSpPr/>
            <p:nvPr/>
          </p:nvSpPr>
          <p:spPr>
            <a:xfrm>
              <a:off x="3206880" y="4502160"/>
              <a:ext cx="1358640" cy="1663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38040" y="4619520"/>
              <a:ext cx="13806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MP</a:t>
              </a:r>
              <a:r>
                <a:rPr b="0" lang="en-US" sz="3200" spc="-1" strike="noStrike" baseline="-25000">
                  <a:solidFill>
                    <a:srgbClr val="081d58"/>
                  </a:solidFill>
                  <a:latin typeface="Arial"/>
                </a:rPr>
                <a:t>quant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046400" y="5100480"/>
              <a:ext cx="1586160" cy="2397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ões de Matéria-Prim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 empresa </a:t>
            </a:r>
            <a:r>
              <a:rPr b="0" i="1" lang="en-US" sz="3200" spc="-1" strike="noStrike">
                <a:solidFill>
                  <a:srgbClr val="003e00"/>
                </a:solidFill>
                <a:latin typeface="Arial"/>
              </a:rPr>
              <a:t>Matéria Ltda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estabeleceu os seguintes padrões para matéria-prima e mão-de-obra direta: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: 2 m/un a $4/m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OD: 1,5 horas/un a $5/h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 produção do período foi 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100.0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unidades. Para isso, foram utilizados 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220.000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 de MP e 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160.0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horas de MOD. O custo de MOD foi $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784.000,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urante o período, foram comprados 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100.0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m de MP, ao custo total de $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405.000,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ede-se: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terminar as variações de MP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terminar as variações de MOD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 empresa X fabrica dois produtos (A e B) e usa o método do custo-padrão para controlar seus custos de MP. Na fabricação do produto A, é usada 1 unidade de MP, enquanto que na fabricação do produto B despendem-se 2 unidades de MP. O custo padrão da MP é $20/un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Em um período, a empresa fabricou 200 produtos A e 300 produtos B. Neste período, foram compradas 900 unidades de MP, a um custo total de $19.800,00 e foram utilizadas 820 unidades de MP. 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terminar as variações de MP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4120" y="3200400"/>
            <a:ext cx="40402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81d58"/>
                </a:solidFill>
                <a:latin typeface="Brush Script MT"/>
              </a:rPr>
              <a:t>Custo padrão</a:t>
            </a:r>
            <a:endParaRPr b="0" lang="en-US" sz="4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62200" y="4659480"/>
            <a:ext cx="4814640" cy="954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328680" indent="-328680" algn="ctr">
              <a:spcBef>
                <a:spcPts val="22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en-US" sz="3600" spc="-1" strike="noStrike">
                <a:solidFill>
                  <a:srgbClr val="081d58"/>
                </a:solidFill>
                <a:latin typeface="Arial"/>
              </a:rPr>
              <a:t>Custos para controle</a:t>
            </a:r>
            <a:endParaRPr b="0" lang="en-US" sz="3600" spc="-1" strike="noStrike">
              <a:solidFill>
                <a:srgbClr val="003e00"/>
              </a:solidFill>
              <a:latin typeface="Arial"/>
            </a:endParaRPr>
          </a:p>
          <a:p>
            <a:pPr marL="328680" indent="-328680" algn="ctr">
              <a:spcBef>
                <a:spcPts val="22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600" spc="-1" strike="noStrike">
              <a:solidFill>
                <a:srgbClr val="003e00"/>
              </a:solidFill>
              <a:latin typeface="Arial"/>
            </a:endParaRPr>
          </a:p>
          <a:p>
            <a:pPr marL="328680" indent="-328680" algn="ctr">
              <a:spcBef>
                <a:spcPts val="22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6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ontrol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360" y="1752480"/>
            <a:ext cx="7549920" cy="4572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08880" indent="0">
              <a:spcBef>
                <a:spcPts val="193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No que consiste o controle?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2713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Fixar um referencial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2713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Conhecer a realidade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Compará-la com o padrão, obtendo </a:t>
            </a:r>
            <a:r>
              <a:rPr b="0" lang="en-US" sz="3100" spc="-1" strike="noStrike">
                <a:solidFill>
                  <a:srgbClr val="6e0043"/>
                </a:solidFill>
                <a:latin typeface="Arial"/>
              </a:rPr>
              <a:t>rapidamente</a:t>
            </a: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 os desvios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Determinar </a:t>
            </a:r>
            <a:r>
              <a:rPr b="0" lang="en-US" sz="3100" spc="-1" strike="noStrike">
                <a:solidFill>
                  <a:srgbClr val="6e0043"/>
                </a:solidFill>
                <a:latin typeface="Arial"/>
              </a:rPr>
              <a:t>prontamente</a:t>
            </a: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 as causas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6e0043"/>
                </a:solidFill>
                <a:latin typeface="Arial"/>
              </a:rPr>
              <a:t>Rápida</a:t>
            </a: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 ação corretiva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 Padrã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08880" indent="0">
              <a:spcBef>
                <a:spcPts val="193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O método do custo padrão vai: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2713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Fixar um custo padrão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2713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Determinar o custo real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Levantar a variação (desvio)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Analisar a variação, auxiliando na procura pelas causas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Padrão de Matéria-Prim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1" name=""/>
          <p:cNvSpPr/>
          <p:nvPr/>
        </p:nvSpPr>
        <p:spPr>
          <a:xfrm>
            <a:off x="5543280" y="3927600"/>
            <a:ext cx="273240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9400" y="3200400"/>
            <a:ext cx="4286160" cy="2973240"/>
          </a:xfrm>
          <a:custGeom>
            <a:avLst/>
            <a:gdLst/>
            <a:ahLst/>
            <a:rect l="l" t="t" r="r" b="b"/>
            <a:pathLst>
              <a:path w="2700" h="1873">
                <a:moveTo>
                  <a:pt x="0" y="0"/>
                </a:moveTo>
                <a:lnTo>
                  <a:pt x="0" y="1872"/>
                </a:lnTo>
                <a:lnTo>
                  <a:pt x="2699" y="1872"/>
                </a:lnTo>
              </a:path>
            </a:pathLst>
          </a:custGeom>
          <a:noFill/>
          <a:ln cap="rnd" w="12600">
            <a:solidFill>
              <a:srgbClr val="003e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26000" y="5915160"/>
            <a:ext cx="227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idad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6240" y="2638440"/>
            <a:ext cx="12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eç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2320" y="621972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1200" y="4238640"/>
            <a:ext cx="742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Reais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e MP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9" name=""/>
          <p:cNvSpPr/>
          <p:nvPr/>
        </p:nvSpPr>
        <p:spPr>
          <a:xfrm>
            <a:off x="5839920" y="4079880"/>
            <a:ext cx="257256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6240" y="2257560"/>
            <a:ext cx="7199640" cy="4233960"/>
            <a:chOff x="606240" y="2257560"/>
            <a:chExt cx="7199640" cy="4233960"/>
          </a:xfrm>
        </p:grpSpPr>
        <p:sp>
          <p:nvSpPr>
            <p:cNvPr id="61" name=""/>
            <p:cNvSpPr/>
            <p:nvPr/>
          </p:nvSpPr>
          <p:spPr>
            <a:xfrm>
              <a:off x="1049400" y="2971800"/>
              <a:ext cx="4286160" cy="3201840"/>
            </a:xfrm>
            <a:custGeom>
              <a:avLst/>
              <a:gdLst/>
              <a:ahLst/>
              <a:rect l="l" t="t" r="r" b="b"/>
              <a:pathLst>
                <a:path w="2700" h="2017">
                  <a:moveTo>
                    <a:pt x="0" y="0"/>
                  </a:moveTo>
                  <a:lnTo>
                    <a:pt x="0" y="2016"/>
                  </a:lnTo>
                  <a:lnTo>
                    <a:pt x="2699" y="2016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624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2600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99960" y="3476520"/>
            <a:ext cx="4454640" cy="3386880"/>
            <a:chOff x="399960" y="3476520"/>
            <a:chExt cx="4454640" cy="3386880"/>
          </a:xfrm>
        </p:grpSpPr>
        <p:sp>
          <p:nvSpPr>
            <p:cNvPr id="65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824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de Matéria-Prim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5709960" y="4232160"/>
            <a:ext cx="305748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- 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6240" y="2257560"/>
            <a:ext cx="7199640" cy="4233960"/>
            <a:chOff x="606240" y="2257560"/>
            <a:chExt cx="7199640" cy="4233960"/>
          </a:xfrm>
        </p:grpSpPr>
        <p:sp>
          <p:nvSpPr>
            <p:cNvPr id="71" name=""/>
            <p:cNvSpPr/>
            <p:nvPr/>
          </p:nvSpPr>
          <p:spPr>
            <a:xfrm>
              <a:off x="1049400" y="2895480"/>
              <a:ext cx="4286160" cy="3278160"/>
            </a:xfrm>
            <a:custGeom>
              <a:avLst/>
              <a:gdLst/>
              <a:ahLst/>
              <a:rect l="l" t="t" r="r" b="b"/>
              <a:pathLst>
                <a:path w="2700" h="2065">
                  <a:moveTo>
                    <a:pt x="0" y="0"/>
                  </a:moveTo>
                  <a:lnTo>
                    <a:pt x="0" y="2064"/>
                  </a:lnTo>
                  <a:lnTo>
                    <a:pt x="2699" y="2064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624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600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59640" y="3476520"/>
            <a:ext cx="4568040" cy="3386880"/>
            <a:chOff x="359640" y="3476520"/>
            <a:chExt cx="4568040" cy="3386880"/>
          </a:xfrm>
        </p:grpSpPr>
        <p:sp>
          <p:nvSpPr>
            <p:cNvPr id="75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5132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9640" y="4238640"/>
              <a:ext cx="7423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4040" y="621972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de Preç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1200" y="2257560"/>
            <a:ext cx="7472520" cy="4605840"/>
            <a:chOff x="331200" y="2257560"/>
            <a:chExt cx="7472520" cy="4605840"/>
          </a:xfrm>
        </p:grpSpPr>
        <p:sp>
          <p:nvSpPr>
            <p:cNvPr id="83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5772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49400" y="2895480"/>
              <a:ext cx="4286160" cy="3278160"/>
            </a:xfrm>
            <a:custGeom>
              <a:avLst/>
              <a:gdLst/>
              <a:ahLst/>
              <a:rect l="l" t="t" r="r" b="b"/>
              <a:pathLst>
                <a:path w="2700" h="2065">
                  <a:moveTo>
                    <a:pt x="0" y="0"/>
                  </a:moveTo>
                  <a:lnTo>
                    <a:pt x="0" y="2064"/>
                  </a:lnTo>
                  <a:lnTo>
                    <a:pt x="2699" y="2064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624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2384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1200" y="4238640"/>
              <a:ext cx="7423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2320" y="621972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3160" y="3740040"/>
            <a:ext cx="212076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15360" y="3241800"/>
            <a:ext cx="421668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reç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(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de Quant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5" name=""/>
          <p:cNvSpPr/>
          <p:nvPr/>
        </p:nvSpPr>
        <p:spPr>
          <a:xfrm>
            <a:off x="3798720" y="3048120"/>
            <a:ext cx="63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98720" y="3657600"/>
            <a:ext cx="63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960" y="3476520"/>
            <a:ext cx="6890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6219720"/>
            <a:ext cx="57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9400" y="2895480"/>
            <a:ext cx="4286160" cy="3278160"/>
          </a:xfrm>
          <a:custGeom>
            <a:avLst/>
            <a:gdLst/>
            <a:ahLst/>
            <a:rect l="l" t="t" r="r" b="b"/>
            <a:pathLst>
              <a:path w="2700" h="2065">
                <a:moveTo>
                  <a:pt x="0" y="0"/>
                </a:moveTo>
                <a:lnTo>
                  <a:pt x="0" y="2064"/>
                </a:lnTo>
                <a:lnTo>
                  <a:pt x="2699" y="2064"/>
                </a:lnTo>
              </a:path>
            </a:pathLst>
          </a:custGeom>
          <a:noFill/>
          <a:ln cap="rnd" w="12600">
            <a:solidFill>
              <a:srgbClr val="003e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6240" y="2257560"/>
            <a:ext cx="12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eç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23840" y="5915160"/>
            <a:ext cx="227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idad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1200" y="4238640"/>
            <a:ext cx="742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2320" y="621972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6880" y="4502160"/>
            <a:ext cx="1358640" cy="1663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03920" y="3241800"/>
            <a:ext cx="423216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quant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(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8T06:46:00Z</dcterms:created>
  <dc:creator>Adrian C. Ferreira</dc:creator>
  <dc:description/>
  <cp:keywords/>
  <dc:language>en-US</dc:language>
  <cp:lastModifiedBy>Rafael</cp:lastModifiedBy>
  <cp:lastPrinted>1997-08-14T21:52:50Z</cp:lastPrinted>
  <dcterms:modified xsi:type="dcterms:W3CDTF">2009-03-06T01:01:23Z</dcterms:modified>
  <cp:revision>18529</cp:revision>
  <dc:subject/>
  <dc:title>CUSTEIO BASEADO EM ATIVIDADES</dc:title>
</cp:coreProperties>
</file>