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lick to move the slid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5800" y="4922280"/>
            <a:ext cx="876924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580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932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10760" y="297180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5720" y="297180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5800" y="492228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10760" y="492228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5720" y="492228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0200" y="533520"/>
            <a:ext cx="50212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580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932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5800" y="4922280"/>
            <a:ext cx="876924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1" marL="542160" indent="-2084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2" marL="834120" indent="-16668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3" marL="1167840" indent="-16668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4" marL="1501560" indent="-16668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5" marL="1501560" indent="-16668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6" marL="1501560" indent="-16668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46880" y="1440"/>
            <a:ext cx="1778040" cy="2376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13200" y="65833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279f"/>
                </a:solidFill>
                <a:latin typeface="Arial"/>
              </a:rPr>
              <a:t>Antonio Cezar Bornia</a:t>
            </a:r>
            <a:endParaRPr b="0" lang="en-US" sz="1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ritérios para Avaliação de Estoques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73080" y="2971800"/>
            <a:ext cx="4284720" cy="3336840"/>
            <a:chOff x="-73080" y="2971800"/>
            <a:chExt cx="4284720" cy="3336840"/>
          </a:xfrm>
        </p:grpSpPr>
        <p:sp>
          <p:nvSpPr>
            <p:cNvPr id="206" name=""/>
            <p:cNvSpPr/>
            <p:nvPr/>
          </p:nvSpPr>
          <p:spPr>
            <a:xfrm>
              <a:off x="1736640" y="3668400"/>
              <a:ext cx="1055880" cy="1963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9320" y="4221000"/>
              <a:ext cx="58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2000" y="5330520"/>
              <a:ext cx="180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7040" y="563220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7040" y="575604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09800" y="5352840"/>
              <a:ext cx="10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4960" y="533844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862440" y="5354640"/>
              <a:ext cx="144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7040" y="41590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92520" y="41590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779800"/>
              <a:ext cx="421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Inicial de MP = 3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Final de MP = 400 un</a:t>
              </a:r>
              <a:r>
                <a:rPr b="0" lang="pt-BR" sz="21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2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-73080" y="3720960"/>
              <a:ext cx="1922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Compras de MP 9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82920" y="3727440"/>
              <a:ext cx="1725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MP utilizada 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8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14200" y="2971800"/>
              <a:ext cx="25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279f"/>
                  </a:solidFill>
                  <a:latin typeface="Times New Roman"/>
                </a:rPr>
                <a:t>Unidades Físic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500720" y="2997360"/>
            <a:ext cx="4776480" cy="3310920"/>
            <a:chOff x="4500720" y="2997360"/>
            <a:chExt cx="4776480" cy="3310920"/>
          </a:xfrm>
        </p:grpSpPr>
        <p:sp>
          <p:nvSpPr>
            <p:cNvPr id="221" name=""/>
            <p:cNvSpPr/>
            <p:nvPr/>
          </p:nvSpPr>
          <p:spPr>
            <a:xfrm>
              <a:off x="6234120" y="3692520"/>
              <a:ext cx="1055520" cy="19634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4500720" y="2997360"/>
              <a:ext cx="4776480" cy="3310920"/>
              <a:chOff x="4500720" y="2997360"/>
              <a:chExt cx="4776480" cy="331092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0" y="4244760"/>
                <a:ext cx="58572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89480" y="5354640"/>
                <a:ext cx="180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94160" y="565632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94160" y="578016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307280" y="5376960"/>
                <a:ext cx="10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302080" y="536256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359920" y="5378400"/>
                <a:ext cx="1440" cy="40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94160" y="418284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89640" y="4182840"/>
                <a:ext cx="10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76720" y="5780160"/>
                <a:ext cx="410364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Inicial de MP = $3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Final de MP = $5.5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00720" y="3801960"/>
                <a:ext cx="170316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ompras de MP $13.5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08720" y="3751200"/>
                <a:ext cx="196848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ustos de MP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$11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8360" y="2997360"/>
                <a:ext cx="3095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279f"/>
                    </a:solidFill>
                    <a:latin typeface="Times New Roman"/>
                  </a:rPr>
                  <a:t>Unidades Monetária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216000" y="1916280"/>
            <a:ext cx="70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279f"/>
                </a:solidFill>
                <a:latin typeface="Times New Roman"/>
              </a:rPr>
              <a:t>Custo Médio (CM)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ritérios para Avaliação de Estoques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73080" y="2971800"/>
            <a:ext cx="4284720" cy="3336840"/>
            <a:chOff x="-73080" y="2971800"/>
            <a:chExt cx="4284720" cy="3336840"/>
          </a:xfrm>
        </p:grpSpPr>
        <p:sp>
          <p:nvSpPr>
            <p:cNvPr id="241" name=""/>
            <p:cNvSpPr/>
            <p:nvPr/>
          </p:nvSpPr>
          <p:spPr>
            <a:xfrm>
              <a:off x="1736640" y="3668400"/>
              <a:ext cx="1055880" cy="1963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49320" y="4221000"/>
              <a:ext cx="58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2000" y="5330520"/>
              <a:ext cx="180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7040" y="563220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7040" y="575604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09800" y="5352840"/>
              <a:ext cx="10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4960" y="533844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62440" y="5354640"/>
              <a:ext cx="144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7040" y="41590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92520" y="41590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5779800"/>
              <a:ext cx="421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Inicial de MP = 3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Final de MP = 400 un</a:t>
              </a:r>
              <a:r>
                <a:rPr b="0" lang="pt-BR" sz="21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2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-73080" y="3720960"/>
              <a:ext cx="1922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Compras de MP 9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82920" y="3727440"/>
              <a:ext cx="1725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MP utilizada 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8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14200" y="2971800"/>
              <a:ext cx="25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279f"/>
                  </a:solidFill>
                  <a:latin typeface="Times New Roman"/>
                </a:rPr>
                <a:t>Unidades Físic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500720" y="2997360"/>
            <a:ext cx="4776480" cy="3310920"/>
            <a:chOff x="4500720" y="2997360"/>
            <a:chExt cx="4776480" cy="3310920"/>
          </a:xfrm>
        </p:grpSpPr>
        <p:sp>
          <p:nvSpPr>
            <p:cNvPr id="256" name=""/>
            <p:cNvSpPr/>
            <p:nvPr/>
          </p:nvSpPr>
          <p:spPr>
            <a:xfrm>
              <a:off x="6234120" y="3692520"/>
              <a:ext cx="1055520" cy="19634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500720" y="2997360"/>
              <a:ext cx="4776480" cy="3310920"/>
              <a:chOff x="4500720" y="2997360"/>
              <a:chExt cx="4776480" cy="3310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346800" y="4244760"/>
                <a:ext cx="58572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289480" y="5354640"/>
                <a:ext cx="180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94160" y="565632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94160" y="578016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07280" y="5376960"/>
                <a:ext cx="10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02080" y="536256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8359920" y="5378400"/>
                <a:ext cx="1440" cy="40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94160" y="418284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89640" y="4182840"/>
                <a:ext cx="10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076720" y="5780160"/>
                <a:ext cx="410364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Inicial de MP = $3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Final de MP = $8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00720" y="3801960"/>
                <a:ext cx="170316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ompras de MP $13.5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308720" y="3751200"/>
                <a:ext cx="196848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ustos de MP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$16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2997360"/>
                <a:ext cx="3095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279f"/>
                    </a:solidFill>
                    <a:latin typeface="Times New Roman"/>
                  </a:rPr>
                  <a:t>Unidades Monetária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216000" y="1916280"/>
            <a:ext cx="70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79f"/>
                </a:solidFill>
                <a:latin typeface="Times New Roman"/>
              </a:rPr>
              <a:t>Custo de Reposição (CR)</a:t>
            </a:r>
            <a:r>
              <a:rPr b="0" lang="pt-BR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ritérios para Avaliação de Estoques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75" name=""/>
          <p:cNvSpPr/>
          <p:nvPr/>
        </p:nvSpPr>
        <p:spPr>
          <a:xfrm>
            <a:off x="108000" y="2492280"/>
            <a:ext cx="91440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79f"/>
                </a:solidFill>
                <a:latin typeface="Times New Roman"/>
              </a:rPr>
              <a:t>Critério mais adequado sob o ponto de vista gerencial: Custo de Reposição.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79f"/>
                </a:solidFill>
                <a:latin typeface="Times New Roman"/>
              </a:rPr>
              <a:t>Critério determinado pela legislação brasileira: PEPS ou Custo Médio. 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79f"/>
                </a:solidFill>
                <a:latin typeface="Times New Roman"/>
              </a:rPr>
              <a:t>Critério mais utilizado pelas empresas: Custo Médi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usteio por Ordem e Custeio por Processo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79" name=""/>
          <p:cNvSpPr/>
          <p:nvPr/>
        </p:nvSpPr>
        <p:spPr>
          <a:xfrm>
            <a:off x="108000" y="24922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79f"/>
                </a:solidFill>
                <a:latin typeface="Times New Roman"/>
              </a:rPr>
              <a:t>Categorias mais utilizadas para classificar os sistemas de custos: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279f"/>
                </a:solidFill>
                <a:latin typeface="Times New Roman"/>
              </a:rPr>
              <a:t>Custeio por Ordem.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279f"/>
                </a:solidFill>
                <a:latin typeface="Times New Roman"/>
              </a:rPr>
              <a:t>Custeio por Processo.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usteio por Ordem e Custeio por Processo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83" name=""/>
          <p:cNvSpPr/>
          <p:nvPr/>
        </p:nvSpPr>
        <p:spPr>
          <a:xfrm>
            <a:off x="108000" y="23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279f"/>
                </a:solidFill>
                <a:latin typeface="Times New Roman"/>
              </a:rPr>
              <a:t>Custeio por Ordem.</a:t>
            </a:r>
            <a:endParaRPr b="0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68360" y="3483000"/>
            <a:ext cx="8424720" cy="1746360"/>
            <a:chOff x="468360" y="3483000"/>
            <a:chExt cx="8424720" cy="1746360"/>
          </a:xfrm>
        </p:grpSpPr>
        <p:sp>
          <p:nvSpPr>
            <p:cNvPr id="285" name=""/>
            <p:cNvSpPr/>
            <p:nvPr/>
          </p:nvSpPr>
          <p:spPr>
            <a:xfrm>
              <a:off x="6775560" y="3483000"/>
              <a:ext cx="2117520" cy="1746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62840" y="4044960"/>
              <a:ext cx="182880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Times New Roman"/>
                </a:rPr>
                <a:t>Produtos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8360" y="3586320"/>
              <a:ext cx="1995480" cy="15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5640" y="4062240"/>
              <a:ext cx="13921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Book Antiqua"/>
                </a:rPr>
                <a:t>Custos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3586320"/>
              <a:ext cx="2198880" cy="153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35280" y="3780000"/>
              <a:ext cx="2089080" cy="13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Book Antiqua"/>
                </a:rPr>
                <a:t>Ordens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Book Antiqua"/>
                </a:rPr>
                <a:t>específicas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63840" y="4408560"/>
              <a:ext cx="10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9240" y="4408560"/>
              <a:ext cx="9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6788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usteio por Ordem e Custeio por Processo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6" name=""/>
          <p:cNvSpPr/>
          <p:nvPr/>
        </p:nvSpPr>
        <p:spPr>
          <a:xfrm>
            <a:off x="108000" y="2276640"/>
            <a:ext cx="91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pt-BR" sz="3400" spc="-1" strike="noStrike">
                <a:solidFill>
                  <a:srgbClr val="00279f"/>
                </a:solidFill>
                <a:latin typeface="Times New Roman"/>
              </a:rPr>
              <a:t>O Custeio por Ordem é mais adequado a empresas que atuam sob encomenda, pela necessidade de acompanhar individualmente os produtos.</a:t>
            </a:r>
            <a:endParaRPr b="0" lang="en-US" sz="3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92360" y="45086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4"/>
                </a:solidFill>
                <a:latin typeface="Times New Roman"/>
              </a:rPr>
              <a:t>Custos diretos = MP + MOD</a:t>
            </a:r>
            <a:r>
              <a:rPr b="0" lang="pt-BR" sz="2400" spc="-1" strike="noStrike">
                <a:solidFill>
                  <a:srgbClr val="0000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836720" y="5373720"/>
                <a:ext cx="44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IF orçad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ras de MOD previst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usteio por Ordem e Custeio por Processo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01" name=""/>
          <p:cNvSpPr/>
          <p:nvPr/>
        </p:nvSpPr>
        <p:spPr>
          <a:xfrm>
            <a:off x="108000" y="23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279f"/>
                </a:solidFill>
                <a:latin typeface="Times New Roman"/>
              </a:rPr>
              <a:t>Custeio por Processo.</a:t>
            </a:r>
            <a:endParaRPr b="0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68360" y="3213000"/>
            <a:ext cx="8424720" cy="1746360"/>
            <a:chOff x="468360" y="3213000"/>
            <a:chExt cx="8424720" cy="1746360"/>
          </a:xfrm>
        </p:grpSpPr>
        <p:sp>
          <p:nvSpPr>
            <p:cNvPr id="303" name=""/>
            <p:cNvSpPr/>
            <p:nvPr/>
          </p:nvSpPr>
          <p:spPr>
            <a:xfrm>
              <a:off x="6775560" y="3213000"/>
              <a:ext cx="2117520" cy="1746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05600" y="3803400"/>
              <a:ext cx="18288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Times New Roman"/>
                </a:rPr>
                <a:t>Produtos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360" y="3316320"/>
              <a:ext cx="1995480" cy="15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5640" y="3763800"/>
              <a:ext cx="13921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Book Antiqua"/>
                </a:rPr>
                <a:t>Custos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81280" y="3316320"/>
              <a:ext cx="2198880" cy="153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7360" y="3357360"/>
              <a:ext cx="2089080" cy="13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Book Antiqua"/>
                </a:rPr>
                <a:t>Processo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63840" y="4138560"/>
              <a:ext cx="10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99240" y="4138560"/>
              <a:ext cx="9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0920" y="5084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79f"/>
                </a:solidFill>
                <a:latin typeface="Times New Roman"/>
              </a:rPr>
              <a:t>Adequado a empresas que trabalham com produção intermitente e contínua e produtos padronizados, nas quais pode-se empregar o Custo Médio de um conjunto de produtos.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62064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Custos Conjuntos</a:t>
            </a:r>
            <a:endParaRPr b="0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2782800"/>
            <a:ext cx="889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79f"/>
                </a:solidFill>
                <a:latin typeface="Times New Roman"/>
              </a:rPr>
              <a:t>Produção conjunta: produção na qual os produtos somente são separáveis ao final do processamento.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79f"/>
                </a:solidFill>
                <a:latin typeface="Times New Roman"/>
              </a:rPr>
              <a:t>Custos conjuntos: valor dos insumos utilizados na produção conjunta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8360" y="2852640"/>
            <a:ext cx="7990920" cy="3529080"/>
            <a:chOff x="468360" y="2852640"/>
            <a:chExt cx="7990920" cy="3529080"/>
          </a:xfrm>
        </p:grpSpPr>
        <p:grpSp>
          <p:nvGrpSpPr>
            <p:cNvPr id="317" name=""/>
            <p:cNvGrpSpPr/>
            <p:nvPr/>
          </p:nvGrpSpPr>
          <p:grpSpPr>
            <a:xfrm>
              <a:off x="468360" y="2852640"/>
              <a:ext cx="7990920" cy="3137040"/>
              <a:chOff x="468360" y="2852640"/>
              <a:chExt cx="7990920" cy="313704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468360" y="2852640"/>
                <a:ext cx="7990920" cy="3137040"/>
                <a:chOff x="468360" y="2852640"/>
                <a:chExt cx="7990920" cy="31370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769040" y="3861000"/>
                  <a:ext cx="1858320" cy="11203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300280" y="2852640"/>
                  <a:ext cx="1858320" cy="11203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300280" y="4869360"/>
                  <a:ext cx="1858320" cy="11203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627720" y="4365000"/>
                  <a:ext cx="92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556880" y="5373360"/>
                  <a:ext cx="74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556880" y="3356640"/>
                  <a:ext cx="74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56880" y="3356640"/>
                  <a:ext cx="0" cy="201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457160" y="4278600"/>
                  <a:ext cx="185760" cy="16776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68360" y="4448880"/>
                  <a:ext cx="1300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158600" y="3440520"/>
                  <a:ext cx="1300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158600" y="5457240"/>
                  <a:ext cx="1300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1954800" y="4028760"/>
                <a:ext cx="1486440" cy="84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ustos Conjunto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82720" y="3020400"/>
                <a:ext cx="1589760" cy="84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ustos Adicionai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56800" y="4959360"/>
                <a:ext cx="1589760" cy="84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ustos Adicionai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627360" y="4365720"/>
              <a:ext cx="930240" cy="1176120"/>
            </a:xfrm>
            <a:custGeom>
              <a:avLst/>
              <a:gdLst/>
              <a:ahLst/>
              <a:rect l="l" t="t" r="r" b="b"/>
              <a:pathLst>
                <a:path w="720" h="1008">
                  <a:moveTo>
                    <a:pt x="720" y="0"/>
                  </a:moveTo>
                  <a:lnTo>
                    <a:pt x="288" y="720"/>
                  </a:lnTo>
                  <a:lnTo>
                    <a:pt x="288" y="576"/>
                  </a:lnTo>
                  <a:lnTo>
                    <a:pt x="0" y="10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98920" y="5541840"/>
              <a:ext cx="185868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Ponto de Separaçã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042920" y="62064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Custos Conjuntos</a:t>
            </a:r>
            <a:endParaRPr b="0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2376360"/>
            <a:ext cx="8785440" cy="40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279f"/>
                </a:solidFill>
                <a:latin typeface="Times New Roman"/>
              </a:rPr>
              <a:t>Exemplo 10.1 - Uma empresa de azulejos produz um único produto. Porém, no processo, surgem 3 qualidades, nas seguintes proporções: 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  <a:p>
            <a:pPr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279f"/>
                </a:solidFill>
                <a:latin typeface="Times New Roman"/>
              </a:rPr>
              <a:t>50 % de primeira (Extra), 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  <a:p>
            <a:pPr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279f"/>
                </a:solidFill>
                <a:latin typeface="Times New Roman"/>
              </a:rPr>
              <a:t>30% de segunda (Comercial) e 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  <a:p>
            <a:pPr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279f"/>
                </a:solidFill>
                <a:latin typeface="Times New Roman"/>
              </a:rPr>
              <a:t>20% de terceira. (Refugo). 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  <a:p>
            <a:pPr algn="just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279f"/>
                </a:solidFill>
                <a:latin typeface="Times New Roman"/>
              </a:rPr>
              <a:t>Os produtos extra, comercial e refugo são vendidos pelos seguintes preços unitários: $0,80/un, $0,30/un e $0,05/un, respectivamente. Num determinado período, foram fabricados 10.000 azulejos. O custo (conjunto) total foi $4.000,00. 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62064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Custos Conjuntos</a:t>
            </a:r>
            <a:endParaRPr b="0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560" y="3006720"/>
            <a:ext cx="7931160" cy="12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i="1" lang="pt-PT" sz="4400" spc="-1" strike="noStrike">
                <a:solidFill>
                  <a:srgbClr val="000000"/>
                </a:solidFill>
                <a:latin typeface="Bookman Old Style"/>
              </a:rPr>
              <a:t>CUSTOS :</a:t>
            </a:r>
            <a:br>
              <a:rPr sz="4400"/>
            </a:br>
            <a:r>
              <a:rPr b="1" i="1" lang="pt-PT" sz="4400" spc="-1" strike="noStrike">
                <a:solidFill>
                  <a:srgbClr val="000000"/>
                </a:solidFill>
                <a:latin typeface="Bookman Old Style"/>
              </a:rPr>
              <a:t> CONCEITOS ADICIONAIS</a:t>
            </a:r>
            <a:br>
              <a:rPr sz="4400"/>
            </a:b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9280" y="1963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79f"/>
                </a:solidFill>
                <a:latin typeface="Times New Roman"/>
              </a:rPr>
              <a:t>Método da unidade física</a:t>
            </a:r>
            <a:r>
              <a:rPr b="0" lang="pt-BR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-1405080" y="3311640"/>
            <a:ext cx="12025440" cy="26287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042920" y="47628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Custos Conjuntos</a:t>
            </a:r>
            <a:endParaRPr b="0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1963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79f"/>
                </a:solidFill>
                <a:latin typeface="Times New Roman"/>
              </a:rPr>
              <a:t>Método do valor de mercado</a:t>
            </a:r>
            <a:r>
              <a:rPr b="0" lang="pt-BR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-181080" y="3159000"/>
            <a:ext cx="10801440" cy="25750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42920" y="47628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Custos Conjuntos</a:t>
            </a:r>
            <a:endParaRPr b="0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95120" y="2555640"/>
            <a:ext cx="8769600" cy="3105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2251"/>
              </a:spcBef>
              <a:buClr>
                <a:srgbClr val="081d58"/>
              </a:buClr>
              <a:buSzPct val="75000"/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ritérios para avaliação de estoques. </a:t>
            </a:r>
            <a:endParaRPr b="0" lang="en-US" sz="36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2251"/>
              </a:spcBef>
              <a:buClr>
                <a:srgbClr val="081d58"/>
              </a:buClr>
              <a:buSzPct val="75000"/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Sistemas de acumulação de custos.</a:t>
            </a:r>
            <a:endParaRPr b="0" lang="en-US" sz="36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2001"/>
              </a:spcBef>
              <a:buClr>
                <a:srgbClr val="081d58"/>
              </a:buClr>
              <a:buSzPct val="75000"/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ustos conjuntos</a:t>
            </a:r>
            <a:r>
              <a:rPr b="0" lang="pt-PT" sz="3600" spc="-1" strike="noStrike">
                <a:solidFill>
                  <a:srgbClr val="003e00"/>
                </a:solidFill>
                <a:latin typeface="Arial"/>
              </a:rPr>
              <a:t>.</a:t>
            </a:r>
            <a:r>
              <a:rPr b="0" lang="pt-BR" sz="32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ritérios para Avaliação de Estoques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-73080" y="2971800"/>
            <a:ext cx="4284720" cy="3336840"/>
            <a:chOff x="-73080" y="2971800"/>
            <a:chExt cx="4284720" cy="3336840"/>
          </a:xfrm>
        </p:grpSpPr>
        <p:sp>
          <p:nvSpPr>
            <p:cNvPr id="54" name=""/>
            <p:cNvSpPr/>
            <p:nvPr/>
          </p:nvSpPr>
          <p:spPr>
            <a:xfrm>
              <a:off x="1736640" y="3668400"/>
              <a:ext cx="1055880" cy="1963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49320" y="4221000"/>
              <a:ext cx="58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2000" y="5330520"/>
              <a:ext cx="180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7040" y="563220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7040" y="575604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09800" y="5352840"/>
              <a:ext cx="10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4960" y="533844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862440" y="5354640"/>
              <a:ext cx="144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7040" y="41590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92520" y="41590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5779800"/>
              <a:ext cx="421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Inicial de MP = 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Final de MP = 300 un</a:t>
              </a:r>
              <a:r>
                <a:rPr b="0" lang="pt-BR" sz="21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2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-73080" y="3720960"/>
              <a:ext cx="1922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Compras de MP 10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82920" y="3727440"/>
              <a:ext cx="1725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MP utilizada 7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14200" y="2971800"/>
              <a:ext cx="25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279f"/>
                  </a:solidFill>
                  <a:latin typeface="Times New Roman"/>
                </a:rPr>
                <a:t>Unidades Físic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500720" y="2997360"/>
            <a:ext cx="4776480" cy="3310920"/>
            <a:chOff x="4500720" y="2997360"/>
            <a:chExt cx="4776480" cy="3310920"/>
          </a:xfrm>
        </p:grpSpPr>
        <p:sp>
          <p:nvSpPr>
            <p:cNvPr id="69" name=""/>
            <p:cNvSpPr/>
            <p:nvPr/>
          </p:nvSpPr>
          <p:spPr>
            <a:xfrm>
              <a:off x="6234120" y="3692520"/>
              <a:ext cx="1055520" cy="19634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4500720" y="2997360"/>
              <a:ext cx="4776480" cy="3310920"/>
              <a:chOff x="4500720" y="2997360"/>
              <a:chExt cx="4776480" cy="3310920"/>
            </a:xfrm>
          </p:grpSpPr>
          <p:sp>
            <p:nvSpPr>
              <p:cNvPr id="71" name=""/>
              <p:cNvSpPr/>
              <p:nvPr/>
            </p:nvSpPr>
            <p:spPr>
              <a:xfrm>
                <a:off x="6346800" y="4244760"/>
                <a:ext cx="58572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89480" y="5354640"/>
                <a:ext cx="180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94160" y="565632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294160" y="578016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307280" y="5376960"/>
                <a:ext cx="10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302080" y="536256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8359920" y="5378400"/>
                <a:ext cx="1440" cy="40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94160" y="418284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89640" y="4182840"/>
                <a:ext cx="10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76720" y="5780160"/>
                <a:ext cx="410364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Inicial de MP = 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Final de MP = $3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500720" y="3801960"/>
                <a:ext cx="170316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ompras de MP $10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08720" y="3751200"/>
                <a:ext cx="196848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ustos de MP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$7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48360" y="2997360"/>
                <a:ext cx="3095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279f"/>
                    </a:solidFill>
                    <a:latin typeface="Times New Roman"/>
                  </a:rPr>
                  <a:t>Unidades Monetária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216000" y="1916280"/>
            <a:ext cx="47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79f"/>
                </a:solidFill>
                <a:latin typeface="Times New Roman"/>
              </a:rPr>
              <a:t>1º Períod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ritérios para Avaliação de Estoques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-73080" y="2971800"/>
            <a:ext cx="4284720" cy="3336840"/>
            <a:chOff x="-73080" y="2971800"/>
            <a:chExt cx="4284720" cy="3336840"/>
          </a:xfrm>
        </p:grpSpPr>
        <p:sp>
          <p:nvSpPr>
            <p:cNvPr id="89" name=""/>
            <p:cNvSpPr/>
            <p:nvPr/>
          </p:nvSpPr>
          <p:spPr>
            <a:xfrm>
              <a:off x="1736640" y="3668400"/>
              <a:ext cx="1055880" cy="1963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9320" y="4221000"/>
              <a:ext cx="58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2000" y="5330520"/>
              <a:ext cx="180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7040" y="563220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7040" y="575604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09800" y="5352840"/>
              <a:ext cx="10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4960" y="533844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862440" y="5354640"/>
              <a:ext cx="144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7040" y="41590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2520" y="41590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779800"/>
              <a:ext cx="421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Inicial de MP = 3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Final de MP = 1200 un</a:t>
              </a:r>
              <a:r>
                <a:rPr b="0" lang="pt-BR" sz="21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2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73080" y="3720960"/>
              <a:ext cx="1922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Compras de MP 9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82920" y="3727440"/>
              <a:ext cx="1725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MP utilizada 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14200" y="2971800"/>
              <a:ext cx="25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279f"/>
                  </a:solidFill>
                  <a:latin typeface="Times New Roman"/>
                </a:rPr>
                <a:t>Unidades Físic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500720" y="2997360"/>
            <a:ext cx="4776480" cy="3310920"/>
            <a:chOff x="4500720" y="2997360"/>
            <a:chExt cx="4776480" cy="3310920"/>
          </a:xfrm>
        </p:grpSpPr>
        <p:sp>
          <p:nvSpPr>
            <p:cNvPr id="104" name=""/>
            <p:cNvSpPr/>
            <p:nvPr/>
          </p:nvSpPr>
          <p:spPr>
            <a:xfrm>
              <a:off x="6234120" y="3692520"/>
              <a:ext cx="1055520" cy="19634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500720" y="2997360"/>
              <a:ext cx="4776480" cy="3310920"/>
              <a:chOff x="4500720" y="2997360"/>
              <a:chExt cx="4776480" cy="3310920"/>
            </a:xfrm>
          </p:grpSpPr>
          <p:sp>
            <p:nvSpPr>
              <p:cNvPr id="106" name=""/>
              <p:cNvSpPr/>
              <p:nvPr/>
            </p:nvSpPr>
            <p:spPr>
              <a:xfrm>
                <a:off x="6346800" y="4244760"/>
                <a:ext cx="58572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89480" y="5354640"/>
                <a:ext cx="180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94160" y="565632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94160" y="578016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07280" y="5376960"/>
                <a:ext cx="10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02080" y="536256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8359920" y="5378400"/>
                <a:ext cx="1440" cy="40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94160" y="418284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289640" y="4182840"/>
                <a:ext cx="10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76720" y="5780160"/>
                <a:ext cx="410364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Inicial de MP = $3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Final de MP = $16.5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00720" y="3801960"/>
                <a:ext cx="170316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ompras de MP $13.5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08720" y="3751200"/>
                <a:ext cx="196848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ustos de MP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$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48360" y="2997360"/>
                <a:ext cx="3095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279f"/>
                    </a:solidFill>
                    <a:latin typeface="Times New Roman"/>
                  </a:rPr>
                  <a:t>Unidades Monetária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216000" y="1916280"/>
            <a:ext cx="47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79f"/>
                </a:solidFill>
                <a:latin typeface="Times New Roman"/>
              </a:rPr>
              <a:t>2º Períod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ritérios para Avaliação de Estoques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492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279f"/>
                </a:solidFill>
                <a:latin typeface="Times New Roman"/>
              </a:rPr>
              <a:t>Estoque final = Estoque inicial + Compras - Consumo 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279f"/>
                </a:solidFill>
                <a:latin typeface="Times New Roman"/>
              </a:rPr>
              <a:t>                      </a:t>
            </a:r>
            <a:r>
              <a:rPr b="0" lang="pt-PT" sz="3200" spc="-1" strike="noStrike">
                <a:solidFill>
                  <a:srgbClr val="00279f"/>
                </a:solidFill>
                <a:latin typeface="Times New Roman"/>
              </a:rPr>
              <a:t>= 300 + 900 – 800 = 400 unidades.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724280"/>
            <a:ext cx="8424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400" spc="-1" strike="noStrike">
                <a:solidFill>
                  <a:srgbClr val="00279f"/>
                </a:solidFill>
                <a:latin typeface="Times New Roman"/>
              </a:rPr>
              <a:t>Qual é o valor unitário das unidades que consumimos e das que permaneceram em estoque?</a:t>
            </a:r>
            <a:r>
              <a:rPr b="0" lang="pt-PT" sz="31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ritérios para Avaliação de Estoques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249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279f"/>
                </a:solidFill>
                <a:latin typeface="Times New Roman"/>
              </a:rPr>
              <a:t>O Primeiro Que Entra É O Primeiro A Sair (PEPS)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360" y="3309840"/>
            <a:ext cx="89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279f"/>
                </a:solidFill>
                <a:latin typeface="Times New Roman"/>
              </a:rPr>
              <a:t>O Último Que Entra É O Primeiro A Sair (UEPS)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414972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279f"/>
                </a:solidFill>
                <a:latin typeface="Times New Roman"/>
              </a:rPr>
              <a:t>Custo Médio (CM)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941720"/>
            <a:ext cx="727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pt-PT" sz="3000" spc="-1" strike="noStrike">
                <a:solidFill>
                  <a:srgbClr val="00279f"/>
                </a:solidFill>
                <a:latin typeface="Times New Roman"/>
              </a:rPr>
              <a:t>Custo de Reposição (CR)</a:t>
            </a:r>
            <a:r>
              <a:rPr b="0" lang="pt-BR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ritérios para Avaliação de Estoques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73080" y="2971800"/>
            <a:ext cx="4284720" cy="3336840"/>
            <a:chOff x="-73080" y="2971800"/>
            <a:chExt cx="4284720" cy="3336840"/>
          </a:xfrm>
        </p:grpSpPr>
        <p:sp>
          <p:nvSpPr>
            <p:cNvPr id="136" name=""/>
            <p:cNvSpPr/>
            <p:nvPr/>
          </p:nvSpPr>
          <p:spPr>
            <a:xfrm>
              <a:off x="1736640" y="3668400"/>
              <a:ext cx="1055880" cy="1963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49320" y="4221000"/>
              <a:ext cx="58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2000" y="5330520"/>
              <a:ext cx="180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7040" y="563220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7040" y="575604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09800" y="5352840"/>
              <a:ext cx="10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4960" y="533844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862440" y="5354640"/>
              <a:ext cx="144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7040" y="41590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92520" y="41590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5779800"/>
              <a:ext cx="421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Inicial de MP = 3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Final de MP = 400 un</a:t>
              </a:r>
              <a:r>
                <a:rPr b="0" lang="pt-BR" sz="21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2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73080" y="3720960"/>
              <a:ext cx="1922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Compras de MP 9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2920" y="3727440"/>
              <a:ext cx="1725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MP utilizada 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8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14200" y="2971800"/>
              <a:ext cx="25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279f"/>
                  </a:solidFill>
                  <a:latin typeface="Times New Roman"/>
                </a:rPr>
                <a:t>Unidades Físic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00720" y="2997360"/>
            <a:ext cx="4776480" cy="3310920"/>
            <a:chOff x="4500720" y="2997360"/>
            <a:chExt cx="4776480" cy="3310920"/>
          </a:xfrm>
        </p:grpSpPr>
        <p:sp>
          <p:nvSpPr>
            <p:cNvPr id="151" name=""/>
            <p:cNvSpPr/>
            <p:nvPr/>
          </p:nvSpPr>
          <p:spPr>
            <a:xfrm>
              <a:off x="6234120" y="3692520"/>
              <a:ext cx="1055520" cy="19634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500720" y="2997360"/>
              <a:ext cx="4776480" cy="3310920"/>
              <a:chOff x="4500720" y="2997360"/>
              <a:chExt cx="4776480" cy="3310920"/>
            </a:xfrm>
          </p:grpSpPr>
          <p:sp>
            <p:nvSpPr>
              <p:cNvPr id="153" name=""/>
              <p:cNvSpPr/>
              <p:nvPr/>
            </p:nvSpPr>
            <p:spPr>
              <a:xfrm>
                <a:off x="6346800" y="4244760"/>
                <a:ext cx="58572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89480" y="5354640"/>
                <a:ext cx="180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94160" y="565632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94160" y="578016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07280" y="5376960"/>
                <a:ext cx="10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02080" y="536256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359920" y="5378400"/>
                <a:ext cx="1440" cy="40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94160" y="418284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289640" y="4182840"/>
                <a:ext cx="10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76720" y="5780160"/>
                <a:ext cx="410364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Inicial de MP = $3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Final de MP = $6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00720" y="3801960"/>
                <a:ext cx="170316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ompras de MP $13.5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308720" y="3751200"/>
                <a:ext cx="196848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ustos de MP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$10.5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148360" y="2997360"/>
                <a:ext cx="3095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279f"/>
                    </a:solidFill>
                    <a:latin typeface="Times New Roman"/>
                  </a:rPr>
                  <a:t>Unidades Monetária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216000" y="1916280"/>
            <a:ext cx="702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279f"/>
                </a:solidFill>
                <a:latin typeface="Times New Roman"/>
              </a:rPr>
              <a:t>O Primeiro Que Entra É O Primeiro A Sair (PEPS)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200" y="189000"/>
            <a:ext cx="70041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pt-PT" sz="4400" spc="-1" strike="noStrike">
                <a:solidFill>
                  <a:srgbClr val="081d58"/>
                </a:solidFill>
                <a:latin typeface="Bookman Old Style"/>
              </a:rPr>
              <a:t>Critérios para Avaliação de Estoques  </a:t>
            </a: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-73080" y="2971800"/>
            <a:ext cx="4284720" cy="3336840"/>
            <a:chOff x="-73080" y="2971800"/>
            <a:chExt cx="4284720" cy="3336840"/>
          </a:xfrm>
        </p:grpSpPr>
        <p:sp>
          <p:nvSpPr>
            <p:cNvPr id="171" name=""/>
            <p:cNvSpPr/>
            <p:nvPr/>
          </p:nvSpPr>
          <p:spPr>
            <a:xfrm>
              <a:off x="1736640" y="3668400"/>
              <a:ext cx="1055880" cy="1963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49320" y="4221000"/>
              <a:ext cx="58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2000" y="5330520"/>
              <a:ext cx="180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7040" y="563220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7040" y="5756040"/>
              <a:ext cx="30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09800" y="5352840"/>
              <a:ext cx="10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4960" y="533844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862440" y="5354640"/>
              <a:ext cx="144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7040" y="41590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92520" y="41590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5779800"/>
              <a:ext cx="42116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Inicial de MP = 3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Estoque Final de MP = 400 un</a:t>
              </a:r>
              <a:r>
                <a:rPr b="0" lang="pt-BR" sz="21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2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73080" y="3720960"/>
              <a:ext cx="1922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Compras de MP 9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82920" y="3727440"/>
              <a:ext cx="1725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MP utilizada 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279f"/>
                  </a:solidFill>
                  <a:latin typeface="Times New Roman"/>
                </a:rPr>
                <a:t>800 un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14200" y="2971800"/>
              <a:ext cx="25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279f"/>
                  </a:solidFill>
                  <a:latin typeface="Times New Roman"/>
                </a:rPr>
                <a:t>Unidades Físic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00720" y="2997360"/>
            <a:ext cx="4776480" cy="3310920"/>
            <a:chOff x="4500720" y="2997360"/>
            <a:chExt cx="4776480" cy="3310920"/>
          </a:xfrm>
        </p:grpSpPr>
        <p:sp>
          <p:nvSpPr>
            <p:cNvPr id="186" name=""/>
            <p:cNvSpPr/>
            <p:nvPr/>
          </p:nvSpPr>
          <p:spPr>
            <a:xfrm>
              <a:off x="6234120" y="3692520"/>
              <a:ext cx="1055520" cy="19634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500720" y="2997360"/>
              <a:ext cx="4776480" cy="3310920"/>
              <a:chOff x="4500720" y="2997360"/>
              <a:chExt cx="4776480" cy="3310920"/>
            </a:xfrm>
          </p:grpSpPr>
          <p:sp>
            <p:nvSpPr>
              <p:cNvPr id="188" name=""/>
              <p:cNvSpPr/>
              <p:nvPr/>
            </p:nvSpPr>
            <p:spPr>
              <a:xfrm>
                <a:off x="6346800" y="4244760"/>
                <a:ext cx="58572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89480" y="5354640"/>
                <a:ext cx="180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94160" y="565632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94160" y="5780160"/>
                <a:ext cx="305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07280" y="5376960"/>
                <a:ext cx="10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02080" y="536256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8359920" y="5378400"/>
                <a:ext cx="1440" cy="40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294160" y="418284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89640" y="4182840"/>
                <a:ext cx="10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76720" y="5780160"/>
                <a:ext cx="410364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Inicial de MP = $3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Estoque Final de MP = $4.5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00720" y="3801960"/>
                <a:ext cx="170316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ompras de MP $13.5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08720" y="3751200"/>
                <a:ext cx="196848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custos de MP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279f"/>
                    </a:solidFill>
                    <a:latin typeface="Times New Roman"/>
                  </a:rPr>
                  <a:t>$12.00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48360" y="2997360"/>
                <a:ext cx="3095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279f"/>
                    </a:solidFill>
                    <a:latin typeface="Times New Roman"/>
                  </a:rPr>
                  <a:t>Unidades Monetária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216000" y="1916280"/>
            <a:ext cx="702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79f"/>
                </a:solidFill>
                <a:latin typeface="Times New Roman"/>
              </a:rPr>
              <a:t>O Último Que Entra É O Primeiro A Sair (UEPS)</a:t>
            </a:r>
            <a:r>
              <a:rPr b="0" lang="pt-BR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2-24T16:35:52Z</dcterms:created>
  <dc:creator>Adrian C. Ferreira</dc:creator>
  <dc:description/>
  <dc:language>en-US</dc:language>
  <cp:lastModifiedBy>Cezar</cp:lastModifiedBy>
  <dcterms:modified xsi:type="dcterms:W3CDTF">2009-04-02T18:59:15Z</dcterms:modified>
  <cp:revision>29</cp:revision>
  <dc:subject/>
  <dc:title>CUSTEIO BASEADO EM ATIVIDADES</dc:title>
</cp:coreProperties>
</file>