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3FF-8495-45D8-AFE3-27AD0C7E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5800" y="481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B31-75E3-462B-B82B-6BF6F08C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B47-AD20-4DCC-8DDC-3E0814E4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076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580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076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B37-301E-4935-A586-59BE6B63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B69-D697-4F7D-85FA-42BC1F22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E7B-41B4-446F-BCDB-DC7E8146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4BE-EE67-4D35-88B0-2B74CC0C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721-2C39-4B1C-9C71-23959E03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520" y="533520"/>
            <a:ext cx="5935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330-3910-4016-A350-8856F293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C01-C625-43DC-A98B-5772DBE3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822-6AA7-4C15-AA9D-B74FEB07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1D7-A611-405A-8B14-9D10955B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338441-E794-465F-98DE-3FAC23B1DD85}" type="slidenum"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lick to edit the title text format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1" marL="579240" indent="-22284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2" marL="891360" indent="-178200">
              <a:spcBef>
                <a:spcPts val="2001"/>
              </a:spcBef>
              <a:buClr>
                <a:srgbClr val="fc0128"/>
              </a:buClr>
              <a:buSzPct val="63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3" marL="1248120" indent="-178200">
              <a:spcBef>
                <a:spcPts val="2001"/>
              </a:spcBef>
              <a:buClr>
                <a:srgbClr val="fc0128"/>
              </a:buClr>
              <a:buSzPct val="63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4" marL="1604520" indent="-178200">
              <a:spcBef>
                <a:spcPts val="2001"/>
              </a:spcBef>
              <a:buClr>
                <a:srgbClr val="fc0128"/>
              </a:buClr>
              <a:buSzPct val="63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5" marL="1604520" indent="-178200">
              <a:spcBef>
                <a:spcPts val="2001"/>
              </a:spcBef>
              <a:buClr>
                <a:srgbClr val="00279f"/>
              </a:buClr>
              <a:buSzPct val="63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6" marL="1604520" indent="-178200">
              <a:spcBef>
                <a:spcPts val="2001"/>
              </a:spcBef>
              <a:buClr>
                <a:srgbClr val="00279f"/>
              </a:buClr>
              <a:buSzPct val="63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06720" y="658332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279f"/>
                </a:solidFill>
                <a:latin typeface="Arial"/>
              </a:rPr>
              <a:t>Antonio Cezar Bornia</a:t>
            </a:r>
            <a:endParaRPr b="0" lang="en-US" sz="12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688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Apresentação baseada no livro “Análise gerencial de custos: aplicação em empresas modernas”, de Antonio Cezar Borni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6520" y="1522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8" name=""/>
          <p:cNvSpPr/>
          <p:nvPr/>
        </p:nvSpPr>
        <p:spPr>
          <a:xfrm>
            <a:off x="1312920" y="4206960"/>
            <a:ext cx="0" cy="96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95360" y="3368520"/>
            <a:ext cx="3425760" cy="180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380000">
            <a:off x="1882800" y="341424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40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78440" y="4282920"/>
            <a:ext cx="0" cy="885960"/>
          </a:xfrm>
          <a:prstGeom prst="line">
            <a:avLst/>
          </a:prstGeom>
          <a:ln w="1260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379520" y="3368520"/>
            <a:ext cx="3611520" cy="1800360"/>
          </a:xfrm>
          <a:prstGeom prst="line">
            <a:avLst/>
          </a:prstGeom>
          <a:ln w="1260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02840" y="3368520"/>
            <a:ext cx="3729240" cy="1800360"/>
            <a:chOff x="1302840" y="3368520"/>
            <a:chExt cx="3729240" cy="1800360"/>
          </a:xfrm>
        </p:grpSpPr>
        <p:sp>
          <p:nvSpPr>
            <p:cNvPr id="134" name=""/>
            <p:cNvSpPr/>
            <p:nvPr/>
          </p:nvSpPr>
          <p:spPr>
            <a:xfrm flipH="1">
              <a:off x="1302840" y="3368520"/>
              <a:ext cx="1783080" cy="1800360"/>
            </a:xfrm>
            <a:prstGeom prst="line">
              <a:avLst/>
            </a:prstGeom>
            <a:ln w="12600">
              <a:solidFill>
                <a:srgbClr val="6e004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89160" y="3368520"/>
              <a:ext cx="1800360" cy="1800360"/>
            </a:xfrm>
            <a:prstGeom prst="line">
              <a:avLst/>
            </a:prstGeom>
            <a:ln w="12600">
              <a:solidFill>
                <a:srgbClr val="6e004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9080000">
              <a:off x="1458000" y="410004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Arial"/>
                </a:rPr>
                <a:t>$1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580000">
              <a:off x="4133880" y="43290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Arial"/>
                </a:rPr>
                <a:t>$1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312920" y="33685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81640" y="387180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</a:rPr>
              <a:t>$400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0280000">
            <a:off x="3635640" y="341460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78440" y="3265200"/>
            <a:ext cx="0" cy="55548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18960" y="5187960"/>
            <a:ext cx="5813640" cy="1359000"/>
            <a:chOff x="318960" y="5187960"/>
            <a:chExt cx="5813640" cy="1359000"/>
          </a:xfrm>
        </p:grpSpPr>
        <p:sp>
          <p:nvSpPr>
            <p:cNvPr id="143" name=""/>
            <p:cNvSpPr/>
            <p:nvPr/>
          </p:nvSpPr>
          <p:spPr>
            <a:xfrm>
              <a:off x="318960" y="5187960"/>
              <a:ext cx="2359080" cy="1359000"/>
            </a:xfrm>
            <a:prstGeom prst="roundRect">
              <a:avLst>
                <a:gd name="adj" fmla="val 12477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0040" y="5327640"/>
              <a:ext cx="2086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Produto P1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1000" y="5937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34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06920" y="5187960"/>
              <a:ext cx="2425680" cy="1359000"/>
            </a:xfrm>
            <a:prstGeom prst="roundRect">
              <a:avLst>
                <a:gd name="adj" fmla="val 12477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56400" y="5327640"/>
              <a:ext cx="2086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Produto P2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51520" y="5937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66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882720" y="379584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78400" y="4032360"/>
            <a:ext cx="2173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c0023"/>
                </a:solidFill>
                <a:latin typeface="Arial"/>
              </a:rPr>
              <a:t>Distribuição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8960" y="1606680"/>
            <a:ext cx="5542200" cy="1739880"/>
          </a:xfrm>
          <a:prstGeom prst="rect">
            <a:avLst/>
          </a:prstGeom>
          <a:solidFill>
            <a:srgbClr val="fcfeb9"/>
          </a:solidFill>
          <a:ln w="12600">
            <a:solidFill>
              <a:srgbClr val="3c0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82960" y="1616040"/>
            <a:ext cx="0" cy="1724040"/>
          </a:xfrm>
          <a:prstGeom prst="line">
            <a:avLst/>
          </a:prstGeom>
          <a:ln w="12600">
            <a:solidFill>
              <a:srgbClr val="3c0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7160" y="17240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17240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76400" y="172404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26320" y="2508120"/>
            <a:ext cx="16628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1d58"/>
                </a:solidFill>
                <a:latin typeface="Arial"/>
              </a:rPr>
              <a:t>$ 500,0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29120" y="2508120"/>
            <a:ext cx="16628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e0043"/>
                </a:solidFill>
                <a:latin typeface="Arial"/>
              </a:rPr>
              <a:t>$ 300,0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360" y="2508120"/>
            <a:ext cx="16628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 200,0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87720" y="1616040"/>
            <a:ext cx="0" cy="1724040"/>
          </a:xfrm>
          <a:prstGeom prst="line">
            <a:avLst/>
          </a:prstGeom>
          <a:ln w="12600">
            <a:solidFill>
              <a:srgbClr val="3c0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Centros de Cus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25146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00"/>
                </a:solidFill>
                <a:latin typeface="Arial"/>
              </a:rPr>
              <a:t>Centros diretos</a:t>
            </a: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: envolvem-se com os produtos. Há como encontrar “boas” bases de distribuição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00"/>
                </a:solidFill>
                <a:latin typeface="Arial"/>
              </a:rPr>
              <a:t>Centros indiretos</a:t>
            </a: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: não se envolvem com os produtos. Prestam apoio a outros centros. Seus custos não podem ser “bem” distribuídos aos produtos, mas sim a outros centr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43000" y="1835280"/>
            <a:ext cx="5465520" cy="1739880"/>
            <a:chOff x="243000" y="1835280"/>
            <a:chExt cx="5465520" cy="1739880"/>
          </a:xfrm>
        </p:grpSpPr>
        <p:sp>
          <p:nvSpPr>
            <p:cNvPr id="164" name=""/>
            <p:cNvSpPr/>
            <p:nvPr/>
          </p:nvSpPr>
          <p:spPr>
            <a:xfrm>
              <a:off x="243000" y="1835280"/>
              <a:ext cx="5465520" cy="1739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23840" y="2028960"/>
              <a:ext cx="1807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Empresa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81160" y="2660760"/>
              <a:ext cx="3598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Custos = $ 1.0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846520" y="3889440"/>
            <a:ext cx="3896640" cy="687240"/>
            <a:chOff x="2846520" y="3889440"/>
            <a:chExt cx="3896640" cy="687240"/>
          </a:xfrm>
        </p:grpSpPr>
        <p:sp>
          <p:nvSpPr>
            <p:cNvPr id="168" name=""/>
            <p:cNvSpPr/>
            <p:nvPr/>
          </p:nvSpPr>
          <p:spPr>
            <a:xfrm>
              <a:off x="2846520" y="3889440"/>
              <a:ext cx="1440" cy="687240"/>
            </a:xfrm>
            <a:prstGeom prst="line">
              <a:avLst/>
            </a:prstGeom>
            <a:ln w="76320">
              <a:solidFill>
                <a:srgbClr val="3c00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8440" y="3956040"/>
              <a:ext cx="36547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c0023"/>
                  </a:solidFill>
                  <a:latin typeface="Arial"/>
                </a:rPr>
                <a:t>Distribuição primária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66680" y="4883040"/>
            <a:ext cx="5541840" cy="1739880"/>
            <a:chOff x="166680" y="4883040"/>
            <a:chExt cx="5541840" cy="1739880"/>
          </a:xfrm>
        </p:grpSpPr>
        <p:sp>
          <p:nvSpPr>
            <p:cNvPr id="171" name=""/>
            <p:cNvSpPr/>
            <p:nvPr/>
          </p:nvSpPr>
          <p:spPr>
            <a:xfrm>
              <a:off x="166680" y="4883040"/>
              <a:ext cx="5541840" cy="1739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30320" y="489276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4880" y="500076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19360" y="500076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24120" y="500076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740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5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68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3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80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2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35440" y="489276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6520" y="1522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18960" y="1606680"/>
            <a:ext cx="5542200" cy="1739880"/>
            <a:chOff x="318960" y="1606680"/>
            <a:chExt cx="5542200" cy="1739880"/>
          </a:xfrm>
        </p:grpSpPr>
        <p:sp>
          <p:nvSpPr>
            <p:cNvPr id="182" name=""/>
            <p:cNvSpPr/>
            <p:nvPr/>
          </p:nvSpPr>
          <p:spPr>
            <a:xfrm>
              <a:off x="318960" y="1606680"/>
              <a:ext cx="5542200" cy="1739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82960" y="161604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7160" y="17240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71640" y="17240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e0043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76400" y="172404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26320" y="2508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Arial"/>
                </a:rPr>
                <a:t>$ 5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29120" y="2508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e0043"/>
                  </a:solidFill>
                  <a:latin typeface="Arial"/>
                </a:rPr>
                <a:t>$ 3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4360" y="2508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$ 2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87720" y="161604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18960" y="5187960"/>
            <a:ext cx="5813640" cy="1359000"/>
            <a:chOff x="318960" y="5187960"/>
            <a:chExt cx="5813640" cy="1359000"/>
          </a:xfrm>
        </p:grpSpPr>
        <p:sp>
          <p:nvSpPr>
            <p:cNvPr id="192" name=""/>
            <p:cNvSpPr/>
            <p:nvPr/>
          </p:nvSpPr>
          <p:spPr>
            <a:xfrm>
              <a:off x="318960" y="5187960"/>
              <a:ext cx="2359080" cy="1359000"/>
            </a:xfrm>
            <a:prstGeom prst="roundRect">
              <a:avLst>
                <a:gd name="adj" fmla="val 12477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0040" y="5327640"/>
              <a:ext cx="2086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Produto P1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6920" y="5187960"/>
              <a:ext cx="2425680" cy="1359000"/>
            </a:xfrm>
            <a:prstGeom prst="roundRect">
              <a:avLst>
                <a:gd name="adj" fmla="val 12477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56400" y="5327640"/>
              <a:ext cx="2086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Produto P2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779800" y="3803760"/>
            <a:ext cx="3039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c0023"/>
                </a:solidFill>
                <a:latin typeface="Arial"/>
              </a:rPr>
              <a:t>Distr. secundária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22680" y="1163160"/>
            <a:ext cx="2987280" cy="2979360"/>
            <a:chOff x="922680" y="1163160"/>
            <a:chExt cx="2987280" cy="2979360"/>
          </a:xfrm>
        </p:grpSpPr>
        <p:sp>
          <p:nvSpPr>
            <p:cNvPr id="198" name=""/>
            <p:cNvSpPr/>
            <p:nvPr/>
          </p:nvSpPr>
          <p:spPr>
            <a:xfrm rot="8220000">
              <a:off x="1320840" y="1636920"/>
              <a:ext cx="2190240" cy="20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81800" y="35672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-1686240" y="-2657880"/>
            <a:ext cx="8308440" cy="8050320"/>
            <a:chOff x="-1686240" y="-2657880"/>
            <a:chExt cx="8308440" cy="8050320"/>
          </a:xfrm>
        </p:grpSpPr>
        <p:sp>
          <p:nvSpPr>
            <p:cNvPr id="201" name=""/>
            <p:cNvSpPr/>
            <p:nvPr/>
          </p:nvSpPr>
          <p:spPr>
            <a:xfrm rot="7680000">
              <a:off x="-71280" y="-1920240"/>
              <a:ext cx="5078880" cy="657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81640" y="38718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318960" y="1606680"/>
            <a:ext cx="5542200" cy="1739880"/>
            <a:chOff x="318960" y="1606680"/>
            <a:chExt cx="5542200" cy="1739880"/>
          </a:xfrm>
        </p:grpSpPr>
        <p:sp>
          <p:nvSpPr>
            <p:cNvPr id="204" name=""/>
            <p:cNvSpPr/>
            <p:nvPr/>
          </p:nvSpPr>
          <p:spPr>
            <a:xfrm>
              <a:off x="318960" y="1606680"/>
              <a:ext cx="5542200" cy="1739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82960" y="161604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7160" y="17240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71640" y="17240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e0043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76400" y="172404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26320" y="2508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Arial"/>
                </a:rPr>
                <a:t>$ 65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29120" y="2508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e0043"/>
                  </a:solidFill>
                  <a:latin typeface="Arial"/>
                </a:rPr>
                <a:t>$ 35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87720" y="161604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18960" y="5187960"/>
            <a:ext cx="5813640" cy="1359000"/>
            <a:chOff x="318960" y="5187960"/>
            <a:chExt cx="5813640" cy="1359000"/>
          </a:xfrm>
        </p:grpSpPr>
        <p:sp>
          <p:nvSpPr>
            <p:cNvPr id="213" name=""/>
            <p:cNvSpPr/>
            <p:nvPr/>
          </p:nvSpPr>
          <p:spPr>
            <a:xfrm>
              <a:off x="318960" y="5187960"/>
              <a:ext cx="2359080" cy="1359000"/>
            </a:xfrm>
            <a:prstGeom prst="roundRect">
              <a:avLst>
                <a:gd name="adj" fmla="val 12477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0040" y="5327640"/>
              <a:ext cx="2086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Produto P1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06920" y="5187960"/>
              <a:ext cx="2425680" cy="1359000"/>
            </a:xfrm>
            <a:prstGeom prst="roundRect">
              <a:avLst>
                <a:gd name="adj" fmla="val 12477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56400" y="5327640"/>
              <a:ext cx="2086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Produto P2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6520" y="1522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18" name=""/>
          <p:cNvSpPr/>
          <p:nvPr/>
        </p:nvSpPr>
        <p:spPr>
          <a:xfrm>
            <a:off x="5277240" y="4032360"/>
            <a:ext cx="2382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0023"/>
                </a:solidFill>
                <a:latin typeface="Arial"/>
              </a:rPr>
              <a:t>Distribuição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302840" y="3368520"/>
            <a:ext cx="3729240" cy="1800360"/>
            <a:chOff x="1302840" y="3368520"/>
            <a:chExt cx="3729240" cy="1800360"/>
          </a:xfrm>
        </p:grpSpPr>
        <p:sp>
          <p:nvSpPr>
            <p:cNvPr id="220" name=""/>
            <p:cNvSpPr/>
            <p:nvPr/>
          </p:nvSpPr>
          <p:spPr>
            <a:xfrm flipH="1">
              <a:off x="1302840" y="3368520"/>
              <a:ext cx="1783080" cy="1800360"/>
            </a:xfrm>
            <a:prstGeom prst="line">
              <a:avLst/>
            </a:prstGeom>
            <a:ln w="12600">
              <a:solidFill>
                <a:srgbClr val="6e004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89160" y="3368520"/>
              <a:ext cx="1800360" cy="1800360"/>
            </a:xfrm>
            <a:prstGeom prst="line">
              <a:avLst/>
            </a:prstGeom>
            <a:ln w="12600">
              <a:solidFill>
                <a:srgbClr val="6e004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080000">
              <a:off x="1458000" y="410004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Arial"/>
                </a:rPr>
                <a:t>$21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580000">
              <a:off x="4133880" y="43290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Arial"/>
                </a:rPr>
                <a:t>$14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379520" y="3265200"/>
            <a:ext cx="3960360" cy="1903680"/>
            <a:chOff x="1379520" y="3265200"/>
            <a:chExt cx="3960360" cy="1903680"/>
          </a:xfrm>
        </p:grpSpPr>
        <p:sp>
          <p:nvSpPr>
            <p:cNvPr id="225" name=""/>
            <p:cNvSpPr/>
            <p:nvPr/>
          </p:nvSpPr>
          <p:spPr>
            <a:xfrm>
              <a:off x="4978440" y="4282920"/>
              <a:ext cx="0" cy="8859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379520" y="3368520"/>
              <a:ext cx="3611520" cy="18003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81640" y="38718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$5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0280000">
              <a:off x="3635640" y="34146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$13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978440" y="3265200"/>
              <a:ext cx="0" cy="55548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7320" y="5937120"/>
            <a:ext cx="5041080" cy="545760"/>
            <a:chOff x="697320" y="5937120"/>
            <a:chExt cx="5041080" cy="545760"/>
          </a:xfrm>
        </p:grpSpPr>
        <p:sp>
          <p:nvSpPr>
            <p:cNvPr id="231" name=""/>
            <p:cNvSpPr/>
            <p:nvPr/>
          </p:nvSpPr>
          <p:spPr>
            <a:xfrm>
              <a:off x="697320" y="5937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34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75560" y="5937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66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RKW - Etapa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5800" y="2590920"/>
            <a:ext cx="876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3f00"/>
                </a:solidFill>
                <a:latin typeface="Arial"/>
              </a:rPr>
              <a:t>Separar os custos em itens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3f00"/>
                </a:solidFill>
                <a:latin typeface="Arial"/>
              </a:rPr>
              <a:t>Dividir a empresa em centros de custos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3f00"/>
                </a:solidFill>
                <a:latin typeface="Arial"/>
              </a:rPr>
              <a:t>Identificar os custos com os centros (distribuição primária)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3f00"/>
                </a:solidFill>
                <a:latin typeface="Arial"/>
              </a:rPr>
              <a:t>Redistribuir os custos dos centros indiretos aos diretos (distribuição secundária)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3f00"/>
                </a:solidFill>
                <a:latin typeface="Arial"/>
              </a:rPr>
              <a:t>Identificar os custos dos centros diretos com os produtos (distribuição final)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Distribuição Primári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A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ases de distribuição primárias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devem refletir a efetiva utilização dos recursos pelos centr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960" y="716040"/>
            <a:ext cx="585612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3600" spc="-1" strike="noStrike">
                <a:solidFill>
                  <a:srgbClr val="081d58"/>
                </a:solidFill>
                <a:latin typeface="Bookman Old Style"/>
              </a:rPr>
              <a:t>Bases de Distribuição Primárias - </a:t>
            </a:r>
            <a:r>
              <a:rPr b="1" i="1" lang="en-US" sz="3600" spc="-1" strike="noStrike">
                <a:solidFill>
                  <a:srgbClr val="cc0000"/>
                </a:solidFill>
                <a:latin typeface="Bookman Old Style"/>
              </a:rPr>
              <a:t>Exemplos</a:t>
            </a:r>
            <a:r>
              <a:rPr b="1" i="1" lang="en-US" sz="36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1" i="1" lang="en-US" sz="3600" spc="-1" strike="noStrike">
              <a:solidFill>
                <a:srgbClr val="081d58"/>
              </a:solidFill>
              <a:latin typeface="Bookman Old Style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34880" y="2876400"/>
          <a:ext cx="8174160" cy="38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876400"/>
                    <a:ext cx="81741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Distribuição Secundári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A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ases de distribuição secundárias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devem refletir a efetiva utilização dos serviços dos centros indiretos pelos centros diret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434880" y="2743200"/>
          <a:ext cx="8278920" cy="39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3200"/>
                    <a:ext cx="827892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320" y="71604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3600" spc="-1" strike="noStrike">
                <a:solidFill>
                  <a:srgbClr val="081d58"/>
                </a:solidFill>
                <a:latin typeface="Bookman Old Style"/>
              </a:rPr>
              <a:t>Bases de Distribuição Secundárias - </a:t>
            </a:r>
            <a:r>
              <a:rPr b="1" i="1" lang="en-US" sz="3600" spc="-1" strike="noStrike">
                <a:solidFill>
                  <a:srgbClr val="cc0000"/>
                </a:solidFill>
                <a:latin typeface="Bookman Old Style"/>
              </a:rPr>
              <a:t>Exemplos</a:t>
            </a:r>
            <a:r>
              <a:rPr b="1" i="1" lang="en-US" sz="36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1" i="1" lang="en-US" sz="36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520" y="3878280"/>
            <a:ext cx="846000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800" spc="-1" strike="noStrike">
                <a:solidFill>
                  <a:srgbClr val="081d58"/>
                </a:solidFill>
                <a:latin typeface="Bookman Old Style"/>
              </a:rPr>
              <a:t>Método dos Centros de Custos, </a:t>
            </a:r>
            <a:r>
              <a:rPr b="1" i="1" lang="en-US" sz="4800" spc="-1" strike="noStrike">
                <a:solidFill>
                  <a:srgbClr val="003e00"/>
                </a:solidFill>
                <a:latin typeface="Bookman Old Style"/>
              </a:rPr>
              <a:t>das Seções Homogêneas</a:t>
            </a:r>
            <a:r>
              <a:rPr b="1" i="1" lang="en-US" sz="4800" spc="-1" strike="noStrike">
                <a:solidFill>
                  <a:srgbClr val="081d58"/>
                </a:solidFill>
                <a:latin typeface="Bookman Old Style"/>
              </a:rPr>
              <a:t> ou RKW</a:t>
            </a:r>
            <a:endParaRPr b="1" i="1" lang="en-US" sz="48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Matriz de Cus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11240" y="2749680"/>
            <a:ext cx="8585280" cy="3744360"/>
            <a:chOff x="111240" y="2749680"/>
            <a:chExt cx="8585280" cy="3744360"/>
          </a:xfrm>
        </p:grpSpPr>
        <p:sp>
          <p:nvSpPr>
            <p:cNvPr id="247" name=""/>
            <p:cNvSpPr/>
            <p:nvPr/>
          </p:nvSpPr>
          <p:spPr>
            <a:xfrm>
              <a:off x="3992400" y="5159520"/>
              <a:ext cx="733680" cy="220680"/>
            </a:xfrm>
            <a:custGeom>
              <a:avLst/>
              <a:gdLst/>
              <a:ahLst/>
              <a:rect l="l" t="t" r="r" b="b"/>
              <a:pathLst>
                <a:path w="462" h="139">
                  <a:moveTo>
                    <a:pt x="0" y="0"/>
                  </a:moveTo>
                  <a:lnTo>
                    <a:pt x="0" y="138"/>
                  </a:lnTo>
                  <a:lnTo>
                    <a:pt x="461" y="138"/>
                  </a:lnTo>
                </a:path>
              </a:pathLst>
            </a:custGeom>
            <a:noFill/>
            <a:ln cap="rnd" w="50760">
              <a:solidFill>
                <a:srgbClr val="00353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33360" y="2749680"/>
              <a:ext cx="8346960" cy="2403360"/>
              <a:chOff x="333360" y="2749680"/>
              <a:chExt cx="8346960" cy="2403360"/>
            </a:xfrm>
          </p:grpSpPr>
          <p:sp>
            <p:nvSpPr>
              <p:cNvPr id="249" name=""/>
              <p:cNvSpPr/>
              <p:nvPr/>
            </p:nvSpPr>
            <p:spPr>
              <a:xfrm>
                <a:off x="333360" y="2749680"/>
                <a:ext cx="8346960" cy="240336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3080" y="3914640"/>
                <a:ext cx="8331120" cy="0"/>
              </a:xfrm>
              <a:prstGeom prst="line">
                <a:avLst/>
              </a:prstGeom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711680" y="5165640"/>
              <a:ext cx="3968640" cy="4269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3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278320" y="5599080"/>
              <a:ext cx="3402000" cy="432000"/>
              <a:chOff x="5278320" y="5599080"/>
              <a:chExt cx="3402000" cy="432000"/>
            </a:xfrm>
          </p:grpSpPr>
          <p:sp>
            <p:nvSpPr>
              <p:cNvPr id="253" name=""/>
              <p:cNvSpPr/>
              <p:nvPr/>
            </p:nvSpPr>
            <p:spPr>
              <a:xfrm>
                <a:off x="5997600" y="5605560"/>
                <a:ext cx="2682720" cy="4255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278320" y="5599080"/>
                <a:ext cx="719280" cy="220680"/>
              </a:xfrm>
              <a:custGeom>
                <a:avLst/>
                <a:gdLst/>
                <a:ahLst/>
                <a:rect l="l" t="t" r="r" b="b"/>
                <a:pathLst>
                  <a:path w="453" h="139">
                    <a:moveTo>
                      <a:pt x="0" y="0"/>
                    </a:moveTo>
                    <a:lnTo>
                      <a:pt x="0" y="138"/>
                    </a:lnTo>
                    <a:lnTo>
                      <a:pt x="452" y="138"/>
                    </a:lnTo>
                  </a:path>
                </a:pathLst>
              </a:custGeom>
              <a:noFill/>
              <a:ln cap="rnd" w="50760">
                <a:solidFill>
                  <a:srgbClr val="00353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111240" y="5440320"/>
              <a:ext cx="5032440" cy="1053720"/>
              <a:chOff x="111240" y="5440320"/>
              <a:chExt cx="5032440" cy="1053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11240" y="5978520"/>
                <a:ext cx="31320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1d58"/>
                    </a:solidFill>
                    <a:latin typeface="Arial"/>
                  </a:rPr>
                  <a:t>Distrib. secundária</a:t>
                </a:r>
                <a:endParaRPr b="0" lang="en-US" sz="28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146400" y="5440320"/>
                <a:ext cx="766800" cy="68112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3146400" y="5880240"/>
                <a:ext cx="1997280" cy="38880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16440" y="2759040"/>
              <a:ext cx="1162800" cy="2387520"/>
              <a:chOff x="316440" y="2759040"/>
              <a:chExt cx="1162800" cy="2387520"/>
            </a:xfrm>
          </p:grpSpPr>
          <p:sp>
            <p:nvSpPr>
              <p:cNvPr id="260" name=""/>
              <p:cNvSpPr/>
              <p:nvPr/>
            </p:nvSpPr>
            <p:spPr>
              <a:xfrm>
                <a:off x="1419120" y="2759040"/>
                <a:ext cx="0" cy="2387520"/>
              </a:xfrm>
              <a:prstGeom prst="line">
                <a:avLst/>
              </a:prstGeom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16440" y="2800440"/>
                <a:ext cx="116280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Iten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de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custo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350440" y="2759040"/>
              <a:ext cx="1077480" cy="2387520"/>
              <a:chOff x="2350440" y="2759040"/>
              <a:chExt cx="1077480" cy="2387520"/>
            </a:xfrm>
          </p:grpSpPr>
          <p:sp>
            <p:nvSpPr>
              <p:cNvPr id="263" name=""/>
              <p:cNvSpPr/>
              <p:nvPr/>
            </p:nvSpPr>
            <p:spPr>
              <a:xfrm>
                <a:off x="3413160" y="2759040"/>
                <a:ext cx="0" cy="2387520"/>
              </a:xfrm>
              <a:prstGeom prst="line">
                <a:avLst/>
              </a:prstGeom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50440" y="2800440"/>
                <a:ext cx="107748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Base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de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ratei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1369800" y="2759040"/>
              <a:ext cx="965520" cy="2387520"/>
              <a:chOff x="1369800" y="2759040"/>
              <a:chExt cx="965520" cy="2387520"/>
            </a:xfrm>
          </p:grpSpPr>
          <p:sp>
            <p:nvSpPr>
              <p:cNvPr id="266" name=""/>
              <p:cNvSpPr/>
              <p:nvPr/>
            </p:nvSpPr>
            <p:spPr>
              <a:xfrm>
                <a:off x="2335320" y="2759040"/>
                <a:ext cx="0" cy="2387520"/>
              </a:xfrm>
              <a:prstGeom prst="line">
                <a:avLst/>
              </a:prstGeom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69800" y="3021120"/>
                <a:ext cx="9435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Valor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705200" y="2763720"/>
              <a:ext cx="0" cy="2822760"/>
            </a:xfrm>
            <a:prstGeom prst="line">
              <a:avLst/>
            </a:prstGeom>
            <a:ln w="12600">
              <a:solidFill>
                <a:srgbClr val="003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68880" y="2800440"/>
              <a:ext cx="13489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Centr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comun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4645080" y="2759040"/>
              <a:ext cx="1351080" cy="2827440"/>
              <a:chOff x="4645080" y="2759040"/>
              <a:chExt cx="1351080" cy="2827440"/>
            </a:xfrm>
          </p:grpSpPr>
          <p:sp>
            <p:nvSpPr>
              <p:cNvPr id="271" name=""/>
              <p:cNvSpPr/>
              <p:nvPr/>
            </p:nvSpPr>
            <p:spPr>
              <a:xfrm>
                <a:off x="5994360" y="2759040"/>
                <a:ext cx="1800" cy="2827440"/>
              </a:xfrm>
              <a:prstGeom prst="line">
                <a:avLst/>
              </a:prstGeom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45080" y="2800440"/>
                <a:ext cx="133200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Centro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auxilia-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re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364520" y="2800440"/>
              <a:ext cx="13320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Centr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de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venda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5003280" y="6022800"/>
              <a:ext cx="3677040" cy="454680"/>
              <a:chOff x="5003280" y="6022800"/>
              <a:chExt cx="3677040" cy="454680"/>
            </a:xfrm>
          </p:grpSpPr>
          <p:sp>
            <p:nvSpPr>
              <p:cNvPr id="275" name=""/>
              <p:cNvSpPr/>
              <p:nvPr/>
            </p:nvSpPr>
            <p:spPr>
              <a:xfrm>
                <a:off x="5997600" y="6043680"/>
                <a:ext cx="2682720" cy="3538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03280" y="6022800"/>
                <a:ext cx="10789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Totai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95840" y="5221440"/>
              <a:ext cx="2777400" cy="686880"/>
              <a:chOff x="195840" y="5221440"/>
              <a:chExt cx="2777400" cy="686880"/>
            </a:xfrm>
          </p:grpSpPr>
          <p:sp>
            <p:nvSpPr>
              <p:cNvPr id="278" name=""/>
              <p:cNvSpPr/>
              <p:nvPr/>
            </p:nvSpPr>
            <p:spPr>
              <a:xfrm>
                <a:off x="195840" y="5392800"/>
                <a:ext cx="2674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1d58"/>
                    </a:solidFill>
                    <a:latin typeface="Arial"/>
                  </a:rPr>
                  <a:t>Distrib. primária</a:t>
                </a:r>
                <a:endParaRPr b="0" lang="en-US" sz="28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2784600" y="5221440"/>
                <a:ext cx="188640" cy="38880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000840" y="2759040"/>
              <a:ext cx="1431720" cy="3625920"/>
              <a:chOff x="6000840" y="2759040"/>
              <a:chExt cx="1431720" cy="36259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00840" y="2800440"/>
                <a:ext cx="143172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Centro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produ-tivo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7397640" y="2759040"/>
                <a:ext cx="23760" cy="3625920"/>
              </a:xfrm>
              <a:prstGeom prst="line">
                <a:avLst/>
              </a:prstGeom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4240" y="42696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Distribuição Final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3120" y="2819160"/>
            <a:ext cx="8460000" cy="3817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18960" indent="-318960" algn="just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A atividade de cada seção produtiva é medida por uma 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unidade de trabalho</a:t>
            </a:r>
            <a:r>
              <a:rPr b="0" lang="en-US" sz="30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e, assim, os custos da seção podem ser acompanhados e alocados aos produtos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2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Unidades de </a:t>
            </a:r>
            <a:br>
              <a:rPr sz="4000"/>
            </a:b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Trabalho - </a:t>
            </a:r>
            <a:r>
              <a:rPr b="1" i="1" lang="en-US" sz="4000" spc="-1" strike="noStrike">
                <a:solidFill>
                  <a:srgbClr val="cc0000"/>
                </a:solidFill>
                <a:latin typeface="Bookman Old Style"/>
              </a:rPr>
              <a:t>Exemplos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61880" y="2712960"/>
          <a:ext cx="8479080" cy="392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2712960"/>
                    <a:ext cx="847908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4240" y="42696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Homogeneidade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3120" y="2674440"/>
            <a:ext cx="8460000" cy="3962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18960" indent="-318960" algn="just">
              <a:lnSpc>
                <a:spcPct val="120000"/>
              </a:lnSpc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Se uma seção é </a:t>
            </a:r>
            <a:r>
              <a:rPr b="0" lang="en-US" sz="3000" spc="-1" strike="noStrike">
                <a:solidFill>
                  <a:srgbClr val="081d58"/>
                </a:solidFill>
                <a:latin typeface="Arial"/>
              </a:rPr>
              <a:t>homogênea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, os custos unitários dos elementos que constituem a seção são aproximadamente iguais ao custo unitário médio da seção. Então, </a:t>
            </a:r>
            <a:r>
              <a:rPr b="1" lang="en-US" sz="3000" spc="-1" strike="noStrike">
                <a:solidFill>
                  <a:srgbClr val="081d58"/>
                </a:solidFill>
                <a:latin typeface="Arial"/>
              </a:rPr>
              <a:t>a distribuição dos custos torna-se mais correta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0" dur="1" fill="hold"/>
                                  <p:tgtEl>
                                    <p:spTgt spid="2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520" y="1522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 de Seçõe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44520" y="1593720"/>
            <a:ext cx="2900160" cy="4496040"/>
            <a:chOff x="344520" y="1593720"/>
            <a:chExt cx="2900160" cy="4496040"/>
          </a:xfrm>
        </p:grpSpPr>
        <p:sp>
          <p:nvSpPr>
            <p:cNvPr id="292" name=""/>
            <p:cNvSpPr/>
            <p:nvPr/>
          </p:nvSpPr>
          <p:spPr>
            <a:xfrm>
              <a:off x="628560" y="1593720"/>
              <a:ext cx="2257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Arial"/>
                </a:rPr>
                <a:t>Homogênea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44520" y="2292480"/>
              <a:ext cx="2900160" cy="3797280"/>
              <a:chOff x="344520" y="2292480"/>
              <a:chExt cx="2900160" cy="3797280"/>
            </a:xfrm>
          </p:grpSpPr>
          <p:sp>
            <p:nvSpPr>
              <p:cNvPr id="294" name=""/>
              <p:cNvSpPr/>
              <p:nvPr/>
            </p:nvSpPr>
            <p:spPr>
              <a:xfrm>
                <a:off x="344520" y="2292480"/>
                <a:ext cx="2900160" cy="3797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480960" y="2444760"/>
                <a:ext cx="1069920" cy="1130400"/>
                <a:chOff x="480960" y="2444760"/>
                <a:chExt cx="1069920" cy="11304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80960" y="2444760"/>
                  <a:ext cx="1069920" cy="1130400"/>
                </a:xfrm>
                <a:prstGeom prst="ellipse">
                  <a:avLst/>
                </a:prstGeom>
                <a:solidFill>
                  <a:srgbClr val="b3b9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10480" y="2805120"/>
                  <a:ext cx="1030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279f"/>
                      </a:solidFill>
                      <a:latin typeface="Arial"/>
                    </a:rPr>
                    <a:t>$ 5 / h</a:t>
                  </a:r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1969920" y="3587760"/>
                <a:ext cx="1071720" cy="1130400"/>
              </a:xfrm>
              <a:prstGeom prst="ellipse">
                <a:avLst/>
              </a:prstGeom>
              <a:solidFill>
                <a:srgbClr val="b3b9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99440" y="3948120"/>
                <a:ext cx="1030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$ 5 / 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0960" y="4807080"/>
                <a:ext cx="1069920" cy="1130040"/>
              </a:xfrm>
              <a:prstGeom prst="ellipse">
                <a:avLst/>
              </a:prstGeom>
              <a:solidFill>
                <a:srgbClr val="b3b9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0480" y="5167440"/>
                <a:ext cx="1030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$ 5 / 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621440" y="2576520"/>
                <a:ext cx="139896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Torn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universal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9960" y="3795840"/>
                <a:ext cx="139896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Torn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universal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45120" y="5014800"/>
                <a:ext cx="139896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Torn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universal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" name=""/>
          <p:cNvSpPr/>
          <p:nvPr/>
        </p:nvSpPr>
        <p:spPr>
          <a:xfrm>
            <a:off x="342720" y="6242040"/>
            <a:ext cx="2708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Média = $ 5 / h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62640" y="1593720"/>
            <a:ext cx="3061800" cy="4496040"/>
            <a:chOff x="3662640" y="1593720"/>
            <a:chExt cx="3061800" cy="4496040"/>
          </a:xfrm>
        </p:grpSpPr>
        <p:sp>
          <p:nvSpPr>
            <p:cNvPr id="307" name=""/>
            <p:cNvSpPr/>
            <p:nvPr/>
          </p:nvSpPr>
          <p:spPr>
            <a:xfrm>
              <a:off x="3662640" y="1593720"/>
              <a:ext cx="30618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Não Homogênea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790800" y="2292480"/>
              <a:ext cx="2908440" cy="3797280"/>
              <a:chOff x="3790800" y="2292480"/>
              <a:chExt cx="2908440" cy="3797280"/>
            </a:xfrm>
          </p:grpSpPr>
          <p:sp>
            <p:nvSpPr>
              <p:cNvPr id="309" name=""/>
              <p:cNvSpPr/>
              <p:nvPr/>
            </p:nvSpPr>
            <p:spPr>
              <a:xfrm>
                <a:off x="3790800" y="2292480"/>
                <a:ext cx="2908440" cy="3797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925800" y="2444760"/>
                <a:ext cx="1076400" cy="1130400"/>
              </a:xfrm>
              <a:prstGeom prst="ellipse">
                <a:avLst/>
              </a:prstGeom>
              <a:solidFill>
                <a:srgbClr val="b3b9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56760" y="2805120"/>
                <a:ext cx="1030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 5 / 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19800" y="3587760"/>
                <a:ext cx="1074600" cy="1130400"/>
              </a:xfrm>
              <a:prstGeom prst="ellipse">
                <a:avLst/>
              </a:prstGeom>
              <a:solidFill>
                <a:srgbClr val="b3b9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50760" y="3948120"/>
                <a:ext cx="1030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 7 / 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25800" y="4807080"/>
                <a:ext cx="1076400" cy="1130040"/>
              </a:xfrm>
              <a:prstGeom prst="ellipse">
                <a:avLst/>
              </a:prstGeom>
              <a:solidFill>
                <a:srgbClr val="b3b9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98440" y="5167440"/>
                <a:ext cx="1199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 12 / 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72400" y="2576520"/>
                <a:ext cx="139896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rn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universal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833640" y="3795840"/>
                <a:ext cx="167184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rn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utomátic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38640" y="5014800"/>
                <a:ext cx="126504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rn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evólver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9" name=""/>
          <p:cNvSpPr/>
          <p:nvPr/>
        </p:nvSpPr>
        <p:spPr>
          <a:xfrm>
            <a:off x="3865320" y="6242040"/>
            <a:ext cx="2708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Média = $ 8 / h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Exemplo Ilustrativo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8080" y="25142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18960" indent="-318960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1 centro comum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ministração geral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1 centro auxiliar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2 centros produtivos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agem</a:t>
            </a:r>
            <a:r>
              <a:rPr b="0" lang="en-US" sz="30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tagem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4 itens de custos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lários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reciação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i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étrica 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eriais de consumo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2 produtos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1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 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2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 (200 un. P1 e 100 un. P2)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6" dur="1" fill="hold"/>
                                  <p:tgtEl>
                                    <p:spTgt spid="3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Rateio Primário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23" name=""/>
          <p:cNvSpPr/>
          <p:nvPr/>
        </p:nvSpPr>
        <p:spPr>
          <a:xfrm>
            <a:off x="441360" y="4322880"/>
            <a:ext cx="1393920" cy="3254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360" y="4648320"/>
            <a:ext cx="1393920" cy="42696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35280" y="4322880"/>
            <a:ext cx="116820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35280" y="4637160"/>
            <a:ext cx="1168200" cy="426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03480" y="4322880"/>
            <a:ext cx="11224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03480" y="4637160"/>
            <a:ext cx="1122480" cy="6429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25960" y="4322880"/>
            <a:ext cx="114624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25960" y="4637160"/>
            <a:ext cx="1146240" cy="5666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72200" y="4322880"/>
            <a:ext cx="11350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72200" y="4637160"/>
            <a:ext cx="1135080" cy="45252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7280" y="4322880"/>
            <a:ext cx="121896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07280" y="4637160"/>
            <a:ext cx="1218960" cy="43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6240" y="4322880"/>
            <a:ext cx="112896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6240" y="4637160"/>
            <a:ext cx="1128960" cy="49032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1360" y="5027760"/>
            <a:ext cx="1393920" cy="3254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360" y="5353200"/>
            <a:ext cx="1393920" cy="3254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1360" y="5678640"/>
            <a:ext cx="1393920" cy="3254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1360" y="6004080"/>
            <a:ext cx="1393920" cy="2966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48920" y="4332240"/>
            <a:ext cx="1366920" cy="1969200"/>
            <a:chOff x="448920" y="4332240"/>
            <a:chExt cx="1366920" cy="1969200"/>
          </a:xfrm>
        </p:grpSpPr>
        <p:sp>
          <p:nvSpPr>
            <p:cNvPr id="342" name=""/>
            <p:cNvSpPr/>
            <p:nvPr/>
          </p:nvSpPr>
          <p:spPr>
            <a:xfrm>
              <a:off x="658080" y="4332240"/>
              <a:ext cx="979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530"/>
                  </a:solidFill>
                  <a:latin typeface="Arial"/>
                </a:rPr>
                <a:t>Item de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4000" y="4657680"/>
              <a:ext cx="745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e00"/>
                  </a:solidFill>
                  <a:latin typeface="Arial"/>
                </a:rPr>
                <a:t>custo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9280" y="5035680"/>
              <a:ext cx="1087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e00"/>
                  </a:solidFill>
                  <a:latin typeface="Arial"/>
                </a:rPr>
                <a:t>Salários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8920" y="5362560"/>
              <a:ext cx="118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e00"/>
                  </a:solidFill>
                  <a:latin typeface="Arial"/>
                </a:rPr>
                <a:t>En. elétr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9640" y="5688000"/>
              <a:ext cx="1024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e00"/>
                  </a:solidFill>
                  <a:latin typeface="Arial"/>
                </a:rPr>
                <a:t>Deprec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9640" y="5965920"/>
              <a:ext cx="1366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e00"/>
                  </a:solidFill>
                  <a:latin typeface="Arial"/>
                </a:rPr>
                <a:t>Mat. cons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835280" y="5027760"/>
            <a:ext cx="1168200" cy="3124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35280" y="5340240"/>
            <a:ext cx="116820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35280" y="5654520"/>
            <a:ext cx="1168200" cy="3146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35280" y="5969160"/>
            <a:ext cx="1168200" cy="3124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25960" y="5027760"/>
            <a:ext cx="1146240" cy="3124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25960" y="5340240"/>
            <a:ext cx="114624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25960" y="5654520"/>
            <a:ext cx="1146240" cy="3146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25960" y="5969160"/>
            <a:ext cx="1146240" cy="414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72200" y="5027760"/>
            <a:ext cx="1135080" cy="312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72200" y="5340240"/>
            <a:ext cx="11350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72200" y="5654520"/>
            <a:ext cx="1135080" cy="3146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72200" y="5969160"/>
            <a:ext cx="1135080" cy="40140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07280" y="5027760"/>
            <a:ext cx="1218960" cy="3124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07280" y="5340240"/>
            <a:ext cx="121896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07280" y="5654520"/>
            <a:ext cx="1218960" cy="3146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7280" y="5969160"/>
            <a:ext cx="1218960" cy="43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38560" y="6383160"/>
            <a:ext cx="1133640" cy="3128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72200" y="6326280"/>
            <a:ext cx="1135080" cy="4143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07280" y="6383160"/>
            <a:ext cx="1218960" cy="4017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03480" y="5027760"/>
            <a:ext cx="1122480" cy="312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03480" y="5340240"/>
            <a:ext cx="11224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03480" y="5654520"/>
            <a:ext cx="1122480" cy="3146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03480" y="5969160"/>
            <a:ext cx="1122480" cy="312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6240" y="5027760"/>
            <a:ext cx="1128960" cy="312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26240" y="5340240"/>
            <a:ext cx="112896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6240" y="5654520"/>
            <a:ext cx="1128960" cy="3146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6240" y="5969160"/>
            <a:ext cx="1128960" cy="4395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6240" y="6383160"/>
            <a:ext cx="1128960" cy="3765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867680" y="4332240"/>
            <a:ext cx="1108080" cy="1980360"/>
            <a:chOff x="1867680" y="4332240"/>
            <a:chExt cx="1108080" cy="1980360"/>
          </a:xfrm>
        </p:grpSpPr>
        <p:sp>
          <p:nvSpPr>
            <p:cNvPr id="377" name=""/>
            <p:cNvSpPr/>
            <p:nvPr/>
          </p:nvSpPr>
          <p:spPr>
            <a:xfrm>
              <a:off x="2106360" y="4332240"/>
              <a:ext cx="653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Valor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57200" y="4645080"/>
              <a:ext cx="342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($)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67680" y="50450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.0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94840" y="534996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86760" y="56642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1.0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77400" y="597708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2.0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068280" y="4332240"/>
            <a:ext cx="1026360" cy="648360"/>
            <a:chOff x="3068280" y="4332240"/>
            <a:chExt cx="1026360" cy="648360"/>
          </a:xfrm>
        </p:grpSpPr>
        <p:sp>
          <p:nvSpPr>
            <p:cNvPr id="384" name=""/>
            <p:cNvSpPr/>
            <p:nvPr/>
          </p:nvSpPr>
          <p:spPr>
            <a:xfrm>
              <a:off x="3068280" y="4332240"/>
              <a:ext cx="1026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Base de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28120" y="464508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rateio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161520" y="5045040"/>
            <a:ext cx="700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e00"/>
                </a:solidFill>
                <a:latin typeface="Arial"/>
              </a:rPr>
              <a:t>direto</a:t>
            </a:r>
            <a:endParaRPr b="0" lang="en-US" sz="2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86560" y="5349960"/>
            <a:ext cx="1136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e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e00"/>
                </a:solidFill>
                <a:latin typeface="Arial"/>
              </a:rPr>
              <a:t>potência</a:t>
            </a:r>
            <a:endParaRPr b="0" lang="en-US" sz="2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27760" y="5664240"/>
            <a:ext cx="607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e00"/>
                </a:solidFill>
                <a:latin typeface="Arial"/>
              </a:rPr>
              <a:t>valor</a:t>
            </a:r>
            <a:endParaRPr b="0" lang="en-US" sz="2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99240" y="5977080"/>
            <a:ext cx="840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e00"/>
                </a:solidFill>
                <a:latin typeface="Arial"/>
              </a:rPr>
              <a:t>requis.</a:t>
            </a:r>
            <a:endParaRPr b="0" lang="en-US" sz="22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35440" y="1968480"/>
            <a:ext cx="6366960" cy="1722960"/>
            <a:chOff x="235440" y="1968480"/>
            <a:chExt cx="6366960" cy="1722960"/>
          </a:xfrm>
        </p:grpSpPr>
        <p:sp>
          <p:nvSpPr>
            <p:cNvPr id="391" name=""/>
            <p:cNvSpPr/>
            <p:nvPr/>
          </p:nvSpPr>
          <p:spPr>
            <a:xfrm>
              <a:off x="271440" y="2000160"/>
              <a:ext cx="1908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1440" y="2000160"/>
              <a:ext cx="1908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9080" y="2000160"/>
              <a:ext cx="260964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98720" y="2000160"/>
              <a:ext cx="1908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16360" y="2000160"/>
              <a:ext cx="93492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51280" y="2000160"/>
              <a:ext cx="1908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70360" y="2000160"/>
              <a:ext cx="98280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53160" y="2000160"/>
              <a:ext cx="1872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71880" y="2000160"/>
              <a:ext cx="80352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75400" y="2000160"/>
              <a:ext cx="1908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92680" y="2000160"/>
              <a:ext cx="88920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83320" y="2000160"/>
              <a:ext cx="1908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83320" y="2000160"/>
              <a:ext cx="1908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1440" y="2017800"/>
              <a:ext cx="19080" cy="6429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98720" y="2017800"/>
              <a:ext cx="9720" cy="6429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51280" y="2017800"/>
              <a:ext cx="9360" cy="6429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53160" y="2017800"/>
              <a:ext cx="9360" cy="6429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75400" y="2017800"/>
              <a:ext cx="9360" cy="6429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83320" y="2017800"/>
              <a:ext cx="19080" cy="6429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4160" y="1968480"/>
              <a:ext cx="21283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Bases de rateio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54440" y="1968480"/>
              <a:ext cx="10537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Admin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75400" y="2290680"/>
              <a:ext cx="8067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geral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41560" y="1968480"/>
              <a:ext cx="10386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Manut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58560" y="1968480"/>
              <a:ext cx="8222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Usin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92320" y="1968480"/>
              <a:ext cx="883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Mont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1440" y="2660760"/>
              <a:ext cx="1908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9080" y="2660760"/>
              <a:ext cx="260964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98720" y="2660760"/>
              <a:ext cx="972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08440" y="2660760"/>
              <a:ext cx="94428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1280" y="2660760"/>
              <a:ext cx="936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60640" y="2660760"/>
              <a:ext cx="99252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53160" y="2660760"/>
              <a:ext cx="936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2520" y="2660760"/>
              <a:ext cx="81288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75400" y="2660760"/>
              <a:ext cx="936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84760" y="2660760"/>
              <a:ext cx="89856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83320" y="2660760"/>
              <a:ext cx="1908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1440" y="2670120"/>
              <a:ext cx="19080" cy="96372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1440" y="3633840"/>
              <a:ext cx="1908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1440" y="3633840"/>
              <a:ext cx="1908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9080" y="3633840"/>
              <a:ext cx="260964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98720" y="2670120"/>
              <a:ext cx="9720" cy="96372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98720" y="3633840"/>
              <a:ext cx="1908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16360" y="3633840"/>
              <a:ext cx="93492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51280" y="2670120"/>
              <a:ext cx="9360" cy="96372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51280" y="3633840"/>
              <a:ext cx="1908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70360" y="3633840"/>
              <a:ext cx="98280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53160" y="2670120"/>
              <a:ext cx="9360" cy="96372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53160" y="3633840"/>
              <a:ext cx="1872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71880" y="3633840"/>
              <a:ext cx="80352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75400" y="2670120"/>
              <a:ext cx="9360" cy="96372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75400" y="3633840"/>
              <a:ext cx="1908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92680" y="3633840"/>
              <a:ext cx="88920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83320" y="2670120"/>
              <a:ext cx="19080" cy="96372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83320" y="3633840"/>
              <a:ext cx="1908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83320" y="3633840"/>
              <a:ext cx="1908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5440" y="2620800"/>
              <a:ext cx="27025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potência instal. (HP)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5200" y="2941560"/>
              <a:ext cx="25794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valor dos equip. ($)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4960" y="3263760"/>
              <a:ext cx="24526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mater. requisit. ($)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11200" y="2620800"/>
              <a:ext cx="3405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55680" y="2941560"/>
              <a:ext cx="6512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8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55680" y="3263760"/>
              <a:ext cx="6512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2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12640" y="2620800"/>
              <a:ext cx="49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1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16800" y="2941560"/>
              <a:ext cx="8845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7.2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3440" y="3263760"/>
              <a:ext cx="6512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45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22360" y="2620800"/>
              <a:ext cx="49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3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26520" y="2941560"/>
              <a:ext cx="8845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8.0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43160" y="3263760"/>
              <a:ext cx="6512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963760" y="2620800"/>
              <a:ext cx="3405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63760" y="2941560"/>
              <a:ext cx="3405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08240" y="3263760"/>
              <a:ext cx="6512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85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280040" y="4332240"/>
            <a:ext cx="4311720" cy="648360"/>
            <a:chOff x="4280040" y="4332240"/>
            <a:chExt cx="4311720" cy="648360"/>
          </a:xfrm>
        </p:grpSpPr>
        <p:grpSp>
          <p:nvGrpSpPr>
            <p:cNvPr id="462" name=""/>
            <p:cNvGrpSpPr/>
            <p:nvPr/>
          </p:nvGrpSpPr>
          <p:grpSpPr>
            <a:xfrm>
              <a:off x="4280040" y="4332240"/>
              <a:ext cx="869400" cy="648360"/>
              <a:chOff x="4280040" y="4332240"/>
              <a:chExt cx="869400" cy="648360"/>
            </a:xfrm>
          </p:grpSpPr>
          <p:sp>
            <p:nvSpPr>
              <p:cNvPr id="463" name=""/>
              <p:cNvSpPr/>
              <p:nvPr/>
            </p:nvSpPr>
            <p:spPr>
              <a:xfrm>
                <a:off x="4280040" y="4332240"/>
                <a:ext cx="869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Admin.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98120" y="4645080"/>
                <a:ext cx="6224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geral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434560" y="4332240"/>
              <a:ext cx="840600" cy="648360"/>
              <a:chOff x="5434560" y="4332240"/>
              <a:chExt cx="840600" cy="648360"/>
            </a:xfrm>
          </p:grpSpPr>
          <p:sp>
            <p:nvSpPr>
              <p:cNvPr id="466" name=""/>
              <p:cNvSpPr/>
              <p:nvPr/>
            </p:nvSpPr>
            <p:spPr>
              <a:xfrm>
                <a:off x="5457960" y="4332240"/>
                <a:ext cx="7916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Manu-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34560" y="4645080"/>
                <a:ext cx="840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tenção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6627600" y="4332240"/>
              <a:ext cx="808560" cy="648360"/>
              <a:chOff x="6627600" y="4332240"/>
              <a:chExt cx="808560" cy="648360"/>
            </a:xfrm>
          </p:grpSpPr>
          <p:sp>
            <p:nvSpPr>
              <p:cNvPr id="469" name=""/>
              <p:cNvSpPr/>
              <p:nvPr/>
            </p:nvSpPr>
            <p:spPr>
              <a:xfrm>
                <a:off x="6627600" y="4332240"/>
                <a:ext cx="8085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Usina-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54680" y="4645080"/>
                <a:ext cx="543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gem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7815240" y="4332240"/>
              <a:ext cx="776520" cy="648360"/>
              <a:chOff x="7815240" y="4332240"/>
              <a:chExt cx="776520" cy="648360"/>
            </a:xfrm>
          </p:grpSpPr>
          <p:sp>
            <p:nvSpPr>
              <p:cNvPr id="472" name=""/>
              <p:cNvSpPr/>
              <p:nvPr/>
            </p:nvSpPr>
            <p:spPr>
              <a:xfrm>
                <a:off x="7890120" y="4332240"/>
                <a:ext cx="636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Mon-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15240" y="4645080"/>
                <a:ext cx="776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tagem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4133160" y="5045040"/>
            <a:ext cx="4570560" cy="335520"/>
            <a:chOff x="4133160" y="5045040"/>
            <a:chExt cx="4570560" cy="335520"/>
          </a:xfrm>
        </p:grpSpPr>
        <p:sp>
          <p:nvSpPr>
            <p:cNvPr id="475" name=""/>
            <p:cNvSpPr/>
            <p:nvPr/>
          </p:nvSpPr>
          <p:spPr>
            <a:xfrm>
              <a:off x="4133160" y="50450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2.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95040" y="504504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90440" y="50450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1.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848000" y="504504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4510800" y="5349960"/>
            <a:ext cx="700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e00"/>
                </a:solidFill>
                <a:latin typeface="Arial"/>
              </a:rPr>
              <a:t>50,00</a:t>
            </a:r>
            <a:endParaRPr b="0" lang="en-US" sz="2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95040" y="5349960"/>
            <a:ext cx="855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e00"/>
                </a:solidFill>
                <a:latin typeface="Arial"/>
              </a:rPr>
              <a:t>100,00</a:t>
            </a:r>
            <a:endParaRPr b="0" lang="en-US" sz="22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717600" y="5349960"/>
            <a:ext cx="1981440" cy="335520"/>
            <a:chOff x="6717600" y="5349960"/>
            <a:chExt cx="1981440" cy="335520"/>
          </a:xfrm>
        </p:grpSpPr>
        <p:sp>
          <p:nvSpPr>
            <p:cNvPr id="482" name=""/>
            <p:cNvSpPr/>
            <p:nvPr/>
          </p:nvSpPr>
          <p:spPr>
            <a:xfrm>
              <a:off x="7998840" y="534996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17600" y="534996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3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529880" y="5664240"/>
            <a:ext cx="3664800" cy="335520"/>
            <a:chOff x="4529880" y="5664240"/>
            <a:chExt cx="3664800" cy="335520"/>
          </a:xfrm>
        </p:grpSpPr>
        <p:sp>
          <p:nvSpPr>
            <p:cNvPr id="485" name=""/>
            <p:cNvSpPr/>
            <p:nvPr/>
          </p:nvSpPr>
          <p:spPr>
            <a:xfrm>
              <a:off x="8101080" y="56642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29880" y="566424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14120" y="566424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4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36680" y="566424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369680" y="5977080"/>
            <a:ext cx="4343400" cy="335520"/>
            <a:chOff x="4369680" y="5977080"/>
            <a:chExt cx="4343400" cy="335520"/>
          </a:xfrm>
        </p:grpSpPr>
        <p:sp>
          <p:nvSpPr>
            <p:cNvPr id="490" name=""/>
            <p:cNvSpPr/>
            <p:nvPr/>
          </p:nvSpPr>
          <p:spPr>
            <a:xfrm>
              <a:off x="7857360" y="597708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8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69680" y="597708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2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04760" y="597708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4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26960" y="597708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152240" y="6391440"/>
            <a:ext cx="4576680" cy="335520"/>
            <a:chOff x="4152240" y="6391440"/>
            <a:chExt cx="4576680" cy="335520"/>
          </a:xfrm>
        </p:grpSpPr>
        <p:sp>
          <p:nvSpPr>
            <p:cNvPr id="495" name=""/>
            <p:cNvSpPr/>
            <p:nvPr/>
          </p:nvSpPr>
          <p:spPr>
            <a:xfrm>
              <a:off x="7639920" y="63914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1.4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52240" y="63914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2.8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85520" y="63914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1.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09520" y="63914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2.8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8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93760" y="13320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Rateio Secundário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00" name=""/>
          <p:cNvSpPr/>
          <p:nvPr/>
        </p:nvSpPr>
        <p:spPr>
          <a:xfrm>
            <a:off x="441360" y="2874960"/>
            <a:ext cx="1393920" cy="3254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1360" y="3200400"/>
            <a:ext cx="1393920" cy="42696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35280" y="2874960"/>
            <a:ext cx="116820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35280" y="3189240"/>
            <a:ext cx="1168200" cy="426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03480" y="2874960"/>
            <a:ext cx="11224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03480" y="3189240"/>
            <a:ext cx="1122480" cy="6429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25960" y="2874960"/>
            <a:ext cx="114624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25960" y="3189240"/>
            <a:ext cx="1146240" cy="5666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72200" y="2874960"/>
            <a:ext cx="11350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72200" y="3189240"/>
            <a:ext cx="1135080" cy="45252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7280" y="2874960"/>
            <a:ext cx="121896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7280" y="3189240"/>
            <a:ext cx="1218960" cy="4399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6240" y="2874960"/>
            <a:ext cx="112896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26240" y="3189240"/>
            <a:ext cx="1128960" cy="4906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1360" y="3579840"/>
            <a:ext cx="1393920" cy="3254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1360" y="3905280"/>
            <a:ext cx="1393920" cy="3254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1360" y="4230720"/>
            <a:ext cx="1393920" cy="3254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1360" y="4556160"/>
            <a:ext cx="1393920" cy="29700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35280" y="3579840"/>
            <a:ext cx="1168200" cy="3128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35280" y="3892680"/>
            <a:ext cx="116820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35280" y="4206960"/>
            <a:ext cx="116820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35280" y="4521240"/>
            <a:ext cx="1168200" cy="3128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25960" y="3579840"/>
            <a:ext cx="1146240" cy="3128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25960" y="3892680"/>
            <a:ext cx="114624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25960" y="4206960"/>
            <a:ext cx="114624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25960" y="4521240"/>
            <a:ext cx="1146240" cy="4143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72200" y="3579840"/>
            <a:ext cx="1135080" cy="3128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72200" y="3892680"/>
            <a:ext cx="11350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72200" y="4206960"/>
            <a:ext cx="11350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272200" y="4521240"/>
            <a:ext cx="1135080" cy="4017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07280" y="3579840"/>
            <a:ext cx="1218960" cy="3128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407280" y="3892680"/>
            <a:ext cx="121896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07280" y="4206960"/>
            <a:ext cx="121896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407280" y="4521240"/>
            <a:ext cx="1218960" cy="43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38560" y="4935600"/>
            <a:ext cx="1133640" cy="3128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272200" y="4878360"/>
            <a:ext cx="1135080" cy="4143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7280" y="4935600"/>
            <a:ext cx="1218960" cy="4014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284800" y="5275440"/>
            <a:ext cx="11224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07280" y="5275440"/>
            <a:ext cx="121896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84800" y="5614920"/>
            <a:ext cx="11224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07280" y="5614920"/>
            <a:ext cx="121896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8440" y="5886360"/>
            <a:ext cx="1207800" cy="3826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18440" y="6296040"/>
            <a:ext cx="120780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03480" y="3579840"/>
            <a:ext cx="1122480" cy="3128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03480" y="3892680"/>
            <a:ext cx="11224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03480" y="4206960"/>
            <a:ext cx="11224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03480" y="4521240"/>
            <a:ext cx="1122480" cy="3128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626240" y="3579840"/>
            <a:ext cx="1128960" cy="3128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26240" y="3892680"/>
            <a:ext cx="112896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26240" y="4206960"/>
            <a:ext cx="112896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626240" y="4521240"/>
            <a:ext cx="1128960" cy="4395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26240" y="4935600"/>
            <a:ext cx="1128960" cy="37620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26240" y="5275440"/>
            <a:ext cx="112896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626240" y="5614920"/>
            <a:ext cx="112896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626240" y="5905440"/>
            <a:ext cx="1128960" cy="36360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26240" y="6296040"/>
            <a:ext cx="112896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402240" y="6286680"/>
            <a:ext cx="233208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38120" y="2859120"/>
            <a:ext cx="8305920" cy="3760920"/>
            <a:chOff x="438120" y="2859120"/>
            <a:chExt cx="8305920" cy="3760920"/>
          </a:xfrm>
        </p:grpSpPr>
        <p:grpSp>
          <p:nvGrpSpPr>
            <p:cNvPr id="558" name=""/>
            <p:cNvGrpSpPr/>
            <p:nvPr/>
          </p:nvGrpSpPr>
          <p:grpSpPr>
            <a:xfrm>
              <a:off x="438120" y="2859120"/>
              <a:ext cx="8296200" cy="3760920"/>
              <a:chOff x="438120" y="2859120"/>
              <a:chExt cx="8296200" cy="3760920"/>
            </a:xfrm>
          </p:grpSpPr>
          <p:sp>
            <p:nvSpPr>
              <p:cNvPr id="559" name=""/>
              <p:cNvSpPr/>
              <p:nvPr/>
            </p:nvSpPr>
            <p:spPr>
              <a:xfrm>
                <a:off x="438120" y="2868480"/>
                <a:ext cx="0" cy="199872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819440" y="2878200"/>
                <a:ext cx="0" cy="199872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76880" y="2887560"/>
                <a:ext cx="0" cy="30369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114800" y="2868480"/>
                <a:ext cx="0" cy="23986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000240" y="2859120"/>
                <a:ext cx="0" cy="199872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400800" y="2878200"/>
                <a:ext cx="0" cy="37227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629480" y="2897280"/>
                <a:ext cx="0" cy="37227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734320" y="2878200"/>
                <a:ext cx="0" cy="37227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49280" y="2867040"/>
                <a:ext cx="828504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39560" y="4848120"/>
                <a:ext cx="828540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116240" y="5257800"/>
                <a:ext cx="460872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278320" y="5591160"/>
                <a:ext cx="3456000" cy="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5288040" y="5925600"/>
                <a:ext cx="3446280" cy="828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402240" y="6600960"/>
                <a:ext cx="233208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449280" y="3562200"/>
              <a:ext cx="829476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48920" y="2884320"/>
            <a:ext cx="8280000" cy="2394720"/>
            <a:chOff x="448920" y="2884320"/>
            <a:chExt cx="8280000" cy="2394720"/>
          </a:xfrm>
        </p:grpSpPr>
        <p:grpSp>
          <p:nvGrpSpPr>
            <p:cNvPr id="575" name=""/>
            <p:cNvGrpSpPr/>
            <p:nvPr/>
          </p:nvGrpSpPr>
          <p:grpSpPr>
            <a:xfrm>
              <a:off x="3068280" y="2884320"/>
              <a:ext cx="1026360" cy="648360"/>
              <a:chOff x="3068280" y="2884320"/>
              <a:chExt cx="1026360" cy="648360"/>
            </a:xfrm>
          </p:grpSpPr>
          <p:sp>
            <p:nvSpPr>
              <p:cNvPr id="576" name=""/>
              <p:cNvSpPr/>
              <p:nvPr/>
            </p:nvSpPr>
            <p:spPr>
              <a:xfrm>
                <a:off x="3068280" y="2884320"/>
                <a:ext cx="10263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Base de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228120" y="3197160"/>
                <a:ext cx="7002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rateio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4280040" y="2884320"/>
              <a:ext cx="869400" cy="648360"/>
              <a:chOff x="4280040" y="2884320"/>
              <a:chExt cx="869400" cy="648360"/>
            </a:xfrm>
          </p:grpSpPr>
          <p:sp>
            <p:nvSpPr>
              <p:cNvPr id="579" name=""/>
              <p:cNvSpPr/>
              <p:nvPr/>
            </p:nvSpPr>
            <p:spPr>
              <a:xfrm>
                <a:off x="4280040" y="2884320"/>
                <a:ext cx="869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Admin.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98120" y="3197160"/>
                <a:ext cx="6224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geral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5434560" y="2884320"/>
              <a:ext cx="840600" cy="648360"/>
              <a:chOff x="5434560" y="2884320"/>
              <a:chExt cx="840600" cy="648360"/>
            </a:xfrm>
          </p:grpSpPr>
          <p:sp>
            <p:nvSpPr>
              <p:cNvPr id="582" name=""/>
              <p:cNvSpPr/>
              <p:nvPr/>
            </p:nvSpPr>
            <p:spPr>
              <a:xfrm>
                <a:off x="5457960" y="2884320"/>
                <a:ext cx="7916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Manu-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34560" y="3197160"/>
                <a:ext cx="840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tenção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627600" y="2884320"/>
              <a:ext cx="808560" cy="648360"/>
              <a:chOff x="6627600" y="2884320"/>
              <a:chExt cx="808560" cy="648360"/>
            </a:xfrm>
          </p:grpSpPr>
          <p:sp>
            <p:nvSpPr>
              <p:cNvPr id="585" name=""/>
              <p:cNvSpPr/>
              <p:nvPr/>
            </p:nvSpPr>
            <p:spPr>
              <a:xfrm>
                <a:off x="6627600" y="2884320"/>
                <a:ext cx="8085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Usina-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54680" y="3197160"/>
                <a:ext cx="543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gem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7815240" y="2884320"/>
              <a:ext cx="776520" cy="648360"/>
              <a:chOff x="7815240" y="2884320"/>
              <a:chExt cx="776520" cy="648360"/>
            </a:xfrm>
          </p:grpSpPr>
          <p:sp>
            <p:nvSpPr>
              <p:cNvPr id="588" name=""/>
              <p:cNvSpPr/>
              <p:nvPr/>
            </p:nvSpPr>
            <p:spPr>
              <a:xfrm>
                <a:off x="7890120" y="2884320"/>
                <a:ext cx="636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Mon-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15240" y="3197160"/>
                <a:ext cx="776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tagem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448920" y="2884320"/>
              <a:ext cx="1366920" cy="1969200"/>
              <a:chOff x="448920" y="2884320"/>
              <a:chExt cx="1366920" cy="1969200"/>
            </a:xfrm>
          </p:grpSpPr>
          <p:sp>
            <p:nvSpPr>
              <p:cNvPr id="591" name=""/>
              <p:cNvSpPr/>
              <p:nvPr/>
            </p:nvSpPr>
            <p:spPr>
              <a:xfrm>
                <a:off x="658080" y="2884320"/>
                <a:ext cx="9792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530"/>
                    </a:solidFill>
                    <a:latin typeface="Arial"/>
                  </a:rPr>
                  <a:t>Item de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74000" y="3209760"/>
                <a:ext cx="745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e00"/>
                    </a:solidFill>
                    <a:latin typeface="Arial"/>
                  </a:rPr>
                  <a:t>custo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280" y="3587760"/>
                <a:ext cx="10872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e00"/>
                    </a:solidFill>
                    <a:latin typeface="Arial"/>
                  </a:rPr>
                  <a:t>Salários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48920" y="3914640"/>
                <a:ext cx="11804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e00"/>
                    </a:solidFill>
                    <a:latin typeface="Arial"/>
                  </a:rPr>
                  <a:t>En. elétr.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49640" y="4240080"/>
                <a:ext cx="1024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e00"/>
                    </a:solidFill>
                    <a:latin typeface="Arial"/>
                  </a:rPr>
                  <a:t>Deprec.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49640" y="4518000"/>
                <a:ext cx="13662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e00"/>
                    </a:solidFill>
                    <a:latin typeface="Arial"/>
                  </a:rPr>
                  <a:t>Mat. cons.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161520" y="359712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direto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33160" y="359712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2.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95040" y="359712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90440" y="359712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1.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848000" y="359712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98840" y="390204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86560" y="3902040"/>
              <a:ext cx="113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potência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10800" y="390204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95040" y="390204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1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7600" y="390204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3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01080" y="421632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27760" y="4216320"/>
              <a:ext cx="607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valor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29880" y="421632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14120" y="421632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4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736680" y="421632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857360" y="452916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8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1867680" y="2884320"/>
              <a:ext cx="1108080" cy="1980360"/>
              <a:chOff x="1867680" y="2884320"/>
              <a:chExt cx="1108080" cy="1980360"/>
            </a:xfrm>
          </p:grpSpPr>
          <p:sp>
            <p:nvSpPr>
              <p:cNvPr id="614" name=""/>
              <p:cNvSpPr/>
              <p:nvPr/>
            </p:nvSpPr>
            <p:spPr>
              <a:xfrm>
                <a:off x="2106360" y="2884320"/>
                <a:ext cx="6530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Valor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257200" y="3197160"/>
                <a:ext cx="342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($)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67680" y="3597120"/>
                <a:ext cx="1089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3e00"/>
                    </a:solidFill>
                    <a:latin typeface="Arial"/>
                  </a:rPr>
                  <a:t>5.000,00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94840" y="3902040"/>
                <a:ext cx="8557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3e00"/>
                    </a:solidFill>
                    <a:latin typeface="Arial"/>
                  </a:rPr>
                  <a:t>500,00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886760" y="4216320"/>
                <a:ext cx="1089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3e00"/>
                    </a:solidFill>
                    <a:latin typeface="Arial"/>
                  </a:rPr>
                  <a:t>1.000,00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877400" y="4529160"/>
                <a:ext cx="1089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3e00"/>
                    </a:solidFill>
                    <a:latin typeface="Arial"/>
                  </a:rPr>
                  <a:t>2.000,00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3099240" y="4529160"/>
              <a:ext cx="840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requis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69680" y="452916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2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04760" y="452916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4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726960" y="452916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4152240" y="4943520"/>
              <a:ext cx="4576680" cy="335520"/>
              <a:chOff x="4152240" y="4943520"/>
              <a:chExt cx="4576680" cy="335520"/>
            </a:xfrm>
          </p:grpSpPr>
          <p:sp>
            <p:nvSpPr>
              <p:cNvPr id="625" name=""/>
              <p:cNvSpPr/>
              <p:nvPr/>
            </p:nvSpPr>
            <p:spPr>
              <a:xfrm>
                <a:off x="7639920" y="4943520"/>
                <a:ext cx="1089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1.400,00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152240" y="4943520"/>
                <a:ext cx="1089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2.800,00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285520" y="4943520"/>
                <a:ext cx="1089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1.500,00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509520" y="4943520"/>
                <a:ext cx="1089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2.800,00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9" name=""/>
          <p:cNvGrpSpPr/>
          <p:nvPr/>
        </p:nvGrpSpPr>
        <p:grpSpPr>
          <a:xfrm>
            <a:off x="1078200" y="5235480"/>
            <a:ext cx="4205160" cy="454680"/>
            <a:chOff x="1078200" y="5235480"/>
            <a:chExt cx="4205160" cy="454680"/>
          </a:xfrm>
        </p:grpSpPr>
        <p:sp>
          <p:nvSpPr>
            <p:cNvPr id="630" name=""/>
            <p:cNvSpPr/>
            <p:nvPr/>
          </p:nvSpPr>
          <p:spPr>
            <a:xfrm>
              <a:off x="1078200" y="5235480"/>
              <a:ext cx="341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Arial"/>
                </a:rPr>
                <a:t>número de empregad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560840" y="5262480"/>
              <a:ext cx="722520" cy="187560"/>
            </a:xfrm>
            <a:custGeom>
              <a:avLst/>
              <a:gdLst/>
              <a:ahLst/>
              <a:rect l="l" t="t" r="r" b="b"/>
              <a:pathLst>
                <a:path w="455" h="118">
                  <a:moveTo>
                    <a:pt x="0" y="0"/>
                  </a:moveTo>
                  <a:lnTo>
                    <a:pt x="0" y="117"/>
                  </a:lnTo>
                  <a:lnTo>
                    <a:pt x="454" y="117"/>
                  </a:lnTo>
                </a:path>
              </a:pathLst>
            </a:custGeom>
            <a:noFill/>
            <a:ln cap="rnd" w="25560">
              <a:solidFill>
                <a:srgbClr val="081d5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3978360" y="1389240"/>
            <a:ext cx="9360" cy="642600"/>
          </a:xfrm>
          <a:prstGeom prst="rect">
            <a:avLst/>
          </a:prstGeom>
          <a:solidFill>
            <a:srgbClr val="0035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978360" y="2031840"/>
            <a:ext cx="9360" cy="7920"/>
          </a:xfrm>
          <a:prstGeom prst="rect">
            <a:avLst/>
          </a:prstGeom>
          <a:solidFill>
            <a:srgbClr val="0035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78360" y="2039760"/>
            <a:ext cx="9360" cy="642960"/>
          </a:xfrm>
          <a:prstGeom prst="rect">
            <a:avLst/>
          </a:prstGeom>
          <a:solidFill>
            <a:srgbClr val="0035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307800" y="1371600"/>
            <a:ext cx="5573880" cy="1334160"/>
            <a:chOff x="307800" y="1371600"/>
            <a:chExt cx="5573880" cy="1334160"/>
          </a:xfrm>
        </p:grpSpPr>
        <p:sp>
          <p:nvSpPr>
            <p:cNvPr id="636" name=""/>
            <p:cNvSpPr/>
            <p:nvPr/>
          </p:nvSpPr>
          <p:spPr>
            <a:xfrm>
              <a:off x="307800" y="1371600"/>
              <a:ext cx="1764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7800" y="1371600"/>
              <a:ext cx="1764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5440" y="1371600"/>
              <a:ext cx="266400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89440" y="1371600"/>
              <a:ext cx="1872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08160" y="1371600"/>
              <a:ext cx="97020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78360" y="1371600"/>
              <a:ext cx="190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97440" y="1371600"/>
              <a:ext cx="8794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876920" y="1371600"/>
              <a:ext cx="190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96000" y="1371600"/>
              <a:ext cx="96840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4400" y="1371600"/>
              <a:ext cx="172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64400" y="1371600"/>
              <a:ext cx="172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7800" y="1389240"/>
              <a:ext cx="17640" cy="64260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989440" y="1389240"/>
              <a:ext cx="9360" cy="64260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76920" y="1389240"/>
              <a:ext cx="9360" cy="64260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64400" y="1389240"/>
              <a:ext cx="17280" cy="64260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4120" y="1398600"/>
              <a:ext cx="19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81d58"/>
                  </a:solidFill>
                  <a:latin typeface="Arial"/>
                </a:rPr>
                <a:t>Bases de rateio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93480" y="1398600"/>
              <a:ext cx="791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81d58"/>
                  </a:solidFill>
                  <a:latin typeface="Arial"/>
                </a:rPr>
                <a:t>Manu-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127680" y="1719360"/>
              <a:ext cx="840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81d58"/>
                  </a:solidFill>
                  <a:latin typeface="Arial"/>
                </a:rPr>
                <a:t>tenção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88880" y="1398600"/>
              <a:ext cx="808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81d58"/>
                  </a:solidFill>
                  <a:latin typeface="Arial"/>
                </a:rPr>
                <a:t>Usina-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59800" y="1719360"/>
              <a:ext cx="543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81d58"/>
                  </a:solidFill>
                  <a:latin typeface="Arial"/>
                </a:rPr>
                <a:t>gem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60160" y="1398600"/>
              <a:ext cx="636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81d58"/>
                  </a:solidFill>
                  <a:latin typeface="Arial"/>
                </a:rPr>
                <a:t>Mon-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83840" y="1719360"/>
              <a:ext cx="776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81d58"/>
                  </a:solidFill>
                  <a:latin typeface="Arial"/>
                </a:rPr>
                <a:t>tagem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07800" y="2031840"/>
              <a:ext cx="17640" cy="792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5440" y="2031840"/>
              <a:ext cx="2664000" cy="792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989440" y="2031840"/>
              <a:ext cx="9360" cy="792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98800" y="2031840"/>
              <a:ext cx="979560" cy="792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87720" y="2031840"/>
              <a:ext cx="889200" cy="792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76920" y="2031840"/>
              <a:ext cx="9360" cy="792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886280" y="2031840"/>
              <a:ext cx="978120" cy="792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864400" y="2031840"/>
              <a:ext cx="17280" cy="792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7800" y="2039760"/>
              <a:ext cx="17640" cy="64296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7800" y="2682720"/>
              <a:ext cx="1764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07800" y="2682720"/>
              <a:ext cx="1764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5440" y="2682720"/>
              <a:ext cx="266400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89440" y="2039760"/>
              <a:ext cx="9360" cy="64296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89440" y="2682720"/>
              <a:ext cx="1872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08160" y="2682720"/>
              <a:ext cx="97020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78360" y="2682720"/>
              <a:ext cx="190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97440" y="2682720"/>
              <a:ext cx="8794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76920" y="2039760"/>
              <a:ext cx="9360" cy="64296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876920" y="2682720"/>
              <a:ext cx="190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896000" y="2682720"/>
              <a:ext cx="96840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64400" y="2039760"/>
              <a:ext cx="17280" cy="64296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64400" y="2682720"/>
              <a:ext cx="172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864400" y="2682720"/>
              <a:ext cx="172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1680" y="2049480"/>
              <a:ext cx="2515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530"/>
                  </a:solidFill>
                  <a:latin typeface="Arial"/>
                </a:rPr>
                <a:t>tempo de manut. (h)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86800" y="2370240"/>
              <a:ext cx="2126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530"/>
                  </a:solidFill>
                  <a:latin typeface="Arial"/>
                </a:rPr>
                <a:t>número de empr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02800" y="20494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530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71480" y="2370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53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99040" y="204948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530"/>
                  </a:solidFill>
                  <a:latin typeface="Arial"/>
                </a:rPr>
                <a:t>108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8360" y="23702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530"/>
                  </a:solidFill>
                  <a:latin typeface="Arial"/>
                </a:rPr>
                <a:t>15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221080" y="20494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530"/>
                  </a:solidFill>
                  <a:latin typeface="Arial"/>
                </a:rPr>
                <a:t>12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83000" y="23702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530"/>
                  </a:solidFill>
                  <a:latin typeface="Arial"/>
                </a:rPr>
                <a:t>3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5495040" y="5275440"/>
            <a:ext cx="3214800" cy="335520"/>
            <a:chOff x="5495040" y="5275440"/>
            <a:chExt cx="3214800" cy="335520"/>
          </a:xfrm>
        </p:grpSpPr>
        <p:sp>
          <p:nvSpPr>
            <p:cNvPr id="690" name=""/>
            <p:cNvSpPr/>
            <p:nvPr/>
          </p:nvSpPr>
          <p:spPr>
            <a:xfrm>
              <a:off x="7620840" y="52754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.68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95040" y="527544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8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717600" y="527544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4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285520" y="5624640"/>
            <a:ext cx="3443400" cy="335520"/>
            <a:chOff x="5285520" y="5624640"/>
            <a:chExt cx="3443400" cy="335520"/>
          </a:xfrm>
        </p:grpSpPr>
        <p:sp>
          <p:nvSpPr>
            <p:cNvPr id="694" name=""/>
            <p:cNvSpPr/>
            <p:nvPr/>
          </p:nvSpPr>
          <p:spPr>
            <a:xfrm>
              <a:off x="7639920" y="56246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3.08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85520" y="56246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c0023"/>
                  </a:solidFill>
                  <a:latin typeface="Arial"/>
                </a:rPr>
                <a:t>1.78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09520" y="56246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3.64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2454480" y="5884920"/>
            <a:ext cx="3963960" cy="454680"/>
            <a:chOff x="2454480" y="5884920"/>
            <a:chExt cx="3963960" cy="454680"/>
          </a:xfrm>
        </p:grpSpPr>
        <p:sp>
          <p:nvSpPr>
            <p:cNvPr id="698" name=""/>
            <p:cNvSpPr/>
            <p:nvPr/>
          </p:nvSpPr>
          <p:spPr>
            <a:xfrm>
              <a:off x="2454480" y="5884920"/>
              <a:ext cx="3214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Arial"/>
                </a:rPr>
                <a:t>tempo de manutençã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59560" y="5956200"/>
              <a:ext cx="758880" cy="179640"/>
            </a:xfrm>
            <a:custGeom>
              <a:avLst/>
              <a:gdLst/>
              <a:ahLst/>
              <a:rect l="l" t="t" r="r" b="b"/>
              <a:pathLst>
                <a:path w="478" h="113">
                  <a:moveTo>
                    <a:pt x="0" y="0"/>
                  </a:moveTo>
                  <a:lnTo>
                    <a:pt x="0" y="112"/>
                  </a:lnTo>
                  <a:lnTo>
                    <a:pt x="477" y="112"/>
                  </a:lnTo>
                </a:path>
              </a:pathLst>
            </a:custGeom>
            <a:noFill/>
            <a:ln cap="rnd" w="25560">
              <a:solidFill>
                <a:srgbClr val="081d5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6509520" y="5964120"/>
            <a:ext cx="2213280" cy="335520"/>
            <a:chOff x="6509520" y="5964120"/>
            <a:chExt cx="2213280" cy="335520"/>
          </a:xfrm>
        </p:grpSpPr>
        <p:sp>
          <p:nvSpPr>
            <p:cNvPr id="701" name=""/>
            <p:cNvSpPr/>
            <p:nvPr/>
          </p:nvSpPr>
          <p:spPr>
            <a:xfrm>
              <a:off x="7867080" y="596412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c0023"/>
                  </a:solidFill>
                  <a:latin typeface="Arial"/>
                </a:rPr>
                <a:t>178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9520" y="596412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c0023"/>
                  </a:solidFill>
                  <a:latin typeface="Arial"/>
                </a:rPr>
                <a:t>1.602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490440" y="6305400"/>
            <a:ext cx="2219400" cy="335520"/>
            <a:chOff x="6490440" y="6305400"/>
            <a:chExt cx="2219400" cy="335520"/>
          </a:xfrm>
        </p:grpSpPr>
        <p:sp>
          <p:nvSpPr>
            <p:cNvPr id="704" name=""/>
            <p:cNvSpPr/>
            <p:nvPr/>
          </p:nvSpPr>
          <p:spPr>
            <a:xfrm>
              <a:off x="7620840" y="630540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3.258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490440" y="630540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5.242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Unidades de Trabalh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07" name=""/>
          <p:cNvSpPr/>
          <p:nvPr/>
        </p:nvSpPr>
        <p:spPr>
          <a:xfrm>
            <a:off x="849240" y="3968640"/>
            <a:ext cx="27000" cy="82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49240" y="396864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05040" y="402264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905040" y="402264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932040" y="3968640"/>
            <a:ext cx="8348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32040" y="4022640"/>
            <a:ext cx="8348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765440" y="39686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765440" y="40226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47880" y="3968640"/>
            <a:ext cx="27954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847880" y="4022640"/>
            <a:ext cx="27954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643280" y="396864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643280" y="402264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26080" y="3968640"/>
            <a:ext cx="2882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26080" y="4022640"/>
            <a:ext cx="2882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08960" y="39686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608960" y="40226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49240" y="4051440"/>
            <a:ext cx="2700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05040" y="4051440"/>
            <a:ext cx="2700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65440" y="405144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01800" y="405144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643280" y="405144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80000" y="405144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608960" y="405144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645320" y="405144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932040" y="4051440"/>
            <a:ext cx="834840" cy="357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32040" y="4408560"/>
            <a:ext cx="834840" cy="30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820880" y="4051440"/>
            <a:ext cx="282240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20880" y="4398840"/>
            <a:ext cx="2822400" cy="39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99080" y="4051440"/>
            <a:ext cx="291132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99080" y="4398840"/>
            <a:ext cx="2911320" cy="39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49240" y="4438800"/>
            <a:ext cx="2700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905040" y="4438800"/>
            <a:ext cx="2700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762200" y="443880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798560" y="443880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640400" y="443880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676760" y="443880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08960" y="443880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645320" y="443880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932040" y="4438800"/>
            <a:ext cx="831600" cy="357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932040" y="4797360"/>
            <a:ext cx="831600" cy="30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17640" y="4438800"/>
            <a:ext cx="95904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817640" y="4788000"/>
            <a:ext cx="959040" cy="39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76680" y="44388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76680" y="4788000"/>
            <a:ext cx="898560" cy="39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675240" y="4438800"/>
            <a:ext cx="9651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75240" y="4788000"/>
            <a:ext cx="965160" cy="39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95840" y="4438800"/>
            <a:ext cx="95868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95840" y="4788000"/>
            <a:ext cx="958680" cy="39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654520" y="44388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654520" y="4788000"/>
            <a:ext cx="898560" cy="39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553080" y="4438800"/>
            <a:ext cx="105732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553080" y="4788000"/>
            <a:ext cx="1057320" cy="39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05040" y="482760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9240" y="482760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32040" y="4827600"/>
            <a:ext cx="8316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32040" y="4881600"/>
            <a:ext cx="8316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2200" y="4827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62200" y="4881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44640" y="4827600"/>
            <a:ext cx="9320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44640" y="4881600"/>
            <a:ext cx="9320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776680" y="4827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776680" y="4881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59120" y="4827600"/>
            <a:ext cx="8161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859120" y="4881600"/>
            <a:ext cx="8161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675240" y="4827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675240" y="4881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757680" y="4827600"/>
            <a:ext cx="8827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757680" y="4881600"/>
            <a:ext cx="8827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40400" y="4827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40400" y="4881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722840" y="482760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722840" y="488160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54520" y="48276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54520" y="48816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737320" y="4827600"/>
            <a:ext cx="8157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37320" y="4881600"/>
            <a:ext cx="8157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553080" y="48276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553080" y="48816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634080" y="4827600"/>
            <a:ext cx="974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634080" y="4881600"/>
            <a:ext cx="974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08960" y="4827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08960" y="4881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49240" y="4908600"/>
            <a:ext cx="2700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905040" y="4908600"/>
            <a:ext cx="2700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49240" y="5684760"/>
            <a:ext cx="27000" cy="82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49240" y="574056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05040" y="568476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905040" y="568476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932040" y="5684760"/>
            <a:ext cx="8316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932040" y="5740560"/>
            <a:ext cx="8316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762200" y="49086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798560" y="49086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762200" y="56847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762200" y="57405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844640" y="5684760"/>
            <a:ext cx="9320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44640" y="5740560"/>
            <a:ext cx="9320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776680" y="56847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776680" y="57405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59120" y="5684760"/>
            <a:ext cx="8161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859120" y="5740560"/>
            <a:ext cx="8161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675240" y="56847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675240" y="57405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57680" y="5684760"/>
            <a:ext cx="8827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757680" y="5740560"/>
            <a:ext cx="8827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640400" y="49086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676760" y="49086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640400" y="56847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640400" y="57405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722840" y="568476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722840" y="574056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654520" y="568476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54520" y="574056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37320" y="5684760"/>
            <a:ext cx="8157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37320" y="5740560"/>
            <a:ext cx="8157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553080" y="568476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553080" y="574056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34080" y="5684760"/>
            <a:ext cx="974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634080" y="5740560"/>
            <a:ext cx="974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08960" y="49086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645320" y="49086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608960" y="56847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608960" y="57405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932040" y="4908600"/>
            <a:ext cx="831600" cy="357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932040" y="5267160"/>
            <a:ext cx="831600" cy="3574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932040" y="5624640"/>
            <a:ext cx="831600" cy="60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17640" y="4908600"/>
            <a:ext cx="95904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17640" y="5257800"/>
            <a:ext cx="95904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817640" y="5607000"/>
            <a:ext cx="959040" cy="7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776680" y="49086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776680" y="52578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76680" y="5607000"/>
            <a:ext cx="898560" cy="7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675240" y="4908600"/>
            <a:ext cx="9651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675240" y="5257800"/>
            <a:ext cx="9651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675240" y="5607000"/>
            <a:ext cx="965160" cy="7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695840" y="4908600"/>
            <a:ext cx="958680" cy="376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695840" y="5284800"/>
            <a:ext cx="958680" cy="376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695840" y="5661000"/>
            <a:ext cx="958680" cy="237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654520" y="49086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54520" y="52578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54520" y="5607000"/>
            <a:ext cx="898560" cy="7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553080" y="4908600"/>
            <a:ext cx="105732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553080" y="5257800"/>
            <a:ext cx="105732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553080" y="5607000"/>
            <a:ext cx="1057320" cy="7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908640" y="4006800"/>
            <a:ext cx="844920" cy="1674360"/>
            <a:chOff x="908640" y="4006800"/>
            <a:chExt cx="844920" cy="1674360"/>
          </a:xfrm>
        </p:grpSpPr>
        <p:sp>
          <p:nvSpPr>
            <p:cNvPr id="851" name=""/>
            <p:cNvSpPr/>
            <p:nvPr/>
          </p:nvSpPr>
          <p:spPr>
            <a:xfrm>
              <a:off x="933120" y="4006800"/>
              <a:ext cx="794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</a:rPr>
                <a:t>Pro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908640" y="4395600"/>
              <a:ext cx="84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</a:rPr>
                <a:t>dut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49400" y="486540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P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49400" y="522288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P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2438640" y="3962520"/>
            <a:ext cx="4595760" cy="458280"/>
            <a:chOff x="2438640" y="3962520"/>
            <a:chExt cx="4595760" cy="458280"/>
          </a:xfrm>
        </p:grpSpPr>
        <p:sp>
          <p:nvSpPr>
            <p:cNvPr id="856" name=""/>
            <p:cNvSpPr/>
            <p:nvPr/>
          </p:nvSpPr>
          <p:spPr>
            <a:xfrm>
              <a:off x="2438640" y="3962520"/>
              <a:ext cx="1640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</a:rPr>
                <a:t>Usinagem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325480" y="3962520"/>
              <a:ext cx="170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</a:rPr>
                <a:t>Montagem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1752120" y="4386240"/>
            <a:ext cx="3977280" cy="1306080"/>
            <a:chOff x="1752120" y="4386240"/>
            <a:chExt cx="3977280" cy="1306080"/>
          </a:xfrm>
        </p:grpSpPr>
        <p:grpSp>
          <p:nvGrpSpPr>
            <p:cNvPr id="859" name=""/>
            <p:cNvGrpSpPr/>
            <p:nvPr/>
          </p:nvGrpSpPr>
          <p:grpSpPr>
            <a:xfrm>
              <a:off x="1752120" y="4386240"/>
              <a:ext cx="1099440" cy="1277280"/>
              <a:chOff x="1752120" y="4386240"/>
              <a:chExt cx="1099440" cy="1277280"/>
            </a:xfrm>
          </p:grpSpPr>
          <p:sp>
            <p:nvSpPr>
              <p:cNvPr id="860" name=""/>
              <p:cNvSpPr/>
              <p:nvPr/>
            </p:nvSpPr>
            <p:spPr>
              <a:xfrm>
                <a:off x="1752120" y="4386240"/>
                <a:ext cx="1099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</a:rPr>
                  <a:t>temp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64520" y="4856040"/>
                <a:ext cx="79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0,9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64520" y="5205240"/>
                <a:ext cx="79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0,1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4629960" y="4386240"/>
              <a:ext cx="1099440" cy="1306080"/>
              <a:chOff x="4629960" y="4386240"/>
              <a:chExt cx="1099440" cy="1306080"/>
            </a:xfrm>
          </p:grpSpPr>
          <p:sp>
            <p:nvSpPr>
              <p:cNvPr id="864" name=""/>
              <p:cNvSpPr/>
              <p:nvPr/>
            </p:nvSpPr>
            <p:spPr>
              <a:xfrm>
                <a:off x="4629960" y="4386240"/>
                <a:ext cx="1099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</a:rPr>
                  <a:t>temp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26880" y="4857480"/>
                <a:ext cx="79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0,1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826880" y="5234040"/>
                <a:ext cx="79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1,4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7" name=""/>
          <p:cNvGrpSpPr/>
          <p:nvPr/>
        </p:nvGrpSpPr>
        <p:grpSpPr>
          <a:xfrm>
            <a:off x="3563640" y="4378320"/>
            <a:ext cx="4033080" cy="1277280"/>
            <a:chOff x="3563640" y="4378320"/>
            <a:chExt cx="4033080" cy="1277280"/>
          </a:xfrm>
        </p:grpSpPr>
        <p:grpSp>
          <p:nvGrpSpPr>
            <p:cNvPr id="868" name=""/>
            <p:cNvGrpSpPr/>
            <p:nvPr/>
          </p:nvGrpSpPr>
          <p:grpSpPr>
            <a:xfrm>
              <a:off x="6716880" y="4378320"/>
              <a:ext cx="879840" cy="1277280"/>
              <a:chOff x="6716880" y="4378320"/>
              <a:chExt cx="879840" cy="1277280"/>
            </a:xfrm>
          </p:grpSpPr>
          <p:sp>
            <p:nvSpPr>
              <p:cNvPr id="869" name=""/>
              <p:cNvSpPr/>
              <p:nvPr/>
            </p:nvSpPr>
            <p:spPr>
              <a:xfrm>
                <a:off x="6736680" y="4378320"/>
                <a:ext cx="5904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</a:rPr>
                  <a:t>UT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716880" y="4848120"/>
                <a:ext cx="87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20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718320" y="5197320"/>
                <a:ext cx="8784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140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3563640" y="4378320"/>
              <a:ext cx="1070280" cy="1277280"/>
              <a:chOff x="3563640" y="4378320"/>
              <a:chExt cx="1070280" cy="1277280"/>
            </a:xfrm>
          </p:grpSpPr>
          <p:sp>
            <p:nvSpPr>
              <p:cNvPr id="873" name=""/>
              <p:cNvSpPr/>
              <p:nvPr/>
            </p:nvSpPr>
            <p:spPr>
              <a:xfrm>
                <a:off x="3563640" y="4378320"/>
                <a:ext cx="846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</a:rPr>
                  <a:t>UT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70200" y="4848120"/>
                <a:ext cx="963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180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68760" y="5197320"/>
                <a:ext cx="9651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10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6" name=""/>
          <p:cNvGrpSpPr/>
          <p:nvPr/>
        </p:nvGrpSpPr>
        <p:grpSpPr>
          <a:xfrm>
            <a:off x="2756160" y="4378320"/>
            <a:ext cx="3960000" cy="1277280"/>
            <a:chOff x="2756160" y="4378320"/>
            <a:chExt cx="3960000" cy="1277280"/>
          </a:xfrm>
        </p:grpSpPr>
        <p:grpSp>
          <p:nvGrpSpPr>
            <p:cNvPr id="877" name=""/>
            <p:cNvGrpSpPr/>
            <p:nvPr/>
          </p:nvGrpSpPr>
          <p:grpSpPr>
            <a:xfrm>
              <a:off x="2756160" y="4378320"/>
              <a:ext cx="1064520" cy="1277280"/>
              <a:chOff x="2756160" y="4378320"/>
              <a:chExt cx="1064520" cy="1277280"/>
            </a:xfrm>
          </p:grpSpPr>
          <p:sp>
            <p:nvSpPr>
              <p:cNvPr id="878" name=""/>
              <p:cNvSpPr/>
              <p:nvPr/>
            </p:nvSpPr>
            <p:spPr>
              <a:xfrm>
                <a:off x="2773800" y="4378320"/>
                <a:ext cx="87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</a:rPr>
                  <a:t>Qtde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756160" y="4848120"/>
                <a:ext cx="106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200un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756160" y="5197320"/>
                <a:ext cx="106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100un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5651640" y="4378320"/>
              <a:ext cx="1064520" cy="1277280"/>
              <a:chOff x="5651640" y="4378320"/>
              <a:chExt cx="1064520" cy="1277280"/>
            </a:xfrm>
          </p:grpSpPr>
          <p:sp>
            <p:nvSpPr>
              <p:cNvPr id="882" name=""/>
              <p:cNvSpPr/>
              <p:nvPr/>
            </p:nvSpPr>
            <p:spPr>
              <a:xfrm>
                <a:off x="5669280" y="4378320"/>
                <a:ext cx="87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</a:rPr>
                  <a:t>Qtde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651640" y="4848120"/>
                <a:ext cx="106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200un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651640" y="5197320"/>
                <a:ext cx="106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100un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"/>
          <p:cNvGrpSpPr/>
          <p:nvPr/>
        </p:nvGrpSpPr>
        <p:grpSpPr>
          <a:xfrm>
            <a:off x="3727800" y="5726160"/>
            <a:ext cx="3921840" cy="465840"/>
            <a:chOff x="3727800" y="5726160"/>
            <a:chExt cx="3921840" cy="465840"/>
          </a:xfrm>
        </p:grpSpPr>
        <p:sp>
          <p:nvSpPr>
            <p:cNvPr id="886" name=""/>
            <p:cNvSpPr/>
            <p:nvPr/>
          </p:nvSpPr>
          <p:spPr>
            <a:xfrm>
              <a:off x="3727800" y="5732280"/>
              <a:ext cx="95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90 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613920" y="5726160"/>
              <a:ext cx="10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60 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762120" y="2514600"/>
            <a:ext cx="556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79f"/>
                </a:solidFill>
                <a:latin typeface="Arial"/>
              </a:rPr>
              <a:t>A unidade de trabalho é o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mpo</a:t>
            </a:r>
            <a:r>
              <a:rPr b="0" lang="pt-BR" sz="2800" spc="-1" strike="noStrike">
                <a:solidFill>
                  <a:srgbClr val="00279f"/>
                </a:solidFill>
                <a:latin typeface="Arial"/>
              </a:rPr>
              <a:t> em ambos os centro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77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2" dur="770" fill="hold"/>
                                        <p:tgtEl>
                                          <p:spTgt spid="8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4" dur="77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Custos dos Produtos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90" name=""/>
          <p:cNvSpPr/>
          <p:nvPr/>
        </p:nvSpPr>
        <p:spPr>
          <a:xfrm>
            <a:off x="379440" y="446724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79440" y="44672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34880" y="452124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34880" y="452124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61880" y="4467240"/>
            <a:ext cx="8352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61880" y="4521240"/>
            <a:ext cx="8352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295280" y="446724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295280" y="452124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378080" y="4467240"/>
            <a:ext cx="27954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378080" y="4521240"/>
            <a:ext cx="27954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173480" y="44672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173480" y="45212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255920" y="4467240"/>
            <a:ext cx="28832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255920" y="4521240"/>
            <a:ext cx="28832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139160" y="44672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139160" y="45212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21600" y="4467240"/>
            <a:ext cx="1611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21600" y="4521240"/>
            <a:ext cx="1611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886960" y="446724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832960" y="44672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832960" y="452124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832960" y="452124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440" y="4549680"/>
            <a:ext cx="2700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34880" y="4549680"/>
            <a:ext cx="2700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295280" y="454968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332000" y="454968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173480" y="454968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210200" y="454968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139160" y="4549680"/>
            <a:ext cx="1872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175520" y="454968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832960" y="4549680"/>
            <a:ext cx="2700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886960" y="4549680"/>
            <a:ext cx="2700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61880" y="4549680"/>
            <a:ext cx="835200" cy="357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61880" y="4906800"/>
            <a:ext cx="835200" cy="30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351080" y="4549680"/>
            <a:ext cx="282240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351080" y="4897440"/>
            <a:ext cx="2822400" cy="39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229280" y="4549680"/>
            <a:ext cx="291132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229280" y="4897440"/>
            <a:ext cx="2911320" cy="39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194600" y="4549680"/>
            <a:ext cx="1638360" cy="3891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79440" y="4937040"/>
            <a:ext cx="2700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34880" y="4937040"/>
            <a:ext cx="2700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292400" y="4937040"/>
            <a:ext cx="1872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328760" y="493704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170240" y="493704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206960" y="493704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139160" y="4937040"/>
            <a:ext cx="1872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175520" y="493704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832960" y="4937040"/>
            <a:ext cx="2700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8886960" y="4937040"/>
            <a:ext cx="2700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61880" y="4937040"/>
            <a:ext cx="831960" cy="357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1880" y="5295960"/>
            <a:ext cx="831960" cy="30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347840" y="4937040"/>
            <a:ext cx="95868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347840" y="5286240"/>
            <a:ext cx="958680" cy="39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306520" y="493704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06520" y="5286240"/>
            <a:ext cx="898560" cy="39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205080" y="4937040"/>
            <a:ext cx="9651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05080" y="5286240"/>
            <a:ext cx="965160" cy="39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226040" y="4937040"/>
            <a:ext cx="95868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226040" y="5286240"/>
            <a:ext cx="958680" cy="39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84720" y="493704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84720" y="5286240"/>
            <a:ext cx="898560" cy="39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083280" y="4937040"/>
            <a:ext cx="105732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83280" y="5286240"/>
            <a:ext cx="1057320" cy="39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194600" y="4937040"/>
            <a:ext cx="1638360" cy="3891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34880" y="532620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9440" y="532620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61880" y="5326200"/>
            <a:ext cx="8319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61880" y="5380200"/>
            <a:ext cx="8319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292400" y="53262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292400" y="53802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374840" y="532620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374840" y="538020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306520" y="53262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06520" y="53802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389320" y="5326200"/>
            <a:ext cx="8157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389320" y="5380200"/>
            <a:ext cx="8157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205080" y="53262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205080" y="53802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287880" y="5326200"/>
            <a:ext cx="882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287880" y="5380200"/>
            <a:ext cx="882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70240" y="53262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70240" y="53802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253040" y="532620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253040" y="538020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184720" y="53262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184720" y="53802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267160" y="5326200"/>
            <a:ext cx="8161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267160" y="5380200"/>
            <a:ext cx="8161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083280" y="53262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3802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164280" y="5326200"/>
            <a:ext cx="974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64280" y="5380200"/>
            <a:ext cx="974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139160" y="53262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139160" y="53802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21600" y="5326200"/>
            <a:ext cx="1611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221600" y="5380200"/>
            <a:ext cx="1611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886960" y="532620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832960" y="532620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79440" y="5407200"/>
            <a:ext cx="2700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34880" y="5407200"/>
            <a:ext cx="2700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9440" y="618336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79440" y="62388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34880" y="618336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34880" y="618336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61880" y="6183360"/>
            <a:ext cx="8319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1880" y="6238800"/>
            <a:ext cx="8319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292400" y="5407200"/>
            <a:ext cx="1872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328760" y="54072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292400" y="61833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92400" y="62388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374840" y="618336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374840" y="623880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306520" y="618336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306520" y="62388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389320" y="6183360"/>
            <a:ext cx="8157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389320" y="6238800"/>
            <a:ext cx="8157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205080" y="618336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205080" y="62388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287880" y="6183360"/>
            <a:ext cx="882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287880" y="6238800"/>
            <a:ext cx="882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170240" y="54072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206960" y="54072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170240" y="618336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170240" y="62388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253040" y="618336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253040" y="623880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184720" y="61833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184720" y="62388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267160" y="6183360"/>
            <a:ext cx="8161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267160" y="6238800"/>
            <a:ext cx="8161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83280" y="61833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083280" y="62388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164280" y="6183360"/>
            <a:ext cx="974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64280" y="6238800"/>
            <a:ext cx="974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139160" y="5407200"/>
            <a:ext cx="1872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175520" y="54072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139160" y="61833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139160" y="62388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21600" y="6183360"/>
            <a:ext cx="1611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21600" y="6238800"/>
            <a:ext cx="1611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832960" y="5407200"/>
            <a:ext cx="2700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886960" y="5407200"/>
            <a:ext cx="2700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886960" y="618336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832960" y="62388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832960" y="618336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832960" y="618336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1880" y="5407200"/>
            <a:ext cx="831960" cy="357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61880" y="5765760"/>
            <a:ext cx="831960" cy="357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61880" y="6122880"/>
            <a:ext cx="831960" cy="604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347840" y="5407200"/>
            <a:ext cx="95868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347840" y="5756400"/>
            <a:ext cx="95868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347840" y="6105600"/>
            <a:ext cx="958680" cy="7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306520" y="54072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306520" y="57564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306520" y="6105600"/>
            <a:ext cx="898560" cy="7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205080" y="5407200"/>
            <a:ext cx="9651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05080" y="5756400"/>
            <a:ext cx="9651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05080" y="6105600"/>
            <a:ext cx="965160" cy="7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226040" y="5407200"/>
            <a:ext cx="958680" cy="376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226040" y="5783400"/>
            <a:ext cx="958680" cy="376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226040" y="6159600"/>
            <a:ext cx="958680" cy="237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84720" y="54072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184720" y="57564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184720" y="6105600"/>
            <a:ext cx="898560" cy="7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083280" y="5407200"/>
            <a:ext cx="105732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83280" y="5756400"/>
            <a:ext cx="105732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83280" y="6105600"/>
            <a:ext cx="1057320" cy="7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194600" y="5407200"/>
            <a:ext cx="1638360" cy="3888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194600" y="5796000"/>
            <a:ext cx="1638360" cy="3888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9760" y="2762280"/>
            <a:ext cx="87739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e00"/>
                </a:solidFill>
                <a:latin typeface="Arial"/>
              </a:rPr>
              <a:t>Custo unitário (usinagem)  = $ 5.242,00 / 190 h = $27,59/h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7680" y="3486240"/>
            <a:ext cx="88102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e00"/>
                </a:solidFill>
                <a:latin typeface="Arial"/>
              </a:rPr>
              <a:t>Custo unitário (montagem) = $ 3.258,00 / 160 h = $20,36/h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452160" y="4505400"/>
            <a:ext cx="844920" cy="1674360"/>
            <a:chOff x="452160" y="4505400"/>
            <a:chExt cx="844920" cy="1674360"/>
          </a:xfrm>
        </p:grpSpPr>
        <p:sp>
          <p:nvSpPr>
            <p:cNvPr id="1062" name=""/>
            <p:cNvSpPr/>
            <p:nvPr/>
          </p:nvSpPr>
          <p:spPr>
            <a:xfrm>
              <a:off x="475920" y="4505400"/>
              <a:ext cx="794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</a:rPr>
                <a:t>Pro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52160" y="4894200"/>
              <a:ext cx="84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</a:rPr>
                <a:t>dut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92200" y="536400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P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92200" y="572148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P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1980000" y="4495680"/>
            <a:ext cx="4511880" cy="458280"/>
            <a:chOff x="1980000" y="4495680"/>
            <a:chExt cx="4511880" cy="458280"/>
          </a:xfrm>
        </p:grpSpPr>
        <p:sp>
          <p:nvSpPr>
            <p:cNvPr id="1067" name=""/>
            <p:cNvSpPr/>
            <p:nvPr/>
          </p:nvSpPr>
          <p:spPr>
            <a:xfrm>
              <a:off x="1980000" y="4495680"/>
              <a:ext cx="155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Usinagem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66480" y="4495680"/>
              <a:ext cx="1625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Montagem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294920" y="4884840"/>
            <a:ext cx="1032480" cy="1277280"/>
            <a:chOff x="1294920" y="4884840"/>
            <a:chExt cx="1032480" cy="1277280"/>
          </a:xfrm>
        </p:grpSpPr>
        <p:sp>
          <p:nvSpPr>
            <p:cNvPr id="1070" name=""/>
            <p:cNvSpPr/>
            <p:nvPr/>
          </p:nvSpPr>
          <p:spPr>
            <a:xfrm>
              <a:off x="1294920" y="4884840"/>
              <a:ext cx="103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temp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495440" y="5354640"/>
              <a:ext cx="77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e00"/>
                  </a:solidFill>
                  <a:latin typeface="Arial"/>
                </a:rPr>
                <a:t>0,9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495440" y="5703840"/>
              <a:ext cx="77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e00"/>
                  </a:solidFill>
                  <a:latin typeface="Arial"/>
                </a:rPr>
                <a:t>0,1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4160520" y="4884840"/>
            <a:ext cx="1032480" cy="1306080"/>
            <a:chOff x="4160520" y="4884840"/>
            <a:chExt cx="1032480" cy="1306080"/>
          </a:xfrm>
        </p:grpSpPr>
        <p:sp>
          <p:nvSpPr>
            <p:cNvPr id="1074" name=""/>
            <p:cNvSpPr/>
            <p:nvPr/>
          </p:nvSpPr>
          <p:spPr>
            <a:xfrm>
              <a:off x="4160520" y="4884840"/>
              <a:ext cx="103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temp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357800" y="5356080"/>
              <a:ext cx="77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e00"/>
                  </a:solidFill>
                  <a:latin typeface="Arial"/>
                </a:rPr>
                <a:t>0,1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357800" y="5732640"/>
              <a:ext cx="77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e00"/>
                  </a:solidFill>
                  <a:latin typeface="Arial"/>
                </a:rPr>
                <a:t>1,4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2271960" y="4884840"/>
            <a:ext cx="947160" cy="1277280"/>
            <a:chOff x="2271960" y="4884840"/>
            <a:chExt cx="947160" cy="1277280"/>
          </a:xfrm>
        </p:grpSpPr>
        <p:sp>
          <p:nvSpPr>
            <p:cNvPr id="1078" name=""/>
            <p:cNvSpPr/>
            <p:nvPr/>
          </p:nvSpPr>
          <p:spPr>
            <a:xfrm>
              <a:off x="2455560" y="4884840"/>
              <a:ext cx="608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$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271960" y="5354640"/>
              <a:ext cx="94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e00"/>
                  </a:solidFill>
                  <a:latin typeface="Arial"/>
                </a:rPr>
                <a:t>27,59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271960" y="5703840"/>
              <a:ext cx="94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e00"/>
                  </a:solidFill>
                  <a:latin typeface="Arial"/>
                </a:rPr>
                <a:t>27,59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15160" y="4884840"/>
            <a:ext cx="948600" cy="1277280"/>
            <a:chOff x="3215160" y="4884840"/>
            <a:chExt cx="948600" cy="1277280"/>
          </a:xfrm>
        </p:grpSpPr>
        <p:sp>
          <p:nvSpPr>
            <p:cNvPr id="1082" name=""/>
            <p:cNvSpPr/>
            <p:nvPr/>
          </p:nvSpPr>
          <p:spPr>
            <a:xfrm>
              <a:off x="3246120" y="4884840"/>
              <a:ext cx="913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cust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16600" y="5354640"/>
              <a:ext cx="94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4,83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15160" y="5703840"/>
              <a:ext cx="94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,76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5150160" y="4884840"/>
            <a:ext cx="947160" cy="1277280"/>
            <a:chOff x="5150160" y="4884840"/>
            <a:chExt cx="947160" cy="1277280"/>
          </a:xfrm>
        </p:grpSpPr>
        <p:sp>
          <p:nvSpPr>
            <p:cNvPr id="1086" name=""/>
            <p:cNvSpPr/>
            <p:nvPr/>
          </p:nvSpPr>
          <p:spPr>
            <a:xfrm>
              <a:off x="5331960" y="4884840"/>
              <a:ext cx="608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$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150160" y="5354640"/>
              <a:ext cx="94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e00"/>
                  </a:solidFill>
                  <a:latin typeface="Arial"/>
                </a:rPr>
                <a:t>20,36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150160" y="5703840"/>
              <a:ext cx="94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e00"/>
                  </a:solidFill>
                  <a:latin typeface="Arial"/>
                </a:rPr>
                <a:t>20,36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134760" y="4884840"/>
            <a:ext cx="948600" cy="1277280"/>
            <a:chOff x="6134760" y="4884840"/>
            <a:chExt cx="948600" cy="1277280"/>
          </a:xfrm>
        </p:grpSpPr>
        <p:sp>
          <p:nvSpPr>
            <p:cNvPr id="1090" name=""/>
            <p:cNvSpPr/>
            <p:nvPr/>
          </p:nvSpPr>
          <p:spPr>
            <a:xfrm>
              <a:off x="6166800" y="4884840"/>
              <a:ext cx="913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cust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134760" y="5354640"/>
              <a:ext cx="94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,0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135840" y="5703840"/>
              <a:ext cx="94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8,5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7313760" y="4495680"/>
            <a:ext cx="1398240" cy="1734840"/>
            <a:chOff x="7313760" y="4495680"/>
            <a:chExt cx="1398240" cy="1734840"/>
          </a:xfrm>
        </p:grpSpPr>
        <p:sp>
          <p:nvSpPr>
            <p:cNvPr id="1094" name=""/>
            <p:cNvSpPr/>
            <p:nvPr/>
          </p:nvSpPr>
          <p:spPr>
            <a:xfrm>
              <a:off x="7452720" y="4495680"/>
              <a:ext cx="11239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81d58"/>
                  </a:solidFill>
                  <a:latin typeface="Arial"/>
                </a:rPr>
                <a:t>Custo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313760" y="4884840"/>
              <a:ext cx="139824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81d58"/>
                  </a:solidFill>
                  <a:latin typeface="Arial"/>
                </a:rPr>
                <a:t>unitário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06720" y="5354640"/>
              <a:ext cx="10141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e00"/>
                  </a:solidFill>
                  <a:latin typeface="Arial"/>
                </a:rPr>
                <a:t>26,87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506720" y="5742000"/>
              <a:ext cx="10141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e00"/>
                  </a:solidFill>
                  <a:latin typeface="Arial"/>
                </a:rPr>
                <a:t>31,27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5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aracterística Principal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8080" y="2742840"/>
            <a:ext cx="8388360" cy="3962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18960" indent="-31896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Organização dividida em centros de custos, aos quais os custos são alocados através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s de distribuição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os centros, os custos são repassados aos produt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43000" y="1835280"/>
            <a:ext cx="5465520" cy="1739880"/>
            <a:chOff x="243000" y="1835280"/>
            <a:chExt cx="5465520" cy="1739880"/>
          </a:xfrm>
        </p:grpSpPr>
        <p:sp>
          <p:nvSpPr>
            <p:cNvPr id="49" name=""/>
            <p:cNvSpPr/>
            <p:nvPr/>
          </p:nvSpPr>
          <p:spPr>
            <a:xfrm>
              <a:off x="243000" y="1835280"/>
              <a:ext cx="5465520" cy="1739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23840" y="2028960"/>
              <a:ext cx="1807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Empresa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181160" y="2660760"/>
            <a:ext cx="35982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e00"/>
                </a:solidFill>
                <a:latin typeface="Arial"/>
              </a:rPr>
              <a:t>Custos = $ 1.000,0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6680" y="4883040"/>
            <a:ext cx="5541840" cy="1739880"/>
            <a:chOff x="166680" y="4883040"/>
            <a:chExt cx="5541840" cy="1739880"/>
          </a:xfrm>
        </p:grpSpPr>
        <p:sp>
          <p:nvSpPr>
            <p:cNvPr id="53" name=""/>
            <p:cNvSpPr/>
            <p:nvPr/>
          </p:nvSpPr>
          <p:spPr>
            <a:xfrm>
              <a:off x="166680" y="4883040"/>
              <a:ext cx="5541840" cy="1739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30320" y="489276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4880" y="500076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19360" y="500076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24120" y="500076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35440" y="489276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846520" y="3889440"/>
            <a:ext cx="2415960" cy="687240"/>
            <a:chOff x="2846520" y="3889440"/>
            <a:chExt cx="2415960" cy="687240"/>
          </a:xfrm>
        </p:grpSpPr>
        <p:sp>
          <p:nvSpPr>
            <p:cNvPr id="60" name=""/>
            <p:cNvSpPr/>
            <p:nvPr/>
          </p:nvSpPr>
          <p:spPr>
            <a:xfrm>
              <a:off x="2846520" y="3889440"/>
              <a:ext cx="1440" cy="687240"/>
            </a:xfrm>
            <a:prstGeom prst="line">
              <a:avLst/>
            </a:prstGeom>
            <a:ln w="76320">
              <a:solidFill>
                <a:srgbClr val="3c002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89160" y="3956040"/>
              <a:ext cx="21733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c0023"/>
                  </a:solidFill>
                  <a:latin typeface="Arial"/>
                </a:rPr>
                <a:t>Distribuição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48040" y="5784840"/>
            <a:ext cx="5388840" cy="545760"/>
            <a:chOff x="248040" y="5784840"/>
            <a:chExt cx="5388840" cy="545760"/>
          </a:xfrm>
        </p:grpSpPr>
        <p:sp>
          <p:nvSpPr>
            <p:cNvPr id="63" name=""/>
            <p:cNvSpPr/>
            <p:nvPr/>
          </p:nvSpPr>
          <p:spPr>
            <a:xfrm>
              <a:off x="39740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5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768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3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80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2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18960" y="1606680"/>
            <a:ext cx="5542200" cy="1739880"/>
            <a:chOff x="318960" y="1606680"/>
            <a:chExt cx="5542200" cy="1739880"/>
          </a:xfrm>
        </p:grpSpPr>
        <p:sp>
          <p:nvSpPr>
            <p:cNvPr id="67" name=""/>
            <p:cNvSpPr/>
            <p:nvPr/>
          </p:nvSpPr>
          <p:spPr>
            <a:xfrm>
              <a:off x="318960" y="1606680"/>
              <a:ext cx="5542200" cy="1739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82960" y="161604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160" y="17240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71640" y="17240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e0043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76400" y="172404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26320" y="2508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Arial"/>
                </a:rPr>
                <a:t>$ 5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29120" y="2508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e0043"/>
                  </a:solidFill>
                  <a:latin typeface="Arial"/>
                </a:rPr>
                <a:t>$ 3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4360" y="2508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$ 2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87720" y="161604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18960" y="5187960"/>
            <a:ext cx="5813640" cy="1359000"/>
            <a:chOff x="318960" y="5187960"/>
            <a:chExt cx="5813640" cy="1359000"/>
          </a:xfrm>
        </p:grpSpPr>
        <p:sp>
          <p:nvSpPr>
            <p:cNvPr id="77" name=""/>
            <p:cNvSpPr/>
            <p:nvPr/>
          </p:nvSpPr>
          <p:spPr>
            <a:xfrm>
              <a:off x="318960" y="5187960"/>
              <a:ext cx="2473560" cy="1359000"/>
            </a:xfrm>
            <a:prstGeom prst="roundRect">
              <a:avLst>
                <a:gd name="adj" fmla="val 12477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5880" y="5327640"/>
              <a:ext cx="2086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Produto P1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06920" y="5187960"/>
              <a:ext cx="2425680" cy="1359000"/>
            </a:xfrm>
            <a:prstGeom prst="roundRect">
              <a:avLst>
                <a:gd name="adj" fmla="val 12477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0080" y="5327640"/>
              <a:ext cx="2086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Produto P2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520" y="1522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2" name=""/>
          <p:cNvSpPr/>
          <p:nvPr/>
        </p:nvSpPr>
        <p:spPr>
          <a:xfrm>
            <a:off x="5378400" y="4032360"/>
            <a:ext cx="2173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c0023"/>
                </a:solidFill>
                <a:latin typeface="Arial"/>
              </a:rPr>
              <a:t>Distribuição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82720" y="3264840"/>
            <a:ext cx="3938400" cy="1904040"/>
            <a:chOff x="882720" y="3264840"/>
            <a:chExt cx="3938400" cy="1904040"/>
          </a:xfrm>
        </p:grpSpPr>
        <p:sp>
          <p:nvSpPr>
            <p:cNvPr id="84" name=""/>
            <p:cNvSpPr/>
            <p:nvPr/>
          </p:nvSpPr>
          <p:spPr>
            <a:xfrm>
              <a:off x="1395360" y="3368520"/>
              <a:ext cx="3425760" cy="180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380000">
              <a:off x="1882800" y="341424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14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882720" y="3368520"/>
              <a:ext cx="689040" cy="1800360"/>
              <a:chOff x="882720" y="3368520"/>
              <a:chExt cx="689040" cy="1800360"/>
            </a:xfrm>
          </p:grpSpPr>
          <p:sp>
            <p:nvSpPr>
              <p:cNvPr id="87" name=""/>
              <p:cNvSpPr/>
              <p:nvPr/>
            </p:nvSpPr>
            <p:spPr>
              <a:xfrm>
                <a:off x="1312920" y="4206960"/>
                <a:ext cx="0" cy="9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312920" y="3368520"/>
                <a:ext cx="0" cy="35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82720" y="3795840"/>
                <a:ext cx="689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6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1302840" y="3368520"/>
            <a:ext cx="3729240" cy="1800360"/>
            <a:chOff x="1302840" y="3368520"/>
            <a:chExt cx="3729240" cy="1800360"/>
          </a:xfrm>
        </p:grpSpPr>
        <p:sp>
          <p:nvSpPr>
            <p:cNvPr id="91" name=""/>
            <p:cNvSpPr/>
            <p:nvPr/>
          </p:nvSpPr>
          <p:spPr>
            <a:xfrm flipH="1">
              <a:off x="1302840" y="3368520"/>
              <a:ext cx="1783080" cy="1800360"/>
            </a:xfrm>
            <a:prstGeom prst="line">
              <a:avLst/>
            </a:prstGeom>
            <a:ln w="12600">
              <a:solidFill>
                <a:srgbClr val="6e004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89160" y="3368520"/>
              <a:ext cx="1800360" cy="1800360"/>
            </a:xfrm>
            <a:prstGeom prst="line">
              <a:avLst/>
            </a:prstGeom>
            <a:ln w="12600">
              <a:solidFill>
                <a:srgbClr val="6e004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080000">
              <a:off x="1458000" y="410004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Arial"/>
                </a:rPr>
                <a:t>$1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580000">
              <a:off x="4133880" y="43290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Arial"/>
                </a:rPr>
                <a:t>$1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379520" y="3265200"/>
            <a:ext cx="3960360" cy="1903680"/>
            <a:chOff x="1379520" y="3265200"/>
            <a:chExt cx="3960360" cy="1903680"/>
          </a:xfrm>
        </p:grpSpPr>
        <p:sp>
          <p:nvSpPr>
            <p:cNvPr id="96" name=""/>
            <p:cNvSpPr/>
            <p:nvPr/>
          </p:nvSpPr>
          <p:spPr>
            <a:xfrm>
              <a:off x="4978440" y="4282920"/>
              <a:ext cx="0" cy="8859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379520" y="3368520"/>
              <a:ext cx="3611520" cy="18003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81640" y="38718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$4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0280000">
              <a:off x="3635640" y="34146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$1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978440" y="3265200"/>
              <a:ext cx="0" cy="55548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43320" y="5937120"/>
            <a:ext cx="5095080" cy="545760"/>
            <a:chOff x="643320" y="5937120"/>
            <a:chExt cx="5095080" cy="545760"/>
          </a:xfrm>
        </p:grpSpPr>
        <p:sp>
          <p:nvSpPr>
            <p:cNvPr id="102" name=""/>
            <p:cNvSpPr/>
            <p:nvPr/>
          </p:nvSpPr>
          <p:spPr>
            <a:xfrm>
              <a:off x="643320" y="5937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34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75560" y="5937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66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Formação dos Centros de Cus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8080" y="2819160"/>
            <a:ext cx="8388360" cy="3886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18960" indent="-31896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entros determinados por motivos de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organização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localização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responsabilidade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 e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homogeneidade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De acordo com o relacionamento com os produtos, os centros de custos podem ser classificados em </a:t>
            </a:r>
            <a:r>
              <a:rPr b="1" lang="en-US" sz="3200" spc="-1" strike="noStrike">
                <a:solidFill>
                  <a:srgbClr val="6e0043"/>
                </a:solidFill>
                <a:latin typeface="Arial"/>
              </a:rPr>
              <a:t>Diretos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 e </a:t>
            </a:r>
            <a:r>
              <a:rPr b="1" lang="en-US" sz="3200" spc="-1" strike="noStrike">
                <a:solidFill>
                  <a:srgbClr val="6e0043"/>
                </a:solidFill>
                <a:latin typeface="Arial"/>
              </a:rPr>
              <a:t>Indiretos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Homogeneidade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2120" y="2895480"/>
            <a:ext cx="8616960" cy="38102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18960" indent="-31896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Um centro é homogêneo se o trabalho realizado nele independe do produto que o utiliza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uanto mais homogêneos forem os centros (seções), melhor será a qualidade da distribuição dos cust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7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160" y="533520"/>
            <a:ext cx="563076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s de Seções Produtiva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3120" y="3319560"/>
            <a:ext cx="8764560" cy="396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18960" indent="-318960" algn="just">
              <a:lnSpc>
                <a:spcPct val="95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Seção composta por tornos similares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 algn="just">
              <a:lnSpc>
                <a:spcPct val="95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Seção de tornos automáticos, revólver e universais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 algn="just">
              <a:lnSpc>
                <a:spcPct val="95000"/>
              </a:lnSpc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Teares do mesmo tipo, largura e velocidade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 algn="just">
              <a:lnSpc>
                <a:spcPct val="95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Teares de diferentes larguras, tipos e velocidades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 algn="just">
              <a:lnSpc>
                <a:spcPct val="95000"/>
              </a:lnSpc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Seção de prensas de mesmo tipo e tamanho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 algn="just">
              <a:lnSpc>
                <a:spcPct val="95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Prensas de várias capacidades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2200" y="2714760"/>
            <a:ext cx="758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eções homogêneas e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não homogêneas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12" name=""/>
          <p:cNvSpPr/>
          <p:nvPr/>
        </p:nvSpPr>
        <p:spPr>
          <a:xfrm>
            <a:off x="243000" y="1835280"/>
            <a:ext cx="5465520" cy="1739880"/>
          </a:xfrm>
          <a:prstGeom prst="rect">
            <a:avLst/>
          </a:prstGeom>
          <a:solidFill>
            <a:srgbClr val="fcfeb9"/>
          </a:solidFill>
          <a:ln w="12600">
            <a:solidFill>
              <a:srgbClr val="3c0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23840" y="2028960"/>
            <a:ext cx="180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Empresa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1160" y="2660760"/>
            <a:ext cx="35982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e00"/>
                </a:solidFill>
                <a:latin typeface="Arial"/>
              </a:rPr>
              <a:t>Custos = $ 1.000,0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46520" y="3889440"/>
            <a:ext cx="1440" cy="687240"/>
          </a:xfrm>
          <a:prstGeom prst="line">
            <a:avLst/>
          </a:prstGeom>
          <a:ln w="76320">
            <a:solidFill>
              <a:srgbClr val="3c002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6680" y="4883040"/>
            <a:ext cx="5541840" cy="1739880"/>
            <a:chOff x="166680" y="4883040"/>
            <a:chExt cx="5541840" cy="1739880"/>
          </a:xfrm>
        </p:grpSpPr>
        <p:sp>
          <p:nvSpPr>
            <p:cNvPr id="117" name=""/>
            <p:cNvSpPr/>
            <p:nvPr/>
          </p:nvSpPr>
          <p:spPr>
            <a:xfrm>
              <a:off x="166680" y="4883040"/>
              <a:ext cx="5541840" cy="1739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30320" y="489276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4880" y="500076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19360" y="500076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24120" y="500076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740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5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768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3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80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2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35440" y="489276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089160" y="3956040"/>
            <a:ext cx="2173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c0023"/>
                </a:solidFill>
                <a:latin typeface="Arial"/>
              </a:rPr>
              <a:t>Distribuição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8T06:47:06Z</dcterms:created>
  <dc:creator>Adrian C. Ferreira</dc:creator>
  <dc:description/>
  <cp:keywords/>
  <dc:language>en-US</dc:language>
  <cp:lastModifiedBy>Rafael</cp:lastModifiedBy>
  <dcterms:modified xsi:type="dcterms:W3CDTF">2009-03-06T01:01:21Z</dcterms:modified>
  <cp:revision>18541</cp:revision>
  <dc:subject/>
  <dc:title>CUSTEIO BASEADO EM ATIVIDADES</dc:title>
</cp:coreProperties>
</file>