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CAMERA.WAV" ContentType="audio/x-wav"/>
  <Override PartName="/ppt/media/image2.wmf" ContentType="image/x-wmf"/>
  <Override PartName="/ppt/media/image3.wmf" ContentType="image/x-wm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736-8478-4577-B545-9E3EF506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1E9-44E4-4F17-A671-0BC4CB85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6B6-DD42-4A84-A50B-8D829959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509-2B2B-488C-B67A-06237829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782-E717-4111-97A7-5B6B887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6D9-1DF6-43E8-A4B6-4D565690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A70-915B-48A0-95A7-E975E1E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EED-2925-4FE9-98C7-A7BFDDE7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6CF-322C-45BA-9CD0-C942B450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A4F-0FD3-437E-B139-8F16E24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B5C-829A-4610-AEC9-D2814D9D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BB9-3FDE-445D-8544-F58DF41C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B756-DB77-4118-B36A-082CF8F86B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594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t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2743200"/>
            <a:ext cx="9144000" cy="3733920"/>
            <a:chOff x="0" y="2743200"/>
            <a:chExt cx="9144000" cy="3733920"/>
          </a:xfrm>
        </p:grpSpPr>
        <p:sp>
          <p:nvSpPr>
            <p:cNvPr id="70" name=""/>
            <p:cNvSpPr/>
            <p:nvPr/>
          </p:nvSpPr>
          <p:spPr>
            <a:xfrm>
              <a:off x="99900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Matéria-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6796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Produtos em 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7948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Produtos Acab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0" y="2743200"/>
              <a:ext cx="9144000" cy="2831400"/>
              <a:chOff x="0" y="2743200"/>
              <a:chExt cx="9144000" cy="2831400"/>
            </a:xfrm>
          </p:grpSpPr>
          <p:sp>
            <p:nvSpPr>
              <p:cNvPr id="74" name=""/>
              <p:cNvSpPr/>
              <p:nvPr/>
            </p:nvSpPr>
            <p:spPr>
              <a:xfrm>
                <a:off x="1284480" y="3282480"/>
                <a:ext cx="1284480" cy="21574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53440" y="3012840"/>
                <a:ext cx="1284480" cy="24271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64960" y="2743200"/>
                <a:ext cx="1284480" cy="2696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0" y="3147480"/>
                <a:ext cx="9144000" cy="2427120"/>
                <a:chOff x="0" y="3147480"/>
                <a:chExt cx="9144000" cy="2427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42560" y="5439600"/>
                  <a:ext cx="899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42560" y="5574600"/>
                  <a:ext cx="899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588760" y="513252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67440" y="5132520"/>
                  <a:ext cx="142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52280" y="511668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59520" y="513252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41480" y="5115600"/>
                  <a:ext cx="1440" cy="45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9133560" y="5129640"/>
                  <a:ext cx="1800" cy="44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42560" y="382140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137920" y="4226040"/>
                  <a:ext cx="142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849440" y="422604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68960" y="382140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49440" y="355176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dutos Vendi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37920" y="3551760"/>
                  <a:ext cx="14270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dutos Fabrica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0" y="314748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pras de 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54440" y="4428360"/>
                  <a:ext cx="11415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Outros Insum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68960" y="314748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MP uti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42704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99600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88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97000" y="4428360"/>
                  <a:ext cx="85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17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 dos produtos ven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1840" y="3470400"/>
            <a:ext cx="8138160" cy="2241720"/>
            <a:chOff x="591840" y="3470400"/>
            <a:chExt cx="8138160" cy="2241720"/>
          </a:xfrm>
        </p:grpSpPr>
        <p:sp>
          <p:nvSpPr>
            <p:cNvPr id="101" name=""/>
            <p:cNvSpPr/>
            <p:nvPr/>
          </p:nvSpPr>
          <p:spPr>
            <a:xfrm>
              <a:off x="591840" y="3470400"/>
              <a:ext cx="8138160" cy="2241720"/>
            </a:xfrm>
            <a:prstGeom prst="rect">
              <a:avLst/>
            </a:prstGeom>
            <a:noFill/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ário inicial de produtos acab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+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790015"/>
                  </a:solidFill>
                  <a:latin typeface="Arial"/>
                </a:rPr>
                <a:t>Custos dos produtos fabric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-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ario final de produtos acab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99"/>
                </a:spcBef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=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usto dos produtos vend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2280" y="5029200"/>
              <a:ext cx="798804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os Produtos Fabr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9880" y="3470400"/>
            <a:ext cx="8703720" cy="2241720"/>
            <a:chOff x="209880" y="3470400"/>
            <a:chExt cx="8703720" cy="2241720"/>
          </a:xfrm>
        </p:grpSpPr>
        <p:sp>
          <p:nvSpPr>
            <p:cNvPr id="105" name=""/>
            <p:cNvSpPr/>
            <p:nvPr/>
          </p:nvSpPr>
          <p:spPr>
            <a:xfrm>
              <a:off x="209880" y="3470400"/>
              <a:ext cx="8703720" cy="2241720"/>
            </a:xfrm>
            <a:prstGeom prst="rect">
              <a:avLst/>
            </a:prstGeom>
            <a:noFill/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ário inicial de produtos em 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+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790015"/>
                  </a:solidFill>
                  <a:latin typeface="Arial"/>
                </a:rPr>
                <a:t>Custos do perío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-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ario final de produtos em 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99"/>
                </a:spcBef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=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ustos dos produtos fabric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1040" y="5029200"/>
              <a:ext cx="852192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éria-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240" y="3038400"/>
            <a:ext cx="8592840" cy="2401920"/>
            <a:chOff x="219240" y="3038400"/>
            <a:chExt cx="8592840" cy="2401920"/>
          </a:xfrm>
        </p:grpSpPr>
        <p:graphicFrame>
          <p:nvGraphicFramePr>
            <p:cNvPr id="109" name=""/>
            <p:cNvGraphicFramePr/>
            <p:nvPr/>
          </p:nvGraphicFramePr>
          <p:xfrm>
            <a:off x="219240" y="3038400"/>
            <a:ext cx="8592840" cy="2401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240" y="3038400"/>
                      <a:ext cx="859284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1073160" y="4800600"/>
              <a:ext cx="593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2133720"/>
            <a:ext cx="9144000" cy="5257800"/>
            <a:chOff x="0" y="2133720"/>
            <a:chExt cx="9144000" cy="5257800"/>
          </a:xfrm>
        </p:grpSpPr>
        <p:sp>
          <p:nvSpPr>
            <p:cNvPr id="113" name=""/>
            <p:cNvSpPr/>
            <p:nvPr/>
          </p:nvSpPr>
          <p:spPr>
            <a:xfrm>
              <a:off x="304920" y="5504040"/>
              <a:ext cx="168912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 compras 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3720" y="3233880"/>
              <a:ext cx="963360" cy="1952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0800" y="2990880"/>
              <a:ext cx="961920" cy="2195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23000" y="2746440"/>
              <a:ext cx="965160" cy="2440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200" y="5186520"/>
              <a:ext cx="67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200" y="5308560"/>
              <a:ext cx="67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4280" y="49086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0080" y="4905360"/>
              <a:ext cx="14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200" y="372276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2720" y="4087800"/>
              <a:ext cx="10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88160" y="4087800"/>
              <a:ext cx="8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8880" y="344484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8160" y="3478320"/>
              <a:ext cx="961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2720" y="3478320"/>
              <a:ext cx="1070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11292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mp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5720" y="3589200"/>
              <a:ext cx="8557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M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2930400"/>
              <a:ext cx="963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562120"/>
              <a:ext cx="7621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2317680"/>
              <a:ext cx="761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2133720"/>
              <a:ext cx="7621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5240" y="40356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2640" y="458964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2480" y="4179960"/>
              <a:ext cx="8557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2920" y="3481560"/>
              <a:ext cx="1981080" cy="23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ce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- 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Lucro B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-  Despe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Lucro Líqu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2971800"/>
              <a:ext cx="83808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5504040"/>
              <a:ext cx="289548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custos (MP+MOD+CI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4120" y="5504040"/>
              <a:ext cx="121896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 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40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adquiridos pe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2200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de Fabric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sados na fabricação dos produtos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3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3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40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spe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consumidos para outras funções que não a fabric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Geren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tilizados n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3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3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6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er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bens e serviços consumidos de forma anormal e involunt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sperdíci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valor dos insumos utilizados de forma não e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id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sados  </a:t>
            </a:r>
            <a:r>
              <a:rPr b="1" lang="en-US" sz="3200" spc="-1" strike="noStrike">
                <a:solidFill>
                  <a:srgbClr val="3c0023"/>
                </a:solidFill>
                <a:latin typeface="Arial"/>
              </a:rPr>
              <a:t>eficientemente </a:t>
            </a:r>
            <a:r>
              <a:rPr b="0" lang="en-US" sz="3200" spc="-1" strike="noStrike">
                <a:solidFill>
                  <a:srgbClr val="3c0023"/>
                </a:solidFill>
                <a:latin typeface="Arial"/>
              </a:rPr>
              <a:t>pela empre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e Fabr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cus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são a soma dos custos de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matéria-prim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P),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mão-de-obra 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OD) e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CIF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8640" y="5299200"/>
            <a:ext cx="5163480" cy="576360"/>
          </a:xfrm>
          <a:prstGeom prst="rect">
            <a:avLst/>
          </a:prstGeom>
          <a:noFill/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Book Antiqua"/>
              </a:rPr>
              <a:t>Custos = MP + MOD + C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éria-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" y="2895120"/>
            <a:ext cx="8769240" cy="388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laciona-se com os materiais integrantes do produto acabado que podem ser relacionados a ele de forma convenient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guns materiais pouco relevantes em termos de custos, como parafusos, pregos, etc, podem ser considerados material de consum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8320" y="2133360"/>
            <a:ext cx="5935680" cy="13316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4200" y="4229280"/>
            <a:ext cx="555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ook Antiqua"/>
              </a:rPr>
              <a:t>Conceitos Básic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424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ão-de-Obra Dir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stos (salários + encargos) do trabalho humano relacionado com a fabricação do produt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balhadores em atividades de suporte, como supervisores, são denominado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ão-de-obra in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Indiret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 Fabr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73492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dos os outros custos de produção, com exceção da matéria-prima e da mão-de-obra direta, são denominados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e Trans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custos de transformação</a:t>
            </a:r>
            <a:r>
              <a:rPr b="0" lang="en-US" sz="3100" spc="-1" strike="noStrike">
                <a:solidFill>
                  <a:srgbClr val="3c0023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CT) são a soma dos custos de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mão-de-obra 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OD) e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CIF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8840" y="4842000"/>
            <a:ext cx="3144240" cy="576360"/>
          </a:xfrm>
          <a:prstGeom prst="rect">
            <a:avLst/>
          </a:prstGeom>
          <a:noFill/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Book Antiqua"/>
              </a:rPr>
              <a:t>CT = MOD + C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9480" y="228240"/>
            <a:ext cx="56451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Cia Exemplar Ltda apresentou a seguinte informação em 20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Vendas d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.000 un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200 / un. 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Estoques no começo d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éria-prim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4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em proces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8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aca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Estoques no fim do 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éria-pri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em processo     $ 4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aca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ompras de MP n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3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Custos de M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1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CIF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1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743200"/>
            <a:ext cx="3276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00"/>
                </a:solidFill>
                <a:latin typeface="Arial"/>
              </a:rPr>
              <a:t>Despesa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$ 1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e o lucro líquido da empresa, através de uma Demonstração de Resultados do Exercí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857680"/>
            <a:ext cx="0" cy="3886200"/>
          </a:xfrm>
          <a:prstGeom prst="line">
            <a:avLst/>
          </a:prstGeom>
          <a:ln w="7632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77680"/>
            <a:ext cx="8229600" cy="3775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Idade Moderna  - Produção artesa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presas comerc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99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ontabilidade financeira usada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uração do lucro do períod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ção do lu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8120" y="2565360"/>
            <a:ext cx="7013520" cy="4110120"/>
          </a:xfrm>
          <a:prstGeom prst="rect">
            <a:avLst/>
          </a:prstGeom>
          <a:noFill/>
          <a:ln w="1260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c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usto das mercadorias ven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Br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administ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comer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finance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líqu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809880"/>
            <a:ext cx="676908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172200"/>
            <a:ext cx="676908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765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stos das mercadorias conh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dificul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583240" y="3505320"/>
          <a:ext cx="3444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3505320"/>
                    <a:ext cx="3444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800" y="2371680"/>
            <a:ext cx="5236920" cy="410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3c0023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Revolução industri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mplexidade no levantamento dos custos dos produto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ntabilidade de custos -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valiação dos estoques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para a determinação do lucr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480" y="2303640"/>
            <a:ext cx="4892400" cy="4109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rescimento das empres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umento da complexida-de do sistema produ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ções da contabi-lidade de custos usadas como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uxílio gerenci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94360" y="3352680"/>
          <a:ext cx="3975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3352680"/>
                    <a:ext cx="3975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com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ílio g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2755440"/>
            <a:ext cx="4349520" cy="3962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poio ao contro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0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ção do cus-to ocorrido com pa-drões e orçam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0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uração das perdas e desper-dícios do sistema produ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75580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poio à tomada de decisõ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Lucratividade e renta-bilidade de prod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Ponto de equilíb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Fabricar ou compr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Planeja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Ações de melh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ção do lu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840" y="2708280"/>
            <a:ext cx="6358320" cy="4110120"/>
          </a:xfrm>
          <a:prstGeom prst="rect">
            <a:avLst/>
          </a:prstGeom>
          <a:noFill/>
          <a:ln w="1260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c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usto dos produtos v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Br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administ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comer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finance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líqu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809880"/>
            <a:ext cx="62420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6172200"/>
            <a:ext cx="62420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1T15:16:00Z</dcterms:created>
  <dc:creator>Adrian C. Ferreira</dc:creator>
  <dc:description/>
  <cp:keywords/>
  <dc:language>en-US</dc:language>
  <cp:lastModifiedBy>Rafael</cp:lastModifiedBy>
  <dcterms:modified xsi:type="dcterms:W3CDTF">2009-03-06T01:03:19Z</dcterms:modified>
  <cp:revision>25</cp:revision>
  <dc:subject/>
  <dc:title>CUSTEIO BASEADO EM ATIVIDADES</dc:title>
</cp:coreProperties>
</file>