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F37-E353-4CFE-86BB-441E94C6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1F4-593C-44DA-A0A5-9067DEF3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3B4-01ED-43D2-B9F6-9A3421DD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C36-CD9D-4AE1-B69C-5468D9D4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0D7-09FE-49E9-BDE0-235A1C83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3B3-BF3E-44AD-B1CE-182FE57C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C8D-C4F0-4459-98FC-3758CF9F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D63-750A-47E2-A04E-5518B191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ACE-9CD8-4E9A-B734-BB1DCDCD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7F7-03BC-423B-9708-23271DDC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C38-D541-442B-9267-25B01C4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AA2-1C5A-48C7-8767-FC1192EA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4825-66BB-4289-83FD-BA6575DE95B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31320" y="1440"/>
            <a:ext cx="177768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5120" y="3885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68400" y="3352680"/>
            <a:ext cx="1536840" cy="617760"/>
            <a:chOff x="1868400" y="3352680"/>
            <a:chExt cx="1536840" cy="617760"/>
          </a:xfrm>
        </p:grpSpPr>
        <p:sp>
          <p:nvSpPr>
            <p:cNvPr id="89" name=""/>
            <p:cNvSpPr/>
            <p:nvPr/>
          </p:nvSpPr>
          <p:spPr>
            <a:xfrm>
              <a:off x="2004480" y="3394080"/>
              <a:ext cx="1400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an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68400" y="335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868400" y="5257800"/>
            <a:ext cx="4223160" cy="617400"/>
            <a:chOff x="1868400" y="5257800"/>
            <a:chExt cx="4223160" cy="617400"/>
          </a:xfrm>
        </p:grpSpPr>
        <p:sp>
          <p:nvSpPr>
            <p:cNvPr id="92" name=""/>
            <p:cNvSpPr/>
            <p:nvPr/>
          </p:nvSpPr>
          <p:spPr>
            <a:xfrm>
              <a:off x="2002680" y="5298840"/>
              <a:ext cx="4088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spesa Opera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68400" y="5257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868400" y="4267080"/>
            <a:ext cx="2100600" cy="617760"/>
            <a:chOff x="1868400" y="4267080"/>
            <a:chExt cx="2100600" cy="617760"/>
          </a:xfrm>
        </p:grpSpPr>
        <p:sp>
          <p:nvSpPr>
            <p:cNvPr id="95" name=""/>
            <p:cNvSpPr/>
            <p:nvPr/>
          </p:nvSpPr>
          <p:spPr>
            <a:xfrm>
              <a:off x="2004480" y="4308480"/>
              <a:ext cx="1964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ventár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8400" y="426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95880" y="4191120"/>
            <a:ext cx="2973240" cy="617400"/>
            <a:chOff x="6095880" y="4191120"/>
            <a:chExt cx="2973240" cy="617400"/>
          </a:xfrm>
        </p:grpSpPr>
        <p:sp>
          <p:nvSpPr>
            <p:cNvPr id="98" name=""/>
            <p:cNvSpPr/>
            <p:nvPr/>
          </p:nvSpPr>
          <p:spPr>
            <a:xfrm>
              <a:off x="6095880" y="456552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71040" y="4232160"/>
              <a:ext cx="119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uc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34240" y="41911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63560" y="3352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5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880" y="23623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90400"/>
            <a:ext cx="60213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28191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gerente quer aumentar o lucro d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há possibilidade de aumentar as ven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há possibilidade de redução da despesa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ário excessivamente alto (3 meses) sem necess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2680" y="837720"/>
            <a:ext cx="5789520" cy="10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2742840"/>
            <a:ext cx="8915400" cy="338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r por 2 meses as compras e a prod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há redução da despesa operacional, pois sairia mais caro pagar indenizações e recontratar (e treinar) novos funcioná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5792760" cy="10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3048120"/>
            <a:ext cx="8915400" cy="30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as e serviços ao consumidor não foram prejudicados, não houve investimento e o inventário de material em processo e produtos acabados diminui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2320" y="590400"/>
            <a:ext cx="556092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pen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10080" y="3048120"/>
            <a:ext cx="41911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os custos fixos são agregados ao estoque, o lucro contábil do período vai decrescer considerave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2680" y="2590920"/>
            <a:ext cx="4798440" cy="3431520"/>
            <a:chOff x="382680" y="2590920"/>
            <a:chExt cx="4798440" cy="3431520"/>
          </a:xfrm>
        </p:grpSpPr>
        <p:graphicFrame>
          <p:nvGraphicFramePr>
            <p:cNvPr id="114" name=""/>
            <p:cNvGraphicFramePr/>
            <p:nvPr/>
          </p:nvGraphicFramePr>
          <p:xfrm>
            <a:off x="561600" y="2590920"/>
            <a:ext cx="4322160" cy="3431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1600" y="2590920"/>
                      <a:ext cx="4322160" cy="343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427320" y="2906640"/>
              <a:ext cx="4753800" cy="2706120"/>
            </a:xfrm>
            <a:prstGeom prst="line">
              <a:avLst/>
            </a:prstGeom>
            <a:ln w="7632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82680" y="2770560"/>
              <a:ext cx="4753800" cy="2886840"/>
            </a:xfrm>
            <a:prstGeom prst="line">
              <a:avLst/>
            </a:prstGeom>
            <a:ln w="7632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H="1">
            <a:off x="304920" y="609480"/>
            <a:ext cx="7315200" cy="2971800"/>
          </a:xfrm>
          <a:custGeom>
            <a:avLst/>
            <a:gdLst>
              <a:gd name="textAreaLeft" fmla="*/ 270720 w 7315200"/>
              <a:gd name="textAreaRight" fmla="*/ 7044480 w 7315200"/>
              <a:gd name="textAreaTop" fmla="*/ 109800 h 2971800"/>
              <a:gd name="textAreaBottom" fmla="*/ 2373480 h 2971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eff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880" y="838080"/>
            <a:ext cx="66247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ga-me como me mede e lhe direi como me comportarei. Se me medir de maneira ilógica... não se queixe de comportamento ilóg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495680"/>
            <a:ext cx="1685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oldra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035840" y="2738520"/>
          <a:ext cx="2463840" cy="35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5840" y="2738520"/>
                    <a:ext cx="246384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04640"/>
            <a:ext cx="781992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Passos para a Focalização de 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2320" y="2057400"/>
            <a:ext cx="91422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Identificar as restriçõ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Decidir como explorar a(s) restrição(õ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Subordinar tudo à decisão an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Elevar a(s) restrição(ões)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Se, nos passos anteriores, uma restrição for quebrada, voltar ao passo 1, mas sem deixar a inércia tornar-se uma restrição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7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5165640" y="3048120"/>
            <a:ext cx="2346480" cy="1384200"/>
            <a:chOff x="5165640" y="3048120"/>
            <a:chExt cx="2346480" cy="1384200"/>
          </a:xfrm>
        </p:grpSpPr>
        <p:grpSp>
          <p:nvGrpSpPr>
            <p:cNvPr id="126" name=""/>
            <p:cNvGrpSpPr/>
            <p:nvPr/>
          </p:nvGrpSpPr>
          <p:grpSpPr>
            <a:xfrm>
              <a:off x="5165640" y="3048120"/>
              <a:ext cx="2040120" cy="1384200"/>
              <a:chOff x="5165640" y="3048120"/>
              <a:chExt cx="2040120" cy="1384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684760" y="3200400"/>
                <a:ext cx="1521000" cy="1012680"/>
              </a:xfrm>
              <a:prstGeom prst="rect">
                <a:avLst/>
              </a:prstGeom>
              <a:solidFill>
                <a:srgbClr val="e3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32320" y="322416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bbe0e3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65640" y="3048120"/>
                <a:ext cx="5335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165640" y="3657600"/>
                <a:ext cx="457200" cy="77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223040" y="3733920"/>
              <a:ext cx="2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65640" y="4495680"/>
            <a:ext cx="2360520" cy="1470240"/>
            <a:chOff x="5165640" y="4495680"/>
            <a:chExt cx="2360520" cy="1470240"/>
          </a:xfrm>
        </p:grpSpPr>
        <p:grpSp>
          <p:nvGrpSpPr>
            <p:cNvPr id="133" name=""/>
            <p:cNvGrpSpPr/>
            <p:nvPr/>
          </p:nvGrpSpPr>
          <p:grpSpPr>
            <a:xfrm>
              <a:off x="5165640" y="4495680"/>
              <a:ext cx="2054160" cy="1470240"/>
              <a:chOff x="5165640" y="4495680"/>
              <a:chExt cx="2054160" cy="1470240"/>
            </a:xfrm>
          </p:grpSpPr>
          <p:sp>
            <p:nvSpPr>
              <p:cNvPr id="134" name=""/>
              <p:cNvSpPr/>
              <p:nvPr/>
            </p:nvSpPr>
            <p:spPr>
              <a:xfrm>
                <a:off x="5699160" y="4952880"/>
                <a:ext cx="1520640" cy="1013040"/>
              </a:xfrm>
              <a:prstGeom prst="rect">
                <a:avLst/>
              </a:prstGeom>
              <a:solidFill>
                <a:srgbClr val="e3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46360" y="497664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bbe0e3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65640" y="4495680"/>
                <a:ext cx="45720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5165640" y="5410080"/>
                <a:ext cx="5335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7237440" y="54864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336840" y="5334120"/>
            <a:ext cx="1787760" cy="1020600"/>
            <a:chOff x="3336840" y="5334120"/>
            <a:chExt cx="1787760" cy="1020600"/>
          </a:xfrm>
        </p:grpSpPr>
        <p:sp>
          <p:nvSpPr>
            <p:cNvPr id="140" name=""/>
            <p:cNvSpPr/>
            <p:nvPr/>
          </p:nvSpPr>
          <p:spPr>
            <a:xfrm>
              <a:off x="3605040" y="5334120"/>
              <a:ext cx="1519560" cy="1020600"/>
            </a:xfrm>
            <a:prstGeom prst="rect">
              <a:avLst/>
            </a:prstGeom>
            <a:solidFill>
              <a:srgbClr val="ffe3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98960" y="53546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3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6840" y="5867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00200" y="5334120"/>
            <a:ext cx="1725480" cy="1020600"/>
            <a:chOff x="1600200" y="5334120"/>
            <a:chExt cx="1725480" cy="1020600"/>
          </a:xfrm>
        </p:grpSpPr>
        <p:sp>
          <p:nvSpPr>
            <p:cNvPr id="144" name=""/>
            <p:cNvSpPr/>
            <p:nvPr/>
          </p:nvSpPr>
          <p:spPr>
            <a:xfrm>
              <a:off x="1808280" y="5334120"/>
              <a:ext cx="1517400" cy="1020600"/>
            </a:xfrm>
            <a:prstGeom prst="rect">
              <a:avLst/>
            </a:prstGeom>
            <a:solidFill>
              <a:srgbClr val="e3ffe3"/>
            </a:solidFill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6120" y="53546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586116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336840" y="3886200"/>
            <a:ext cx="1787760" cy="1020600"/>
            <a:chOff x="3336840" y="3886200"/>
            <a:chExt cx="1787760" cy="1020600"/>
          </a:xfrm>
        </p:grpSpPr>
        <p:sp>
          <p:nvSpPr>
            <p:cNvPr id="148" name=""/>
            <p:cNvSpPr/>
            <p:nvPr/>
          </p:nvSpPr>
          <p:spPr>
            <a:xfrm>
              <a:off x="3605040" y="3886200"/>
              <a:ext cx="1519560" cy="1020600"/>
            </a:xfrm>
            <a:prstGeom prst="rect">
              <a:avLst/>
            </a:prstGeom>
            <a:solidFill>
              <a:srgbClr val="feffe0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98600" y="390672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36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600200" y="3886200"/>
            <a:ext cx="1725480" cy="1020600"/>
            <a:chOff x="1600200" y="3886200"/>
            <a:chExt cx="1725480" cy="1020600"/>
          </a:xfrm>
        </p:grpSpPr>
        <p:sp>
          <p:nvSpPr>
            <p:cNvPr id="152" name=""/>
            <p:cNvSpPr/>
            <p:nvPr/>
          </p:nvSpPr>
          <p:spPr>
            <a:xfrm>
              <a:off x="1808280" y="3886200"/>
              <a:ext cx="1517400" cy="1020600"/>
            </a:xfrm>
            <a:prstGeom prst="rect">
              <a:avLst/>
            </a:prstGeom>
            <a:solidFill>
              <a:srgbClr val="ffe3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46120" y="39067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3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44132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36840" y="2438280"/>
            <a:ext cx="1787760" cy="1020960"/>
            <a:chOff x="3336840" y="2438280"/>
            <a:chExt cx="1787760" cy="1020960"/>
          </a:xfrm>
        </p:grpSpPr>
        <p:sp>
          <p:nvSpPr>
            <p:cNvPr id="156" name=""/>
            <p:cNvSpPr/>
            <p:nvPr/>
          </p:nvSpPr>
          <p:spPr>
            <a:xfrm>
              <a:off x="3605040" y="2438280"/>
              <a:ext cx="1519560" cy="1020960"/>
            </a:xfrm>
            <a:prstGeom prst="rect">
              <a:avLst/>
            </a:prstGeom>
            <a:solidFill>
              <a:srgbClr val="feffe0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98600" y="245916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36840" y="2971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600200" y="2438280"/>
            <a:ext cx="1725480" cy="1020960"/>
            <a:chOff x="1600200" y="2438280"/>
            <a:chExt cx="1725480" cy="1020960"/>
          </a:xfrm>
        </p:grpSpPr>
        <p:sp>
          <p:nvSpPr>
            <p:cNvPr id="160" name=""/>
            <p:cNvSpPr/>
            <p:nvPr/>
          </p:nvSpPr>
          <p:spPr>
            <a:xfrm>
              <a:off x="1808280" y="2438280"/>
              <a:ext cx="1517400" cy="1020960"/>
            </a:xfrm>
            <a:prstGeom prst="rect">
              <a:avLst/>
            </a:prstGeom>
            <a:solidFill>
              <a:srgbClr val="e3ffe3"/>
            </a:solidFill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46120" y="24591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0200" y="296532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494480" y="2895480"/>
            <a:ext cx="1871640" cy="3357720"/>
            <a:chOff x="7494480" y="2895480"/>
            <a:chExt cx="1871640" cy="3357720"/>
          </a:xfrm>
        </p:grpSpPr>
        <p:sp>
          <p:nvSpPr>
            <p:cNvPr id="164" name=""/>
            <p:cNvSpPr/>
            <p:nvPr/>
          </p:nvSpPr>
          <p:spPr>
            <a:xfrm>
              <a:off x="7494480" y="2916360"/>
              <a:ext cx="1857600" cy="1584360"/>
            </a:xfrm>
            <a:prstGeom prst="roundRect">
              <a:avLst>
                <a:gd name="adj" fmla="val 18310"/>
              </a:avLst>
            </a:prstGeom>
            <a:solidFill>
              <a:srgbClr val="ffdca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13400" y="2895480"/>
              <a:ext cx="486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08880" y="4668840"/>
              <a:ext cx="1857240" cy="1584360"/>
            </a:xfrm>
            <a:prstGeom prst="roundRect">
              <a:avLst>
                <a:gd name="adj" fmla="val 18310"/>
              </a:avLst>
            </a:prstGeom>
            <a:solidFill>
              <a:srgbClr val="ffdca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8160" y="4648320"/>
              <a:ext cx="536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2680" y="438120"/>
            <a:ext cx="57132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920" y="2286000"/>
            <a:ext cx="1405440" cy="1282680"/>
            <a:chOff x="304920" y="2286000"/>
            <a:chExt cx="1405440" cy="1282680"/>
          </a:xfrm>
        </p:grpSpPr>
        <p:sp>
          <p:nvSpPr>
            <p:cNvPr id="170" name=""/>
            <p:cNvSpPr/>
            <p:nvPr/>
          </p:nvSpPr>
          <p:spPr>
            <a:xfrm>
              <a:off x="304920" y="2286000"/>
              <a:ext cx="1280880" cy="1282680"/>
            </a:xfrm>
            <a:prstGeom prst="ellipse">
              <a:avLst/>
            </a:prstGeom>
            <a:solidFill>
              <a:srgbClr val="fef1d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9720" y="2327400"/>
              <a:ext cx="7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1200" y="2851200"/>
              <a:ext cx="1379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$200/u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4920" y="5181480"/>
            <a:ext cx="1405440" cy="1282680"/>
            <a:chOff x="304920" y="5181480"/>
            <a:chExt cx="1405440" cy="1282680"/>
          </a:xfrm>
        </p:grpSpPr>
        <p:sp>
          <p:nvSpPr>
            <p:cNvPr id="174" name=""/>
            <p:cNvSpPr/>
            <p:nvPr/>
          </p:nvSpPr>
          <p:spPr>
            <a:xfrm>
              <a:off x="304920" y="5181480"/>
              <a:ext cx="1280880" cy="1282680"/>
            </a:xfrm>
            <a:prstGeom prst="ellipse">
              <a:avLst/>
            </a:prstGeom>
            <a:solidFill>
              <a:srgbClr val="fef1d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9720" y="5222880"/>
              <a:ext cx="7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200" y="5746680"/>
              <a:ext cx="1379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$200/u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4920" y="3733920"/>
            <a:ext cx="1405440" cy="1282680"/>
            <a:chOff x="304920" y="3733920"/>
            <a:chExt cx="1405440" cy="1282680"/>
          </a:xfrm>
        </p:grpSpPr>
        <p:sp>
          <p:nvSpPr>
            <p:cNvPr id="178" name=""/>
            <p:cNvSpPr/>
            <p:nvPr/>
          </p:nvSpPr>
          <p:spPr>
            <a:xfrm>
              <a:off x="304920" y="3733920"/>
              <a:ext cx="1280880" cy="1282680"/>
            </a:xfrm>
            <a:prstGeom prst="ellipse">
              <a:avLst/>
            </a:prstGeom>
            <a:solidFill>
              <a:srgbClr val="fef1d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9720" y="3774960"/>
              <a:ext cx="7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1200" y="4299120"/>
              <a:ext cx="1379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$200/u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735920" y="290664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35920" y="580248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5920" y="435456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5080" y="2906640"/>
            <a:ext cx="1726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,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64720" y="580248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65080" y="4354560"/>
            <a:ext cx="1726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2840" y="374796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79160" y="3422520"/>
            <a:ext cx="1662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 850/u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52000" y="3924360"/>
            <a:ext cx="2010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2840" y="5500800"/>
            <a:ext cx="14508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16880" y="5175360"/>
            <a:ext cx="1874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 1000/u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2720" y="5676840"/>
            <a:ext cx="2010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523880"/>
            <a:ext cx="7315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dade dos postos: 100000 min/mê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8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2203560"/>
            <a:ext cx="8915400" cy="392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 é o lucro máximo que esta empresa consegue obter mens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: Despesa operacional = $ 2.80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Utilização dos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4440" y="2133720"/>
            <a:ext cx="6190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ção dos recursos (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3520" y="2895480"/>
            <a:ext cx="7472160" cy="3540960"/>
            <a:chOff x="533520" y="2895480"/>
            <a:chExt cx="7472160" cy="3540960"/>
          </a:xfrm>
        </p:grpSpPr>
        <p:graphicFrame>
          <p:nvGraphicFramePr>
            <p:cNvPr id="199" name=""/>
            <p:cNvGraphicFramePr/>
            <p:nvPr/>
          </p:nvGraphicFramePr>
          <p:xfrm>
            <a:off x="533520" y="2895480"/>
            <a:ext cx="6632280" cy="2681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480"/>
                      <a:ext cx="663228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"/>
            <p:cNvSpPr/>
            <p:nvPr/>
          </p:nvSpPr>
          <p:spPr>
            <a:xfrm>
              <a:off x="614160" y="5494320"/>
              <a:ext cx="73915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BS: capacidades A, B, C = 100.000 minut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pacidade D = 90.000 minut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H="1">
            <a:off x="7254720" y="4237200"/>
            <a:ext cx="1027440" cy="0"/>
          </a:xfrm>
          <a:prstGeom prst="line">
            <a:avLst/>
          </a:prstGeom>
          <a:ln w="38160">
            <a:solidFill>
              <a:srgbClr val="037c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oria das Restriçõ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4876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Rentabilidade dos Prod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trição do sistema: Operaçã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90680" y="2819520"/>
            <a:ext cx="7675560" cy="609480"/>
            <a:chOff x="490680" y="2819520"/>
            <a:chExt cx="7675560" cy="609480"/>
          </a:xfrm>
        </p:grpSpPr>
        <p:sp>
          <p:nvSpPr>
            <p:cNvPr id="206" name=""/>
            <p:cNvSpPr/>
            <p:nvPr/>
          </p:nvSpPr>
          <p:spPr>
            <a:xfrm>
              <a:off x="490680" y="281952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0680" y="2819520"/>
              <a:ext cx="47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236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8200" y="281952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200" y="2860560"/>
              <a:ext cx="2936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7508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75080" y="286056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24400" y="281952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24400" y="2860560"/>
              <a:ext cx="2284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0860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08600" y="286056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57920" y="281952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7920" y="2860560"/>
              <a:ext cx="2259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0400" y="281952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692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1692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1692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068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236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1692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5040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8200" y="287964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8200" y="3354480"/>
              <a:ext cx="29368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75080" y="2879640"/>
              <a:ext cx="2333520" cy="48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69840" y="2894040"/>
              <a:ext cx="194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10000"/>
                  </a:solidFill>
                  <a:latin typeface="Arial"/>
                </a:rPr>
                <a:t>Produto 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08600" y="2879640"/>
              <a:ext cx="2308320" cy="4888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69520" y="2894040"/>
              <a:ext cx="1989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10000"/>
                  </a:solidFill>
                  <a:latin typeface="Arial"/>
                </a:rPr>
                <a:t>Produto 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236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068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8200" y="3368520"/>
              <a:ext cx="29368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8200" y="3409920"/>
              <a:ext cx="2936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75080" y="3368520"/>
              <a:ext cx="49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75080" y="340992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4400" y="3368520"/>
              <a:ext cx="22842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24400" y="3409920"/>
              <a:ext cx="2284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08600" y="3368520"/>
              <a:ext cx="49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08600" y="340992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57920" y="3368520"/>
              <a:ext cx="22590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57920" y="3409920"/>
              <a:ext cx="2259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5040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1692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90680" y="3429000"/>
            <a:ext cx="7675560" cy="502200"/>
            <a:chOff x="490680" y="3429000"/>
            <a:chExt cx="7675560" cy="502200"/>
          </a:xfrm>
        </p:grpSpPr>
        <p:grpSp>
          <p:nvGrpSpPr>
            <p:cNvPr id="249" name=""/>
            <p:cNvGrpSpPr/>
            <p:nvPr/>
          </p:nvGrpSpPr>
          <p:grpSpPr>
            <a:xfrm>
              <a:off x="490680" y="3429000"/>
              <a:ext cx="7675560" cy="474840"/>
              <a:chOff x="490680" y="3429000"/>
              <a:chExt cx="7675560" cy="474840"/>
            </a:xfrm>
          </p:grpSpPr>
          <p:sp>
            <p:nvSpPr>
              <p:cNvPr id="250" name=""/>
              <p:cNvSpPr/>
              <p:nvPr/>
            </p:nvSpPr>
            <p:spPr>
              <a:xfrm>
                <a:off x="49068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236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1692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5040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8200" y="3429000"/>
                <a:ext cx="2936880" cy="474840"/>
              </a:xfrm>
              <a:prstGeom prst="rect">
                <a:avLst/>
              </a:prstGeom>
              <a:solidFill>
                <a:srgbClr val="e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75080" y="3429000"/>
                <a:ext cx="2333520" cy="474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08600" y="3429000"/>
                <a:ext cx="2308320" cy="474840"/>
              </a:xfrm>
              <a:prstGeom prst="rect">
                <a:avLst/>
              </a:prstGeom>
              <a:solidFill>
                <a:srgbClr val="e9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011320" y="34434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34600" y="344340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8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46080" y="3443400"/>
              <a:ext cx="14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10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680" y="3903840"/>
            <a:ext cx="7675560" cy="501840"/>
            <a:chOff x="490680" y="3903840"/>
            <a:chExt cx="7675560" cy="501840"/>
          </a:xfrm>
        </p:grpSpPr>
        <p:sp>
          <p:nvSpPr>
            <p:cNvPr id="261" name=""/>
            <p:cNvSpPr/>
            <p:nvPr/>
          </p:nvSpPr>
          <p:spPr>
            <a:xfrm>
              <a:off x="49068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236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1692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5040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8200" y="3903840"/>
              <a:ext cx="2936880" cy="4744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41480" y="391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c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75080" y="3903840"/>
              <a:ext cx="2333520" cy="474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34600" y="3917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08600" y="3903840"/>
              <a:ext cx="2308320" cy="4744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60560" y="3917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0680" y="4378320"/>
            <a:ext cx="7675560" cy="502200"/>
            <a:chOff x="490680" y="4378320"/>
            <a:chExt cx="7675560" cy="502200"/>
          </a:xfrm>
        </p:grpSpPr>
        <p:sp>
          <p:nvSpPr>
            <p:cNvPr id="272" name=""/>
            <p:cNvSpPr/>
            <p:nvPr/>
          </p:nvSpPr>
          <p:spPr>
            <a:xfrm>
              <a:off x="49068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236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1692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040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8200" y="437832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29440" y="4392720"/>
              <a:ext cx="1686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mc </a:t>
              </a:r>
              <a:r>
                <a:rPr b="0" i="1" lang="en-US" sz="2800" spc="-1" strike="noStrike">
                  <a:solidFill>
                    <a:srgbClr val="010000"/>
                  </a:solidFill>
                  <a:latin typeface="Arial"/>
                </a:rPr>
                <a:t>($/un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75080" y="4378320"/>
              <a:ext cx="233352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34600" y="43927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08600" y="4378320"/>
              <a:ext cx="2308320" cy="47484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60560" y="43927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6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0680" y="4853160"/>
            <a:ext cx="7675560" cy="501840"/>
            <a:chOff x="490680" y="4853160"/>
            <a:chExt cx="7675560" cy="501840"/>
          </a:xfrm>
        </p:grpSpPr>
        <p:sp>
          <p:nvSpPr>
            <p:cNvPr id="283" name=""/>
            <p:cNvSpPr/>
            <p:nvPr/>
          </p:nvSpPr>
          <p:spPr>
            <a:xfrm>
              <a:off x="49068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236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1692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5040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200" y="4853160"/>
              <a:ext cx="2936880" cy="4744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49320" y="4867200"/>
              <a:ext cx="63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(%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75080" y="4853160"/>
              <a:ext cx="2333520" cy="474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81920" y="48672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53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08600" y="4853160"/>
              <a:ext cx="2308320" cy="4744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7520" y="48672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6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90680" y="5327640"/>
            <a:ext cx="7675560" cy="502200"/>
            <a:chOff x="490680" y="5327640"/>
            <a:chExt cx="7675560" cy="502200"/>
          </a:xfrm>
        </p:grpSpPr>
        <p:sp>
          <p:nvSpPr>
            <p:cNvPr id="294" name=""/>
            <p:cNvSpPr/>
            <p:nvPr/>
          </p:nvSpPr>
          <p:spPr>
            <a:xfrm>
              <a:off x="49068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236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1692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5040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8200" y="532764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93600" y="5342040"/>
              <a:ext cx="2800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tempo gargal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75080" y="5327640"/>
              <a:ext cx="233352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46920" y="534204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15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08600" y="5327640"/>
              <a:ext cx="2308320" cy="47484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22680" y="534204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25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90680" y="5802480"/>
            <a:ext cx="7675560" cy="576000"/>
            <a:chOff x="490680" y="5802480"/>
            <a:chExt cx="7675560" cy="576000"/>
          </a:xfrm>
        </p:grpSpPr>
        <p:sp>
          <p:nvSpPr>
            <p:cNvPr id="305" name=""/>
            <p:cNvSpPr/>
            <p:nvPr/>
          </p:nvSpPr>
          <p:spPr>
            <a:xfrm>
              <a:off x="49068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236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680" y="631836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0680" y="6357960"/>
              <a:ext cx="47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36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236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8200" y="631836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8200" y="635796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75080" y="63183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7508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4400" y="631836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24400" y="635796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08600" y="63183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0860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57920" y="631836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57920" y="635796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1692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5040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50400" y="631836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11692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1692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1692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200" y="5802480"/>
              <a:ext cx="2936880" cy="5158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4640" y="5816520"/>
              <a:ext cx="2120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mc </a:t>
              </a: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($/min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75080" y="5802480"/>
              <a:ext cx="2333520" cy="515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34320" y="5816520"/>
              <a:ext cx="107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30,0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08600" y="5802480"/>
              <a:ext cx="2308320" cy="5158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60280" y="5816520"/>
              <a:ext cx="107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24,0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Lucro Máx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to ótimo = 5000 P e 1000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 =  5000x450  +  1000x600  - 2.80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= $ 50.000,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ação 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79440" y="2181240"/>
            <a:ext cx="414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: 450 P  +  600 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80520" y="3019320"/>
            <a:ext cx="83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70160" y="3019320"/>
            <a:ext cx="513432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   P  +  10 Q  &lt;  1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   P  +  25 Q  &lt;  1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,5 P  +  10 Q  &lt;  1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   P  +    5 Q  &lt;    9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 &lt;      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 &lt;      2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2680" y="762120"/>
            <a:ext cx="58658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Ociosid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s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04440" y="2209680"/>
            <a:ext cx="8307720" cy="3349800"/>
            <a:chOff x="604440" y="2209680"/>
            <a:chExt cx="8307720" cy="3349800"/>
          </a:xfrm>
        </p:grpSpPr>
        <p:sp>
          <p:nvSpPr>
            <p:cNvPr id="341" name=""/>
            <p:cNvSpPr/>
            <p:nvPr/>
          </p:nvSpPr>
          <p:spPr>
            <a:xfrm>
              <a:off x="8897760" y="304776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897760" y="310500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897760" y="357336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3480" y="3047760"/>
              <a:ext cx="140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3480" y="3047760"/>
              <a:ext cx="44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360" y="308592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360" y="308592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7760" y="304776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7760" y="308592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6640" y="30477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6640" y="30859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12720" y="304776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12720" y="308592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95640" y="304776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95640" y="308592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41360" y="304776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41360" y="308592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4280" y="30477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24280" y="30859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70360" y="304776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70360" y="308592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2920" y="30477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52920" y="30859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9000" y="304776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99000" y="308592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867520" y="3047760"/>
              <a:ext cx="44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67520" y="308592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867520" y="308592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3480" y="3105000"/>
              <a:ext cx="1404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360" y="310500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67520" y="310500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7760" y="3105000"/>
              <a:ext cx="165888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4000" y="3117600"/>
              <a:ext cx="1515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ecur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6640" y="3105000"/>
              <a:ext cx="1629000" cy="4683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63280" y="311760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5000 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95640" y="3105000"/>
              <a:ext cx="1628640" cy="46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89680" y="3124080"/>
              <a:ext cx="1332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 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4280" y="3105000"/>
              <a:ext cx="162864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96880" y="3117600"/>
              <a:ext cx="902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2920" y="3105000"/>
              <a:ext cx="1614600" cy="4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73320" y="31176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Folg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3360" y="357336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3480" y="3573360"/>
              <a:ext cx="140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7760" y="357336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760" y="361152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6640" y="35733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66640" y="36115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12720" y="357336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12720" y="361152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95640" y="357336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95640" y="361152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41360" y="357336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41360" y="361152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24280" y="35733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24280" y="36115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70360" y="357336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70360" y="361152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52920" y="35733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52920" y="36115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000" y="357336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99000" y="361152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867520" y="357336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897760" y="3630600"/>
              <a:ext cx="1440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3480" y="3630600"/>
              <a:ext cx="1404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3360" y="3630600"/>
              <a:ext cx="1440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67520" y="3630600"/>
              <a:ext cx="1440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7760" y="3630600"/>
              <a:ext cx="1658880" cy="4665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93200" y="36432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66640" y="3630600"/>
              <a:ext cx="1629000" cy="4665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47160" y="36432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7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95640" y="3630600"/>
              <a:ext cx="1628640" cy="4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66360" y="363672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4280" y="3630600"/>
              <a:ext cx="1628640" cy="4665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04440" y="36432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8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2920" y="3630600"/>
              <a:ext cx="1614600" cy="466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66760" y="36576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897760" y="409716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3480" y="4097160"/>
              <a:ext cx="1404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3360" y="409716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867520" y="409716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7760" y="4097160"/>
              <a:ext cx="165888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93200" y="41097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66640" y="4097160"/>
              <a:ext cx="1629000" cy="4683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47160" y="410976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7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95640" y="4097160"/>
              <a:ext cx="1628640" cy="46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6360" y="410364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2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24280" y="4097160"/>
              <a:ext cx="162864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90240" y="4114800"/>
              <a:ext cx="1353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52920" y="4097160"/>
              <a:ext cx="1614600" cy="4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60680" y="410976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897760" y="456552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97760" y="503388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897760" y="550224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3480" y="4565520"/>
              <a:ext cx="1404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3360" y="456552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867520" y="456552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7760" y="4565520"/>
              <a:ext cx="165888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85280" y="457812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66640" y="4565520"/>
              <a:ext cx="1629000" cy="4683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47160" y="457812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87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95640" y="4565520"/>
              <a:ext cx="1628640" cy="46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66360" y="45720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4280" y="4565520"/>
              <a:ext cx="162864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04440" y="457812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97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52920" y="4565520"/>
              <a:ext cx="1614600" cy="4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95360" y="4572000"/>
              <a:ext cx="902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2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480" y="5033880"/>
              <a:ext cx="1404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3360" y="503388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3480" y="5502240"/>
              <a:ext cx="140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3480" y="5540400"/>
              <a:ext cx="44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93360" y="550224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3360" y="550224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7760" y="550224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7760" y="554040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66640" y="550224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66640" y="554040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12720" y="550224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12720" y="554040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95640" y="550224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95640" y="554040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1360" y="550224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1360" y="554040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24280" y="550224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24280" y="554040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70360" y="550224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0360" y="554040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52920" y="550224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52920" y="554040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99000" y="550224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99000" y="554040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867520" y="503388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867520" y="5540400"/>
              <a:ext cx="44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867520" y="550224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67520" y="550224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7760" y="5033880"/>
              <a:ext cx="165888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85280" y="50464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6640" y="5033880"/>
              <a:ext cx="1629000" cy="4683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47160" y="504648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7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95640" y="5033880"/>
              <a:ext cx="1628640" cy="46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82360" y="5046480"/>
              <a:ext cx="902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24280" y="5033880"/>
              <a:ext cx="162864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04440" y="504648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8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52920" y="5033880"/>
              <a:ext cx="1614600" cy="4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66760" y="50292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4440" y="2209680"/>
              <a:ext cx="6190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tilização dos recursos (minut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614520" y="5494320"/>
            <a:ext cx="7391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 capacidades A, B, C = 100.00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dade D = 90.00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Quebra da Restr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2320" y="2819160"/>
            <a:ext cx="92948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a capacidade do recurso B para 140.000 minutos/mê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a despesa operacional em $250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= $3.05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Rentabilidade dos Prod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trição do sistema: Operação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90680" y="2819520"/>
            <a:ext cx="7675560" cy="609480"/>
            <a:chOff x="490680" y="2819520"/>
            <a:chExt cx="7675560" cy="609480"/>
          </a:xfrm>
        </p:grpSpPr>
        <p:sp>
          <p:nvSpPr>
            <p:cNvPr id="492" name=""/>
            <p:cNvSpPr/>
            <p:nvPr/>
          </p:nvSpPr>
          <p:spPr>
            <a:xfrm>
              <a:off x="490680" y="281952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0680" y="2819520"/>
              <a:ext cx="47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236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236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8200" y="281952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8200" y="2860560"/>
              <a:ext cx="2936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7508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75080" y="286056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24400" y="281952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24400" y="2860560"/>
              <a:ext cx="2284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0860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08600" y="286056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57920" y="281952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57920" y="2860560"/>
              <a:ext cx="2259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150400" y="281952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1692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1692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1692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068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236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1692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5040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8200" y="287964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200" y="3354480"/>
              <a:ext cx="29368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080" y="2879640"/>
              <a:ext cx="2333520" cy="48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69840" y="2894040"/>
              <a:ext cx="194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10000"/>
                  </a:solidFill>
                  <a:latin typeface="Arial"/>
                </a:rPr>
                <a:t>Produto 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8600" y="2879640"/>
              <a:ext cx="2308320" cy="4888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69520" y="2894040"/>
              <a:ext cx="1989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10000"/>
                  </a:solidFill>
                  <a:latin typeface="Arial"/>
                </a:rPr>
                <a:t>Produto 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236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068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8200" y="3368520"/>
              <a:ext cx="29368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8200" y="3409920"/>
              <a:ext cx="2936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75080" y="3368520"/>
              <a:ext cx="49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75080" y="340992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24400" y="3368520"/>
              <a:ext cx="22842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24400" y="3409920"/>
              <a:ext cx="2284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08600" y="3368520"/>
              <a:ext cx="49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08600" y="340992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57920" y="3368520"/>
              <a:ext cx="22590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57920" y="3409920"/>
              <a:ext cx="2259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5040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1692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90680" y="3429000"/>
            <a:ext cx="7675560" cy="502200"/>
            <a:chOff x="490680" y="3429000"/>
            <a:chExt cx="7675560" cy="502200"/>
          </a:xfrm>
        </p:grpSpPr>
        <p:grpSp>
          <p:nvGrpSpPr>
            <p:cNvPr id="535" name=""/>
            <p:cNvGrpSpPr/>
            <p:nvPr/>
          </p:nvGrpSpPr>
          <p:grpSpPr>
            <a:xfrm>
              <a:off x="490680" y="3429000"/>
              <a:ext cx="7675560" cy="474840"/>
              <a:chOff x="490680" y="3429000"/>
              <a:chExt cx="7675560" cy="474840"/>
            </a:xfrm>
          </p:grpSpPr>
          <p:sp>
            <p:nvSpPr>
              <p:cNvPr id="536" name=""/>
              <p:cNvSpPr/>
              <p:nvPr/>
            </p:nvSpPr>
            <p:spPr>
              <a:xfrm>
                <a:off x="49068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2236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11692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15040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8200" y="3429000"/>
                <a:ext cx="2936880" cy="474840"/>
              </a:xfrm>
              <a:prstGeom prst="rect">
                <a:avLst/>
              </a:prstGeom>
              <a:solidFill>
                <a:srgbClr val="e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75080" y="3429000"/>
                <a:ext cx="2333520" cy="474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08600" y="3429000"/>
                <a:ext cx="2308320" cy="474840"/>
              </a:xfrm>
              <a:prstGeom prst="rect">
                <a:avLst/>
              </a:prstGeom>
              <a:solidFill>
                <a:srgbClr val="e9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011320" y="34434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34600" y="344340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8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46080" y="3443400"/>
              <a:ext cx="14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10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90680" y="3903840"/>
            <a:ext cx="7675560" cy="501840"/>
            <a:chOff x="490680" y="3903840"/>
            <a:chExt cx="7675560" cy="501840"/>
          </a:xfrm>
        </p:grpSpPr>
        <p:sp>
          <p:nvSpPr>
            <p:cNvPr id="547" name=""/>
            <p:cNvSpPr/>
            <p:nvPr/>
          </p:nvSpPr>
          <p:spPr>
            <a:xfrm>
              <a:off x="49068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236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11692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5040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200" y="3903840"/>
              <a:ext cx="2936880" cy="4744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41480" y="391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c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75080" y="3903840"/>
              <a:ext cx="2333520" cy="474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34600" y="3917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08600" y="3903840"/>
              <a:ext cx="2308320" cy="4744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60560" y="3917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90680" y="4378320"/>
            <a:ext cx="7675560" cy="502200"/>
            <a:chOff x="490680" y="4378320"/>
            <a:chExt cx="7675560" cy="502200"/>
          </a:xfrm>
        </p:grpSpPr>
        <p:sp>
          <p:nvSpPr>
            <p:cNvPr id="558" name=""/>
            <p:cNvSpPr/>
            <p:nvPr/>
          </p:nvSpPr>
          <p:spPr>
            <a:xfrm>
              <a:off x="49068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236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1692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5040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200" y="437832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29440" y="4392720"/>
              <a:ext cx="1686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mc </a:t>
              </a:r>
              <a:r>
                <a:rPr b="0" i="1" lang="en-US" sz="2800" spc="-1" strike="noStrike">
                  <a:solidFill>
                    <a:srgbClr val="010000"/>
                  </a:solidFill>
                  <a:latin typeface="Arial"/>
                </a:rPr>
                <a:t>($/un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75080" y="4378320"/>
              <a:ext cx="233352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34600" y="43927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08600" y="4378320"/>
              <a:ext cx="2308320" cy="47484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60560" y="43927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6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90680" y="4853160"/>
            <a:ext cx="7675560" cy="501840"/>
            <a:chOff x="490680" y="4853160"/>
            <a:chExt cx="7675560" cy="501840"/>
          </a:xfrm>
        </p:grpSpPr>
        <p:sp>
          <p:nvSpPr>
            <p:cNvPr id="569" name=""/>
            <p:cNvSpPr/>
            <p:nvPr/>
          </p:nvSpPr>
          <p:spPr>
            <a:xfrm>
              <a:off x="49068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236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1692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15040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8200" y="4853160"/>
              <a:ext cx="2936880" cy="4744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49320" y="4867200"/>
              <a:ext cx="63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(%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75080" y="4853160"/>
              <a:ext cx="2333520" cy="474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81920" y="48672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53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8600" y="4853160"/>
              <a:ext cx="2308320" cy="4744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7520" y="48672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6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90680" y="5327640"/>
            <a:ext cx="7675560" cy="502200"/>
            <a:chOff x="490680" y="5327640"/>
            <a:chExt cx="7675560" cy="502200"/>
          </a:xfrm>
        </p:grpSpPr>
        <p:sp>
          <p:nvSpPr>
            <p:cNvPr id="580" name=""/>
            <p:cNvSpPr/>
            <p:nvPr/>
          </p:nvSpPr>
          <p:spPr>
            <a:xfrm>
              <a:off x="49068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236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11692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5040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8200" y="532764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3600" y="5342040"/>
              <a:ext cx="2800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tempo gargal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5080" y="5327640"/>
              <a:ext cx="233352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96720" y="5342040"/>
              <a:ext cx="1625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17,5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08600" y="5327640"/>
              <a:ext cx="2308320" cy="47484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22680" y="534204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10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90680" y="5802480"/>
            <a:ext cx="7675560" cy="576000"/>
            <a:chOff x="490680" y="5802480"/>
            <a:chExt cx="7675560" cy="576000"/>
          </a:xfrm>
        </p:grpSpPr>
        <p:sp>
          <p:nvSpPr>
            <p:cNvPr id="591" name=""/>
            <p:cNvSpPr/>
            <p:nvPr/>
          </p:nvSpPr>
          <p:spPr>
            <a:xfrm>
              <a:off x="49068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236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0680" y="631836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0680" y="6357960"/>
              <a:ext cx="47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236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236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8200" y="631836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8200" y="635796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75080" y="63183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7508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24400" y="631836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24400" y="635796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08600" y="63183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0860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57920" y="631836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57920" y="635796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1692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5040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50400" y="631836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11692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1692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11692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8200" y="5802480"/>
              <a:ext cx="2936880" cy="5158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24640" y="5816520"/>
              <a:ext cx="2120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mc </a:t>
              </a: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($/min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75080" y="5802480"/>
              <a:ext cx="2333520" cy="515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34320" y="5816520"/>
              <a:ext cx="107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25,71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08600" y="5802480"/>
              <a:ext cx="2308320" cy="5158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0280" y="5816520"/>
              <a:ext cx="107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60,0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Lucro Máx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9105840" cy="338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to ótimo = 4285,7 P e 2500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 =  4285,7x450  +  1000x600  - 3.05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= $ 378.565,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5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5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0348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Quebra da Restr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2320" y="2819160"/>
            <a:ext cx="92948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a capacidade do recurso C para 120.000 minutos/mê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a despesa operacional em $120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= $3.17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4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4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Lucro Máx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95000" y="2743200"/>
            <a:ext cx="8915400" cy="37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to ótimo = 5000 P e 2500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 =  5000x450  +  1000x600  - 3.17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= $ 580.000,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5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5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57909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2320" y="3276720"/>
            <a:ext cx="9142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eio Variá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e considerando fator limi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io a tomada de decisões (normalmente, escolha do composto ótim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2438280"/>
            <a:ext cx="891540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yahu M. Goldr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mized Production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C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ory of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ndrome do Palh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of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que S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9088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 é a Meta de uma Empr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29718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necer produtos de melhor qualidade em conjunto com o melhor serviço ao consumid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nar-se a número um no merc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v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eta d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2630160"/>
            <a:ext cx="8915400" cy="382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mente, a meta das empresas é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ganhar o máximo possível de dinheiro, agora e no futu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esempe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8520" y="2432160"/>
            <a:ext cx="913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an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Índice de geração de dinhei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ventár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odo o dinheiro investido 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espesa Operac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odo o dinheiro qu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istema gasta na transformação d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Inventário em Gan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ções Gerenci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68400" y="3352680"/>
            <a:ext cx="1536840" cy="617760"/>
            <a:chOff x="1868400" y="3352680"/>
            <a:chExt cx="1536840" cy="617760"/>
          </a:xfrm>
        </p:grpSpPr>
        <p:sp>
          <p:nvSpPr>
            <p:cNvPr id="57" name=""/>
            <p:cNvSpPr/>
            <p:nvPr/>
          </p:nvSpPr>
          <p:spPr>
            <a:xfrm>
              <a:off x="2004480" y="3394080"/>
              <a:ext cx="1400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an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68400" y="335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868400" y="5257800"/>
            <a:ext cx="4223160" cy="617400"/>
            <a:chOff x="1868400" y="5257800"/>
            <a:chExt cx="4223160" cy="617400"/>
          </a:xfrm>
        </p:grpSpPr>
        <p:sp>
          <p:nvSpPr>
            <p:cNvPr id="60" name=""/>
            <p:cNvSpPr/>
            <p:nvPr/>
          </p:nvSpPr>
          <p:spPr>
            <a:xfrm>
              <a:off x="2002680" y="5298840"/>
              <a:ext cx="4088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spesa Opera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68400" y="5257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868400" y="4267080"/>
            <a:ext cx="2100600" cy="617760"/>
            <a:chOff x="1868400" y="4267080"/>
            <a:chExt cx="2100600" cy="617760"/>
          </a:xfrm>
        </p:grpSpPr>
        <p:sp>
          <p:nvSpPr>
            <p:cNvPr id="63" name=""/>
            <p:cNvSpPr/>
            <p:nvPr/>
          </p:nvSpPr>
          <p:spPr>
            <a:xfrm>
              <a:off x="2004480" y="4308480"/>
              <a:ext cx="1964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ventár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68400" y="426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095880" y="4191120"/>
            <a:ext cx="2973240" cy="617400"/>
            <a:chOff x="6095880" y="4191120"/>
            <a:chExt cx="2973240" cy="617400"/>
          </a:xfrm>
        </p:grpSpPr>
        <p:sp>
          <p:nvSpPr>
            <p:cNvPr id="66" name=""/>
            <p:cNvSpPr/>
            <p:nvPr/>
          </p:nvSpPr>
          <p:spPr>
            <a:xfrm>
              <a:off x="6095880" y="456552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71040" y="4232160"/>
              <a:ext cx="119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uc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34240" y="41911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68400" y="3352680"/>
            <a:ext cx="1536840" cy="617760"/>
            <a:chOff x="1868400" y="3352680"/>
            <a:chExt cx="1536840" cy="617760"/>
          </a:xfrm>
        </p:grpSpPr>
        <p:sp>
          <p:nvSpPr>
            <p:cNvPr id="71" name=""/>
            <p:cNvSpPr/>
            <p:nvPr/>
          </p:nvSpPr>
          <p:spPr>
            <a:xfrm>
              <a:off x="2004480" y="3394080"/>
              <a:ext cx="1400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an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68400" y="335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868400" y="5257800"/>
            <a:ext cx="4223160" cy="617400"/>
            <a:chOff x="1868400" y="5257800"/>
            <a:chExt cx="4223160" cy="617400"/>
          </a:xfrm>
        </p:grpSpPr>
        <p:sp>
          <p:nvSpPr>
            <p:cNvPr id="74" name=""/>
            <p:cNvSpPr/>
            <p:nvPr/>
          </p:nvSpPr>
          <p:spPr>
            <a:xfrm>
              <a:off x="2002680" y="5298840"/>
              <a:ext cx="4088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spesa Opera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68400" y="5257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868400" y="4267080"/>
            <a:ext cx="2100600" cy="617760"/>
            <a:chOff x="1868400" y="4267080"/>
            <a:chExt cx="2100600" cy="617760"/>
          </a:xfrm>
        </p:grpSpPr>
        <p:sp>
          <p:nvSpPr>
            <p:cNvPr id="77" name=""/>
            <p:cNvSpPr/>
            <p:nvPr/>
          </p:nvSpPr>
          <p:spPr>
            <a:xfrm>
              <a:off x="2004480" y="4308480"/>
              <a:ext cx="1964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ventár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8400" y="426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95880" y="4191120"/>
            <a:ext cx="2973240" cy="617400"/>
            <a:chOff x="6095880" y="4191120"/>
            <a:chExt cx="2973240" cy="617400"/>
          </a:xfrm>
        </p:grpSpPr>
        <p:sp>
          <p:nvSpPr>
            <p:cNvPr id="80" name=""/>
            <p:cNvSpPr/>
            <p:nvPr/>
          </p:nvSpPr>
          <p:spPr>
            <a:xfrm>
              <a:off x="6095880" y="456552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71040" y="4232160"/>
              <a:ext cx="119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uc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34240" y="41911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63560" y="3352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5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5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362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u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9-08T09:02:44Z</dcterms:created>
  <dc:creator>Cezar</dc:creator>
  <dc:description/>
  <dc:language>en-US</dc:language>
  <cp:lastModifiedBy>Cezar</cp:lastModifiedBy>
  <dcterms:modified xsi:type="dcterms:W3CDTF">2009-04-08T11:27:55Z</dcterms:modified>
  <cp:revision>45</cp:revision>
  <dc:subject/>
  <dc:title>OPT</dc:title>
</cp:coreProperties>
</file>