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80E-2430-4C80-93C9-977BB9EF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D9B-DF30-481D-A899-07A89E13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8C4-628C-40FD-9D11-67152BAE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936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328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44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936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5328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B8B-36E9-4C0D-8430-DE14A716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718-2DF7-4DED-B4D7-6C4FDD82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ADF-F767-4EB3-8CD3-7A1F3B6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044-00BE-4464-A621-D76E7C47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8F8-206E-4DB8-9224-DEADF057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6D4-701E-47C8-882B-BBD5CF6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551-590A-46BF-BD87-D2BCAD2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F56-295B-4C5B-B64C-19A247B6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6DC-5061-4236-A114-46339645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931D1B-4F13-4844-8DC8-BE95549F2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609480" cy="6845400"/>
            <a:chOff x="0" y="0"/>
            <a:chExt cx="60948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60948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42840" y="162000"/>
              <a:ext cx="85680" cy="6543720"/>
              <a:chOff x="42840" y="162000"/>
              <a:chExt cx="856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42840" y="1752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840" y="1981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840" y="2209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840" y="2438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840" y="2666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840" y="2895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2840" y="3124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840" y="3352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2840" y="3581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840" y="3809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2840" y="4038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2840" y="4267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840" y="4495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840" y="4724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2840" y="4952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840" y="5181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2840" y="5410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2840" y="5638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2840" y="5867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840" y="6095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2840" y="6324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2840" y="6553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2840" y="162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2840" y="390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2840" y="6192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42840" y="8478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42840" y="10764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2840" y="1305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840" y="1533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" name=""/>
          <p:cNvSpPr/>
          <p:nvPr/>
        </p:nvSpPr>
        <p:spPr>
          <a:xfrm>
            <a:off x="79560" y="6484680"/>
            <a:ext cx="699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INE - UFSC        -      Disciplina Estruturas de Dados       -       Prof. Dr. Aldo von Wangenhei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6965640" y="6484680"/>
            <a:ext cx="159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ágina 9.</a:t>
            </a:r>
            <a:fld id="{9465CD4B-3151-45F7-949C-233B8E36A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Book Antiqua"/>
              </a:rPr>
              <a:t>Estruturas de Dados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- T.332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Capítulo 9</a:t>
            </a:r>
            <a:br>
              <a:rPr sz="3200"/>
            </a:br>
            <a:br>
              <a:rPr sz="3200"/>
            </a:br>
            <a:r>
              <a:rPr b="0" lang="en-US" sz="5400" spc="-1" strike="noStrike">
                <a:solidFill>
                  <a:srgbClr val="8cf4ea"/>
                </a:solidFill>
                <a:latin typeface="Times New Roman"/>
              </a:rPr>
              <a:t>Hashing</a:t>
            </a:r>
            <a:br>
              <a:rPr sz="5400"/>
            </a:br>
            <a:br>
              <a:rPr sz="2000"/>
            </a:b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ou “Tabelas de Comprovação Complementar”</a:t>
            </a:r>
            <a:br>
              <a:rPr sz="2000"/>
            </a:b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ou “Técnica de Transformação de Chaves”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95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4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Hashing Fechado ou </a:t>
            </a:r>
            <a:br>
              <a:rPr sz="3200"/>
            </a:b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de Endereçamento Aberto </a:t>
            </a:r>
            <a:br>
              <a:rPr sz="3200"/>
            </a:b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(Open Addressing Hashing)</a:t>
            </a:r>
            <a:endParaRPr b="0" lang="en-US" sz="2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 somente uma estrutura de dados de tamanho fixo para implementar o has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ão necessita de ponteiros para a sua implement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 muito utilizada “antigament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equada para implementação em disco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S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nte uma tabela dividida em partes iguai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Áreas de tamanho fixo para cada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Repositóri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da repositório é examinado seqüencialmente na busca por uma c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ndo um repositório está cheio, há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estour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osofias para tratamento de esto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tilização do primeiro espaço vaz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ca quadrá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ção de estour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amos o primeiro espaço liv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caso do 60, isto foi logo apos duas entradas em “1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caso dos valores com chave apontand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 ”3”, foram incluídos dois valores antes mesmo de ser incluído algo com chave “hasheada” para “4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tério de parada de bus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amos o arquivo inteiro como uma lista circular e paramos ao chegar de novo ao ponto de partid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nte aí consideramos uma chave como não exist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4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Hashing Fechado ou </a:t>
            </a:r>
            <a:br>
              <a:rPr sz="3200"/>
            </a:b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de Endereçamento Aberto </a:t>
            </a:r>
            <a:br>
              <a:rPr sz="3200"/>
            </a:b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Implementação com busca seqüencial </a:t>
            </a:r>
            <a:br>
              <a:rPr sz="2000"/>
            </a:b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após estouro.</a:t>
            </a:r>
            <a:br>
              <a:rPr sz="2000"/>
            </a:b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Suponha</a:t>
            </a:r>
            <a:r>
              <a:rPr b="1" i="1" lang="en-US" sz="2000" spc="-1" strike="noStrike">
                <a:solidFill>
                  <a:srgbClr val="8cf4ea"/>
                </a:solidFill>
                <a:latin typeface="Times New Roman"/>
              </a:rPr>
              <a:t> h(k)</a:t>
            </a: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 como </a:t>
            </a:r>
            <a:r>
              <a:rPr b="1" i="1" lang="en-US" sz="2000" spc="-1" strike="noStrike">
                <a:solidFill>
                  <a:srgbClr val="8cf4ea"/>
                </a:solidFill>
                <a:latin typeface="Times New Roman"/>
              </a:rPr>
              <a:t>mod(k, 10)</a:t>
            </a:r>
            <a:endParaRPr b="0" lang="en-US" sz="20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631200" y="533520"/>
            <a:ext cx="333000" cy="4485600"/>
            <a:chOff x="6631200" y="533520"/>
            <a:chExt cx="333000" cy="4485600"/>
          </a:xfrm>
        </p:grpSpPr>
        <p:sp>
          <p:nvSpPr>
            <p:cNvPr id="419" name=""/>
            <p:cNvSpPr/>
            <p:nvPr/>
          </p:nvSpPr>
          <p:spPr>
            <a:xfrm>
              <a:off x="6631200" y="533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31200" y="1540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31200" y="254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31200" y="35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31200" y="455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966000" y="628560"/>
            <a:ext cx="838080" cy="25092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42320" y="609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66000" y="879480"/>
            <a:ext cx="838080" cy="25236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42320" y="8618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66000" y="1131840"/>
            <a:ext cx="838080" cy="25092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42320" y="1112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66000" y="1382760"/>
            <a:ext cx="838080" cy="25092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42320" y="1365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66000" y="1633680"/>
            <a:ext cx="838080" cy="252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42320" y="16160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66000" y="1886040"/>
            <a:ext cx="838080" cy="250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42320" y="1866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966000" y="2136600"/>
            <a:ext cx="838080" cy="25272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42320" y="2117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66000" y="2389320"/>
            <a:ext cx="838080" cy="250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66000" y="2639880"/>
            <a:ext cx="838080" cy="250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42320" y="2620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66000" y="2890800"/>
            <a:ext cx="838080" cy="252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42320" y="2873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66000" y="3141720"/>
            <a:ext cx="838080" cy="250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66000" y="3392640"/>
            <a:ext cx="838080" cy="252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66000" y="3645000"/>
            <a:ext cx="838080" cy="25056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42320" y="3625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66000" y="3895560"/>
            <a:ext cx="838080" cy="25092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42320" y="3878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66000" y="4146480"/>
            <a:ext cx="838080" cy="25236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42320" y="41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66000" y="4398840"/>
            <a:ext cx="838080" cy="25092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42320" y="4379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66000" y="4649760"/>
            <a:ext cx="838080" cy="25236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42320" y="4630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3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66000" y="4902120"/>
            <a:ext cx="838080" cy="250920"/>
          </a:xfrm>
          <a:prstGeom prst="rect">
            <a:avLst/>
          </a:prstGeom>
          <a:solidFill>
            <a:srgbClr val="01998b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42320" y="4886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3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66000" y="5153040"/>
            <a:ext cx="838080" cy="250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42320" y="5133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66000" y="5403960"/>
            <a:ext cx="838080" cy="252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042320" y="5386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66000" y="5657760"/>
            <a:ext cx="838080" cy="7430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5 Complexidad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ordem de complexidade de tempo de uma implementação de hashing é linear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O(n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T(n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õe-se de três term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O tempo para calcular a função de has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O tempo para  encontrar o início do depósito indicado pela função de hashing através da tabela de has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O tempo para encontrar a chave procurada dentro do seu depósi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s complexidades são diferentes para as duas filosofias de implementação de hashing: aberto ou fecha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T(n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vai tender a ser algo em torno d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 caso idea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m muito nos casos menos ide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6 Vantag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c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É muito fácil de imaginar um algoritmo para implementar has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al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demos adequar o tamanho da tabela de hashing ao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sperado em nossa aplic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iciência para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 trabalharmos com problemas envolvendo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1.000.000 de dados, podemos imaginar uma tabela de hashing com 2.000 entradas, onde temos uma divisão do espaço de busca da ordem d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2.000 de imedi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licação imediata a arqu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s métodos de hashing, tanto de endereçamento aberto como fechado, podem ser utilizados praticamente sem nenhuma alteração em um ambiente de dados persistentes utilizando arquivos em dis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7 Desvantag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ência da escolha de função de has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 que o tempo de acesso médio ideal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T(n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c1 . (1/b).n + c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eja mantido, é necessário que a função de hashing divida o universo dos dados de entrada em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juntos de tamanho aproximadamente igua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o médio de acesso é ótimo somente em uma fai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omplexidade linear implica em um crescimento mais rápido em relação a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o que as árvores, p.e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 uma faixa de valores d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determinada por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onde o hashing será muito melhor do que uma árvo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a dessa faixa é pio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1760" y="-15264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8 Função de Hashing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ui o objetivo de transformar o valor de chave de um elemento de dados em uma posição para este elemento em um dos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bconjuntos defini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É um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mapeamen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-&gt; {1,..,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ond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K =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{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,..,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é o conjunto de todos os valores de chave possíveis no universo de dados em quest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 dividir o universo de chaves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K =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,..,k</a:t>
            </a:r>
            <a:r>
              <a:rPr b="1" i="1" lang="en-US" sz="2400" spc="-1" strike="noStrike" baseline="-25000">
                <a:solidFill>
                  <a:srgbClr val="fafd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bconjuntos de mesmo taman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robabilidade de uma chav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atória qualquer cair em um dos subconjuntos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i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[1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,b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ve ser </a:t>
            </a:r>
            <a:r>
              <a:rPr b="1" lang="en-US" sz="2000" spc="-1" strike="noStrike" u="sng">
                <a:solidFill>
                  <a:srgbClr val="fc0128"/>
                </a:solidFill>
                <a:uFillTx/>
                <a:latin typeface="Times New Roman"/>
              </a:rPr>
              <a:t>unifor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 função de Hashing não dividir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formemente entre os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 tabela de hashing pode degener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 pior caso de degeneração é aquele onde todas as chaves  caem em um único conjunto </a:t>
            </a:r>
            <a:r>
              <a:rPr b="1" i="1" lang="en-US" sz="18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fafd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função “primeira letra” do exemplo anterior é um exemplo de uma função rui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letra do alfabeto com a qual um nome inicia não é distribuída uniformememente. Quantos nomes começam com “X”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8.1 Funções de Hashing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garantir a distribuição uniforme de um universo de chaves entre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juntos, foram desenvolvidas 4 técnicas princip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mbre-se: a função de hashing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h(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) -&gt;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[1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,b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ma uma chave </a:t>
            </a:r>
            <a:br>
              <a:rPr sz="2000"/>
            </a:b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{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,..,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 devolve um número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que é o índice do subconjunto </a:t>
            </a:r>
            <a:br>
              <a:rPr sz="2000"/>
            </a:b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i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[1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,b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nde o elemento possuidor dessa chave vai ser colo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 funções de hashing abordadas adiante supõem sempre uma chave simples, um único dado, seja string ou número, sobre o qual será efetuado o cálcul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hing sobre mais de uma chave, p.ex. “Nome” E “CPF” também é possível, mas implica em funções mais complex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is Funções de Hash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io do Quad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lding ou Desdobr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álise de Dígi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8.1.1 Divisã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 mais simples e mais utilizada para função de has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endereço de um elemento na tabela de hashing é dado simplesmente pelo resto da divisão da sua chave por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fafd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 = mod(k</a:t>
            </a:r>
            <a:r>
              <a:rPr b="1" i="1" lang="en-US" sz="2400" spc="-1" strike="noStrike" baseline="-25000">
                <a:solidFill>
                  <a:srgbClr val="fafd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,b) +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termo “+ 1” é para numeração d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i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[1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,b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 partir de 1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iona se a distribuição de valores de chave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fafd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uniforme em seu domínio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s chaves, mesmo sendo numéricas, possuem uma </a:t>
            </a: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regra de formaçã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faz com que estejam irregularmente distribuídas em seu domínio, o resto da divisão também não gera distribuição uniforme. Ex.: </a:t>
            </a: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CP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ma ajuda sugerida é a utilização somente de números primos de valores altos (acima de 20) como valores para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chaves alfanuméricas pode-se utilizar a soma de todos os valores numéricos dos caracteres da chave como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tigamente utilizava-se simplesmente a representação binária do string como “numero”. É ruim porque para valores d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equenos, toda a parte “mais alta” do string é ignor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8.1.1 Divisã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5920" indent="-3859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nha b=1000 e a sequinte seqüência de chaves 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llas et.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]: </a:t>
            </a:r>
            <a:br>
              <a:rPr sz="2400"/>
            </a:b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1.030, 839, 10.054 e 20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emos a seguinte distribuiç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57b49"/>
                </a:solidFill>
                <a:uFillTx/>
                <a:latin typeface="Courier New"/>
              </a:rPr>
              <a:t>Chave</a:t>
            </a:r>
            <a:r>
              <a:rPr b="1" lang="en-US" sz="2000" spc="-1" strike="noStrike" u="sng">
                <a:solidFill>
                  <a:srgbClr val="f57b49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f57b49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f57b49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f57b49"/>
                </a:solidFill>
                <a:uFillTx/>
                <a:latin typeface="Courier New"/>
              </a:rPr>
              <a:t>    Endere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1030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  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10054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  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839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 83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2030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  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 que 1030 e 2030 geram o mesmo endereç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isto chama-se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colisã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8.1.2 Meio do Quadrad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da em dois pas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va-se a chave ao quad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tiliza-se um determinado número de dígitos ou bits do meio do resul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éia ge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arte central de um número elevado ao quadrado depende dele como um to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ndo utilizamos diretamente bi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utilizarmos </a:t>
            </a:r>
            <a:r>
              <a:rPr b="1" i="1" lang="en-US" sz="2000" spc="-1" strike="noStrike">
                <a:solidFill>
                  <a:srgbClr val="f57b49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its do meio do quadrado, podemos utilizar o seu valor para acessar diretamente uma tabela de </a:t>
            </a:r>
            <a:r>
              <a:rPr b="1" i="1" lang="en-US" sz="2400" spc="-1" strike="noStrike">
                <a:solidFill>
                  <a:srgbClr val="f57b49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f57b49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1 Recapitulaçã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é agora vimos basicamente dois tipos de estruturas de dados para o armazenamento flexível de dados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Listas e Árv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da um desses grupos possui muitas vari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List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ão simples de se implementar, mas, com um tempo médio de acesso T = n/2, são impraticáveis para grandes quantidades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 uma lista com 100.000 dados, para recuperar 3 elementos em seqüência faremos um número esperado de 150.000 acessos a no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stas são ótimas porém, para pequenas quantidades de d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Árv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ão estruturas mais complexas, mas que possuem um tempo médio de acesso T=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, onde G = grau da árv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organização de uma árvore depende da ordem de entrada dos d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 evitar a deterioração, há modelos de árvores que se reorganizam sozinhas. As principais são </a:t>
            </a: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AV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Árvore 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8.1.3 Folding ou Desdobrament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étodo para cadeias de caract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ado na idéia de se ter uma tira de papel e de se dobrar essa tira formando um “bolinho” ou “sanfon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seia-se em uma representação numérica de uma cadeia de caract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de ser binária ou ASCI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is tipo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ft Folding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 Fol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Folding: Shift Folding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o um string em pedaços, onde cada pedaço é representado numericamente e somo as part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mplo mais simples: somar o valor ASCII de todos os caract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resultado uso diretamente ou como chave para uma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´(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onha que os valores ASCII de um string sejam os seguintes: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23, 203, 241, 112 e 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folding será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2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2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1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afd00"/>
                </a:solidFill>
                <a:uFillTx/>
                <a:latin typeface="Courier New"/>
              </a:rPr>
              <a:t>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Courier New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6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Folding: Limit Folding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a idéia da tira de papel como sanfon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mplo mais simples: somar o valor ASCII de todos os caracteres, invertendo os dígitos a cada segundo caract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onha que os valores ASCII de um string sejam os seguintes: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123, 203, 241, 112 e 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folding será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76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6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3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6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2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6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2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6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afd00"/>
                </a:solidFill>
                <a:uFillTx/>
                <a:latin typeface="Courier New"/>
              </a:rPr>
              <a:t>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Courier New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6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8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215160" y="2209680"/>
            <a:ext cx="3096360" cy="923760"/>
            <a:chOff x="3215160" y="2209680"/>
            <a:chExt cx="3096360" cy="923760"/>
          </a:xfrm>
        </p:grpSpPr>
        <p:sp>
          <p:nvSpPr>
            <p:cNvPr id="485" name=""/>
            <p:cNvSpPr/>
            <p:nvPr/>
          </p:nvSpPr>
          <p:spPr>
            <a:xfrm flipH="1" flipV="1" rot="16200000">
              <a:off x="3729240" y="2363040"/>
              <a:ext cx="914400" cy="607680"/>
            </a:xfrm>
            <a:prstGeom prst="parallelogram">
              <a:avLst>
                <a:gd name="adj" fmla="val 76630"/>
              </a:avLst>
            </a:prstGeom>
            <a:solidFill>
              <a:srgbClr val="7b00e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 rot="5400000">
              <a:off x="3122280" y="2363760"/>
              <a:ext cx="914400" cy="605880"/>
            </a:xfrm>
            <a:prstGeom prst="parallelogram">
              <a:avLst>
                <a:gd name="adj" fmla="val 76857"/>
              </a:avLst>
            </a:prstGeom>
            <a:solidFill>
              <a:srgbClr val="c78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 rot="16200000">
              <a:off x="4943880" y="2373120"/>
              <a:ext cx="914400" cy="606240"/>
            </a:xfrm>
            <a:prstGeom prst="parallelogram">
              <a:avLst>
                <a:gd name="adj" fmla="val 76812"/>
              </a:avLst>
            </a:prstGeom>
            <a:solidFill>
              <a:srgbClr val="7b00e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 rot="5400000">
              <a:off x="4336560" y="2363040"/>
              <a:ext cx="914400" cy="607320"/>
            </a:xfrm>
            <a:prstGeom prst="parallelogram">
              <a:avLst>
                <a:gd name="adj" fmla="val 76676"/>
              </a:avLst>
            </a:prstGeom>
            <a:solidFill>
              <a:srgbClr val="c78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 rot="5400000">
              <a:off x="5550480" y="2363040"/>
              <a:ext cx="914400" cy="607320"/>
            </a:xfrm>
            <a:prstGeom prst="parallelogram">
              <a:avLst>
                <a:gd name="adj" fmla="val 76676"/>
              </a:avLst>
            </a:prstGeom>
            <a:solidFill>
              <a:srgbClr val="c78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9437600">
              <a:off x="3278160" y="24728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2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9437600">
              <a:off x="4516560" y="24728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37600">
              <a:off x="5758200" y="2474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352600">
              <a:off x="3926880" y="24775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0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2352600">
              <a:off x="5136480" y="246816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8.1.4 Análise de Dígi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e ser utilizado quando eu conheço as distribuições dos dígitos ou caracteres das ch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É útil quando temos um domínio com poucas chaves ou com chaves com regra de formação bem conhec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olhemos uma parte da chave para cálculo do Has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a parte deverá ter uma distribuição conhec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a distribuição deverá ser a mais uniforme possí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mpl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bemos que o DDD e os 3 primeiros dígitos de um número telefônico não são distribuídos de forma uniforme: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não serv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erentes estados possuem número diferente de telefones e a maioria das cidades começa seus números com X2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demos supor que os 4 últimos dígitos de um número telefônico são distribuídos mais ou menos uniformemente: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boa opçã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665280" indent="-66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9  Exercício: Implementação da Classe </a:t>
            </a:r>
            <a:r>
              <a:rPr b="0" i="1" lang="en-US" sz="3200" spc="-1" strike="noStrike">
                <a:solidFill>
                  <a:srgbClr val="8cf4ea"/>
                </a:solidFill>
                <a:latin typeface="Times New Roman"/>
              </a:rPr>
              <a:t>Diction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11430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lasse Dicionário em Smalltalk comporta-se como uma lista index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 realidade esta é a forma como uma instância d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ictionar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e mostra para o usuá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m Dictionary é implementado internamente como uma tabela de Hashing, para melhor tempo de aces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ê vai implementar uma </a:t>
            </a:r>
            <a:r>
              <a:rPr b="1" i="1" lang="en-US" sz="2400" spc="-1" strike="noStrike">
                <a:solidFill>
                  <a:srgbClr val="f57b49"/>
                </a:solidFill>
                <a:latin typeface="Times New Roman"/>
              </a:rPr>
              <a:t>Classe Dicioná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 C++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tilize hashing encadeado e um vetor como tabela de has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tilize Strings como chav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sua uma função de hashing que utilize </a:t>
            </a:r>
            <a:r>
              <a:rPr b="0" i="1" lang="en-US" sz="2000" spc="-1" strike="noStrike">
                <a:solidFill>
                  <a:srgbClr val="f57b49"/>
                </a:solidFill>
                <a:latin typeface="Times New Roman"/>
              </a:rPr>
              <a:t>shift fol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bre o string-chave e </a:t>
            </a:r>
            <a:r>
              <a:rPr b="0" i="1" lang="en-US" sz="2000" spc="-1" strike="noStrike">
                <a:solidFill>
                  <a:srgbClr val="f57b49"/>
                </a:solidFill>
                <a:latin typeface="Times New Roman"/>
              </a:rPr>
              <a:t>mod(k,17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bre o resultado do f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ja um dicionário genérico, sendo capaz, em teoria, de armazenar objetos de qualquer tipo, através de ponteiros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 prática você vai implementar-lo para inteiros, floats e strin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5800" y="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9.1 Modelagem do </a:t>
            </a:r>
            <a:r>
              <a:rPr b="0" i="1" lang="en-US" sz="3200" spc="-1" strike="noStrike">
                <a:solidFill>
                  <a:srgbClr val="8cf4ea"/>
                </a:solidFill>
                <a:latin typeface="Times New Roman"/>
              </a:rPr>
              <a:t>Diction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11430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ê vai precisar de 2 class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Dicionário em si, implementado como um vetor de ponteiros para Associ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Associação, que associa uma chave a um obj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Associação conterá um campo para a chave (ponteiro para char), um campo para o objeto associado (ponteiro void, para objetos genéricos), um campo tipo (definido por nós como inteiro) e um ponteiro para a próxima associaç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 campo tipo é necessário para que saibamos qual é o tipo de objeto que é apontado pela associação, já que C++ não associa informaçoes sobre pertinência de classe a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957240" indent="-957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9.1 Modelagem das Classes </a:t>
            </a:r>
            <a:r>
              <a:rPr b="0" i="1" lang="en-US" sz="3200" spc="-1" strike="noStrike">
                <a:solidFill>
                  <a:srgbClr val="8cf4ea"/>
                </a:solidFill>
                <a:latin typeface="Times New Roman"/>
              </a:rPr>
              <a:t>Dicionário e Associ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11430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lasse Dicionário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ssociação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dados[17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lasse Associação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aracte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*cha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nteiro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ip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*valo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ssociação *pro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85800" y="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9.1 Modelagem da Classe </a:t>
            </a:r>
            <a:r>
              <a:rPr b="0" i="1" lang="en-US" sz="3200" spc="-1" strike="noStrike">
                <a:solidFill>
                  <a:srgbClr val="8cf4ea"/>
                </a:solidFill>
                <a:latin typeface="Times New Roman"/>
              </a:rPr>
              <a:t>Diction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0600" y="1419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144792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0" y="156204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306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09680" y="182880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0" y="19432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30600" y="218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2209680"/>
            <a:ext cx="304920" cy="381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23241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30600" y="25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09680" y="259092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0" y="270504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30600" y="294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09680" y="297180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0" y="30862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30600" y="332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9680" y="3352680"/>
            <a:ext cx="304920" cy="381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34671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30600" y="37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373392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384804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830600" y="408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411480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42292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30600" y="446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4495680"/>
            <a:ext cx="304920" cy="381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0" y="46101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30600" y="48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487692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499104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438280" y="2409840"/>
            <a:ext cx="457200" cy="228600"/>
            <a:chOff x="2438280" y="2409840"/>
            <a:chExt cx="457200" cy="228600"/>
          </a:xfrm>
        </p:grpSpPr>
        <p:sp>
          <p:nvSpPr>
            <p:cNvPr id="535" name=""/>
            <p:cNvSpPr/>
            <p:nvPr/>
          </p:nvSpPr>
          <p:spPr>
            <a:xfrm>
              <a:off x="2438280" y="240984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43200" y="2409840"/>
              <a:ext cx="0" cy="22860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90560" y="248616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6880" y="2562120"/>
              <a:ext cx="15228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2438280" y="39337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43200" y="393372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90920" y="401004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086360"/>
            <a:ext cx="15264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431496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431496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90920" y="439092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66880" y="4467240"/>
            <a:ext cx="15264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38280" y="469584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43200" y="469584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90920" y="477216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4848120"/>
            <a:ext cx="15264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164772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09680" y="5267160"/>
            <a:ext cx="304920" cy="3812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438280" y="2028960"/>
            <a:ext cx="457200" cy="228600"/>
            <a:chOff x="2438280" y="2028960"/>
            <a:chExt cx="457200" cy="228600"/>
          </a:xfrm>
        </p:grpSpPr>
        <p:sp>
          <p:nvSpPr>
            <p:cNvPr id="554" name=""/>
            <p:cNvSpPr/>
            <p:nvPr/>
          </p:nvSpPr>
          <p:spPr>
            <a:xfrm>
              <a:off x="2438280" y="202896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43200" y="2028960"/>
              <a:ext cx="0" cy="22860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90560" y="210528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66880" y="2181240"/>
              <a:ext cx="15228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438280" y="2790720"/>
            <a:ext cx="457200" cy="228600"/>
            <a:chOff x="2438280" y="2790720"/>
            <a:chExt cx="457200" cy="228600"/>
          </a:xfrm>
        </p:grpSpPr>
        <p:sp>
          <p:nvSpPr>
            <p:cNvPr id="559" name=""/>
            <p:cNvSpPr/>
            <p:nvPr/>
          </p:nvSpPr>
          <p:spPr>
            <a:xfrm>
              <a:off x="2438280" y="279072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3200" y="2790720"/>
              <a:ext cx="0" cy="22860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560" y="286704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666880" y="2943000"/>
              <a:ext cx="15228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438280" y="3171960"/>
            <a:ext cx="457200" cy="228600"/>
            <a:chOff x="2438280" y="3171960"/>
            <a:chExt cx="457200" cy="228600"/>
          </a:xfrm>
        </p:grpSpPr>
        <p:sp>
          <p:nvSpPr>
            <p:cNvPr id="564" name=""/>
            <p:cNvSpPr/>
            <p:nvPr/>
          </p:nvSpPr>
          <p:spPr>
            <a:xfrm>
              <a:off x="2438280" y="317196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43200" y="3171960"/>
              <a:ext cx="0" cy="22860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590560" y="324828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3324240"/>
              <a:ext cx="15228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438280" y="3552840"/>
            <a:ext cx="457200" cy="228600"/>
            <a:chOff x="2438280" y="3552840"/>
            <a:chExt cx="457200" cy="228600"/>
          </a:xfrm>
        </p:grpSpPr>
        <p:sp>
          <p:nvSpPr>
            <p:cNvPr id="569" name=""/>
            <p:cNvSpPr/>
            <p:nvPr/>
          </p:nvSpPr>
          <p:spPr>
            <a:xfrm>
              <a:off x="2438280" y="355284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43200" y="3552840"/>
              <a:ext cx="0" cy="22860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90560" y="362916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3705120"/>
              <a:ext cx="15228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438280" y="5076720"/>
            <a:ext cx="457200" cy="228600"/>
            <a:chOff x="2438280" y="5076720"/>
            <a:chExt cx="457200" cy="228600"/>
          </a:xfrm>
        </p:grpSpPr>
        <p:sp>
          <p:nvSpPr>
            <p:cNvPr id="574" name=""/>
            <p:cNvSpPr/>
            <p:nvPr/>
          </p:nvSpPr>
          <p:spPr>
            <a:xfrm>
              <a:off x="2438280" y="507672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3200" y="5076720"/>
              <a:ext cx="0" cy="22860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90560" y="5153040"/>
              <a:ext cx="30492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66880" y="5229000"/>
              <a:ext cx="15228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971800" y="1447920"/>
            <a:ext cx="2590920" cy="1035360"/>
            <a:chOff x="2971800" y="1447920"/>
            <a:chExt cx="2590920" cy="1035360"/>
          </a:xfrm>
        </p:grpSpPr>
        <p:sp>
          <p:nvSpPr>
            <p:cNvPr id="579" name=""/>
            <p:cNvSpPr/>
            <p:nvPr/>
          </p:nvSpPr>
          <p:spPr>
            <a:xfrm>
              <a:off x="2971800" y="1523880"/>
              <a:ext cx="838080" cy="3002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1523880"/>
              <a:ext cx="304560" cy="3002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24280" y="1614600"/>
              <a:ext cx="152640" cy="147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24080" y="1474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1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19720" y="2133720"/>
              <a:ext cx="838080" cy="29988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95680" y="2084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88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81480" y="1676520"/>
              <a:ext cx="3812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52880" y="1523880"/>
              <a:ext cx="304920" cy="3002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29200" y="1600200"/>
              <a:ext cx="152280" cy="147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09880" y="1523880"/>
              <a:ext cx="838440" cy="3002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86200" y="1447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int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00600" y="1676520"/>
              <a:ext cx="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5562720" y="1523880"/>
            <a:ext cx="83808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1523880"/>
            <a:ext cx="30492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14600"/>
            <a:ext cx="15228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474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101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24480" y="2133720"/>
            <a:ext cx="1524240" cy="299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084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bananad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543800" y="1523880"/>
            <a:ext cx="30492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20120" y="1600200"/>
            <a:ext cx="15228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00800" y="1523880"/>
            <a:ext cx="83808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00800" y="14479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cha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91520" y="1676520"/>
            <a:ext cx="0" cy="457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772400" y="16765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077320" y="1676520"/>
            <a:ext cx="0" cy="2142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24680" y="17478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001000" y="181944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685800" y="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9.1 Implementação da Classe </a:t>
            </a:r>
            <a:r>
              <a:rPr b="0" i="1" lang="en-US" sz="3200" spc="-1" strike="noStrike">
                <a:solidFill>
                  <a:srgbClr val="8cf4ea"/>
                </a:solidFill>
                <a:latin typeface="Times New Roman"/>
              </a:rPr>
              <a:t>Diction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1430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Dicionário deverá ser capaz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icionar um novo objeto, lendo a chave, o tipo e o objeto e adicionando-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uperar e imprimir um objeto a partir da chave. Lembre-se que em C++ para isto é necessário que, ao imprimir, primeiro seja verificado qual o tipo para que seja chamada a impressão corre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imir todas as chaves. Esta impressão deverá ser da forma mais simples possível, sem se preocupar com a ord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mbre-se de fazer um </a:t>
            </a:r>
            <a:r>
              <a:rPr b="1" i="1" lang="en-US" sz="2000" spc="-1" strike="noStrike">
                <a:solidFill>
                  <a:srgbClr val="f57b49"/>
                </a:solidFill>
                <a:latin typeface="Times New Roman"/>
              </a:rPr>
              <a:t>typecast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o imprimir, depois que descobrir qual é o tipo do objeto apontado pelo ponteir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al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2 Hashing: Visão Geral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 uma forma extremamente simples, fácil de se implementar e intuitiva de se organizar grandes quantidades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mite armazenar e encontrar rapidamente dados por cha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ui como idéia central a divisão de um universo de dados a ser organizado em subconjuntos mais gerenci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ui dois conceitos centra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abela de Hash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Estrutura que permite o acesso aos subconjunt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unção de Hash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Função que realiza um mapeamento entre valores de chaves e entradas na tabel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ui uma série de limitações em relação às árvo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ão permite recuperar/imprimir todos os elementos em ordem de chave nem tampouco outras operações que exijam seqüência dos d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ão permite operações do tipo recuperar o elemento com a maior ou a menor cha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2.1 Hashing: Introduçã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éia geral: Se eu possuo um universo de dados classificáveis por chave, pos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iar um critério simples para dividir este universo em subconjuntos com base em alguma qualidade do domínio das chav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ber em qual subconjunto procurar e colocar uma cha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renciar estes subconjuntos bem menores por algum método simp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isso eu preci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ber quantos subconjuntos eu quero e criar uma regra de cálculo que me diga, dada uma chave, em qual subconjunto devo procurar pelos dados com esta chave ou colocar este dado, caso seja um novo element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to é chamado de </a:t>
            </a:r>
            <a:r>
              <a:rPr b="1" lang="en-US" sz="2000" spc="-1" strike="noStrike">
                <a:solidFill>
                  <a:srgbClr val="f57b49"/>
                </a:solidFill>
                <a:latin typeface="Times New Roman"/>
              </a:rPr>
              <a:t>função de hash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suir um índice que me permita encontrar o início do subconjunto certo, depois de calcular o hashing. Isto é a </a:t>
            </a:r>
            <a:r>
              <a:rPr b="1" lang="en-US" sz="2000" spc="-1" strike="noStrike">
                <a:solidFill>
                  <a:srgbClr val="f57b49"/>
                </a:solidFill>
                <a:latin typeface="Times New Roman"/>
              </a:rPr>
              <a:t>tabela de hash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suir uma ou um conjunto de estruturas de dados para os subconjuntos. Existem duas filosofias: </a:t>
            </a:r>
            <a:r>
              <a:rPr b="1" lang="en-US" sz="2000" spc="-1" strike="noStrike">
                <a:solidFill>
                  <a:srgbClr val="f57b49"/>
                </a:solidFill>
                <a:latin typeface="Times New Roman"/>
              </a:rPr>
              <a:t>hashing fechad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 de</a:t>
            </a:r>
            <a:r>
              <a:rPr b="1" lang="en-US" sz="20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57b49"/>
                </a:solidFill>
                <a:latin typeface="Times New Roman"/>
              </a:rPr>
              <a:t>endereçamento aber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u o </a:t>
            </a:r>
            <a:r>
              <a:rPr b="1" lang="en-US" sz="2000" spc="-1" strike="noStrike">
                <a:solidFill>
                  <a:srgbClr val="f57b49"/>
                </a:solidFill>
                <a:latin typeface="Times New Roman"/>
              </a:rPr>
              <a:t>hashing abert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1" lang="en-US" sz="20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57b49"/>
                </a:solidFill>
                <a:latin typeface="Times New Roman"/>
              </a:rPr>
              <a:t>encadead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1143000"/>
            <a:ext cx="1295640" cy="4724280"/>
          </a:xfrm>
          <a:prstGeom prst="rect">
            <a:avLst/>
          </a:prstGeom>
          <a:solidFill>
            <a:srgbClr val="9ccdfc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2.1.1. Exempl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143000"/>
            <a:ext cx="124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Antô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Jo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Oleg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M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Álv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Mag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Mur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J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O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Ol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Jud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391520" y="1066680"/>
            <a:ext cx="1309680" cy="4572000"/>
            <a:chOff x="7391520" y="1066680"/>
            <a:chExt cx="1309680" cy="4572000"/>
          </a:xfrm>
        </p:grpSpPr>
        <p:sp>
          <p:nvSpPr>
            <p:cNvPr id="87" name=""/>
            <p:cNvSpPr/>
            <p:nvPr/>
          </p:nvSpPr>
          <p:spPr>
            <a:xfrm>
              <a:off x="7391520" y="1066680"/>
              <a:ext cx="1295640" cy="1218960"/>
            </a:xfrm>
            <a:prstGeom prst="rect">
              <a:avLst/>
            </a:prstGeom>
            <a:solidFill>
              <a:srgbClr val="9ccdfc"/>
            </a:solidFill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1520" y="2285640"/>
              <a:ext cx="1295640" cy="1067040"/>
            </a:xfrm>
            <a:prstGeom prst="rect">
              <a:avLst/>
            </a:prstGeom>
            <a:solidFill>
              <a:srgbClr val="9ccdfc"/>
            </a:solidFill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91520" y="3352680"/>
              <a:ext cx="1295640" cy="1066680"/>
            </a:xfrm>
            <a:prstGeom prst="rect">
              <a:avLst/>
            </a:prstGeom>
            <a:solidFill>
              <a:srgbClr val="9ccdfc"/>
            </a:solidFill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1520" y="4419360"/>
              <a:ext cx="1295640" cy="1219320"/>
            </a:xfrm>
            <a:prstGeom prst="rect">
              <a:avLst/>
            </a:prstGeom>
            <a:solidFill>
              <a:srgbClr val="9ccdfc"/>
            </a:solidFill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52000" y="1107720"/>
              <a:ext cx="12492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Antôn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Álva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A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Jos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Jo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Jud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Ma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Mag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Muril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Olegá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Oth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Olg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743200" y="3276720"/>
            <a:ext cx="1066680" cy="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666880"/>
            <a:ext cx="1904760" cy="1067040"/>
          </a:xfrm>
          <a:prstGeom prst="rect">
            <a:avLst/>
          </a:prstGeom>
          <a:solidFill>
            <a:srgbClr val="9ccdfc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Qual 1ª letra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553080" y="2362320"/>
            <a:ext cx="533520" cy="1600200"/>
            <a:chOff x="6553080" y="2362320"/>
            <a:chExt cx="533520" cy="1600200"/>
          </a:xfrm>
        </p:grpSpPr>
        <p:grpSp>
          <p:nvGrpSpPr>
            <p:cNvPr id="95" name=""/>
            <p:cNvGrpSpPr/>
            <p:nvPr/>
          </p:nvGrpSpPr>
          <p:grpSpPr>
            <a:xfrm>
              <a:off x="6553080" y="2362320"/>
              <a:ext cx="533520" cy="1600200"/>
              <a:chOff x="6553080" y="2362320"/>
              <a:chExt cx="533520" cy="1600200"/>
            </a:xfrm>
          </p:grpSpPr>
          <p:sp>
            <p:nvSpPr>
              <p:cNvPr id="96" name=""/>
              <p:cNvSpPr/>
              <p:nvPr/>
            </p:nvSpPr>
            <p:spPr>
              <a:xfrm>
                <a:off x="6553080" y="2362320"/>
                <a:ext cx="533520" cy="426600"/>
              </a:xfrm>
              <a:prstGeom prst="rect">
                <a:avLst/>
              </a:prstGeom>
              <a:solidFill>
                <a:srgbClr val="9ccdf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553080" y="2788920"/>
                <a:ext cx="533520" cy="373320"/>
              </a:xfrm>
              <a:prstGeom prst="rect">
                <a:avLst/>
              </a:prstGeom>
              <a:solidFill>
                <a:srgbClr val="9ccdf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553080" y="3162240"/>
                <a:ext cx="533520" cy="373320"/>
              </a:xfrm>
              <a:prstGeom prst="rect">
                <a:avLst/>
              </a:prstGeom>
              <a:solidFill>
                <a:srgbClr val="9ccdf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53080" y="3535920"/>
                <a:ext cx="533520" cy="426600"/>
              </a:xfrm>
              <a:prstGeom prst="rect">
                <a:avLst/>
              </a:prstGeom>
              <a:solidFill>
                <a:srgbClr val="9ccdf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631200" y="2362320"/>
              <a:ext cx="452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95880" y="3200400"/>
            <a:ext cx="4572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086600" y="1219320"/>
            <a:ext cx="228600" cy="1371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86600" y="2438280"/>
            <a:ext cx="304920" cy="533520"/>
          </a:xfrm>
          <a:prstGeom prst="line">
            <a:avLst/>
          </a:prstGeom>
          <a:ln w="1908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335268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3733920"/>
            <a:ext cx="304920" cy="914400"/>
          </a:xfrm>
          <a:prstGeom prst="line">
            <a:avLst/>
          </a:prstGeom>
          <a:ln w="1908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2.1.2 Nomenclatur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amanho do universo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Número de subconjuntos em que dividimos os dados: </a:t>
            </a:r>
            <a:r>
              <a:rPr b="1" i="1" lang="en-US" sz="2400" spc="-1" strike="noStrike">
                <a:solidFill>
                  <a:srgbClr val="f57b49"/>
                </a:solidFill>
                <a:latin typeface="Times New Roman"/>
              </a:rPr>
              <a:t>depósit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Capacidade de cada depósi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quando for limitada. Aplica-se somente a hashing fechado ou endereçamento aberto)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rdinalidade do domínio das chaves. Quantas chaves podem existir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Densidade identificado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= n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/(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.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Densidade de carg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.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nece a capacidade máxima (quando existir explícitamente).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/(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.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 o fator de preenchimento.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lica-se somente a hashing fechado (endereçamento abert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668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3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Hashing Aberto ou </a:t>
            </a:r>
            <a:br>
              <a:rPr sz="3200"/>
            </a:b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de Encadeamento Separado </a:t>
            </a:r>
            <a:br>
              <a:rPr sz="3200"/>
            </a:b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(Separate Chaining Hashing)</a:t>
            </a:r>
            <a:endParaRPr b="0" lang="en-US" sz="2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 mais intuitiva de se implementar o conceito de Has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uitiva para nós, que usamos linguagens que lidam com ponteiros e estamos acostumados com a idéia. Na época do COBOL, era o modo menos com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 a idéia de termos uma tabela com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tradas, cada uma como cabeça de lista para uma lista representando o conjunto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culamos a partir da chave qul entrada da tabela é a cabeça da lista que quere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tilizamos uma técnica qualquer para pesquisa dentro d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Tipicamente será a técnica de pesquisa seqüencial em lista encade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demos utilizar qualquer outra coisa para representar os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Uma árvore poderia ser uma op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3.1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Hashing Aberto ou </a:t>
            </a:r>
            <a:br>
              <a:rPr sz="3200"/>
            </a:b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de Encadeamento Separado </a:t>
            </a:r>
            <a:br>
              <a:rPr sz="3200"/>
            </a:b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Implementação com a Tabela como Vetor</a:t>
            </a:r>
            <a:endParaRPr b="0" lang="en-US" sz="2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009880"/>
            <a:ext cx="83808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2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200988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12400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2390760"/>
            <a:ext cx="83808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20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39076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25052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771640"/>
            <a:ext cx="838080" cy="381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20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771640"/>
            <a:ext cx="304920" cy="381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886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152880"/>
            <a:ext cx="83808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20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15288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326700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533760"/>
            <a:ext cx="83808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20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53376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36482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3914640"/>
            <a:ext cx="838080" cy="381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914640"/>
            <a:ext cx="304920" cy="381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029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4295880"/>
            <a:ext cx="83808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20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429588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41000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676760"/>
            <a:ext cx="83808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200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467676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7912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057640"/>
            <a:ext cx="838080" cy="381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20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5057640"/>
            <a:ext cx="304920" cy="381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5172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438880"/>
            <a:ext cx="83808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20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5438880"/>
            <a:ext cx="304920" cy="380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555300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2033640"/>
            <a:ext cx="83808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033640"/>
            <a:ext cx="30492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2128680"/>
            <a:ext cx="15228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94040" y="198108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2414520"/>
            <a:ext cx="83808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414520"/>
            <a:ext cx="30492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509920"/>
            <a:ext cx="152280" cy="156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94040" y="236232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2414520"/>
            <a:ext cx="83844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2414520"/>
            <a:ext cx="30456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509920"/>
            <a:ext cx="152640" cy="156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41960" y="236232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3176640"/>
            <a:ext cx="83808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3176640"/>
            <a:ext cx="30492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3271680"/>
            <a:ext cx="15228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94040" y="312408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176640"/>
            <a:ext cx="83844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3176640"/>
            <a:ext cx="30456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271680"/>
            <a:ext cx="15264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41960" y="312408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3557520"/>
            <a:ext cx="83808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3557520"/>
            <a:ext cx="30492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3652920"/>
            <a:ext cx="152280" cy="156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94040" y="350532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938760"/>
            <a:ext cx="838080" cy="317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3938760"/>
            <a:ext cx="304920" cy="317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033800"/>
            <a:ext cx="15228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3886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3938760"/>
            <a:ext cx="838440" cy="317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938760"/>
            <a:ext cx="304560" cy="317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4033800"/>
            <a:ext cx="15264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41960" y="3886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5462640"/>
            <a:ext cx="83808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462640"/>
            <a:ext cx="30492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5557680"/>
            <a:ext cx="15228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94040" y="541008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5462640"/>
            <a:ext cx="83844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5462640"/>
            <a:ext cx="304560" cy="3175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5557680"/>
            <a:ext cx="15264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41960" y="541008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938760"/>
            <a:ext cx="838080" cy="317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3938760"/>
            <a:ext cx="304920" cy="317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15200" y="4033800"/>
            <a:ext cx="15228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5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563868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563868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57150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579132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29718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297180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0481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312408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49568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45720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64832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48769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87692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495288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502920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52578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525780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53341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541008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220968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20968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22860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36232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259092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259092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266688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274320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35268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335268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34290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50532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373392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380988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88620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41148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4114800"/>
            <a:ext cx="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9112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4267080"/>
            <a:ext cx="15264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220968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259092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335268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73392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411480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63868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259092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335268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41148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563868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41148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9.3.2 Hashing Aberto ou </a:t>
            </a:r>
            <a:br>
              <a:rPr sz="3200"/>
            </a:b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de Encadeamento Separado </a:t>
            </a:r>
            <a:br>
              <a:rPr sz="3200"/>
            </a:br>
            <a:r>
              <a:rPr b="0" lang="en-US" sz="2000" spc="-1" strike="noStrike">
                <a:solidFill>
                  <a:srgbClr val="8cf4ea"/>
                </a:solidFill>
                <a:latin typeface="Times New Roman"/>
              </a:rPr>
              <a:t>Implementação como Multilista</a:t>
            </a:r>
            <a:endParaRPr b="0" lang="en-US" sz="2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1542960"/>
            <a:ext cx="838080" cy="358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30600" y="147168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1542960"/>
            <a:ext cx="304920" cy="358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165096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2046240"/>
            <a:ext cx="838080" cy="358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0600" y="197496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046240"/>
            <a:ext cx="304920" cy="358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2154240"/>
            <a:ext cx="15228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2527200"/>
            <a:ext cx="838080" cy="358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30600" y="245412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527200"/>
            <a:ext cx="304920" cy="358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263376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3029040"/>
            <a:ext cx="83808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30600" y="295740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302904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313704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532320"/>
            <a:ext cx="83808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0600" y="346068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353232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3639960"/>
            <a:ext cx="15228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4035600"/>
            <a:ext cx="83808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30600" y="396252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403560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4143240"/>
            <a:ext cx="15228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4537080"/>
            <a:ext cx="838080" cy="360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30600" y="446580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4537080"/>
            <a:ext cx="304920" cy="360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64508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5040360"/>
            <a:ext cx="83808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30600" y="496872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504036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5148360"/>
            <a:ext cx="15228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5543640"/>
            <a:ext cx="83808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30600" y="547200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554364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5651640"/>
            <a:ext cx="152280" cy="14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46920"/>
            <a:ext cx="83808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0600" y="5973840"/>
            <a:ext cx="333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604692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615312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1542960"/>
            <a:ext cx="304920" cy="358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165096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2046240"/>
            <a:ext cx="304920" cy="358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2154240"/>
            <a:ext cx="15228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2527200"/>
            <a:ext cx="304920" cy="358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19520" y="263376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302904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313704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353232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3639960"/>
            <a:ext cx="15228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403560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4143240"/>
            <a:ext cx="15228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4537080"/>
            <a:ext cx="304920" cy="360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464508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504036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5148360"/>
            <a:ext cx="15228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554364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5651640"/>
            <a:ext cx="152280" cy="14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6046920"/>
            <a:ext cx="304920" cy="358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6153120"/>
            <a:ext cx="15228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1592280"/>
            <a:ext cx="838080" cy="299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1592280"/>
            <a:ext cx="304920" cy="299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1682640"/>
            <a:ext cx="15228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94040" y="154296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095560"/>
            <a:ext cx="838080" cy="299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2095560"/>
            <a:ext cx="304920" cy="299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2185920"/>
            <a:ext cx="15228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94040" y="204624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2095560"/>
            <a:ext cx="838440" cy="299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2095560"/>
            <a:ext cx="304560" cy="299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2185920"/>
            <a:ext cx="15264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41960" y="204624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3078000"/>
            <a:ext cx="83808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078000"/>
            <a:ext cx="30492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168720"/>
            <a:ext cx="15228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94040" y="302904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3078000"/>
            <a:ext cx="83844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3078000"/>
            <a:ext cx="30456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3168720"/>
            <a:ext cx="15264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41960" y="302904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3581280"/>
            <a:ext cx="83808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3581280"/>
            <a:ext cx="304920" cy="3002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3672000"/>
            <a:ext cx="152280" cy="147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94040" y="353232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4084560"/>
            <a:ext cx="83808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4084560"/>
            <a:ext cx="30492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4173480"/>
            <a:ext cx="152280" cy="149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94040" y="40356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084560"/>
            <a:ext cx="83844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4084560"/>
            <a:ext cx="30456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4173480"/>
            <a:ext cx="152640" cy="149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41960" y="40356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05320" y="6095880"/>
            <a:ext cx="83808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6095880"/>
            <a:ext cx="30492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6184800"/>
            <a:ext cx="152280" cy="149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94040" y="604692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6095880"/>
            <a:ext cx="83844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6095880"/>
            <a:ext cx="30456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6184800"/>
            <a:ext cx="152640" cy="149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41960" y="604692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4084560"/>
            <a:ext cx="83808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4084560"/>
            <a:ext cx="304920" cy="298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15200" y="4173480"/>
            <a:ext cx="152280" cy="149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4035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5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626112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24480" y="6261120"/>
            <a:ext cx="0" cy="2160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72200" y="63342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640548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274176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2741760"/>
            <a:ext cx="0" cy="2156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281448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288612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71800" y="475308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76720" y="4753080"/>
            <a:ext cx="0" cy="2156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49687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504036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71800" y="525636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5256360"/>
            <a:ext cx="0" cy="2156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54720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554364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575928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5759280"/>
            <a:ext cx="0" cy="21456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597384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604692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175896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1758960"/>
            <a:ext cx="0" cy="2160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183024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00600" y="190188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19920" y="226224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262240"/>
            <a:ext cx="0" cy="2142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23335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48520" y="240516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324468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3244680"/>
            <a:ext cx="0" cy="2160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33163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53232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74796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76920" y="3747960"/>
            <a:ext cx="0" cy="21456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396252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00600" y="403560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67480" y="42498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772400" y="4249800"/>
            <a:ext cx="0" cy="2160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0120" y="4322880"/>
            <a:ext cx="3045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96080" y="4394160"/>
            <a:ext cx="15264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71800" y="175896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226224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324468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71800" y="374796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424980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71800" y="6261120"/>
            <a:ext cx="5335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226224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0" y="324468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42498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626112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42498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1752480"/>
            <a:ext cx="266760" cy="457200"/>
          </a:xfrm>
          <a:custGeom>
            <a:avLst/>
            <a:gdLst/>
            <a:ahLst/>
            <a:rect l="l" t="t" r="r" b="b"/>
            <a:pathLst>
              <a:path w="168" h="336">
                <a:moveTo>
                  <a:pt x="168" y="0"/>
                </a:moveTo>
                <a:cubicBezTo>
                  <a:pt x="132" y="12"/>
                  <a:pt x="96" y="24"/>
                  <a:pt x="72" y="48"/>
                </a:cubicBezTo>
                <a:cubicBezTo>
                  <a:pt x="48" y="72"/>
                  <a:pt x="32" y="112"/>
                  <a:pt x="24" y="144"/>
                </a:cubicBezTo>
                <a:cubicBezTo>
                  <a:pt x="16" y="176"/>
                  <a:pt x="0" y="208"/>
                  <a:pt x="24" y="240"/>
                </a:cubicBezTo>
                <a:cubicBezTo>
                  <a:pt x="48" y="272"/>
                  <a:pt x="108" y="304"/>
                  <a:pt x="168" y="33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2286000"/>
            <a:ext cx="266760" cy="457200"/>
          </a:xfrm>
          <a:custGeom>
            <a:avLst/>
            <a:gdLst/>
            <a:ahLst/>
            <a:rect l="l" t="t" r="r" b="b"/>
            <a:pathLst>
              <a:path w="168" h="336">
                <a:moveTo>
                  <a:pt x="168" y="0"/>
                </a:moveTo>
                <a:cubicBezTo>
                  <a:pt x="132" y="12"/>
                  <a:pt x="96" y="24"/>
                  <a:pt x="72" y="48"/>
                </a:cubicBezTo>
                <a:cubicBezTo>
                  <a:pt x="48" y="72"/>
                  <a:pt x="32" y="112"/>
                  <a:pt x="24" y="144"/>
                </a:cubicBezTo>
                <a:cubicBezTo>
                  <a:pt x="16" y="176"/>
                  <a:pt x="0" y="208"/>
                  <a:pt x="24" y="240"/>
                </a:cubicBezTo>
                <a:cubicBezTo>
                  <a:pt x="48" y="272"/>
                  <a:pt x="108" y="304"/>
                  <a:pt x="168" y="33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2743200"/>
            <a:ext cx="266760" cy="457200"/>
          </a:xfrm>
          <a:custGeom>
            <a:avLst/>
            <a:gdLst/>
            <a:ahLst/>
            <a:rect l="l" t="t" r="r" b="b"/>
            <a:pathLst>
              <a:path w="168" h="336">
                <a:moveTo>
                  <a:pt x="168" y="0"/>
                </a:moveTo>
                <a:cubicBezTo>
                  <a:pt x="132" y="12"/>
                  <a:pt x="96" y="24"/>
                  <a:pt x="72" y="48"/>
                </a:cubicBezTo>
                <a:cubicBezTo>
                  <a:pt x="48" y="72"/>
                  <a:pt x="32" y="112"/>
                  <a:pt x="24" y="144"/>
                </a:cubicBezTo>
                <a:cubicBezTo>
                  <a:pt x="16" y="176"/>
                  <a:pt x="0" y="208"/>
                  <a:pt x="24" y="240"/>
                </a:cubicBezTo>
                <a:cubicBezTo>
                  <a:pt x="48" y="272"/>
                  <a:pt x="108" y="304"/>
                  <a:pt x="168" y="33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3200400"/>
            <a:ext cx="266760" cy="533520"/>
          </a:xfrm>
          <a:custGeom>
            <a:avLst/>
            <a:gdLst/>
            <a:ahLst/>
            <a:rect l="l" t="t" r="r" b="b"/>
            <a:pathLst>
              <a:path w="168" h="336">
                <a:moveTo>
                  <a:pt x="168" y="0"/>
                </a:moveTo>
                <a:cubicBezTo>
                  <a:pt x="132" y="12"/>
                  <a:pt x="96" y="24"/>
                  <a:pt x="72" y="48"/>
                </a:cubicBezTo>
                <a:cubicBezTo>
                  <a:pt x="48" y="72"/>
                  <a:pt x="32" y="112"/>
                  <a:pt x="24" y="144"/>
                </a:cubicBezTo>
                <a:cubicBezTo>
                  <a:pt x="16" y="176"/>
                  <a:pt x="0" y="208"/>
                  <a:pt x="24" y="240"/>
                </a:cubicBezTo>
                <a:cubicBezTo>
                  <a:pt x="48" y="272"/>
                  <a:pt x="108" y="304"/>
                  <a:pt x="168" y="33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733920"/>
            <a:ext cx="266760" cy="457200"/>
          </a:xfrm>
          <a:custGeom>
            <a:avLst/>
            <a:gdLst/>
            <a:ahLst/>
            <a:rect l="l" t="t" r="r" b="b"/>
            <a:pathLst>
              <a:path w="168" h="336">
                <a:moveTo>
                  <a:pt x="168" y="0"/>
                </a:moveTo>
                <a:cubicBezTo>
                  <a:pt x="132" y="12"/>
                  <a:pt x="96" y="24"/>
                  <a:pt x="72" y="48"/>
                </a:cubicBezTo>
                <a:cubicBezTo>
                  <a:pt x="48" y="72"/>
                  <a:pt x="32" y="112"/>
                  <a:pt x="24" y="144"/>
                </a:cubicBezTo>
                <a:cubicBezTo>
                  <a:pt x="16" y="176"/>
                  <a:pt x="0" y="208"/>
                  <a:pt x="24" y="240"/>
                </a:cubicBezTo>
                <a:cubicBezTo>
                  <a:pt x="48" y="272"/>
                  <a:pt x="108" y="304"/>
                  <a:pt x="168" y="33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0" y="4191120"/>
            <a:ext cx="266760" cy="533160"/>
          </a:xfrm>
          <a:custGeom>
            <a:avLst/>
            <a:gdLst/>
            <a:ahLst/>
            <a:rect l="l" t="t" r="r" b="b"/>
            <a:pathLst>
              <a:path w="168" h="336">
                <a:moveTo>
                  <a:pt x="168" y="0"/>
                </a:moveTo>
                <a:cubicBezTo>
                  <a:pt x="132" y="12"/>
                  <a:pt x="96" y="24"/>
                  <a:pt x="72" y="48"/>
                </a:cubicBezTo>
                <a:cubicBezTo>
                  <a:pt x="48" y="72"/>
                  <a:pt x="32" y="112"/>
                  <a:pt x="24" y="144"/>
                </a:cubicBezTo>
                <a:cubicBezTo>
                  <a:pt x="16" y="176"/>
                  <a:pt x="0" y="208"/>
                  <a:pt x="24" y="240"/>
                </a:cubicBezTo>
                <a:cubicBezTo>
                  <a:pt x="48" y="272"/>
                  <a:pt x="108" y="304"/>
                  <a:pt x="168" y="33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0" y="4724280"/>
            <a:ext cx="266760" cy="457200"/>
          </a:xfrm>
          <a:custGeom>
            <a:avLst/>
            <a:gdLst/>
            <a:ahLst/>
            <a:rect l="l" t="t" r="r" b="b"/>
            <a:pathLst>
              <a:path w="168" h="336">
                <a:moveTo>
                  <a:pt x="168" y="0"/>
                </a:moveTo>
                <a:cubicBezTo>
                  <a:pt x="132" y="12"/>
                  <a:pt x="96" y="24"/>
                  <a:pt x="72" y="48"/>
                </a:cubicBezTo>
                <a:cubicBezTo>
                  <a:pt x="48" y="72"/>
                  <a:pt x="32" y="112"/>
                  <a:pt x="24" y="144"/>
                </a:cubicBezTo>
                <a:cubicBezTo>
                  <a:pt x="16" y="176"/>
                  <a:pt x="0" y="208"/>
                  <a:pt x="24" y="240"/>
                </a:cubicBezTo>
                <a:cubicBezTo>
                  <a:pt x="48" y="272"/>
                  <a:pt x="108" y="304"/>
                  <a:pt x="168" y="33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0" y="5257800"/>
            <a:ext cx="266760" cy="457200"/>
          </a:xfrm>
          <a:custGeom>
            <a:avLst/>
            <a:gdLst/>
            <a:ahLst/>
            <a:rect l="l" t="t" r="r" b="b"/>
            <a:pathLst>
              <a:path w="168" h="336">
                <a:moveTo>
                  <a:pt x="168" y="0"/>
                </a:moveTo>
                <a:cubicBezTo>
                  <a:pt x="132" y="12"/>
                  <a:pt x="96" y="24"/>
                  <a:pt x="72" y="48"/>
                </a:cubicBezTo>
                <a:cubicBezTo>
                  <a:pt x="48" y="72"/>
                  <a:pt x="32" y="112"/>
                  <a:pt x="24" y="144"/>
                </a:cubicBezTo>
                <a:cubicBezTo>
                  <a:pt x="16" y="176"/>
                  <a:pt x="0" y="208"/>
                  <a:pt x="24" y="240"/>
                </a:cubicBezTo>
                <a:cubicBezTo>
                  <a:pt x="48" y="272"/>
                  <a:pt x="108" y="304"/>
                  <a:pt x="168" y="33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0" y="5715000"/>
            <a:ext cx="266760" cy="457200"/>
          </a:xfrm>
          <a:custGeom>
            <a:avLst/>
            <a:gdLst/>
            <a:ahLst/>
            <a:rect l="l" t="t" r="r" b="b"/>
            <a:pathLst>
              <a:path w="168" h="336">
                <a:moveTo>
                  <a:pt x="168" y="0"/>
                </a:moveTo>
                <a:cubicBezTo>
                  <a:pt x="132" y="12"/>
                  <a:pt x="96" y="24"/>
                  <a:pt x="72" y="48"/>
                </a:cubicBezTo>
                <a:cubicBezTo>
                  <a:pt x="48" y="72"/>
                  <a:pt x="32" y="112"/>
                  <a:pt x="24" y="144"/>
                </a:cubicBezTo>
                <a:cubicBezTo>
                  <a:pt x="16" y="176"/>
                  <a:pt x="0" y="208"/>
                  <a:pt x="24" y="240"/>
                </a:cubicBezTo>
                <a:cubicBezTo>
                  <a:pt x="48" y="272"/>
                  <a:pt x="108" y="304"/>
                  <a:pt x="168" y="336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90920" y="6327720"/>
            <a:ext cx="0" cy="2160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6400800"/>
            <a:ext cx="3049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6472080"/>
            <a:ext cx="15228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2T02:53:20Z</dcterms:created>
  <dc:creator>Prof. Dr. Aldo von Wangenheim</dc:creator>
  <dc:description/>
  <cp:keywords>C++</cp:keywords>
  <dc:language>en-US</dc:language>
  <cp:lastModifiedBy>Prof. Dr. rer. nat. Aldo v. Wangenheim</cp:lastModifiedBy>
  <dcterms:modified xsi:type="dcterms:W3CDTF">1999-03-08T02:28:16Z</dcterms:modified>
  <cp:revision>165</cp:revision>
  <dc:subject>C++</dc:subject>
  <dc:title>Estruturas de Dados - T.332  Capítulo 4 Parte 1: C++</dc:title>
</cp:coreProperties>
</file>