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7760" cy="38498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6127920" y="8758080"/>
            <a:ext cx="92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fld id="{D6812DFA-A56C-4AEE-813E-5CEC0FBB3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3886200" y="792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870588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776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36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5328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44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36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5328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381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09480" cy="6845400"/>
            <a:chOff x="0" y="0"/>
            <a:chExt cx="60948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60948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2840" y="162000"/>
              <a:ext cx="85680" cy="6543720"/>
              <a:chOff x="42840" y="162000"/>
              <a:chExt cx="856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42840" y="1752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2840" y="1981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2840" y="2209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840" y="2438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840" y="2666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840" y="2895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840" y="3124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840" y="3352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840" y="3581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2840" y="3809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840" y="4038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2840" y="4267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2840" y="4495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2840" y="4724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2840" y="4952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840" y="5181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840" y="5410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2840" y="5638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840" y="5867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2840" y="6095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2840" y="6324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2840" y="6553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2840" y="162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2840" y="390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2840" y="6192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2840" y="8478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2840" y="10764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2840" y="1305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42840" y="1533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82800" y="6486480"/>
            <a:ext cx="699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INE - UFSC        -      Disciplina Estruturas de Dados       -       Prof. Dr. Aldo von Wangenhei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101360" y="6486480"/>
            <a:ext cx="146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ágina </a:t>
            </a:r>
            <a:fld id="{7EB19508-4C95-48DF-AB7D-5EE595AEE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" name="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Book Antiqua"/>
              </a:rPr>
              <a:t>Estruturas de Dados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- T.33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apítulo 4</a:t>
            </a:r>
            <a:br>
              <a:rPr sz="2800"/>
            </a:br>
            <a:r>
              <a:rPr b="0" lang="en-US" sz="4800" spc="-1" strike="noStrike">
                <a:solidFill>
                  <a:srgbClr val="8cf4ea"/>
                </a:solidFill>
                <a:latin typeface="Tahoma"/>
              </a:rPr>
              <a:t>Listas Encadeadas</a:t>
            </a:r>
            <a:br>
              <a:rPr sz="4800"/>
            </a:br>
            <a:br>
              <a:rPr sz="4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1 Listas Encadeadas Simples e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1596240" y="4419720"/>
            <a:ext cx="596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 Listas Duplamente Encadeadas</a:t>
            </a: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3 Listas Cir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1.4 Modelagem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ecto Funcion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car e retirar dados da li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ar se a lista está vazia e outros tes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aliza-la e garantir a ordem dos ele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905120" y="3657600"/>
            <a:ext cx="4571640" cy="1752480"/>
            <a:chOff x="1905120" y="3657600"/>
            <a:chExt cx="4571640" cy="1752480"/>
          </a:xfrm>
        </p:grpSpPr>
        <p:sp>
          <p:nvSpPr>
            <p:cNvPr id="202" name=""/>
            <p:cNvSpPr/>
            <p:nvPr/>
          </p:nvSpPr>
          <p:spPr>
            <a:xfrm>
              <a:off x="1905120" y="3657600"/>
              <a:ext cx="33444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39560" y="3657600"/>
              <a:ext cx="33444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50800" y="3745080"/>
              <a:ext cx="111600" cy="87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31640" y="4183200"/>
              <a:ext cx="44568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54480" y="4270680"/>
              <a:ext cx="111600" cy="87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85600" y="403812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18960" y="403812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81360" y="4183200"/>
              <a:ext cx="44568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4200" y="4270680"/>
              <a:ext cx="111240" cy="87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35320" y="403812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70840" y="4038120"/>
              <a:ext cx="183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30720" y="4183200"/>
              <a:ext cx="44604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53920" y="4270680"/>
              <a:ext cx="111240" cy="87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84680" y="403812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20560" y="4038120"/>
              <a:ext cx="183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10280" y="4314600"/>
              <a:ext cx="83628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60000" y="4314600"/>
              <a:ext cx="83628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06600" y="3789000"/>
              <a:ext cx="334440" cy="4816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53920" y="4577760"/>
              <a:ext cx="1112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98120" y="4533840"/>
              <a:ext cx="2228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09720" y="4314600"/>
              <a:ext cx="0" cy="3063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74000" y="4621320"/>
              <a:ext cx="55764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74000" y="4884120"/>
              <a:ext cx="55764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74000" y="5147280"/>
              <a:ext cx="55764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97200" y="4183200"/>
              <a:ext cx="33444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08440" y="4270680"/>
              <a:ext cx="111240" cy="87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908080" y="4314600"/>
              <a:ext cx="55800" cy="2628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46560" y="4183200"/>
              <a:ext cx="33444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58160" y="4270680"/>
              <a:ext cx="111600" cy="87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357800" y="4314600"/>
              <a:ext cx="55800" cy="2628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96280" y="4183200"/>
              <a:ext cx="33444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07880" y="4270680"/>
              <a:ext cx="111240" cy="87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807880" y="4314600"/>
              <a:ext cx="55440" cy="2628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79520" y="4621320"/>
              <a:ext cx="55764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maçã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79520" y="4884120"/>
              <a:ext cx="55764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aze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79520" y="5147280"/>
              <a:ext cx="55764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ca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73440" y="4621320"/>
              <a:ext cx="55728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3440" y="4884120"/>
              <a:ext cx="55728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irk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73440" y="5147280"/>
              <a:ext cx="557280" cy="2628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bar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a 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Colocar e retirar dados da lis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NoIníci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NaPosiçã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, dado, posiçã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EmOrdem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DoIníci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DaPosiçã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, posiçã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Específic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a 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Testar a lista e outros tes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ListaVazia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Posica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, 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Contem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, 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Inicializar ou limp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CriaLista(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DestroiLista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Cria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sta* FUNÇÃO criaList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Retorna ponteiro para uma nova cabeça de lista ou NULO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st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aList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 &lt;- aloque(List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Lista ~= NULO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o posso inicializar se consegui alocar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-&gt;tamanho &lt;- 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-&gt;dados &lt;- nul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List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09480" y="2971800"/>
            <a:ext cx="8534520" cy="38088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Cria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sta* FUNÇÃO criaList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Retorna ponteiro para uma nova cabeça de lista ou NULO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st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aList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 &lt;- aloque(List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Lista ~= NULO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o posso inicializar se consegui alocar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-&gt;tamanho &lt;- 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-&gt;dados &lt;- nul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List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4038480"/>
            <a:ext cx="8534520" cy="83844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Cria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sta* FUNÇÃO criaList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Retorna ponteiro para uma nova cabeça de lista ou NULO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st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aList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 &lt;- aloque(List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Lista ~= NULO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o posso inicializar se consegui alocar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-&gt;tamanho &lt;- 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-&gt;dados &lt;- nul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List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ListaVazi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ooleano FUNÇÃO listaVazia(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Lista *aList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aLista-&gt;tamanho = 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Verda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Fals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algoritmo </a:t>
            </a:r>
            <a:r>
              <a:rPr b="0" lang="en-US" sz="2000" spc="-1" strike="noStrike">
                <a:solidFill>
                  <a:srgbClr val="9ccdfc"/>
                </a:solidFill>
                <a:latin typeface="Tahoma"/>
              </a:rPr>
              <a:t>ListaChe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não existe aqu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ificar se houve espaço na memória para um novo elemento será responsabilidade de cada operação de adi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é possível alocar um ele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azemos o próximo deste novo elemento ser o primeiro da li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azemos a cabeça de lista apontar para o no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tipo info (dado) a ser inse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2590920"/>
            <a:ext cx="2514600" cy="8380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8660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1028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362320" y="3276720"/>
            <a:ext cx="1066680" cy="457200"/>
            <a:chOff x="2362320" y="3276720"/>
            <a:chExt cx="1066680" cy="457200"/>
          </a:xfrm>
        </p:grpSpPr>
        <p:sp>
          <p:nvSpPr>
            <p:cNvPr id="283" name=""/>
            <p:cNvSpPr/>
            <p:nvPr/>
          </p:nvSpPr>
          <p:spPr>
            <a:xfrm>
              <a:off x="2819520" y="327672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240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232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14600" y="342900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057400" y="3505320"/>
            <a:ext cx="762120" cy="1904760"/>
            <a:chOff x="2057400" y="3505320"/>
            <a:chExt cx="762120" cy="1904760"/>
          </a:xfrm>
        </p:grpSpPr>
        <p:sp>
          <p:nvSpPr>
            <p:cNvPr id="289" name=""/>
            <p:cNvSpPr/>
            <p:nvPr/>
          </p:nvSpPr>
          <p:spPr>
            <a:xfrm>
              <a:off x="205740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5740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514600" y="3505320"/>
              <a:ext cx="7632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53760" y="3027240"/>
            <a:ext cx="1708560" cy="782640"/>
            <a:chOff x="653760" y="3027240"/>
            <a:chExt cx="1708560" cy="782640"/>
          </a:xfrm>
        </p:grpSpPr>
        <p:grpSp>
          <p:nvGrpSpPr>
            <p:cNvPr id="294" name=""/>
            <p:cNvGrpSpPr/>
            <p:nvPr/>
          </p:nvGrpSpPr>
          <p:grpSpPr>
            <a:xfrm>
              <a:off x="762120" y="3352680"/>
              <a:ext cx="1600200" cy="457200"/>
              <a:chOff x="762120" y="3352680"/>
              <a:chExt cx="1600200" cy="457200"/>
            </a:xfrm>
          </p:grpSpPr>
          <p:sp>
            <p:nvSpPr>
              <p:cNvPr id="295" name=""/>
              <p:cNvSpPr/>
              <p:nvPr/>
            </p:nvSpPr>
            <p:spPr>
              <a:xfrm>
                <a:off x="762120" y="3352680"/>
                <a:ext cx="45720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14400" y="350532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990720" y="3581280"/>
                <a:ext cx="1371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653760" y="302724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no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0060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816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660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1028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362320" y="3276720"/>
            <a:ext cx="1066680" cy="457200"/>
            <a:chOff x="2362320" y="3276720"/>
            <a:chExt cx="1066680" cy="457200"/>
          </a:xfrm>
        </p:grpSpPr>
        <p:sp>
          <p:nvSpPr>
            <p:cNvPr id="324" name=""/>
            <p:cNvSpPr/>
            <p:nvPr/>
          </p:nvSpPr>
          <p:spPr>
            <a:xfrm>
              <a:off x="2819520" y="327672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6232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14600" y="342900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057400" y="3505320"/>
            <a:ext cx="762120" cy="1904760"/>
            <a:chOff x="2057400" y="3505320"/>
            <a:chExt cx="762120" cy="1904760"/>
          </a:xfrm>
        </p:grpSpPr>
        <p:sp>
          <p:nvSpPr>
            <p:cNvPr id="330" name=""/>
            <p:cNvSpPr/>
            <p:nvPr/>
          </p:nvSpPr>
          <p:spPr>
            <a:xfrm>
              <a:off x="205740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5740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5740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514600" y="3505320"/>
              <a:ext cx="7632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828800" y="2590920"/>
            <a:ext cx="533520" cy="8380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0 Listas com Vetores: Desvantagen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manho máximo fix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mo vazias ocupam espaço grande de memó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mo que utilizemos um vetor de ponteiros, se quisermos prever uma lista de 10.000 elementos, teremos 40.000 bytes desperdiça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 podem involver muitos deslocamentos de da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lusão em uma posição ou no 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lusão em uma posição ou no 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1752480"/>
            <a:ext cx="0" cy="274320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1752480"/>
            <a:ext cx="0" cy="274320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315200" y="17524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315200" y="40384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315200" y="35812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315200" y="31240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315200" y="26668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315200" y="22096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17524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35812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1240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26668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2209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17524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17524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40384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3809880"/>
            <a:ext cx="0" cy="53352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35812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3276720"/>
            <a:ext cx="0" cy="53316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819520"/>
            <a:ext cx="0" cy="53316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31240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438280"/>
            <a:ext cx="0" cy="53352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26668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1905120"/>
            <a:ext cx="0" cy="53316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17524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oInício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Lista *aLista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ipoInfo *dad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emento *novo; 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“Var. auxiliar para o novo elemento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 &lt;- aloque(Element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(novo = NULO)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RETORNE( ErroListaCheia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-&gt;proximo &lt;- aLista-&gt;dado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-&gt;info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dados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tamanho &lt;- aLista-&gt;tamanh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1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09480" y="3886200"/>
            <a:ext cx="8534520" cy="60948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oInício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Lista *aLista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ipoInfo *dad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emento *novo; 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“Var. auxiliar para o novo elemento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 &lt;- aloque(Element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(novo = NULO)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RETORNE( ErroListaCheia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-&gt;proximo &lt;- aLista-&gt;dado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-&gt;info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dados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tamanho &lt;- aLista-&gt;tamanh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1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09480" y="4495680"/>
            <a:ext cx="8534520" cy="60984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oInício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Lista *aLista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ipoInfo *dad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emento *novo; 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“Var. auxiliar para o novo elemento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 &lt;- aloque(Element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(novo = NULO)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RETORNE( ErroListaCheia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-&gt;proximo &lt;- aLista-&gt;dado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-&gt;info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dados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tamanho &lt;- aLista-&gt;tamanh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1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há ele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rementamos o taman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beramos a memória do ele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volvemos a Inform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8148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2362320" y="3276720"/>
            <a:ext cx="1066680" cy="457200"/>
            <a:chOff x="2362320" y="3276720"/>
            <a:chExt cx="1066680" cy="457200"/>
          </a:xfrm>
        </p:grpSpPr>
        <p:sp>
          <p:nvSpPr>
            <p:cNvPr id="371" name=""/>
            <p:cNvSpPr/>
            <p:nvPr/>
          </p:nvSpPr>
          <p:spPr>
            <a:xfrm>
              <a:off x="2819520" y="327672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240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6232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14600" y="342900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057400" y="3505320"/>
            <a:ext cx="762120" cy="1904760"/>
            <a:chOff x="2057400" y="3505320"/>
            <a:chExt cx="762120" cy="1904760"/>
          </a:xfrm>
        </p:grpSpPr>
        <p:sp>
          <p:nvSpPr>
            <p:cNvPr id="377" name=""/>
            <p:cNvSpPr/>
            <p:nvPr/>
          </p:nvSpPr>
          <p:spPr>
            <a:xfrm>
              <a:off x="205740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5740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740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2514600" y="3505320"/>
              <a:ext cx="7632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828800" y="2590920"/>
            <a:ext cx="533520" cy="8380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55200" y="3027240"/>
            <a:ext cx="1707120" cy="782640"/>
            <a:chOff x="655200" y="3027240"/>
            <a:chExt cx="1707120" cy="782640"/>
          </a:xfrm>
        </p:grpSpPr>
        <p:grpSp>
          <p:nvGrpSpPr>
            <p:cNvPr id="383" name=""/>
            <p:cNvGrpSpPr/>
            <p:nvPr/>
          </p:nvGrpSpPr>
          <p:grpSpPr>
            <a:xfrm>
              <a:off x="762120" y="3352680"/>
              <a:ext cx="1600200" cy="457200"/>
              <a:chOff x="762120" y="3352680"/>
              <a:chExt cx="1600200" cy="457200"/>
            </a:xfrm>
          </p:grpSpPr>
          <p:sp>
            <p:nvSpPr>
              <p:cNvPr id="384" name=""/>
              <p:cNvSpPr/>
              <p:nvPr/>
            </p:nvSpPr>
            <p:spPr>
              <a:xfrm>
                <a:off x="762120" y="3352680"/>
                <a:ext cx="45720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14400" y="350532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90720" y="3581280"/>
                <a:ext cx="1371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655200" y="302724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sai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71760" y="3886200"/>
            <a:ext cx="1385640" cy="782640"/>
            <a:chOff x="671760" y="3886200"/>
            <a:chExt cx="1385640" cy="782640"/>
          </a:xfrm>
        </p:grpSpPr>
        <p:sp>
          <p:nvSpPr>
            <p:cNvPr id="389" name=""/>
            <p:cNvSpPr/>
            <p:nvPr/>
          </p:nvSpPr>
          <p:spPr>
            <a:xfrm>
              <a:off x="777960" y="42116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30240" y="43639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1082520" y="4266720"/>
              <a:ext cx="974880" cy="173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1760" y="3886200"/>
              <a:ext cx="64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vo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0060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816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8660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1028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16292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362320" y="3276720"/>
            <a:ext cx="1066680" cy="457200"/>
            <a:chOff x="2362320" y="3276720"/>
            <a:chExt cx="1066680" cy="457200"/>
          </a:xfrm>
        </p:grpSpPr>
        <p:sp>
          <p:nvSpPr>
            <p:cNvPr id="418" name=""/>
            <p:cNvSpPr/>
            <p:nvPr/>
          </p:nvSpPr>
          <p:spPr>
            <a:xfrm>
              <a:off x="2819520" y="327672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240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6232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14600" y="342900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057400" y="3505320"/>
            <a:ext cx="762120" cy="1904760"/>
            <a:chOff x="2057400" y="3505320"/>
            <a:chExt cx="762120" cy="1904760"/>
          </a:xfrm>
        </p:grpSpPr>
        <p:sp>
          <p:nvSpPr>
            <p:cNvPr id="424" name=""/>
            <p:cNvSpPr/>
            <p:nvPr/>
          </p:nvSpPr>
          <p:spPr>
            <a:xfrm>
              <a:off x="205740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5740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740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514600" y="3505320"/>
              <a:ext cx="7632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828800" y="2590920"/>
            <a:ext cx="2514600" cy="8380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55200" y="3027240"/>
            <a:ext cx="1707120" cy="782640"/>
            <a:chOff x="655200" y="3027240"/>
            <a:chExt cx="1707120" cy="782640"/>
          </a:xfrm>
        </p:grpSpPr>
        <p:grpSp>
          <p:nvGrpSpPr>
            <p:cNvPr id="430" name=""/>
            <p:cNvGrpSpPr/>
            <p:nvPr/>
          </p:nvGrpSpPr>
          <p:grpSpPr>
            <a:xfrm>
              <a:off x="762120" y="3352680"/>
              <a:ext cx="1600200" cy="457200"/>
              <a:chOff x="762120" y="3352680"/>
              <a:chExt cx="1600200" cy="457200"/>
            </a:xfrm>
          </p:grpSpPr>
          <p:sp>
            <p:nvSpPr>
              <p:cNvPr id="431" name=""/>
              <p:cNvSpPr/>
              <p:nvPr/>
            </p:nvSpPr>
            <p:spPr>
              <a:xfrm>
                <a:off x="762120" y="3352680"/>
                <a:ext cx="45720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14400" y="350532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90720" y="3581280"/>
                <a:ext cx="1371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655200" y="302724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sai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71760" y="3886200"/>
            <a:ext cx="1385640" cy="782640"/>
            <a:chOff x="671760" y="3886200"/>
            <a:chExt cx="1385640" cy="782640"/>
          </a:xfrm>
        </p:grpSpPr>
        <p:sp>
          <p:nvSpPr>
            <p:cNvPr id="436" name=""/>
            <p:cNvSpPr/>
            <p:nvPr/>
          </p:nvSpPr>
          <p:spPr>
            <a:xfrm>
              <a:off x="777960" y="42116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30240" y="43639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082520" y="4266720"/>
              <a:ext cx="974880" cy="173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1760" y="3886200"/>
              <a:ext cx="64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vo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816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8148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08660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1028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6292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574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574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o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2590920"/>
            <a:ext cx="2514600" cy="8380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352680"/>
            <a:ext cx="457200" cy="457200"/>
          </a:xfrm>
          <a:prstGeom prst="rect">
            <a:avLst/>
          </a:prstGeom>
          <a:solidFill>
            <a:srgbClr val="8cf4ea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35053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5200" y="302724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7b49"/>
                </a:solidFill>
                <a:latin typeface="Tahoma"/>
              </a:rPr>
              <a:t>sai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71760" y="3886200"/>
            <a:ext cx="1385640" cy="782640"/>
            <a:chOff x="671760" y="3886200"/>
            <a:chExt cx="1385640" cy="782640"/>
          </a:xfrm>
        </p:grpSpPr>
        <p:sp>
          <p:nvSpPr>
            <p:cNvPr id="472" name=""/>
            <p:cNvSpPr/>
            <p:nvPr/>
          </p:nvSpPr>
          <p:spPr>
            <a:xfrm>
              <a:off x="777960" y="42116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30240" y="43639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1082520" y="4266720"/>
              <a:ext cx="974880" cy="173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1760" y="3886200"/>
              <a:ext cx="64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vo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poInfo* FUNÇÃO retiraDoInício(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Lista *aList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Elimina o 1. Elemento de uma list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Retorna a informação do elemento eliminado ou NULO.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emento *saiu;  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“Var. auxiliar para o 1. elemento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poInfo *volta; 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“Var. auxiliar para o dado retornado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(listaVazia(aLista))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RETORNE( NULO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aiu &lt;- aLista-&gt;dado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volta &lt;- saiu-&gt;inf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dados &lt;- saiu-&gt;prox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tamanho &lt;- aLista-&gt;tamanh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IBERE(saiu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volta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EliminaDoInício 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eliminaDoInício(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Lista *aList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Elimina o 1. Elemento de uma lista e sua respectiva informaçã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Retorna a posição do elemento eliminado ou erro.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emento *saiu; 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“Var. auxiliar para o 1. elemento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(listaVazia(aLista))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RETORNE( ErroListaVazia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aiu &lt;- aLista-&gt;dado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dados &lt;- saiu-&gt;prox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tamanho &lt;- aLista-&gt;tamanho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IBERE(saiu-&gt;inf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IBERE(saiu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tamanho + 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EliminaDoIníc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e que a linh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libere(saiu-&gt;info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ossui um perig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o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tipoInf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por sua vez um conjunto estruturado de dados com referências internas através de ponteiros (outra lista, p.ex.), a chamada à função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 libere(saiu-&gt;info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ó liberará o primeiro nível da estrutura (aquele apontado diretamente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do o que for referenciado através de ponteiros em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inf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ermanecerá em algum lugar da memória, provavelmente inatingível (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arbag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a evitar isto pode-se criar uma função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destroi(info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ara o TipoInfo que será chamada ao invés de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libe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66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1  Listas Encadead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040" y="129528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São listas onde cada elemento contido em uma lista está armazenado em um TAD chamado </a:t>
            </a:r>
            <a:r>
              <a:rPr b="0" lang="pt-BR" sz="2800" spc="-1" strike="noStrike">
                <a:solidFill>
                  <a:srgbClr val="fafd00"/>
                </a:solidFill>
                <a:latin typeface="Tahoma"/>
              </a:rPr>
              <a:t>elemento de lista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da elemento de lista referencia o </a:t>
            </a:r>
            <a:r>
              <a:rPr b="0" lang="pt-BR" sz="2800" spc="-1" strike="noStrike">
                <a:solidFill>
                  <a:srgbClr val="fafd00"/>
                </a:solidFill>
                <a:latin typeface="Tahoma"/>
              </a:rPr>
              <a:t>próximo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 só é </a:t>
            </a:r>
            <a:r>
              <a:rPr b="0" lang="pt-BR" sz="2800" spc="-1" strike="noStrike">
                <a:solidFill>
                  <a:srgbClr val="fafd00"/>
                </a:solidFill>
                <a:latin typeface="Tahoma"/>
              </a:rPr>
              <a:t>alocado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fafd00"/>
                </a:solidFill>
                <a:latin typeface="Tahoma"/>
              </a:rPr>
              <a:t>dinamicament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quando é necessá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a referenciar o primeiro elemento utilizamos um TAD </a:t>
            </a:r>
            <a:r>
              <a:rPr b="0" lang="pt-BR" sz="2800" spc="-1" strike="noStrike">
                <a:solidFill>
                  <a:srgbClr val="fafd00"/>
                </a:solidFill>
                <a:latin typeface="Tahoma"/>
              </a:rPr>
              <a:t>cabeça de l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INDICIMA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890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Exemplo simplificado: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Programa Principa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#inclua listaEnc.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sta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devedore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*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credore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*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listaEscolhida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dad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aracter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çã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 Programa Princip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devedore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&lt;- criaLista(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credore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&lt;- criaLista(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ção &lt;- ´´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QUANTO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opção ~= ´f´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screveMenu(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eia(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op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ASO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op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SEJ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´c´: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listaEscolhida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&lt;-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credore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´d´: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listaEscolhida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&lt;-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devedore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2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´i´: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do &lt;- leiaInfo();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P/tipoInfo leitura espec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3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dicionaNoInício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listaEscolhida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,dad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- - -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 - -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CAS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--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ENQUANTO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Exemplo simplificado: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Programa Principa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emória logo após o início do programa, quando o fluxo de execução do programa se encontra na linha #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7238880" y="5175360"/>
            <a:ext cx="1676520" cy="672840"/>
          </a:xfrm>
          <a:prstGeom prst="rect">
            <a:avLst/>
          </a:prstGeom>
          <a:gradFill rotWithShape="0">
            <a:gsLst>
              <a:gs pos="0">
                <a:srgbClr val="003630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Sist.Oper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245360" y="4489560"/>
            <a:ext cx="1670040" cy="67284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10010101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238880" y="533520"/>
            <a:ext cx="1676520" cy="30477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24004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45360" y="3581280"/>
            <a:ext cx="1670040" cy="908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devedores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cred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listaEscolhida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dado,  op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3505320"/>
            <a:ext cx="291960" cy="215640"/>
          </a:xfrm>
          <a:prstGeom prst="rightArrow">
            <a:avLst>
              <a:gd name="adj1" fmla="val 50000"/>
              <a:gd name="adj2" fmla="val 67727"/>
            </a:avLst>
          </a:prstGeom>
          <a:solidFill>
            <a:srgbClr val="f57b4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37600" y="2736720"/>
            <a:ext cx="1466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HeapPoi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Times New Roman"/>
              </a:rPr>
              <a:t>Topo da Á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Times New Roman"/>
              </a:rPr>
              <a:t>Alocá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408280" y="228600"/>
            <a:ext cx="1762560" cy="637560"/>
            <a:chOff x="5408280" y="228600"/>
            <a:chExt cx="1762560" cy="637560"/>
          </a:xfrm>
        </p:grpSpPr>
        <p:sp>
          <p:nvSpPr>
            <p:cNvPr id="493" name=""/>
            <p:cNvSpPr/>
            <p:nvPr/>
          </p:nvSpPr>
          <p:spPr>
            <a:xfrm>
              <a:off x="6878520" y="409320"/>
              <a:ext cx="292320" cy="216000"/>
            </a:xfrm>
            <a:prstGeom prst="rightArrow">
              <a:avLst>
                <a:gd name="adj1" fmla="val 50000"/>
                <a:gd name="adj2" fmla="val 67698"/>
              </a:avLst>
            </a:prstGeom>
            <a:solidFill>
              <a:srgbClr val="f57b4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08280" y="22860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Times New Roman"/>
                </a:rPr>
                <a:t>StackPoi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Times New Roman"/>
                </a:rPr>
                <a:t>Topo da Pilh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5791320" y="5327640"/>
            <a:ext cx="1465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Base da Memó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38680" y="3809880"/>
            <a:ext cx="1617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Variáveis está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(globai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4641840"/>
            <a:ext cx="1617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Código obje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do Progra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Exemplo simplificado: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Programa Principa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emória logo após as 2 chamadas às funções 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criaLista()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, quando o fluxo de execução do programa se encontra na linha #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7010280" y="5175360"/>
            <a:ext cx="1676520" cy="672840"/>
          </a:xfrm>
          <a:prstGeom prst="rect">
            <a:avLst/>
          </a:prstGeom>
          <a:gradFill rotWithShape="0">
            <a:gsLst>
              <a:gs pos="0">
                <a:srgbClr val="003630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Sist.Oper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16760" y="4489560"/>
            <a:ext cx="1670040" cy="67284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10010101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10280" y="533520"/>
            <a:ext cx="1676520" cy="30477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24004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16760" y="3581280"/>
            <a:ext cx="1670040" cy="908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devedores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cred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listaEscolhida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dado,  op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629400" y="2819520"/>
            <a:ext cx="291960" cy="215640"/>
          </a:xfrm>
          <a:prstGeom prst="rightArrow">
            <a:avLst>
              <a:gd name="adj1" fmla="val 50000"/>
              <a:gd name="adj2" fmla="val 67727"/>
            </a:avLst>
          </a:prstGeom>
          <a:solidFill>
            <a:srgbClr val="f57b4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32680" y="1905120"/>
            <a:ext cx="1466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HeapPoi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Times New Roman"/>
              </a:rPr>
              <a:t>Topo da Á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Times New Roman"/>
              </a:rPr>
              <a:t>Alocá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5179680" y="228600"/>
            <a:ext cx="1762560" cy="637560"/>
            <a:chOff x="5179680" y="228600"/>
            <a:chExt cx="1762560" cy="637560"/>
          </a:xfrm>
        </p:grpSpPr>
        <p:sp>
          <p:nvSpPr>
            <p:cNvPr id="507" name=""/>
            <p:cNvSpPr/>
            <p:nvPr/>
          </p:nvSpPr>
          <p:spPr>
            <a:xfrm>
              <a:off x="6649920" y="409320"/>
              <a:ext cx="292320" cy="216000"/>
            </a:xfrm>
            <a:prstGeom prst="rightArrow">
              <a:avLst>
                <a:gd name="adj1" fmla="val 50000"/>
                <a:gd name="adj2" fmla="val 67698"/>
              </a:avLst>
            </a:prstGeom>
            <a:solidFill>
              <a:srgbClr val="f57b4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79680" y="22860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Times New Roman"/>
                </a:rPr>
                <a:t>StackPoi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Times New Roman"/>
                </a:rPr>
                <a:t>Topo da Pilh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5562720" y="5327640"/>
            <a:ext cx="1465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Base da Memó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10080" y="3809880"/>
            <a:ext cx="1617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Variáveis está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(globai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67280" y="4641840"/>
            <a:ext cx="1617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Código obje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do Progra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10280" y="3276720"/>
            <a:ext cx="1675080" cy="29196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Lis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10280" y="2971800"/>
            <a:ext cx="1675080" cy="29196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Lis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153280" y="3416400"/>
            <a:ext cx="685800" cy="355680"/>
          </a:xfrm>
          <a:custGeom>
            <a:avLst/>
            <a:gdLst/>
            <a:ahLst/>
            <a:rect l="l" t="t" r="r" b="b"/>
            <a:pathLst>
              <a:path w="432" h="224">
                <a:moveTo>
                  <a:pt x="144" y="200"/>
                </a:moveTo>
                <a:cubicBezTo>
                  <a:pt x="240" y="212"/>
                  <a:pt x="336" y="224"/>
                  <a:pt x="384" y="200"/>
                </a:cubicBezTo>
                <a:cubicBezTo>
                  <a:pt x="432" y="176"/>
                  <a:pt x="432" y="88"/>
                  <a:pt x="432" y="56"/>
                </a:cubicBezTo>
                <a:cubicBezTo>
                  <a:pt x="432" y="24"/>
                  <a:pt x="408" y="16"/>
                  <a:pt x="384" y="8"/>
                </a:cubicBezTo>
                <a:cubicBezTo>
                  <a:pt x="360" y="0"/>
                  <a:pt x="352" y="8"/>
                  <a:pt x="288" y="8"/>
                </a:cubicBezTo>
                <a:cubicBezTo>
                  <a:pt x="224" y="8"/>
                  <a:pt x="112" y="8"/>
                  <a:pt x="0" y="8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077320" y="3124080"/>
            <a:ext cx="914400" cy="914400"/>
          </a:xfrm>
          <a:custGeom>
            <a:avLst/>
            <a:gdLst/>
            <a:ahLst/>
            <a:rect l="l" t="t" r="r" b="b"/>
            <a:pathLst>
              <a:path w="432" h="224">
                <a:moveTo>
                  <a:pt x="144" y="200"/>
                </a:moveTo>
                <a:cubicBezTo>
                  <a:pt x="240" y="212"/>
                  <a:pt x="336" y="224"/>
                  <a:pt x="384" y="200"/>
                </a:cubicBezTo>
                <a:cubicBezTo>
                  <a:pt x="432" y="176"/>
                  <a:pt x="432" y="88"/>
                  <a:pt x="432" y="56"/>
                </a:cubicBezTo>
                <a:cubicBezTo>
                  <a:pt x="432" y="24"/>
                  <a:pt x="408" y="16"/>
                  <a:pt x="384" y="8"/>
                </a:cubicBezTo>
                <a:cubicBezTo>
                  <a:pt x="360" y="0"/>
                  <a:pt x="352" y="8"/>
                  <a:pt x="288" y="8"/>
                </a:cubicBezTo>
                <a:cubicBezTo>
                  <a:pt x="224" y="8"/>
                  <a:pt x="112" y="8"/>
                  <a:pt x="0" y="8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Exemplo simplificado: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Programa Principa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emória imediatamente antes de retornar de uma chamada à função 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adicionaNoInício()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, quando a 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listaEscolhid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é a dos 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credore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e o fluxo de execução do programa se encontra na última linha da função 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adicionaNoIníci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e retornará ao programa principal para a linha #1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7010280" y="5175360"/>
            <a:ext cx="1676520" cy="672840"/>
          </a:xfrm>
          <a:prstGeom prst="rect">
            <a:avLst/>
          </a:prstGeom>
          <a:gradFill rotWithShape="0">
            <a:gsLst>
              <a:gs pos="0">
                <a:srgbClr val="003630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Sist.Oper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6760" y="4489560"/>
            <a:ext cx="1670040" cy="67284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10010101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10280" y="533520"/>
            <a:ext cx="1676520" cy="30477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24004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16760" y="3581280"/>
            <a:ext cx="1670040" cy="908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devedores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cred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listaEscolhida</a:t>
            </a: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dado   </a:t>
            </a: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,  op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29400" y="2286000"/>
            <a:ext cx="291960" cy="216000"/>
          </a:xfrm>
          <a:prstGeom prst="rightArrow">
            <a:avLst>
              <a:gd name="adj1" fmla="val 50000"/>
              <a:gd name="adj2" fmla="val 67614"/>
            </a:avLst>
          </a:prstGeom>
          <a:solidFill>
            <a:srgbClr val="f57b4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80400" y="1981080"/>
            <a:ext cx="1466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HeapPoi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Times New Roman"/>
              </a:rPr>
              <a:t>Topo da Á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Times New Roman"/>
              </a:rPr>
              <a:t>Alocá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103720" y="1219320"/>
            <a:ext cx="1761840" cy="637560"/>
            <a:chOff x="5103720" y="1219320"/>
            <a:chExt cx="1761840" cy="637560"/>
          </a:xfrm>
        </p:grpSpPr>
        <p:sp>
          <p:nvSpPr>
            <p:cNvPr id="525" name=""/>
            <p:cNvSpPr/>
            <p:nvPr/>
          </p:nvSpPr>
          <p:spPr>
            <a:xfrm>
              <a:off x="6573600" y="1400040"/>
              <a:ext cx="291960" cy="216000"/>
            </a:xfrm>
            <a:prstGeom prst="rightArrow">
              <a:avLst>
                <a:gd name="adj1" fmla="val 50000"/>
                <a:gd name="adj2" fmla="val 67614"/>
              </a:avLst>
            </a:prstGeom>
            <a:solidFill>
              <a:srgbClr val="f57b4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3720" y="12193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Times New Roman"/>
                </a:rPr>
                <a:t>StackPoi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Times New Roman"/>
                </a:rPr>
                <a:t>Topo da Pilh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562720" y="5327640"/>
            <a:ext cx="1465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Base da Memó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57800" y="3809880"/>
            <a:ext cx="1617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Variáveis está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(globai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4641840"/>
            <a:ext cx="1617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Código obje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do Progra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3276720"/>
            <a:ext cx="1675080" cy="29196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Lis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2971800"/>
            <a:ext cx="1675080" cy="29196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Lis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153280" y="3124080"/>
            <a:ext cx="838440" cy="914400"/>
          </a:xfrm>
          <a:custGeom>
            <a:avLst/>
            <a:gdLst/>
            <a:ahLst/>
            <a:rect l="l" t="t" r="r" b="b"/>
            <a:pathLst>
              <a:path w="432" h="224">
                <a:moveTo>
                  <a:pt x="144" y="200"/>
                </a:moveTo>
                <a:cubicBezTo>
                  <a:pt x="240" y="212"/>
                  <a:pt x="336" y="224"/>
                  <a:pt x="384" y="200"/>
                </a:cubicBezTo>
                <a:cubicBezTo>
                  <a:pt x="432" y="176"/>
                  <a:pt x="432" y="88"/>
                  <a:pt x="432" y="56"/>
                </a:cubicBezTo>
                <a:cubicBezTo>
                  <a:pt x="432" y="24"/>
                  <a:pt x="408" y="16"/>
                  <a:pt x="384" y="8"/>
                </a:cubicBezTo>
                <a:cubicBezTo>
                  <a:pt x="360" y="0"/>
                  <a:pt x="352" y="8"/>
                  <a:pt x="288" y="8"/>
                </a:cubicBezTo>
                <a:cubicBezTo>
                  <a:pt x="224" y="8"/>
                  <a:pt x="112" y="8"/>
                  <a:pt x="0" y="8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33520"/>
            <a:ext cx="1675080" cy="99036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amp;progr. #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l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d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no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53280" y="3124080"/>
            <a:ext cx="990720" cy="1143000"/>
          </a:xfrm>
          <a:custGeom>
            <a:avLst/>
            <a:gdLst/>
            <a:ahLst/>
            <a:rect l="l" t="t" r="r" b="b"/>
            <a:pathLst>
              <a:path w="432" h="224">
                <a:moveTo>
                  <a:pt x="144" y="200"/>
                </a:moveTo>
                <a:cubicBezTo>
                  <a:pt x="240" y="212"/>
                  <a:pt x="336" y="224"/>
                  <a:pt x="384" y="200"/>
                </a:cubicBezTo>
                <a:cubicBezTo>
                  <a:pt x="432" y="176"/>
                  <a:pt x="432" y="88"/>
                  <a:pt x="432" y="56"/>
                </a:cubicBezTo>
                <a:cubicBezTo>
                  <a:pt x="432" y="24"/>
                  <a:pt x="408" y="16"/>
                  <a:pt x="384" y="8"/>
                </a:cubicBezTo>
                <a:cubicBezTo>
                  <a:pt x="360" y="0"/>
                  <a:pt x="352" y="8"/>
                  <a:pt x="288" y="8"/>
                </a:cubicBezTo>
                <a:cubicBezTo>
                  <a:pt x="224" y="8"/>
                  <a:pt x="112" y="8"/>
                  <a:pt x="0" y="8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153280" y="3429000"/>
            <a:ext cx="685800" cy="355680"/>
          </a:xfrm>
          <a:custGeom>
            <a:avLst/>
            <a:gdLst/>
            <a:ahLst/>
            <a:rect l="l" t="t" r="r" b="b"/>
            <a:pathLst>
              <a:path w="432" h="224">
                <a:moveTo>
                  <a:pt x="144" y="200"/>
                </a:moveTo>
                <a:cubicBezTo>
                  <a:pt x="240" y="212"/>
                  <a:pt x="336" y="224"/>
                  <a:pt x="384" y="200"/>
                </a:cubicBezTo>
                <a:cubicBezTo>
                  <a:pt x="432" y="176"/>
                  <a:pt x="432" y="88"/>
                  <a:pt x="432" y="56"/>
                </a:cubicBezTo>
                <a:cubicBezTo>
                  <a:pt x="432" y="24"/>
                  <a:pt x="408" y="16"/>
                  <a:pt x="384" y="8"/>
                </a:cubicBezTo>
                <a:cubicBezTo>
                  <a:pt x="360" y="0"/>
                  <a:pt x="352" y="8"/>
                  <a:pt x="288" y="8"/>
                </a:cubicBezTo>
                <a:cubicBezTo>
                  <a:pt x="224" y="8"/>
                  <a:pt x="112" y="8"/>
                  <a:pt x="0" y="8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10280" y="2666880"/>
            <a:ext cx="1675080" cy="29232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TipoInf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10280" y="2362320"/>
            <a:ext cx="1675080" cy="29196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Elemen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934320" y="2819520"/>
            <a:ext cx="304560" cy="1689120"/>
          </a:xfrm>
          <a:custGeom>
            <a:avLst/>
            <a:gdLst/>
            <a:ahLst/>
            <a:rect l="l" t="t" r="r" b="b"/>
            <a:pathLst>
              <a:path w="1504" h="1064">
                <a:moveTo>
                  <a:pt x="1408" y="1008"/>
                </a:moveTo>
                <a:cubicBezTo>
                  <a:pt x="1156" y="1036"/>
                  <a:pt x="904" y="1064"/>
                  <a:pt x="688" y="1056"/>
                </a:cubicBezTo>
                <a:cubicBezTo>
                  <a:pt x="472" y="1048"/>
                  <a:pt x="224" y="1008"/>
                  <a:pt x="112" y="960"/>
                </a:cubicBezTo>
                <a:cubicBezTo>
                  <a:pt x="0" y="912"/>
                  <a:pt x="32" y="856"/>
                  <a:pt x="16" y="768"/>
                </a:cubicBezTo>
                <a:cubicBezTo>
                  <a:pt x="0" y="680"/>
                  <a:pt x="0" y="512"/>
                  <a:pt x="16" y="432"/>
                </a:cubicBezTo>
                <a:cubicBezTo>
                  <a:pt x="32" y="352"/>
                  <a:pt x="32" y="336"/>
                  <a:pt x="112" y="288"/>
                </a:cubicBezTo>
                <a:cubicBezTo>
                  <a:pt x="192" y="240"/>
                  <a:pt x="264" y="192"/>
                  <a:pt x="496" y="144"/>
                </a:cubicBezTo>
                <a:cubicBezTo>
                  <a:pt x="728" y="96"/>
                  <a:pt x="1116" y="48"/>
                  <a:pt x="1504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934320" y="1066680"/>
            <a:ext cx="228600" cy="1689120"/>
          </a:xfrm>
          <a:custGeom>
            <a:avLst/>
            <a:gdLst/>
            <a:ahLst/>
            <a:rect l="l" t="t" r="r" b="b"/>
            <a:pathLst>
              <a:path w="1504" h="1064">
                <a:moveTo>
                  <a:pt x="1408" y="1008"/>
                </a:moveTo>
                <a:cubicBezTo>
                  <a:pt x="1156" y="1036"/>
                  <a:pt x="904" y="1064"/>
                  <a:pt x="688" y="1056"/>
                </a:cubicBezTo>
                <a:cubicBezTo>
                  <a:pt x="472" y="1048"/>
                  <a:pt x="224" y="1008"/>
                  <a:pt x="112" y="960"/>
                </a:cubicBezTo>
                <a:cubicBezTo>
                  <a:pt x="0" y="912"/>
                  <a:pt x="32" y="856"/>
                  <a:pt x="16" y="768"/>
                </a:cubicBezTo>
                <a:cubicBezTo>
                  <a:pt x="0" y="680"/>
                  <a:pt x="0" y="512"/>
                  <a:pt x="16" y="432"/>
                </a:cubicBezTo>
                <a:cubicBezTo>
                  <a:pt x="32" y="352"/>
                  <a:pt x="32" y="336"/>
                  <a:pt x="112" y="288"/>
                </a:cubicBezTo>
                <a:cubicBezTo>
                  <a:pt x="192" y="240"/>
                  <a:pt x="264" y="192"/>
                  <a:pt x="496" y="144"/>
                </a:cubicBezTo>
                <a:cubicBezTo>
                  <a:pt x="728" y="96"/>
                  <a:pt x="1116" y="48"/>
                  <a:pt x="1504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1359000"/>
            <a:ext cx="990360" cy="1193760"/>
          </a:xfrm>
          <a:custGeom>
            <a:avLst/>
            <a:gdLst/>
            <a:ahLst/>
            <a:rect l="l" t="t" r="r" b="b"/>
            <a:pathLst>
              <a:path w="904" h="752">
                <a:moveTo>
                  <a:pt x="0" y="8"/>
                </a:moveTo>
                <a:cubicBezTo>
                  <a:pt x="316" y="4"/>
                  <a:pt x="632" y="0"/>
                  <a:pt x="768" y="8"/>
                </a:cubicBezTo>
                <a:cubicBezTo>
                  <a:pt x="904" y="16"/>
                  <a:pt x="800" y="16"/>
                  <a:pt x="816" y="56"/>
                </a:cubicBezTo>
                <a:cubicBezTo>
                  <a:pt x="832" y="96"/>
                  <a:pt x="856" y="160"/>
                  <a:pt x="864" y="248"/>
                </a:cubicBezTo>
                <a:cubicBezTo>
                  <a:pt x="872" y="336"/>
                  <a:pt x="880" y="504"/>
                  <a:pt x="864" y="584"/>
                </a:cubicBezTo>
                <a:cubicBezTo>
                  <a:pt x="848" y="664"/>
                  <a:pt x="840" y="704"/>
                  <a:pt x="768" y="728"/>
                </a:cubicBezTo>
                <a:cubicBezTo>
                  <a:pt x="696" y="752"/>
                  <a:pt x="564" y="740"/>
                  <a:pt x="432" y="728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20120" y="914400"/>
            <a:ext cx="1307880" cy="2146320"/>
          </a:xfrm>
          <a:custGeom>
            <a:avLst/>
            <a:gdLst/>
            <a:ahLst/>
            <a:rect l="l" t="t" r="r" b="b"/>
            <a:pathLst>
              <a:path w="824" h="1216">
                <a:moveTo>
                  <a:pt x="0" y="8"/>
                </a:moveTo>
                <a:cubicBezTo>
                  <a:pt x="92" y="4"/>
                  <a:pt x="184" y="0"/>
                  <a:pt x="288" y="8"/>
                </a:cubicBezTo>
                <a:cubicBezTo>
                  <a:pt x="392" y="16"/>
                  <a:pt x="544" y="24"/>
                  <a:pt x="624" y="56"/>
                </a:cubicBezTo>
                <a:cubicBezTo>
                  <a:pt x="704" y="88"/>
                  <a:pt x="736" y="136"/>
                  <a:pt x="768" y="200"/>
                </a:cubicBezTo>
                <a:cubicBezTo>
                  <a:pt x="800" y="264"/>
                  <a:pt x="808" y="328"/>
                  <a:pt x="816" y="440"/>
                </a:cubicBezTo>
                <a:cubicBezTo>
                  <a:pt x="824" y="552"/>
                  <a:pt x="824" y="752"/>
                  <a:pt x="816" y="872"/>
                </a:cubicBezTo>
                <a:cubicBezTo>
                  <a:pt x="808" y="992"/>
                  <a:pt x="808" y="1104"/>
                  <a:pt x="768" y="1160"/>
                </a:cubicBezTo>
                <a:cubicBezTo>
                  <a:pt x="728" y="1216"/>
                  <a:pt x="652" y="1212"/>
                  <a:pt x="576" y="1208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estamos se a posição existe e se é possível alocar ele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minhamos até a posi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dicionamos o novo dado na posiçã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crementamos o taman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dado a ser inseri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posição onde inser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828800" y="19051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0" y="19051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20574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19051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343400" y="20574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153280" y="19051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458200" y="20574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19720" y="213372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14600" y="2133720"/>
            <a:ext cx="10666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458200" y="25909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81880" y="25146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534520" y="21337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19051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33920" y="20574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733560" y="21337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96080" y="19051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48720" y="20574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848360" y="21337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876920" y="3886200"/>
            <a:ext cx="1066680" cy="457200"/>
            <a:chOff x="4876920" y="3886200"/>
            <a:chExt cx="1066680" cy="457200"/>
          </a:xfrm>
        </p:grpSpPr>
        <p:sp>
          <p:nvSpPr>
            <p:cNvPr id="564" name=""/>
            <p:cNvSpPr/>
            <p:nvPr/>
          </p:nvSpPr>
          <p:spPr>
            <a:xfrm>
              <a:off x="5334120" y="388620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38680" y="403848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76920" y="388620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29200" y="403848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 flipV="1">
            <a:off x="5791320" y="2209680"/>
            <a:ext cx="1828800" cy="190512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72000" y="4114800"/>
            <a:ext cx="762120" cy="1143000"/>
            <a:chOff x="4572000" y="4114800"/>
            <a:chExt cx="762120" cy="1143000"/>
          </a:xfrm>
        </p:grpSpPr>
        <p:sp>
          <p:nvSpPr>
            <p:cNvPr id="570" name=""/>
            <p:cNvSpPr/>
            <p:nvPr/>
          </p:nvSpPr>
          <p:spPr>
            <a:xfrm>
              <a:off x="4572000" y="4434480"/>
              <a:ext cx="762120" cy="274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0" y="4709160"/>
              <a:ext cx="762120" cy="274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72000" y="4983480"/>
              <a:ext cx="762120" cy="274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029200" y="4114800"/>
              <a:ext cx="76320" cy="27432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184200" y="3581280"/>
            <a:ext cx="1708560" cy="782640"/>
            <a:chOff x="3184200" y="3581280"/>
            <a:chExt cx="1708560" cy="782640"/>
          </a:xfrm>
        </p:grpSpPr>
        <p:grpSp>
          <p:nvGrpSpPr>
            <p:cNvPr id="575" name=""/>
            <p:cNvGrpSpPr/>
            <p:nvPr/>
          </p:nvGrpSpPr>
          <p:grpSpPr>
            <a:xfrm>
              <a:off x="3292560" y="3906720"/>
              <a:ext cx="1600200" cy="457200"/>
              <a:chOff x="3292560" y="3906720"/>
              <a:chExt cx="1600200" cy="457200"/>
            </a:xfrm>
          </p:grpSpPr>
          <p:sp>
            <p:nvSpPr>
              <p:cNvPr id="576" name=""/>
              <p:cNvSpPr/>
              <p:nvPr/>
            </p:nvSpPr>
            <p:spPr>
              <a:xfrm>
                <a:off x="3292560" y="3906720"/>
                <a:ext cx="45720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444840" y="40593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521160" y="4135320"/>
                <a:ext cx="1371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3184200" y="358128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no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6172200" y="19051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77120" y="20574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53080" y="21337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5000" y="19051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0574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867280" y="21337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76720" y="2641680"/>
            <a:ext cx="761760" cy="253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2895480"/>
            <a:ext cx="761760" cy="254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3149640"/>
            <a:ext cx="761760" cy="253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391520" y="2666880"/>
            <a:ext cx="761760" cy="254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391520" y="2921040"/>
            <a:ext cx="761760" cy="253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91520" y="3174840"/>
            <a:ext cx="761760" cy="254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86400" y="2666880"/>
            <a:ext cx="762120" cy="254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486400" y="2921040"/>
            <a:ext cx="762120" cy="253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86400" y="3174840"/>
            <a:ext cx="762120" cy="254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223960" y="914400"/>
            <a:ext cx="1253160" cy="990720"/>
            <a:chOff x="5223960" y="914400"/>
            <a:chExt cx="1253160" cy="990720"/>
          </a:xfrm>
        </p:grpSpPr>
        <p:sp>
          <p:nvSpPr>
            <p:cNvPr id="596" name=""/>
            <p:cNvSpPr/>
            <p:nvPr/>
          </p:nvSpPr>
          <p:spPr>
            <a:xfrm>
              <a:off x="5502240" y="12398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654520" y="139212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91320" y="1447920"/>
              <a:ext cx="68580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23960" y="91440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anteri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828800" y="19051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19051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0574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038480" y="19051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343400" y="20574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153280" y="19051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458200" y="20574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419720" y="213372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2133720"/>
            <a:ext cx="10666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458200" y="25909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81880" y="25146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534520" y="21337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81280" y="19051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733920" y="20574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3733560" y="21337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96080" y="19051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20574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7848360" y="21337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4876920" y="3886200"/>
            <a:ext cx="1066680" cy="457200"/>
            <a:chOff x="4876920" y="3886200"/>
            <a:chExt cx="1066680" cy="457200"/>
          </a:xfrm>
        </p:grpSpPr>
        <p:sp>
          <p:nvSpPr>
            <p:cNvPr id="620" name=""/>
            <p:cNvSpPr/>
            <p:nvPr/>
          </p:nvSpPr>
          <p:spPr>
            <a:xfrm>
              <a:off x="5334120" y="388620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638680" y="403848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76920" y="388620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29200" y="403848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 flipV="1">
            <a:off x="5791320" y="2209680"/>
            <a:ext cx="1828800" cy="190512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4572000" y="4114800"/>
            <a:ext cx="762120" cy="1143000"/>
            <a:chOff x="4572000" y="4114800"/>
            <a:chExt cx="762120" cy="1143000"/>
          </a:xfrm>
        </p:grpSpPr>
        <p:sp>
          <p:nvSpPr>
            <p:cNvPr id="626" name=""/>
            <p:cNvSpPr/>
            <p:nvPr/>
          </p:nvSpPr>
          <p:spPr>
            <a:xfrm>
              <a:off x="4572000" y="4434480"/>
              <a:ext cx="762120" cy="274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0" y="4709160"/>
              <a:ext cx="762120" cy="274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0" y="4983480"/>
              <a:ext cx="762120" cy="274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029200" y="4114800"/>
              <a:ext cx="76320" cy="27432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184200" y="3581280"/>
            <a:ext cx="1708560" cy="782640"/>
            <a:chOff x="3184200" y="3581280"/>
            <a:chExt cx="1708560" cy="782640"/>
          </a:xfrm>
        </p:grpSpPr>
        <p:grpSp>
          <p:nvGrpSpPr>
            <p:cNvPr id="631" name=""/>
            <p:cNvGrpSpPr/>
            <p:nvPr/>
          </p:nvGrpSpPr>
          <p:grpSpPr>
            <a:xfrm>
              <a:off x="3292560" y="3906720"/>
              <a:ext cx="1600200" cy="457200"/>
              <a:chOff x="3292560" y="3906720"/>
              <a:chExt cx="160020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3292560" y="3906720"/>
                <a:ext cx="45720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444840" y="40593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521160" y="4135320"/>
                <a:ext cx="1371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3184200" y="358128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no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6172200" y="19051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0574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15000" y="19051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67280" y="20574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5867280" y="21337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2641680"/>
            <a:ext cx="761760" cy="253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76720" y="2895480"/>
            <a:ext cx="761760" cy="254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76720" y="3149640"/>
            <a:ext cx="761760" cy="253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91520" y="2666880"/>
            <a:ext cx="761760" cy="254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91520" y="2921040"/>
            <a:ext cx="761760" cy="253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91520" y="3174840"/>
            <a:ext cx="761760" cy="254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86400" y="2666880"/>
            <a:ext cx="762120" cy="254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86400" y="2921040"/>
            <a:ext cx="762120" cy="253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6400" y="3174840"/>
            <a:ext cx="762120" cy="2541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5223960" y="914400"/>
            <a:ext cx="1253160" cy="990720"/>
            <a:chOff x="5223960" y="914400"/>
            <a:chExt cx="1253160" cy="990720"/>
          </a:xfrm>
        </p:grpSpPr>
        <p:sp>
          <p:nvSpPr>
            <p:cNvPr id="651" name=""/>
            <p:cNvSpPr/>
            <p:nvPr/>
          </p:nvSpPr>
          <p:spPr>
            <a:xfrm>
              <a:off x="5502240" y="12398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654520" y="139212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91320" y="1447920"/>
              <a:ext cx="68580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23960" y="91440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anteri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>
            <a:off x="4952520" y="2133720"/>
            <a:ext cx="1600200" cy="175248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eiro FUNÇÃO adicionaNaPosiçã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 *aLista, TipoInfo *info,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inteiro posi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Adiciona novo elemento na posição dad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novo numero de elementos da lista ou err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novo, *anterior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Ponteiros auxiliares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posição &gt; aLista-&gt;tamanho + 1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 ErroPosição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posição = 1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adicionaNoInício(aLista, inf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vo &lt;- aloque(Element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E (novo = NULO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ErroListaCheia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novo-&gt;proximo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novo-&gt;info &lt;- 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nterior-&gt;proximo &lt;- nov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Lista-&gt;tamanho &lt;- aLista-&gt;tamanho +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aLista-&gt;tamanh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609480" y="2133720"/>
            <a:ext cx="8534520" cy="99036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eiro FUNÇÃO adicionaNaPosiçã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 *aLista, TipoInfo *info,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inteiro posi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Adiciona novo elemento na posição dad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novo numero de elementos da lista ou err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novo, *anterior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Ponteiros auxiliares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posição &gt; aLista-&gt;tamanho + 1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 ErroPosição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posição = 1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adicionaNoInício(aLista, inf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vo &lt;- aloque(Element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E (novo = NULO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ErroListaCheia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novo-&gt;proximo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novo-&gt;info &lt;- 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nterior-&gt;proximo &lt;- nov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Lista-&gt;tamanho &lt;- aLista-&gt;tamanho +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aLista-&gt;tamanh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609480" y="4114800"/>
            <a:ext cx="8534520" cy="60948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eiro FUNÇÃO adicionaNaPosiçã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 *aLista, TipoInfo *info,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inteiro posi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Adiciona novo elemento na posição dad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novo numero de elementos da lista ou err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novo, *anterior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Ponteiros auxiliares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posição &gt; aLista-&gt;tamanho + 1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 ErroPosição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posição = 1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adicionaNoInício(aLista, inf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vo &lt;- aloque(Element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E (novo = NULO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ErroListaCheia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novo-&gt;proximo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novo-&gt;info &lt;- 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nterior-&gt;proximo &lt;- nov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Lista-&gt;tamanho &lt;- aLista-&gt;tamanho +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aLista-&gt;tamanh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1 Listas Encadead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82880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82880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19810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1240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32767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31240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23160" y="28195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2480" y="28195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312408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31240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04600" y="28195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93560" y="28195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31240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32767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1240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85680" y="28195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74640" y="28195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3352680"/>
            <a:ext cx="83844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33526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2057400"/>
            <a:ext cx="685800" cy="121932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38098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37339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3526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98560" y="144792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nu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0840" y="144792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09320" y="1523880"/>
            <a:ext cx="1855080" cy="825480"/>
            <a:chOff x="2209320" y="1523880"/>
            <a:chExt cx="1855080" cy="825480"/>
          </a:xfrm>
        </p:grpSpPr>
        <p:sp>
          <p:nvSpPr>
            <p:cNvPr id="140" name=""/>
            <p:cNvSpPr/>
            <p:nvPr/>
          </p:nvSpPr>
          <p:spPr>
            <a:xfrm>
              <a:off x="2844360" y="152388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Cabeç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de lis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209320" y="1828440"/>
              <a:ext cx="50364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29000" y="3809880"/>
            <a:ext cx="3261600" cy="978120"/>
            <a:chOff x="3429000" y="3809880"/>
            <a:chExt cx="3261600" cy="978120"/>
          </a:xfrm>
        </p:grpSpPr>
        <p:sp>
          <p:nvSpPr>
            <p:cNvPr id="143" name=""/>
            <p:cNvSpPr/>
            <p:nvPr/>
          </p:nvSpPr>
          <p:spPr>
            <a:xfrm>
              <a:off x="3964680" y="3962520"/>
              <a:ext cx="272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Elemento de Lis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3429000" y="3809880"/>
              <a:ext cx="53352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609480" y="4724280"/>
            <a:ext cx="8534520" cy="76212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eiro FUNÇÃO adicionaNaPosiçã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 *aLista, TipoInfo *info,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inteiro posi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Adiciona novo elemento na posição dad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novo numero de elementos da lista ou err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novo, *anterior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Ponteiros auxiliares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posição &gt; aLista-&gt;tamanho + 1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 ErroPosição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posição = 1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adicionaNoInício(aLista, inf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vo &lt;- aloque(Element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E (novo = NULO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ErroListaCheia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novo-&gt;proximo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novo-&gt;info &lt;- 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nterior-&gt;proximo &lt;- nov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Lista-&gt;tamanho &lt;- aLista-&gt;tamanho +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aLista-&gt;tamanh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estamos se a posição exis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minhamos até a posi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Retiramos o dado da posiçã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crementamos o taman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posição de onde retir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0060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816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8148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362320" y="3276720"/>
            <a:ext cx="1066680" cy="457200"/>
            <a:chOff x="2362320" y="3276720"/>
            <a:chExt cx="1066680" cy="457200"/>
          </a:xfrm>
        </p:grpSpPr>
        <p:sp>
          <p:nvSpPr>
            <p:cNvPr id="691" name=""/>
            <p:cNvSpPr/>
            <p:nvPr/>
          </p:nvSpPr>
          <p:spPr>
            <a:xfrm>
              <a:off x="2819520" y="327672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240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6232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14600" y="342900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57400" y="3505320"/>
            <a:ext cx="762120" cy="1904760"/>
            <a:chOff x="2057400" y="3505320"/>
            <a:chExt cx="762120" cy="1904760"/>
          </a:xfrm>
        </p:grpSpPr>
        <p:sp>
          <p:nvSpPr>
            <p:cNvPr id="697" name=""/>
            <p:cNvSpPr/>
            <p:nvPr/>
          </p:nvSpPr>
          <p:spPr>
            <a:xfrm>
              <a:off x="205740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5740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5740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2514600" y="3505320"/>
              <a:ext cx="7632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1828800" y="2590920"/>
            <a:ext cx="533520" cy="8380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776040" y="2286000"/>
            <a:ext cx="1253160" cy="990720"/>
            <a:chOff x="3776040" y="2286000"/>
            <a:chExt cx="1253160" cy="990720"/>
          </a:xfrm>
        </p:grpSpPr>
        <p:sp>
          <p:nvSpPr>
            <p:cNvPr id="703" name=""/>
            <p:cNvSpPr/>
            <p:nvPr/>
          </p:nvSpPr>
          <p:spPr>
            <a:xfrm>
              <a:off x="4054320" y="26114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06600" y="276372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43400" y="2819520"/>
              <a:ext cx="68580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76040" y="228600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anteri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83818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6868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68680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61048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76312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162920" y="350532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5756040" y="2286000"/>
            <a:ext cx="1253880" cy="990720"/>
            <a:chOff x="5756040" y="2286000"/>
            <a:chExt cx="1253880" cy="990720"/>
          </a:xfrm>
        </p:grpSpPr>
        <p:sp>
          <p:nvSpPr>
            <p:cNvPr id="720" name=""/>
            <p:cNvSpPr/>
            <p:nvPr/>
          </p:nvSpPr>
          <p:spPr>
            <a:xfrm>
              <a:off x="6035400" y="2611440"/>
              <a:ext cx="45684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87680" y="27637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24480" y="2819520"/>
              <a:ext cx="68544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56040" y="2286000"/>
              <a:ext cx="96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elimin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0060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816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2362320" y="3276720"/>
            <a:ext cx="1066680" cy="457200"/>
            <a:chOff x="2362320" y="3276720"/>
            <a:chExt cx="1066680" cy="457200"/>
          </a:xfrm>
        </p:grpSpPr>
        <p:sp>
          <p:nvSpPr>
            <p:cNvPr id="746" name=""/>
            <p:cNvSpPr/>
            <p:nvPr/>
          </p:nvSpPr>
          <p:spPr>
            <a:xfrm>
              <a:off x="2819520" y="327672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240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6232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14600" y="342900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2057400" y="3505320"/>
            <a:ext cx="762120" cy="1904760"/>
            <a:chOff x="2057400" y="3505320"/>
            <a:chExt cx="762120" cy="1904760"/>
          </a:xfrm>
        </p:grpSpPr>
        <p:sp>
          <p:nvSpPr>
            <p:cNvPr id="752" name=""/>
            <p:cNvSpPr/>
            <p:nvPr/>
          </p:nvSpPr>
          <p:spPr>
            <a:xfrm>
              <a:off x="205740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5740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5740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514600" y="3505320"/>
              <a:ext cx="7632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1828800" y="2590920"/>
            <a:ext cx="533520" cy="8380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3776040" y="2286000"/>
            <a:ext cx="1253160" cy="990720"/>
            <a:chOff x="3776040" y="2286000"/>
            <a:chExt cx="1253160" cy="990720"/>
          </a:xfrm>
        </p:grpSpPr>
        <p:sp>
          <p:nvSpPr>
            <p:cNvPr id="758" name=""/>
            <p:cNvSpPr/>
            <p:nvPr/>
          </p:nvSpPr>
          <p:spPr>
            <a:xfrm>
              <a:off x="4054320" y="26114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206600" y="276372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43400" y="2819520"/>
              <a:ext cx="68580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76040" y="228600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anteri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83818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6868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68680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61048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76312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162920" y="350532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756040" y="2286000"/>
            <a:ext cx="1253880" cy="990720"/>
            <a:chOff x="5756040" y="2286000"/>
            <a:chExt cx="1253880" cy="990720"/>
          </a:xfrm>
        </p:grpSpPr>
        <p:sp>
          <p:nvSpPr>
            <p:cNvPr id="775" name=""/>
            <p:cNvSpPr/>
            <p:nvPr/>
          </p:nvSpPr>
          <p:spPr>
            <a:xfrm>
              <a:off x="6035400" y="2611440"/>
              <a:ext cx="45684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87680" y="27637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324480" y="2819520"/>
              <a:ext cx="68544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56040" y="2286000"/>
              <a:ext cx="96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elimin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30" idx="7"/>
            <a:endCxn id="767" idx="0"/>
          </p:cNvCxnSpPr>
          <p:nvPr/>
        </p:nvCxnSpPr>
        <p:spPr>
          <a:xfrm flipH="1" flipV="1" rot="5400000">
            <a:off x="6606720" y="1904400"/>
            <a:ext cx="175320" cy="2918520"/>
          </a:xfrm>
          <a:prstGeom prst="curvedConnector5">
            <a:avLst>
              <a:gd name="adj1" fmla="val 898971"/>
              <a:gd name="adj2" fmla="val 50000"/>
              <a:gd name="adj3" fmla="val 898971"/>
            </a:avLst>
          </a:prstGeom>
          <a:ln w="12600">
            <a:solidFill>
              <a:srgbClr val="f57b4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0060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7816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2362320" y="3276720"/>
            <a:ext cx="1066680" cy="457200"/>
            <a:chOff x="2362320" y="3276720"/>
            <a:chExt cx="1066680" cy="457200"/>
          </a:xfrm>
        </p:grpSpPr>
        <p:sp>
          <p:nvSpPr>
            <p:cNvPr id="799" name=""/>
            <p:cNvSpPr/>
            <p:nvPr/>
          </p:nvSpPr>
          <p:spPr>
            <a:xfrm>
              <a:off x="2819520" y="327672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1240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6232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14600" y="342900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2057400" y="3505320"/>
            <a:ext cx="762120" cy="1904760"/>
            <a:chOff x="2057400" y="3505320"/>
            <a:chExt cx="762120" cy="1904760"/>
          </a:xfrm>
        </p:grpSpPr>
        <p:sp>
          <p:nvSpPr>
            <p:cNvPr id="805" name=""/>
            <p:cNvSpPr/>
            <p:nvPr/>
          </p:nvSpPr>
          <p:spPr>
            <a:xfrm>
              <a:off x="205740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5740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5740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2514600" y="3505320"/>
              <a:ext cx="7632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1828800" y="2590920"/>
            <a:ext cx="533520" cy="8380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776040" y="2286000"/>
            <a:ext cx="1253160" cy="990720"/>
            <a:chOff x="3776040" y="2286000"/>
            <a:chExt cx="1253160" cy="990720"/>
          </a:xfrm>
        </p:grpSpPr>
        <p:sp>
          <p:nvSpPr>
            <p:cNvPr id="811" name=""/>
            <p:cNvSpPr/>
            <p:nvPr/>
          </p:nvSpPr>
          <p:spPr>
            <a:xfrm>
              <a:off x="4054320" y="26114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06600" y="276372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343400" y="2819520"/>
              <a:ext cx="68580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776040" y="228600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anteri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83818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6868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868680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861048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76312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162920" y="350532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5756040" y="2286000"/>
            <a:ext cx="1253880" cy="990720"/>
            <a:chOff x="5756040" y="2286000"/>
            <a:chExt cx="1253880" cy="990720"/>
          </a:xfrm>
        </p:grpSpPr>
        <p:sp>
          <p:nvSpPr>
            <p:cNvPr id="828" name=""/>
            <p:cNvSpPr/>
            <p:nvPr/>
          </p:nvSpPr>
          <p:spPr>
            <a:xfrm>
              <a:off x="6035400" y="2611440"/>
              <a:ext cx="45684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87680" y="27637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24480" y="2819520"/>
              <a:ext cx="68544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56040" y="2286000"/>
              <a:ext cx="96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elimin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86" idx="7"/>
            <a:endCxn id="820" idx="0"/>
          </p:cNvCxnSpPr>
          <p:nvPr/>
        </p:nvCxnSpPr>
        <p:spPr>
          <a:xfrm flipH="1" flipV="1" rot="5400000">
            <a:off x="6606720" y="1904400"/>
            <a:ext cx="175320" cy="2918520"/>
          </a:xfrm>
          <a:prstGeom prst="curvedConnector5">
            <a:avLst>
              <a:gd name="adj1" fmla="val 898971"/>
              <a:gd name="adj2" fmla="val 50000"/>
              <a:gd name="adj3" fmla="val 898971"/>
            </a:avLst>
          </a:prstGeom>
          <a:ln w="12600">
            <a:solidFill>
              <a:srgbClr val="f57b4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35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0060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362320" y="3276720"/>
            <a:ext cx="1066680" cy="457200"/>
            <a:chOff x="2362320" y="3276720"/>
            <a:chExt cx="1066680" cy="457200"/>
          </a:xfrm>
        </p:grpSpPr>
        <p:sp>
          <p:nvSpPr>
            <p:cNvPr id="847" name=""/>
            <p:cNvSpPr/>
            <p:nvPr/>
          </p:nvSpPr>
          <p:spPr>
            <a:xfrm>
              <a:off x="2819520" y="327672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240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6232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514600" y="342900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057400" y="3505320"/>
            <a:ext cx="762120" cy="1904760"/>
            <a:chOff x="2057400" y="3505320"/>
            <a:chExt cx="762120" cy="1904760"/>
          </a:xfrm>
        </p:grpSpPr>
        <p:sp>
          <p:nvSpPr>
            <p:cNvPr id="853" name=""/>
            <p:cNvSpPr/>
            <p:nvPr/>
          </p:nvSpPr>
          <p:spPr>
            <a:xfrm>
              <a:off x="205740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5740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05740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514600" y="3505320"/>
              <a:ext cx="7632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1828800" y="2590920"/>
            <a:ext cx="533520" cy="8380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776040" y="2286000"/>
            <a:ext cx="1253160" cy="990720"/>
            <a:chOff x="3776040" y="2286000"/>
            <a:chExt cx="1253160" cy="990720"/>
          </a:xfrm>
        </p:grpSpPr>
        <p:sp>
          <p:nvSpPr>
            <p:cNvPr id="859" name=""/>
            <p:cNvSpPr/>
            <p:nvPr/>
          </p:nvSpPr>
          <p:spPr>
            <a:xfrm>
              <a:off x="4054320" y="26114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206600" y="276372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43400" y="2819520"/>
              <a:ext cx="68580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76040" y="228600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anteri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83818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6868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68680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61048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76312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5756040" y="2286000"/>
            <a:ext cx="1253880" cy="990720"/>
            <a:chOff x="5756040" y="2286000"/>
            <a:chExt cx="1253880" cy="990720"/>
          </a:xfrm>
        </p:grpSpPr>
        <p:sp>
          <p:nvSpPr>
            <p:cNvPr id="875" name=""/>
            <p:cNvSpPr/>
            <p:nvPr/>
          </p:nvSpPr>
          <p:spPr>
            <a:xfrm>
              <a:off x="6035400" y="2611440"/>
              <a:ext cx="45684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187680" y="27637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24480" y="2819520"/>
              <a:ext cx="68544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56040" y="2286000"/>
              <a:ext cx="96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elimin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stCxn id="839" idx="7"/>
            <a:endCxn id="868" idx="0"/>
          </p:cNvCxnSpPr>
          <p:nvPr/>
        </p:nvCxnSpPr>
        <p:spPr>
          <a:xfrm flipH="1" flipV="1" rot="5400000">
            <a:off x="6606720" y="1904400"/>
            <a:ext cx="175320" cy="2918520"/>
          </a:xfrm>
          <a:prstGeom prst="curvedConnector5">
            <a:avLst>
              <a:gd name="adj1" fmla="val 898971"/>
              <a:gd name="adj2" fmla="val 50000"/>
              <a:gd name="adj3" fmla="val 898971"/>
            </a:avLst>
          </a:prstGeom>
          <a:ln w="12600">
            <a:solidFill>
              <a:srgbClr val="f57b4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82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80060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362320" y="3276720"/>
            <a:ext cx="1066680" cy="457200"/>
            <a:chOff x="2362320" y="3276720"/>
            <a:chExt cx="1066680" cy="457200"/>
          </a:xfrm>
        </p:grpSpPr>
        <p:sp>
          <p:nvSpPr>
            <p:cNvPr id="894" name=""/>
            <p:cNvSpPr/>
            <p:nvPr/>
          </p:nvSpPr>
          <p:spPr>
            <a:xfrm>
              <a:off x="2819520" y="327672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240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6232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514600" y="342900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057400" y="3505320"/>
            <a:ext cx="762120" cy="1904760"/>
            <a:chOff x="2057400" y="3505320"/>
            <a:chExt cx="762120" cy="1904760"/>
          </a:xfrm>
        </p:grpSpPr>
        <p:sp>
          <p:nvSpPr>
            <p:cNvPr id="900" name=""/>
            <p:cNvSpPr/>
            <p:nvPr/>
          </p:nvSpPr>
          <p:spPr>
            <a:xfrm>
              <a:off x="205740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5740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5740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2514600" y="3505320"/>
              <a:ext cx="7632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1828800" y="2590920"/>
            <a:ext cx="533520" cy="8380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3818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6868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68680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61048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76312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886" idx="7"/>
            <a:endCxn id="910" idx="0"/>
          </p:cNvCxnSpPr>
          <p:nvPr/>
        </p:nvCxnSpPr>
        <p:spPr>
          <a:xfrm flipH="1" flipV="1" rot="5400000">
            <a:off x="6606720" y="1904400"/>
            <a:ext cx="175320" cy="2918520"/>
          </a:xfrm>
          <a:prstGeom prst="curvedConnector5">
            <a:avLst>
              <a:gd name="adj1" fmla="val 898971"/>
              <a:gd name="adj2" fmla="val 50000"/>
              <a:gd name="adj3" fmla="val 898971"/>
            </a:avLst>
          </a:prstGeom>
          <a:ln w="12600">
            <a:solidFill>
              <a:srgbClr val="f57b4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* FUNÇÃO retiraDaPosiçã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 *aLista, inteiro posi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 o Elemento na posição posição de uma list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informação do elemento eliminado ou NUL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anterior, *eliminar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element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 *volta;       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dado retornad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&gt; aLista-&gt;tamanho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NULO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= 1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retiraDoInício(aLista)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elimina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volta &lt;- eliminar-&gt;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nterior-&gt;proximo &lt;- elimina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Lista-&gt;tamanho &lt;- aLista-&gt;tamanho 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eliminar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vol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609480" y="2438280"/>
            <a:ext cx="8534520" cy="106704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* FUNÇÃO retiraDaPosiçã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 *aLista, inteiro posi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 o Elemento na posição posição de uma list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informação do elemento eliminado ou NUL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anterior, *eliminar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element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 *volta;       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dado retornad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&gt; aLista-&gt;tamanho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NULO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= 1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retiraDoInício(aLista)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elimina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volta &lt;- eliminar-&gt;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nterior-&gt;proximo &lt;- elimina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Lista-&gt;tamanho &lt;- aLista-&gt;tamanho 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eliminar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vol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609480" y="3733920"/>
            <a:ext cx="8534520" cy="68580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* FUNÇÃO retiraDaPosiçã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 *aLista, inteiro posi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 o Elemento na posição posição de uma list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informação do elemento eliminado ou NUL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anterior, *eliminar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element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 *volta;       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dado retornad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&gt; aLista-&gt;tamanho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NULO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= 1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retiraDoInício(aLista)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elimina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volta &lt;- eliminar-&gt;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nterior-&gt;proximo &lt;- elimina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Lista-&gt;tamanho &lt;- aLista-&gt;tamanho 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eliminar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vol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1.1 Modelagem: Cabeça de 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cessitam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ponteiro para o primeiro elemento da 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inteiro para indicar quantos elementos a lista possu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eudo-códig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Lista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*dado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inteir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amanh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609480" y="4419720"/>
            <a:ext cx="8534520" cy="38088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* FUNÇÃO retiraDaPosiçã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 *aLista, inteiro posi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 o Elemento na posição posição de uma list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informação do elemento eliminado ou NUL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anterior, *eliminar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element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 *volta;       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dado retornad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&gt; aLista-&gt;tamanho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NULO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= 1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retiraDoInício(aLista)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elimina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volta &lt;- eliminar-&gt;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nterior-&gt;proximo &lt;- elimina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Lista-&gt;tamanho &lt;- aLista-&gt;tamanho 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eliminar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vol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 flipV="1">
            <a:off x="609480" y="4800240"/>
            <a:ext cx="8534520" cy="457200"/>
          </a:xfrm>
          <a:prstGeom prst="rect">
            <a:avLst/>
          </a:prstGeom>
          <a:solidFill>
            <a:srgbClr val="007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* FUNÇÃO retiraDaPosiçã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 *aLista, inteiro posi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 o Elemento na posição posição de uma list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informação do elemento eliminado ou NUL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anterior, *eliminar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element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 *volta;       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dado retornad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&gt; aLista-&gt;tamanho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NULO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= 1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retiraDoInício(aLista)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elimina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volta &lt;- eliminar-&gt;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nterior-&gt;proximo &lt;- elimina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Lista-&gt;tamanho &lt;- aLista-&gt;tamanho 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eliminar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vol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o Tipo Inf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 inserção em ordem e para achar um elemento determinado, necessitamos da capacidade de comparar informações associadas aos ele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as operações de comparação fazem parte do TAD TipoInfo e não da 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m ser implementadas como t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Testar AS INFORMAÇÕ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Igual(dado1,dado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Maior(dado1,dado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Menor(dado1,dado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EmOrdem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ecessitamos de uma função para comparar os dados (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maior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uramos pela posição onde inserir comparando d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hamamos </a:t>
            </a:r>
            <a:r>
              <a:rPr b="1" lang="pt-BR" sz="2400" spc="-1" strike="noStrike">
                <a:solidFill>
                  <a:srgbClr val="fafd00"/>
                </a:solidFill>
                <a:latin typeface="Courier New"/>
              </a:rPr>
              <a:t>adicionaNaPosiçã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dado a ser inse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EmOrdem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eiro FUNÇÃO adicionaEmOrdem(Lista *aLista, TipoInfo dado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atual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iável auxiliar para caminhar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eiro  posiçã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listaVazia(aLista)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RETORNE(adicionaNoInício(aLista, dado)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tual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posição &lt;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ENQUANTO (atual-&gt;proximo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~=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NULO 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maior(dado, atual-&gt;info)) FAÇ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ncontrar posição para inserir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tual &lt;- atual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posição &lt;- posição +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E maior(dado, atual-&gt;info) ENTÃO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Parou porque acabou lista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RETORNE(adicionaNaPosição(aLista, dado, posição + 1)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RETORNE(adicionaNaPosição(aLista, dado, posição)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s Restante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r conta do Alu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Específic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Inicializar ou limp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DestroiLista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Destroi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ÇÃO destroiLista(Lista *aLista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atual, *anterior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iável auxiliar para caminhar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listaVazia(aLista)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BERE(aLis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tual &lt;- aLista-&gt;dados;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ENQUANTO (atual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~=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NULO) FAÇ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r até o fim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nterior &lt;- atual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  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Vou para o próximo mesmo que seja nulo.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tual &lt;- atual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Liberar primeiro a Info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BERE(anterior-&gt;inf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Liberar o elemento que acabei de visitar.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BERE(anterior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FIM ENQUA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BERE(aLis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Exercício: Agenda de Comprimento Variáve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Utilizando o tipo Compromisso de Agenda definido anteriormente como campo de informação (tipoInfo) e modificando-o se necessário crie um aplicativo de agenda que utilize uma lista encadeada simp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mplemente a lista encadeada com passagem de parâmetros por referência e utilize-a para implementar  agen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da elemento possuirá como campo Info um ponteiro para um compromisso da agen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lista estará ordenada por </a:t>
            </a:r>
            <a:r>
              <a:rPr b="0" lang="pt-BR" sz="2000" spc="-1" strike="noStrike">
                <a:solidFill>
                  <a:srgbClr val="fafd00"/>
                </a:solidFill>
                <a:latin typeface="Tahoma"/>
              </a:rPr>
              <a:t>data e hora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do compromiss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Aplicação Agenda Encadeada terá as seguintes funções básic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serir compromisso. A posição é escolhida automa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xcluir compromisso dados o dia e a ho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ostrr os compromissos para um determinado d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Modelo da Agen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1952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24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194560" y="29718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63124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80060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76000" y="29718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61268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7816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157080" y="29718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59376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18148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2590920"/>
            <a:ext cx="457200" cy="8380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086600" y="3962520"/>
            <a:ext cx="212760" cy="144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1028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16292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2895480" y="5410080"/>
            <a:ext cx="4179240" cy="978120"/>
            <a:chOff x="2895480" y="5410080"/>
            <a:chExt cx="4179240" cy="978120"/>
          </a:xfrm>
        </p:grpSpPr>
        <p:sp>
          <p:nvSpPr>
            <p:cNvPr id="967" name=""/>
            <p:cNvSpPr/>
            <p:nvPr/>
          </p:nvSpPr>
          <p:spPr>
            <a:xfrm>
              <a:off x="3280680" y="5562720"/>
              <a:ext cx="379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Elemento de Informaçã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(tipoInfo = compromisso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895480" y="5410080"/>
              <a:ext cx="53352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2057400" y="4038480"/>
            <a:ext cx="9907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10.09.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057400" y="4495680"/>
            <a:ext cx="9907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07: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57400" y="4952880"/>
            <a:ext cx="9907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reuni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3623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251460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114800" y="4038480"/>
            <a:ext cx="10666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10.09.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114800" y="4495680"/>
            <a:ext cx="10666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12: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4952880"/>
            <a:ext cx="10666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lmoç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19920" y="4038480"/>
            <a:ext cx="10666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10.09.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019920" y="4495680"/>
            <a:ext cx="10666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22: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19920" y="4952880"/>
            <a:ext cx="10666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Rosinh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143000" y="4114800"/>
            <a:ext cx="790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ahoma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ahoma"/>
              </a:rPr>
              <a:t>ho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ahoma"/>
              </a:rPr>
              <a:t>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1.1 Modelagem: Elemento de 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cessitam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ponteiro para o próximo elemento da 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campo do tipo da informação que vamos armazen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eudo-códig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Elemento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*próx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-que-eu-vou-usar-nesta-aplicaçã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inf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1.2 Listas Encadeadas: Modelagem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a tornar todos os algoritmos da lista mais genéricos, fazemos o campo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inf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er um ponteiro para um elemento de informa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4560" y="29718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3124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32767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76000" y="29718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1268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32767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57080" y="29718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93760" y="2971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505320"/>
            <a:ext cx="11430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2590920"/>
            <a:ext cx="457200" cy="8380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895480" y="5410080"/>
            <a:ext cx="4125960" cy="978120"/>
            <a:chOff x="2895480" y="5410080"/>
            <a:chExt cx="4125960" cy="978120"/>
          </a:xfrm>
        </p:grpSpPr>
        <p:sp>
          <p:nvSpPr>
            <p:cNvPr id="175" name=""/>
            <p:cNvSpPr/>
            <p:nvPr/>
          </p:nvSpPr>
          <p:spPr>
            <a:xfrm>
              <a:off x="3295800" y="5562720"/>
              <a:ext cx="372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Elemento de Informaçã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(tipoInfo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895480" y="5410080"/>
              <a:ext cx="53352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0574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o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1460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1.3 Modelagem: Elemento de Lista II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eudo-código I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Elemento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*próxim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Inf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*inf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TipoInfo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-do-campo1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campo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-do-campo2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campo2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ipo-do-campoN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campo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1.3 Modelagem: Elemento de Lista II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zões para a modelagem do 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Tipo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mos na maioria dos algoritmos trabalhar com algum elemento de infoma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este elemento é somente um ponteiro para um TipoInfo, não importando o que este seja, teremos algoritmos totalmente genéric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so usar o mesmo código de lista para muitas aplicações diferentes simplesmente recompilan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vantage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 algoritmo de destruição da lista torna-se mais complex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2T02:53:20Z</dcterms:created>
  <dc:creator>Prof. Dr. Aldo von Wangenheim</dc:creator>
  <dc:description/>
  <cp:keywords>C++</cp:keywords>
  <dc:language>en-US</dc:language>
  <cp:lastModifiedBy>Kaiser</cp:lastModifiedBy>
  <cp:lastPrinted>1997-06-23T00:41:22Z</cp:lastPrinted>
  <dcterms:modified xsi:type="dcterms:W3CDTF">1999-09-22T11:34:06Z</dcterms:modified>
  <cp:revision>180</cp:revision>
  <dc:subject>C++</dc:subject>
  <dc:title>Estruturas de Dados - T.332  Capítulo 4 Parte 1: C++</dc:title>
</cp:coreProperties>
</file>