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7760" cy="38498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6127920" y="8758080"/>
            <a:ext cx="927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r"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fld id="{B336E884-1F19-4963-B371-243323DFD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>
            <a:off x="3886200" y="792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886200" y="8705880"/>
            <a:ext cx="2971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14240"/>
                <a:tab algn="l" pos="1428840"/>
                <a:tab algn="l" pos="2143080"/>
                <a:tab algn="l" pos="2857680"/>
                <a:tab algn="l" pos="3571920"/>
                <a:tab algn="l" pos="4286160"/>
                <a:tab algn="l" pos="5000760"/>
                <a:tab algn="l" pos="5715000"/>
                <a:tab algn="l" pos="6429240"/>
                <a:tab algn="l" pos="7143840"/>
                <a:tab algn="l" pos="7858080"/>
                <a:tab algn="l" pos="8572680"/>
                <a:tab algn="l" pos="9286920"/>
                <a:tab algn="l" pos="10001160"/>
                <a:tab algn="l" pos="1071576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870588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0" y="7920"/>
            <a:ext cx="297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7760" cy="384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936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53280" y="114264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44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51936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53280" y="3849120"/>
            <a:ext cx="26985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4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80600" y="384912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80600" y="1142640"/>
            <a:ext cx="40903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3849120"/>
            <a:ext cx="8381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09480" cy="6845400"/>
            <a:chOff x="0" y="0"/>
            <a:chExt cx="60948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60948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2840" y="162000"/>
              <a:ext cx="85680" cy="6543720"/>
              <a:chOff x="42840" y="162000"/>
              <a:chExt cx="856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42840" y="1752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2840" y="1981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2840" y="2209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840" y="2438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840" y="2666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840" y="2895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840" y="3124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840" y="3352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840" y="3581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2840" y="3809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840" y="4038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2840" y="4267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2840" y="4495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2840" y="4724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2840" y="4952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840" y="5181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2840" y="5410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2840" y="56386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840" y="58672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2840" y="60958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2840" y="63244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2840" y="6553080"/>
                <a:ext cx="856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2840" y="162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2840" y="390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2840" y="6192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2840" y="8478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2840" y="10764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2840" y="13050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42840" y="1533600"/>
                <a:ext cx="856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" name=""/>
          <p:cNvSpPr/>
          <p:nvPr/>
        </p:nvSpPr>
        <p:spPr>
          <a:xfrm>
            <a:off x="82800" y="6486480"/>
            <a:ext cx="699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INE - UFSC        -      Disciplina Estruturas de Dados       -       Prof. Dr. Aldo von Wangenhei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7101360" y="6486480"/>
            <a:ext cx="146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ágina </a:t>
            </a:r>
            <a:fld id="{BFADF8BC-D2DD-4A2B-AAE2-68CCD8E0C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" name="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609480" cy="73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Book Antiqua"/>
              </a:rPr>
              <a:t>Estruturas de Dados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- T.332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Capítulo 4 - II</a:t>
            </a:r>
            <a:br>
              <a:rPr sz="2800"/>
            </a:br>
            <a:r>
              <a:rPr b="0" lang="en-US" sz="4800" spc="-1" strike="noStrike">
                <a:solidFill>
                  <a:srgbClr val="8cf4ea"/>
                </a:solidFill>
                <a:latin typeface="Tahoma"/>
              </a:rPr>
              <a:t>Listas Encadeadas</a:t>
            </a:r>
            <a:br>
              <a:rPr sz="4800"/>
            </a:br>
            <a:br>
              <a:rPr sz="4800"/>
            </a:br>
            <a:r>
              <a:rPr b="0" lang="en-US" sz="3200" spc="-1" strike="noStrike">
                <a:solidFill>
                  <a:srgbClr val="8cf4ea"/>
                </a:solidFill>
                <a:latin typeface="Tahoma"/>
              </a:rPr>
              <a:t>4.2 Filas e Listas Duplamente Encadeadas</a:t>
            </a:r>
            <a:br>
              <a:rPr sz="3200"/>
            </a:br>
            <a:r>
              <a:rPr b="0" lang="en-US" sz="3200" spc="-1" strike="noStrike">
                <a:solidFill>
                  <a:srgbClr val="8cf4ea"/>
                </a:solidFill>
                <a:latin typeface="Tahoma"/>
              </a:rPr>
              <a:t>4.3 Listas Circulares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CriaFil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la* FUNÇÃO criaFil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Retorna ponteiro para uma nova cabeça de fila ou NULO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la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aFil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Fila &lt;- aloque(Fila 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Fila ~= NULO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o posso inicializar se consegui alocar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Fila-&gt;tamanho &lt;- 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Fila-&gt;início &lt;- nul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aFila-&gt;fim &lt;- nul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Fil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808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1704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39625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28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0916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9848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246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886200" y="40384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048120"/>
            <a:ext cx="685800" cy="99036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3022560"/>
            <a:ext cx="342900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0532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2808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31704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39625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0916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9848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276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886200" y="40384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3048120"/>
            <a:ext cx="685800" cy="99036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69608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3022560"/>
            <a:ext cx="342900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7280" y="4038480"/>
            <a:ext cx="83844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0532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4320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2808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1704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91320" y="39625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72428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0916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9848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307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3886200" y="40384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3048120"/>
            <a:ext cx="685800" cy="99036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77240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69608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4872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38280" y="3022560"/>
            <a:ext cx="487692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67280" y="4038480"/>
            <a:ext cx="83844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 </a:t>
            </a:r>
            <a:br>
              <a:rPr sz="2800"/>
            </a:b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Caso especial: Fila Vazia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90200" y="3657600"/>
            <a:ext cx="1569960" cy="1143000"/>
            <a:chOff x="3490200" y="3657600"/>
            <a:chExt cx="1569960" cy="1143000"/>
          </a:xfrm>
        </p:grpSpPr>
        <p:grpSp>
          <p:nvGrpSpPr>
            <p:cNvPr id="332" name=""/>
            <p:cNvGrpSpPr/>
            <p:nvPr/>
          </p:nvGrpSpPr>
          <p:grpSpPr>
            <a:xfrm>
              <a:off x="3490200" y="3657600"/>
              <a:ext cx="1569960" cy="762120"/>
              <a:chOff x="3490200" y="3657600"/>
              <a:chExt cx="1569960" cy="762120"/>
            </a:xfrm>
          </p:grpSpPr>
          <p:sp>
            <p:nvSpPr>
              <p:cNvPr id="333" name=""/>
              <p:cNvSpPr/>
              <p:nvPr/>
            </p:nvSpPr>
            <p:spPr>
              <a:xfrm>
                <a:off x="4267080" y="3962520"/>
                <a:ext cx="60984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72000" y="4114800"/>
                <a:ext cx="152280" cy="152280"/>
              </a:xfrm>
              <a:prstGeom prst="ellipse">
                <a:avLst/>
              </a:prstGeom>
              <a:solidFill>
                <a:srgbClr val="f57b49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505320" y="3962520"/>
                <a:ext cx="76176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Tahoma"/>
                  </a:rPr>
                  <a:t>uv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490200" y="3657600"/>
                <a:ext cx="54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inf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79160" y="3657600"/>
                <a:ext cx="98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próxim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4572000" y="4724280"/>
              <a:ext cx="15228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95680" y="4648320"/>
              <a:ext cx="30492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48320" y="4267080"/>
              <a:ext cx="0" cy="53352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362320" y="35812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000" y="35053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38280" y="31240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35812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828800" y="35053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1080" y="31240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 </a:t>
            </a:r>
            <a:br>
              <a:rPr sz="2800"/>
            </a:b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Caso especial: Fila Vazia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3490200" y="3657600"/>
            <a:ext cx="1569960" cy="1143000"/>
            <a:chOff x="3490200" y="3657600"/>
            <a:chExt cx="1569960" cy="1143000"/>
          </a:xfrm>
        </p:grpSpPr>
        <p:grpSp>
          <p:nvGrpSpPr>
            <p:cNvPr id="356" name=""/>
            <p:cNvGrpSpPr/>
            <p:nvPr/>
          </p:nvGrpSpPr>
          <p:grpSpPr>
            <a:xfrm>
              <a:off x="3490200" y="3657600"/>
              <a:ext cx="1569960" cy="762120"/>
              <a:chOff x="3490200" y="3657600"/>
              <a:chExt cx="1569960" cy="76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4267080" y="3962520"/>
                <a:ext cx="60984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72000" y="4114800"/>
                <a:ext cx="152280" cy="152280"/>
              </a:xfrm>
              <a:prstGeom prst="ellipse">
                <a:avLst/>
              </a:prstGeom>
              <a:solidFill>
                <a:srgbClr val="f57b49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05320" y="3962520"/>
                <a:ext cx="761760" cy="45720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Tahoma"/>
                  </a:rPr>
                  <a:t>uv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490200" y="3657600"/>
                <a:ext cx="54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inf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079160" y="3657600"/>
                <a:ext cx="98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próxim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4572000" y="4724280"/>
              <a:ext cx="15228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95680" y="4648320"/>
              <a:ext cx="30492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48320" y="4267080"/>
              <a:ext cx="0" cy="53352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981080" y="3022560"/>
            <a:ext cx="2286000" cy="1168560"/>
            <a:chOff x="1981080" y="3022560"/>
            <a:chExt cx="2286000" cy="1168560"/>
          </a:xfrm>
        </p:grpSpPr>
        <p:sp>
          <p:nvSpPr>
            <p:cNvPr id="366" name=""/>
            <p:cNvSpPr/>
            <p:nvPr/>
          </p:nvSpPr>
          <p:spPr>
            <a:xfrm>
              <a:off x="2438280" y="3022560"/>
              <a:ext cx="1828800" cy="635040"/>
            </a:xfrm>
            <a:custGeom>
              <a:avLst/>
              <a:gdLst/>
              <a:ahLst/>
              <a:rect l="l" t="t" r="r" b="b"/>
              <a:pathLst>
                <a:path w="3168" h="352">
                  <a:moveTo>
                    <a:pt x="0" y="16"/>
                  </a:moveTo>
                  <a:cubicBezTo>
                    <a:pt x="792" y="16"/>
                    <a:pt x="1584" y="16"/>
                    <a:pt x="2016" y="16"/>
                  </a:cubicBezTo>
                  <a:cubicBezTo>
                    <a:pt x="2448" y="16"/>
                    <a:pt x="2440" y="0"/>
                    <a:pt x="2592" y="16"/>
                  </a:cubicBezTo>
                  <a:cubicBezTo>
                    <a:pt x="2744" y="32"/>
                    <a:pt x="2840" y="72"/>
                    <a:pt x="2928" y="112"/>
                  </a:cubicBezTo>
                  <a:cubicBezTo>
                    <a:pt x="3016" y="152"/>
                    <a:pt x="3080" y="216"/>
                    <a:pt x="3120" y="256"/>
                  </a:cubicBezTo>
                  <a:cubicBezTo>
                    <a:pt x="3160" y="296"/>
                    <a:pt x="3164" y="324"/>
                    <a:pt x="3168" y="352"/>
                  </a:cubicBezTo>
                </a:path>
              </a:pathLst>
            </a:custGeom>
            <a:noFill/>
            <a:ln w="12600">
              <a:solidFill>
                <a:srgbClr val="f7668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81080" y="3048120"/>
              <a:ext cx="1371600" cy="11430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 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 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Fila *aFila, TipoInfo *dad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emento *novo; 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“Var. auxiliar para o novo elemento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ovo &lt;- aloque(Element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(novo = NULO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 ErroListaCheia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 filaVazia(aFila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Fila-&gt;inicio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aFila-&gt;fim-&gt;proximo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ovo-&gt;proximo &lt;- NUL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ovo-&gt;info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Fila-&gt;fim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ila-&gt;tamanho &lt;- aFila-&gt;tamanh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aFila-&gt;tamanh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133280" y="2438280"/>
            <a:ext cx="7127280" cy="2210040"/>
            <a:chOff x="1133280" y="2438280"/>
            <a:chExt cx="7127280" cy="2210040"/>
          </a:xfrm>
        </p:grpSpPr>
        <p:sp>
          <p:nvSpPr>
            <p:cNvPr id="372" name=""/>
            <p:cNvSpPr/>
            <p:nvPr/>
          </p:nvSpPr>
          <p:spPr>
            <a:xfrm>
              <a:off x="1295280" y="2819520"/>
              <a:ext cx="433440" cy="517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52480" y="2819520"/>
              <a:ext cx="433440" cy="517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05120" y="2971800"/>
              <a:ext cx="144360" cy="1731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05320" y="380988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9880" y="39625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43200" y="3809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2808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1704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86400" y="380988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91320" y="396252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4280" y="3809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açã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0916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9848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6690600" y="3505320"/>
              <a:ext cx="1569960" cy="761400"/>
              <a:chOff x="6690600" y="3505320"/>
              <a:chExt cx="1569960" cy="761400"/>
            </a:xfrm>
          </p:grpSpPr>
          <p:sp>
            <p:nvSpPr>
              <p:cNvPr id="386" name=""/>
              <p:cNvSpPr/>
              <p:nvPr/>
            </p:nvSpPr>
            <p:spPr>
              <a:xfrm>
                <a:off x="7467480" y="3809880"/>
                <a:ext cx="609840" cy="45684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772400" y="3962160"/>
                <a:ext cx="152280" cy="151920"/>
              </a:xfrm>
              <a:prstGeom prst="ellipse">
                <a:avLst/>
              </a:prstGeom>
              <a:solidFill>
                <a:srgbClr val="f57b49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705720" y="3809880"/>
                <a:ext cx="761760" cy="456840"/>
              </a:xfrm>
              <a:prstGeom prst="rect">
                <a:avLst/>
              </a:prstGeom>
              <a:solidFill>
                <a:srgbClr val="00b7a5"/>
              </a:solidFill>
              <a:ln w="12600">
                <a:solidFill>
                  <a:srgbClr val="f57b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Tahoma"/>
                  </a:rPr>
                  <a:t>uv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690600" y="3505320"/>
                <a:ext cx="54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inf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279560" y="3505320"/>
                <a:ext cx="98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Tahoma"/>
                  </a:rPr>
                  <a:t>próxim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886200" y="4038480"/>
              <a:ext cx="83808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81080" y="3048120"/>
              <a:ext cx="685800" cy="99036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72400" y="4572000"/>
              <a:ext cx="15228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96080" y="4495680"/>
              <a:ext cx="30492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48720" y="4114800"/>
              <a:ext cx="0" cy="53352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33280" y="2438280"/>
              <a:ext cx="61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tam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47000" y="243828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icio fi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09680" y="2819520"/>
              <a:ext cx="433440" cy="51732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62320" y="2971800"/>
              <a:ext cx="144360" cy="17316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022560"/>
              <a:ext cx="4876920" cy="558720"/>
            </a:xfrm>
            <a:custGeom>
              <a:avLst/>
              <a:gdLst/>
              <a:ahLst/>
              <a:rect l="l" t="t" r="r" b="b"/>
              <a:pathLst>
                <a:path w="3168" h="352">
                  <a:moveTo>
                    <a:pt x="0" y="16"/>
                  </a:moveTo>
                  <a:cubicBezTo>
                    <a:pt x="792" y="16"/>
                    <a:pt x="1584" y="16"/>
                    <a:pt x="2016" y="16"/>
                  </a:cubicBezTo>
                  <a:cubicBezTo>
                    <a:pt x="2448" y="16"/>
                    <a:pt x="2440" y="0"/>
                    <a:pt x="2592" y="16"/>
                  </a:cubicBezTo>
                  <a:cubicBezTo>
                    <a:pt x="2744" y="32"/>
                    <a:pt x="2840" y="72"/>
                    <a:pt x="2928" y="112"/>
                  </a:cubicBezTo>
                  <a:cubicBezTo>
                    <a:pt x="3016" y="152"/>
                    <a:pt x="3080" y="216"/>
                    <a:pt x="3120" y="256"/>
                  </a:cubicBezTo>
                  <a:cubicBezTo>
                    <a:pt x="3160" y="296"/>
                    <a:pt x="3164" y="324"/>
                    <a:pt x="3168" y="352"/>
                  </a:cubicBezTo>
                </a:path>
              </a:pathLst>
            </a:custGeom>
            <a:noFill/>
            <a:ln w="12600">
              <a:solidFill>
                <a:srgbClr val="f7668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67280" y="4038480"/>
              <a:ext cx="83844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987120" y="3581280"/>
            <a:ext cx="1694880" cy="782640"/>
            <a:chOff x="987120" y="3581280"/>
            <a:chExt cx="1694880" cy="782640"/>
          </a:xfrm>
        </p:grpSpPr>
        <p:grpSp>
          <p:nvGrpSpPr>
            <p:cNvPr id="403" name=""/>
            <p:cNvGrpSpPr/>
            <p:nvPr/>
          </p:nvGrpSpPr>
          <p:grpSpPr>
            <a:xfrm>
              <a:off x="1082520" y="3906720"/>
              <a:ext cx="1599480" cy="457200"/>
              <a:chOff x="1082520" y="3906720"/>
              <a:chExt cx="1599480" cy="457200"/>
            </a:xfrm>
          </p:grpSpPr>
          <p:sp>
            <p:nvSpPr>
              <p:cNvPr id="404" name=""/>
              <p:cNvSpPr/>
              <p:nvPr/>
            </p:nvSpPr>
            <p:spPr>
              <a:xfrm>
                <a:off x="1082520" y="3906720"/>
                <a:ext cx="45684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34440" y="405936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310760" y="4135320"/>
                <a:ext cx="13712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>
              <a:off x="987120" y="3581280"/>
              <a:ext cx="49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0532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2808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1704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8640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91320" y="39625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70916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9848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423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886200" y="40384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77240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9608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84872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38280" y="3022560"/>
            <a:ext cx="487692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67280" y="4038480"/>
            <a:ext cx="83844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87120" y="3581280"/>
            <a:ext cx="1694880" cy="782640"/>
            <a:chOff x="987120" y="3581280"/>
            <a:chExt cx="1694880" cy="782640"/>
          </a:xfrm>
        </p:grpSpPr>
        <p:grpSp>
          <p:nvGrpSpPr>
            <p:cNvPr id="439" name=""/>
            <p:cNvGrpSpPr/>
            <p:nvPr/>
          </p:nvGrpSpPr>
          <p:grpSpPr>
            <a:xfrm>
              <a:off x="1082520" y="3906720"/>
              <a:ext cx="1599480" cy="457200"/>
              <a:chOff x="1082520" y="3906720"/>
              <a:chExt cx="1599480" cy="457200"/>
            </a:xfrm>
          </p:grpSpPr>
          <p:sp>
            <p:nvSpPr>
              <p:cNvPr id="440" name=""/>
              <p:cNvSpPr/>
              <p:nvPr/>
            </p:nvSpPr>
            <p:spPr>
              <a:xfrm>
                <a:off x="1082520" y="3906720"/>
                <a:ext cx="45684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34440" y="4059360"/>
                <a:ext cx="15192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310760" y="4135320"/>
                <a:ext cx="13712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>
              <a:off x="987120" y="3581280"/>
              <a:ext cx="49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1968480" y="3124080"/>
            <a:ext cx="2755800" cy="609840"/>
          </a:xfrm>
          <a:custGeom>
            <a:avLst/>
            <a:gdLst/>
            <a:ahLst/>
            <a:rect l="l" t="t" r="r" b="b"/>
            <a:pathLst>
              <a:path w="1736" h="384">
                <a:moveTo>
                  <a:pt x="8" y="0"/>
                </a:moveTo>
                <a:cubicBezTo>
                  <a:pt x="4" y="72"/>
                  <a:pt x="0" y="144"/>
                  <a:pt x="8" y="192"/>
                </a:cubicBezTo>
                <a:cubicBezTo>
                  <a:pt x="16" y="240"/>
                  <a:pt x="24" y="272"/>
                  <a:pt x="56" y="288"/>
                </a:cubicBezTo>
                <a:cubicBezTo>
                  <a:pt x="88" y="304"/>
                  <a:pt x="104" y="304"/>
                  <a:pt x="200" y="288"/>
                </a:cubicBezTo>
                <a:cubicBezTo>
                  <a:pt x="296" y="272"/>
                  <a:pt x="520" y="208"/>
                  <a:pt x="632" y="192"/>
                </a:cubicBezTo>
                <a:cubicBezTo>
                  <a:pt x="744" y="176"/>
                  <a:pt x="728" y="176"/>
                  <a:pt x="872" y="192"/>
                </a:cubicBezTo>
                <a:cubicBezTo>
                  <a:pt x="1016" y="208"/>
                  <a:pt x="1352" y="256"/>
                  <a:pt x="1496" y="288"/>
                </a:cubicBezTo>
                <a:cubicBezTo>
                  <a:pt x="1640" y="320"/>
                  <a:pt x="1688" y="352"/>
                  <a:pt x="1736" y="384"/>
                </a:cubicBezTo>
              </a:path>
            </a:pathLst>
          </a:custGeom>
          <a:noFill/>
          <a:ln w="12600">
            <a:solidFill>
              <a:srgbClr val="f57b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6400" y="380988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91320" y="39625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24280" y="3809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09160" y="350532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98480" y="35053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455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777240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9608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84872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3022560"/>
            <a:ext cx="487692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4038480"/>
            <a:ext cx="83844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68480" y="3124080"/>
            <a:ext cx="2755800" cy="609840"/>
          </a:xfrm>
          <a:custGeom>
            <a:avLst/>
            <a:gdLst/>
            <a:ahLst/>
            <a:rect l="l" t="t" r="r" b="b"/>
            <a:pathLst>
              <a:path w="1736" h="384">
                <a:moveTo>
                  <a:pt x="8" y="0"/>
                </a:moveTo>
                <a:cubicBezTo>
                  <a:pt x="4" y="72"/>
                  <a:pt x="0" y="144"/>
                  <a:pt x="8" y="192"/>
                </a:cubicBezTo>
                <a:cubicBezTo>
                  <a:pt x="16" y="240"/>
                  <a:pt x="24" y="272"/>
                  <a:pt x="56" y="288"/>
                </a:cubicBezTo>
                <a:cubicBezTo>
                  <a:pt x="88" y="304"/>
                  <a:pt x="104" y="304"/>
                  <a:pt x="200" y="288"/>
                </a:cubicBezTo>
                <a:cubicBezTo>
                  <a:pt x="296" y="272"/>
                  <a:pt x="520" y="208"/>
                  <a:pt x="632" y="192"/>
                </a:cubicBezTo>
                <a:cubicBezTo>
                  <a:pt x="744" y="176"/>
                  <a:pt x="728" y="176"/>
                  <a:pt x="872" y="192"/>
                </a:cubicBezTo>
                <a:cubicBezTo>
                  <a:pt x="1016" y="208"/>
                  <a:pt x="1352" y="256"/>
                  <a:pt x="1496" y="288"/>
                </a:cubicBezTo>
                <a:cubicBezTo>
                  <a:pt x="1640" y="320"/>
                  <a:pt x="1688" y="352"/>
                  <a:pt x="1736" y="384"/>
                </a:cubicBezTo>
              </a:path>
            </a:pathLst>
          </a:custGeom>
          <a:noFill/>
          <a:ln w="12600">
            <a:solidFill>
              <a:srgbClr val="f57b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 Extensões do Conceito de Lista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idéia da Lista Encadeada como foi vista até agora é o modelo mais geral e si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e ser 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especializa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extendi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as mais variadas form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ecializa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Pilhas encade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Fi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i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Listas Duplamente Encadead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stas Circulares Simples e Dup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225480" y="1219320"/>
            <a:ext cx="2630880" cy="4495680"/>
            <a:chOff x="6225480" y="1219320"/>
            <a:chExt cx="2630880" cy="4495680"/>
          </a:xfrm>
        </p:grpSpPr>
        <p:sp>
          <p:nvSpPr>
            <p:cNvPr id="83" name=""/>
            <p:cNvSpPr/>
            <p:nvPr/>
          </p:nvSpPr>
          <p:spPr>
            <a:xfrm>
              <a:off x="6477120" y="2133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34320" y="2133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86600" y="2286000"/>
              <a:ext cx="15228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25480" y="1752480"/>
              <a:ext cx="74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ltu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0360" y="1752480"/>
              <a:ext cx="62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to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0120" y="320040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24680" y="3352680"/>
              <a:ext cx="152640" cy="1526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58000" y="320040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42880" y="289548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31840" y="289548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0120" y="411480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4680" y="4267080"/>
              <a:ext cx="152640" cy="1526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411480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açã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42880" y="380988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31840" y="380988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20120" y="4952880"/>
              <a:ext cx="60948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51055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42880" y="4648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31840" y="4648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1000" y="5181480"/>
              <a:ext cx="0" cy="53352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24680" y="563868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48720" y="556272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62920" y="2336760"/>
              <a:ext cx="1384200" cy="939960"/>
            </a:xfrm>
            <a:custGeom>
              <a:avLst/>
              <a:gdLst/>
              <a:ahLst/>
              <a:rect l="l" t="t" r="r" b="b"/>
              <a:pathLst>
                <a:path w="872" h="784">
                  <a:moveTo>
                    <a:pt x="0" y="16"/>
                  </a:moveTo>
                  <a:cubicBezTo>
                    <a:pt x="196" y="8"/>
                    <a:pt x="392" y="0"/>
                    <a:pt x="528" y="16"/>
                  </a:cubicBezTo>
                  <a:cubicBezTo>
                    <a:pt x="664" y="32"/>
                    <a:pt x="760" y="24"/>
                    <a:pt x="816" y="112"/>
                  </a:cubicBezTo>
                  <a:cubicBezTo>
                    <a:pt x="872" y="200"/>
                    <a:pt x="872" y="440"/>
                    <a:pt x="864" y="544"/>
                  </a:cubicBezTo>
                  <a:cubicBezTo>
                    <a:pt x="856" y="648"/>
                    <a:pt x="800" y="696"/>
                    <a:pt x="768" y="736"/>
                  </a:cubicBezTo>
                  <a:cubicBezTo>
                    <a:pt x="736" y="776"/>
                    <a:pt x="704" y="780"/>
                    <a:pt x="672" y="784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01000" y="341640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84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2"/>
                    <a:pt x="288" y="56"/>
                  </a:cubicBezTo>
                  <a:cubicBezTo>
                    <a:pt x="312" y="80"/>
                    <a:pt x="328" y="88"/>
                    <a:pt x="336" y="152"/>
                  </a:cubicBezTo>
                  <a:cubicBezTo>
                    <a:pt x="344" y="216"/>
                    <a:pt x="344" y="376"/>
                    <a:pt x="336" y="440"/>
                  </a:cubicBezTo>
                  <a:cubicBezTo>
                    <a:pt x="328" y="504"/>
                    <a:pt x="320" y="512"/>
                    <a:pt x="288" y="536"/>
                  </a:cubicBezTo>
                  <a:cubicBezTo>
                    <a:pt x="256" y="560"/>
                    <a:pt x="168" y="576"/>
                    <a:pt x="144" y="584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01000" y="4343400"/>
              <a:ext cx="546120" cy="838080"/>
            </a:xfrm>
            <a:custGeom>
              <a:avLst/>
              <a:gdLst/>
              <a:ahLst/>
              <a:rect l="l" t="t" r="r" b="b"/>
              <a:pathLst>
                <a:path w="344" h="584">
                  <a:moveTo>
                    <a:pt x="0" y="8"/>
                  </a:moveTo>
                  <a:cubicBezTo>
                    <a:pt x="72" y="4"/>
                    <a:pt x="144" y="0"/>
                    <a:pt x="192" y="8"/>
                  </a:cubicBezTo>
                  <a:cubicBezTo>
                    <a:pt x="240" y="16"/>
                    <a:pt x="264" y="32"/>
                    <a:pt x="288" y="56"/>
                  </a:cubicBezTo>
                  <a:cubicBezTo>
                    <a:pt x="312" y="80"/>
                    <a:pt x="328" y="88"/>
                    <a:pt x="336" y="152"/>
                  </a:cubicBezTo>
                  <a:cubicBezTo>
                    <a:pt x="344" y="216"/>
                    <a:pt x="344" y="376"/>
                    <a:pt x="336" y="440"/>
                  </a:cubicBezTo>
                  <a:cubicBezTo>
                    <a:pt x="328" y="504"/>
                    <a:pt x="320" y="512"/>
                    <a:pt x="288" y="536"/>
                  </a:cubicBezTo>
                  <a:cubicBezTo>
                    <a:pt x="256" y="560"/>
                    <a:pt x="168" y="576"/>
                    <a:pt x="144" y="584"/>
                  </a:cubicBezTo>
                </a:path>
              </a:pathLst>
            </a:custGeom>
            <a:noFill/>
            <a:ln w="1908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30240" y="1219320"/>
              <a:ext cx="252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Pilha Encadea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br>
              <a:rPr sz="2800"/>
            </a:b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Caso especial: Fila Unitária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690600" y="3505320"/>
            <a:ext cx="1569960" cy="761400"/>
            <a:chOff x="6690600" y="3505320"/>
            <a:chExt cx="1569960" cy="761400"/>
          </a:xfrm>
        </p:grpSpPr>
        <p:sp>
          <p:nvSpPr>
            <p:cNvPr id="475" name=""/>
            <p:cNvSpPr/>
            <p:nvPr/>
          </p:nvSpPr>
          <p:spPr>
            <a:xfrm>
              <a:off x="7467480" y="3809880"/>
              <a:ext cx="60984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772400" y="3962160"/>
              <a:ext cx="152280" cy="15192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705720" y="3809880"/>
              <a:ext cx="761760" cy="4568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690600" y="3505320"/>
              <a:ext cx="54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79560" y="3505320"/>
              <a:ext cx="98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próxi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7772400" y="457200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696080" y="449568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48720" y="411480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438280" y="3022560"/>
            <a:ext cx="4876920" cy="55872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68480" y="3124080"/>
            <a:ext cx="4660920" cy="609840"/>
          </a:xfrm>
          <a:custGeom>
            <a:avLst/>
            <a:gdLst/>
            <a:ahLst/>
            <a:rect l="l" t="t" r="r" b="b"/>
            <a:pathLst>
              <a:path w="1736" h="384">
                <a:moveTo>
                  <a:pt x="8" y="0"/>
                </a:moveTo>
                <a:cubicBezTo>
                  <a:pt x="4" y="72"/>
                  <a:pt x="0" y="144"/>
                  <a:pt x="8" y="192"/>
                </a:cubicBezTo>
                <a:cubicBezTo>
                  <a:pt x="16" y="240"/>
                  <a:pt x="24" y="272"/>
                  <a:pt x="56" y="288"/>
                </a:cubicBezTo>
                <a:cubicBezTo>
                  <a:pt x="88" y="304"/>
                  <a:pt x="104" y="304"/>
                  <a:pt x="200" y="288"/>
                </a:cubicBezTo>
                <a:cubicBezTo>
                  <a:pt x="296" y="272"/>
                  <a:pt x="520" y="208"/>
                  <a:pt x="632" y="192"/>
                </a:cubicBezTo>
                <a:cubicBezTo>
                  <a:pt x="744" y="176"/>
                  <a:pt x="728" y="176"/>
                  <a:pt x="872" y="192"/>
                </a:cubicBezTo>
                <a:cubicBezTo>
                  <a:pt x="1016" y="208"/>
                  <a:pt x="1352" y="256"/>
                  <a:pt x="1496" y="288"/>
                </a:cubicBezTo>
                <a:cubicBezTo>
                  <a:pt x="1640" y="320"/>
                  <a:pt x="1688" y="352"/>
                  <a:pt x="1736" y="384"/>
                </a:cubicBezTo>
              </a:path>
            </a:pathLst>
          </a:custGeom>
          <a:noFill/>
          <a:ln w="12600">
            <a:solidFill>
              <a:srgbClr val="f57b4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66520" y="4952880"/>
            <a:ext cx="44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ão preciso de uma variável auxiliar </a:t>
            </a: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sa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br>
              <a:rPr sz="2800"/>
            </a:br>
            <a:r>
              <a:rPr b="0" lang="en-US" sz="2400" spc="-1" strike="noStrike">
                <a:solidFill>
                  <a:srgbClr val="8cf4ea"/>
                </a:solidFill>
                <a:latin typeface="Tahoma"/>
              </a:rPr>
              <a:t>Caso especial: Fila Unitária</a:t>
            </a:r>
            <a:endParaRPr b="0" lang="en-US" sz="24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7524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51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33280" y="24382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47000" y="243828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209680" y="2819520"/>
            <a:ext cx="433440" cy="5173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362320" y="297180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62320" y="35812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0" y="35053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8280" y="31240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05120" y="35812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8800" y="35053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31240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 </a:t>
            </a: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(Fila)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* FUNÇÃO retiraDoIníci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Fila *aFila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 o 1. Elemento de uma fil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saiu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1. element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 *volta;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filaVazia(aFila)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aiu &lt;- aFila-&gt;iníci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volta &lt;- saiu-&gt;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Fila-&gt;início &lt;- saiu-&gt;proximo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Se SAIU for o único, próximo é nulo e está cert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SE (aFila-&gt;tamanho = 1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Fila unitária: devo anular o fim também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Fila-&gt;fim &lt;- NUL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Fila-&gt;tamanho &lt;- aFila-&gt;tamanho 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saiu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.1 Exercício com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e o TAD Fila com as suas duas operações de manipul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plemente um programa principal de aplicação que utilize uma fila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r dados de pedidos de solicitação de conserto de computadores da marca HAL pela sua assistencia técnica AssistH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tilize o seguinte TipoInfo: Nome do Solicitante, Telefone, Data da Entrega (inserida automaticamente), Modelo do Computador e Valor do Conserto, que é um valor chut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ós cadastrado um pedido, o sistema deverá informar quando o solicitante poderá contar com o computador pronto, sendo 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oficina AssistHAL leva em média duas semanas por ped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3 Listas Duplamente Encadead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520" y="99072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Lista Encadeada e a Fila possuem a desvantagem de somente podermos caminhar em uma direçã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mos que para olhar um elemento que “acabamos de passar” precisamos de uma variável auxiliar “anterior”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a olhar outros elementos ainda anteriores não temos nenhum meio, a não ser começar de nov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Lista Duplamente Encadead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é uma estrutura de lista que permite deslocamento em ambos os senti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Útil para representar conjuntos de eventos ou objetos a serem percorridos em dois sentid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.: </a:t>
            </a: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Itinerários de ônibus, trem ou avi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Útil também quando realizamos uma busca aproximada e nos movemos para e frente e trá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0" name="INDICIMA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608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3 Listas Duplamente Encadeadas: Modelagem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28800" y="2590920"/>
            <a:ext cx="228600" cy="60948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4382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382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14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6668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32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242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242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242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57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209680" y="396252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388620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429000" y="342900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9810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267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3 Modelagem: Cabeça de ListaDupl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cessitam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ponteiro para o primeiro elemento da 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inteiro para indicar quantos elementos a lista possu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eudo-códig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ListaDupla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Duplo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dado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teir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amanh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3 Modelagem: Elemento de Lista Dupl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cessitam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ponteiro para o elemento anterior na 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ponteiro para o elemento sucessor na 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m ponteiro para a informação que vamos armazen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eudo-códig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ElementoDuplo {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Dupl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anteri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Dupl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sucessor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Info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*inf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4 Modelagem da 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Funcion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locar e retirar dados da li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tar se a lista está vazia e outros tes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aliza-la e garantir a ordem dos ele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1594080" y="3429000"/>
            <a:ext cx="5949360" cy="2057040"/>
            <a:chOff x="1594080" y="3429000"/>
            <a:chExt cx="5949360" cy="2057040"/>
          </a:xfrm>
        </p:grpSpPr>
        <p:sp>
          <p:nvSpPr>
            <p:cNvPr id="571" name=""/>
            <p:cNvSpPr/>
            <p:nvPr/>
          </p:nvSpPr>
          <p:spPr>
            <a:xfrm>
              <a:off x="1661400" y="36151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28960" y="36151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51360" y="370872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4400" y="43167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15960" y="4363560"/>
              <a:ext cx="104148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12920" y="3661920"/>
              <a:ext cx="183600" cy="46764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298640" y="4644360"/>
              <a:ext cx="12240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37440" y="4597560"/>
              <a:ext cx="24480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59840" y="4363560"/>
              <a:ext cx="0" cy="32724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94080" y="3429000"/>
              <a:ext cx="45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tam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75760" y="3429000"/>
              <a:ext cx="54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dad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02880" y="464436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02880" y="49248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02880" y="52056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76444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86840" y="42699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48040" y="4316760"/>
              <a:ext cx="0" cy="28044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541040" y="464436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maçã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541040" y="49248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aze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541040" y="52056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car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63160" y="464436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uv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63160" y="49248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irkh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63160" y="5205600"/>
              <a:ext cx="61272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afd00"/>
                  </a:solidFill>
                  <a:latin typeface="Tahoma"/>
                </a:rPr>
                <a:t>bar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9652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19280" y="42699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519280" y="4597560"/>
              <a:ext cx="12240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58080" y="4550760"/>
              <a:ext cx="24480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80480" y="4316760"/>
              <a:ext cx="0" cy="32724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09256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215320" y="43167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76520" y="4363560"/>
              <a:ext cx="116424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2500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847760" y="42699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5744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80200" y="4223160"/>
              <a:ext cx="122400" cy="936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7588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98640" y="43167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0832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30720" y="4269960"/>
              <a:ext cx="122400" cy="9324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40760" y="4176720"/>
              <a:ext cx="367560" cy="28044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563160" y="4223160"/>
              <a:ext cx="122400" cy="9360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5460120" y="4269960"/>
              <a:ext cx="116424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3499200" y="4269960"/>
              <a:ext cx="1041480" cy="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908960" y="4316760"/>
              <a:ext cx="0" cy="28044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992280" y="4316760"/>
              <a:ext cx="0" cy="28044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35320" y="3943440"/>
              <a:ext cx="42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96400" y="399132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96240" y="3943440"/>
              <a:ext cx="42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57320" y="399132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79560" y="3943440"/>
              <a:ext cx="428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40640" y="3991320"/>
              <a:ext cx="711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Colocar e retirar dados da list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NoIníci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NaPosiçã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, posiçã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EmOrdem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oIníci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aPosiçã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posiçã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Específic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marL="665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1  Pilhas Encadead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990360"/>
            <a:ext cx="57150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ão pilhas onde os elementos são encadeados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ão há estouro de pilh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o o acesso de dados na pilha é puramente seqüencial, não há perda de eficiênc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omente duas operações existem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afd00"/>
                </a:solidFill>
                <a:latin typeface="Tahoma"/>
              </a:rPr>
              <a:t>Empilhar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 equivale a </a:t>
            </a:r>
            <a:r>
              <a:rPr b="0" lang="pt-BR" sz="2000" spc="-1" strike="noStrike">
                <a:solidFill>
                  <a:srgbClr val="f57b49"/>
                </a:solidFill>
                <a:latin typeface="Tahoma"/>
              </a:rPr>
              <a:t>adicionar no 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afd00"/>
                </a:solidFill>
                <a:latin typeface="Tahoma"/>
              </a:rPr>
              <a:t>Desempilhar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 equivale a </a:t>
            </a:r>
            <a:r>
              <a:rPr b="0" lang="pt-BR" sz="2000" spc="-1" strike="noStrike">
                <a:solidFill>
                  <a:srgbClr val="f57b49"/>
                </a:solidFill>
                <a:latin typeface="Tahoma"/>
              </a:rPr>
              <a:t>retirar do iníci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É a forma como tradicionalmente pilhas são implementadas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INDICIMA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60804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184880" y="2013120"/>
            <a:ext cx="347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32640" y="2013120"/>
            <a:ext cx="349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50000" y="2165400"/>
            <a:ext cx="11592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89760" y="165888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a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57400" y="165888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to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56440" y="3079800"/>
            <a:ext cx="465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88280" y="3232080"/>
            <a:ext cx="11592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75400" y="3079800"/>
            <a:ext cx="5810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1720" y="280188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06320" y="28018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56440" y="3994200"/>
            <a:ext cx="465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88280" y="4146480"/>
            <a:ext cx="11592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475400" y="3994200"/>
            <a:ext cx="5810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61720" y="371628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06320" y="371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56440" y="4832280"/>
            <a:ext cx="465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88280" y="4984920"/>
            <a:ext cx="11592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75400" y="4832280"/>
            <a:ext cx="5810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61720" y="455436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06320" y="45543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46960" y="50608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88280" y="5518080"/>
            <a:ext cx="115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31040" y="5442120"/>
            <a:ext cx="2318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07240" y="2216160"/>
            <a:ext cx="1055880" cy="939960"/>
          </a:xfrm>
          <a:custGeom>
            <a:avLst/>
            <a:gdLst/>
            <a:ahLst/>
            <a:rect l="l" t="t" r="r" b="b"/>
            <a:pathLst>
              <a:path w="872" h="784">
                <a:moveTo>
                  <a:pt x="0" y="16"/>
                </a:moveTo>
                <a:cubicBezTo>
                  <a:pt x="196" y="8"/>
                  <a:pt x="392" y="0"/>
                  <a:pt x="528" y="16"/>
                </a:cubicBezTo>
                <a:cubicBezTo>
                  <a:pt x="664" y="32"/>
                  <a:pt x="760" y="24"/>
                  <a:pt x="816" y="112"/>
                </a:cubicBezTo>
                <a:cubicBezTo>
                  <a:pt x="872" y="200"/>
                  <a:pt x="872" y="440"/>
                  <a:pt x="864" y="544"/>
                </a:cubicBezTo>
                <a:cubicBezTo>
                  <a:pt x="856" y="648"/>
                  <a:pt x="800" y="696"/>
                  <a:pt x="768" y="736"/>
                </a:cubicBezTo>
                <a:cubicBezTo>
                  <a:pt x="736" y="776"/>
                  <a:pt x="704" y="780"/>
                  <a:pt x="672" y="784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46960" y="3295800"/>
            <a:ext cx="416160" cy="850680"/>
          </a:xfrm>
          <a:custGeom>
            <a:avLst/>
            <a:gdLst/>
            <a:ahLst/>
            <a:rect l="l" t="t" r="r" b="b"/>
            <a:pathLst>
              <a:path w="344" h="584">
                <a:moveTo>
                  <a:pt x="0" y="8"/>
                </a:moveTo>
                <a:cubicBezTo>
                  <a:pt x="72" y="4"/>
                  <a:pt x="144" y="0"/>
                  <a:pt x="192" y="8"/>
                </a:cubicBezTo>
                <a:cubicBezTo>
                  <a:pt x="240" y="16"/>
                  <a:pt x="264" y="32"/>
                  <a:pt x="288" y="56"/>
                </a:cubicBezTo>
                <a:cubicBezTo>
                  <a:pt x="312" y="80"/>
                  <a:pt x="328" y="88"/>
                  <a:pt x="336" y="152"/>
                </a:cubicBezTo>
                <a:cubicBezTo>
                  <a:pt x="344" y="216"/>
                  <a:pt x="344" y="376"/>
                  <a:pt x="336" y="440"/>
                </a:cubicBezTo>
                <a:cubicBezTo>
                  <a:pt x="328" y="504"/>
                  <a:pt x="320" y="512"/>
                  <a:pt x="288" y="536"/>
                </a:cubicBezTo>
                <a:cubicBezTo>
                  <a:pt x="256" y="560"/>
                  <a:pt x="168" y="576"/>
                  <a:pt x="144" y="584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46960" y="4222800"/>
            <a:ext cx="416160" cy="838080"/>
          </a:xfrm>
          <a:custGeom>
            <a:avLst/>
            <a:gdLst/>
            <a:ahLst/>
            <a:rect l="l" t="t" r="r" b="b"/>
            <a:pathLst>
              <a:path w="344" h="584">
                <a:moveTo>
                  <a:pt x="0" y="8"/>
                </a:moveTo>
                <a:cubicBezTo>
                  <a:pt x="72" y="4"/>
                  <a:pt x="144" y="0"/>
                  <a:pt x="192" y="8"/>
                </a:cubicBezTo>
                <a:cubicBezTo>
                  <a:pt x="240" y="16"/>
                  <a:pt x="264" y="32"/>
                  <a:pt x="288" y="56"/>
                </a:cubicBezTo>
                <a:cubicBezTo>
                  <a:pt x="312" y="80"/>
                  <a:pt x="328" y="88"/>
                  <a:pt x="336" y="152"/>
                </a:cubicBezTo>
                <a:cubicBezTo>
                  <a:pt x="344" y="216"/>
                  <a:pt x="344" y="376"/>
                  <a:pt x="336" y="440"/>
                </a:cubicBezTo>
                <a:cubicBezTo>
                  <a:pt x="328" y="504"/>
                  <a:pt x="320" y="512"/>
                  <a:pt x="288" y="536"/>
                </a:cubicBezTo>
                <a:cubicBezTo>
                  <a:pt x="256" y="560"/>
                  <a:pt x="168" y="576"/>
                  <a:pt x="144" y="584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57800" y="114300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c0128"/>
                </a:solidFill>
                <a:latin typeface="QuillScript"/>
              </a:rPr>
              <a:t>Pilha Encade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Modelagem da 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Testar a lista e outros tes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ListaVazia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Posica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, 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Contem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, dad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Inicializar ou limp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CriaListaDupla(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DestroiListaDupla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CriaListaDupl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ListaDupl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 FUNÇÃO criaListaDupla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Retorna ponteiro para uma nova cabeça de lista ou NULO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ListaDupl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*aList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 &lt;- aloque(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ListaDupl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Lista ~= NULO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9ccdfc"/>
                </a:solidFill>
                <a:latin typeface="Courier New"/>
              </a:rPr>
              <a:t>So posso inicializar se consegui alocar</a:t>
            </a:r>
            <a:r>
              <a:rPr b="1" lang="en-US" sz="2000" spc="-1" strike="noStrike">
                <a:solidFill>
                  <a:srgbClr val="9ccdfc"/>
                </a:solidFill>
                <a:latin typeface="Courier New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-&gt;tamanho &lt;- 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ista-&gt;dados &lt;- nulo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aLista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ListaVazia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Booleano FUNÇÃO listaVaziaDuplo(</a:t>
            </a:r>
            <a:r>
              <a:rPr b="1" lang="en-US" sz="2000" spc="-1" strike="noStrike">
                <a:solidFill>
                  <a:srgbClr val="f57b49"/>
                </a:solidFill>
                <a:latin typeface="Courier New"/>
              </a:rPr>
              <a:t>ListaDupla *aLista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 (aLista-&gt;tamanho = 0) ENT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Verda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TORNE(Falso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é possível alocar um ele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azemos o sucessor deste novo elemento ser o primeiro da lis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azemos o seu antecessor ser N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azemos a cabeça de lista apontar para o nov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tipo info (dado) a ser inse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Dup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7680" y="2971800"/>
            <a:ext cx="1554840" cy="782640"/>
            <a:chOff x="517680" y="2971800"/>
            <a:chExt cx="1554840" cy="782640"/>
          </a:xfrm>
        </p:grpSpPr>
        <p:grpSp>
          <p:nvGrpSpPr>
            <p:cNvPr id="635" name=""/>
            <p:cNvGrpSpPr/>
            <p:nvPr/>
          </p:nvGrpSpPr>
          <p:grpSpPr>
            <a:xfrm>
              <a:off x="617040" y="3297240"/>
              <a:ext cx="1455480" cy="457200"/>
              <a:chOff x="617040" y="3297240"/>
              <a:chExt cx="1455480" cy="457200"/>
            </a:xfrm>
          </p:grpSpPr>
          <p:sp>
            <p:nvSpPr>
              <p:cNvPr id="636" name=""/>
              <p:cNvSpPr/>
              <p:nvPr/>
            </p:nvSpPr>
            <p:spPr>
              <a:xfrm>
                <a:off x="617040" y="3297240"/>
                <a:ext cx="41580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55280" y="3449880"/>
                <a:ext cx="1382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24760" y="3525840"/>
                <a:ext cx="12477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680" y="297180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no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828800" y="2590920"/>
            <a:ext cx="2666880" cy="76176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672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483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724280" y="3429000"/>
            <a:ext cx="0" cy="68580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17680" y="2971800"/>
            <a:ext cx="1554840" cy="782640"/>
            <a:chOff x="517680" y="2971800"/>
            <a:chExt cx="1554840" cy="782640"/>
          </a:xfrm>
        </p:grpSpPr>
        <p:grpSp>
          <p:nvGrpSpPr>
            <p:cNvPr id="697" name=""/>
            <p:cNvGrpSpPr/>
            <p:nvPr/>
          </p:nvGrpSpPr>
          <p:grpSpPr>
            <a:xfrm>
              <a:off x="617040" y="3297240"/>
              <a:ext cx="1455480" cy="457200"/>
              <a:chOff x="617040" y="3297240"/>
              <a:chExt cx="1455480" cy="457200"/>
            </a:xfrm>
          </p:grpSpPr>
          <p:sp>
            <p:nvSpPr>
              <p:cNvPr id="698" name=""/>
              <p:cNvSpPr/>
              <p:nvPr/>
            </p:nvSpPr>
            <p:spPr>
              <a:xfrm>
                <a:off x="617040" y="3297240"/>
                <a:ext cx="41580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5280" y="3449880"/>
                <a:ext cx="1382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24760" y="3525840"/>
                <a:ext cx="12477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517680" y="297180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no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28800" y="2590920"/>
            <a:ext cx="22860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734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6483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3429000"/>
            <a:ext cx="0" cy="68580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3428640" y="342900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44240" y="1371600"/>
            <a:ext cx="39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Cas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novo-&gt;suc</a:t>
            </a: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 não seja nulo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6480" y="1981080"/>
            <a:ext cx="39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aç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novo-&gt;suc-&gt;ant</a:t>
            </a: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 ser novo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17680" y="2971800"/>
            <a:ext cx="1554840" cy="782640"/>
            <a:chOff x="517680" y="2971800"/>
            <a:chExt cx="1554840" cy="782640"/>
          </a:xfrm>
        </p:grpSpPr>
        <p:grpSp>
          <p:nvGrpSpPr>
            <p:cNvPr id="762" name=""/>
            <p:cNvGrpSpPr/>
            <p:nvPr/>
          </p:nvGrpSpPr>
          <p:grpSpPr>
            <a:xfrm>
              <a:off x="617040" y="3297240"/>
              <a:ext cx="1455480" cy="457200"/>
              <a:chOff x="617040" y="3297240"/>
              <a:chExt cx="1455480" cy="457200"/>
            </a:xfrm>
          </p:grpSpPr>
          <p:sp>
            <p:nvSpPr>
              <p:cNvPr id="763" name=""/>
              <p:cNvSpPr/>
              <p:nvPr/>
            </p:nvSpPr>
            <p:spPr>
              <a:xfrm>
                <a:off x="617040" y="3297240"/>
                <a:ext cx="41580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55280" y="3449880"/>
                <a:ext cx="13824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4760" y="3525840"/>
                <a:ext cx="12477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517680" y="297180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no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828800" y="2590920"/>
            <a:ext cx="22860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799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3428640" y="342900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iro FUNÇÃO adicionaNoInícioDuplo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ListaDupla *aLista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TipoInfo *dado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lementoDuplo *novo; 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“Var. auxiliar para o novo elemento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 &lt;- aloque(ElementoDuplo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(novo = NULO)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RETORNE( ErroListaCheia 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suc &lt;- aLista-&gt;dados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ant &lt;- NUL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Courier New"/>
              </a:rPr>
              <a:t>novo-&gt;info &lt;- dad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dados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SE (novo-&gt;suc ~= NULO) ENT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novo-&gt;suc-&gt;ant &lt;- novo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FIM SE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57b49"/>
                </a:solidFill>
                <a:latin typeface="Courier New"/>
              </a:rPr>
              <a:t>aLista-&gt;tamanho &lt;- aLista-&gt;tamanho + 1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ORNE(1)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stamos se há ele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crementamos o tamanh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e o elemento possuir sucessor, o antecessor do sucessor será N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beramos a memória do elemen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volvemos a Inform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Dup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55200" y="3027240"/>
            <a:ext cx="1401480" cy="782640"/>
            <a:chOff x="655200" y="3027240"/>
            <a:chExt cx="1401480" cy="782640"/>
          </a:xfrm>
        </p:grpSpPr>
        <p:grpSp>
          <p:nvGrpSpPr>
            <p:cNvPr id="826" name=""/>
            <p:cNvGrpSpPr/>
            <p:nvPr/>
          </p:nvGrpSpPr>
          <p:grpSpPr>
            <a:xfrm>
              <a:off x="745200" y="3352680"/>
              <a:ext cx="1311480" cy="457200"/>
              <a:chOff x="745200" y="3352680"/>
              <a:chExt cx="1311480" cy="457200"/>
            </a:xfrm>
          </p:grpSpPr>
          <p:sp>
            <p:nvSpPr>
              <p:cNvPr id="827" name=""/>
              <p:cNvSpPr/>
              <p:nvPr/>
            </p:nvSpPr>
            <p:spPr>
              <a:xfrm>
                <a:off x="745200" y="3352680"/>
                <a:ext cx="37476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69760" y="3505320"/>
                <a:ext cx="12456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932400" y="3581280"/>
                <a:ext cx="112428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655200" y="302724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1052640" y="4114800"/>
            <a:ext cx="1385640" cy="782640"/>
            <a:chOff x="1052640" y="4114800"/>
            <a:chExt cx="1385640" cy="782640"/>
          </a:xfrm>
        </p:grpSpPr>
        <p:sp>
          <p:nvSpPr>
            <p:cNvPr id="832" name=""/>
            <p:cNvSpPr/>
            <p:nvPr/>
          </p:nvSpPr>
          <p:spPr>
            <a:xfrm>
              <a:off x="1158840" y="44402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11120" y="45925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1463400" y="4495320"/>
              <a:ext cx="974880" cy="173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052640" y="411480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vo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828800" y="2590920"/>
            <a:ext cx="22860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868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3428640" y="342900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38188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Fila é uma estrutura de dados que simula uma fila da vida re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sui duas operações básic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Inclui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no fim da fi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Retira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o começo da fi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amada de Estrutura-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FIF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br>
              <a:rPr sz="2000"/>
            </a:br>
            <a:r>
              <a:rPr b="0" i="1" lang="en-US" sz="2000" spc="-1" strike="noStrike">
                <a:solidFill>
                  <a:srgbClr val="f57b49"/>
                </a:solidFill>
                <a:latin typeface="Tahoma"/>
              </a:rPr>
              <a:t>First-In, First-Out - O primeiro que entrou é o primeiro a sair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27432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5562720"/>
            <a:ext cx="4724280" cy="0"/>
          </a:xfrm>
          <a:prstGeom prst="line">
            <a:avLst/>
          </a:prstGeom>
          <a:ln cap="rnd" w="38160">
            <a:solidFill>
              <a:srgbClr val="f76681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73440" y="403848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QuillScript"/>
              </a:rPr>
              <a:t>F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655200" y="3027240"/>
            <a:ext cx="1401480" cy="782640"/>
            <a:chOff x="655200" y="3027240"/>
            <a:chExt cx="1401480" cy="782640"/>
          </a:xfrm>
        </p:grpSpPr>
        <p:grpSp>
          <p:nvGrpSpPr>
            <p:cNvPr id="891" name=""/>
            <p:cNvGrpSpPr/>
            <p:nvPr/>
          </p:nvGrpSpPr>
          <p:grpSpPr>
            <a:xfrm>
              <a:off x="745200" y="3352680"/>
              <a:ext cx="1311480" cy="457200"/>
              <a:chOff x="745200" y="3352680"/>
              <a:chExt cx="1311480" cy="457200"/>
            </a:xfrm>
          </p:grpSpPr>
          <p:sp>
            <p:nvSpPr>
              <p:cNvPr id="892" name=""/>
              <p:cNvSpPr/>
              <p:nvPr/>
            </p:nvSpPr>
            <p:spPr>
              <a:xfrm>
                <a:off x="745200" y="3352680"/>
                <a:ext cx="37476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69760" y="3505320"/>
                <a:ext cx="12456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32400" y="3581280"/>
                <a:ext cx="112428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5" name=""/>
            <p:cNvSpPr/>
            <p:nvPr/>
          </p:nvSpPr>
          <p:spPr>
            <a:xfrm>
              <a:off x="655200" y="302724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1052640" y="4114800"/>
            <a:ext cx="1385640" cy="782640"/>
            <a:chOff x="1052640" y="4114800"/>
            <a:chExt cx="1385640" cy="782640"/>
          </a:xfrm>
        </p:grpSpPr>
        <p:sp>
          <p:nvSpPr>
            <p:cNvPr id="897" name=""/>
            <p:cNvSpPr/>
            <p:nvPr/>
          </p:nvSpPr>
          <p:spPr>
            <a:xfrm>
              <a:off x="1158840" y="44402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311120" y="45925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1463400" y="4495320"/>
              <a:ext cx="974880" cy="173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052640" y="411480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vo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828800" y="2590920"/>
            <a:ext cx="259092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933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3428640" y="3429000"/>
            <a:ext cx="1219320" cy="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55200" y="3027240"/>
            <a:ext cx="1401480" cy="782640"/>
            <a:chOff x="655200" y="3027240"/>
            <a:chExt cx="1401480" cy="782640"/>
          </a:xfrm>
        </p:grpSpPr>
        <p:grpSp>
          <p:nvGrpSpPr>
            <p:cNvPr id="956" name=""/>
            <p:cNvGrpSpPr/>
            <p:nvPr/>
          </p:nvGrpSpPr>
          <p:grpSpPr>
            <a:xfrm>
              <a:off x="745200" y="3352680"/>
              <a:ext cx="1311480" cy="457200"/>
              <a:chOff x="745200" y="3352680"/>
              <a:chExt cx="1311480" cy="457200"/>
            </a:xfrm>
          </p:grpSpPr>
          <p:sp>
            <p:nvSpPr>
              <p:cNvPr id="957" name=""/>
              <p:cNvSpPr/>
              <p:nvPr/>
            </p:nvSpPr>
            <p:spPr>
              <a:xfrm>
                <a:off x="745200" y="3352680"/>
                <a:ext cx="374760" cy="457200"/>
              </a:xfrm>
              <a:prstGeom prst="rect">
                <a:avLst/>
              </a:prstGeom>
              <a:solidFill>
                <a:srgbClr val="8cf4ea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69760" y="3505320"/>
                <a:ext cx="124560" cy="152280"/>
              </a:xfrm>
              <a:prstGeom prst="ellipse">
                <a:avLst/>
              </a:prstGeom>
              <a:solidFill>
                <a:srgbClr val="fc0128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932400" y="3581280"/>
                <a:ext cx="112428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>
              <a:off x="655200" y="3027240"/>
              <a:ext cx="56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sai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1052640" y="4114800"/>
            <a:ext cx="1385640" cy="782640"/>
            <a:chOff x="1052640" y="4114800"/>
            <a:chExt cx="1385640" cy="782640"/>
          </a:xfrm>
        </p:grpSpPr>
        <p:sp>
          <p:nvSpPr>
            <p:cNvPr id="962" name=""/>
            <p:cNvSpPr/>
            <p:nvPr/>
          </p:nvSpPr>
          <p:spPr>
            <a:xfrm>
              <a:off x="1158840" y="44402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311120" y="4592520"/>
              <a:ext cx="15228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1463400" y="4495320"/>
              <a:ext cx="974880" cy="173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052640" y="4114800"/>
              <a:ext cx="64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vo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828800" y="2590920"/>
            <a:ext cx="259092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1981080" y="2895480"/>
            <a:ext cx="1475280" cy="2514600"/>
            <a:chOff x="1981080" y="2895480"/>
            <a:chExt cx="1475280" cy="2514600"/>
          </a:xfrm>
        </p:grpSpPr>
        <p:sp>
          <p:nvSpPr>
            <p:cNvPr id="998" name=""/>
            <p:cNvSpPr/>
            <p:nvPr/>
          </p:nvSpPr>
          <p:spPr>
            <a:xfrm>
              <a:off x="29718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24080" y="350532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8280" y="40384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melã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38280" y="44956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do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38280" y="4952880"/>
              <a:ext cx="76212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Tahoma"/>
                </a:rPr>
                <a:t>car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46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6668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743200" y="3505320"/>
              <a:ext cx="0" cy="457200"/>
            </a:xfrm>
            <a:prstGeom prst="line">
              <a:avLst/>
            </a:prstGeom>
            <a:ln w="12600">
              <a:solidFill>
                <a:srgbClr val="f57b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057400" y="3276720"/>
              <a:ext cx="457200" cy="457200"/>
            </a:xfrm>
            <a:prstGeom prst="rect">
              <a:avLst/>
            </a:prstGeom>
            <a:solidFill>
              <a:srgbClr val="00b7a5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209680" y="3429000"/>
              <a:ext cx="152640" cy="152280"/>
            </a:xfrm>
            <a:prstGeom prst="ellipse">
              <a:avLst/>
            </a:prstGeom>
            <a:solidFill>
              <a:srgbClr val="f57b49"/>
            </a:solidFill>
            <a:ln w="1260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209680" y="3962520"/>
              <a:ext cx="15264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33720" y="3886200"/>
              <a:ext cx="304560" cy="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286000" y="3505320"/>
              <a:ext cx="0" cy="533160"/>
            </a:xfrm>
            <a:prstGeom prst="line">
              <a:avLst/>
            </a:prstGeom>
            <a:ln w="19080">
              <a:solidFill>
                <a:srgbClr val="f57b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981080" y="2895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26760" y="2895480"/>
              <a:ext cx="102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Tahoma"/>
                </a:rPr>
                <a:t>info   su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200400" y="3581280"/>
            <a:ext cx="12952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4832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7200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2428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22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828800" y="2590920"/>
            <a:ext cx="259092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153280" y="4038480"/>
            <a:ext cx="15264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3962520"/>
            <a:ext cx="30456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22960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56960" y="198108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653120" y="198108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d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0292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292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0292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4100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5627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638680" y="358128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952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495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6483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0010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1532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5438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6960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086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2388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5867280" y="3429000"/>
            <a:ext cx="14479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8148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7772400" y="3505320"/>
            <a:ext cx="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419720" y="28954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6540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0102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455960" y="289548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   su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48320" y="39625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572000" y="38862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724280" y="35053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oIníci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* FUNÇÃO retiraDoIníci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Dupla *aLista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 o 1. Elemento de uma lista duplamente encadead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Duplo *saiu;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1. element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  *volta;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listaVaziaDuplo(aLista)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saiu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volta &lt;- saiu-&gt;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dados &lt;- saiu-&gt;suc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SE (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aLista-&gt;dados ~= NULO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dados-&gt;ant &lt;- NUL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tamanho &lt;- aLista-&gt;tamanho 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saiu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aticamente idêntico à lista encade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estamos se a posição existe e se é possível alocar elemen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minhamos até a posi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dicionamos o novo dado na posiçã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crementamos o taman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dado a ser inseri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posição onde inseri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N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6840" y="8380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eiro FUNÇÃO adicionaNaPosiçãoDuplo(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ListaDupla *aLista, TipoInfo *info,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inteiro posição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Adiciona novo elemento na posição dad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Retorna a novo numero de elementos da lista ou erro.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lementoDuplo *novo, *anterior;  </a:t>
            </a:r>
            <a:r>
              <a:rPr b="1" lang="en-US" sz="1200" spc="-1" strike="noStrike">
                <a:solidFill>
                  <a:srgbClr val="9ccdfc"/>
                </a:solidFill>
                <a:latin typeface="Courier New"/>
              </a:rPr>
              <a:t>“Ponteiros auxiliares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E (posição &gt; aLista-&gt;tamanho + 1) ENT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TORNE( ErroPosição 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E (posição = 1) ENT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TORNE(adicionaNoInícioDuplo(aLista, info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novo &lt;- aloque(Elemento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 (novo = NULO)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RETORNE( ErroListaCheia 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SENÃ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anterior &lt;- anterior-&gt;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suc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novo-&gt;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suc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&lt;- anterior-&gt;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suc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SE (novo-&gt;suc ~= NULO ENTÃO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SE o novo não é o último da lista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novo-&gt;suc-&gt;ant &lt;- novo;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Seto o antecessor do sucessor do nov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FIM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novo-&gt;info &lt;- info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anterior-&gt;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suc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&lt;- novo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57b49"/>
                </a:solidFill>
                <a:latin typeface="Courier New"/>
              </a:rPr>
              <a:t>novo-&gt;ant &lt;- anterior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aLista-&gt;tamanho &lt;- aLista-&gt;tamanho + 1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RETORNE(aLista-&gt;tamanho)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afd00"/>
                </a:solidFill>
                <a:latin typeface="Courier New"/>
              </a:rPr>
              <a:t>FIM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ais simples que a Lista Encade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estamos se a posição exis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minhamos até a posiçã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Retiramos o dado da posiçã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crementamos o tamanh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posição de onde retira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is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069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0574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574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0574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828800" y="2590920"/>
            <a:ext cx="15228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5374800" y="2286000"/>
            <a:ext cx="1254600" cy="990720"/>
            <a:chOff x="5374800" y="2286000"/>
            <a:chExt cx="1254600" cy="990720"/>
          </a:xfrm>
        </p:grpSpPr>
        <p:sp>
          <p:nvSpPr>
            <p:cNvPr id="1086" name=""/>
            <p:cNvSpPr/>
            <p:nvPr/>
          </p:nvSpPr>
          <p:spPr>
            <a:xfrm>
              <a:off x="5654520" y="26114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806800" y="27637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43600" y="28195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374800" y="2286000"/>
              <a:ext cx="96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elimin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0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8195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97180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800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9528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8862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0384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81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8672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199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381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5345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467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6201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85345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84582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61048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105520" y="358128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048120" y="35812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3276720" y="342900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5257440" y="3429000"/>
            <a:ext cx="7621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238880" y="3429000"/>
            <a:ext cx="4572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129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0574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0574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0574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828800" y="2590920"/>
            <a:ext cx="15228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5374800" y="2286000"/>
            <a:ext cx="1254600" cy="990720"/>
            <a:chOff x="5374800" y="2286000"/>
            <a:chExt cx="1254600" cy="990720"/>
          </a:xfrm>
        </p:grpSpPr>
        <p:sp>
          <p:nvSpPr>
            <p:cNvPr id="1147" name=""/>
            <p:cNvSpPr/>
            <p:nvPr/>
          </p:nvSpPr>
          <p:spPr>
            <a:xfrm>
              <a:off x="5654520" y="26114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806800" y="27637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43600" y="28195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374800" y="2286000"/>
              <a:ext cx="96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elimin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28195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800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9528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8862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0384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781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8672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199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381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5345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467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6201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5345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4582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861048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048120" y="35812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276720" y="342900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5257440" y="3429000"/>
            <a:ext cx="7621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238880" y="3429000"/>
            <a:ext cx="4572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029200" y="1968480"/>
            <a:ext cx="2514600" cy="1612800"/>
          </a:xfrm>
          <a:custGeom>
            <a:avLst/>
            <a:gdLst/>
            <a:ahLst/>
            <a:rect l="l" t="t" r="r" b="b"/>
            <a:pathLst>
              <a:path w="1680" h="1016">
                <a:moveTo>
                  <a:pt x="0" y="1016"/>
                </a:moveTo>
                <a:cubicBezTo>
                  <a:pt x="8" y="868"/>
                  <a:pt x="16" y="720"/>
                  <a:pt x="48" y="584"/>
                </a:cubicBezTo>
                <a:cubicBezTo>
                  <a:pt x="80" y="448"/>
                  <a:pt x="88" y="296"/>
                  <a:pt x="192" y="200"/>
                </a:cubicBezTo>
                <a:cubicBezTo>
                  <a:pt x="296" y="104"/>
                  <a:pt x="504" y="16"/>
                  <a:pt x="672" y="8"/>
                </a:cubicBezTo>
                <a:cubicBezTo>
                  <a:pt x="840" y="0"/>
                  <a:pt x="1048" y="56"/>
                  <a:pt x="1200" y="152"/>
                </a:cubicBezTo>
                <a:cubicBezTo>
                  <a:pt x="1352" y="248"/>
                  <a:pt x="1504" y="480"/>
                  <a:pt x="1584" y="584"/>
                </a:cubicBezTo>
                <a:cubicBezTo>
                  <a:pt x="1664" y="688"/>
                  <a:pt x="1672" y="732"/>
                  <a:pt x="1680" y="776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189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0199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0199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199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0574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0574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0574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828800" y="2590920"/>
            <a:ext cx="15228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5374800" y="2286000"/>
            <a:ext cx="1254600" cy="990720"/>
            <a:chOff x="5374800" y="2286000"/>
            <a:chExt cx="1254600" cy="990720"/>
          </a:xfrm>
        </p:grpSpPr>
        <p:sp>
          <p:nvSpPr>
            <p:cNvPr id="1207" name=""/>
            <p:cNvSpPr/>
            <p:nvPr/>
          </p:nvSpPr>
          <p:spPr>
            <a:xfrm>
              <a:off x="5654520" y="2611440"/>
              <a:ext cx="457200" cy="4572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806800" y="2763720"/>
              <a:ext cx="152640" cy="1526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943600" y="2819520"/>
              <a:ext cx="685800" cy="4572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74800" y="2286000"/>
              <a:ext cx="96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57b49"/>
                  </a:solidFill>
                  <a:latin typeface="Tahoma"/>
                </a:rPr>
                <a:t>elimin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28195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297180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800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9528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8862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0384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781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8672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0199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8381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85345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467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6201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85345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84582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61048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48120" y="35812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3276720" y="342900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H="1">
            <a:off x="5257440" y="3429000"/>
            <a:ext cx="7621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029200" y="1968480"/>
            <a:ext cx="2514600" cy="1612800"/>
          </a:xfrm>
          <a:custGeom>
            <a:avLst/>
            <a:gdLst/>
            <a:ahLst/>
            <a:rect l="l" t="t" r="r" b="b"/>
            <a:pathLst>
              <a:path w="1680" h="1016">
                <a:moveTo>
                  <a:pt x="0" y="1016"/>
                </a:moveTo>
                <a:cubicBezTo>
                  <a:pt x="8" y="868"/>
                  <a:pt x="16" y="720"/>
                  <a:pt x="48" y="584"/>
                </a:cubicBezTo>
                <a:cubicBezTo>
                  <a:pt x="80" y="448"/>
                  <a:pt x="88" y="296"/>
                  <a:pt x="192" y="200"/>
                </a:cubicBezTo>
                <a:cubicBezTo>
                  <a:pt x="296" y="104"/>
                  <a:pt x="504" y="16"/>
                  <a:pt x="672" y="8"/>
                </a:cubicBezTo>
                <a:cubicBezTo>
                  <a:pt x="840" y="0"/>
                  <a:pt x="1048" y="56"/>
                  <a:pt x="1200" y="152"/>
                </a:cubicBezTo>
                <a:cubicBezTo>
                  <a:pt x="1352" y="248"/>
                  <a:pt x="1504" y="480"/>
                  <a:pt x="1584" y="584"/>
                </a:cubicBezTo>
                <a:cubicBezTo>
                  <a:pt x="1664" y="688"/>
                  <a:pt x="1672" y="732"/>
                  <a:pt x="1680" y="776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724280" y="1714680"/>
            <a:ext cx="2971800" cy="1714320"/>
          </a:xfrm>
          <a:custGeom>
            <a:avLst/>
            <a:gdLst/>
            <a:ahLst/>
            <a:rect l="l" t="t" r="r" b="b"/>
            <a:pathLst>
              <a:path w="1872" h="1080">
                <a:moveTo>
                  <a:pt x="1872" y="1080"/>
                </a:moveTo>
                <a:cubicBezTo>
                  <a:pt x="1872" y="952"/>
                  <a:pt x="1872" y="824"/>
                  <a:pt x="1824" y="696"/>
                </a:cubicBezTo>
                <a:cubicBezTo>
                  <a:pt x="1776" y="568"/>
                  <a:pt x="1688" y="416"/>
                  <a:pt x="1584" y="312"/>
                </a:cubicBezTo>
                <a:cubicBezTo>
                  <a:pt x="1480" y="208"/>
                  <a:pt x="1344" y="120"/>
                  <a:pt x="1200" y="72"/>
                </a:cubicBezTo>
                <a:cubicBezTo>
                  <a:pt x="1056" y="24"/>
                  <a:pt x="864" y="0"/>
                  <a:pt x="720" y="24"/>
                </a:cubicBezTo>
                <a:cubicBezTo>
                  <a:pt x="576" y="48"/>
                  <a:pt x="432" y="144"/>
                  <a:pt x="336" y="216"/>
                </a:cubicBezTo>
                <a:cubicBezTo>
                  <a:pt x="240" y="288"/>
                  <a:pt x="200" y="336"/>
                  <a:pt x="144" y="456"/>
                </a:cubicBezTo>
                <a:cubicBezTo>
                  <a:pt x="88" y="576"/>
                  <a:pt x="44" y="756"/>
                  <a:pt x="0" y="936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uma estrutura de dados improtantíssima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rência de dados/processos por ordem cronológica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impress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m uma impressora de re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pedido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 uma expedição ou tele-entreg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mulação de processos seqüenciai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ão de fábrica: fila de camisetas a serem estamp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ércio: simulação de fluxo de um caixa de supermerc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áfego: simulação de um cruzamento com um semáfo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5562720"/>
            <a:ext cx="4724280" cy="0"/>
          </a:xfrm>
          <a:prstGeom prst="line">
            <a:avLst/>
          </a:prstGeom>
          <a:ln cap="rnd" w="38160">
            <a:solidFill>
              <a:srgbClr val="f76681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73440" y="403848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QuillScript"/>
              </a:rPr>
              <a:t>F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1051200" y="148896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ções &gt;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1148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1148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aze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1148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057400" y="40384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057400" y="44956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do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057400" y="495288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ca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828800" y="2590920"/>
            <a:ext cx="15228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20120" y="40384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ja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20120" y="44956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irk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620120" y="495288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bar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195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97180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800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9528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8862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0384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381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5345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467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6201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8534520" y="403848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8458200" y="396252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61048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048120" y="35812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H="1">
            <a:off x="3276720" y="342900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029200" y="1968480"/>
            <a:ext cx="2514600" cy="1612800"/>
          </a:xfrm>
          <a:custGeom>
            <a:avLst/>
            <a:gdLst/>
            <a:ahLst/>
            <a:rect l="l" t="t" r="r" b="b"/>
            <a:pathLst>
              <a:path w="1680" h="1016">
                <a:moveTo>
                  <a:pt x="0" y="1016"/>
                </a:moveTo>
                <a:cubicBezTo>
                  <a:pt x="8" y="868"/>
                  <a:pt x="16" y="720"/>
                  <a:pt x="48" y="584"/>
                </a:cubicBezTo>
                <a:cubicBezTo>
                  <a:pt x="80" y="448"/>
                  <a:pt x="88" y="296"/>
                  <a:pt x="192" y="200"/>
                </a:cubicBezTo>
                <a:cubicBezTo>
                  <a:pt x="296" y="104"/>
                  <a:pt x="504" y="16"/>
                  <a:pt x="672" y="8"/>
                </a:cubicBezTo>
                <a:cubicBezTo>
                  <a:pt x="840" y="0"/>
                  <a:pt x="1048" y="56"/>
                  <a:pt x="1200" y="152"/>
                </a:cubicBezTo>
                <a:cubicBezTo>
                  <a:pt x="1352" y="248"/>
                  <a:pt x="1504" y="480"/>
                  <a:pt x="1584" y="584"/>
                </a:cubicBezTo>
                <a:cubicBezTo>
                  <a:pt x="1664" y="688"/>
                  <a:pt x="1672" y="732"/>
                  <a:pt x="1680" y="776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724280" y="1714680"/>
            <a:ext cx="2971800" cy="1714320"/>
          </a:xfrm>
          <a:custGeom>
            <a:avLst/>
            <a:gdLst/>
            <a:ahLst/>
            <a:rect l="l" t="t" r="r" b="b"/>
            <a:pathLst>
              <a:path w="1872" h="1080">
                <a:moveTo>
                  <a:pt x="1872" y="1080"/>
                </a:moveTo>
                <a:cubicBezTo>
                  <a:pt x="1872" y="952"/>
                  <a:pt x="1872" y="824"/>
                  <a:pt x="1824" y="696"/>
                </a:cubicBezTo>
                <a:cubicBezTo>
                  <a:pt x="1776" y="568"/>
                  <a:pt x="1688" y="416"/>
                  <a:pt x="1584" y="312"/>
                </a:cubicBezTo>
                <a:cubicBezTo>
                  <a:pt x="1480" y="208"/>
                  <a:pt x="1344" y="120"/>
                  <a:pt x="1200" y="72"/>
                </a:cubicBezTo>
                <a:cubicBezTo>
                  <a:pt x="1056" y="24"/>
                  <a:pt x="864" y="0"/>
                  <a:pt x="720" y="24"/>
                </a:cubicBezTo>
                <a:cubicBezTo>
                  <a:pt x="576" y="48"/>
                  <a:pt x="432" y="144"/>
                  <a:pt x="336" y="216"/>
                </a:cubicBezTo>
                <a:cubicBezTo>
                  <a:pt x="240" y="288"/>
                  <a:pt x="200" y="336"/>
                  <a:pt x="144" y="456"/>
                </a:cubicBezTo>
                <a:cubicBezTo>
                  <a:pt x="88" y="576"/>
                  <a:pt x="44" y="756"/>
                  <a:pt x="0" y="936"/>
                </a:cubicBezTo>
              </a:path>
            </a:pathLst>
          </a:custGeom>
          <a:noFill/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38188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RetiraDaPosi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* FUNÇÃO retiraDaPosição(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Lista *aLista, inteiro posiçã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 o Elemento na posição posição de uma list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Retorna a informação do elemento eliminado ou NULO.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lemento *anterior, *eliminar;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element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ipoInfo *volta;       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. auxiliar para o dado retornado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&gt; aLista-&gt;tamanho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NULO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(posição = 1)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RETORNE( retiraDoInício(aLista) 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PITA (posição - 2) VEZ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eliminar &lt;- anterio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volta &lt;- eliminar-&gt;inf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nterior-&gt;proximo &lt;- eliminar-&gt;proxim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Lista-&gt;tamanho &lt;- aLista-&gt;tamanho 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eliminar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vol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EmOrdem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Idêntico à lista encadead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cedimen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ecessitamos de uma função para comparar os dados (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maior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ocuramos pela posição onde inserir comparando d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hamamos </a:t>
            </a:r>
            <a:r>
              <a:rPr b="1" lang="pt-BR" sz="2400" spc="-1" strike="noStrike">
                <a:solidFill>
                  <a:srgbClr val="fafd00"/>
                </a:solidFill>
                <a:latin typeface="Courier New"/>
              </a:rPr>
              <a:t>adicionaNaPosiçãoDupl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arâmetr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 dado a ser inse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istaDup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AdicionaEmOrdemDupl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eiro FUNÇÃO adicionaEmOrdem(ListaDupla *aLista, TipoInfo dado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ElementoDupl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*atual;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iável auxiliar para caminhar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teiro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posição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listaVaziaDupla(aLista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dicionaNoInícioDuplo(aLista, dado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tual &lt;- aLista-&gt;dados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osição &lt;-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QUANTO (atual-&gt;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sucessor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~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NULO 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or(dado, atual-&gt;info)) FAÇ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9ccdfc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ncontrar posição para inserir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tual &lt;- atual-&gt;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sucessor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osição &lt;- posição +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ENQUA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maior(dado, atual-&gt;info) ENTÃO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Parou porque acabou lista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dicionaNaPosiçãoDuplo(aLista,dado,posição + 1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ORNE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dicionaNaPosiçãoDuplo(aLista, dado, posição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s Restantes: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conta do Alun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 de inclusão e exclusã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Adiciona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RetiraEspecíficoDuplo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, dado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erações: Inicializar ou limp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DestroiListaDupla(</a:t>
            </a:r>
            <a:r>
              <a:rPr b="0" lang="en-US" sz="2400" spc="-1" strike="noStrike">
                <a:solidFill>
                  <a:srgbClr val="f57b49"/>
                </a:solidFill>
                <a:latin typeface="Tahoma"/>
              </a:rPr>
              <a:t>listaDupla</a:t>
            </a:r>
            <a:r>
              <a:rPr b="0" lang="en-US" sz="2400" spc="-1" strike="noStrike">
                <a:solidFill>
                  <a:srgbClr val="fafd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Algoritmo </a:t>
            </a:r>
            <a:r>
              <a:rPr b="0" lang="en-US" sz="2800" spc="-1" strike="noStrike">
                <a:solidFill>
                  <a:srgbClr val="fafd00"/>
                </a:solidFill>
                <a:latin typeface="Tahoma"/>
              </a:rPr>
              <a:t>DestroiListaDupl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ÇÃO destroiListaDupla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ListaDupla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*aLista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ariávei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ElementoDuplo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*atual, *anterior;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Variável auxiliar para caminhar”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í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 (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listaVaziaDupla(aLista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) ENT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aLis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N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tual &lt;- aLista-&gt;dados;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QUANTO (atual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~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NULO) FAÇ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Eliminar até o fim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nterior &lt;- atual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   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Vou para o próximo mesmo que seja nulo.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57b49"/>
                </a:solidFill>
                <a:latin typeface="Courier New"/>
              </a:rPr>
              <a:t>atual &lt;- atual-&gt;sucessor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Liberar primeiro a Info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anterior-&gt;info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Liberar o elemento que acabei de visitar.”</a:t>
            </a:r>
            <a:r>
              <a:rPr b="1" lang="en-US" sz="1400" spc="-1" strike="noStrike">
                <a:solidFill>
                  <a:srgbClr val="9ccdfc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anterior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afd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ENQUA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IBERE(aLista)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 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im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4.2.4.1 Exercício com </a:t>
            </a: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mplemente o TAD Lista Duplamente Encadeada com funções para todas as suas operaçõ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mplemente um Módulo aplicativo programa principal que gerencie uma lista representando um itinerário de um trem. O programa deverá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tilizar um tipo info que represente uma estação de trem ten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8680" indent="-22392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Nome da estaçã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8680" indent="-22392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Hora de chegada e de saí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8680" indent="-22392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Hora de chegada e saída na volt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ceitar o cadastro de uma estação. O programa coloca a estação na posição por ordem de hora de </a:t>
            </a:r>
            <a:r>
              <a:rPr b="0" lang="pt-BR" sz="2000" spc="-1" strike="noStrike">
                <a:solidFill>
                  <a:srgbClr val="fafd00"/>
                </a:solidFill>
                <a:latin typeface="Tahoma"/>
              </a:rPr>
              <a:t>saída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na id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programa deverá informar ao usuário dados sobre uma parada solicitada pelo usuário por nom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8680" indent="-22392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Quando o trem chega na ida e na volta, qual a estação anterior e qual a estação que vem depo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azo: </a:t>
            </a:r>
            <a:r>
              <a:rPr b="0" lang="pt-BR" sz="2400" spc="-1" strike="noStrike">
                <a:solidFill>
                  <a:srgbClr val="fafd00"/>
                </a:solidFill>
                <a:latin typeface="Tahoma"/>
              </a:rPr>
              <a:t>2 semanas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cf4ea"/>
                </a:solidFill>
                <a:latin typeface="Tahoma"/>
              </a:rPr>
              <a:t>4.2.4.1 Exercício com </a:t>
            </a:r>
            <a:r>
              <a:rPr b="0" lang="pt-BR" sz="2800" spc="-1" strike="noStrike">
                <a:solidFill>
                  <a:srgbClr val="fafd00"/>
                </a:solidFill>
                <a:latin typeface="Tahoma"/>
              </a:rPr>
              <a:t>Lista Duplamente Encadeada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304" name=""/>
          <p:cNvSpPr/>
          <p:nvPr/>
        </p:nvSpPr>
        <p:spPr>
          <a:xfrm>
            <a:off x="11430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600200" y="23623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752480" y="25146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828800" y="2590920"/>
            <a:ext cx="152280" cy="6858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195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3623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51460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0512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05740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8006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952880" y="350532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3434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88620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38480" y="3352680"/>
            <a:ext cx="15264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781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343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24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4771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8672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0199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3818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8534520" y="350532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9246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8077320" y="34290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7467480" y="3276720"/>
            <a:ext cx="45720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620120" y="3352680"/>
            <a:ext cx="152280" cy="15264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80769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962520" y="4062240"/>
            <a:ext cx="1295280" cy="601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Gasp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962520" y="4664160"/>
            <a:ext cx="129528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09:0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09: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962520" y="5265720"/>
            <a:ext cx="129528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2:3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2: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867280" y="4062240"/>
            <a:ext cx="1143000" cy="601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Blumen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867280" y="4664160"/>
            <a:ext cx="114300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2:0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3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867280" y="5265720"/>
            <a:ext cx="114300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1:3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1: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057400" y="4062240"/>
            <a:ext cx="1219320" cy="601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Itaja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057400" y="4664160"/>
            <a:ext cx="121932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4:0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06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057400" y="5265720"/>
            <a:ext cx="121932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24:0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06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20120" y="4062240"/>
            <a:ext cx="1218960" cy="60192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Trombu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620120" y="4664160"/>
            <a:ext cx="121896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7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8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20120" y="5265720"/>
            <a:ext cx="1218960" cy="60156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7:00</a:t>
            </a:r>
            <a:br>
              <a:rPr sz="1600"/>
            </a:br>
            <a:r>
              <a:rPr b="1" lang="en-US" sz="1600" spc="-1" strike="noStrike">
                <a:solidFill>
                  <a:srgbClr val="fafd00"/>
                </a:solidFill>
                <a:latin typeface="Tahoma"/>
              </a:rPr>
              <a:t>18: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534520" y="4062240"/>
            <a:ext cx="244440" cy="180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458200" y="3962520"/>
            <a:ext cx="488880" cy="144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8610480" y="3581280"/>
            <a:ext cx="0" cy="53352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105520" y="358128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6476760" y="3505320"/>
            <a:ext cx="7596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449568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H="1">
            <a:off x="2514600" y="3505320"/>
            <a:ext cx="76320" cy="45720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048120" y="358128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3276720" y="3429000"/>
            <a:ext cx="76176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5257440" y="3429000"/>
            <a:ext cx="76212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7238880" y="3429000"/>
            <a:ext cx="45720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038480" y="1447920"/>
            <a:ext cx="1905120" cy="838080"/>
          </a:xfrm>
          <a:prstGeom prst="ellipse">
            <a:avLst/>
          </a:prstGeom>
          <a:solidFill>
            <a:srgbClr val="b1011e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EFS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uma estrutura de dados improtantíssima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rência de dados/processos por ordem cronológica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impress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m uma impressora de re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pedido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 uma expedição ou tele-entreg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mulação de processos seqüenciai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ão de fábrica: fila de camisetas a serem estamp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ércio: simulação de fluxo de um caixa de supermerc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áfego: simulação de um cruzamento com um semáfo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5562720"/>
            <a:ext cx="4724280" cy="0"/>
          </a:xfrm>
          <a:prstGeom prst="line">
            <a:avLst/>
          </a:prstGeom>
          <a:ln cap="rnd" w="38160">
            <a:solidFill>
              <a:srgbClr val="f76681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530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73440" y="403848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QuillScript"/>
              </a:rPr>
              <a:t>F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uma estrutura de dados improtantíssima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rência de dados/processos por ordem cronológica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impress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m uma impressora de re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pedido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 uma expedição ou tele-entreg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mulação de processos seqüenciai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ão de fábrica: fila de camisetas a serem estamp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ércio: simulação de fluxo de um caixa de supermerc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áfego: simulação de um cruzamento com um semáfo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84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100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5562720"/>
            <a:ext cx="4724280" cy="0"/>
          </a:xfrm>
          <a:prstGeom prst="line">
            <a:avLst/>
          </a:prstGeom>
          <a:ln cap="rnd" w="38160">
            <a:solidFill>
              <a:srgbClr val="f76681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73440" y="403848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QuillScript"/>
              </a:rPr>
              <a:t>F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38188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uma estrutura de dados improtantíssima par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erência de dados/processos por ordem cronológica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impressã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m uma impressora de re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7b49"/>
                </a:solidFill>
                <a:latin typeface="Tahoma"/>
              </a:rPr>
              <a:t>Fila de pedido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e uma expedição ou tele-entreg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mulação de processos seqüenciais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ão de fábrica: fila de camisetas a serem estampa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ércio: simulação de fluxo de um caixa de supermerc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áfego: simulação de um cruzamento com um semáfo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35053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5562720"/>
            <a:ext cx="4724280" cy="0"/>
          </a:xfrm>
          <a:prstGeom prst="line">
            <a:avLst/>
          </a:prstGeom>
          <a:ln cap="rnd" w="38160">
            <a:solidFill>
              <a:srgbClr val="f76681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73440" y="4038480"/>
            <a:ext cx="7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c0128"/>
                </a:solidFill>
                <a:latin typeface="QuillScript"/>
              </a:rPr>
              <a:t>F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33720" y="4800600"/>
            <a:ext cx="457200" cy="45720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f4ea"/>
                </a:solidFill>
                <a:latin typeface="Tahoma"/>
              </a:rPr>
              <a:t>4.2.2 Filas: Representação</a:t>
            </a:r>
            <a:endParaRPr b="0" lang="en-US" sz="2800" spc="-1" strike="noStrike">
              <a:solidFill>
                <a:srgbClr val="8cf4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533412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ão da lista encade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erenciamos o último elemento també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icionamos n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fi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285480">
              <a:spcBef>
                <a:spcPts val="4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luímos do </a:t>
            </a:r>
            <a:r>
              <a:rPr b="0" lang="en-US" sz="2000" spc="-1" strike="noStrike">
                <a:solidFill>
                  <a:srgbClr val="fafd00"/>
                </a:solidFill>
                <a:latin typeface="Tahoma"/>
              </a:rPr>
              <a:t>iní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3886200"/>
            <a:ext cx="433440" cy="517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3886200"/>
            <a:ext cx="433440" cy="517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5120" y="403848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48769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5029200"/>
            <a:ext cx="15264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487692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el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28080" y="45720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17040" y="45720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4876920"/>
            <a:ext cx="60948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50292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4876920"/>
            <a:ext cx="76212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maç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09160" y="45720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98480" y="45720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4876920"/>
            <a:ext cx="60984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5720" y="4876920"/>
            <a:ext cx="761760" cy="45720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Tahoma"/>
              </a:rPr>
              <a:t>u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690600" y="457200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f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79560" y="45720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próxi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5105520"/>
            <a:ext cx="83808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5105520"/>
            <a:ext cx="838440" cy="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114800"/>
            <a:ext cx="685800" cy="990720"/>
          </a:xfrm>
          <a:prstGeom prst="line">
            <a:avLst/>
          </a:prstGeom>
          <a:ln w="12600">
            <a:solidFill>
              <a:srgbClr val="f57b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2400" y="5562720"/>
            <a:ext cx="15228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96080" y="5486400"/>
            <a:ext cx="304920" cy="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848720" y="5105520"/>
            <a:ext cx="0" cy="533160"/>
          </a:xfrm>
          <a:prstGeom prst="line">
            <a:avLst/>
          </a:prstGeom>
          <a:ln w="1908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33280" y="3505320"/>
            <a:ext cx="6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tam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47000" y="3505320"/>
            <a:ext cx="10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Tahoma"/>
              </a:rPr>
              <a:t>inicio fi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971800" y="3200400"/>
            <a:ext cx="1333800" cy="603000"/>
            <a:chOff x="2971800" y="3200400"/>
            <a:chExt cx="1333800" cy="603000"/>
          </a:xfrm>
        </p:grpSpPr>
        <p:sp>
          <p:nvSpPr>
            <p:cNvPr id="220" name=""/>
            <p:cNvSpPr/>
            <p:nvPr/>
          </p:nvSpPr>
          <p:spPr>
            <a:xfrm>
              <a:off x="3637080" y="3200400"/>
              <a:ext cx="66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Fi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2971800" y="3544920"/>
              <a:ext cx="478080" cy="2584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657240" y="5562360"/>
            <a:ext cx="3085920" cy="612360"/>
            <a:chOff x="3657240" y="5562360"/>
            <a:chExt cx="3085920" cy="612360"/>
          </a:xfrm>
        </p:grpSpPr>
        <p:sp>
          <p:nvSpPr>
            <p:cNvPr id="223" name=""/>
            <p:cNvSpPr/>
            <p:nvPr/>
          </p:nvSpPr>
          <p:spPr>
            <a:xfrm>
              <a:off x="4195800" y="5715000"/>
              <a:ext cx="254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c0128"/>
                  </a:solidFill>
                  <a:latin typeface="QuillScript"/>
                </a:rPr>
                <a:t>Elemento de Fil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3657240" y="5562360"/>
              <a:ext cx="533160" cy="4568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209680" y="3886200"/>
            <a:ext cx="433440" cy="517680"/>
          </a:xfrm>
          <a:prstGeom prst="rect">
            <a:avLst/>
          </a:prstGeom>
          <a:solidFill>
            <a:srgbClr val="00b7a5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4038480"/>
            <a:ext cx="144360" cy="173160"/>
          </a:xfrm>
          <a:prstGeom prst="ellipse">
            <a:avLst/>
          </a:prstGeom>
          <a:solidFill>
            <a:srgbClr val="f57b49"/>
          </a:solidFill>
          <a:ln w="1260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4089240"/>
            <a:ext cx="5029200" cy="559080"/>
          </a:xfrm>
          <a:custGeom>
            <a:avLst/>
            <a:gdLst/>
            <a:ahLst/>
            <a:rect l="l" t="t" r="r" b="b"/>
            <a:pathLst>
              <a:path w="3168" h="352">
                <a:moveTo>
                  <a:pt x="0" y="16"/>
                </a:moveTo>
                <a:cubicBezTo>
                  <a:pt x="792" y="16"/>
                  <a:pt x="1584" y="16"/>
                  <a:pt x="2016" y="16"/>
                </a:cubicBezTo>
                <a:cubicBezTo>
                  <a:pt x="2448" y="16"/>
                  <a:pt x="2440" y="0"/>
                  <a:pt x="2592" y="16"/>
                </a:cubicBezTo>
                <a:cubicBezTo>
                  <a:pt x="2744" y="32"/>
                  <a:pt x="2840" y="72"/>
                  <a:pt x="2928" y="112"/>
                </a:cubicBezTo>
                <a:cubicBezTo>
                  <a:pt x="3016" y="152"/>
                  <a:pt x="3080" y="216"/>
                  <a:pt x="3120" y="256"/>
                </a:cubicBezTo>
                <a:cubicBezTo>
                  <a:pt x="3160" y="296"/>
                  <a:pt x="3164" y="324"/>
                  <a:pt x="3168" y="352"/>
                </a:cubicBezTo>
              </a:path>
            </a:pathLst>
          </a:custGeom>
          <a:noFill/>
          <a:ln w="12600">
            <a:solidFill>
              <a:srgbClr val="f7668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21720" y="685800"/>
            <a:ext cx="2786760" cy="2379960"/>
          </a:xfrm>
          <a:prstGeom prst="rect">
            <a:avLst/>
          </a:prstGeom>
          <a:noFill/>
          <a:ln w="1260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seudo-códig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tipo Fila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 *inici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Elemento *fi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inteiro  tamanh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afd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2T02:53:20Z</dcterms:created>
  <dc:creator>Prof. Dr. Aldo von Wangenheim</dc:creator>
  <dc:description/>
  <cp:keywords>C++</cp:keywords>
  <dc:language>en-US</dc:language>
  <cp:lastModifiedBy>Kaiser</cp:lastModifiedBy>
  <cp:lastPrinted>1997-06-23T00:41:22Z</cp:lastPrinted>
  <dcterms:modified xsi:type="dcterms:W3CDTF">1999-05-19T16:26:30Z</dcterms:modified>
  <cp:revision>245</cp:revision>
  <dc:subject>C++</dc:subject>
  <dc:title>Estruturas de Dados - T.332  Capítulo 4 Parte 1: C++</dc:title>
</cp:coreProperties>
</file>