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127920" y="875808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B529D28E-77FE-44AD-AD1D-FA679AE5F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88620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1C486C63-53A4-4706-B32A-7B0B9ED62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4 - II</a:t>
            </a:r>
            <a:br>
              <a:rPr sz="2800"/>
            </a:br>
            <a:r>
              <a:rPr b="0" lang="en-US" sz="4800" spc="-1" strike="noStrike">
                <a:solidFill>
                  <a:srgbClr val="8cf4ea"/>
                </a:solidFill>
                <a:latin typeface="Tahoma"/>
              </a:rPr>
              <a:t>Listas Encadeadas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4.2 Filas e Listas Duplamente Encadeadas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4.3 Listas Circulares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Fi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la* FUNÇÃO criaFil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fil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la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Fil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Fila &lt;- aloque(Fila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Fil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Fil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Fila-&gt;início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Fila-&gt;fim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Fil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246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3022560"/>
            <a:ext cx="342900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276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3022560"/>
            <a:ext cx="342900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307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Vaz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90200" y="3657600"/>
            <a:ext cx="1569960" cy="1143000"/>
            <a:chOff x="3490200" y="3657600"/>
            <a:chExt cx="1569960" cy="1143000"/>
          </a:xfrm>
        </p:grpSpPr>
        <p:grpSp>
          <p:nvGrpSpPr>
            <p:cNvPr id="332" name=""/>
            <p:cNvGrpSpPr/>
            <p:nvPr/>
          </p:nvGrpSpPr>
          <p:grpSpPr>
            <a:xfrm>
              <a:off x="3490200" y="3657600"/>
              <a:ext cx="1569960" cy="762120"/>
              <a:chOff x="3490200" y="3657600"/>
              <a:chExt cx="1569960" cy="76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962520"/>
                <a:ext cx="60984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72000" y="4114800"/>
                <a:ext cx="152280" cy="15228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05320" y="3962520"/>
                <a:ext cx="76176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490200" y="365760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79160" y="365760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572000" y="472428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95680" y="464832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48320" y="42670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3623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Vaz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490200" y="3657600"/>
            <a:ext cx="1569960" cy="1143000"/>
            <a:chOff x="3490200" y="3657600"/>
            <a:chExt cx="1569960" cy="1143000"/>
          </a:xfrm>
        </p:grpSpPr>
        <p:grpSp>
          <p:nvGrpSpPr>
            <p:cNvPr id="356" name=""/>
            <p:cNvGrpSpPr/>
            <p:nvPr/>
          </p:nvGrpSpPr>
          <p:grpSpPr>
            <a:xfrm>
              <a:off x="3490200" y="3657600"/>
              <a:ext cx="1569960" cy="762120"/>
              <a:chOff x="3490200" y="3657600"/>
              <a:chExt cx="15699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267080" y="3962520"/>
                <a:ext cx="60984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72000" y="4114800"/>
                <a:ext cx="152280" cy="15228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05320" y="3962520"/>
                <a:ext cx="76176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90200" y="365760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79160" y="365760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572000" y="472428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95680" y="464832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8320" y="42670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81080" y="3022560"/>
            <a:ext cx="2286000" cy="1168560"/>
            <a:chOff x="1981080" y="3022560"/>
            <a:chExt cx="2286000" cy="1168560"/>
          </a:xfrm>
        </p:grpSpPr>
        <p:sp>
          <p:nvSpPr>
            <p:cNvPr id="366" name=""/>
            <p:cNvSpPr/>
            <p:nvPr/>
          </p:nvSpPr>
          <p:spPr>
            <a:xfrm>
              <a:off x="2438280" y="3022560"/>
              <a:ext cx="1828800" cy="635040"/>
            </a:xfrm>
            <a:custGeom>
              <a:avLst/>
              <a:gdLst/>
              <a:ahLst/>
              <a:rect l="l" t="t" r="r" b="b"/>
              <a:pathLst>
                <a:path w="3168" h="352">
                  <a:moveTo>
                    <a:pt x="0" y="16"/>
                  </a:moveTo>
                  <a:cubicBezTo>
                    <a:pt x="792" y="16"/>
                    <a:pt x="1584" y="16"/>
                    <a:pt x="2016" y="16"/>
                  </a:cubicBezTo>
                  <a:cubicBezTo>
                    <a:pt x="2448" y="16"/>
                    <a:pt x="2440" y="0"/>
                    <a:pt x="2592" y="16"/>
                  </a:cubicBezTo>
                  <a:cubicBezTo>
                    <a:pt x="2744" y="32"/>
                    <a:pt x="2840" y="72"/>
                    <a:pt x="2928" y="112"/>
                  </a:cubicBezTo>
                  <a:cubicBezTo>
                    <a:pt x="3016" y="152"/>
                    <a:pt x="3080" y="216"/>
                    <a:pt x="3120" y="256"/>
                  </a:cubicBezTo>
                  <a:cubicBezTo>
                    <a:pt x="3160" y="296"/>
                    <a:pt x="3164" y="324"/>
                    <a:pt x="3168" y="352"/>
                  </a:cubicBezTo>
                </a:path>
              </a:pathLst>
            </a:custGeom>
            <a:noFill/>
            <a:ln w="12600">
              <a:solidFill>
                <a:srgbClr val="f7668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3048120"/>
              <a:ext cx="1371600" cy="11430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la *aFila, 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novo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novo = NUL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filaVazia(aFil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Fila-&gt;inicio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Fila-&gt;fim-&gt;proximo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-&gt;proximo &lt;- NUL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Fila-&gt;fim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ila-&gt;tamanho &lt;- aFil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Fila-&gt;tamanh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133280" y="2438280"/>
            <a:ext cx="7127280" cy="2210040"/>
            <a:chOff x="1133280" y="2438280"/>
            <a:chExt cx="7127280" cy="2210040"/>
          </a:xfrm>
        </p:grpSpPr>
        <p:sp>
          <p:nvSpPr>
            <p:cNvPr id="372" name=""/>
            <p:cNvSpPr/>
            <p:nvPr/>
          </p:nvSpPr>
          <p:spPr>
            <a:xfrm>
              <a:off x="12952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24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5120" y="2971800"/>
              <a:ext cx="144360" cy="1731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05320" y="3809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39625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3200" y="3809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2808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1704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3809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91320" y="396252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0916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9848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690600" y="3505320"/>
              <a:ext cx="1569960" cy="761400"/>
              <a:chOff x="6690600" y="3505320"/>
              <a:chExt cx="1569960" cy="76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7467480" y="3809880"/>
                <a:ext cx="609840" cy="45684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72400" y="3962160"/>
                <a:ext cx="152280" cy="15192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05720" y="3809880"/>
                <a:ext cx="761760" cy="45684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0600" y="350532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9560" y="350532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886200" y="4038480"/>
              <a:ext cx="8380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048120"/>
              <a:ext cx="685800" cy="99036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2400" y="457200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6080" y="449568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8720" y="411480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33280" y="2438280"/>
              <a:ext cx="6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ta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47000" y="24382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icio f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096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2320" y="2971800"/>
              <a:ext cx="144360" cy="1731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022560"/>
              <a:ext cx="4876920" cy="558720"/>
            </a:xfrm>
            <a:custGeom>
              <a:avLst/>
              <a:gdLst/>
              <a:ahLst/>
              <a:rect l="l" t="t" r="r" b="b"/>
              <a:pathLst>
                <a:path w="3168" h="352">
                  <a:moveTo>
                    <a:pt x="0" y="16"/>
                  </a:moveTo>
                  <a:cubicBezTo>
                    <a:pt x="792" y="16"/>
                    <a:pt x="1584" y="16"/>
                    <a:pt x="2016" y="16"/>
                  </a:cubicBezTo>
                  <a:cubicBezTo>
                    <a:pt x="2448" y="16"/>
                    <a:pt x="2440" y="0"/>
                    <a:pt x="2592" y="16"/>
                  </a:cubicBezTo>
                  <a:cubicBezTo>
                    <a:pt x="2744" y="32"/>
                    <a:pt x="2840" y="72"/>
                    <a:pt x="2928" y="112"/>
                  </a:cubicBezTo>
                  <a:cubicBezTo>
                    <a:pt x="3016" y="152"/>
                    <a:pt x="3080" y="216"/>
                    <a:pt x="3120" y="256"/>
                  </a:cubicBezTo>
                  <a:cubicBezTo>
                    <a:pt x="3160" y="296"/>
                    <a:pt x="3164" y="324"/>
                    <a:pt x="3168" y="352"/>
                  </a:cubicBezTo>
                </a:path>
              </a:pathLst>
            </a:custGeom>
            <a:noFill/>
            <a:ln w="12600">
              <a:solidFill>
                <a:srgbClr val="f7668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4038480"/>
              <a:ext cx="8384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7120" y="3581280"/>
            <a:ext cx="1694880" cy="782640"/>
            <a:chOff x="987120" y="3581280"/>
            <a:chExt cx="1694880" cy="782640"/>
          </a:xfrm>
        </p:grpSpPr>
        <p:grpSp>
          <p:nvGrpSpPr>
            <p:cNvPr id="403" name=""/>
            <p:cNvGrpSpPr/>
            <p:nvPr/>
          </p:nvGrpSpPr>
          <p:grpSpPr>
            <a:xfrm>
              <a:off x="1082520" y="3906720"/>
              <a:ext cx="1599480" cy="457200"/>
              <a:chOff x="1082520" y="3906720"/>
              <a:chExt cx="1599480" cy="457200"/>
            </a:xfrm>
          </p:grpSpPr>
          <p:sp>
            <p:nvSpPr>
              <p:cNvPr id="404" name=""/>
              <p:cNvSpPr/>
              <p:nvPr/>
            </p:nvSpPr>
            <p:spPr>
              <a:xfrm>
                <a:off x="1082520" y="3906720"/>
                <a:ext cx="45684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4440" y="405936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10760" y="4135320"/>
                <a:ext cx="1371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987120" y="3581280"/>
              <a:ext cx="4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23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7120" y="3581280"/>
            <a:ext cx="1694880" cy="782640"/>
            <a:chOff x="987120" y="3581280"/>
            <a:chExt cx="1694880" cy="782640"/>
          </a:xfrm>
        </p:grpSpPr>
        <p:grpSp>
          <p:nvGrpSpPr>
            <p:cNvPr id="439" name=""/>
            <p:cNvGrpSpPr/>
            <p:nvPr/>
          </p:nvGrpSpPr>
          <p:grpSpPr>
            <a:xfrm>
              <a:off x="1082520" y="3906720"/>
              <a:ext cx="1599480" cy="457200"/>
              <a:chOff x="1082520" y="3906720"/>
              <a:chExt cx="1599480" cy="457200"/>
            </a:xfrm>
          </p:grpSpPr>
          <p:sp>
            <p:nvSpPr>
              <p:cNvPr id="440" name=""/>
              <p:cNvSpPr/>
              <p:nvPr/>
            </p:nvSpPr>
            <p:spPr>
              <a:xfrm>
                <a:off x="1082520" y="3906720"/>
                <a:ext cx="45684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34440" y="405936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10760" y="4135320"/>
                <a:ext cx="1371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987120" y="3581280"/>
              <a:ext cx="4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968480" y="3124080"/>
            <a:ext cx="275580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55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68480" y="3124080"/>
            <a:ext cx="275580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 Extensões do Conceito de Lista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déia da Lista Encadeada como foi vista até agora é o modelo mais geral e si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e ser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especializ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extendi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s mais variadas for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ecializa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Pilhas encade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i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Listas Duplamente Encade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as Circulares Simples e Dup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25480" y="1219320"/>
            <a:ext cx="2630880" cy="4495680"/>
            <a:chOff x="6225480" y="1219320"/>
            <a:chExt cx="2630880" cy="4495680"/>
          </a:xfrm>
        </p:grpSpPr>
        <p:sp>
          <p:nvSpPr>
            <p:cNvPr id="83" name=""/>
            <p:cNvSpPr/>
            <p:nvPr/>
          </p:nvSpPr>
          <p:spPr>
            <a:xfrm>
              <a:off x="6477120" y="2133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4320" y="2133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86600" y="2286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5480" y="17524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ltu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0360" y="175248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to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0120" y="32004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3352680"/>
              <a:ext cx="152640" cy="1526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320040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42880" y="28954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31840" y="28954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0120" y="41148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4267080"/>
              <a:ext cx="152640" cy="1526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11480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42880" y="38098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31840" y="38098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0120" y="4952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1055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2880" y="4648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1840" y="4648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51814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24680" y="563868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48720" y="556272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2920" y="2336760"/>
              <a:ext cx="1384200" cy="939960"/>
            </a:xfrm>
            <a:custGeom>
              <a:avLst/>
              <a:gdLst/>
              <a:ahLst/>
              <a:rect l="l" t="t" r="r" b="b"/>
              <a:pathLst>
                <a:path w="872" h="784">
                  <a:moveTo>
                    <a:pt x="0" y="16"/>
                  </a:moveTo>
                  <a:cubicBezTo>
                    <a:pt x="196" y="8"/>
                    <a:pt x="392" y="0"/>
                    <a:pt x="528" y="16"/>
                  </a:cubicBezTo>
                  <a:cubicBezTo>
                    <a:pt x="664" y="32"/>
                    <a:pt x="760" y="24"/>
                    <a:pt x="816" y="112"/>
                  </a:cubicBezTo>
                  <a:cubicBezTo>
                    <a:pt x="872" y="200"/>
                    <a:pt x="872" y="440"/>
                    <a:pt x="864" y="544"/>
                  </a:cubicBezTo>
                  <a:cubicBezTo>
                    <a:pt x="856" y="648"/>
                    <a:pt x="800" y="696"/>
                    <a:pt x="768" y="736"/>
                  </a:cubicBezTo>
                  <a:cubicBezTo>
                    <a:pt x="736" y="776"/>
                    <a:pt x="704" y="780"/>
                    <a:pt x="672" y="7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341640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84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2"/>
                    <a:pt x="288" y="56"/>
                  </a:cubicBezTo>
                  <a:cubicBezTo>
                    <a:pt x="312" y="80"/>
                    <a:pt x="328" y="88"/>
                    <a:pt x="336" y="152"/>
                  </a:cubicBezTo>
                  <a:cubicBezTo>
                    <a:pt x="344" y="216"/>
                    <a:pt x="344" y="376"/>
                    <a:pt x="336" y="440"/>
                  </a:cubicBezTo>
                  <a:cubicBezTo>
                    <a:pt x="328" y="504"/>
                    <a:pt x="320" y="512"/>
                    <a:pt x="288" y="536"/>
                  </a:cubicBezTo>
                  <a:cubicBezTo>
                    <a:pt x="256" y="560"/>
                    <a:pt x="168" y="576"/>
                    <a:pt x="144" y="5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4343400"/>
              <a:ext cx="546120" cy="838080"/>
            </a:xfrm>
            <a:custGeom>
              <a:avLst/>
              <a:gdLst/>
              <a:ahLst/>
              <a:rect l="l" t="t" r="r" b="b"/>
              <a:pathLst>
                <a:path w="344" h="584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2"/>
                    <a:pt x="288" y="56"/>
                  </a:cubicBezTo>
                  <a:cubicBezTo>
                    <a:pt x="312" y="80"/>
                    <a:pt x="328" y="88"/>
                    <a:pt x="336" y="152"/>
                  </a:cubicBezTo>
                  <a:cubicBezTo>
                    <a:pt x="344" y="216"/>
                    <a:pt x="344" y="376"/>
                    <a:pt x="336" y="440"/>
                  </a:cubicBezTo>
                  <a:cubicBezTo>
                    <a:pt x="328" y="504"/>
                    <a:pt x="320" y="512"/>
                    <a:pt x="288" y="536"/>
                  </a:cubicBezTo>
                  <a:cubicBezTo>
                    <a:pt x="256" y="560"/>
                    <a:pt x="168" y="576"/>
                    <a:pt x="144" y="5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0240" y="121932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Pilha Encadea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Unitár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75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68480" y="3124080"/>
            <a:ext cx="466092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66520" y="4952880"/>
            <a:ext cx="44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ão preciso de uma variável auxiliar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s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Unitár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oIníci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la *aFil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1. Elemento de uma fi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saiu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filaVazia(aFila)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aiu &lt;- aFila-&gt;iníci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saiu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início &lt;- saiu-&gt;proximo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Se SAIU for o único, próximo é nulo e está cert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E (aFila-&gt;tamanh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Fila unitária: devo anular o fim também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fim &lt;- NUL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tamanho &lt;- aFil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.1 Exercício com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 o TAD Fila com as suas duas operações de manipul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 um programa principal de aplicação que utilize uma fil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r dados de pedidos de solicitação de conserto de computadores da marca HAL pela sua assistencia técnica AssistH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ze o seguinte TipoInfo: Nome do Solicitante, Telefone, Data da Entrega (inserida automaticamente), Modelo do Computador e Valor do Conserto, que é um valor chu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ós cadastrado um pedido, o sistema deverá informar quando o solicitante poderá contar com o computador pronto, sendo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oficina AssistHAL leva em média duas semanas por ped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Listas Duplamente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520" y="9907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a Encadeada e a Fila possuem a desvantagem de somente podermos caminhar em uma direçã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mos que para olhar um elemento que “acabamos de passar” precisamos de uma variável auxiliar “anterior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olhar outros elementos ainda anteriores não temos nenhum meio, a não ser começar de no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é uma estrutura de lista que permite deslocamento em ambos os senti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til para representar conjuntos de eventos ou objetos a serem percorridos em dois senti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Itinerários de ônibus, trem ou avi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til também quando realizamos uma busca aproximada e nos movemos para e frente e trá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INDICIMA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0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Listas Duplamente Encadeadas: Modelag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2590920"/>
            <a:ext cx="228600" cy="6094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7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96252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388620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29000" y="342900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810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267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Modelagem: Cabeça de 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primeiro elemento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inteiro para indicar quantos elementos a lista poss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ListaDupla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amanh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Modelagem: Elemento de Lista 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elemento anterior n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elemento sucessor n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a informação que vamos armazen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ElementoDupl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anteri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sucess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Inf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inf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4 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Func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car e retirar dados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ar se a lista está vazia e outros tes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aliza-la e garantir a ordem dos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94080" y="3429000"/>
            <a:ext cx="5949360" cy="2057040"/>
            <a:chOff x="1594080" y="3429000"/>
            <a:chExt cx="5949360" cy="2057040"/>
          </a:xfrm>
        </p:grpSpPr>
        <p:sp>
          <p:nvSpPr>
            <p:cNvPr id="571" name=""/>
            <p:cNvSpPr/>
            <p:nvPr/>
          </p:nvSpPr>
          <p:spPr>
            <a:xfrm>
              <a:off x="1661400" y="36151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28960" y="36151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51360" y="370872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40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15960" y="4363560"/>
              <a:ext cx="10414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12920" y="3661920"/>
              <a:ext cx="183600" cy="4676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98640" y="4644360"/>
              <a:ext cx="1224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37440" y="4597560"/>
              <a:ext cx="2448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59840" y="4363560"/>
              <a:ext cx="0" cy="32724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94080" y="3429000"/>
              <a:ext cx="45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ta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75760" y="34290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dad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0288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0288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0288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6444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8684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4804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4104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104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aze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4104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316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316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irk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6316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bar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652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1928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9280" y="4597560"/>
              <a:ext cx="1224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8080" y="4550760"/>
              <a:ext cx="2448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80480" y="4316760"/>
              <a:ext cx="0" cy="32724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9256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1532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76520" y="4363560"/>
              <a:ext cx="11642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2500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4776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744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80200" y="4223160"/>
              <a:ext cx="122400" cy="936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7588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9864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0832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3072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4076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3160" y="4223160"/>
              <a:ext cx="122400" cy="936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60120" y="4269960"/>
              <a:ext cx="11642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499200" y="4269960"/>
              <a:ext cx="10414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0896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9228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35320" y="394344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640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96240" y="3943440"/>
              <a:ext cx="4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732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79560" y="394344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064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Colocar e retirar dados da lis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oIníci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aPosiçã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EmOrdem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oIníci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aPosiçã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1  Pilhas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9903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pilhas onde os elementos são encadeados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ão há estouro de pilh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o acesso de dados na pilha é puramente seqüencial, não há perda de eficiê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mente duas operações exist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Empilhar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equivale 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adicionar no 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Desempilhar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equivale 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retirar do iníci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a forma como tradicionalmente pilhas são implementadas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INDICIMA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0804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184880" y="2013120"/>
            <a:ext cx="347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32640" y="2013120"/>
            <a:ext cx="349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50000" y="2165400"/>
            <a:ext cx="11592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89760" y="16588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a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7400" y="16588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to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6440" y="307980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88280" y="3232080"/>
            <a:ext cx="11592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75400" y="307980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1720" y="28018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6320" y="28018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56440" y="399420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8280" y="4146480"/>
            <a:ext cx="11592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5400" y="399420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1720" y="37162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06320" y="371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56440" y="483228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8280" y="4984920"/>
            <a:ext cx="11592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5400" y="483228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1720" y="455436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6320" y="4554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6960" y="50608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88280" y="5518080"/>
            <a:ext cx="115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31040" y="5442120"/>
            <a:ext cx="2318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7240" y="2216160"/>
            <a:ext cx="1055880" cy="939960"/>
          </a:xfrm>
          <a:custGeom>
            <a:avLst/>
            <a:gdLst/>
            <a:ahLst/>
            <a:rect l="l" t="t" r="r" b="b"/>
            <a:pathLst>
              <a:path w="872" h="784">
                <a:moveTo>
                  <a:pt x="0" y="16"/>
                </a:moveTo>
                <a:cubicBezTo>
                  <a:pt x="196" y="8"/>
                  <a:pt x="392" y="0"/>
                  <a:pt x="528" y="16"/>
                </a:cubicBezTo>
                <a:cubicBezTo>
                  <a:pt x="664" y="32"/>
                  <a:pt x="760" y="24"/>
                  <a:pt x="816" y="112"/>
                </a:cubicBezTo>
                <a:cubicBezTo>
                  <a:pt x="872" y="200"/>
                  <a:pt x="872" y="440"/>
                  <a:pt x="864" y="544"/>
                </a:cubicBezTo>
                <a:cubicBezTo>
                  <a:pt x="856" y="648"/>
                  <a:pt x="800" y="696"/>
                  <a:pt x="768" y="736"/>
                </a:cubicBezTo>
                <a:cubicBezTo>
                  <a:pt x="736" y="776"/>
                  <a:pt x="704" y="780"/>
                  <a:pt x="672" y="7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46960" y="3295800"/>
            <a:ext cx="416160" cy="850680"/>
          </a:xfrm>
          <a:custGeom>
            <a:avLst/>
            <a:gdLst/>
            <a:ahLst/>
            <a:rect l="l" t="t" r="r" b="b"/>
            <a:pathLst>
              <a:path w="344" h="584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64" y="32"/>
                  <a:pt x="288" y="56"/>
                </a:cubicBezTo>
                <a:cubicBezTo>
                  <a:pt x="312" y="80"/>
                  <a:pt x="328" y="88"/>
                  <a:pt x="336" y="152"/>
                </a:cubicBezTo>
                <a:cubicBezTo>
                  <a:pt x="344" y="216"/>
                  <a:pt x="344" y="376"/>
                  <a:pt x="336" y="440"/>
                </a:cubicBezTo>
                <a:cubicBezTo>
                  <a:pt x="328" y="504"/>
                  <a:pt x="320" y="512"/>
                  <a:pt x="288" y="536"/>
                </a:cubicBezTo>
                <a:cubicBezTo>
                  <a:pt x="256" y="560"/>
                  <a:pt x="168" y="576"/>
                  <a:pt x="144" y="5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46960" y="4222800"/>
            <a:ext cx="416160" cy="838080"/>
          </a:xfrm>
          <a:custGeom>
            <a:avLst/>
            <a:gdLst/>
            <a:ahLst/>
            <a:rect l="l" t="t" r="r" b="b"/>
            <a:pathLst>
              <a:path w="344" h="584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64" y="32"/>
                  <a:pt x="288" y="56"/>
                </a:cubicBezTo>
                <a:cubicBezTo>
                  <a:pt x="312" y="80"/>
                  <a:pt x="328" y="88"/>
                  <a:pt x="336" y="152"/>
                </a:cubicBezTo>
                <a:cubicBezTo>
                  <a:pt x="344" y="216"/>
                  <a:pt x="344" y="376"/>
                  <a:pt x="336" y="440"/>
                </a:cubicBezTo>
                <a:cubicBezTo>
                  <a:pt x="328" y="504"/>
                  <a:pt x="320" y="512"/>
                  <a:pt x="288" y="536"/>
                </a:cubicBezTo>
                <a:cubicBezTo>
                  <a:pt x="256" y="560"/>
                  <a:pt x="168" y="576"/>
                  <a:pt x="144" y="5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57800" y="114300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c0128"/>
                </a:solidFill>
                <a:latin typeface="QuillScript"/>
              </a:rPr>
              <a:t>Pilha Encade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Testar a lista e outros tes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Vazi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Posica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ontem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riaListaDupla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Dupl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FUNÇÃO criaListaDupl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list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Lis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 &lt;- aloque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dados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Vazia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listaVaziaDuplo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 *a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-&gt;tamanho = 0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é possível alocar um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o sucessor deste novo elemento ser o primeiro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o seu antecessor ser N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a cabeça de lista apontar para o no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tipo info (dado)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635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28800" y="2590920"/>
            <a:ext cx="2666880" cy="7617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672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4280" y="3429000"/>
            <a:ext cx="0" cy="685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697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734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3429000"/>
            <a:ext cx="0" cy="685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44240" y="1371600"/>
            <a:ext cx="39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Cas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novo-&gt;suc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 não seja nul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6480" y="19810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aç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novo-&gt;suc-&gt;ant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 ser nov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762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763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799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Duplo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Dupla *aLis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Duplo *novo;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 &lt;- aloque(ElementoDupl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novo = NULO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suc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ant &lt;- NUL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SE (novo-&gt;suc ~= NUL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novo-&gt;suc-&gt;ant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IM 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 o elemento possuir sucessor, o antecessor do sucessor será N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beramos a memória do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volvemos a Inform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826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827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832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868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la é uma estrutura de dados que simula uma fila da vida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ui duas operações básic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clu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 fim da f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Retir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o começo da fi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mada de Estrutura-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F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000"/>
            </a:br>
            <a:r>
              <a:rPr b="0" i="1" lang="en-US" sz="2000" spc="-1" strike="noStrike">
                <a:solidFill>
                  <a:srgbClr val="f57b49"/>
                </a:solidFill>
                <a:latin typeface="Tahoma"/>
              </a:rPr>
              <a:t>First-In, First-Out - O primeiro que entrou é o primeiro a sair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891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892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897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933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956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957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962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998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2428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4832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2428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oIníci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Dupla *aList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1. Elemento de uma lista duplamente encade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Duplo *saiu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 *volta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listaVaziaDuplo(aLista)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aiu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saiu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dados &lt;- saiu-&gt;suc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dados ~= NULO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dados-&gt;ant &lt;- NUL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aticamente idêntico à lista encade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 e se é possível alocar ele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dicionamos o novo dado n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onde inser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eiro FUNÇÃO adicionaNaPosiçãoDuplo(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istaDupla *aLista, TipoInfo *info,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oDuplo *novo, *anterior;  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adicionaNoInícioDuplo(aLista, inf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nterior &lt;- 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novo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&lt;- 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E (novo-&gt;suc ~= NULO ENTÃO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SE o novo não é o último da list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novo-&gt;suc-&gt;ant &lt;- novo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Seto o antecessor do sucessor do nov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&lt;- novo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novo-&gt;ant &lt;- anterior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is simples que a Lista Encade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tiramos o dado d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de onde retir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086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05520" y="358128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2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147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207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24280" y="1714680"/>
            <a:ext cx="2971800" cy="1714320"/>
          </a:xfrm>
          <a:custGeom>
            <a:avLst/>
            <a:gdLst/>
            <a:ahLst/>
            <a:rect l="l" t="t" r="r" b="b"/>
            <a:pathLst>
              <a:path w="1872" h="1080">
                <a:moveTo>
                  <a:pt x="1872" y="1080"/>
                </a:moveTo>
                <a:cubicBezTo>
                  <a:pt x="1872" y="952"/>
                  <a:pt x="1872" y="824"/>
                  <a:pt x="1824" y="696"/>
                </a:cubicBezTo>
                <a:cubicBezTo>
                  <a:pt x="1776" y="568"/>
                  <a:pt x="1688" y="416"/>
                  <a:pt x="1584" y="312"/>
                </a:cubicBezTo>
                <a:cubicBezTo>
                  <a:pt x="1480" y="208"/>
                  <a:pt x="1344" y="120"/>
                  <a:pt x="1200" y="72"/>
                </a:cubicBezTo>
                <a:cubicBezTo>
                  <a:pt x="1056" y="24"/>
                  <a:pt x="864" y="0"/>
                  <a:pt x="720" y="24"/>
                </a:cubicBezTo>
                <a:cubicBezTo>
                  <a:pt x="576" y="48"/>
                  <a:pt x="432" y="144"/>
                  <a:pt x="336" y="216"/>
                </a:cubicBezTo>
                <a:cubicBezTo>
                  <a:pt x="240" y="288"/>
                  <a:pt x="200" y="336"/>
                  <a:pt x="144" y="456"/>
                </a:cubicBezTo>
                <a:cubicBezTo>
                  <a:pt x="88" y="576"/>
                  <a:pt x="44" y="756"/>
                  <a:pt x="0" y="93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1714680"/>
            <a:ext cx="2971800" cy="1714320"/>
          </a:xfrm>
          <a:custGeom>
            <a:avLst/>
            <a:gdLst/>
            <a:ahLst/>
            <a:rect l="l" t="t" r="r" b="b"/>
            <a:pathLst>
              <a:path w="1872" h="1080">
                <a:moveTo>
                  <a:pt x="1872" y="1080"/>
                </a:moveTo>
                <a:cubicBezTo>
                  <a:pt x="1872" y="952"/>
                  <a:pt x="1872" y="824"/>
                  <a:pt x="1824" y="696"/>
                </a:cubicBezTo>
                <a:cubicBezTo>
                  <a:pt x="1776" y="568"/>
                  <a:pt x="1688" y="416"/>
                  <a:pt x="1584" y="312"/>
                </a:cubicBezTo>
                <a:cubicBezTo>
                  <a:pt x="1480" y="208"/>
                  <a:pt x="1344" y="120"/>
                  <a:pt x="1200" y="72"/>
                </a:cubicBezTo>
                <a:cubicBezTo>
                  <a:pt x="1056" y="24"/>
                  <a:pt x="864" y="0"/>
                  <a:pt x="720" y="24"/>
                </a:cubicBezTo>
                <a:cubicBezTo>
                  <a:pt x="576" y="48"/>
                  <a:pt x="432" y="144"/>
                  <a:pt x="336" y="216"/>
                </a:cubicBezTo>
                <a:cubicBezTo>
                  <a:pt x="240" y="288"/>
                  <a:pt x="200" y="336"/>
                  <a:pt x="144" y="456"/>
                </a:cubicBezTo>
                <a:cubicBezTo>
                  <a:pt x="88" y="576"/>
                  <a:pt x="44" y="756"/>
                  <a:pt x="0" y="93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dêntico à lista encade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a função para comparar os dados (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maio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uramos pela posição onde inserir comparando d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hamamos </a:t>
            </a:r>
            <a:r>
              <a:rPr b="1" lang="pt-BR" sz="2400" spc="-1" strike="noStrike">
                <a:solidFill>
                  <a:srgbClr val="fafd00"/>
                </a:solidFill>
                <a:latin typeface="Courier New"/>
              </a:rPr>
              <a:t>adicionaNaPosiçãoDupl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EmOrdem(ListaDupla *aLista, TipoInfo dad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ElementoDupl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tual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posiçã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VaziaDupla(aLista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oInícioDuplo(aLista, dado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osição &lt;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QUANTO (atual-&gt;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ucessor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NULO 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or(dado, atual-&gt;info)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ncontrar posição para inserir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tual-&gt;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ucessor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osição &lt;- posiçã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maior(dado, atual-&gt;info) ENTÃO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arou porque acabou list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aPosiçãoDuplo(aLista,dado,posição + 1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aPosiçãoDuplo(aLista, dado, posição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s Restantes: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conta do Alun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 de inclusão e exclus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Dupl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troi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ÇÃO destroiListaDupla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List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ElementoDupl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tual, *anterior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VaziaDupla(aLista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Lista-&gt;dados;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QUANTO (atual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NULO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r até o fim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tual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  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Vou para o próximo mesmo que seja nulo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tual &lt;- atual-&gt;sucessor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primeiro a Info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nterior-&gt;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o elemento que acabei de visitar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nterio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4.2.4.1 Exercício com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e o TAD Lista Duplamente Encadeada com funções para todas as suas ope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e um Módulo aplicativo programa principal que gerencie uma lista representando um itinerário de um trem. O programa deverá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tilizar um tipo info que represente uma estação de trem ten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ome da est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Hora de chegada e de saí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Hora de chegada e saída na vol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ceitar o cadastro de uma estação. O programa coloca a estação na posição por ordem de hora de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saíd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a 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programa deverá informar ao usuário dados sobre uma parada solicitada pelo usuário por nom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uando o trem chega na ida e na volta, qual a estação anterior e qual a estação que vem depo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azo: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2 seman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4.2.4.1 Exercício com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62520" y="4062240"/>
            <a:ext cx="129528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Gasp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4664160"/>
            <a:ext cx="129528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9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9: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62520" y="5265720"/>
            <a:ext cx="129528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2:3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2: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67280" y="4062240"/>
            <a:ext cx="114300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Blumen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4664160"/>
            <a:ext cx="114300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2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3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867280" y="5265720"/>
            <a:ext cx="114300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1:3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1: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057400" y="4062240"/>
            <a:ext cx="121932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Itaja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57400" y="4664160"/>
            <a:ext cx="121932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4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6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057400" y="5265720"/>
            <a:ext cx="121932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4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6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20120" y="4062240"/>
            <a:ext cx="121896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Trombu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20120" y="4664160"/>
            <a:ext cx="121896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7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8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20120" y="5265720"/>
            <a:ext cx="121896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7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8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534520" y="4062240"/>
            <a:ext cx="244440" cy="1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8200" y="3962520"/>
            <a:ext cx="488880" cy="144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05520" y="358128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038480" y="1447920"/>
            <a:ext cx="1905120" cy="838080"/>
          </a:xfrm>
          <a:prstGeom prst="ellipse">
            <a:avLst/>
          </a:prstGeom>
          <a:solidFill>
            <a:srgbClr val="b1011e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FS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: Representa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ão da lista encade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erenciamos o último elemento també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icionamos n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luímos d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03848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48769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0292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87692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08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1704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48769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50292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87692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0916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9848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48769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487692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060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956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510552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10552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114800"/>
            <a:ext cx="685800" cy="9907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55627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54864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51055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33280" y="350532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47000" y="35053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971800" y="3200400"/>
            <a:ext cx="1333800" cy="603000"/>
            <a:chOff x="2971800" y="3200400"/>
            <a:chExt cx="1333800" cy="603000"/>
          </a:xfrm>
        </p:grpSpPr>
        <p:sp>
          <p:nvSpPr>
            <p:cNvPr id="220" name=""/>
            <p:cNvSpPr/>
            <p:nvPr/>
          </p:nvSpPr>
          <p:spPr>
            <a:xfrm>
              <a:off x="3637080" y="320040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Fi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971800" y="3544920"/>
              <a:ext cx="478080" cy="25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57240" y="5562360"/>
            <a:ext cx="3085920" cy="612360"/>
            <a:chOff x="3657240" y="5562360"/>
            <a:chExt cx="3085920" cy="612360"/>
          </a:xfrm>
        </p:grpSpPr>
        <p:sp>
          <p:nvSpPr>
            <p:cNvPr id="223" name=""/>
            <p:cNvSpPr/>
            <p:nvPr/>
          </p:nvSpPr>
          <p:spPr>
            <a:xfrm>
              <a:off x="4195800" y="5715000"/>
              <a:ext cx="25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Elemento de Fi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657240" y="5562360"/>
              <a:ext cx="533160" cy="456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096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403848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4089240"/>
            <a:ext cx="5029200" cy="55908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21720" y="685800"/>
            <a:ext cx="2786760" cy="2379960"/>
          </a:xfrm>
          <a:prstGeom prst="rect">
            <a:avLst/>
          </a:prstGeom>
          <a:noFill/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Fila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 *inici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 *fi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 tamanh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cp:lastPrinted>1997-06-23T00:41:22Z</cp:lastPrinted>
  <dcterms:modified xsi:type="dcterms:W3CDTF">1999-05-19T16:26:30Z</dcterms:modified>
  <cp:revision>245</cp:revision>
  <dc:subject>C++</dc:subject>
  <dc:title>Estruturas de Dados - T.332  Capítulo 4 Parte 1: C++</dc:title>
</cp:coreProperties>
</file>