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127920" y="875808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26772534-D4B2-4E57-BE47-D7075BC6C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620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86F12BFE-3B06-4014-A626-EFD1DD5F6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2</a:t>
            </a:r>
            <a:br>
              <a:rPr sz="2800"/>
            </a:br>
            <a:r>
              <a:rPr b="0" lang="en-US" sz="4800" spc="-1" strike="noStrike">
                <a:solidFill>
                  <a:srgbClr val="8cf4ea"/>
                </a:solidFill>
                <a:latin typeface="Tahoma"/>
              </a:rPr>
              <a:t>Recapitulação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0 Introdução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1 Pilhas usando Vetores   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delamos as estruturas de dados propriamente ditas como um tipo estrutura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utura é uma coleção de variáveis referenciada por um mesmo no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magine um objeto sem méto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hamamos a cada elemento dessa coleção de ca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oritmica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Empregad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racter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nome[10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racter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rgo[2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aracter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ndereço[200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salari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mpregad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hef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29200" y="3352680"/>
            <a:ext cx="1760040" cy="533160"/>
            <a:chOff x="5029200" y="3352680"/>
            <a:chExt cx="1760040" cy="533160"/>
          </a:xfrm>
        </p:grpSpPr>
        <p:sp>
          <p:nvSpPr>
            <p:cNvPr id="133" name=""/>
            <p:cNvSpPr/>
            <p:nvPr/>
          </p:nvSpPr>
          <p:spPr>
            <a:xfrm>
              <a:off x="5442480" y="3352680"/>
              <a:ext cx="13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Camp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29200" y="365724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495680" y="5334120"/>
            <a:ext cx="2670120" cy="533160"/>
            <a:chOff x="4495680" y="5334120"/>
            <a:chExt cx="2670120" cy="533160"/>
          </a:xfrm>
        </p:grpSpPr>
        <p:sp>
          <p:nvSpPr>
            <p:cNvPr id="136" name=""/>
            <p:cNvSpPr/>
            <p:nvPr/>
          </p:nvSpPr>
          <p:spPr>
            <a:xfrm>
              <a:off x="4880520" y="5334120"/>
              <a:ext cx="22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Variável glob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495680" y="563868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delamos as operações sobre uma estrutura de dados como procedimentos ou fun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riáveis globais valem dentro de qualquer função (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escopo global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5280" indent="-21924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ntes de vermos alocação dinâmica de memória e ponteiros vamos trabalhar com funções sem alguns parâmetr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oritmica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mpregad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hef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Procedimento baixaSalario (inteiro porcentage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varia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real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auxilia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auxiliar &lt;- chefe.salario * porcentagem;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hefe.salário &lt;-  chefe.salario - auxilia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0" y="2819520"/>
            <a:ext cx="2670120" cy="533160"/>
            <a:chOff x="4572000" y="2819520"/>
            <a:chExt cx="2670120" cy="533160"/>
          </a:xfrm>
        </p:grpSpPr>
        <p:sp>
          <p:nvSpPr>
            <p:cNvPr id="141" name=""/>
            <p:cNvSpPr/>
            <p:nvPr/>
          </p:nvSpPr>
          <p:spPr>
            <a:xfrm>
              <a:off x="4956840" y="2819520"/>
              <a:ext cx="22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Variável glob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572000" y="312408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62520" y="4495680"/>
            <a:ext cx="2481120" cy="459720"/>
            <a:chOff x="3962520" y="4495680"/>
            <a:chExt cx="2481120" cy="459720"/>
          </a:xfrm>
        </p:grpSpPr>
        <p:sp>
          <p:nvSpPr>
            <p:cNvPr id="144" name=""/>
            <p:cNvSpPr/>
            <p:nvPr/>
          </p:nvSpPr>
          <p:spPr>
            <a:xfrm>
              <a:off x="4386960" y="4495680"/>
              <a:ext cx="205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Variável 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962520" y="4741920"/>
              <a:ext cx="380880" cy="1846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43600" y="3581280"/>
            <a:ext cx="2165040" cy="533160"/>
            <a:chOff x="5943600" y="3581280"/>
            <a:chExt cx="2165040" cy="533160"/>
          </a:xfrm>
        </p:grpSpPr>
        <p:sp>
          <p:nvSpPr>
            <p:cNvPr id="147" name=""/>
            <p:cNvSpPr/>
            <p:nvPr/>
          </p:nvSpPr>
          <p:spPr>
            <a:xfrm>
              <a:off x="6397920" y="3581280"/>
              <a:ext cx="171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Parâmet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943600" y="388584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Pilh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 Estrutur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 vetor para armazenar as informaçõ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 indicador da posição atual do topo da pilh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de uma constante que nos diga quando a pilha está cheia e duas outras para codificar er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constantes Maxpilha = 10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Pilha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dados[Maxpilha]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op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Pilh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 Funcion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ocar e retirar dados da pilh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ar se a pilha está vazia ou che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car e retirar dados da pil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Empilha(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Desempilha(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To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ar se a pilha está vazia ou che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ilhaChe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ilhaVaz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icializaPil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InicializaPilh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UNÇÃO inicializaPilh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ilha.topo &lt;- -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servação: Este e os próximos algoritmos pressupõem que foi definida uma variável global tipo Pilha denominad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aPilh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ilhaChei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pilhaChei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Pilha.topo = Maxpilha - 1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PilhaVazi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pilhaVazi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Pilha.topo = -1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Empilh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ta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Cheia = -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Vazia = -2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empilha(inteiro 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pilhaChe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Che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ilha.topo &lt;- aPilha.topo +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ilha.dados[aPilha.topo] &lt;- dad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Pilha.top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empilh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desempilh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pilhaVaz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Vaz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ilha.topo &lt;- aPilha.topo -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Pilha.top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empilha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nt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desempilh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pilhaVaz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SCREVA(“ERR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ilha vazia ao tentar desempilhar!”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Vaz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ilha.topo &lt;- aPilha.topo -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Pilha.dados[aPilha.topo]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0 Estruturas de Dados - Defin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struturas de Dados é a disciplina que estuda as técnicas computacionais para a organização e manipulação eficiente de quaisquer quantidades de inform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INDICIMA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689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Top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eiro FUNÇÃO topo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pilhaVazia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SCREVA(“ERRO:Pilha vazia ao acessar!”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Vazi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Pilha.dados[aPilha.topo]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853920"/>
                <a:tab algn="l" pos="1147680"/>
                <a:tab algn="l" pos="1432080"/>
                <a:tab algn="l" pos="1716120"/>
                <a:tab algn="l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Implementação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delagem dos da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#define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Maxpilha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#define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Cheia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#define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rroPilhaVazia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c0128"/>
                </a:solidFill>
                <a:latin typeface="Courier New"/>
              </a:rPr>
              <a:t>/* define estrutura de um tipo pilha *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struct estruturaDaPilha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dados[Maxpilha]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int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top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c0128"/>
                </a:solidFill>
                <a:latin typeface="Courier New"/>
              </a:rPr>
              <a:t>/* declara o tipo Pilha com a estrutura dada *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typedef struct estruturaDaPilha Pilh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Implementação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dificaç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ódigo de definição de tipos e constantes são sempre colocados em arquivos cabeçalho (headerfil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es arquivos têm sempre o sufixo .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mpl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pilha.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a carregar as definições utilizamos a diretiva de compilação #include no programa que for utilizar aquele tip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#include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&lt;stdio.h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#include 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“pilha.h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Implementação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delagem das operaçõ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/*  Função que empilha dados em Pilha de Inteiros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/*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Parametros: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/*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   dado: o dado que vai ser empilhado. 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int empilha(int d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IF ( pilhaCheia()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RETURN(ErroPilhaCheia);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Pilha.topo = aPilha.topo + 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Pilha.dados[aPilha.topo] = dad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RETURN(aPilha.top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1828800"/>
            <a:ext cx="8305920" cy="53352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2286000"/>
            <a:ext cx="8305920" cy="3808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2819520"/>
            <a:ext cx="8305920" cy="53316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352680"/>
            <a:ext cx="8305920" cy="53352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3809880"/>
            <a:ext cx="8305920" cy="30492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0 Estruturas de Dados - 2 Aspect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7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m um projeto de software, 2 aspectos devem ser considerados para sua implementaç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8280" indent="-278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que forma estão organizados os dados, qual a sua 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estrutur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8280" indent="-278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is procedimentos atuam sobre estes dados, que 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operaçõe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dem ser realizadas sobre e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8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o estudar estruturas de dados teremos sempre este 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8280" indent="-278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 conjunto estruturado de inform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840" indent="-2797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classe de objeto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ou um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tipo de dado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8280" indent="-2782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 conjunto definido de operações sobre estes da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840" indent="-27972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conjunto de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método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ou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funçõe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4038480"/>
            <a:ext cx="8305920" cy="129564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Programa Principal em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plicacao: Leitura de Dados Int. do Usuário e 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Armazenamento em uma Pilha.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/*  PROGRAMA PRINCIPAL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c0128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´a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WHILE ( tecla != ´f´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\nDigite E p/empilhar, D p/desempilhar \n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M para mostra pilha e F p/fim \n”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ecla = getchar(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getchar(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Ler o [enter]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WITCH (tecla)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´E´: {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printf(“Digite o valor p/empilhar: “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scanf(“%d%”, &amp;dado);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Não esqueça do &amp;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if (empilha(dado) &lt; 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{ printf(“Erro: Pilha cheia! \n”)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- - -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switch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/* fim while *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Implementação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a geral de um programa “C”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#include &lt;cabeçalhos-padrão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#include “cabeçalhos específico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função1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funçã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 -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Implementação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erfiles nunca possuem comandos, somente defini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derfiles sempre são incluí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ém todas as definiçõ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quivos de programa (comando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nc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ão incluí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nc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ossuem diretivas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de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quivos de programa sempre têm sufixo .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s tarde vere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o utilizar mais de um arquivo .c (módul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o garantir que definições não sejam repetidas com as diretivas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fnde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fde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 - Compilação “C”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mada do compil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afd00"/>
                </a:solidFill>
                <a:latin typeface="Courier New"/>
              </a:rPr>
              <a:t>gcc -g -o &lt;executavel&gt; arq1.c arq2.c … arqN.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ica ao compilador para gerar código debugá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-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me do arquivo executável que será ger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Pilhas com Vetores - Roteiro de Laboratóri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visão da Modelagem e Implement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tilização do Un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retórios, donos de diretórios, start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npages. Exemplos com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getchar()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canf(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X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T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transferir arquivos de e para a rede in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dição de Programas usando 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Xem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eu cha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edi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com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debug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1 Pilh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1252440"/>
            <a:ext cx="48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Pilha é uma estrutura de dados cujo funcionamento é inspirado no de uma pilha “natur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2096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209680"/>
            <a:ext cx="0" cy="274320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600" y="49528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71600" y="26668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600" y="31240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371600" y="35812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71600" y="40384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4495680"/>
            <a:ext cx="45720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2.1 Pilhas usando Vetore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4495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384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5812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1240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6668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209680"/>
            <a:ext cx="457200" cy="457200"/>
          </a:xfrm>
          <a:prstGeom prst="rect">
            <a:avLst/>
          </a:prstGeom>
          <a:gradFill rotWithShape="0">
            <a:gsLst>
              <a:gs pos="0">
                <a:srgbClr val="9ccdfc"/>
              </a:gs>
              <a:gs pos="50000">
                <a:srgbClr val="114ffb"/>
              </a:gs>
              <a:gs pos="100000">
                <a:srgbClr val="9ccdfc"/>
              </a:gs>
            </a:gsLst>
            <a:lin ang="54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495680"/>
            <a:ext cx="533520" cy="457200"/>
          </a:xfrm>
          <a:prstGeom prst="rect">
            <a:avLst/>
          </a:prstGeom>
          <a:solidFill>
            <a:srgbClr val="9ccdfc"/>
          </a:solidFill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46680" y="1252440"/>
            <a:ext cx="489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etores possuem um espaço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mitado para armazenamento d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finir um espaço grande o suficiente para a nossa pil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 indicador de qual elemento do vetor é o atual topo da pil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04760" y="1523880"/>
            <a:ext cx="1411200" cy="825480"/>
            <a:chOff x="1904760" y="1523880"/>
            <a:chExt cx="1411200" cy="825480"/>
          </a:xfrm>
        </p:grpSpPr>
        <p:sp>
          <p:nvSpPr>
            <p:cNvPr id="117" name=""/>
            <p:cNvSpPr/>
            <p:nvPr/>
          </p:nvSpPr>
          <p:spPr>
            <a:xfrm>
              <a:off x="2377800" y="1523880"/>
              <a:ext cx="93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Pilh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che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904760" y="1828440"/>
              <a:ext cx="38052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438280" y="3886200"/>
            <a:ext cx="1392480" cy="825480"/>
            <a:chOff x="2438280" y="3886200"/>
            <a:chExt cx="1392480" cy="825480"/>
          </a:xfrm>
        </p:grpSpPr>
        <p:sp>
          <p:nvSpPr>
            <p:cNvPr id="120" name=""/>
            <p:cNvSpPr/>
            <p:nvPr/>
          </p:nvSpPr>
          <p:spPr>
            <a:xfrm>
              <a:off x="2930760" y="388620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Pilh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vaz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438280" y="4190760"/>
              <a:ext cx="380880" cy="228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Implementação de Pilhas </a:t>
            </a:r>
            <a:br>
              <a:rPr sz="2800"/>
            </a:b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utilizando 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aremos a Estrutura de Dados Pilha  utilizando a técnica da Programação Estrutur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gr. Estr.: Inventada por Niklaus Wirth (década 70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mbém chamada de “Programação sem GoT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 Didátic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visão/introdução da Programação Estrutur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delagem da Pilha e de seus algoritmos usando esta técn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ada na expressão de algoritmos única e exclusivamente através de 4 grupos de </a:t>
            </a:r>
            <a:br>
              <a:rPr sz="2400"/>
            </a:br>
            <a:r>
              <a:rPr b="1" lang="en-US" sz="2400" spc="-1" strike="noStrike">
                <a:solidFill>
                  <a:srgbClr val="f57b49"/>
                </a:solidFill>
                <a:latin typeface="Tahoma"/>
              </a:rPr>
              <a:t>estruturas de contro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Bloc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Comando ou conjunto de comandos 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semp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xecutados em seqüênci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 (pascal):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begin … en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Estrutura condicio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SE-ENTÃO-SENÃ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 (pascal):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f (cond) then bloco1 else bloco2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Estrutura de repetiç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NQUANTO COND FAÇA BLOC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 (pascal):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while (cond) do bloc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Estrutura de abstraç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Procedimento ou Funçã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rupamento de comandos com um nome e eventualmente também parâmetros nome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a nós parece um retroces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épo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azia-se programas completamente ininteligívei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oi um grande avanço no sentido 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e produzir código mais fácil de se manter e entender 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m mais qualida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Programação Estruturada defini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nova disciplina na program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novo grupo de linguagens de programaçao, a 3ª Ger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xemplos: Pascal, Algol, C, PL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inda utilizadíssima hoje em d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istemas Operacion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nálise Numérica/Computação Gráf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des de Computad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Programação Estrutur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ão existem objet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ados e seu comportamento são considerados em sepa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nificar uma estrutura de dados com as operações definidas sobre a mesma é função do program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istem variáveis e tipos (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dado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riáveis podem ser globais ou locais (escopo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ipos podem ser primitivos, derivados ou estrutur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istem procedimentos e funções (</a:t>
            </a:r>
            <a:r>
              <a:rPr b="0" lang="pt-BR" sz="2400" spc="-1" strike="noStrike">
                <a:solidFill>
                  <a:srgbClr val="f57b49"/>
                </a:solidFill>
                <a:latin typeface="Tahoma"/>
              </a:rPr>
              <a:t>comportament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junto de comandos referenciados por um no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procedimento é especial e se chama Programa Princip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cp:lastPrinted>1997-06-23T00:41:22Z</cp:lastPrinted>
  <dcterms:modified xsi:type="dcterms:W3CDTF">1999-12-16T15:54:59Z</dcterms:modified>
  <cp:revision>97</cp:revision>
  <dc:subject>C++</dc:subject>
  <dc:title>Estruturas de Dados - T.332  Capítulo 4 Parte 1: C++</dc:title>
</cp:coreProperties>
</file>