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7760" cy="38498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6127920" y="8758080"/>
            <a:ext cx="92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fld id="{8B8C75A5-FA00-4B6E-8621-9CD036FE1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6200" y="792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870588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776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36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5328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44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36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5328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381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09480" cy="6845400"/>
            <a:chOff x="0" y="0"/>
            <a:chExt cx="60948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60948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2840" y="162000"/>
              <a:ext cx="85680" cy="6543720"/>
              <a:chOff x="42840" y="162000"/>
              <a:chExt cx="856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42840" y="1752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2840" y="1981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2840" y="2209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840" y="2438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840" y="2666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840" y="2895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840" y="3124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840" y="3352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840" y="3581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2840" y="3809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840" y="4038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2840" y="4267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2840" y="4495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2840" y="4724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2840" y="4952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840" y="5181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840" y="5410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2840" y="5638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840" y="5867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2840" y="6095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2840" y="6324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2840" y="6553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2840" y="162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2840" y="390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2840" y="6192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2840" y="8478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2840" y="10764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2840" y="1305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42840" y="1533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82800" y="6486480"/>
            <a:ext cx="699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INE - UFSC        -      Disciplina Estruturas de Dados       -       Prof. Dr. Aldo von Wangenhei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101360" y="6486480"/>
            <a:ext cx="146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ágina </a:t>
            </a:r>
            <a:fld id="{CA23B9EE-2A04-45B0-89C7-423F687D7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" name="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Book Antiqua"/>
              </a:rPr>
              <a:t>Estruturas de Dados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- T.33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apítulo 2</a:t>
            </a:r>
            <a:br>
              <a:rPr sz="2800"/>
            </a:br>
            <a:r>
              <a:rPr b="0" lang="en-US" sz="4800" spc="-1" strike="noStrike">
                <a:solidFill>
                  <a:srgbClr val="8cf4ea"/>
                </a:solidFill>
                <a:latin typeface="Tahoma"/>
              </a:rPr>
              <a:t>Recapitulação</a:t>
            </a:r>
            <a:br>
              <a:rPr sz="4800"/>
            </a:br>
            <a:br>
              <a:rPr sz="4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2.2 Listas usando Vetore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a 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Testar a lista e outros tes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ListaChe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ListaVaz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Posicao(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Contem(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Igual(dado1,dado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Maior(dado1,dado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Menor(dado1,dado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Inicializar ou limp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Inicializa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Destroi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Inicializa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UNÇÃO inicializaList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.ultimo &lt;- -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servação: Este e os próximos algoritmos pressupõem que foi definida uma variável global tipo Lista denominad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aList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Destroi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UNÇÃO destroiList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.ultimo &lt;- -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57b49"/>
                </a:solidFill>
                <a:latin typeface="Tahoma"/>
              </a:rPr>
              <a:t>Observaçã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Este algoritmo parece redundante. Colocar a sua semantica em separado da inicialização porém, é importante. Mais tarde veremos que, utilizando alocação deinâmica de memória, possuir um </a:t>
            </a: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estruto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ara  alista é muito importan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ListaChei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ooleano FUNÇÃO listaChei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Lista.ultimo = Maxlista - 1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Verda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Fals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ListaVazi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ooleano FUNÇÃO listaVazi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Lista.ultimo = -1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Verda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Fals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8640" y="114264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há espaç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crementamos o últi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dicionamos o novo d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dado a ser inse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 (glob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371600" y="2209680"/>
            <a:ext cx="457200" cy="2743200"/>
            <a:chOff x="1371600" y="2209680"/>
            <a:chExt cx="457200" cy="2743200"/>
          </a:xfrm>
        </p:grpSpPr>
        <p:sp>
          <p:nvSpPr>
            <p:cNvPr id="160" name=""/>
            <p:cNvSpPr/>
            <p:nvPr/>
          </p:nvSpPr>
          <p:spPr>
            <a:xfrm>
              <a:off x="1828800" y="2209680"/>
              <a:ext cx="0" cy="274320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2209680"/>
              <a:ext cx="0" cy="274320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71600" y="2209680"/>
              <a:ext cx="457200" cy="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71600" y="4495680"/>
              <a:ext cx="457200" cy="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71600" y="4038480"/>
              <a:ext cx="457200" cy="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71600" y="3581280"/>
              <a:ext cx="457200" cy="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71600" y="3124080"/>
              <a:ext cx="457200" cy="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371600" y="2666880"/>
              <a:ext cx="457200" cy="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828800" y="2209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209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4495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371600" y="2209680"/>
            <a:ext cx="457200" cy="2286000"/>
            <a:chOff x="1371600" y="2209680"/>
            <a:chExt cx="457200" cy="2286000"/>
          </a:xfrm>
        </p:grpSpPr>
        <p:sp>
          <p:nvSpPr>
            <p:cNvPr id="172" name=""/>
            <p:cNvSpPr/>
            <p:nvPr/>
          </p:nvSpPr>
          <p:spPr>
            <a:xfrm>
              <a:off x="137160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71600" y="35812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71600" y="31240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71600" y="2666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8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71600" y="2209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sta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ListaCheia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= -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ListaVazia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= -2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Posição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= -3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eiro FUNÇÃO adiciona(inteiro 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listaCheia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ListaChei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.ultimo &lt;- aLista.ultimo + 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.dados[aLista.ultimo] &lt;- dad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Lista.ultim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há ele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rementamos o últi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volvemos o último ele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 (glob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eiro FUNÇÃO retir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listaVazia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ListaVazi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.ultimo &lt;- aLista.ultimo - 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Lista.dados[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aLista.ultimo + 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servação: note que aqui se aplicam as mesmas restrições das diversas variantes do algoritmo 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desempilh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19360" y="1142640"/>
            <a:ext cx="46479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há espaç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crementamos o últi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mpuramos tudo para trá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dicionamos o novo dado na primeira posi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dado a ser inse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 (glob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2209680"/>
            <a:ext cx="0" cy="274320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209680"/>
            <a:ext cx="0" cy="274320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371600" y="22096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371600" y="44956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371600" y="40384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371600" y="35812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371600" y="31240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371600" y="26668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2209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40384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35812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1240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6668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209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209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495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4267080"/>
            <a:ext cx="0" cy="53352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0384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3733920"/>
            <a:ext cx="0" cy="53316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3276720"/>
            <a:ext cx="0" cy="53316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35812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2895480"/>
            <a:ext cx="0" cy="53352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31240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362320"/>
            <a:ext cx="0" cy="53316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209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2.2 Estrutura de Dados Lista - Defin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Uma Estrutura de Dados Lista é um conjunto de dados dispostos e/ou acessáveis em uma seqüência determin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e conjunto de dados pode possuir uma ordem intrínseca (Lista Ordenada) ou n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e conjunto de dados pode ocupar espaços de memória fisicamente consecutivos, espelhando a sua ordem, ou n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e os dados estiverem dispersos fisicamente, para que este conjunto seja uma lista, ele deve possuir operações e informações adicionais que permitam que seja tratado como tal (Lista Encadead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INDICIMA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6890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oInício(inteiro dad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“Variável auxiliar para caminhar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Che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Che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aLista.ult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gt; 0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tra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-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.dados[0]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0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3124080"/>
            <a:ext cx="8534520" cy="60984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oInício(inteiro dad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“Variável auxiliar para caminhar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Che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Che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aLista.ult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gt; 0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tra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-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.dados[0]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0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flipV="1">
            <a:off x="609480" y="3732840"/>
            <a:ext cx="8534520" cy="152388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oInício(inteiro dad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“Variável auxiliar para caminhar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Che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Che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aLista.ult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gt; 0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tra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-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.dados[0]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0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09480" y="5257800"/>
            <a:ext cx="8534520" cy="30492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oInício(inteiro dad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“Variável auxiliar para caminhar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Che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Che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aLista.ult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gt; 0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tra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-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.dados[0]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0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66720" y="114264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há ele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rementamos o últi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alvamos e primeiro ele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mpuramos tudo para a fr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 (glob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86000"/>
            <a:ext cx="0" cy="274320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286000"/>
            <a:ext cx="0" cy="274320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71600" y="228600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371600" y="457200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371600" y="411480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371600" y="365760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371600" y="320040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371600" y="274320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228600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228600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28600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71600" y="2743200"/>
            <a:ext cx="457200" cy="2286000"/>
            <a:chOff x="1371600" y="2743200"/>
            <a:chExt cx="457200" cy="2286000"/>
          </a:xfrm>
        </p:grpSpPr>
        <p:sp>
          <p:nvSpPr>
            <p:cNvPr id="240" name=""/>
            <p:cNvSpPr/>
            <p:nvPr/>
          </p:nvSpPr>
          <p:spPr>
            <a:xfrm>
              <a:off x="1371600" y="45720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71600" y="41148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71600" y="3657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71600" y="32004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8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1600" y="27432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371600" y="2286000"/>
            <a:ext cx="457200" cy="2286000"/>
            <a:chOff x="1371600" y="2286000"/>
            <a:chExt cx="457200" cy="2286000"/>
          </a:xfrm>
        </p:grpSpPr>
        <p:sp>
          <p:nvSpPr>
            <p:cNvPr id="246" name=""/>
            <p:cNvSpPr/>
            <p:nvPr/>
          </p:nvSpPr>
          <p:spPr>
            <a:xfrm>
              <a:off x="1371600" y="41148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71600" y="3657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71600" y="32004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71600" y="27432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8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71600" y="22860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371600" y="4572000"/>
            <a:ext cx="457200" cy="457200"/>
          </a:xfrm>
          <a:prstGeom prst="rect">
            <a:avLst/>
          </a:prstGeom>
          <a:solidFill>
            <a:srgbClr val="114ffb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28600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retiraDoInício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, valor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Vaz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Vaz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 &lt;- aLista.dados[0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lt;= aLista.ultimo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frent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+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4800" y="3124080"/>
            <a:ext cx="8534520" cy="60984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retiraDoInício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, valor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Vaz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Vaz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 &lt;- aLista.dados[0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lt;= aLista.ultimo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frent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+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V="1">
            <a:off x="604800" y="3733560"/>
            <a:ext cx="8534520" cy="175248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retiraDoInício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, valor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Vaz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Vaz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 &lt;- aLista.dados[0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lt;= aLista.ultimo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frent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+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5562720"/>
            <a:ext cx="8534520" cy="30456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retiraDoInício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, valor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Vaz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Vaz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 &lt;- aLista.dados[0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lt;= aLista.ultimo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frent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+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há espaço e se a posição exis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crementamos o últi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mpuramos tudo para trás a partir da posi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dicionamos o novo dado na posição d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dado a ser inse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posição onde inser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 (glob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2.2 Vimos 2 Aspecto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3886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m um projeo de software, 2 aspectos devem ser considera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 que forma estão organizados os dados, qual a sua </a:t>
            </a:r>
            <a:r>
              <a:rPr b="0" lang="pt-BR" sz="2400" spc="-1" strike="noStrike">
                <a:solidFill>
                  <a:srgbClr val="f57b49"/>
                </a:solidFill>
                <a:latin typeface="Tahoma"/>
              </a:rPr>
              <a:t>estrutur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Quais procedimentos atuam sobre estes dados, que </a:t>
            </a:r>
            <a:r>
              <a:rPr b="0" lang="pt-BR" sz="2400" spc="-1" strike="noStrike">
                <a:solidFill>
                  <a:srgbClr val="f57b49"/>
                </a:solidFill>
                <a:latin typeface="Tahoma"/>
              </a:rPr>
              <a:t>operaçõe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podem ser realizadas sobre e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amos ver agora  estes aspectos para as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ista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aPosição(inteiro dado,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destin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Che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Che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destin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&gt; aLista.ultimo + 1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Posiçã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aLista.ult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posição &gt; destino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tra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-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.dados[destino]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aonde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04800" y="2666880"/>
            <a:ext cx="8534520" cy="114300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aPosição(inteiro dado,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destin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Che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Che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destin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&gt; aLista.ultimo + 1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Posiçã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aLista.ult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posição &gt; destino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tra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-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.dados[destino]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aonde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 flipV="1">
            <a:off x="604800" y="3808800"/>
            <a:ext cx="8534520" cy="160020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aPosição(inteiro dado,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destin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Che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Che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destin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&gt; aLista.ultimo + 1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Posiçã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aLista.ult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posição &gt; destino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tra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-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.dados[destino]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aonde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4800" y="5410080"/>
            <a:ext cx="8534520" cy="30492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aPosição(inteiro dado,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destin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Che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Che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destin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&gt; aLista.ultimo + 1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Posiçã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aLista.ult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posição &gt; destino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tra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-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.dados[destino]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aonde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há elementos e se a posição exis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rementamos o últi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alvamos elemento na posi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mpuramos tudo para frente até posi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dado a ser inse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posição onde inser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 (glob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retiraDaPosição(inteiro font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, valor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fonte &gt; aLista.ultimo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Posiçã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(listaVaz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Vaz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 &lt;- aLista.dados[fonte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fonte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lt;= aLista.ultimo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frent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+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09480" y="1828800"/>
            <a:ext cx="8534520" cy="53352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retiraDaPosição(inteiro font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, valor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fonte &gt; aLista.ultimo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Posiçã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(listaVaz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Vaz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 &lt;- aLista.dados[fonte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fonte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lt;= aLista.ultimo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frent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+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09480" y="3276720"/>
            <a:ext cx="8534520" cy="53316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retiraDaPosição(inteiro font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, valor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fonte &gt; aLista.ultimo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Posiçã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(listaVaz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Vaz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 &lt;- aLista.dados[fonte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fonte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lt;= aLista.ultimo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frent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+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09480" y="3809880"/>
            <a:ext cx="8534520" cy="144792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retiraDaPosição(inteiro font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, valor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fonte &gt; aLista.ultimo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Posiçã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(listaVaz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Vaz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 &lt;- aLista.dados[fonte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fonte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lt;= aLista.ultimo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frent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+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 flipV="1">
            <a:off x="609480" y="5256720"/>
            <a:ext cx="8534520" cy="30492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retiraDaPosição(inteiro font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, valor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fonte &gt; aLista.ultimo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Posiçã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(listaVaz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Vaz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ista.ultimo &lt;- aLista.ultim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 &lt;- aLista.dados[fonte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fonte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&lt;= aLista.ultimo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mpurrar tudo para frent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Lista.dados[posicao] &lt;- aLista.dados[posicao + 1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valo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2.2.0 List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495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0384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35812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240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6668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209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68580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Lista é uma estrutura de dados cujo funcionamento é inspirado no de uma lista “natur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2133720"/>
            <a:ext cx="5121360" cy="387468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Uma lista pode ser Ordenada ou n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5280" indent="-1922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Quando for ordenada, pode o ser por alguma </a:t>
            </a:r>
            <a:r>
              <a:rPr b="0" lang="pt-BR" sz="2000" spc="-1" strike="noStrike">
                <a:solidFill>
                  <a:srgbClr val="f57b49"/>
                </a:solidFill>
                <a:latin typeface="Tahoma"/>
              </a:rPr>
              <a:t>característica intrínseca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dos dados (ex: ordem alfabétic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5280" indent="-1922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ode também refletir a </a:t>
            </a:r>
            <a:r>
              <a:rPr b="0" lang="pt-BR" sz="2000" spc="-1" strike="noStrike">
                <a:solidFill>
                  <a:srgbClr val="f57b49"/>
                </a:solidFill>
                <a:latin typeface="Tahoma"/>
              </a:rPr>
              <a:t>ordem cronológica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(ordem de inserção) dos dado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5280" indent="-1922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m Smalltalk, a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OrderedCollection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é uma lista cronológica (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add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, a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SortedCollection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é uma lista ordenada por um critério inter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33720" y="2209680"/>
            <a:ext cx="457200" cy="2743200"/>
            <a:chOff x="2133720" y="2209680"/>
            <a:chExt cx="457200" cy="2743200"/>
          </a:xfrm>
        </p:grpSpPr>
        <p:sp>
          <p:nvSpPr>
            <p:cNvPr id="95" name=""/>
            <p:cNvSpPr/>
            <p:nvPr/>
          </p:nvSpPr>
          <p:spPr>
            <a:xfrm>
              <a:off x="2133720" y="4495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8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33720" y="35812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1240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2666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2209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9ccdfc"/>
                </a:gs>
                <a:gs pos="50000">
                  <a:srgbClr val="114ffb"/>
                </a:gs>
                <a:gs pos="100000">
                  <a:srgbClr val="9ccdfc"/>
                </a:gs>
              </a:gsLst>
              <a:lin ang="54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EmOrdem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ecessitamos de uma função para comparar os dados (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maior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há espaç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uramos pela posição onde inserir comparando d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hamamos </a:t>
            </a:r>
            <a:r>
              <a:rPr b="1" lang="pt-BR" sz="2400" spc="-1" strike="noStrike">
                <a:solidFill>
                  <a:srgbClr val="fafd00"/>
                </a:solidFill>
                <a:latin typeface="Courier New"/>
              </a:rPr>
              <a:t>adicionaNaPosiçã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dado a ser inse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 (glob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Maior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ooleano FUNÇÃO maior(inteiro dado1, dado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dado1 &gt; dado2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Verda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Fals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57b49"/>
                </a:solidFill>
                <a:latin typeface="Tahoma"/>
              </a:rPr>
              <a:t>Observaçã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: Quando o dado a ser armazenado em uma lista for algo mai scomplexo do que um inteiro, a comparação de precedênci não será mais tão simples (ex.: Empregado1 &gt; Empregado2) e será resultado de um conjunto mais complexo de operações.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Para deixar os algoritmos de operações sobre lista </a:t>
            </a:r>
            <a:r>
              <a:rPr b="0" lang="pt-BR" sz="1800" spc="-1" strike="noStrike">
                <a:solidFill>
                  <a:srgbClr val="fafd00"/>
                </a:solidFill>
                <a:latin typeface="Tahoma"/>
              </a:rPr>
              <a:t>independentes do tipo de dado específico armazenado na lista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, usamos uma função deste tip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EmOrdem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EmOrdem(inteiro dad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ção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“Variável auxiliar para caminhar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listaChei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rroListaChei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QUANTO (posição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&lt;=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aLista.ultimo 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maior(dado, aLista.dados[posição])) FAÇ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“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contrar posição para inserir”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osição &lt;- posiçã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RETORNE(adicionaNaPosição(dado,posição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Específic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Retira um dado específico da l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há ele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o dado existe e qual sua posi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ecessitamos de uma função </a:t>
            </a:r>
            <a:r>
              <a:rPr b="1" lang="pt-BR" sz="2400" spc="-1" strike="noStrike">
                <a:solidFill>
                  <a:srgbClr val="fafd00"/>
                </a:solidFill>
                <a:latin typeface="Courier New"/>
              </a:rPr>
              <a:t>Posição(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hamamos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</a:rPr>
              <a:t>RetiraDaPosiçã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dado a ser retir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 (glob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eiro FUNÇÃO posição(inteiro 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eiro posiçã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posiçã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lt;- 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NQUANTO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posição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&lt;= aLista.ultimo 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NÃO(IGUAL(dado,aLista.dados[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posição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])))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AÇ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osição &lt;- posição + 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ENQUA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posiçã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gt; aLista.ultimo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Posiçã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posiçã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Específic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eiro FUNÇÃO retiraEspecífico(inteiro 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eiro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osição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listaVazia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ListaVazi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osição &lt;- posição(dad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S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(posição &lt; 0) 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Posiçã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retiraDaPosição(posição)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Algoritmos Restante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seguintes funçõ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afd00"/>
                </a:solidFill>
                <a:latin typeface="Tahoma"/>
              </a:rPr>
              <a:t>booleano Contem(dad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afd00"/>
                </a:solidFill>
                <a:latin typeface="Tahoma"/>
              </a:rPr>
              <a:t>booleano Igual(dado1, dado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afd00"/>
                </a:solidFill>
                <a:latin typeface="Tahoma"/>
              </a:rPr>
              <a:t>booleano Menor(dado1, dado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icam por conta do alu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28800" y="2209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71600" y="2209680"/>
            <a:ext cx="457200" cy="2743200"/>
            <a:chOff x="1371600" y="2209680"/>
            <a:chExt cx="457200" cy="2743200"/>
          </a:xfrm>
        </p:grpSpPr>
        <p:sp>
          <p:nvSpPr>
            <p:cNvPr id="103" name=""/>
            <p:cNvSpPr/>
            <p:nvPr/>
          </p:nvSpPr>
          <p:spPr>
            <a:xfrm>
              <a:off x="1828800" y="2209680"/>
              <a:ext cx="0" cy="274320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2209680"/>
              <a:ext cx="0" cy="274320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371600" y="2209680"/>
              <a:ext cx="457200" cy="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371600" y="4495680"/>
              <a:ext cx="457200" cy="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371600" y="4038480"/>
              <a:ext cx="457200" cy="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371600" y="3581280"/>
              <a:ext cx="457200" cy="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71600" y="3124080"/>
              <a:ext cx="457200" cy="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1600" y="2666880"/>
              <a:ext cx="457200" cy="0"/>
            </a:xfrm>
            <a:prstGeom prst="line">
              <a:avLst/>
            </a:prstGeom>
            <a:ln w="3816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2.2.1 Listas usando Vetore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209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09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2209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209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209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209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46680" y="1252440"/>
            <a:ext cx="489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etores possuem um espaço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mitado para armazenamento d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ecessitamos definir um espaço grande o suficiente para a lis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ecessitamos de um indicador de qual elemento do vetor é o 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atual ultimo element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da lis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981080" y="4952880"/>
            <a:ext cx="1573200" cy="978120"/>
            <a:chOff x="1981080" y="4952880"/>
            <a:chExt cx="1573200" cy="978120"/>
          </a:xfrm>
        </p:grpSpPr>
        <p:sp>
          <p:nvSpPr>
            <p:cNvPr id="120" name=""/>
            <p:cNvSpPr/>
            <p:nvPr/>
          </p:nvSpPr>
          <p:spPr>
            <a:xfrm>
              <a:off x="2616120" y="5105520"/>
              <a:ext cx="93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Lis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che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1981080" y="4952880"/>
              <a:ext cx="53352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438280" y="1447920"/>
            <a:ext cx="1401840" cy="825480"/>
            <a:chOff x="2438280" y="1447920"/>
            <a:chExt cx="1401840" cy="825480"/>
          </a:xfrm>
        </p:grpSpPr>
        <p:sp>
          <p:nvSpPr>
            <p:cNvPr id="123" name=""/>
            <p:cNvSpPr/>
            <p:nvPr/>
          </p:nvSpPr>
          <p:spPr>
            <a:xfrm>
              <a:off x="2940120" y="1447920"/>
              <a:ext cx="9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Lis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vaz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438280" y="1752480"/>
              <a:ext cx="38088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371600" y="4495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0384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5812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1240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26668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2209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Modelagem de Listas </a:t>
            </a:r>
            <a:br>
              <a:rPr sz="2800"/>
            </a:b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utilizando Programação Estrutur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delaremos a Estrutura de Dados Lista utilizando a técnica da Programação Estruturada e como forma de armazenamento um Vetor (Array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Veremos somente algorit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Veremos algoritmos tanto para uma lista cronológica como para uma lista ordenada.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edimento Didátic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odelagem da Lista e de seus algoritmos usando a técnica estrutura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xercí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a 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 Estrutur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sitamos de um vetor para armazenar as informaçõ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sitamos de um indicador da posição atual do 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ultimo element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a 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sitamos de uma constante que nos diga quando a lista está cheia e duas outras para codificar er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eudo-códig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constantes Maxlista = 10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Lista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inteiro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dados[Maxlista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inteir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ult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a 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ecto Funcion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car e retirar dados da li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ar se a lista está vazia ou cheia e outros tes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aliza-la e garantir a ordem dos ele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a 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Colocar e retirar dados da lis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(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NoInício(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NaPosição(dado,posiçã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EmOrdem(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(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DoInício(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DaPosição(posiçã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Específico(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2T02:53:20Z</dcterms:created>
  <dc:creator>Prof. Dr. Aldo von Wangenheim</dc:creator>
  <dc:description/>
  <cp:keywords>C++</cp:keywords>
  <dc:language>en-US</dc:language>
  <cp:lastModifiedBy>Kaiser</cp:lastModifiedBy>
  <cp:lastPrinted>1997-06-23T00:41:22Z</cp:lastPrinted>
  <dcterms:modified xsi:type="dcterms:W3CDTF">1999-04-20T22:12:31Z</dcterms:modified>
  <cp:revision>138</cp:revision>
  <dc:subject>C++</dc:subject>
  <dc:title>Estruturas de Dados - T.332  Capítulo 4 Parte 1: C++</dc:title>
</cp:coreProperties>
</file>