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26.png" ContentType="image/png"/>
  <Override PartName="/ppt/media/image17.jpeg" ContentType="image/jpe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5.png" ContentType="image/png"/>
  <Override PartName="/ppt/media/image28.png" ContentType="image/png"/>
  <Override PartName="/ppt/media/image30.png" ContentType="image/png"/>
  <Override PartName="/ppt/media/image3.jpeg" ContentType="image/jpe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8.jpeg" ContentType="image/jpeg"/>
  <Override PartName="/ppt/media/image2.jpeg" ContentType="image/jpeg"/>
  <Override PartName="/ppt/media/image20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5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D3D11-B574-4082-87C4-DA7ACBDE60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C27F3-9609-4556-A7E2-80E53AA58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20BC4-3C53-4374-919E-C8BF6AB63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76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468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76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468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44D87-12DB-4457-AE68-F7C013BF05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83818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9B3B6-0905-4773-B693-F89D8FC56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39225-883F-4327-8673-C29EF9E7A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EE73-0DC1-46BA-884A-0A8310E40A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DCBE8-1BBF-4A2A-9636-EEF5975E7C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83818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919CD-AD3F-4D25-A04B-2B80A37AEC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9B17-7C7D-4BF6-AD95-C5BECC3388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ACA8-E376-49DA-BDAC-3D659764C8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E4CF3-93E1-4748-A641-7BCDA6AC6D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328040" indent="-1897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707480" indent="-1897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707480" indent="-1897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707480" indent="-1897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CB67E-E181-436A-B233-BB4B9CE4C5FF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566680" y="203040"/>
            <a:ext cx="2506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ahoma"/>
              </a:rPr>
              <a:t>Disciplina Computação Gráf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Curso de Ciência da Camputaçã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INE/CTC/UF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cyclops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9072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134000" y="203040"/>
            <a:ext cx="278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ahoma"/>
              </a:rPr>
              <a:t>The Cyclops Proj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German-Brazilian Cooperation Programme on I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CNPq GMD DL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sgi3d" descr="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042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55308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f. Dr. rer.nat. Aldo v. Wangenheim - Departamento de Informática e Estatística - INE/CTC/UF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gi3d" descr=""/>
          <p:cNvPicPr/>
          <p:nvPr/>
        </p:nvPicPr>
        <p:blipFill>
          <a:blip r:embed="rId2"/>
          <a:stretch/>
        </p:blipFill>
        <p:spPr>
          <a:xfrm>
            <a:off x="2133720" y="1297080"/>
            <a:ext cx="5105160" cy="4995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cyclops2" descr=""/>
          <p:cNvPicPr/>
          <p:nvPr/>
        </p:nvPicPr>
        <p:blipFill>
          <a:blip r:embed="rId3"/>
          <a:stretch/>
        </p:blipFill>
        <p:spPr>
          <a:xfrm>
            <a:off x="7543800" y="0"/>
            <a:ext cx="1600200" cy="1000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97080" y="152280"/>
            <a:ext cx="3666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The Cyclops Pro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German-Brazilian Cooperation Programme on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CNPq GMD DL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653580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partamento de Informática e Estatística - INE/CTC/UF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047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utação Gráfica:</a:t>
            </a: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ula 6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presentação 3D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rte 1: Transformações Geométrica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em 3D </a:t>
            </a:r>
            <a:br>
              <a:rPr sz="4800"/>
            </a:b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f. Dr. rer.nat. Aldo von Wangenhe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2. Representação de Objetos em 3D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Image1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505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Quadtree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Representação compact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Estrutura hierárquica 4-ári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Cada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folha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descreve uma região homogêne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Cada nó intermediário tem quatro filhos que decompõem a image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Decomposição pode ser feita por algoritmos recursivo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2. Representação de Objetos em 3D: </a:t>
            </a:r>
            <a:br>
              <a:rPr sz="2900"/>
            </a:b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Quadtrees e Octree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590920"/>
            <a:ext cx="9144000" cy="2666880"/>
          </a:xfrm>
          <a:prstGeom prst="rect">
            <a:avLst/>
          </a:prstGeom>
          <a:ln w="9360">
            <a:solidFill>
              <a:srgbClr val="acacac"/>
            </a:solidFill>
            <a:miter/>
          </a:ln>
          <a:effectLst>
            <a:outerShdw dist="107932" dir="13500000" blurRad="0" rotWithShape="0">
              <a:srgbClr val="96969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2. Representação de Objetos em 3D: </a:t>
            </a:r>
            <a:br>
              <a:rPr sz="2900"/>
            </a:b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Quadtrees e Octree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28600" y="1905120"/>
            <a:ext cx="8915400" cy="45972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122" name=""/>
          <p:cNvSpPr/>
          <p:nvPr/>
        </p:nvSpPr>
        <p:spPr>
          <a:xfrm>
            <a:off x="5958000" y="1905120"/>
            <a:ext cx="747720" cy="68580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4191120"/>
            <a:ext cx="685800" cy="685800"/>
          </a:xfrm>
          <a:prstGeom prst="rect">
            <a:avLst/>
          </a:prstGeom>
          <a:noFill/>
          <a:ln w="2844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5960" y="2192400"/>
            <a:ext cx="2113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6666ff"/>
                </a:solidFill>
                <a:latin typeface="Tahoma"/>
              </a:rPr>
              <a:t>Quadtree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972040" y="1828800"/>
            <a:ext cx="0" cy="144792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57800" y="2576520"/>
            <a:ext cx="1447920" cy="0"/>
          </a:xfrm>
          <a:prstGeom prst="line">
            <a:avLst/>
          </a:prstGeom>
          <a:ln w="19080">
            <a:solidFill>
              <a:srgbClr val="ff5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QUAD3" descr=""/>
          <p:cNvPicPr/>
          <p:nvPr/>
        </p:nvPicPr>
        <p:blipFill>
          <a:blip r:embed="rId2"/>
          <a:stretch/>
        </p:blipFill>
        <p:spPr>
          <a:xfrm>
            <a:off x="1143000" y="457200"/>
            <a:ext cx="7267680" cy="6143760"/>
          </a:xfrm>
          <a:prstGeom prst="rect">
            <a:avLst/>
          </a:prstGeom>
          <a:ln w="9360">
            <a:solidFill>
              <a:srgbClr val="acaca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Octree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Tahoma"/>
              </a:rPr>
              <a:t>Octree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é equivalente à matriz de voxel, mas ocupa menos memóri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Na </a:t>
            </a:r>
            <a:r>
              <a:rPr b="0" i="1" lang="pt-BR" sz="2600" spc="-1" strike="noStrike">
                <a:solidFill>
                  <a:srgbClr val="ffffff"/>
                </a:solidFill>
                <a:latin typeface="Tahoma"/>
              </a:rPr>
              <a:t>octree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a resolução varia ao longo do model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ffffff"/>
                </a:solidFill>
                <a:latin typeface="Tahoma"/>
              </a:rPr>
              <a:t>Octree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é uma estrutura hierárquica 8-ári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Cada nó da </a:t>
            </a:r>
            <a:r>
              <a:rPr b="0" i="1" lang="pt-BR" sz="2600" spc="-1" strike="noStrike">
                <a:solidFill>
                  <a:srgbClr val="ffffff"/>
                </a:solidFill>
                <a:latin typeface="Tahoma"/>
              </a:rPr>
              <a:t>octree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corresponde a uma região cúbica do univers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O valor de cada nó é atribuído da mesma forma que na </a:t>
            </a:r>
            <a:r>
              <a:rPr b="0" i="1" lang="pt-BR" sz="2600" spc="-1" strike="noStrike">
                <a:solidFill>
                  <a:srgbClr val="ffffff"/>
                </a:solidFill>
                <a:latin typeface="Tahoma"/>
              </a:rPr>
              <a:t>quadtre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2. Representação de Objetos em 3D: </a:t>
            </a:r>
            <a:br>
              <a:rPr sz="2900"/>
            </a:b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Quadtrees e Octree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2. Representação de Objetos em 3D: </a:t>
            </a:r>
            <a:br>
              <a:rPr sz="2900"/>
            </a:b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Quadtrees e Octrees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OCTREE1" descr=""/>
          <p:cNvPicPr/>
          <p:nvPr/>
        </p:nvPicPr>
        <p:blipFill>
          <a:blip r:embed="rId1"/>
          <a:stretch/>
        </p:blipFill>
        <p:spPr>
          <a:xfrm>
            <a:off x="57240" y="2438280"/>
            <a:ext cx="9144000" cy="3340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32" name="OCTREE2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534440" cy="5067360"/>
          </a:xfrm>
          <a:prstGeom prst="rect">
            <a:avLst/>
          </a:prstGeom>
          <a:ln w="9360">
            <a:solidFill>
              <a:srgbClr val="acacac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7720" y="1905120"/>
            <a:ext cx="769644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054080" indent="0">
              <a:lnSpc>
                <a:spcPct val="8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99"/>
                </a:solidFill>
                <a:latin typeface="Tahoma"/>
              </a:rPr>
              <a:t>6.3. Transformações Geométricas em 3D</a:t>
            </a:r>
            <a:endParaRPr b="0" lang="en-US" sz="4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Translaçã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6840" y="99072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3. Transformações Geométricas em 3D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Image101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10480" cy="3429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37" name="Image16" descr=""/>
          <p:cNvPicPr/>
          <p:nvPr/>
        </p:nvPicPr>
        <p:blipFill>
          <a:blip r:embed="rId2"/>
          <a:stretch/>
        </p:blipFill>
        <p:spPr>
          <a:xfrm>
            <a:off x="5334120" y="2666880"/>
            <a:ext cx="3504960" cy="33829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3124080" y="2057400"/>
            <a:ext cx="3733920" cy="3141360"/>
          </a:xfrm>
          <a:prstGeom prst="rect">
            <a:avLst/>
          </a:prstGeom>
          <a:solidFill>
            <a:srgbClr val="ffff99"/>
          </a:solidFill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x´ = x + T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y´ = y + T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z´ = z + Tz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Escalonament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456840" y="99072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3. Transformações Geométricas em 3D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Image102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8305920" cy="33526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142" name=""/>
          <p:cNvSpPr/>
          <p:nvPr/>
        </p:nvSpPr>
        <p:spPr>
          <a:xfrm>
            <a:off x="5562720" y="2819520"/>
            <a:ext cx="2971800" cy="314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x´ = Sx · x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y´ = Sy · 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ahoma"/>
              </a:rPr>
              <a:t>z´ = Sz · z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724280" y="1600200"/>
            <a:ext cx="4114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Escalonamento diferencial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Alto: </a:t>
            </a:r>
            <a:br>
              <a:rPr sz="2600"/>
            </a:b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(Sx,Sy,Sz) = (2,1,2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Direita:</a:t>
            </a:r>
            <a:br>
              <a:rPr sz="2600"/>
            </a:b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(Sx,Sy,Sz) = (1,2,1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456840" y="99072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3. Transformações Geométricas em 3D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228600" y="1763640"/>
          <a:ext cx="4800600" cy="461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63640"/>
                    <a:ext cx="4800600" cy="4619520"/>
                  </a:xfrm>
                  <a:prstGeom prst="rect">
                    <a:avLst/>
                  </a:prstGeom>
                  <a:ln w="9360">
                    <a:solidFill>
                      <a:srgbClr val="acacac"/>
                    </a:solidFill>
                    <a:miter/>
                  </a:ln>
                  <a:effectLst>
                    <a:outerShdw dist="107932" dir="135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2520" y="1066320"/>
            <a:ext cx="3962520" cy="213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3. Transformações Geométricas em 3D: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Rotação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480" y="990720"/>
          <a:ext cx="4694040" cy="535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480" y="990720"/>
                    <a:ext cx="4694040" cy="53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762120" y="3429000"/>
          <a:ext cx="8039160" cy="2903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429000"/>
                    <a:ext cx="8039160" cy="2903400"/>
                  </a:xfrm>
                  <a:prstGeom prst="rect">
                    <a:avLst/>
                  </a:prstGeom>
                  <a:ln w="28440">
                    <a:solidFill>
                      <a:srgbClr val="969696"/>
                    </a:solidFill>
                    <a:miter/>
                  </a:ln>
                  <a:effectLst>
                    <a:outerShdw dist="107932" dir="135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buildingimagine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1066320"/>
            <a:ext cx="86104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3. Transformações Geométricas em 3D: </a:t>
            </a:r>
            <a:br>
              <a:rPr sz="2900"/>
            </a:b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Rotação em Torno de um Eixo Arbitrário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Image23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5867280" cy="42559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154" name=""/>
          <p:cNvSpPr/>
          <p:nvPr/>
        </p:nvSpPr>
        <p:spPr>
          <a:xfrm>
            <a:off x="2133720" y="5105520"/>
            <a:ext cx="990360" cy="457200"/>
          </a:xfrm>
          <a:prstGeom prst="line">
            <a:avLst/>
          </a:prstGeom>
          <a:ln w="57240">
            <a:solidFill>
              <a:srgbClr val="ff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37240" y="2319480"/>
            <a:ext cx="22258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Rotacionamos de um ângulo </a:t>
            </a:r>
            <a:r>
              <a:rPr b="0" lang="pt-BR" sz="26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0" lang="pt-BR" sz="26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um objeto em torno de um eixo </a:t>
            </a:r>
            <a:r>
              <a:rPr b="0" lang="pt-BR" sz="2600" spc="-1" strike="noStrike">
                <a:solidFill>
                  <a:srgbClr val="ffff99"/>
                </a:solidFill>
                <a:latin typeface="Tahoma"/>
              </a:rPr>
              <a:t>A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, </a:t>
            </a:r>
            <a:br>
              <a:rPr sz="2600"/>
            </a:b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que passa pelo ponto </a:t>
            </a:r>
            <a:r>
              <a:rPr b="0" lang="pt-BR" sz="2600" spc="-1" strike="noStrike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65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1. Translação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do sistema objeto/eixo de uma distância vetorial 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-D</a:t>
            </a:r>
            <a:r>
              <a:rPr b="0" lang="pt-BR" sz="30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de forma que algum ponto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sobre o eixo fique sobre a origem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665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2. Rotação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R</a:t>
            </a:r>
            <a:r>
              <a:rPr b="1" lang="pt-BR" sz="3000" spc="-1" strike="noStrike" baseline="-25000">
                <a:solidFill>
                  <a:srgbClr val="ffff99"/>
                </a:solidFill>
                <a:latin typeface="Tahoma"/>
              </a:rPr>
              <a:t>x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em torno do eixo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x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por </a:t>
            </a:r>
            <a:r>
              <a:rPr b="1" lang="pt-BR" sz="34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3400" spc="-1" strike="noStrike" baseline="-25000">
                <a:solidFill>
                  <a:srgbClr val="ffff99"/>
                </a:solidFill>
                <a:latin typeface="Tahoma"/>
              </a:rPr>
              <a:t>x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de forma a trazer o eixo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A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sobre o plano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xy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665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3. Rotação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R</a:t>
            </a:r>
            <a:r>
              <a:rPr b="1" lang="pt-BR" sz="3000" spc="-1" strike="noStrike" baseline="-25000">
                <a:solidFill>
                  <a:srgbClr val="ffff99"/>
                </a:solidFill>
                <a:latin typeface="Tahoma"/>
              </a:rPr>
              <a:t>z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em torno do eixo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z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por </a:t>
            </a:r>
            <a:r>
              <a:rPr b="1" lang="pt-BR" sz="34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3400" spc="-1" strike="noStrike" baseline="-25000">
                <a:solidFill>
                  <a:srgbClr val="ffff99"/>
                </a:solidFill>
                <a:latin typeface="Tahoma"/>
              </a:rPr>
              <a:t>z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de forma a alinhar o eixo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A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com o eixo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y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3. Transformações Geométricas em 3D: </a:t>
            </a:r>
            <a:br>
              <a:rPr sz="2900"/>
            </a:b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Rotação em Torno de um Eixo Arbitrário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 flipH="1">
            <a:off x="1294920" y="4114800"/>
            <a:ext cx="304812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4343400" y="1218960"/>
            <a:ext cx="0" cy="289548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43400" y="4114800"/>
            <a:ext cx="312408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56680" y="5315040"/>
            <a:ext cx="34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50560" y="533412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4520" y="1295280"/>
            <a:ext cx="3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3733920" y="3885840"/>
            <a:ext cx="3886200" cy="1066680"/>
            <a:chOff x="3733920" y="3885840"/>
            <a:chExt cx="3886200" cy="1066680"/>
          </a:xfrm>
        </p:grpSpPr>
        <p:sp>
          <p:nvSpPr>
            <p:cNvPr id="165" name=""/>
            <p:cNvSpPr/>
            <p:nvPr/>
          </p:nvSpPr>
          <p:spPr>
            <a:xfrm flipV="1">
              <a:off x="3733920" y="3885840"/>
              <a:ext cx="3886200" cy="106668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267080" y="4710240"/>
              <a:ext cx="152640" cy="152280"/>
            </a:xfrm>
            <a:prstGeom prst="ellipse">
              <a:avLst/>
            </a:prstGeom>
            <a:solidFill>
              <a:srgbClr val="a4bff4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4344840" y="49528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 flipH="1">
            <a:off x="1294920" y="4114800"/>
            <a:ext cx="304812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343400" y="1218960"/>
            <a:ext cx="0" cy="289548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343400" y="4114800"/>
            <a:ext cx="312408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56680" y="5315040"/>
            <a:ext cx="34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50560" y="533412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4520" y="1295280"/>
            <a:ext cx="3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3733920" y="3247560"/>
            <a:ext cx="3886200" cy="1066680"/>
            <a:chOff x="3733920" y="3247560"/>
            <a:chExt cx="3886200" cy="1066680"/>
          </a:xfrm>
        </p:grpSpPr>
        <p:sp>
          <p:nvSpPr>
            <p:cNvPr id="175" name=""/>
            <p:cNvSpPr/>
            <p:nvPr/>
          </p:nvSpPr>
          <p:spPr>
            <a:xfrm flipV="1">
              <a:off x="3733920" y="3247560"/>
              <a:ext cx="3886200" cy="106668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267080" y="4071960"/>
              <a:ext cx="152640" cy="152280"/>
            </a:xfrm>
            <a:prstGeom prst="ellipse">
              <a:avLst/>
            </a:prstGeom>
            <a:solidFill>
              <a:srgbClr val="a4bff4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152280" y="990720"/>
            <a:ext cx="26830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. Translação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do sistema objeto/eixo de uma distância vetorial 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-D</a:t>
            </a:r>
            <a:r>
              <a:rPr b="0" lang="pt-BR" sz="2400" spc="-1" strike="noStrike">
                <a:solidFill>
                  <a:srgbClr val="ffff99"/>
                </a:solidFill>
                <a:latin typeface="Tahoma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 forma que algum ponto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sobre o eixo fique sobre a orig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4343040" y="4343400"/>
            <a:ext cx="228600" cy="533520"/>
          </a:xfrm>
          <a:prstGeom prst="line">
            <a:avLst/>
          </a:prstGeom>
          <a:ln w="9360">
            <a:solidFill>
              <a:srgbClr val="a4bff4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40960" y="4952880"/>
            <a:ext cx="5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-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 flipH="1">
            <a:off x="1294920" y="4114800"/>
            <a:ext cx="304812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343400" y="1218960"/>
            <a:ext cx="0" cy="289548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4114800"/>
            <a:ext cx="312408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456680" y="5315040"/>
            <a:ext cx="34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50560" y="533412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4520" y="1295280"/>
            <a:ext cx="3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962520" y="4114800"/>
            <a:ext cx="2895480" cy="38088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255920" y="4071960"/>
            <a:ext cx="150840" cy="152280"/>
          </a:xfrm>
          <a:prstGeom prst="ellipse">
            <a:avLst/>
          </a:prstGeom>
          <a:solidFill>
            <a:srgbClr val="a4bff4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280" y="1143000"/>
            <a:ext cx="268308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. Rotação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R</a:t>
            </a:r>
            <a:r>
              <a:rPr b="1" lang="pt-BR" sz="2400" spc="-1" strike="noStrike" baseline="-25000">
                <a:solidFill>
                  <a:srgbClr val="ffff99"/>
                </a:solidFill>
                <a:latin typeface="Tahoma"/>
              </a:rPr>
              <a:t>x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em torno do eixo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x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por </a:t>
            </a: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ahoma"/>
              </a:rPr>
              <a:t>x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de forma a trazer o eixo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A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sobre o plano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xy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867280" y="4876920"/>
            <a:ext cx="1219320" cy="939600"/>
          </a:xfrm>
          <a:custGeom>
            <a:avLst/>
            <a:gdLst/>
            <a:ahLst/>
            <a:rect l="l" t="t" r="r" b="b"/>
            <a:pathLst>
              <a:path w="768" h="592">
                <a:moveTo>
                  <a:pt x="0" y="384"/>
                </a:moveTo>
                <a:cubicBezTo>
                  <a:pt x="40" y="440"/>
                  <a:pt x="80" y="496"/>
                  <a:pt x="144" y="528"/>
                </a:cubicBezTo>
                <a:cubicBezTo>
                  <a:pt x="208" y="560"/>
                  <a:pt x="296" y="592"/>
                  <a:pt x="384" y="576"/>
                </a:cubicBezTo>
                <a:cubicBezTo>
                  <a:pt x="472" y="560"/>
                  <a:pt x="608" y="496"/>
                  <a:pt x="672" y="432"/>
                </a:cubicBezTo>
                <a:cubicBezTo>
                  <a:pt x="736" y="368"/>
                  <a:pt x="768" y="264"/>
                  <a:pt x="768" y="192"/>
                </a:cubicBezTo>
                <a:cubicBezTo>
                  <a:pt x="768" y="120"/>
                  <a:pt x="720" y="60"/>
                  <a:pt x="672" y="0"/>
                </a:cubicBezTo>
              </a:path>
            </a:pathLst>
          </a:custGeom>
          <a:noFill/>
          <a:ln w="19080">
            <a:solidFill>
              <a:srgbClr val="a4bff4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64360" y="4876920"/>
            <a:ext cx="483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733920" y="3247560"/>
            <a:ext cx="3886200" cy="1066680"/>
            <a:chOff x="3733920" y="3247560"/>
            <a:chExt cx="3886200" cy="1066680"/>
          </a:xfrm>
        </p:grpSpPr>
        <p:sp>
          <p:nvSpPr>
            <p:cNvPr id="192" name=""/>
            <p:cNvSpPr/>
            <p:nvPr/>
          </p:nvSpPr>
          <p:spPr>
            <a:xfrm flipV="1">
              <a:off x="3733920" y="3247560"/>
              <a:ext cx="3886200" cy="1066680"/>
            </a:xfrm>
            <a:prstGeom prst="line">
              <a:avLst/>
            </a:prstGeom>
            <a:ln cap="rnd" w="28440">
              <a:solidFill>
                <a:srgbClr val="6666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267080" y="4071960"/>
              <a:ext cx="152640" cy="152280"/>
            </a:xfrm>
            <a:prstGeom prst="ellipse">
              <a:avLst/>
            </a:prstGeom>
            <a:solidFill>
              <a:srgbClr val="a4bff4"/>
            </a:solidFill>
            <a:ln cap="rnd" w="9360">
              <a:solidFill>
                <a:srgbClr val="6666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 flipH="1">
            <a:off x="1294920" y="4114800"/>
            <a:ext cx="304812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343400" y="1218960"/>
            <a:ext cx="0" cy="289548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43400" y="4114800"/>
            <a:ext cx="312408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56680" y="5315040"/>
            <a:ext cx="34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150560" y="533412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574520" y="1295280"/>
            <a:ext cx="3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343400" y="1676160"/>
            <a:ext cx="0" cy="297180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255920" y="4071960"/>
            <a:ext cx="150840" cy="152280"/>
          </a:xfrm>
          <a:prstGeom prst="ellipse">
            <a:avLst/>
          </a:prstGeom>
          <a:solidFill>
            <a:srgbClr val="a4bff4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280" y="1143000"/>
            <a:ext cx="2683080" cy="28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3. Rotação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R</a:t>
            </a:r>
            <a:r>
              <a:rPr b="1" lang="pt-BR" sz="2400" spc="-1" strike="noStrike" baseline="-25000">
                <a:solidFill>
                  <a:srgbClr val="ffff99"/>
                </a:solidFill>
                <a:latin typeface="Tahoma"/>
              </a:rPr>
              <a:t>z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em torno do eixo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z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por </a:t>
            </a: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imes New Roman"/>
              </a:rPr>
              <a:t>z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 forma a alinhar o eixo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A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com o eixo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y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4952880"/>
            <a:ext cx="990720" cy="762120"/>
          </a:xfrm>
          <a:custGeom>
            <a:avLst/>
            <a:gdLst/>
            <a:ahLst/>
            <a:rect l="l" t="t" r="r" b="b"/>
            <a:pathLst>
              <a:path w="768" h="592">
                <a:moveTo>
                  <a:pt x="0" y="384"/>
                </a:moveTo>
                <a:cubicBezTo>
                  <a:pt x="40" y="440"/>
                  <a:pt x="80" y="496"/>
                  <a:pt x="144" y="528"/>
                </a:cubicBezTo>
                <a:cubicBezTo>
                  <a:pt x="208" y="560"/>
                  <a:pt x="296" y="592"/>
                  <a:pt x="384" y="576"/>
                </a:cubicBezTo>
                <a:cubicBezTo>
                  <a:pt x="472" y="560"/>
                  <a:pt x="608" y="496"/>
                  <a:pt x="672" y="432"/>
                </a:cubicBezTo>
                <a:cubicBezTo>
                  <a:pt x="736" y="368"/>
                  <a:pt x="768" y="264"/>
                  <a:pt x="768" y="192"/>
                </a:cubicBezTo>
                <a:cubicBezTo>
                  <a:pt x="768" y="120"/>
                  <a:pt x="720" y="60"/>
                  <a:pt x="672" y="0"/>
                </a:cubicBezTo>
              </a:path>
            </a:pathLst>
          </a:custGeom>
          <a:noFill/>
          <a:ln w="19080">
            <a:solidFill>
              <a:srgbClr val="a4bff4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86240" y="4648320"/>
            <a:ext cx="456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114800"/>
            <a:ext cx="2895480" cy="380880"/>
          </a:xfrm>
          <a:prstGeom prst="line">
            <a:avLst/>
          </a:prstGeom>
          <a:ln cap="rnd" w="28440">
            <a:solidFill>
              <a:srgbClr val="6666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423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4. Rotação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R</a:t>
            </a:r>
            <a:r>
              <a:rPr b="1" lang="pt-BR" sz="3000" spc="-1" strike="noStrike" baseline="-25000">
                <a:solidFill>
                  <a:srgbClr val="ffff99"/>
                </a:solidFill>
                <a:latin typeface="Tahoma"/>
              </a:rPr>
              <a:t>y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em torno do eixo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y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pelo ângulo desejado </a:t>
            </a:r>
            <a:r>
              <a:rPr b="1" lang="pt-BR" sz="3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3400" spc="-1" strike="noStrike" baseline="-25000">
                <a:solidFill>
                  <a:srgbClr val="ffff99"/>
                </a:solidFill>
                <a:latin typeface="Tahoma"/>
              </a:rPr>
              <a:t>original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23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5. Rotação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R</a:t>
            </a:r>
            <a:r>
              <a:rPr b="1" lang="pt-BR" sz="3000" spc="-1" strike="noStrike" baseline="-25000">
                <a:solidFill>
                  <a:srgbClr val="ffff99"/>
                </a:solidFill>
                <a:latin typeface="Tahoma"/>
              </a:rPr>
              <a:t>z</a:t>
            </a:r>
            <a:r>
              <a:rPr b="1" lang="pt-BR" sz="3000" spc="-1" strike="noStrike" baseline="30000">
                <a:solidFill>
                  <a:srgbClr val="ffff99"/>
                </a:solidFill>
                <a:latin typeface="Tahoma"/>
              </a:rPr>
              <a:t>-1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em torno do eixo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z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por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-</a:t>
            </a:r>
            <a:r>
              <a:rPr b="1" lang="pt-BR" sz="34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3400" spc="-1" strike="noStrike" baseline="-25000">
                <a:solidFill>
                  <a:srgbClr val="ffff99"/>
                </a:solidFill>
                <a:latin typeface="Tahoma"/>
              </a:rPr>
              <a:t>z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de forma a desfazer (3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23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6. Rotação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R</a:t>
            </a:r>
            <a:r>
              <a:rPr b="1" lang="pt-BR" sz="3000" spc="-1" strike="noStrike" baseline="-25000">
                <a:solidFill>
                  <a:srgbClr val="ffff99"/>
                </a:solidFill>
                <a:latin typeface="Tahoma"/>
              </a:rPr>
              <a:t>x</a:t>
            </a:r>
            <a:r>
              <a:rPr b="1" lang="pt-BR" sz="3000" spc="-1" strike="noStrike" baseline="30000">
                <a:solidFill>
                  <a:srgbClr val="ffff99"/>
                </a:solidFill>
                <a:latin typeface="Tahoma"/>
              </a:rPr>
              <a:t>-1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em torno do eixo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x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por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-</a:t>
            </a:r>
            <a:r>
              <a:rPr b="1" lang="pt-BR" sz="34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3400" spc="-1" strike="noStrike" baseline="-25000">
                <a:solidFill>
                  <a:srgbClr val="ffff99"/>
                </a:solidFill>
                <a:latin typeface="Tahoma"/>
              </a:rPr>
              <a:t>x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de forma a desfazer (2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42372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7. Translação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1" lang="pt-BR" sz="3000" spc="-1" strike="noStrike" baseline="30000">
                <a:solidFill>
                  <a:srgbClr val="ffff99"/>
                </a:solidFill>
                <a:latin typeface="Tahoma"/>
              </a:rPr>
              <a:t>-1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de uma distância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D 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para desfazer (1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3. Transformações Geométricas em 3D: </a:t>
            </a:r>
            <a:br>
              <a:rPr sz="2900"/>
            </a:b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Rotação em Torno de um Eixo Arbitrário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 flipH="1">
            <a:off x="1294920" y="4114800"/>
            <a:ext cx="304812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4343400" y="1218960"/>
            <a:ext cx="0" cy="289548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3400" y="4114800"/>
            <a:ext cx="312408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56680" y="5315040"/>
            <a:ext cx="34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150560" y="533412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574520" y="1295280"/>
            <a:ext cx="3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4343400" y="1676160"/>
            <a:ext cx="0" cy="297180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255920" y="4071960"/>
            <a:ext cx="150840" cy="152280"/>
          </a:xfrm>
          <a:prstGeom prst="ellipse">
            <a:avLst/>
          </a:prstGeom>
          <a:solidFill>
            <a:srgbClr val="a4bff4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2280" y="1143000"/>
            <a:ext cx="2683080" cy="21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. Rotação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R</a:t>
            </a:r>
            <a:r>
              <a:rPr b="1" lang="pt-BR" sz="2400" spc="-1" strike="noStrike" baseline="-25000">
                <a:solidFill>
                  <a:srgbClr val="ffff99"/>
                </a:solidFill>
                <a:latin typeface="Tahoma"/>
              </a:rPr>
              <a:t>y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em torno do eixo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y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pelo ângulo desejado </a:t>
            </a:r>
            <a:r>
              <a:rPr b="1" lang="pt-BR" sz="32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imes New Roman"/>
              </a:rPr>
              <a:t>original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09880" y="2666880"/>
            <a:ext cx="990720" cy="762120"/>
          </a:xfrm>
          <a:custGeom>
            <a:avLst/>
            <a:gdLst/>
            <a:ahLst/>
            <a:rect l="l" t="t" r="r" b="b"/>
            <a:pathLst>
              <a:path w="768" h="592">
                <a:moveTo>
                  <a:pt x="0" y="384"/>
                </a:moveTo>
                <a:cubicBezTo>
                  <a:pt x="40" y="440"/>
                  <a:pt x="80" y="496"/>
                  <a:pt x="144" y="528"/>
                </a:cubicBezTo>
                <a:cubicBezTo>
                  <a:pt x="208" y="560"/>
                  <a:pt x="296" y="592"/>
                  <a:pt x="384" y="576"/>
                </a:cubicBezTo>
                <a:cubicBezTo>
                  <a:pt x="472" y="560"/>
                  <a:pt x="608" y="496"/>
                  <a:pt x="672" y="432"/>
                </a:cubicBezTo>
                <a:cubicBezTo>
                  <a:pt x="736" y="368"/>
                  <a:pt x="768" y="264"/>
                  <a:pt x="768" y="192"/>
                </a:cubicBezTo>
                <a:cubicBezTo>
                  <a:pt x="768" y="120"/>
                  <a:pt x="720" y="60"/>
                  <a:pt x="672" y="0"/>
                </a:cubicBezTo>
              </a:path>
            </a:pathLst>
          </a:custGeom>
          <a:noFill/>
          <a:ln w="28440">
            <a:solidFill>
              <a:srgbClr val="ffff99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935240" y="2971800"/>
            <a:ext cx="108288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imes New Roman"/>
              </a:rPr>
              <a:t>origin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 flipH="1">
            <a:off x="1294920" y="4114800"/>
            <a:ext cx="304812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4343400" y="1218960"/>
            <a:ext cx="0" cy="289548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43400" y="4114800"/>
            <a:ext cx="312408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56680" y="5315040"/>
            <a:ext cx="34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50560" y="533412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74520" y="1295280"/>
            <a:ext cx="3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114800"/>
            <a:ext cx="2895480" cy="38088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55920" y="4071960"/>
            <a:ext cx="150840" cy="152280"/>
          </a:xfrm>
          <a:prstGeom prst="ellipse">
            <a:avLst/>
          </a:prstGeom>
          <a:solidFill>
            <a:srgbClr val="a4bff4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280" y="1143000"/>
            <a:ext cx="2683080" cy="20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5. Rotação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R</a:t>
            </a:r>
            <a:r>
              <a:rPr b="1" lang="pt-BR" sz="2400" spc="-1" strike="noStrike" baseline="-25000">
                <a:solidFill>
                  <a:srgbClr val="ffff99"/>
                </a:solidFill>
                <a:latin typeface="Tahoma"/>
              </a:rPr>
              <a:t>z</a:t>
            </a:r>
            <a:r>
              <a:rPr b="1" lang="pt-BR" sz="2400" spc="-1" strike="noStrike" baseline="30000">
                <a:solidFill>
                  <a:srgbClr val="ffff99"/>
                </a:solidFill>
                <a:latin typeface="Tahoma"/>
              </a:rPr>
              <a:t>-1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em torno do eixo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z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por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imes New Roman"/>
              </a:rPr>
              <a:t>z</a:t>
            </a:r>
            <a:r>
              <a:rPr b="0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 forma a desfazer (3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00200" y="4952880"/>
            <a:ext cx="990720" cy="762120"/>
          </a:xfrm>
          <a:custGeom>
            <a:avLst/>
            <a:gdLst/>
            <a:ahLst/>
            <a:rect l="l" t="t" r="r" b="b"/>
            <a:pathLst>
              <a:path w="768" h="592">
                <a:moveTo>
                  <a:pt x="0" y="384"/>
                </a:moveTo>
                <a:cubicBezTo>
                  <a:pt x="40" y="440"/>
                  <a:pt x="80" y="496"/>
                  <a:pt x="144" y="528"/>
                </a:cubicBezTo>
                <a:cubicBezTo>
                  <a:pt x="208" y="560"/>
                  <a:pt x="296" y="592"/>
                  <a:pt x="384" y="576"/>
                </a:cubicBezTo>
                <a:cubicBezTo>
                  <a:pt x="472" y="560"/>
                  <a:pt x="608" y="496"/>
                  <a:pt x="672" y="432"/>
                </a:cubicBezTo>
                <a:cubicBezTo>
                  <a:pt x="736" y="368"/>
                  <a:pt x="768" y="264"/>
                  <a:pt x="768" y="192"/>
                </a:cubicBezTo>
                <a:cubicBezTo>
                  <a:pt x="768" y="120"/>
                  <a:pt x="720" y="60"/>
                  <a:pt x="672" y="0"/>
                </a:cubicBezTo>
              </a:path>
            </a:pathLst>
          </a:custGeom>
          <a:noFill/>
          <a:ln w="19080">
            <a:solidFill>
              <a:srgbClr val="ff0000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85880" y="4724280"/>
            <a:ext cx="55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imes New Roman"/>
              </a:rPr>
              <a:t>z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 flipH="1">
            <a:off x="1294920" y="4114800"/>
            <a:ext cx="304812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343400" y="1218960"/>
            <a:ext cx="0" cy="289548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343400" y="4114800"/>
            <a:ext cx="312408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56680" y="5315040"/>
            <a:ext cx="34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150560" y="533412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74520" y="1295280"/>
            <a:ext cx="3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3733920" y="3247560"/>
            <a:ext cx="3886200" cy="1066680"/>
            <a:chOff x="3733920" y="3247560"/>
            <a:chExt cx="3886200" cy="1066680"/>
          </a:xfrm>
        </p:grpSpPr>
        <p:sp>
          <p:nvSpPr>
            <p:cNvPr id="237" name=""/>
            <p:cNvSpPr/>
            <p:nvPr/>
          </p:nvSpPr>
          <p:spPr>
            <a:xfrm flipV="1">
              <a:off x="3733920" y="3247560"/>
              <a:ext cx="3886200" cy="106668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67080" y="4071960"/>
              <a:ext cx="152640" cy="152280"/>
            </a:xfrm>
            <a:prstGeom prst="ellipse">
              <a:avLst/>
            </a:prstGeom>
            <a:solidFill>
              <a:srgbClr val="a4bff4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52280" y="990720"/>
            <a:ext cx="2683080" cy="209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6. Rotação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R</a:t>
            </a:r>
            <a:r>
              <a:rPr b="1" lang="pt-BR" sz="2400" spc="-1" strike="noStrike" baseline="-25000">
                <a:solidFill>
                  <a:srgbClr val="ffff99"/>
                </a:solidFill>
                <a:latin typeface="Tahoma"/>
              </a:rPr>
              <a:t>x</a:t>
            </a:r>
            <a:r>
              <a:rPr b="1" lang="pt-BR" sz="2400" spc="-1" strike="noStrike" baseline="30000">
                <a:solidFill>
                  <a:srgbClr val="ffff99"/>
                </a:solidFill>
                <a:latin typeface="Tahoma"/>
              </a:rPr>
              <a:t>-1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em torno do eixo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x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por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-</a:t>
            </a: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ahoma"/>
              </a:rPr>
              <a:t>x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de forma a desfazer (2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7280" y="4876920"/>
            <a:ext cx="1219320" cy="939600"/>
          </a:xfrm>
          <a:custGeom>
            <a:avLst/>
            <a:gdLst/>
            <a:ahLst/>
            <a:rect l="l" t="t" r="r" b="b"/>
            <a:pathLst>
              <a:path w="768" h="592">
                <a:moveTo>
                  <a:pt x="0" y="384"/>
                </a:moveTo>
                <a:cubicBezTo>
                  <a:pt x="40" y="440"/>
                  <a:pt x="80" y="496"/>
                  <a:pt x="144" y="528"/>
                </a:cubicBezTo>
                <a:cubicBezTo>
                  <a:pt x="208" y="560"/>
                  <a:pt x="296" y="592"/>
                  <a:pt x="384" y="576"/>
                </a:cubicBezTo>
                <a:cubicBezTo>
                  <a:pt x="472" y="560"/>
                  <a:pt x="608" y="496"/>
                  <a:pt x="672" y="432"/>
                </a:cubicBezTo>
                <a:cubicBezTo>
                  <a:pt x="736" y="368"/>
                  <a:pt x="768" y="264"/>
                  <a:pt x="768" y="192"/>
                </a:cubicBezTo>
                <a:cubicBezTo>
                  <a:pt x="768" y="120"/>
                  <a:pt x="720" y="60"/>
                  <a:pt x="672" y="0"/>
                </a:cubicBezTo>
              </a:path>
            </a:pathLst>
          </a:custGeom>
          <a:noFill/>
          <a:ln w="19080">
            <a:solidFill>
              <a:srgbClr val="a4bff4"/>
            </a:solidFill>
            <a:prstDash val="sysDot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205320" y="4572000"/>
            <a:ext cx="581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-</a:t>
            </a: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380880"/>
            <a:ext cx="4537080" cy="5943600"/>
            <a:chOff x="228600" y="380880"/>
            <a:chExt cx="4537080" cy="5943600"/>
          </a:xfrm>
        </p:grpSpPr>
        <p:grpSp>
          <p:nvGrpSpPr>
            <p:cNvPr id="89" name=""/>
            <p:cNvGrpSpPr/>
            <p:nvPr/>
          </p:nvGrpSpPr>
          <p:grpSpPr>
            <a:xfrm>
              <a:off x="762120" y="380880"/>
              <a:ext cx="4003560" cy="5943600"/>
              <a:chOff x="762120" y="380880"/>
              <a:chExt cx="4003560" cy="5943600"/>
            </a:xfrm>
          </p:grpSpPr>
          <p:pic>
            <p:nvPicPr>
              <p:cNvPr id="90" name="Image6" descr=""/>
              <p:cNvPicPr/>
              <p:nvPr/>
            </p:nvPicPr>
            <p:blipFill>
              <a:blip r:embed="rId1"/>
              <a:stretch/>
            </p:blipFill>
            <p:spPr>
              <a:xfrm>
                <a:off x="762120" y="380880"/>
                <a:ext cx="4003560" cy="594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" name=""/>
              <p:cNvSpPr/>
              <p:nvPr/>
            </p:nvSpPr>
            <p:spPr>
              <a:xfrm>
                <a:off x="3048120" y="2209680"/>
                <a:ext cx="1676160" cy="2057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 flipH="1">
              <a:off x="228600" y="2590920"/>
              <a:ext cx="1447920" cy="360"/>
            </a:xfrm>
            <a:prstGeom prst="line">
              <a:avLst/>
            </a:prstGeom>
            <a:noFill/>
            <a:ln w="284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266720" y="1599840"/>
            <a:ext cx="4876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Sistemas de Coordenadas em 3D existem de dois tipos: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73040" indent="-28260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De Mão Direita 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473040" indent="-28260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De Mão Esquerd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819520" y="914400"/>
            <a:ext cx="63244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1. Conceitos Básicos em 3D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 flipH="1">
            <a:off x="1294920" y="4114800"/>
            <a:ext cx="304812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4343400" y="1218960"/>
            <a:ext cx="0" cy="289548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343400" y="4114800"/>
            <a:ext cx="312408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456680" y="5315040"/>
            <a:ext cx="34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50560" y="533412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574520" y="1295280"/>
            <a:ext cx="3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733920" y="3885840"/>
            <a:ext cx="3886200" cy="1066680"/>
            <a:chOff x="3733920" y="3885840"/>
            <a:chExt cx="3886200" cy="1066680"/>
          </a:xfrm>
        </p:grpSpPr>
        <p:sp>
          <p:nvSpPr>
            <p:cNvPr id="249" name=""/>
            <p:cNvSpPr/>
            <p:nvPr/>
          </p:nvSpPr>
          <p:spPr>
            <a:xfrm flipV="1">
              <a:off x="3733920" y="3885840"/>
              <a:ext cx="3886200" cy="106668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267080" y="4710240"/>
              <a:ext cx="152640" cy="152280"/>
            </a:xfrm>
            <a:prstGeom prst="ellipse">
              <a:avLst/>
            </a:prstGeom>
            <a:solidFill>
              <a:srgbClr val="a4bff4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52280" y="990720"/>
            <a:ext cx="268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7. Translação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1" lang="pt-BR" sz="2400" spc="-1" strike="noStrike" baseline="30000">
                <a:solidFill>
                  <a:srgbClr val="ffff99"/>
                </a:solidFill>
                <a:latin typeface="Tahoma"/>
              </a:rPr>
              <a:t>-1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de uma distância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D 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ara desfazer (1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Tahoma"/>
              </a:rPr>
              <a:t>Próxima Aula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Perspectiv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4. Transformações de Perspectiva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5" name="projections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2. Transformações de Perspectiva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erspect1.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4. Transformações de Perspectiva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9" name="img1" descr=""/>
          <p:cNvPicPr/>
          <p:nvPr/>
        </p:nvPicPr>
        <p:blipFill>
          <a:blip r:embed="rId1"/>
          <a:stretch/>
        </p:blipFill>
        <p:spPr>
          <a:xfrm>
            <a:off x="685800" y="1905120"/>
            <a:ext cx="4800600" cy="3593880"/>
          </a:xfrm>
          <a:prstGeom prst="rect">
            <a:avLst/>
          </a:prstGeom>
          <a:ln w="0">
            <a:noFill/>
          </a:ln>
        </p:spPr>
      </p:pic>
      <p:pic>
        <p:nvPicPr>
          <p:cNvPr id="260" name="img2" descr=""/>
          <p:cNvPicPr/>
          <p:nvPr/>
        </p:nvPicPr>
        <p:blipFill>
          <a:blip r:embed="rId2"/>
          <a:stretch/>
        </p:blipFill>
        <p:spPr>
          <a:xfrm>
            <a:off x="2514600" y="1752480"/>
            <a:ext cx="6405480" cy="48643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Tahoma"/>
              </a:rPr>
              <a:t>Tarefas para Próxima Aula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Implemente uma classe Ponto3D capaz de realizar as 3 transformações básica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Implemente uma Classe Objeto3D para representar um Modelo de Arame com as seguintes característica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Possui uma lista de segmentos de reta constituídos por um par de Pontos3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É capaz de realizar as 3 operações básicas e também a rotação em torno de um eixo arbitrári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Visualização em 3D pode partir de dois princípios diferentes mas equivalente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04680" indent="-26820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5050"/>
                </a:solidFill>
                <a:latin typeface="Tahoma"/>
              </a:rPr>
              <a:t>Câmera mó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486800" indent="-2170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ovemos a câmera (plano de projeção) no mundo. As coordenadas do mundo não se modificam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04680" indent="-26820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5050"/>
                </a:solidFill>
                <a:latin typeface="Tahoma"/>
              </a:rPr>
              <a:t>Mundo mó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486800" indent="-21708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Movemos o mundo para que se posicione no ângulo que mais nos agrada ou permite nelhor visualizaçã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Estes princípios são apenas </a:t>
            </a:r>
            <a:r>
              <a:rPr b="0" lang="pt-BR" sz="2600" spc="-1" strike="noStrike">
                <a:solidFill>
                  <a:srgbClr val="ff5050"/>
                </a:solidFill>
                <a:latin typeface="Tahoma"/>
              </a:rPr>
              <a:t>metáforas computacionais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e equivalentes em termos de processamento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1. Conceitos Básicos em 3D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1. Conceitos Básicos em 3D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Image7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5181480" cy="2556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99" name="Image8" descr=""/>
          <p:cNvPicPr/>
          <p:nvPr/>
        </p:nvPicPr>
        <p:blipFill>
          <a:blip r:embed="rId2"/>
          <a:stretch/>
        </p:blipFill>
        <p:spPr>
          <a:xfrm>
            <a:off x="1905120" y="2514600"/>
            <a:ext cx="4800600" cy="31924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00" name="Image9" descr=""/>
          <p:cNvPicPr/>
          <p:nvPr/>
        </p:nvPicPr>
        <p:blipFill>
          <a:blip r:embed="rId3"/>
          <a:stretch/>
        </p:blipFill>
        <p:spPr>
          <a:xfrm>
            <a:off x="4114800" y="3429000"/>
            <a:ext cx="4791240" cy="30621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2. Representação de Objetos em 3D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Image10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705720" cy="2682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22560" y="1862280"/>
            <a:ext cx="7988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99"/>
                </a:solidFill>
                <a:latin typeface="Tahoma"/>
              </a:rPr>
              <a:t>Modelo de Arame (Wire Frame)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2. Representação de Objetos em 3D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86400" y="1752480"/>
            <a:ext cx="5607720" cy="11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99"/>
                </a:solidFill>
                <a:latin typeface="Tahoma"/>
              </a:rPr>
              <a:t>Modelo de Poliedro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99"/>
                </a:solidFill>
                <a:latin typeface="Tahoma"/>
              </a:rPr>
              <a:t>(conjunto de polígonos adjacentes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Image11" descr=""/>
          <p:cNvPicPr/>
          <p:nvPr/>
        </p:nvPicPr>
        <p:blipFill>
          <a:blip r:embed="rId1"/>
          <a:stretch/>
        </p:blipFill>
        <p:spPr>
          <a:xfrm>
            <a:off x="228600" y="3124080"/>
            <a:ext cx="8915400" cy="28749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07" name="Image12" descr=""/>
          <p:cNvPicPr/>
          <p:nvPr/>
        </p:nvPicPr>
        <p:blipFill>
          <a:blip r:embed="rId2"/>
          <a:stretch/>
        </p:blipFill>
        <p:spPr>
          <a:xfrm>
            <a:off x="1676520" y="2438280"/>
            <a:ext cx="5943600" cy="358776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228600" y="762120"/>
            <a:ext cx="8610480" cy="5570280"/>
          </a:xfrm>
          <a:prstGeom prst="rect">
            <a:avLst/>
          </a:prstGeom>
          <a:ln w="9360">
            <a:solidFill>
              <a:srgbClr val="acacac"/>
            </a:solidFill>
            <a:miter/>
          </a:ln>
          <a:effectLst>
            <a:outerShdw dist="107932" dir="13500000" blurRad="0" rotWithShape="0">
              <a:srgbClr val="96969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2. Representação de Objetos em 3D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Image13" descr=""/>
          <p:cNvPicPr/>
          <p:nvPr/>
        </p:nvPicPr>
        <p:blipFill>
          <a:blip r:embed="rId1"/>
          <a:stretch/>
        </p:blipFill>
        <p:spPr>
          <a:xfrm>
            <a:off x="3200400" y="1905120"/>
            <a:ext cx="5715000" cy="432900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/>
            </a:outerShdw>
          </a:effectLst>
        </p:spPr>
      </p:pic>
      <p:sp>
        <p:nvSpPr>
          <p:cNvPr id="111" name=""/>
          <p:cNvSpPr/>
          <p:nvPr/>
        </p:nvSpPr>
        <p:spPr>
          <a:xfrm>
            <a:off x="228600" y="2209680"/>
            <a:ext cx="2743200" cy="41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99"/>
                </a:solidFill>
                <a:latin typeface="Tahoma"/>
              </a:rPr>
              <a:t>Modelo de Estrutura Hierárquic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99"/>
                </a:solidFill>
                <a:latin typeface="Tahoma"/>
              </a:rPr>
              <a:t>(objetos em uma árvore)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914400"/>
            <a:ext cx="838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2. Representação de Objetos em 3D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752480"/>
            <a:ext cx="8077320" cy="61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8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ffff99"/>
                </a:solidFill>
                <a:latin typeface="Tahoma"/>
              </a:rPr>
              <a:t>Geometria Construtiva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57200" y="2590920"/>
            <a:ext cx="8305920" cy="2493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969696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6T23:05:24Z</dcterms:created>
  <dc:creator>Prof. Dr. rer. nat. Aldo v. Wangenheim</dc:creator>
  <dc:description/>
  <dc:language>en-US</dc:language>
  <cp:lastModifiedBy> </cp:lastModifiedBy>
  <dcterms:modified xsi:type="dcterms:W3CDTF">2001-04-17T13:41:48Z</dcterms:modified>
  <cp:revision>495</cp:revision>
  <dc:subject/>
  <dc:title>Integração de Gerência e Análise Informatizada de Imagens em Sistemas de Informatização Hospitalar  Prof. Dr. rer.nat. Aldo von Wangenheim</dc:title>
</cp:coreProperties>
</file>