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2704E-7EC1-42CB-8230-A540D2B58B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24692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17449-0718-444A-B819-0721DF0ED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200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68594-3131-4949-9BF5-D6B083C314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076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468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076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468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6A833-7B2B-482B-B6ED-478DEDE7A7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990360"/>
            <a:ext cx="83818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88071-D8C3-4FE4-8D02-1AF1657949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24692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6C90-F999-48C9-A27C-EACB0E7524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9FF5-54BC-4408-B79A-9A8E0FD18F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077A7-4D47-4059-ADAB-C3BD10A54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990360"/>
            <a:ext cx="83818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902FE-89C7-40AF-86FC-CF335C2857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62A7D-2E99-4449-B0F1-92ADBD3E89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200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9983A-3AB3-4D8B-AC4D-970B814A21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4A053-73F6-4839-BC5D-1F2E61FA55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328040" indent="-1897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707480" indent="-1897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707480" indent="-1897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707480" indent="-1897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13A17-97F5-43FA-B81D-26DE448DA96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566680" y="203040"/>
            <a:ext cx="25063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ahoma"/>
              </a:rPr>
              <a:t>Disciplina Computação Gráf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Curso de Ciência da Camputaçã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INE/CTC/UF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cyclops2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90720" cy="619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134000" y="203040"/>
            <a:ext cx="2782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ahoma"/>
              </a:rPr>
              <a:t>The Cyclops Proj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Tahoma"/>
              </a:rPr>
              <a:t>German-Brazilian Cooperation Programme on I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Tahoma"/>
              </a:rPr>
              <a:t>CNPq GMD DL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sgi3d" descr=""/>
          <p:cNvPicPr/>
          <p:nvPr/>
        </p:nvPicPr>
        <p:blipFill>
          <a:blip r:embed="rId3"/>
          <a:stretch/>
        </p:blipFill>
        <p:spPr>
          <a:xfrm>
            <a:off x="8077320" y="0"/>
            <a:ext cx="1066680" cy="10429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55308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f. Dr. rer.nat. Aldo v. Wangenheim - Departamento de Informática e Estatística - INE/CTC/UF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gi3d" descr=""/>
          <p:cNvPicPr/>
          <p:nvPr/>
        </p:nvPicPr>
        <p:blipFill>
          <a:blip r:embed="rId2"/>
          <a:stretch/>
        </p:blipFill>
        <p:spPr>
          <a:xfrm>
            <a:off x="2133720" y="1297080"/>
            <a:ext cx="5105160" cy="4995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cyclops2" descr=""/>
          <p:cNvPicPr/>
          <p:nvPr/>
        </p:nvPicPr>
        <p:blipFill>
          <a:blip r:embed="rId3"/>
          <a:stretch/>
        </p:blipFill>
        <p:spPr>
          <a:xfrm>
            <a:off x="7543800" y="0"/>
            <a:ext cx="1600200" cy="1000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97080" y="152280"/>
            <a:ext cx="3666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The Cyclops Pro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German-Brazilian Cooperation Programme on 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CNPq GMD DL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653580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epartamento de Informática e Estatística - INE/CTC/UF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3047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putação Gráfica:</a:t>
            </a: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11. Cores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f. Dr. rer.nat. Aldo von Wangenhe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8380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rte II: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putação Gráfica Avanç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Percepção de Co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cor03" descr=""/>
          <p:cNvPicPr/>
          <p:nvPr/>
        </p:nvPicPr>
        <p:blipFill>
          <a:blip r:embed="rId1"/>
          <a:stretch/>
        </p:blipFill>
        <p:spPr>
          <a:xfrm>
            <a:off x="0" y="36360"/>
            <a:ext cx="9144000" cy="682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04920" y="8380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rte II: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putação Gráfica Avanç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Percepção de Co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" name="cor04" descr=""/>
          <p:cNvPicPr/>
          <p:nvPr/>
        </p:nvPicPr>
        <p:blipFill>
          <a:blip r:embed="rId1"/>
          <a:stretch/>
        </p:blipFill>
        <p:spPr>
          <a:xfrm>
            <a:off x="6581880" y="177840"/>
            <a:ext cx="2562120" cy="6629400"/>
          </a:xfrm>
          <a:prstGeom prst="rect">
            <a:avLst/>
          </a:prstGeom>
          <a:ln w="38160">
            <a:solidFill>
              <a:srgbClr val="969696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109" name=""/>
          <p:cNvSpPr/>
          <p:nvPr/>
        </p:nvSpPr>
        <p:spPr>
          <a:xfrm>
            <a:off x="152280" y="1752480"/>
            <a:ext cx="617220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Os bastonetes são células sensíveis a quantidades bastante pequenas de luz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Não diferenciam cores, codificando apenas intensidade luminosa como frequência de impulsos nervoso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Na visão noturno, apenas os bastonetes funcionam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8380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rte II: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putação Gráfica Avanç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Percepção de Co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1" name="cor05" descr=""/>
          <p:cNvPicPr/>
          <p:nvPr/>
        </p:nvPicPr>
        <p:blipFill>
          <a:blip r:embed="rId1"/>
          <a:stretch/>
        </p:blipFill>
        <p:spPr>
          <a:xfrm>
            <a:off x="6324480" y="165240"/>
            <a:ext cx="2400480" cy="6630840"/>
          </a:xfrm>
          <a:prstGeom prst="rect">
            <a:avLst/>
          </a:prstGeom>
          <a:ln w="38160">
            <a:solidFill>
              <a:srgbClr val="969696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112" name=""/>
          <p:cNvSpPr/>
          <p:nvPr/>
        </p:nvSpPr>
        <p:spPr>
          <a:xfrm>
            <a:off x="152280" y="1752480"/>
            <a:ext cx="6019920" cy="51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Os cones são células sensíveis apenas a quantidades grandes de luz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Existems cones sensíveis a diferentes cores de luz, codificando a intensidade luminosa daquela cor como frequência de impulsos nervoso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8380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rte II: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putação Gráfica Avanç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Percepção de Co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cor06" descr=""/>
          <p:cNvPicPr/>
          <p:nvPr/>
        </p:nvPicPr>
        <p:blipFill>
          <a:blip r:embed="rId1"/>
          <a:stretch/>
        </p:blipFill>
        <p:spPr>
          <a:xfrm>
            <a:off x="30240" y="0"/>
            <a:ext cx="908208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133720" y="38160"/>
            <a:ext cx="4190760" cy="6235560"/>
          </a:xfrm>
          <a:custGeom>
            <a:avLst/>
            <a:gdLst/>
            <a:ahLst/>
            <a:rect l="l" t="t" r="r" b="b"/>
            <a:pathLst>
              <a:path w="2544" h="3928">
                <a:moveTo>
                  <a:pt x="0" y="3912"/>
                </a:moveTo>
                <a:cubicBezTo>
                  <a:pt x="48" y="3908"/>
                  <a:pt x="96" y="3904"/>
                  <a:pt x="144" y="3864"/>
                </a:cubicBezTo>
                <a:cubicBezTo>
                  <a:pt x="192" y="3824"/>
                  <a:pt x="248" y="3752"/>
                  <a:pt x="288" y="3672"/>
                </a:cubicBezTo>
                <a:cubicBezTo>
                  <a:pt x="328" y="3592"/>
                  <a:pt x="360" y="3464"/>
                  <a:pt x="384" y="3384"/>
                </a:cubicBezTo>
                <a:cubicBezTo>
                  <a:pt x="408" y="3304"/>
                  <a:pt x="320" y="3680"/>
                  <a:pt x="432" y="3192"/>
                </a:cubicBezTo>
                <a:cubicBezTo>
                  <a:pt x="544" y="2704"/>
                  <a:pt x="912" y="912"/>
                  <a:pt x="1056" y="456"/>
                </a:cubicBezTo>
                <a:cubicBezTo>
                  <a:pt x="1200" y="0"/>
                  <a:pt x="1208" y="216"/>
                  <a:pt x="1296" y="456"/>
                </a:cubicBezTo>
                <a:cubicBezTo>
                  <a:pt x="1384" y="696"/>
                  <a:pt x="1504" y="1464"/>
                  <a:pt x="1584" y="1896"/>
                </a:cubicBezTo>
                <a:cubicBezTo>
                  <a:pt x="1664" y="2328"/>
                  <a:pt x="1712" y="2768"/>
                  <a:pt x="1776" y="3048"/>
                </a:cubicBezTo>
                <a:cubicBezTo>
                  <a:pt x="1840" y="3328"/>
                  <a:pt x="1904" y="3448"/>
                  <a:pt x="1968" y="3576"/>
                </a:cubicBezTo>
                <a:cubicBezTo>
                  <a:pt x="2032" y="3704"/>
                  <a:pt x="2080" y="3760"/>
                  <a:pt x="2160" y="3816"/>
                </a:cubicBezTo>
                <a:cubicBezTo>
                  <a:pt x="2240" y="3872"/>
                  <a:pt x="2384" y="3896"/>
                  <a:pt x="2448" y="3912"/>
                </a:cubicBezTo>
                <a:cubicBezTo>
                  <a:pt x="2512" y="3928"/>
                  <a:pt x="2528" y="3920"/>
                  <a:pt x="2544" y="3912"/>
                </a:cubicBezTo>
              </a:path>
            </a:pathLst>
          </a:custGeom>
          <a:noFill/>
          <a:ln w="57240">
            <a:solidFill>
              <a:srgbClr val="66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003320"/>
            <a:ext cx="457200" cy="0"/>
          </a:xfrm>
          <a:prstGeom prst="line">
            <a:avLst/>
          </a:prstGeom>
          <a:ln w="57240">
            <a:solidFill>
              <a:srgbClr val="6666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829120" y="380880"/>
            <a:ext cx="3063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Visão a cores (scotóptic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-&gt; con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66ff"/>
                </a:solidFill>
                <a:latin typeface="Tahoma"/>
              </a:rPr>
              <a:t>Visão P&amp;B (photóptic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66ff"/>
                </a:solidFill>
                <a:latin typeface="Tahoma"/>
              </a:rPr>
              <a:t>-&gt; bastone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8380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rte II: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putação Gráfica Avanç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Percepção de Co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cor07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7010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00200" y="571680"/>
            <a:ext cx="457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981080" y="863640"/>
            <a:ext cx="6553440" cy="5308560"/>
          </a:xfrm>
          <a:custGeom>
            <a:avLst/>
            <a:gdLst/>
            <a:ahLst/>
            <a:rect l="l" t="t" r="r" b="b"/>
            <a:pathLst>
              <a:path w="4128" h="3344">
                <a:moveTo>
                  <a:pt x="0" y="3344"/>
                </a:moveTo>
                <a:cubicBezTo>
                  <a:pt x="156" y="3280"/>
                  <a:pt x="312" y="3216"/>
                  <a:pt x="432" y="3152"/>
                </a:cubicBezTo>
                <a:cubicBezTo>
                  <a:pt x="552" y="3088"/>
                  <a:pt x="624" y="3088"/>
                  <a:pt x="720" y="2960"/>
                </a:cubicBezTo>
                <a:cubicBezTo>
                  <a:pt x="816" y="2832"/>
                  <a:pt x="920" y="2616"/>
                  <a:pt x="1008" y="2384"/>
                </a:cubicBezTo>
                <a:cubicBezTo>
                  <a:pt x="1096" y="2152"/>
                  <a:pt x="1168" y="1832"/>
                  <a:pt x="1248" y="1568"/>
                </a:cubicBezTo>
                <a:cubicBezTo>
                  <a:pt x="1328" y="1304"/>
                  <a:pt x="1424" y="992"/>
                  <a:pt x="1488" y="800"/>
                </a:cubicBezTo>
                <a:cubicBezTo>
                  <a:pt x="1552" y="608"/>
                  <a:pt x="1576" y="528"/>
                  <a:pt x="1632" y="416"/>
                </a:cubicBezTo>
                <a:cubicBezTo>
                  <a:pt x="1688" y="304"/>
                  <a:pt x="1760" y="192"/>
                  <a:pt x="1824" y="128"/>
                </a:cubicBezTo>
                <a:cubicBezTo>
                  <a:pt x="1888" y="64"/>
                  <a:pt x="1952" y="40"/>
                  <a:pt x="2016" y="32"/>
                </a:cubicBezTo>
                <a:cubicBezTo>
                  <a:pt x="2080" y="24"/>
                  <a:pt x="2128" y="0"/>
                  <a:pt x="2208" y="80"/>
                </a:cubicBezTo>
                <a:cubicBezTo>
                  <a:pt x="2288" y="160"/>
                  <a:pt x="2352" y="168"/>
                  <a:pt x="2496" y="512"/>
                </a:cubicBezTo>
                <a:cubicBezTo>
                  <a:pt x="2640" y="856"/>
                  <a:pt x="2912" y="1736"/>
                  <a:pt x="3072" y="2144"/>
                </a:cubicBezTo>
                <a:cubicBezTo>
                  <a:pt x="3232" y="2552"/>
                  <a:pt x="3320" y="2776"/>
                  <a:pt x="3456" y="2960"/>
                </a:cubicBezTo>
                <a:cubicBezTo>
                  <a:pt x="3592" y="3144"/>
                  <a:pt x="3776" y="3192"/>
                  <a:pt x="3888" y="3248"/>
                </a:cubicBezTo>
                <a:cubicBezTo>
                  <a:pt x="4000" y="3304"/>
                  <a:pt x="4064" y="3300"/>
                  <a:pt x="4128" y="3296"/>
                </a:cubicBez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78040" y="2921040"/>
            <a:ext cx="5715000" cy="3238560"/>
          </a:xfrm>
          <a:custGeom>
            <a:avLst/>
            <a:gdLst/>
            <a:ahLst/>
            <a:rect l="l" t="t" r="r" b="b"/>
            <a:pathLst>
              <a:path w="3600" h="2040">
                <a:moveTo>
                  <a:pt x="0" y="2040"/>
                </a:moveTo>
                <a:cubicBezTo>
                  <a:pt x="144" y="2004"/>
                  <a:pt x="288" y="1968"/>
                  <a:pt x="384" y="1944"/>
                </a:cubicBezTo>
                <a:cubicBezTo>
                  <a:pt x="480" y="1920"/>
                  <a:pt x="504" y="1936"/>
                  <a:pt x="576" y="1896"/>
                </a:cubicBezTo>
                <a:cubicBezTo>
                  <a:pt x="648" y="1856"/>
                  <a:pt x="728" y="1808"/>
                  <a:pt x="816" y="1704"/>
                </a:cubicBezTo>
                <a:cubicBezTo>
                  <a:pt x="904" y="1600"/>
                  <a:pt x="1008" y="1448"/>
                  <a:pt x="1104" y="1272"/>
                </a:cubicBezTo>
                <a:cubicBezTo>
                  <a:pt x="1200" y="1096"/>
                  <a:pt x="1312" y="824"/>
                  <a:pt x="1392" y="648"/>
                </a:cubicBezTo>
                <a:cubicBezTo>
                  <a:pt x="1472" y="472"/>
                  <a:pt x="1536" y="312"/>
                  <a:pt x="1584" y="216"/>
                </a:cubicBezTo>
                <a:cubicBezTo>
                  <a:pt x="1632" y="120"/>
                  <a:pt x="1648" y="104"/>
                  <a:pt x="1680" y="72"/>
                </a:cubicBezTo>
                <a:cubicBezTo>
                  <a:pt x="1712" y="40"/>
                  <a:pt x="1736" y="32"/>
                  <a:pt x="1776" y="24"/>
                </a:cubicBezTo>
                <a:cubicBezTo>
                  <a:pt x="1816" y="16"/>
                  <a:pt x="1864" y="0"/>
                  <a:pt x="1920" y="24"/>
                </a:cubicBezTo>
                <a:cubicBezTo>
                  <a:pt x="1976" y="48"/>
                  <a:pt x="2048" y="88"/>
                  <a:pt x="2112" y="168"/>
                </a:cubicBezTo>
                <a:cubicBezTo>
                  <a:pt x="2176" y="248"/>
                  <a:pt x="2208" y="304"/>
                  <a:pt x="2304" y="504"/>
                </a:cubicBezTo>
                <a:cubicBezTo>
                  <a:pt x="2400" y="704"/>
                  <a:pt x="2576" y="1160"/>
                  <a:pt x="2688" y="1368"/>
                </a:cubicBezTo>
                <a:cubicBezTo>
                  <a:pt x="2800" y="1576"/>
                  <a:pt x="2872" y="1656"/>
                  <a:pt x="2976" y="1752"/>
                </a:cubicBezTo>
                <a:cubicBezTo>
                  <a:pt x="3080" y="1848"/>
                  <a:pt x="3208" y="1896"/>
                  <a:pt x="3312" y="1944"/>
                </a:cubicBezTo>
                <a:cubicBezTo>
                  <a:pt x="3416" y="1992"/>
                  <a:pt x="3508" y="2016"/>
                  <a:pt x="3600" y="2040"/>
                </a:cubicBezTo>
              </a:path>
            </a:pathLst>
          </a:custGeom>
          <a:noFill/>
          <a:ln w="5724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00200" y="851040"/>
            <a:ext cx="457200" cy="0"/>
          </a:xfrm>
          <a:prstGeom prst="line">
            <a:avLst/>
          </a:prstGeom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219320" y="6019920"/>
            <a:ext cx="2361960" cy="114120"/>
          </a:xfrm>
          <a:custGeom>
            <a:avLst/>
            <a:gdLst/>
            <a:ahLst/>
            <a:rect l="l" t="t" r="r" b="b"/>
            <a:pathLst>
              <a:path w="1488" h="64">
                <a:moveTo>
                  <a:pt x="0" y="56"/>
                </a:moveTo>
                <a:cubicBezTo>
                  <a:pt x="108" y="36"/>
                  <a:pt x="216" y="16"/>
                  <a:pt x="336" y="8"/>
                </a:cubicBezTo>
                <a:cubicBezTo>
                  <a:pt x="456" y="0"/>
                  <a:pt x="600" y="0"/>
                  <a:pt x="720" y="8"/>
                </a:cubicBezTo>
                <a:cubicBezTo>
                  <a:pt x="840" y="16"/>
                  <a:pt x="960" y="48"/>
                  <a:pt x="1056" y="56"/>
                </a:cubicBezTo>
                <a:cubicBezTo>
                  <a:pt x="1152" y="64"/>
                  <a:pt x="1224" y="56"/>
                  <a:pt x="1296" y="56"/>
                </a:cubicBezTo>
                <a:cubicBezTo>
                  <a:pt x="1368" y="56"/>
                  <a:pt x="1456" y="56"/>
                  <a:pt x="1488" y="56"/>
                </a:cubicBezTo>
              </a:path>
            </a:pathLst>
          </a:custGeom>
          <a:noFill/>
          <a:ln w="572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1143000"/>
            <a:ext cx="533520" cy="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24000" y="4267080"/>
            <a:ext cx="22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66ff"/>
                </a:solidFill>
                <a:latin typeface="Tahoma"/>
              </a:rPr>
              <a:t>Frequências Alt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66ff"/>
                </a:solidFill>
                <a:latin typeface="Tahoma"/>
              </a:rPr>
              <a:t>(ondas curt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98520" y="2971800"/>
            <a:ext cx="243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0000"/>
                </a:solidFill>
                <a:latin typeface="Tahoma"/>
              </a:rPr>
              <a:t>Frequências Baix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cc0000"/>
                </a:solidFill>
                <a:latin typeface="Tahoma"/>
              </a:rPr>
              <a:t>(ondas longa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966480" y="4724280"/>
            <a:ext cx="1626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9933"/>
                </a:solidFill>
                <a:latin typeface="Tahoma"/>
              </a:rPr>
              <a:t>Frequênci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9933"/>
                </a:solidFill>
                <a:latin typeface="Tahoma"/>
              </a:rPr>
              <a:t>Médi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76920" y="152280"/>
            <a:ext cx="5222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ones dividem-se em três grupos de acord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om a faixa do espectro da luz visível à qu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são sensíveis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57200" y="1523880"/>
            <a:ext cx="8381520" cy="3504960"/>
            <a:chOff x="457200" y="1523880"/>
            <a:chExt cx="8381520" cy="3504960"/>
          </a:xfrm>
        </p:grpSpPr>
        <p:sp>
          <p:nvSpPr>
            <p:cNvPr id="131" name=""/>
            <p:cNvSpPr/>
            <p:nvPr/>
          </p:nvSpPr>
          <p:spPr>
            <a:xfrm>
              <a:off x="457200" y="1523880"/>
              <a:ext cx="8381520" cy="3504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  <a:effectLst>
              <a:outerShdw dist="107932" dir="135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655560" y="1973160"/>
              <a:ext cx="7823520" cy="2543040"/>
              <a:chOff x="655560" y="1973160"/>
              <a:chExt cx="7823520" cy="2543040"/>
            </a:xfrm>
          </p:grpSpPr>
          <p:sp>
            <p:nvSpPr>
              <p:cNvPr id="133" name=""/>
              <p:cNvSpPr/>
              <p:nvPr/>
            </p:nvSpPr>
            <p:spPr>
              <a:xfrm>
                <a:off x="2379600" y="2879280"/>
                <a:ext cx="2154240" cy="1201680"/>
              </a:xfrm>
              <a:prstGeom prst="flowChartExtract">
                <a:avLst/>
              </a:prstGeom>
              <a:solidFill>
                <a:srgbClr val="cc0000">
                  <a:alpha val="50000"/>
                </a:srgbClr>
              </a:solidFill>
              <a:ln w="7632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584880" y="2885400"/>
                <a:ext cx="2154600" cy="1201680"/>
              </a:xfrm>
              <a:prstGeom prst="flowChartExtract">
                <a:avLst/>
              </a:prstGeom>
              <a:solidFill>
                <a:srgbClr val="009900">
                  <a:alpha val="50000"/>
                </a:srgbClr>
              </a:solidFill>
              <a:ln w="7632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730760" y="2883240"/>
                <a:ext cx="2154600" cy="1201680"/>
              </a:xfrm>
              <a:prstGeom prst="flowChartExtract">
                <a:avLst/>
              </a:prstGeom>
              <a:solidFill>
                <a:srgbClr val="3366ff">
                  <a:alpha val="50000"/>
                </a:srgbClr>
              </a:solidFill>
              <a:ln w="7632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198160" y="4147200"/>
                <a:ext cx="628092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V="1">
                <a:off x="2199600" y="1973160"/>
                <a:ext cx="1800" cy="2188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55560" y="2059560"/>
                <a:ext cx="1520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Futura Bk BT"/>
                  </a:rPr>
                  <a:t>Intensidade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ffffff"/>
                    </a:solidFill>
                    <a:latin typeface="Futura Bk BT"/>
                  </a:rPr>
                  <a:t>de resposta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83360" y="4178880"/>
                <a:ext cx="1546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Futura Bk BT"/>
                  </a:rPr>
                  <a:t>Infravermelho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598120" y="4178880"/>
                <a:ext cx="4731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ffffff"/>
                    </a:solidFill>
                    <a:latin typeface="Futura Bk BT"/>
                  </a:rPr>
                  <a:t>Vermelho     amarelo   verde         azul       violeta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04920" y="8380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rte II: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putação Gráfica Avanç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Percepção de Cores: CON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cor10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4343400"/>
          </a:xfrm>
          <a:prstGeom prst="rect">
            <a:avLst/>
          </a:prstGeom>
          <a:ln w="28440">
            <a:solidFill>
              <a:srgbClr val="969696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143" name=""/>
          <p:cNvSpPr/>
          <p:nvPr/>
        </p:nvSpPr>
        <p:spPr>
          <a:xfrm>
            <a:off x="455760" y="2209680"/>
            <a:ext cx="2465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66ff"/>
                </a:solidFill>
                <a:latin typeface="Tahoma"/>
              </a:rPr>
              <a:t>Luz colorida n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66ff"/>
                </a:solidFill>
                <a:latin typeface="Tahoma"/>
              </a:rPr>
              <a:t>retina é dividida e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66ff"/>
                </a:solidFill>
                <a:latin typeface="Tahoma"/>
              </a:rPr>
              <a:t>sinais enviados a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66ff"/>
                </a:solidFill>
                <a:latin typeface="Tahoma"/>
              </a:rPr>
              <a:t>cérebro pelos trê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6666ff"/>
                </a:solidFill>
                <a:latin typeface="Tahoma"/>
              </a:rPr>
              <a:t>grupos de cone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374920" y="3809880"/>
            <a:ext cx="380880" cy="381240"/>
          </a:xfrm>
          <a:prstGeom prst="ellipse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c0000"/>
                </a:solidFill>
                <a:latin typeface="Tahoma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165560" y="3797280"/>
            <a:ext cx="380880" cy="380880"/>
          </a:xfrm>
          <a:prstGeom prst="ellipse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c0000"/>
                </a:solidFill>
                <a:latin typeface="Tahoma"/>
              </a:rPr>
              <a:t>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18040" y="3809880"/>
            <a:ext cx="381240" cy="381240"/>
          </a:xfrm>
          <a:prstGeom prst="ellipse">
            <a:avLst/>
          </a:prstGeom>
          <a:solidFill>
            <a:srgbClr val="33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cc0000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49900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04920" y="83808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rte II: Computação Gráfica Avanç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 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Percepção de Cores: Células Horizontais e Campos Receptiv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zerocros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6634080" cy="4440240"/>
          </a:xfrm>
          <a:prstGeom prst="rect">
            <a:avLst/>
          </a:prstGeom>
          <a:ln w="38160">
            <a:solidFill>
              <a:srgbClr val="969696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150" name=""/>
          <p:cNvSpPr/>
          <p:nvPr/>
        </p:nvSpPr>
        <p:spPr>
          <a:xfrm>
            <a:off x="4495680" y="2514600"/>
            <a:ext cx="37497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Células horizontais calculam a segunda derivada do sinal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04920" y="8380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rte II: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putação Gráfica Avanç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Percepção de Co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cor08" descr=""/>
          <p:cNvPicPr/>
          <p:nvPr/>
        </p:nvPicPr>
        <p:blipFill>
          <a:blip r:embed="rId1"/>
          <a:stretch/>
        </p:blipFill>
        <p:spPr>
          <a:xfrm flipH="1">
            <a:off x="5943240" y="1600200"/>
            <a:ext cx="2590920" cy="4648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28600" y="1828800"/>
            <a:ext cx="50292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Podemos criar a impressão de qualquer cor no cérebro misturando quaisquer 3 componentes coloridas que dividam o espectro de forma similar à do olho humano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Mais simples: RG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82600" indent="-28260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É a quantidade de cada componente que cria a impressão de determinada cor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04920" y="8380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rte II: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putação Gráfica Avanç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Percepção de Co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60280" y="2341440"/>
            <a:ext cx="8639280" cy="424512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  <a:effectLst>
            <a:outerShdw dist="143570" dir="270000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93040" y="1778040"/>
            <a:ext cx="5290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ffffff"/>
                </a:solidFill>
                <a:latin typeface="Tahoma"/>
              </a:rPr>
              <a:t>Teste: Que cor há aqui ?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Tahoma"/>
              </a:rPr>
              <a:t>Cores e Pixels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colors-pixels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4064040" cy="3047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038480" y="4648320"/>
            <a:ext cx="304920" cy="304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2590920"/>
            <a:ext cx="304560" cy="3045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1" name="blue" descr=""/>
          <p:cNvPicPr/>
          <p:nvPr/>
        </p:nvPicPr>
        <p:blipFill>
          <a:blip r:embed="rId2"/>
          <a:stretch/>
        </p:blipFill>
        <p:spPr>
          <a:xfrm>
            <a:off x="3352680" y="1219320"/>
            <a:ext cx="5564160" cy="5221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62" name="red-green" descr=""/>
          <p:cNvPicPr/>
          <p:nvPr/>
        </p:nvPicPr>
        <p:blipFill>
          <a:blip r:embed="rId3"/>
          <a:stretch/>
        </p:blipFill>
        <p:spPr>
          <a:xfrm>
            <a:off x="3505320" y="1295280"/>
            <a:ext cx="5398920" cy="50691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172200" y="3352680"/>
            <a:ext cx="1066680" cy="1067040"/>
          </a:xfrm>
          <a:prstGeom prst="ellipse">
            <a:avLst/>
          </a:prstGeom>
          <a:noFill/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6840" y="2286000"/>
            <a:ext cx="8534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1. Conceitos Básico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Cores são faixas de frequência do espectro eletromagnético percebidas como semelhantes pelo olho humano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O olho humano percebe luz em uma faixa de frequência de aproximadamente uma oitava, indo de comprimentos de onda de 780 nm (rubro) a 350 nm (violeta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8380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rte II: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putação Gráfica Avanç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Percepção de Co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30492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296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5. Como o cérebro percebe a cor 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82960" indent="-28296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O córtex visual do cérebro é organizado em 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áreas</a:t>
            </a: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. As que recebem estímulos de luz diretos são o córtex visual primário e o córtex visual terciário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2960" indent="-28296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córtex visual primário</a:t>
            </a: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 é a Tela Mental, onde s|ao projetados sinais luminosos diretamente. Somente processa sinais de intensidade luminosa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2960" indent="-28296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O 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córtex visual terciário</a:t>
            </a: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 é responsável por processar e integrar informação sobre cor. É incapaz de formar imagen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2960" indent="-282960"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Os outros componentes são responsáveis por processamento de imagens. Ex.: Córtex secundário é um detector de linhas reta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8296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8380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rte II: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putação Gráfica Avanç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Percepção de Co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04920" y="8380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rte II: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putação Gráfica Avanç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68520" indent="-25704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Percepção de Cores: Integração da Visão a Co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7" name="trata3" descr=""/>
          <p:cNvPicPr/>
          <p:nvPr/>
        </p:nvPicPr>
        <p:blipFill>
          <a:blip r:embed="rId1"/>
          <a:stretch/>
        </p:blipFill>
        <p:spPr>
          <a:xfrm>
            <a:off x="0" y="628560"/>
            <a:ext cx="9144000" cy="62294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4320720" y="609480"/>
            <a:ext cx="4498200" cy="3616560"/>
            <a:chOff x="4320720" y="609480"/>
            <a:chExt cx="4498200" cy="3616560"/>
          </a:xfrm>
        </p:grpSpPr>
        <p:sp>
          <p:nvSpPr>
            <p:cNvPr id="170" name=""/>
            <p:cNvSpPr/>
            <p:nvPr/>
          </p:nvSpPr>
          <p:spPr>
            <a:xfrm>
              <a:off x="8204040" y="3276720"/>
              <a:ext cx="609840" cy="949320"/>
            </a:xfrm>
            <a:custGeom>
              <a:avLst/>
              <a:gdLst/>
              <a:ahLst/>
              <a:rect l="l" t="t" r="r" b="b"/>
              <a:pathLst>
                <a:path w="324" h="502">
                  <a:moveTo>
                    <a:pt x="48" y="471"/>
                  </a:moveTo>
                  <a:cubicBezTo>
                    <a:pt x="94" y="502"/>
                    <a:pt x="135" y="453"/>
                    <a:pt x="176" y="443"/>
                  </a:cubicBezTo>
                  <a:cubicBezTo>
                    <a:pt x="192" y="431"/>
                    <a:pt x="208" y="416"/>
                    <a:pt x="228" y="411"/>
                  </a:cubicBezTo>
                  <a:cubicBezTo>
                    <a:pt x="239" y="408"/>
                    <a:pt x="260" y="403"/>
                    <a:pt x="260" y="403"/>
                  </a:cubicBezTo>
                  <a:cubicBezTo>
                    <a:pt x="268" y="391"/>
                    <a:pt x="271" y="375"/>
                    <a:pt x="280" y="363"/>
                  </a:cubicBezTo>
                  <a:cubicBezTo>
                    <a:pt x="299" y="336"/>
                    <a:pt x="315" y="335"/>
                    <a:pt x="324" y="307"/>
                  </a:cubicBezTo>
                  <a:cubicBezTo>
                    <a:pt x="320" y="286"/>
                    <a:pt x="318" y="279"/>
                    <a:pt x="300" y="267"/>
                  </a:cubicBezTo>
                  <a:cubicBezTo>
                    <a:pt x="266" y="216"/>
                    <a:pt x="321" y="144"/>
                    <a:pt x="276" y="99"/>
                  </a:cubicBezTo>
                  <a:cubicBezTo>
                    <a:pt x="270" y="10"/>
                    <a:pt x="284" y="43"/>
                    <a:pt x="224" y="23"/>
                  </a:cubicBezTo>
                  <a:cubicBezTo>
                    <a:pt x="208" y="0"/>
                    <a:pt x="201" y="8"/>
                    <a:pt x="172" y="15"/>
                  </a:cubicBezTo>
                  <a:cubicBezTo>
                    <a:pt x="164" y="84"/>
                    <a:pt x="155" y="154"/>
                    <a:pt x="144" y="223"/>
                  </a:cubicBezTo>
                  <a:cubicBezTo>
                    <a:pt x="141" y="245"/>
                    <a:pt x="134" y="229"/>
                    <a:pt x="124" y="259"/>
                  </a:cubicBezTo>
                  <a:cubicBezTo>
                    <a:pt x="113" y="291"/>
                    <a:pt x="108" y="323"/>
                    <a:pt x="76" y="339"/>
                  </a:cubicBezTo>
                  <a:cubicBezTo>
                    <a:pt x="67" y="352"/>
                    <a:pt x="67" y="368"/>
                    <a:pt x="56" y="379"/>
                  </a:cubicBezTo>
                  <a:cubicBezTo>
                    <a:pt x="37" y="398"/>
                    <a:pt x="15" y="412"/>
                    <a:pt x="0" y="435"/>
                  </a:cubicBezTo>
                  <a:cubicBezTo>
                    <a:pt x="7" y="457"/>
                    <a:pt x="2" y="458"/>
                    <a:pt x="20" y="467"/>
                  </a:cubicBezTo>
                  <a:cubicBezTo>
                    <a:pt x="23" y="469"/>
                    <a:pt x="62" y="485"/>
                    <a:pt x="48" y="471"/>
                  </a:cubicBez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320720" y="609480"/>
              <a:ext cx="4498200" cy="131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Córtex Visual Primário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- “Tela Mental”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- Projeção do Sinal dos Bastone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- Somente Imagens P&amp;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53280" y="1905120"/>
              <a:ext cx="381240" cy="12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685800" y="1295280"/>
            <a:ext cx="7391520" cy="2965680"/>
            <a:chOff x="685800" y="1295280"/>
            <a:chExt cx="7391520" cy="2965680"/>
          </a:xfrm>
        </p:grpSpPr>
        <p:sp>
          <p:nvSpPr>
            <p:cNvPr id="174" name=""/>
            <p:cNvSpPr/>
            <p:nvPr/>
          </p:nvSpPr>
          <p:spPr>
            <a:xfrm>
              <a:off x="7543800" y="4114800"/>
              <a:ext cx="533520" cy="146160"/>
            </a:xfrm>
            <a:custGeom>
              <a:avLst/>
              <a:gdLst/>
              <a:ahLst/>
              <a:rect l="l" t="t" r="r" b="b"/>
              <a:pathLst>
                <a:path w="212" h="92">
                  <a:moveTo>
                    <a:pt x="19" y="57"/>
                  </a:moveTo>
                  <a:cubicBezTo>
                    <a:pt x="50" y="67"/>
                    <a:pt x="49" y="76"/>
                    <a:pt x="83" y="81"/>
                  </a:cubicBezTo>
                  <a:cubicBezTo>
                    <a:pt x="117" y="92"/>
                    <a:pt x="134" y="88"/>
                    <a:pt x="175" y="85"/>
                  </a:cubicBezTo>
                  <a:cubicBezTo>
                    <a:pt x="183" y="82"/>
                    <a:pt x="191" y="80"/>
                    <a:pt x="199" y="77"/>
                  </a:cubicBezTo>
                  <a:cubicBezTo>
                    <a:pt x="207" y="74"/>
                    <a:pt x="207" y="53"/>
                    <a:pt x="207" y="53"/>
                  </a:cubicBezTo>
                  <a:cubicBezTo>
                    <a:pt x="198" y="26"/>
                    <a:pt x="212" y="56"/>
                    <a:pt x="183" y="37"/>
                  </a:cubicBezTo>
                  <a:cubicBezTo>
                    <a:pt x="179" y="35"/>
                    <a:pt x="182" y="28"/>
                    <a:pt x="179" y="25"/>
                  </a:cubicBezTo>
                  <a:cubicBezTo>
                    <a:pt x="170" y="13"/>
                    <a:pt x="151" y="15"/>
                    <a:pt x="139" y="13"/>
                  </a:cubicBezTo>
                  <a:cubicBezTo>
                    <a:pt x="100" y="0"/>
                    <a:pt x="123" y="4"/>
                    <a:pt x="67" y="9"/>
                  </a:cubicBezTo>
                  <a:cubicBezTo>
                    <a:pt x="59" y="21"/>
                    <a:pt x="47" y="32"/>
                    <a:pt x="35" y="41"/>
                  </a:cubicBezTo>
                  <a:cubicBezTo>
                    <a:pt x="13" y="58"/>
                    <a:pt x="0" y="57"/>
                    <a:pt x="19" y="57"/>
                  </a:cubicBezTo>
                  <a:close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5800" y="1295280"/>
              <a:ext cx="4952880" cy="2228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Córtex Visual Terciário: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- Processamento de Sinais a Cor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- Projeção do Sinal dos Con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- Integração da Informação de Cor  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sobre as Imagens P&amp;B feita pelo 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  </a:t>
              </a: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cérebro a posteriori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Tahoma"/>
                </a:rPr>
                <a:t>- Incapaz de formar imagen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15000" y="3429000"/>
              <a:ext cx="18288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09480" y="653580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epartamento de Informática e Estatística - INE/CTC/UF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3047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putação Gráfica:</a:t>
            </a: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11. Core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Representação da Cor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f. Dr. rer.nat. Aldo von Wangenhe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04920" y="838080"/>
            <a:ext cx="2819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2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Tahoma"/>
              </a:rPr>
              <a:t>CIE 1931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Representação tridimensional das cores visívei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ermite representar qualquer cor através de um vetor 3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Leva em conta a sensibilidade do olho humano a diferentes parte sdo espect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0" name="cor11" descr=""/>
          <p:cNvPicPr/>
          <p:nvPr/>
        </p:nvPicPr>
        <p:blipFill>
          <a:blip r:embed="rId1"/>
          <a:stretch/>
        </p:blipFill>
        <p:spPr>
          <a:xfrm>
            <a:off x="3244680" y="0"/>
            <a:ext cx="5899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8380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rte II: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putação Gráfica Avanç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Percepção de Co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cor1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04920" y="15235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7720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6. Modelos de Co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77200" indent="-277200">
              <a:lnSpc>
                <a:spcPct val="80000"/>
              </a:lnSpc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A representação CIE ou XYZ é um arepresentação imprática para cores pois é pouco intuitiva. Que cor é X=0,7, Y=0,3 e Z=0,6 ?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77200" indent="-277200">
              <a:lnSpc>
                <a:spcPct val="80000"/>
              </a:lnSpc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Em função disso, criaram-se outros sitemas de cor. Os principais são: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77200" indent="-277200">
              <a:lnSpc>
                <a:spcPct val="80000"/>
              </a:lnSpc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RGB</a:t>
            </a: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: RedGreenBlue. O mais intuitivo de todos os sistemas. Mimetiza o olho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77200" indent="-277200">
              <a:lnSpc>
                <a:spcPct val="80000"/>
              </a:lnSpc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HSV</a:t>
            </a: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 ou HSI: Trabalho com tom, quantidade de intensidade luminosa. Matematicamente interessante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77200" indent="-277200">
              <a:lnSpc>
                <a:spcPct val="80000"/>
              </a:lnSpc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CMYK</a:t>
            </a: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: CianoMagentaAmareloPreto. Usado por indústrias gráficas. Subtrativo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77200" indent="-277200">
              <a:lnSpc>
                <a:spcPct val="80000"/>
              </a:lnSpc>
              <a:spcBef>
                <a:spcPts val="16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Sistemas proprietários baseados em tabelas orientadas à indústria gráfica para otimização de tinta. Ex.: Panton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77200" indent="0">
              <a:lnSpc>
                <a:spcPct val="90000"/>
              </a:lnSpc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8380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rte II: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putação Gráfica Avanç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Percepção de Co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4920" y="8380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rte II: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putação Gráfica Avanç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Percepção de Co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6" name="cor13" descr=""/>
          <p:cNvPicPr/>
          <p:nvPr/>
        </p:nvPicPr>
        <p:blipFill>
          <a:blip r:embed="rId1"/>
          <a:stretch/>
        </p:blipFill>
        <p:spPr>
          <a:xfrm>
            <a:off x="2895480" y="1703520"/>
            <a:ext cx="6248520" cy="5154480"/>
          </a:xfrm>
          <a:prstGeom prst="rect">
            <a:avLst/>
          </a:prstGeom>
          <a:ln w="28440">
            <a:solidFill>
              <a:srgbClr val="c0c0c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187" name=""/>
          <p:cNvSpPr/>
          <p:nvPr/>
        </p:nvSpPr>
        <p:spPr>
          <a:xfrm>
            <a:off x="66240" y="152280"/>
            <a:ext cx="4451040" cy="2628360"/>
          </a:xfrm>
          <a:prstGeom prst="rect">
            <a:avLst/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Modelo de Cores RGB: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Vetor no Cubo de Cores CIE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Red (Vermelho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Green (Verde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Blue (Azul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04920" y="838080"/>
            <a:ext cx="23619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Modelo de Cores HSV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Tom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(HU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Saturação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(Saturation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00"/>
                </a:solidFill>
                <a:latin typeface="Tahoma"/>
              </a:rPr>
              <a:t>Intensidade</a:t>
            </a:r>
            <a:r>
              <a:rPr b="0" lang="pt-BR" sz="3200" spc="-1" strike="noStrike">
                <a:solidFill>
                  <a:srgbClr val="ffffff"/>
                </a:solidFill>
                <a:latin typeface="Tahoma"/>
              </a:rPr>
              <a:t> (Valu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9" name="cor14" descr=""/>
          <p:cNvPicPr/>
          <p:nvPr/>
        </p:nvPicPr>
        <p:blipFill>
          <a:blip r:embed="rId1"/>
          <a:stretch/>
        </p:blipFill>
        <p:spPr>
          <a:xfrm>
            <a:off x="2819520" y="0"/>
            <a:ext cx="645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609480" y="653580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epartamento de Informática e Estatística - INE/CTC/UF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1760" y="3047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putação Gráfica:</a:t>
            </a: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11. Cores: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Geração da Cor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f. Dr. rer.nat. Aldo von Wangenhe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04920" y="8380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rte II: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putação Gráfica Avanç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Percepção de Co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3" name="cor15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14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04920" y="8380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rte II: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putação Gráfica Avanç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Percepção de Co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cor0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2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04920" y="8380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rte II: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putação Gráfica Avanç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Geração de Cores: Imagem True Col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5" name="cor16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915400" cy="3457440"/>
          </a:xfrm>
          <a:prstGeom prst="rect">
            <a:avLst/>
          </a:prstGeom>
          <a:ln w="9360">
            <a:solidFill>
              <a:srgbClr val="969696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304920" y="8380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rte II: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putação Gráfica Avanç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Geração de Cores: Imagem Indexed Col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trata4" descr=""/>
          <p:cNvPicPr/>
          <p:nvPr/>
        </p:nvPicPr>
        <p:blipFill>
          <a:blip r:embed="rId1"/>
          <a:stretch/>
        </p:blipFill>
        <p:spPr>
          <a:xfrm>
            <a:off x="3505320" y="1855800"/>
            <a:ext cx="5394240" cy="500220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04920" y="2286000"/>
            <a:ext cx="26064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Usamos uma tabela de Cor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304920" y="8380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rte II: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putação Gráfica Avanç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Geração de Cores: Imagem Indexed Col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cor1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04920" y="8380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rte II: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putação Gráfica Avanç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Geração de Cores: Imagem Indexed Col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2" name="cor18" descr=""/>
          <p:cNvPicPr/>
          <p:nvPr/>
        </p:nvPicPr>
        <p:blipFill>
          <a:blip r:embed="rId1"/>
          <a:stretch/>
        </p:blipFill>
        <p:spPr>
          <a:xfrm>
            <a:off x="2133720" y="609480"/>
            <a:ext cx="6719760" cy="5856480"/>
          </a:xfrm>
          <a:prstGeom prst="rect">
            <a:avLst/>
          </a:prstGeom>
          <a:ln w="9360">
            <a:solidFill>
              <a:srgbClr val="969696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203" name=""/>
          <p:cNvSpPr/>
          <p:nvPr/>
        </p:nvSpPr>
        <p:spPr>
          <a:xfrm>
            <a:off x="63360" y="1676520"/>
            <a:ext cx="1981440" cy="42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Gammut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Capacidade de um monitor representar cor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Expresso por um polígono descrevendo os limite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492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7432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2. Objetos emissivos e reflexivo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9966"/>
                </a:solidFill>
                <a:latin typeface="Tahoma"/>
              </a:rPr>
              <a:t>Cores reflexivas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são geradas pelo reflexo seletivo de luz contendo frequências variadas de uma superfície em função de suas características física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265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Podem ser: Opacas ou Especula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9966"/>
                </a:solidFill>
                <a:latin typeface="Tahoma"/>
              </a:rPr>
              <a:t>Cores emissivas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são geradas por objetos capazes de emitir radiação eletromagnética visível. Uma cor emissiva é o conjunto de frequências sendo emitid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Em CG todos os objetos são emissivos -&gt; Víde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8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Às vezes queremos simular outros tipos de cor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895320" indent="-265320">
              <a:lnSpc>
                <a:spcPct val="8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Para dar realismo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8380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rte II: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putação Gráfica Avanç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Percepção de Co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8380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rte II: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putação Gráfica Avanç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Percepção de Co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cor09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4197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629520" y="2444760"/>
            <a:ext cx="213444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Cor reflexiv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13400" y="2286000"/>
            <a:ext cx="2148120" cy="48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Tahoma"/>
              </a:rPr>
              <a:t>Cor emissiv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09480" y="653580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epartamento de Informática e Estatística - INE/CTC/UF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3047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putação Gráfica:</a:t>
            </a: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11. Cores</a:t>
            </a:r>
            <a:br>
              <a:rPr sz="48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Percepção da Cor</a:t>
            </a:r>
            <a:br>
              <a:rPr sz="6000"/>
            </a:b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f. Dr. rer.nat. Aldo von Wangenhe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858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3. Como percebemos Cor 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Para entendermos como percebemos cores temos de realizar uma pequena incursão em neuroanatomia e fisiologia cerebral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O canal de percepção de radiação luminosa é o olh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A retina capta os sinais luminosos e os transforma em impulsos nervosos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O cérebro é responsável pela integração dos diversos tipos de sinais recebidos e pela formação da imagem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8584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8380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rte II: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putação Gráfica Avanç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Percepção de Co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8380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rte II: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putação Gráfica Avanç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Percepção de Co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cor02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5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30492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7432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4. Como é organizada a retina ?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A retina é organizada em </a:t>
            </a:r>
            <a:r>
              <a:rPr b="0" lang="pt-BR" sz="2600" spc="-1" strike="noStrike">
                <a:solidFill>
                  <a:srgbClr val="ff9966"/>
                </a:solidFill>
                <a:latin typeface="Tahoma"/>
              </a:rPr>
              <a:t>campos receptivos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, de formato hexagonal, como uma colméi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Cada campo receptivo é composto por um conjunto de células fotosensíveis de tipos diferentes, os </a:t>
            </a:r>
            <a:r>
              <a:rPr b="0" lang="pt-BR" sz="2600" spc="-1" strike="noStrike">
                <a:solidFill>
                  <a:srgbClr val="ff9966"/>
                </a:solidFill>
                <a:latin typeface="Tahoma"/>
              </a:rPr>
              <a:t>cones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e os </a:t>
            </a:r>
            <a:r>
              <a:rPr b="0" lang="pt-BR" sz="2600" spc="-1" strike="noStrike">
                <a:solidFill>
                  <a:srgbClr val="ff9966"/>
                </a:solidFill>
                <a:latin typeface="Tahoma"/>
              </a:rPr>
              <a:t>bastonetes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Os campos receptivos são interligados através das </a:t>
            </a:r>
            <a:r>
              <a:rPr b="0" lang="pt-BR" sz="2600" spc="-1" strike="noStrike">
                <a:solidFill>
                  <a:srgbClr val="ff9966"/>
                </a:solidFill>
                <a:latin typeface="Tahoma"/>
              </a:rPr>
              <a:t>células horizontais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74320" indent="-27432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Os impulsos nervosos codificando sinais luminosos são transmitidos ao cérebro através das </a:t>
            </a:r>
            <a:r>
              <a:rPr b="0" lang="pt-BR" sz="2600" spc="-1" strike="noStrike">
                <a:solidFill>
                  <a:srgbClr val="ff9966"/>
                </a:solidFill>
                <a:latin typeface="Tahoma"/>
              </a:rPr>
              <a:t>células ganglionais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838080"/>
            <a:ext cx="8534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Parte II: 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Computação Gráfica Avanç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76080" indent="-259920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9966"/>
                </a:solidFill>
                <a:latin typeface="Tahoma"/>
              </a:rPr>
              <a:t>Percepção de Core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6T23:05:24Z</dcterms:created>
  <dc:creator>Prof. Dr. rer. nat. Aldo v. Wangenheim</dc:creator>
  <dc:description/>
  <dc:language>en-US</dc:language>
  <cp:lastModifiedBy>Aldo von Wangenheim - At Home</cp:lastModifiedBy>
  <dcterms:modified xsi:type="dcterms:W3CDTF">2005-11-01T23:19:12Z</dcterms:modified>
  <cp:revision>260</cp:revision>
  <dc:subject/>
  <dc:title>Integração de Gerência e Análise Informatizada de Imagens em Sistemas de Informatização Hospitalar  Prof. Dr. rer.nat. Aldo von Wangenheim</dc:title>
</cp:coreProperties>
</file>