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1B41-C12C-4D88-B70C-75168E3F0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3818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5440" y="3849120"/>
            <a:ext cx="83818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0F34-A367-48D7-ACC5-F42D9DA86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80600" y="11426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84912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980600" y="384912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9DBC-5E4B-4122-B737-DA68BB961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26985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19360" y="1142640"/>
            <a:ext cx="26985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353280" y="1142640"/>
            <a:ext cx="26985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5440" y="3849120"/>
            <a:ext cx="26985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519360" y="3849120"/>
            <a:ext cx="26985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353280" y="3849120"/>
            <a:ext cx="26985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70D1-784E-492E-BAC0-9707AFF6B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6D32-86F9-4174-8F64-FBD0F8303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3409-E517-44B0-A698-CCD1F8EA3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80600" y="114264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FA39-7565-40D0-A4EE-0DEE3E484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E410-14FF-4BBB-BBA8-AF4A108A7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5440" y="-360"/>
            <a:ext cx="83818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9379-4738-4D53-A858-C8FA75B24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80600" y="114264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440" y="384912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1E3C-6E86-46EB-8AE7-0094E89E2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80600" y="11426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980600" y="384912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14EC-9D3E-4C3A-A77E-5A6AC7D4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80600" y="11426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440" y="3849120"/>
            <a:ext cx="83818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0C07-1A56-41A3-AD45-0BB8320A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59E2D89-3138-40B1-AE06-01653555FD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Click to edit the title text format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609480" cy="6845400"/>
            <a:chOff x="0" y="0"/>
            <a:chExt cx="609480" cy="684540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60948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50000">
                  <a:srgbClr val="030f32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42840" y="162000"/>
              <a:ext cx="85680" cy="6543720"/>
              <a:chOff x="42840" y="162000"/>
              <a:chExt cx="85680" cy="6543720"/>
            </a:xfrm>
          </p:grpSpPr>
          <p:sp>
            <p:nvSpPr>
              <p:cNvPr id="8" name=""/>
              <p:cNvSpPr/>
              <p:nvPr/>
            </p:nvSpPr>
            <p:spPr>
              <a:xfrm>
                <a:off x="42840" y="17524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2840" y="19810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42840" y="22096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2840" y="24382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42840" y="26668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42840" y="28954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42840" y="31240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42840" y="33526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2840" y="35812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2840" y="38098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42840" y="40384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42840" y="42670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42840" y="44956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42840" y="47242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42840" y="49528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2840" y="51814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2840" y="54100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42840" y="56386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42840" y="58672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2840" y="60958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42840" y="63244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42840" y="65530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2840" y="162000"/>
                <a:ext cx="856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42840" y="390600"/>
                <a:ext cx="856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42840" y="619200"/>
                <a:ext cx="856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42840" y="847800"/>
                <a:ext cx="856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42840" y="1076400"/>
                <a:ext cx="856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42840" y="1305000"/>
                <a:ext cx="856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42840" y="1533600"/>
                <a:ext cx="856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" name=""/>
          <p:cNvSpPr/>
          <p:nvPr/>
        </p:nvSpPr>
        <p:spPr>
          <a:xfrm>
            <a:off x="79560" y="6484680"/>
            <a:ext cx="6995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cf4ea"/>
                </a:solidFill>
                <a:latin typeface="Times New Roman"/>
              </a:rPr>
              <a:t>INE - UFSC        -      Disciplina Estruturas de Dados       -       Prof. Dr. Aldo von Wangenhei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7099560" y="6484680"/>
            <a:ext cx="1465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ágina </a:t>
            </a:r>
            <a:fld id="{0F68B1D2-69D3-4974-A85F-D18511FB41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8458200" y="6019920"/>
            <a:ext cx="609480" cy="733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Book Antiqua"/>
              </a:rPr>
              <a:t>Estruturas de Dados </a:t>
            </a: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- T.332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Capítulo 11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Gerenciamento de Arquivos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11.2.3 Disco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emplo típico para uma memória secundária de acesso aleatóri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reender a forma de armazenamento é importan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delo de estruturação do disco serve para todos os outros meios secundário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ccdfc"/>
                </a:solidFill>
                <a:latin typeface="Tahoma"/>
              </a:rPr>
              <a:t>Modelo Simplificado</a:t>
            </a:r>
            <a:endParaRPr b="0" lang="en-US" sz="24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917280"/>
            <a:ext cx="3886200" cy="540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ados são organizados em superfícies, trilhas e setores, bloc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m arquivo pode ser imaginado como sendo  constituído por uma seqüência de dados no disc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esso é feito através do posicionamento de um cabeçotes de r/w em qualquer pon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ma 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unidade de alocaçã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do disco (um bloco ou um setor) possui um endereço físico no disco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demos endereçar estes da mesma forma que fazemos com a RA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961040" y="182520"/>
            <a:ext cx="11786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Times New Roman"/>
              </a:rPr>
              <a:t>Arquiv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Times New Roman"/>
              </a:rPr>
              <a:t>ocupan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Times New Roman"/>
              </a:rPr>
              <a:t>2 Seto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02160" y="692280"/>
            <a:ext cx="3720960" cy="3949560"/>
          </a:xfrm>
          <a:prstGeom prst="ellipse">
            <a:avLst/>
          </a:prstGeom>
          <a:gradFill rotWithShape="0">
            <a:gsLst>
              <a:gs pos="0">
                <a:srgbClr val="f57b49"/>
              </a:gs>
              <a:gs pos="100000">
                <a:srgbClr val="aa553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883040" y="1073160"/>
            <a:ext cx="2959200" cy="3187800"/>
          </a:xfrm>
          <a:prstGeom prst="ellipse">
            <a:avLst/>
          </a:prstGeom>
          <a:gradFill rotWithShape="0">
            <a:gsLst>
              <a:gs pos="0">
                <a:srgbClr val="f57b49"/>
              </a:gs>
              <a:gs pos="100000">
                <a:srgbClr val="aa553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264280" y="1454040"/>
            <a:ext cx="2197080" cy="2349720"/>
          </a:xfrm>
          <a:prstGeom prst="ellipse">
            <a:avLst/>
          </a:prstGeom>
          <a:gradFill rotWithShape="0">
            <a:gsLst>
              <a:gs pos="0">
                <a:srgbClr val="f57b49"/>
              </a:gs>
              <a:gs pos="100000">
                <a:srgbClr val="aa553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645160" y="1835280"/>
            <a:ext cx="1434960" cy="1587240"/>
          </a:xfrm>
          <a:prstGeom prst="ellipse">
            <a:avLst/>
          </a:prstGeom>
          <a:gradFill rotWithShape="0">
            <a:gsLst>
              <a:gs pos="0">
                <a:srgbClr val="f57b49"/>
              </a:gs>
              <a:gs pos="100000">
                <a:srgbClr val="aa553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00800" y="685800"/>
            <a:ext cx="0" cy="3962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95680" y="2666880"/>
            <a:ext cx="3733920" cy="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1219320"/>
            <a:ext cx="2590560" cy="281916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4952880" y="1371240"/>
            <a:ext cx="2819520" cy="25909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102360" y="2368440"/>
            <a:ext cx="520560" cy="596880"/>
          </a:xfrm>
          <a:prstGeom prst="ellipse">
            <a:avLst/>
          </a:prstGeom>
          <a:gradFill rotWithShape="0">
            <a:gsLst>
              <a:gs pos="0">
                <a:srgbClr val="888888"/>
              </a:gs>
              <a:gs pos="100000">
                <a:srgbClr val="5e5e5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57720" y="1144440"/>
            <a:ext cx="261576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7" y="0"/>
                </a:moveTo>
                <a:arcTo wR="10800" hR="10800" stAng="-5404172" swAng="5404172"/>
                <a:lnTo>
                  <a:pt x="10800" y="10800"/>
                </a:lnTo>
                <a:close/>
              </a:path>
              <a:path fill="none" w="21600" h="21600">
                <a:moveTo>
                  <a:pt x="10787" y="0"/>
                </a:moveTo>
                <a:arcTo wR="10800" hR="10800" stAng="-5404172" swAng="5404172"/>
              </a:path>
            </a:pathLst>
          </a:custGeom>
          <a:noFill/>
          <a:ln cap="rnd" w="127080">
            <a:solidFill>
              <a:srgbClr val="7b00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28000" y="1262160"/>
            <a:ext cx="2323440" cy="262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5" y="0"/>
                </a:moveTo>
                <a:arcTo wR="10800" hR="10800" stAng="-5404697" swAng="5404697"/>
                <a:lnTo>
                  <a:pt x="10800" y="10800"/>
                </a:lnTo>
                <a:close/>
              </a:path>
              <a:path fill="none" w="21600" h="21600">
                <a:moveTo>
                  <a:pt x="10785" y="0"/>
                </a:moveTo>
                <a:arcTo wR="10800" hR="10800" stAng="-5404697" swAng="5404697"/>
              </a:path>
            </a:pathLst>
          </a:custGeom>
          <a:noFill/>
          <a:ln cap="rnd" w="127080">
            <a:solidFill>
              <a:srgbClr val="7b00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69160" y="231840"/>
            <a:ext cx="722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Times New Roman"/>
              </a:rPr>
              <a:t>Se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915080" y="449280"/>
            <a:ext cx="761760" cy="56052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34800" y="5197320"/>
            <a:ext cx="15368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7b49"/>
                </a:solidFill>
                <a:latin typeface="Times New Roman"/>
              </a:rPr>
              <a:t>Superfície 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7b49"/>
                </a:solidFill>
                <a:latin typeface="Times New Roman"/>
              </a:rPr>
              <a:t>um Dis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854840" y="4370400"/>
            <a:ext cx="999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Times New Roman"/>
              </a:rPr>
              <a:t>1 Trilh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6589800" y="4475160"/>
            <a:ext cx="1247760" cy="792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8080200" y="2960280"/>
            <a:ext cx="0" cy="138924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7326360" y="473040"/>
            <a:ext cx="519120" cy="103032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Modelo mais Realista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40035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 disco pode apresentar </a:t>
            </a:r>
            <a:r>
              <a:rPr b="1" i="1" lang="en-US" sz="2400" spc="-1" strike="noStrike" u="sng">
                <a:solidFill>
                  <a:srgbClr val="fafd00"/>
                </a:solidFill>
                <a:uFillTx/>
                <a:latin typeface="Times New Roman"/>
              </a:rPr>
              <a:t>fragmentaçã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i.é., os dados não estão exatamente em espaços contíguos, mas em unidades de alocação longe umas das outras, encadeadas como uma lista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 encadeamento é tarefa do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sistema operaciona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e do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hardwa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controladora) do disc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53080" y="582480"/>
            <a:ext cx="3720960" cy="3949920"/>
          </a:xfrm>
          <a:prstGeom prst="ellipse">
            <a:avLst/>
          </a:prstGeom>
          <a:gradFill rotWithShape="0">
            <a:gsLst>
              <a:gs pos="0">
                <a:srgbClr val="f57b49"/>
              </a:gs>
              <a:gs pos="100000">
                <a:srgbClr val="aa553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963720"/>
            <a:ext cx="2959200" cy="3187440"/>
          </a:xfrm>
          <a:prstGeom prst="ellipse">
            <a:avLst/>
          </a:prstGeom>
          <a:gradFill rotWithShape="0">
            <a:gsLst>
              <a:gs pos="0">
                <a:srgbClr val="f57b49"/>
              </a:gs>
              <a:gs pos="100000">
                <a:srgbClr val="aa553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514840" y="1344600"/>
            <a:ext cx="2197080" cy="2349360"/>
          </a:xfrm>
          <a:prstGeom prst="ellipse">
            <a:avLst/>
          </a:prstGeom>
          <a:gradFill rotWithShape="0">
            <a:gsLst>
              <a:gs pos="0">
                <a:srgbClr val="f57b49"/>
              </a:gs>
              <a:gs pos="100000">
                <a:srgbClr val="aa553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896080" y="1725480"/>
            <a:ext cx="1434960" cy="1587600"/>
          </a:xfrm>
          <a:prstGeom prst="ellipse">
            <a:avLst/>
          </a:prstGeom>
          <a:gradFill rotWithShape="0">
            <a:gsLst>
              <a:gs pos="0">
                <a:srgbClr val="f57b49"/>
              </a:gs>
              <a:gs pos="100000">
                <a:srgbClr val="aa553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51720" y="576360"/>
            <a:ext cx="0" cy="396216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746600" y="2557440"/>
            <a:ext cx="3733920" cy="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56080" y="1109520"/>
            <a:ext cx="2590920" cy="2819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203800" y="1262160"/>
            <a:ext cx="2819520" cy="259056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53280" y="2259000"/>
            <a:ext cx="520560" cy="596880"/>
          </a:xfrm>
          <a:prstGeom prst="ellipse">
            <a:avLst/>
          </a:prstGeom>
          <a:gradFill rotWithShape="0">
            <a:gsLst>
              <a:gs pos="0">
                <a:srgbClr val="888888"/>
              </a:gs>
              <a:gs pos="100000">
                <a:srgbClr val="5e5e5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408640" y="1035000"/>
            <a:ext cx="261576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7" y="0"/>
                </a:moveTo>
                <a:arcTo wR="10800" hR="10800" stAng="-5404172" swAng="5404172"/>
                <a:lnTo>
                  <a:pt x="10800" y="10800"/>
                </a:lnTo>
                <a:close/>
              </a:path>
              <a:path fill="none" w="21600" h="21600">
                <a:moveTo>
                  <a:pt x="10787" y="0"/>
                </a:moveTo>
                <a:arcTo wR="10800" hR="10800" stAng="-5404172" swAng="5404172"/>
              </a:path>
            </a:pathLst>
          </a:custGeom>
          <a:noFill/>
          <a:ln cap="rnd" w="127080">
            <a:solidFill>
              <a:srgbClr val="7b00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580360" y="1171440"/>
            <a:ext cx="2323440" cy="259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5" y="0"/>
                </a:moveTo>
                <a:arcTo wR="10800" hR="10800" stAng="-5404697" swAng="5404697"/>
                <a:lnTo>
                  <a:pt x="10800" y="10800"/>
                </a:lnTo>
                <a:close/>
              </a:path>
              <a:path fill="none" w="21600" h="21600">
                <a:moveTo>
                  <a:pt x="10785" y="0"/>
                </a:moveTo>
                <a:arcTo wR="10800" hR="10800" stAng="-5404697" swAng="5404697"/>
              </a:path>
            </a:pathLst>
          </a:custGeom>
          <a:noFill/>
          <a:ln cap="rnd" w="127080">
            <a:solidFill>
              <a:srgbClr val="7b00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20080" y="122400"/>
            <a:ext cx="722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Times New Roman"/>
              </a:rPr>
              <a:t>Se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65640" y="339840"/>
            <a:ext cx="762120" cy="56016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985720" y="5087880"/>
            <a:ext cx="15368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7b49"/>
                </a:solidFill>
                <a:latin typeface="Times New Roman"/>
              </a:rPr>
              <a:t>Superfície 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7b49"/>
                </a:solidFill>
                <a:latin typeface="Times New Roman"/>
              </a:rPr>
              <a:t>um Dis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05400" y="4260960"/>
            <a:ext cx="999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Times New Roman"/>
              </a:rPr>
              <a:t>1 Trilh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6840000" y="4365720"/>
            <a:ext cx="1248120" cy="792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8331120" y="2851200"/>
            <a:ext cx="0" cy="138888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10620000">
            <a:off x="5214600" y="1146240"/>
            <a:ext cx="261576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7" y="0"/>
                </a:moveTo>
                <a:arcTo wR="10800" hR="10800" stAng="-5404172" swAng="5404172"/>
                <a:lnTo>
                  <a:pt x="10800" y="10800"/>
                </a:lnTo>
                <a:close/>
              </a:path>
              <a:path fill="none" w="21600" h="21600">
                <a:moveTo>
                  <a:pt x="10787" y="0"/>
                </a:moveTo>
                <a:arcTo wR="10800" hR="10800" stAng="-5404172" swAng="5404172"/>
              </a:path>
            </a:pathLst>
          </a:custGeom>
          <a:noFill/>
          <a:ln cap="rnd" w="127080">
            <a:solidFill>
              <a:srgbClr val="7b00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10620000">
            <a:off x="5351040" y="1320840"/>
            <a:ext cx="2324160" cy="259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5" y="0"/>
                </a:moveTo>
                <a:arcTo wR="10800" hR="10800" stAng="-5404690" swAng="5400477"/>
                <a:lnTo>
                  <a:pt x="10800" y="10800"/>
                </a:lnTo>
                <a:close/>
              </a:path>
              <a:path fill="none" w="21600" h="21600">
                <a:moveTo>
                  <a:pt x="10785" y="0"/>
                </a:moveTo>
                <a:arcTo wR="10800" hR="10800" stAng="-5404690" swAng="5400477"/>
              </a:path>
            </a:pathLst>
          </a:custGeom>
          <a:noFill/>
          <a:ln cap="rnd" w="127080">
            <a:solidFill>
              <a:srgbClr val="7b00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573960" y="2482920"/>
            <a:ext cx="1257120" cy="1382760"/>
          </a:xfrm>
          <a:custGeom>
            <a:avLst/>
            <a:gdLst/>
            <a:ahLst/>
            <a:rect l="l" t="t" r="r" b="b"/>
            <a:pathLst>
              <a:path w="792" h="871">
                <a:moveTo>
                  <a:pt x="791" y="0"/>
                </a:moveTo>
                <a:lnTo>
                  <a:pt x="791" y="32"/>
                </a:lnTo>
                <a:lnTo>
                  <a:pt x="791" y="58"/>
                </a:lnTo>
                <a:lnTo>
                  <a:pt x="791" y="74"/>
                </a:lnTo>
                <a:lnTo>
                  <a:pt x="791" y="95"/>
                </a:lnTo>
                <a:lnTo>
                  <a:pt x="791" y="111"/>
                </a:lnTo>
                <a:lnTo>
                  <a:pt x="791" y="127"/>
                </a:lnTo>
                <a:lnTo>
                  <a:pt x="791" y="142"/>
                </a:lnTo>
                <a:lnTo>
                  <a:pt x="791" y="158"/>
                </a:lnTo>
                <a:lnTo>
                  <a:pt x="791" y="179"/>
                </a:lnTo>
                <a:lnTo>
                  <a:pt x="785" y="195"/>
                </a:lnTo>
                <a:lnTo>
                  <a:pt x="785" y="211"/>
                </a:lnTo>
                <a:lnTo>
                  <a:pt x="775" y="232"/>
                </a:lnTo>
                <a:lnTo>
                  <a:pt x="764" y="248"/>
                </a:lnTo>
                <a:lnTo>
                  <a:pt x="754" y="264"/>
                </a:lnTo>
                <a:lnTo>
                  <a:pt x="743" y="280"/>
                </a:lnTo>
                <a:lnTo>
                  <a:pt x="738" y="295"/>
                </a:lnTo>
                <a:lnTo>
                  <a:pt x="738" y="316"/>
                </a:lnTo>
                <a:lnTo>
                  <a:pt x="738" y="332"/>
                </a:lnTo>
                <a:lnTo>
                  <a:pt x="733" y="348"/>
                </a:lnTo>
                <a:lnTo>
                  <a:pt x="733" y="369"/>
                </a:lnTo>
                <a:lnTo>
                  <a:pt x="727" y="385"/>
                </a:lnTo>
                <a:lnTo>
                  <a:pt x="722" y="406"/>
                </a:lnTo>
                <a:lnTo>
                  <a:pt x="717" y="427"/>
                </a:lnTo>
                <a:lnTo>
                  <a:pt x="706" y="443"/>
                </a:lnTo>
                <a:lnTo>
                  <a:pt x="701" y="464"/>
                </a:lnTo>
                <a:lnTo>
                  <a:pt x="690" y="480"/>
                </a:lnTo>
                <a:lnTo>
                  <a:pt x="685" y="501"/>
                </a:lnTo>
                <a:lnTo>
                  <a:pt x="675" y="517"/>
                </a:lnTo>
                <a:lnTo>
                  <a:pt x="669" y="538"/>
                </a:lnTo>
                <a:lnTo>
                  <a:pt x="648" y="554"/>
                </a:lnTo>
                <a:lnTo>
                  <a:pt x="638" y="575"/>
                </a:lnTo>
                <a:lnTo>
                  <a:pt x="622" y="591"/>
                </a:lnTo>
                <a:lnTo>
                  <a:pt x="606" y="612"/>
                </a:lnTo>
                <a:lnTo>
                  <a:pt x="590" y="622"/>
                </a:lnTo>
                <a:lnTo>
                  <a:pt x="580" y="638"/>
                </a:lnTo>
                <a:lnTo>
                  <a:pt x="553" y="659"/>
                </a:lnTo>
                <a:lnTo>
                  <a:pt x="527" y="675"/>
                </a:lnTo>
                <a:lnTo>
                  <a:pt x="495" y="696"/>
                </a:lnTo>
                <a:lnTo>
                  <a:pt x="448" y="723"/>
                </a:lnTo>
                <a:lnTo>
                  <a:pt x="427" y="728"/>
                </a:lnTo>
                <a:lnTo>
                  <a:pt x="416" y="744"/>
                </a:lnTo>
                <a:lnTo>
                  <a:pt x="400" y="754"/>
                </a:lnTo>
                <a:lnTo>
                  <a:pt x="374" y="770"/>
                </a:lnTo>
                <a:lnTo>
                  <a:pt x="348" y="786"/>
                </a:lnTo>
                <a:lnTo>
                  <a:pt x="321" y="807"/>
                </a:lnTo>
                <a:lnTo>
                  <a:pt x="305" y="817"/>
                </a:lnTo>
                <a:lnTo>
                  <a:pt x="290" y="828"/>
                </a:lnTo>
                <a:lnTo>
                  <a:pt x="263" y="839"/>
                </a:lnTo>
                <a:lnTo>
                  <a:pt x="242" y="844"/>
                </a:lnTo>
                <a:lnTo>
                  <a:pt x="221" y="849"/>
                </a:lnTo>
                <a:lnTo>
                  <a:pt x="200" y="854"/>
                </a:lnTo>
                <a:lnTo>
                  <a:pt x="179" y="854"/>
                </a:lnTo>
                <a:lnTo>
                  <a:pt x="163" y="860"/>
                </a:lnTo>
                <a:lnTo>
                  <a:pt x="147" y="860"/>
                </a:lnTo>
                <a:lnTo>
                  <a:pt x="126" y="860"/>
                </a:lnTo>
                <a:lnTo>
                  <a:pt x="110" y="860"/>
                </a:lnTo>
                <a:lnTo>
                  <a:pt x="89" y="860"/>
                </a:lnTo>
                <a:lnTo>
                  <a:pt x="73" y="860"/>
                </a:lnTo>
                <a:lnTo>
                  <a:pt x="52" y="865"/>
                </a:lnTo>
                <a:lnTo>
                  <a:pt x="31" y="865"/>
                </a:lnTo>
                <a:lnTo>
                  <a:pt x="15" y="870"/>
                </a:lnTo>
                <a:lnTo>
                  <a:pt x="0" y="870"/>
                </a:lnTo>
                <a:lnTo>
                  <a:pt x="5" y="865"/>
                </a:lnTo>
              </a:path>
            </a:pathLst>
          </a:custGeom>
          <a:noFill/>
          <a:ln cap="rnd" w="12600">
            <a:solidFill>
              <a:srgbClr val="00b7a5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Exemplo: Disco Real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04920" y="952560"/>
            <a:ext cx="871668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Disco: Para Trabalhar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2010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udo o que precisamos para trabalhar com técnicas de gerência de arquivos é imagina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19000" indent="-28548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e um arquivo é uma seqüência de dados sem “buracos” mei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19000" indent="-28548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e podemos acessar qualquer parte deses dados através de seu </a:t>
            </a: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endereço relativ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a partir do início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19000" indent="-28548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e só podemos incluir um dados novos no </a:t>
            </a: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fi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19000" indent="-28548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dos do meio só podem ser </a:t>
            </a: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alterado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19000" indent="-28548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Apagar  um dado significa marcá- lo como apagado ou substituí-lo por outro 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007480" y="539640"/>
            <a:ext cx="825480" cy="5245200"/>
          </a:xfrm>
          <a:prstGeom prst="rect">
            <a:avLst/>
          </a:prstGeom>
          <a:gradFill rotWithShape="0">
            <a:gsLst>
              <a:gs pos="0">
                <a:srgbClr val="ab4659"/>
              </a:gs>
              <a:gs pos="50000">
                <a:srgbClr val="f76681"/>
              </a:gs>
              <a:gs pos="100000">
                <a:srgbClr val="ab4659"/>
              </a:gs>
            </a:gsLst>
            <a:lin ang="5400000"/>
          </a:gradFill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001000" y="838080"/>
            <a:ext cx="83808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001000" y="1219320"/>
            <a:ext cx="83808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001000" y="1600200"/>
            <a:ext cx="83808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001000" y="1981080"/>
            <a:ext cx="83808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001000" y="2362320"/>
            <a:ext cx="83808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001000" y="2743200"/>
            <a:ext cx="83808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001000" y="3124080"/>
            <a:ext cx="83808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001000" y="3505320"/>
            <a:ext cx="83808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001000" y="3886200"/>
            <a:ext cx="83808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001000" y="4267080"/>
            <a:ext cx="83808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001000" y="4648320"/>
            <a:ext cx="83808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001000" y="5029200"/>
            <a:ext cx="83808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001000" y="5410080"/>
            <a:ext cx="83808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137440" y="227160"/>
            <a:ext cx="659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níc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137440" y="5789520"/>
            <a:ext cx="51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i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795240" y="5321160"/>
            <a:ext cx="48096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f4ea"/>
                </a:solidFill>
                <a:latin typeface="Tahoma"/>
              </a:rPr>
              <a:t>11.3 Tipos de Arquivos</a:t>
            </a:r>
            <a:endParaRPr b="0" lang="en-US" sz="36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954000" indent="0">
              <a:spcBef>
                <a:spcPts val="700"/>
              </a:spcBef>
              <a:buNone/>
              <a:tabLst>
                <a:tab algn="l" pos="0"/>
                <a:tab algn="l" pos="954000"/>
                <a:tab algn="l" pos="1046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á basicamente dois tipos de arquivos, olhados do ponto de vista do armazenamento de informação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954000" indent="-38412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54000"/>
                <a:tab algn="l" pos="1046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quivos de Formato Variáve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954000" indent="-38412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54000"/>
                <a:tab algn="l" pos="1046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quivos de Registr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f4ea"/>
                </a:solidFill>
                <a:latin typeface="Tahoma"/>
              </a:rPr>
              <a:t>11.3.1 A</a:t>
            </a: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rquivos de formato variável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ão arquivos onde a única unidade de endereçamento possível é o byt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s arquivos não são organizados em estruturas. </a:t>
            </a:r>
            <a:r>
              <a:rPr b="0" lang="en-US" sz="2800" spc="-1" strike="noStrike">
                <a:solidFill>
                  <a:srgbClr val="f57b49"/>
                </a:solidFill>
                <a:latin typeface="Times New Roman"/>
              </a:rPr>
              <a:t>Exemplo típic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rquivos text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smo sendo os arquivos texto organizados em linhas, estas têm tamanho variável e não servem para endereçar o arquivo, i.é., você não sabe a que distância do começo do arquivo a “linha 13” está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ão tratados como arquivos de acesso seqüenci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11.3.2 Arquivos de Registros </a:t>
            </a:r>
            <a:r>
              <a:rPr b="0" lang="en-US" sz="2400" spc="-1" strike="noStrike">
                <a:solidFill>
                  <a:srgbClr val="8cf4ea"/>
                </a:solidFill>
                <a:latin typeface="Tahoma"/>
              </a:rPr>
              <a:t>ou de </a:t>
            </a:r>
            <a:r>
              <a:rPr b="0" i="1" lang="en-US" sz="2400" spc="-1" strike="noStrike">
                <a:solidFill>
                  <a:srgbClr val="8cf4ea"/>
                </a:solidFill>
                <a:latin typeface="Tahoma"/>
              </a:rPr>
              <a:t>Acesso Randômico</a:t>
            </a:r>
            <a:endParaRPr b="0" lang="en-US" sz="24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91440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ão arquivos organizados em unidades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maiores que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 byte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e tamanho sempre igual, chamadas </a:t>
            </a: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registro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gistros têm a mesma filosofia que as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truct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em “C” ou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record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em Pasc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ão conjuntos de dados com tamanho fixo, mesmo que uma parte não seja aproveita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mitem que sejam usados como unidade de endereçamento relativa. Ex.: “Registro 34278”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Ex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Podemos armazenar um nodo de uma árvore como um registro. O ponteiro “direita” apontará para o </a:t>
            </a:r>
            <a:r>
              <a:rPr b="0" lang="en-US" sz="2400" spc="-1" strike="noStrike">
                <a:solidFill>
                  <a:srgbClr val="f57b49"/>
                </a:solidFill>
                <a:latin typeface="Times New Roman"/>
              </a:rPr>
              <a:t>endereço relativo de um registro representando outro nod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no arquivo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écnicas de Gerência de Arquivos são voltadas aos Arquivos de Registr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81120" y="5487840"/>
            <a:ext cx="392040" cy="7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cesso a Registros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440" y="976320"/>
            <a:ext cx="8381880" cy="534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Quase todas as linguagens de programação provêm uma facilidade para o acesso a arquivos de endereçamento randômic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x.: Comando </a:t>
            </a:r>
            <a:r>
              <a:rPr b="1" lang="en-GB" sz="2000" spc="-1" strike="noStrike">
                <a:solidFill>
                  <a:srgbClr val="fafd00"/>
                </a:solidFill>
                <a:latin typeface="Courier New"/>
              </a:rPr>
              <a:t>seek( arquivo, posição)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em Pasc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x.: </a:t>
            </a:r>
            <a:r>
              <a:rPr b="1" lang="pt-BR" sz="2000" spc="-1" strike="noStrike">
                <a:solidFill>
                  <a:srgbClr val="fafd00"/>
                </a:solidFill>
                <a:latin typeface="Courier New"/>
              </a:rPr>
              <a:t>fseek(arquivo*,posição,SEEK_SET)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em “C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 acesso é feito simplesmente fornecendo-se o </a:t>
            </a:r>
            <a:r>
              <a:rPr b="0" lang="en-GB" sz="2800" spc="-1" strike="noStrike">
                <a:solidFill>
                  <a:srgbClr val="f57b49"/>
                </a:solidFill>
                <a:latin typeface="Times New Roman"/>
              </a:rPr>
              <a:t>endereço relativo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(número de registro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 resto (encontrar a trilha e o setor, posicionar o cabeçote, etc) é incumbência do sist. operacional e do hardware do dispositivo e é transparente ao programador/usuári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eito o acesso pode-se realizar uma operação de leitura ou escrit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Definições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440" y="83808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7b49"/>
                </a:solidFill>
                <a:latin typeface="Times New Roman"/>
              </a:rPr>
              <a:t>Registro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mento básico de um arquivo de acesso randômic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dos os registros de um arquivo têm o mesmo tamanh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7b49"/>
                </a:solidFill>
                <a:latin typeface="Times New Roman"/>
              </a:rPr>
              <a:t>Ítem de Dado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É o campo de um registr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7b49"/>
                </a:solidFill>
                <a:latin typeface="Times New Roman"/>
              </a:rPr>
              <a:t>Ocorrência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É uma instância de um registro com determinados valo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7b49"/>
                </a:solidFill>
                <a:latin typeface="Times New Roman"/>
              </a:rPr>
              <a:t>Organização Física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forma de organização de de um arquivo, sua estrutura (de dados e de índices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apartida ao conceito de Estrutura de Dad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11.1 Introdução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83808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quiv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57b49"/>
                </a:solidFill>
                <a:latin typeface="Times New Roman"/>
              </a:rPr>
              <a:t>Conjunto de Dados em um Dispositivo de Armazenamento Secundári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externo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picamente: Disco, Disquete, Fita, CD-ROM, MO-Disc, Zip, Jaz, et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pos de Dispositiv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esso Seqüen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ta (Carretel, Streamer, DAT, Trava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ados só podem ser lidos na mesma ordem em que foram escri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crita só é possível após o final da área utilizad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esso Aleató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sco, CD, MO, Disquete, Zip, Ja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ados podem ser lidos e escritos* em qualquer ord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*à exceção do C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8175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Escolha da Organização de Arquivos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440" y="766800"/>
            <a:ext cx="8381880" cy="55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incipal Objetiv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necer </a:t>
            </a:r>
            <a:r>
              <a:rPr b="0" lang="en-US" sz="2400" spc="-1" strike="noStrike">
                <a:solidFill>
                  <a:srgbClr val="f57b49"/>
                </a:solidFill>
                <a:latin typeface="Times New Roman"/>
              </a:rPr>
              <a:t>caminhos de acess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os registros durante as operações de recuperação e atualização de dad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itéri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sultas sempre envolvem buscas. Os caminhos de acesso aos registros devem tornar essas </a:t>
            </a:r>
            <a:r>
              <a:rPr b="0" lang="en-US" sz="2400" spc="-1" strike="noStrike">
                <a:solidFill>
                  <a:srgbClr val="f57b49"/>
                </a:solidFill>
                <a:latin typeface="Times New Roman"/>
              </a:rPr>
              <a:t>busca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o mais </a:t>
            </a:r>
            <a:r>
              <a:rPr b="0" lang="en-US" sz="2400" spc="-1" strike="noStrike">
                <a:solidFill>
                  <a:srgbClr val="f57b49"/>
                </a:solidFill>
                <a:latin typeface="Times New Roman"/>
              </a:rPr>
              <a:t>eficient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possíve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pend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pos de consultas permiti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úmero de chaves (só uma ou chaves secundárias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.: Vamos indexar uma lista telefônica só por nome ou também por rua ou número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os de recuperação e de atualizaçã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7412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Tipos de Consulta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840960"/>
            <a:ext cx="8381880" cy="548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mpregado : registro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nome : str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cargo : str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salário : intei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dataBase : tipo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endereço : str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ulta simples: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go = “motorista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ulta em uma faixa: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alário &gt; 56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ulta booleana: </a:t>
            </a:r>
            <a:br>
              <a:rPr sz="2800"/>
            </a:b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go = “motorista” E salário &gt; 300 E dataBase = 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733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Indexação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825120"/>
            <a:ext cx="8381880" cy="549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demos usar um campo de uma estrutura de registro para “identificar” esse registro. Chamamos a este campo de </a:t>
            </a:r>
            <a:r>
              <a:rPr b="0" lang="en-US" sz="2400" spc="-1" strike="noStrike">
                <a:solidFill>
                  <a:srgbClr val="f57b49"/>
                </a:solidFill>
                <a:latin typeface="Times New Roman"/>
              </a:rPr>
              <a:t>chav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57b49"/>
                </a:solidFill>
                <a:latin typeface="Times New Roman"/>
              </a:rPr>
              <a:t>Índic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é uma estrutura de dados que mantém o conjunto de chaves de um arquivo e seus endereços e serve de referência para os registr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Índice Primári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ou Indexação por Chave Primária) é um índice único que organiza o arquivo através do campo considerado “mais importante” ou “identificador” da sua definição de registros. Ex.: “empregado” por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om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Índice Secundári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ou Indexação por Chave Secundária) é um índice que organiza o arquivo referenciando outro campo ou combinação de campos. Ex.: Indexamos “empregado” por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om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e por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data-bas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Data-bas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é um índice secundário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174920" y="3230640"/>
            <a:ext cx="794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o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Métodos de Gerência/Organização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833040"/>
            <a:ext cx="8381880" cy="549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quivos Seqüencia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imá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quivos Indexados Seqüencia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imá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Árvo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VL, 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imár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-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imária, Secundár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sta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Primária e Secundári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ltilis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rquivo Inverti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11.3.2.1 Arquivos Seqüenciais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440" y="833040"/>
            <a:ext cx="8381880" cy="549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m registro está atrás do outro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itura é realizada seqüencialm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scrita só no fin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exação: </a:t>
            </a:r>
            <a:r>
              <a:rPr b="0" lang="en-US" sz="2800" spc="-1" strike="noStrike">
                <a:solidFill>
                  <a:srgbClr val="f57b49"/>
                </a:solidFill>
                <a:latin typeface="Times New Roman"/>
              </a:rPr>
              <a:t>Ordenação por Chave Primá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dexação Primária: Podemos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ordena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o arquivo pelo campo chave. Semelhante à </a:t>
            </a:r>
            <a:r>
              <a:rPr b="0" lang="en-US" sz="2400" spc="-1" strike="noStrike">
                <a:solidFill>
                  <a:srgbClr val="f57b49"/>
                </a:solidFill>
                <a:latin typeface="Times New Roman"/>
              </a:rPr>
              <a:t>lista ordenada em um veto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Vantage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Acesso seqüencial de um conjunto de dados é o mais rápid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Útil qdo. sempre tenho de processar quase todos os elemen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Desvantagen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Inclusão e Exclusão é extremamente custosa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 soluçõ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óp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clusão/Exclusão com o algoritmo da </a:t>
            </a:r>
            <a:r>
              <a:rPr b="0" lang="en-US" sz="2400" spc="-1" strike="noStrike">
                <a:solidFill>
                  <a:srgbClr val="f57b49"/>
                </a:solidFill>
                <a:latin typeface="Times New Roman"/>
              </a:rPr>
              <a:t>lista ordenada em ve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9255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f4ea"/>
                </a:solidFill>
                <a:latin typeface="Tahoma"/>
              </a:rPr>
              <a:t>Exemplo: Inclusão em Arquivo Seqüencial com Chave </a:t>
            </a:r>
            <a:endParaRPr b="0" lang="en-US" sz="2400" spc="-1" strike="noStrike">
              <a:solidFill>
                <a:srgbClr val="8cf4ea"/>
              </a:solidFill>
              <a:latin typeface="Tahoma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2014560" y="2370240"/>
            <a:ext cx="1684440" cy="3490920"/>
            <a:chOff x="2014560" y="2370240"/>
            <a:chExt cx="1684440" cy="3490920"/>
          </a:xfrm>
        </p:grpSpPr>
        <p:sp>
          <p:nvSpPr>
            <p:cNvPr id="183" name=""/>
            <p:cNvSpPr/>
            <p:nvPr/>
          </p:nvSpPr>
          <p:spPr>
            <a:xfrm>
              <a:off x="2021040" y="2370240"/>
              <a:ext cx="871560" cy="3490920"/>
            </a:xfrm>
            <a:prstGeom prst="rect">
              <a:avLst/>
            </a:prstGeom>
            <a:solidFill>
              <a:srgbClr val="006057"/>
            </a:solidFill>
            <a:ln w="12600">
              <a:solidFill>
                <a:srgbClr val="f766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014560" y="2625840"/>
              <a:ext cx="838080" cy="0"/>
            </a:xfrm>
            <a:prstGeom prst="line">
              <a:avLst/>
            </a:prstGeom>
            <a:ln w="12600">
              <a:solidFill>
                <a:srgbClr val="f766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014560" y="2962440"/>
              <a:ext cx="838080" cy="0"/>
            </a:xfrm>
            <a:prstGeom prst="line">
              <a:avLst/>
            </a:prstGeom>
            <a:ln w="12600">
              <a:solidFill>
                <a:srgbClr val="f766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014560" y="3295800"/>
              <a:ext cx="838080" cy="0"/>
            </a:xfrm>
            <a:prstGeom prst="line">
              <a:avLst/>
            </a:prstGeom>
            <a:ln w="12600">
              <a:solidFill>
                <a:srgbClr val="f766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014560" y="3632040"/>
              <a:ext cx="838080" cy="0"/>
            </a:xfrm>
            <a:prstGeom prst="line">
              <a:avLst/>
            </a:prstGeom>
            <a:ln w="12600">
              <a:solidFill>
                <a:srgbClr val="f766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014560" y="3965400"/>
              <a:ext cx="838080" cy="0"/>
            </a:xfrm>
            <a:prstGeom prst="line">
              <a:avLst/>
            </a:prstGeom>
            <a:ln w="12600">
              <a:solidFill>
                <a:srgbClr val="f766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014560" y="4226040"/>
              <a:ext cx="838080" cy="0"/>
            </a:xfrm>
            <a:prstGeom prst="line">
              <a:avLst/>
            </a:prstGeom>
            <a:ln w="12600">
              <a:solidFill>
                <a:srgbClr val="f766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014560" y="4560840"/>
              <a:ext cx="838080" cy="0"/>
            </a:xfrm>
            <a:prstGeom prst="line">
              <a:avLst/>
            </a:prstGeom>
            <a:ln w="12600">
              <a:solidFill>
                <a:srgbClr val="f766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14560" y="4896000"/>
              <a:ext cx="838080" cy="0"/>
            </a:xfrm>
            <a:prstGeom prst="line">
              <a:avLst/>
            </a:prstGeom>
            <a:ln w="12600">
              <a:solidFill>
                <a:srgbClr val="f766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014560" y="5240160"/>
              <a:ext cx="838080" cy="0"/>
            </a:xfrm>
            <a:prstGeom prst="line">
              <a:avLst/>
            </a:prstGeom>
            <a:ln w="12600">
              <a:solidFill>
                <a:srgbClr val="f766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014560" y="5573880"/>
              <a:ext cx="838080" cy="0"/>
            </a:xfrm>
            <a:prstGeom prst="line">
              <a:avLst/>
            </a:prstGeom>
            <a:ln w="12600">
              <a:solidFill>
                <a:srgbClr val="f766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867040" y="2374920"/>
              <a:ext cx="825480" cy="34862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766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860560" y="2635200"/>
              <a:ext cx="838440" cy="0"/>
            </a:xfrm>
            <a:prstGeom prst="line">
              <a:avLst/>
            </a:prstGeom>
            <a:ln w="12600">
              <a:solidFill>
                <a:srgbClr val="f766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860560" y="2970360"/>
              <a:ext cx="838440" cy="0"/>
            </a:xfrm>
            <a:prstGeom prst="line">
              <a:avLst/>
            </a:prstGeom>
            <a:ln w="12600">
              <a:solidFill>
                <a:srgbClr val="f766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860560" y="3305160"/>
              <a:ext cx="838440" cy="0"/>
            </a:xfrm>
            <a:prstGeom prst="line">
              <a:avLst/>
            </a:prstGeom>
            <a:ln w="12600">
              <a:solidFill>
                <a:srgbClr val="f766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60560" y="3639960"/>
              <a:ext cx="838440" cy="0"/>
            </a:xfrm>
            <a:prstGeom prst="line">
              <a:avLst/>
            </a:prstGeom>
            <a:ln w="12600">
              <a:solidFill>
                <a:srgbClr val="f766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860560" y="3975120"/>
              <a:ext cx="838440" cy="0"/>
            </a:xfrm>
            <a:prstGeom prst="line">
              <a:avLst/>
            </a:prstGeom>
            <a:ln w="12600">
              <a:solidFill>
                <a:srgbClr val="f766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860560" y="4233960"/>
              <a:ext cx="838440" cy="0"/>
            </a:xfrm>
            <a:prstGeom prst="line">
              <a:avLst/>
            </a:prstGeom>
            <a:ln w="12600">
              <a:solidFill>
                <a:srgbClr val="f766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860560" y="4568760"/>
              <a:ext cx="838440" cy="0"/>
            </a:xfrm>
            <a:prstGeom prst="line">
              <a:avLst/>
            </a:prstGeom>
            <a:ln w="12600">
              <a:solidFill>
                <a:srgbClr val="f766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860560" y="4903920"/>
              <a:ext cx="838440" cy="0"/>
            </a:xfrm>
            <a:prstGeom prst="line">
              <a:avLst/>
            </a:prstGeom>
            <a:ln w="12600">
              <a:solidFill>
                <a:srgbClr val="f766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860560" y="5240160"/>
              <a:ext cx="838440" cy="0"/>
            </a:xfrm>
            <a:prstGeom prst="line">
              <a:avLst/>
            </a:prstGeom>
            <a:ln w="12600">
              <a:solidFill>
                <a:srgbClr val="f766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860560" y="5559480"/>
              <a:ext cx="838440" cy="0"/>
            </a:xfrm>
            <a:prstGeom prst="line">
              <a:avLst/>
            </a:prstGeom>
            <a:ln w="12600">
              <a:solidFill>
                <a:srgbClr val="f766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2073240" y="1962000"/>
            <a:ext cx="814320" cy="38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Iníc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000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0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000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001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001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001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001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002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004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005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005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578480" y="1301760"/>
            <a:ext cx="749160" cy="368280"/>
          </a:xfrm>
          <a:prstGeom prst="rect">
            <a:avLst/>
          </a:prstGeom>
          <a:solidFill>
            <a:srgbClr val="006057"/>
          </a:solidFill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24560" y="1333440"/>
            <a:ext cx="768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001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40240" y="1301760"/>
            <a:ext cx="74952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3809880" y="1676520"/>
            <a:ext cx="533520" cy="19047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f4ea"/>
                </a:solidFill>
                <a:latin typeface="Tahoma"/>
              </a:rPr>
              <a:t>Exemplo: Inclusão em Arquivo Seqüencial com Chave</a:t>
            </a:r>
            <a:endParaRPr b="0" lang="en-US" sz="2400" spc="-1" strike="noStrike">
              <a:solidFill>
                <a:srgbClr val="8cf4ea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2014560" y="2370240"/>
            <a:ext cx="1684440" cy="3490920"/>
            <a:chOff x="2014560" y="2370240"/>
            <a:chExt cx="1684440" cy="3490920"/>
          </a:xfrm>
        </p:grpSpPr>
        <p:sp>
          <p:nvSpPr>
            <p:cNvPr id="212" name=""/>
            <p:cNvSpPr/>
            <p:nvPr/>
          </p:nvSpPr>
          <p:spPr>
            <a:xfrm>
              <a:off x="2021040" y="2370240"/>
              <a:ext cx="871560" cy="3490920"/>
            </a:xfrm>
            <a:prstGeom prst="rect">
              <a:avLst/>
            </a:prstGeom>
            <a:solidFill>
              <a:srgbClr val="006057"/>
            </a:solidFill>
            <a:ln w="12600">
              <a:solidFill>
                <a:srgbClr val="f766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014560" y="2625840"/>
              <a:ext cx="838080" cy="0"/>
            </a:xfrm>
            <a:prstGeom prst="line">
              <a:avLst/>
            </a:prstGeom>
            <a:ln w="12600">
              <a:solidFill>
                <a:srgbClr val="f766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014560" y="2962440"/>
              <a:ext cx="838080" cy="0"/>
            </a:xfrm>
            <a:prstGeom prst="line">
              <a:avLst/>
            </a:prstGeom>
            <a:ln w="12600">
              <a:solidFill>
                <a:srgbClr val="f766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014560" y="3295800"/>
              <a:ext cx="838080" cy="0"/>
            </a:xfrm>
            <a:prstGeom prst="line">
              <a:avLst/>
            </a:prstGeom>
            <a:ln w="12600">
              <a:solidFill>
                <a:srgbClr val="f766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014560" y="3632040"/>
              <a:ext cx="838080" cy="0"/>
            </a:xfrm>
            <a:prstGeom prst="line">
              <a:avLst/>
            </a:prstGeom>
            <a:ln w="12600">
              <a:solidFill>
                <a:srgbClr val="f766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014560" y="3965400"/>
              <a:ext cx="838080" cy="0"/>
            </a:xfrm>
            <a:prstGeom prst="line">
              <a:avLst/>
            </a:prstGeom>
            <a:ln w="12600">
              <a:solidFill>
                <a:srgbClr val="f766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014560" y="4226040"/>
              <a:ext cx="838080" cy="0"/>
            </a:xfrm>
            <a:prstGeom prst="line">
              <a:avLst/>
            </a:prstGeom>
            <a:ln w="12600">
              <a:solidFill>
                <a:srgbClr val="f766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014560" y="4560840"/>
              <a:ext cx="838080" cy="0"/>
            </a:xfrm>
            <a:prstGeom prst="line">
              <a:avLst/>
            </a:prstGeom>
            <a:ln w="12600">
              <a:solidFill>
                <a:srgbClr val="f766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014560" y="4896000"/>
              <a:ext cx="838080" cy="0"/>
            </a:xfrm>
            <a:prstGeom prst="line">
              <a:avLst/>
            </a:prstGeom>
            <a:ln w="12600">
              <a:solidFill>
                <a:srgbClr val="f766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014560" y="5240160"/>
              <a:ext cx="838080" cy="0"/>
            </a:xfrm>
            <a:prstGeom prst="line">
              <a:avLst/>
            </a:prstGeom>
            <a:ln w="12600">
              <a:solidFill>
                <a:srgbClr val="f766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014560" y="5573880"/>
              <a:ext cx="838080" cy="0"/>
            </a:xfrm>
            <a:prstGeom prst="line">
              <a:avLst/>
            </a:prstGeom>
            <a:ln w="12600">
              <a:solidFill>
                <a:srgbClr val="f766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867040" y="2374920"/>
              <a:ext cx="825480" cy="34862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766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860560" y="2635200"/>
              <a:ext cx="838440" cy="0"/>
            </a:xfrm>
            <a:prstGeom prst="line">
              <a:avLst/>
            </a:prstGeom>
            <a:ln w="12600">
              <a:solidFill>
                <a:srgbClr val="f766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860560" y="2970360"/>
              <a:ext cx="838440" cy="0"/>
            </a:xfrm>
            <a:prstGeom prst="line">
              <a:avLst/>
            </a:prstGeom>
            <a:ln w="12600">
              <a:solidFill>
                <a:srgbClr val="f766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860560" y="3305160"/>
              <a:ext cx="838440" cy="0"/>
            </a:xfrm>
            <a:prstGeom prst="line">
              <a:avLst/>
            </a:prstGeom>
            <a:ln w="12600">
              <a:solidFill>
                <a:srgbClr val="f766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860560" y="3639960"/>
              <a:ext cx="838440" cy="0"/>
            </a:xfrm>
            <a:prstGeom prst="line">
              <a:avLst/>
            </a:prstGeom>
            <a:ln w="12600">
              <a:solidFill>
                <a:srgbClr val="f766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860560" y="3975120"/>
              <a:ext cx="838440" cy="0"/>
            </a:xfrm>
            <a:prstGeom prst="line">
              <a:avLst/>
            </a:prstGeom>
            <a:ln w="12600">
              <a:solidFill>
                <a:srgbClr val="f766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60560" y="4233960"/>
              <a:ext cx="838440" cy="0"/>
            </a:xfrm>
            <a:prstGeom prst="line">
              <a:avLst/>
            </a:prstGeom>
            <a:ln w="12600">
              <a:solidFill>
                <a:srgbClr val="f766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860560" y="4568760"/>
              <a:ext cx="838440" cy="0"/>
            </a:xfrm>
            <a:prstGeom prst="line">
              <a:avLst/>
            </a:prstGeom>
            <a:ln w="12600">
              <a:solidFill>
                <a:srgbClr val="f766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860560" y="4903920"/>
              <a:ext cx="838440" cy="0"/>
            </a:xfrm>
            <a:prstGeom prst="line">
              <a:avLst/>
            </a:prstGeom>
            <a:ln w="12600">
              <a:solidFill>
                <a:srgbClr val="f766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860560" y="5240160"/>
              <a:ext cx="838440" cy="0"/>
            </a:xfrm>
            <a:prstGeom prst="line">
              <a:avLst/>
            </a:prstGeom>
            <a:ln w="12600">
              <a:solidFill>
                <a:srgbClr val="f766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860560" y="5559480"/>
              <a:ext cx="838440" cy="0"/>
            </a:xfrm>
            <a:prstGeom prst="line">
              <a:avLst/>
            </a:prstGeom>
            <a:ln w="12600">
              <a:solidFill>
                <a:srgbClr val="f766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2048040" y="1962000"/>
            <a:ext cx="799920" cy="38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Iníc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000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0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000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001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001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001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001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002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004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005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005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983200" y="2293920"/>
            <a:ext cx="871560" cy="1509840"/>
          </a:xfrm>
          <a:prstGeom prst="rect">
            <a:avLst/>
          </a:prstGeom>
          <a:solidFill>
            <a:srgbClr val="00279f"/>
          </a:solidFill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977080" y="2549520"/>
            <a:ext cx="83808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977080" y="2886120"/>
            <a:ext cx="83808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977080" y="3219480"/>
            <a:ext cx="83808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977080" y="3556080"/>
            <a:ext cx="83808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829560" y="2298600"/>
            <a:ext cx="860400" cy="1505160"/>
          </a:xfrm>
          <a:prstGeom prst="rect">
            <a:avLst/>
          </a:prstGeom>
          <a:solidFill>
            <a:srgbClr val="7b00e4"/>
          </a:solidFill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23080" y="2558880"/>
            <a:ext cx="83808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23080" y="2894040"/>
            <a:ext cx="83808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23080" y="3228840"/>
            <a:ext cx="83808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23080" y="3564000"/>
            <a:ext cx="83808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24600" y="1887480"/>
            <a:ext cx="7873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Iníc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000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0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000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001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001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986280" y="2976480"/>
            <a:ext cx="1716120" cy="7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f4ea"/>
                </a:solidFill>
                <a:latin typeface="Tahoma"/>
              </a:rPr>
              <a:t>Exemplo: Inclusão em Arquivo Seqüencial com Chave</a:t>
            </a:r>
            <a:endParaRPr b="0" lang="en-US" sz="24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248" name=""/>
          <p:cNvSpPr/>
          <p:nvPr/>
        </p:nvSpPr>
        <p:spPr>
          <a:xfrm>
            <a:off x="5985000" y="3816360"/>
            <a:ext cx="846000" cy="368280"/>
          </a:xfrm>
          <a:prstGeom prst="rect">
            <a:avLst/>
          </a:prstGeom>
          <a:solidFill>
            <a:srgbClr val="006057"/>
          </a:solidFill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39000" y="3848040"/>
            <a:ext cx="704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001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43600" y="3816360"/>
            <a:ext cx="846360" cy="368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2014560" y="2370240"/>
            <a:ext cx="1684440" cy="3490920"/>
            <a:chOff x="2014560" y="2370240"/>
            <a:chExt cx="1684440" cy="3490920"/>
          </a:xfrm>
        </p:grpSpPr>
        <p:sp>
          <p:nvSpPr>
            <p:cNvPr id="252" name=""/>
            <p:cNvSpPr/>
            <p:nvPr/>
          </p:nvSpPr>
          <p:spPr>
            <a:xfrm>
              <a:off x="2021040" y="2370240"/>
              <a:ext cx="871560" cy="3490920"/>
            </a:xfrm>
            <a:prstGeom prst="rect">
              <a:avLst/>
            </a:prstGeom>
            <a:solidFill>
              <a:srgbClr val="006057"/>
            </a:solidFill>
            <a:ln w="12600">
              <a:solidFill>
                <a:srgbClr val="f766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014560" y="2625840"/>
              <a:ext cx="838080" cy="0"/>
            </a:xfrm>
            <a:prstGeom prst="line">
              <a:avLst/>
            </a:prstGeom>
            <a:ln w="12600">
              <a:solidFill>
                <a:srgbClr val="f766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014560" y="2962440"/>
              <a:ext cx="838080" cy="0"/>
            </a:xfrm>
            <a:prstGeom prst="line">
              <a:avLst/>
            </a:prstGeom>
            <a:ln w="12600">
              <a:solidFill>
                <a:srgbClr val="f766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014560" y="3295800"/>
              <a:ext cx="838080" cy="0"/>
            </a:xfrm>
            <a:prstGeom prst="line">
              <a:avLst/>
            </a:prstGeom>
            <a:ln w="12600">
              <a:solidFill>
                <a:srgbClr val="f766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014560" y="3632040"/>
              <a:ext cx="838080" cy="0"/>
            </a:xfrm>
            <a:prstGeom prst="line">
              <a:avLst/>
            </a:prstGeom>
            <a:ln w="12600">
              <a:solidFill>
                <a:srgbClr val="f766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014560" y="3965400"/>
              <a:ext cx="838080" cy="0"/>
            </a:xfrm>
            <a:prstGeom prst="line">
              <a:avLst/>
            </a:prstGeom>
            <a:ln w="12600">
              <a:solidFill>
                <a:srgbClr val="f766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014560" y="4226040"/>
              <a:ext cx="838080" cy="0"/>
            </a:xfrm>
            <a:prstGeom prst="line">
              <a:avLst/>
            </a:prstGeom>
            <a:ln w="12600">
              <a:solidFill>
                <a:srgbClr val="f766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014560" y="4560840"/>
              <a:ext cx="838080" cy="0"/>
            </a:xfrm>
            <a:prstGeom prst="line">
              <a:avLst/>
            </a:prstGeom>
            <a:ln w="12600">
              <a:solidFill>
                <a:srgbClr val="f766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014560" y="4896000"/>
              <a:ext cx="838080" cy="0"/>
            </a:xfrm>
            <a:prstGeom prst="line">
              <a:avLst/>
            </a:prstGeom>
            <a:ln w="12600">
              <a:solidFill>
                <a:srgbClr val="f766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014560" y="5240160"/>
              <a:ext cx="838080" cy="0"/>
            </a:xfrm>
            <a:prstGeom prst="line">
              <a:avLst/>
            </a:prstGeom>
            <a:ln w="12600">
              <a:solidFill>
                <a:srgbClr val="f766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014560" y="5573880"/>
              <a:ext cx="838080" cy="0"/>
            </a:xfrm>
            <a:prstGeom prst="line">
              <a:avLst/>
            </a:prstGeom>
            <a:ln w="12600">
              <a:solidFill>
                <a:srgbClr val="f766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867040" y="2374920"/>
              <a:ext cx="825480" cy="34862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f766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860560" y="2635200"/>
              <a:ext cx="838440" cy="0"/>
            </a:xfrm>
            <a:prstGeom prst="line">
              <a:avLst/>
            </a:prstGeom>
            <a:ln w="12600">
              <a:solidFill>
                <a:srgbClr val="f766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860560" y="2970360"/>
              <a:ext cx="838440" cy="0"/>
            </a:xfrm>
            <a:prstGeom prst="line">
              <a:avLst/>
            </a:prstGeom>
            <a:ln w="12600">
              <a:solidFill>
                <a:srgbClr val="f766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860560" y="3305160"/>
              <a:ext cx="838440" cy="0"/>
            </a:xfrm>
            <a:prstGeom prst="line">
              <a:avLst/>
            </a:prstGeom>
            <a:ln w="12600">
              <a:solidFill>
                <a:srgbClr val="f766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860560" y="3639960"/>
              <a:ext cx="838440" cy="0"/>
            </a:xfrm>
            <a:prstGeom prst="line">
              <a:avLst/>
            </a:prstGeom>
            <a:ln w="12600">
              <a:solidFill>
                <a:srgbClr val="f766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60560" y="3975120"/>
              <a:ext cx="838440" cy="0"/>
            </a:xfrm>
            <a:prstGeom prst="line">
              <a:avLst/>
            </a:prstGeom>
            <a:ln w="12600">
              <a:solidFill>
                <a:srgbClr val="f766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860560" y="4233960"/>
              <a:ext cx="838440" cy="0"/>
            </a:xfrm>
            <a:prstGeom prst="line">
              <a:avLst/>
            </a:prstGeom>
            <a:ln w="12600">
              <a:solidFill>
                <a:srgbClr val="f766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860560" y="4568760"/>
              <a:ext cx="838440" cy="0"/>
            </a:xfrm>
            <a:prstGeom prst="line">
              <a:avLst/>
            </a:prstGeom>
            <a:ln w="12600">
              <a:solidFill>
                <a:srgbClr val="f766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860560" y="4903920"/>
              <a:ext cx="838440" cy="0"/>
            </a:xfrm>
            <a:prstGeom prst="line">
              <a:avLst/>
            </a:prstGeom>
            <a:ln w="12600">
              <a:solidFill>
                <a:srgbClr val="f766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860560" y="5240160"/>
              <a:ext cx="838440" cy="0"/>
            </a:xfrm>
            <a:prstGeom prst="line">
              <a:avLst/>
            </a:prstGeom>
            <a:ln w="12600">
              <a:solidFill>
                <a:srgbClr val="f766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860560" y="5559480"/>
              <a:ext cx="838440" cy="0"/>
            </a:xfrm>
            <a:prstGeom prst="line">
              <a:avLst/>
            </a:prstGeom>
            <a:ln w="12600">
              <a:solidFill>
                <a:srgbClr val="f766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2151000" y="1962000"/>
            <a:ext cx="800280" cy="38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Iníc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000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0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000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001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001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001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001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002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004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005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005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983200" y="2293920"/>
            <a:ext cx="871560" cy="1509840"/>
          </a:xfrm>
          <a:prstGeom prst="rect">
            <a:avLst/>
          </a:prstGeom>
          <a:solidFill>
            <a:srgbClr val="00279f"/>
          </a:solidFill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977080" y="2549520"/>
            <a:ext cx="83808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977080" y="2886120"/>
            <a:ext cx="83808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977080" y="3219480"/>
            <a:ext cx="83808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977080" y="3556080"/>
            <a:ext cx="83808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829560" y="2298600"/>
            <a:ext cx="860400" cy="1505160"/>
          </a:xfrm>
          <a:prstGeom prst="rect">
            <a:avLst/>
          </a:prstGeom>
          <a:solidFill>
            <a:srgbClr val="7b00e4"/>
          </a:solidFill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823080" y="2558880"/>
            <a:ext cx="83808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823080" y="2894040"/>
            <a:ext cx="83808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23080" y="3228840"/>
            <a:ext cx="83808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823080" y="3564000"/>
            <a:ext cx="83808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24600" y="1887480"/>
            <a:ext cx="82548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Iníc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000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0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000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001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001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f4ea"/>
                </a:solidFill>
                <a:latin typeface="Tahoma"/>
              </a:rPr>
              <a:t>Exemplo: Inclusão em Arquivo Seqüencial com Chave</a:t>
            </a:r>
            <a:endParaRPr b="0" lang="en-US" sz="24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287" name=""/>
          <p:cNvSpPr/>
          <p:nvPr/>
        </p:nvSpPr>
        <p:spPr>
          <a:xfrm>
            <a:off x="5985000" y="3816360"/>
            <a:ext cx="846000" cy="368280"/>
          </a:xfrm>
          <a:prstGeom prst="rect">
            <a:avLst/>
          </a:prstGeom>
          <a:solidFill>
            <a:srgbClr val="006057"/>
          </a:solidFill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39000" y="3848040"/>
            <a:ext cx="704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001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843600" y="3816360"/>
            <a:ext cx="846360" cy="368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2014560" y="2370240"/>
            <a:ext cx="1684440" cy="3490920"/>
            <a:chOff x="2014560" y="2370240"/>
            <a:chExt cx="1684440" cy="3490920"/>
          </a:xfrm>
        </p:grpSpPr>
        <p:sp>
          <p:nvSpPr>
            <p:cNvPr id="291" name=""/>
            <p:cNvSpPr/>
            <p:nvPr/>
          </p:nvSpPr>
          <p:spPr>
            <a:xfrm>
              <a:off x="2021040" y="2370240"/>
              <a:ext cx="871560" cy="3490920"/>
            </a:xfrm>
            <a:prstGeom prst="rect">
              <a:avLst/>
            </a:prstGeom>
            <a:solidFill>
              <a:srgbClr val="006057"/>
            </a:solidFill>
            <a:ln w="12600">
              <a:solidFill>
                <a:srgbClr val="f766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014560" y="2625840"/>
              <a:ext cx="838080" cy="0"/>
            </a:xfrm>
            <a:prstGeom prst="line">
              <a:avLst/>
            </a:prstGeom>
            <a:ln w="12600">
              <a:solidFill>
                <a:srgbClr val="f766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014560" y="2962440"/>
              <a:ext cx="838080" cy="0"/>
            </a:xfrm>
            <a:prstGeom prst="line">
              <a:avLst/>
            </a:prstGeom>
            <a:ln w="12600">
              <a:solidFill>
                <a:srgbClr val="f766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014560" y="3295800"/>
              <a:ext cx="838080" cy="0"/>
            </a:xfrm>
            <a:prstGeom prst="line">
              <a:avLst/>
            </a:prstGeom>
            <a:ln w="12600">
              <a:solidFill>
                <a:srgbClr val="f766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014560" y="3632040"/>
              <a:ext cx="838080" cy="0"/>
            </a:xfrm>
            <a:prstGeom prst="line">
              <a:avLst/>
            </a:prstGeom>
            <a:ln w="12600">
              <a:solidFill>
                <a:srgbClr val="f766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014560" y="3965400"/>
              <a:ext cx="838080" cy="0"/>
            </a:xfrm>
            <a:prstGeom prst="line">
              <a:avLst/>
            </a:prstGeom>
            <a:ln w="12600">
              <a:solidFill>
                <a:srgbClr val="f766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014560" y="4226040"/>
              <a:ext cx="838080" cy="0"/>
            </a:xfrm>
            <a:prstGeom prst="line">
              <a:avLst/>
            </a:prstGeom>
            <a:ln w="12600">
              <a:solidFill>
                <a:srgbClr val="f766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014560" y="4560840"/>
              <a:ext cx="838080" cy="0"/>
            </a:xfrm>
            <a:prstGeom prst="line">
              <a:avLst/>
            </a:prstGeom>
            <a:ln w="12600">
              <a:solidFill>
                <a:srgbClr val="f766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014560" y="4896000"/>
              <a:ext cx="838080" cy="0"/>
            </a:xfrm>
            <a:prstGeom prst="line">
              <a:avLst/>
            </a:prstGeom>
            <a:ln w="12600">
              <a:solidFill>
                <a:srgbClr val="f766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014560" y="5240160"/>
              <a:ext cx="838080" cy="0"/>
            </a:xfrm>
            <a:prstGeom prst="line">
              <a:avLst/>
            </a:prstGeom>
            <a:ln w="12600">
              <a:solidFill>
                <a:srgbClr val="f766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014560" y="5573880"/>
              <a:ext cx="838080" cy="0"/>
            </a:xfrm>
            <a:prstGeom prst="line">
              <a:avLst/>
            </a:prstGeom>
            <a:ln w="12600">
              <a:solidFill>
                <a:srgbClr val="f766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867040" y="2374920"/>
              <a:ext cx="825480" cy="34862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f766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60560" y="2635200"/>
              <a:ext cx="838440" cy="0"/>
            </a:xfrm>
            <a:prstGeom prst="line">
              <a:avLst/>
            </a:prstGeom>
            <a:ln w="12600">
              <a:solidFill>
                <a:srgbClr val="f766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860560" y="2970360"/>
              <a:ext cx="838440" cy="0"/>
            </a:xfrm>
            <a:prstGeom prst="line">
              <a:avLst/>
            </a:prstGeom>
            <a:ln w="12600">
              <a:solidFill>
                <a:srgbClr val="f766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860560" y="3305160"/>
              <a:ext cx="838440" cy="0"/>
            </a:xfrm>
            <a:prstGeom prst="line">
              <a:avLst/>
            </a:prstGeom>
            <a:ln w="12600">
              <a:solidFill>
                <a:srgbClr val="f766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860560" y="3639960"/>
              <a:ext cx="838440" cy="0"/>
            </a:xfrm>
            <a:prstGeom prst="line">
              <a:avLst/>
            </a:prstGeom>
            <a:ln w="12600">
              <a:solidFill>
                <a:srgbClr val="f766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860560" y="3975120"/>
              <a:ext cx="838440" cy="0"/>
            </a:xfrm>
            <a:prstGeom prst="line">
              <a:avLst/>
            </a:prstGeom>
            <a:ln w="12600">
              <a:solidFill>
                <a:srgbClr val="f766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860560" y="4233960"/>
              <a:ext cx="838440" cy="0"/>
            </a:xfrm>
            <a:prstGeom prst="line">
              <a:avLst/>
            </a:prstGeom>
            <a:ln w="12600">
              <a:solidFill>
                <a:srgbClr val="f766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860560" y="4568760"/>
              <a:ext cx="838440" cy="0"/>
            </a:xfrm>
            <a:prstGeom prst="line">
              <a:avLst/>
            </a:prstGeom>
            <a:ln w="12600">
              <a:solidFill>
                <a:srgbClr val="f766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860560" y="4903920"/>
              <a:ext cx="838440" cy="0"/>
            </a:xfrm>
            <a:prstGeom prst="line">
              <a:avLst/>
            </a:prstGeom>
            <a:ln w="12600">
              <a:solidFill>
                <a:srgbClr val="f766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860560" y="5240160"/>
              <a:ext cx="838440" cy="0"/>
            </a:xfrm>
            <a:prstGeom prst="line">
              <a:avLst/>
            </a:prstGeom>
            <a:ln w="12600">
              <a:solidFill>
                <a:srgbClr val="f766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860560" y="5559480"/>
              <a:ext cx="838440" cy="0"/>
            </a:xfrm>
            <a:prstGeom prst="line">
              <a:avLst/>
            </a:prstGeom>
            <a:ln w="12600">
              <a:solidFill>
                <a:srgbClr val="f766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2151000" y="1962000"/>
            <a:ext cx="789120" cy="38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Iníc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000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0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000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001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001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001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001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002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004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005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005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983200" y="2293920"/>
            <a:ext cx="871560" cy="1509840"/>
          </a:xfrm>
          <a:prstGeom prst="rect">
            <a:avLst/>
          </a:prstGeom>
          <a:solidFill>
            <a:srgbClr val="00279f"/>
          </a:solidFill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977080" y="2549520"/>
            <a:ext cx="83808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977080" y="2886120"/>
            <a:ext cx="83808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977080" y="3219480"/>
            <a:ext cx="83808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977080" y="3556080"/>
            <a:ext cx="83808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829560" y="2298600"/>
            <a:ext cx="860400" cy="1505160"/>
          </a:xfrm>
          <a:prstGeom prst="rect">
            <a:avLst/>
          </a:prstGeom>
          <a:solidFill>
            <a:srgbClr val="7b00e4"/>
          </a:solidFill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23080" y="2558880"/>
            <a:ext cx="83808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823080" y="2894040"/>
            <a:ext cx="83808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823080" y="3228840"/>
            <a:ext cx="83808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823080" y="3564000"/>
            <a:ext cx="83808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062760" y="1887480"/>
            <a:ext cx="7747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Iníc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000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0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000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001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001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4019400" y="5321160"/>
            <a:ext cx="1808280" cy="7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983200" y="4205160"/>
            <a:ext cx="871560" cy="1905120"/>
          </a:xfrm>
          <a:prstGeom prst="rect">
            <a:avLst/>
          </a:prstGeom>
          <a:solidFill>
            <a:srgbClr val="00279f"/>
          </a:solidFill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977080" y="4478400"/>
            <a:ext cx="83808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977080" y="4813200"/>
            <a:ext cx="83808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977080" y="5157720"/>
            <a:ext cx="83808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977080" y="5491080"/>
            <a:ext cx="83808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829560" y="4205160"/>
            <a:ext cx="858600" cy="1905120"/>
          </a:xfrm>
          <a:prstGeom prst="rect">
            <a:avLst/>
          </a:prstGeom>
          <a:solidFill>
            <a:srgbClr val="7b00e4"/>
          </a:solidFill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823080" y="4486320"/>
            <a:ext cx="83808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23080" y="4821120"/>
            <a:ext cx="83808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823080" y="5157720"/>
            <a:ext cx="83808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823080" y="5477040"/>
            <a:ext cx="83808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037200" y="4122720"/>
            <a:ext cx="7873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001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001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002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004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005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005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858000" y="5772240"/>
            <a:ext cx="83808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996160" y="5776920"/>
            <a:ext cx="83808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11.3.2.2 Arquivos Indexados Seqüenciais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quivos Seqüenciais passíveis de serem acessados através de tabelas de índic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emplo mais típico: </a:t>
            </a:r>
            <a:r>
              <a:rPr b="0" lang="en-US" sz="2800" spc="-1" strike="noStrike">
                <a:solidFill>
                  <a:srgbClr val="f57b49"/>
                </a:solidFill>
                <a:latin typeface="Times New Roman"/>
              </a:rPr>
              <a:t>ISA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(IBM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19000" indent="-28548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Indexed Sequential Access Metho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19000" indent="-28548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is utilizado método de gerência de arquivos durante muito temp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19000" indent="-28548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portado por linguagens de programação MUITO velhas como COBOL ou PL/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19000" indent="-28548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istia como Pacote de Software disponível inicialmente só para mainframes (Ex.: IBM 4341 e linha VMS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19000" indent="-28548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is tarde passou a existir também para PCs sob DOS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11.1.1 Características: Memória Secundária x RAM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83808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ntagen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ápido acess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ácil de alter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svantagen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7b49"/>
                </a:solidFill>
                <a:latin typeface="Times New Roman"/>
              </a:rPr>
              <a:t>Voláti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dados desaparecem qdo. desligamos máquin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positivos de Armazenamento Secundá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ntage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Espaç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muito maior do que memória primária (RA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7b49"/>
                </a:solidFill>
                <a:latin typeface="Times New Roman"/>
              </a:rPr>
              <a:t>Conservativo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dados não desaparecem qdo. desligamos máquin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svantage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esso comparativamente muito 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l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lteração/Inclusão de dados às vezes ainda mais 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lent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rquivos Indexados Seqüenciais: Características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quivo ordenado por chave primá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bela de índices também ordenada por chave primária é usada para acessar áreas do arquiv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iginalmente essas tabelas ficava no começo do próprio arquiv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bela de índices pode ter vários nívei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índice hierárquico ou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ase-árvore”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serções são realizadas na </a:t>
            </a: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área de overflow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u área de espaço livre. Também indexada na tabel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leções somente são marcad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ualização periódica através de cópia do arquiv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rquivos Indexados Seqüenciais: Idéia Geral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344" name=""/>
          <p:cNvSpPr/>
          <p:nvPr/>
        </p:nvSpPr>
        <p:spPr>
          <a:xfrm>
            <a:off x="6802560" y="1106640"/>
            <a:ext cx="871560" cy="3490920"/>
          </a:xfrm>
          <a:prstGeom prst="rect">
            <a:avLst/>
          </a:prstGeom>
          <a:solidFill>
            <a:srgbClr val="00279f"/>
          </a:solidFill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796080" y="1362240"/>
            <a:ext cx="83808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796080" y="1698480"/>
            <a:ext cx="83808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796080" y="2031840"/>
            <a:ext cx="83808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796080" y="2368440"/>
            <a:ext cx="83808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796080" y="2701800"/>
            <a:ext cx="83808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796080" y="2962440"/>
            <a:ext cx="83808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96080" y="3297240"/>
            <a:ext cx="83808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796080" y="3632040"/>
            <a:ext cx="83808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796080" y="3976560"/>
            <a:ext cx="83808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796080" y="4309920"/>
            <a:ext cx="83808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648560" y="1111320"/>
            <a:ext cx="825480" cy="3486240"/>
          </a:xfrm>
          <a:prstGeom prst="rect">
            <a:avLst/>
          </a:prstGeom>
          <a:gradFill rotWithShape="0">
            <a:gsLst>
              <a:gs pos="0">
                <a:srgbClr val="55009e"/>
              </a:gs>
              <a:gs pos="100000">
                <a:srgbClr val="7b00e4"/>
              </a:gs>
            </a:gsLst>
            <a:lin ang="5400000"/>
          </a:gradFill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642080" y="1371600"/>
            <a:ext cx="83844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642080" y="1706400"/>
            <a:ext cx="83844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642080" y="2041560"/>
            <a:ext cx="83844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642080" y="2376360"/>
            <a:ext cx="83844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642080" y="2711520"/>
            <a:ext cx="83844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642080" y="2970360"/>
            <a:ext cx="83844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642080" y="3305160"/>
            <a:ext cx="83844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642080" y="3639960"/>
            <a:ext cx="83844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642080" y="3976560"/>
            <a:ext cx="83844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642080" y="4295880"/>
            <a:ext cx="83844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94360" y="698400"/>
            <a:ext cx="696960" cy="38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níc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000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0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000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001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001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001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001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002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004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005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005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805440" y="4614840"/>
            <a:ext cx="871560" cy="1595520"/>
          </a:xfrm>
          <a:prstGeom prst="rect">
            <a:avLst/>
          </a:prstGeom>
          <a:gradFill rotWithShape="0">
            <a:gsLst>
              <a:gs pos="0">
                <a:srgbClr val="0b36ae"/>
              </a:gs>
              <a:gs pos="50000">
                <a:srgbClr val="114ffb"/>
              </a:gs>
              <a:gs pos="100000">
                <a:srgbClr val="0b36ae"/>
              </a:gs>
            </a:gsLst>
            <a:lin ang="5400000"/>
          </a:gradFill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799320" y="4888080"/>
            <a:ext cx="83808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799320" y="5222880"/>
            <a:ext cx="83808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799320" y="5567400"/>
            <a:ext cx="83808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799320" y="5900760"/>
            <a:ext cx="83808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651800" y="4614840"/>
            <a:ext cx="824040" cy="1603440"/>
          </a:xfrm>
          <a:prstGeom prst="rect">
            <a:avLst/>
          </a:prstGeom>
          <a:gradFill rotWithShape="0">
            <a:gsLst>
              <a:gs pos="0">
                <a:srgbClr val="936eb1"/>
              </a:gs>
              <a:gs pos="50000">
                <a:srgbClr val="d49fff"/>
              </a:gs>
              <a:gs pos="100000">
                <a:srgbClr val="936eb1"/>
              </a:gs>
            </a:gsLst>
            <a:lin ang="5400000"/>
          </a:gradFill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645320" y="4896000"/>
            <a:ext cx="83844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645320" y="5230800"/>
            <a:ext cx="83844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645320" y="5567400"/>
            <a:ext cx="83844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645320" y="5886360"/>
            <a:ext cx="83844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131920" y="2289240"/>
            <a:ext cx="871560" cy="1904760"/>
          </a:xfrm>
          <a:prstGeom prst="rect">
            <a:avLst/>
          </a:prstGeom>
          <a:solidFill>
            <a:srgbClr val="00279f"/>
          </a:solidFill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125800" y="2562120"/>
            <a:ext cx="83808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125800" y="2897280"/>
            <a:ext cx="83808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125800" y="3241800"/>
            <a:ext cx="83808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125800" y="3575160"/>
            <a:ext cx="83808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978280" y="2289240"/>
            <a:ext cx="858600" cy="1904760"/>
          </a:xfrm>
          <a:prstGeom prst="rect">
            <a:avLst/>
          </a:prstGeom>
          <a:solidFill>
            <a:srgbClr val="7b00e4"/>
          </a:solidFill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971800" y="2570040"/>
            <a:ext cx="83808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971800" y="2905200"/>
            <a:ext cx="83808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971800" y="3241800"/>
            <a:ext cx="83808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971800" y="3560760"/>
            <a:ext cx="83808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236680" y="2206800"/>
            <a:ext cx="65880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001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001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001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001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005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005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06720" y="3855960"/>
            <a:ext cx="83808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144880" y="3860640"/>
            <a:ext cx="83808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3424320" y="1226880"/>
            <a:ext cx="3375000" cy="122220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492360" y="2717640"/>
            <a:ext cx="3306960" cy="203364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3467160" y="2549160"/>
            <a:ext cx="3324240" cy="53676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75080" y="3429000"/>
            <a:ext cx="3306600" cy="164952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3483000" y="3446280"/>
            <a:ext cx="3308400" cy="27612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500280" y="4022640"/>
            <a:ext cx="3248280" cy="167472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27280" y="5848200"/>
            <a:ext cx="5467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ahoma"/>
              </a:rPr>
              <a:t>Área de Espaço Disponível ou Overflow Are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272280" y="5946840"/>
            <a:ext cx="299880" cy="230040"/>
          </a:xfrm>
          <a:prstGeom prst="rightArrow">
            <a:avLst>
              <a:gd name="adj1" fmla="val 50000"/>
              <a:gd name="adj2" fmla="val 32590"/>
            </a:avLst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938240" y="1768320"/>
            <a:ext cx="2174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ahoma"/>
              </a:rPr>
              <a:t>Índice de Acess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rquivos Indexados Seqüenciais: Inserção do </a:t>
            </a:r>
            <a:r>
              <a:rPr b="0" lang="en-US" sz="2800" spc="-1" strike="noStrike">
                <a:solidFill>
                  <a:srgbClr val="fc0128"/>
                </a:solidFill>
                <a:latin typeface="Tahoma"/>
              </a:rPr>
              <a:t>15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400" name=""/>
          <p:cNvSpPr/>
          <p:nvPr/>
        </p:nvSpPr>
        <p:spPr>
          <a:xfrm>
            <a:off x="6802560" y="1106640"/>
            <a:ext cx="871560" cy="3490920"/>
          </a:xfrm>
          <a:prstGeom prst="rect">
            <a:avLst/>
          </a:prstGeom>
          <a:solidFill>
            <a:srgbClr val="00279f"/>
          </a:solidFill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796080" y="1362240"/>
            <a:ext cx="83808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796080" y="1698480"/>
            <a:ext cx="83808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796080" y="2031840"/>
            <a:ext cx="83808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796080" y="2368440"/>
            <a:ext cx="83808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796080" y="2701800"/>
            <a:ext cx="83808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796080" y="2962440"/>
            <a:ext cx="83808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796080" y="3297240"/>
            <a:ext cx="83808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796080" y="3632040"/>
            <a:ext cx="83808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796080" y="3976560"/>
            <a:ext cx="83808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796080" y="4309920"/>
            <a:ext cx="83808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648560" y="1111320"/>
            <a:ext cx="825480" cy="3486240"/>
          </a:xfrm>
          <a:prstGeom prst="rect">
            <a:avLst/>
          </a:prstGeom>
          <a:gradFill rotWithShape="0">
            <a:gsLst>
              <a:gs pos="0">
                <a:srgbClr val="55009e"/>
              </a:gs>
              <a:gs pos="100000">
                <a:srgbClr val="7b00e4"/>
              </a:gs>
            </a:gsLst>
            <a:lin ang="5400000"/>
          </a:gradFill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642080" y="1371600"/>
            <a:ext cx="83844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642080" y="1706400"/>
            <a:ext cx="83844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642080" y="2041560"/>
            <a:ext cx="83844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642080" y="2376360"/>
            <a:ext cx="83844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642080" y="2711520"/>
            <a:ext cx="83844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642080" y="2970360"/>
            <a:ext cx="83844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642080" y="3305160"/>
            <a:ext cx="83844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642080" y="3639960"/>
            <a:ext cx="83844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642080" y="3976560"/>
            <a:ext cx="83844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642080" y="4295880"/>
            <a:ext cx="83844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894360" y="698400"/>
            <a:ext cx="696960" cy="38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níc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000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0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000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001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001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001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001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002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004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005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005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805440" y="4614840"/>
            <a:ext cx="871560" cy="1595520"/>
          </a:xfrm>
          <a:prstGeom prst="rect">
            <a:avLst/>
          </a:prstGeom>
          <a:gradFill rotWithShape="0">
            <a:gsLst>
              <a:gs pos="0">
                <a:srgbClr val="0b36ae"/>
              </a:gs>
              <a:gs pos="50000">
                <a:srgbClr val="114ffb"/>
              </a:gs>
              <a:gs pos="100000">
                <a:srgbClr val="0b36ae"/>
              </a:gs>
            </a:gsLst>
            <a:lin ang="5400000"/>
          </a:gradFill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99320" y="4888080"/>
            <a:ext cx="83808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799320" y="5222880"/>
            <a:ext cx="83808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799320" y="5567400"/>
            <a:ext cx="83808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799320" y="5900760"/>
            <a:ext cx="83808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651800" y="4614840"/>
            <a:ext cx="824040" cy="1603440"/>
          </a:xfrm>
          <a:prstGeom prst="rect">
            <a:avLst/>
          </a:prstGeom>
          <a:gradFill rotWithShape="0">
            <a:gsLst>
              <a:gs pos="0">
                <a:srgbClr val="936eb1"/>
              </a:gs>
              <a:gs pos="50000">
                <a:srgbClr val="d49fff"/>
              </a:gs>
              <a:gs pos="100000">
                <a:srgbClr val="936eb1"/>
              </a:gs>
            </a:gsLst>
            <a:lin ang="5400000"/>
          </a:gradFill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645320" y="4896000"/>
            <a:ext cx="83844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645320" y="5230800"/>
            <a:ext cx="83844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645320" y="5567400"/>
            <a:ext cx="83844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645320" y="5886360"/>
            <a:ext cx="83844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1920" y="2289240"/>
            <a:ext cx="871560" cy="1904760"/>
          </a:xfrm>
          <a:prstGeom prst="rect">
            <a:avLst/>
          </a:prstGeom>
          <a:solidFill>
            <a:srgbClr val="00279f"/>
          </a:solidFill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125800" y="2562120"/>
            <a:ext cx="83808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125800" y="2897280"/>
            <a:ext cx="83808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125800" y="3241800"/>
            <a:ext cx="83808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125800" y="3575160"/>
            <a:ext cx="83808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978280" y="2289240"/>
            <a:ext cx="858600" cy="1904760"/>
          </a:xfrm>
          <a:prstGeom prst="rect">
            <a:avLst/>
          </a:prstGeom>
          <a:solidFill>
            <a:srgbClr val="7b00e4"/>
          </a:solidFill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971800" y="2570040"/>
            <a:ext cx="83808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971800" y="2905200"/>
            <a:ext cx="83808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3241800"/>
            <a:ext cx="83808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971800" y="3560760"/>
            <a:ext cx="83808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236680" y="2206800"/>
            <a:ext cx="65880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001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001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001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001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005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005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6720" y="3855960"/>
            <a:ext cx="83808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144880" y="3860640"/>
            <a:ext cx="83808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3424320" y="1226880"/>
            <a:ext cx="3375000" cy="122220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492360" y="2717640"/>
            <a:ext cx="3306960" cy="203364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3467160" y="2549160"/>
            <a:ext cx="3324240" cy="53676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475080" y="3429000"/>
            <a:ext cx="3306600" cy="164952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3483000" y="3446280"/>
            <a:ext cx="3308400" cy="27612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500280" y="4022640"/>
            <a:ext cx="3248280" cy="167472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27280" y="5848200"/>
            <a:ext cx="5467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ahoma"/>
              </a:rPr>
              <a:t>Área de Espaço Disponível ou Overflow Are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272280" y="5946840"/>
            <a:ext cx="299880" cy="230040"/>
          </a:xfrm>
          <a:prstGeom prst="rightArrow">
            <a:avLst>
              <a:gd name="adj1" fmla="val 50000"/>
              <a:gd name="adj2" fmla="val 32590"/>
            </a:avLst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938240" y="1768320"/>
            <a:ext cx="2174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ahoma"/>
              </a:rPr>
              <a:t>Índice de Acess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917640" y="968400"/>
            <a:ext cx="1652040" cy="366120"/>
            <a:chOff x="917640" y="968400"/>
            <a:chExt cx="1652040" cy="366120"/>
          </a:xfrm>
        </p:grpSpPr>
        <p:sp>
          <p:nvSpPr>
            <p:cNvPr id="456" name=""/>
            <p:cNvSpPr/>
            <p:nvPr/>
          </p:nvSpPr>
          <p:spPr>
            <a:xfrm>
              <a:off x="917640" y="968400"/>
              <a:ext cx="820440" cy="34776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f766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077480" y="998640"/>
              <a:ext cx="5936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Times New Roman"/>
                </a:rPr>
                <a:t>001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750680" y="968400"/>
              <a:ext cx="819000" cy="34776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f766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2778120" y="1022400"/>
            <a:ext cx="299880" cy="230040"/>
          </a:xfrm>
          <a:prstGeom prst="rightArrow">
            <a:avLst>
              <a:gd name="adj1" fmla="val 50000"/>
              <a:gd name="adj2" fmla="val 32590"/>
            </a:avLst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Inserção em Arquivo Indexado Seqüencial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461" name=""/>
          <p:cNvSpPr/>
          <p:nvPr/>
        </p:nvSpPr>
        <p:spPr>
          <a:xfrm>
            <a:off x="6802560" y="1106640"/>
            <a:ext cx="871560" cy="3490920"/>
          </a:xfrm>
          <a:prstGeom prst="rect">
            <a:avLst/>
          </a:prstGeom>
          <a:solidFill>
            <a:srgbClr val="00279f"/>
          </a:solidFill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796080" y="1362240"/>
            <a:ext cx="83808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796080" y="1698480"/>
            <a:ext cx="83808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796080" y="2031840"/>
            <a:ext cx="83808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796080" y="2368440"/>
            <a:ext cx="83808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796080" y="2701800"/>
            <a:ext cx="83808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796080" y="2962440"/>
            <a:ext cx="83808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796080" y="3297240"/>
            <a:ext cx="83808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796080" y="3632040"/>
            <a:ext cx="83808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796080" y="3976560"/>
            <a:ext cx="83808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796080" y="4309920"/>
            <a:ext cx="83808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48560" y="1111320"/>
            <a:ext cx="825480" cy="3486240"/>
          </a:xfrm>
          <a:prstGeom prst="rect">
            <a:avLst/>
          </a:prstGeom>
          <a:gradFill rotWithShape="0">
            <a:gsLst>
              <a:gs pos="0">
                <a:srgbClr val="55009e"/>
              </a:gs>
              <a:gs pos="100000">
                <a:srgbClr val="7b00e4"/>
              </a:gs>
            </a:gsLst>
            <a:lin ang="5400000"/>
          </a:gradFill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642080" y="1371600"/>
            <a:ext cx="83844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7642080" y="1706400"/>
            <a:ext cx="83844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642080" y="2041560"/>
            <a:ext cx="83844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642080" y="2376360"/>
            <a:ext cx="83844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642080" y="2711520"/>
            <a:ext cx="83844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642080" y="2970360"/>
            <a:ext cx="83844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642080" y="3305160"/>
            <a:ext cx="83844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642080" y="3639960"/>
            <a:ext cx="83844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642080" y="3976560"/>
            <a:ext cx="83844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642080" y="4295880"/>
            <a:ext cx="83844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805440" y="4614840"/>
            <a:ext cx="871560" cy="1595520"/>
          </a:xfrm>
          <a:prstGeom prst="rect">
            <a:avLst/>
          </a:prstGeom>
          <a:gradFill rotWithShape="0">
            <a:gsLst>
              <a:gs pos="0">
                <a:srgbClr val="0b36ae"/>
              </a:gs>
              <a:gs pos="50000">
                <a:srgbClr val="114ffb"/>
              </a:gs>
              <a:gs pos="100000">
                <a:srgbClr val="0b36ae"/>
              </a:gs>
            </a:gsLst>
            <a:lin ang="5400000"/>
          </a:gradFill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799320" y="4888080"/>
            <a:ext cx="83808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799320" y="5222880"/>
            <a:ext cx="83808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799320" y="5567400"/>
            <a:ext cx="83808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799320" y="5900760"/>
            <a:ext cx="83808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651800" y="4614840"/>
            <a:ext cx="824040" cy="1603440"/>
          </a:xfrm>
          <a:prstGeom prst="rect">
            <a:avLst/>
          </a:prstGeom>
          <a:gradFill rotWithShape="0">
            <a:gsLst>
              <a:gs pos="0">
                <a:srgbClr val="936eb1"/>
              </a:gs>
              <a:gs pos="50000">
                <a:srgbClr val="d49fff"/>
              </a:gs>
              <a:gs pos="100000">
                <a:srgbClr val="936eb1"/>
              </a:gs>
            </a:gsLst>
            <a:lin ang="5400000"/>
          </a:gradFill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645320" y="4896000"/>
            <a:ext cx="83844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7645320" y="5230800"/>
            <a:ext cx="83844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7645320" y="5567400"/>
            <a:ext cx="83844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645320" y="5886360"/>
            <a:ext cx="83844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131920" y="2289240"/>
            <a:ext cx="871560" cy="1904760"/>
          </a:xfrm>
          <a:prstGeom prst="rect">
            <a:avLst/>
          </a:prstGeom>
          <a:solidFill>
            <a:srgbClr val="00279f"/>
          </a:solidFill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125800" y="2562120"/>
            <a:ext cx="83808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125800" y="2897280"/>
            <a:ext cx="83808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125800" y="3241800"/>
            <a:ext cx="83808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125800" y="3575160"/>
            <a:ext cx="83808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978280" y="2289240"/>
            <a:ext cx="858600" cy="1904760"/>
          </a:xfrm>
          <a:prstGeom prst="rect">
            <a:avLst/>
          </a:prstGeom>
          <a:solidFill>
            <a:srgbClr val="7b00e4"/>
          </a:solidFill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971800" y="2570040"/>
            <a:ext cx="83808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971800" y="2905200"/>
            <a:ext cx="83808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971800" y="3241800"/>
            <a:ext cx="83808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971800" y="3560760"/>
            <a:ext cx="83808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236680" y="2206800"/>
            <a:ext cx="65880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001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001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001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001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005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005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006720" y="3855960"/>
            <a:ext cx="83808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144880" y="3860640"/>
            <a:ext cx="838080" cy="0"/>
          </a:xfrm>
          <a:prstGeom prst="line">
            <a:avLst/>
          </a:prstGeom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3424320" y="1226880"/>
            <a:ext cx="3375000" cy="122220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492360" y="2717640"/>
            <a:ext cx="3306960" cy="203364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3467160" y="2549160"/>
            <a:ext cx="3324240" cy="53676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475080" y="3429000"/>
            <a:ext cx="3306600" cy="164952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3483000" y="3446280"/>
            <a:ext cx="3308400" cy="27612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500280" y="4022640"/>
            <a:ext cx="3248280" cy="167472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157040" y="5732640"/>
            <a:ext cx="537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lemento é inserido na Área de Espaço Disponí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23080" y="4900680"/>
            <a:ext cx="1652760" cy="366120"/>
            <a:chOff x="6823080" y="4900680"/>
            <a:chExt cx="1652760" cy="366120"/>
          </a:xfrm>
        </p:grpSpPr>
        <p:sp>
          <p:nvSpPr>
            <p:cNvPr id="514" name=""/>
            <p:cNvSpPr/>
            <p:nvPr/>
          </p:nvSpPr>
          <p:spPr>
            <a:xfrm>
              <a:off x="6823080" y="4900680"/>
              <a:ext cx="820800" cy="34776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f766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983640" y="4930920"/>
              <a:ext cx="5936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Times New Roman"/>
                </a:rPr>
                <a:t>001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656480" y="4900680"/>
              <a:ext cx="819360" cy="34776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f766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7" name=""/>
          <p:cNvSpPr/>
          <p:nvPr/>
        </p:nvSpPr>
        <p:spPr>
          <a:xfrm>
            <a:off x="6867360" y="698400"/>
            <a:ext cx="723960" cy="38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níc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000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0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000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001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001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001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001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002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004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005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005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938240" y="1768320"/>
            <a:ext cx="2174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ahoma"/>
              </a:rPr>
              <a:t>Índice de Acess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917640" y="968400"/>
            <a:ext cx="1652040" cy="366120"/>
            <a:chOff x="917640" y="968400"/>
            <a:chExt cx="1652040" cy="366120"/>
          </a:xfrm>
        </p:grpSpPr>
        <p:sp>
          <p:nvSpPr>
            <p:cNvPr id="520" name=""/>
            <p:cNvSpPr/>
            <p:nvPr/>
          </p:nvSpPr>
          <p:spPr>
            <a:xfrm>
              <a:off x="917640" y="968400"/>
              <a:ext cx="820440" cy="34776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f766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077480" y="998640"/>
              <a:ext cx="5936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Times New Roman"/>
                </a:rPr>
                <a:t>001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750680" y="968400"/>
              <a:ext cx="819000" cy="34776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f766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381880" cy="784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Museu Revisitado: ISAM original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628560" y="733320"/>
            <a:ext cx="8515440" cy="61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Museu Revisitado: ISAM original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603360" y="960480"/>
            <a:ext cx="8540640" cy="54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381880" cy="83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ccdfc"/>
                </a:solidFill>
                <a:latin typeface="Tahoma"/>
              </a:rPr>
              <a:t>11.1.2 Dispositivos de Acesso Seqüencial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emplo típico: </a:t>
            </a:r>
            <a:r>
              <a:rPr b="1" lang="en-US" sz="2800" spc="-1" strike="noStrike">
                <a:solidFill>
                  <a:srgbClr val="f57b49"/>
                </a:solidFill>
                <a:latin typeface="Times New Roman"/>
              </a:rPr>
              <a:t>Fi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tremamente lent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tilizados par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rmazenar dados que vão ser acessados todos de </a:t>
            </a:r>
            <a:r>
              <a:rPr b="1" lang="en-US" sz="2400" spc="-1" strike="noStrike">
                <a:solidFill>
                  <a:srgbClr val="f57b49"/>
                </a:solidFill>
                <a:latin typeface="Times New Roman"/>
              </a:rPr>
              <a:t>uma só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vez 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7b49"/>
                </a:solidFill>
                <a:latin typeface="Times New Roman"/>
              </a:rPr>
              <a:t>nã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vão mais ser alterad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o típico: </a:t>
            </a:r>
            <a:r>
              <a:rPr b="1" i="1" lang="en-US" sz="2800" spc="-1" strike="noStrike">
                <a:solidFill>
                  <a:srgbClr val="f57b49"/>
                </a:solidFill>
                <a:latin typeface="Times New Roman"/>
              </a:rPr>
              <a:t>Backup</a:t>
            </a:r>
            <a:br>
              <a:rPr sz="2800"/>
            </a:br>
            <a:r>
              <a:rPr b="1" i="1" lang="en-US" sz="2800" spc="-1" strike="noStrike">
                <a:solidFill>
                  <a:srgbClr val="f57b4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rência de arquivos não se ocupa muito destes dispositiv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ccdfc"/>
                </a:solidFill>
                <a:latin typeface="Tahoma"/>
              </a:rPr>
              <a:t>11.1.3 Dispositivos de Acesso Randômico/Aleatório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emplo típico: </a:t>
            </a:r>
            <a:r>
              <a:rPr b="1" lang="en-US" sz="2800" spc="-1" strike="noStrike">
                <a:solidFill>
                  <a:srgbClr val="f57b49"/>
                </a:solidFill>
                <a:latin typeface="Times New Roman"/>
              </a:rPr>
              <a:t>Dis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ativamente rápi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tilizados par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dos que sofrem freqüêntes pesquis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dos muito alterados ou não defini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o típico: área de trabalho ou banco de dado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se para as técnicas que serão vist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11.1.4 Gerência de Dados: 1ª Noção Intuitiva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amos RAM para armazenar dados temporariamente enquanto estamos processando-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amos dispositivos de armazenamento secundário para guardar dados não processados e dados depois de processad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olução Intuitiv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m programa carrega todos os dados que necessita em uma estrutura de dados na memória, os processa completamente e depois os escreve de volt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Problema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dos podem não caber na mémor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r e depois reescrever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odo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os dados de um conjunto toma muito tempo. Pode ser que estejamos interessados em processar somente uma pequena fração do conjunto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f4ea"/>
                </a:solidFill>
                <a:latin typeface="Tahoma"/>
              </a:rPr>
              <a:t>11.2 Gerenciamento de Arquiv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143000"/>
            <a:ext cx="838188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7b49"/>
                </a:solidFill>
                <a:latin typeface="Times New Roman"/>
              </a:rPr>
              <a:t>Def.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Conjunto de Métodos e Técnicas para 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eficientement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Classifica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rquivos e conteúdo de arquivo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zer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busc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de dados em arquivo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Acrescenta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dados a arquivo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Elimina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dados de arquivo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Altera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valores de dados existentes em arquivo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Copia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rquivo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ocar, desalocar e manter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espaç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em dispositivos de armazenamento secundário para manter arquivos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ior restrição</a:t>
            </a:r>
            <a:r>
              <a:rPr b="0" lang="en-US" sz="2800" spc="-1" strike="noStrike">
                <a:solidFill>
                  <a:srgbClr val="f57b49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f57b49"/>
                </a:solidFill>
                <a:latin typeface="Times New Roman"/>
              </a:rPr>
              <a:t>Temp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11.2.1 Gerência de Arquivos: Objetivo Principal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lução para o problema da leitura/escrita de todos os dad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balhamos com os dados </a:t>
            </a:r>
            <a:r>
              <a:rPr b="1" i="1" lang="en-US" sz="2400" spc="-1" strike="noStrike">
                <a:solidFill>
                  <a:srgbClr val="fafd00"/>
                </a:solidFill>
                <a:latin typeface="Times New Roman"/>
              </a:rPr>
              <a:t>organizado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em arquiv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ó trazemos para a memória dados que queremos </a:t>
            </a:r>
            <a:r>
              <a:rPr b="1" i="1" lang="en-US" sz="2400" spc="-1" strike="noStrike">
                <a:solidFill>
                  <a:srgbClr val="fafd00"/>
                </a:solidFill>
                <a:latin typeface="Times New Roman"/>
              </a:rPr>
              <a:t>alter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ó escrevemos em disco novos dados que queremos </a:t>
            </a:r>
            <a:r>
              <a:rPr b="1" i="1" lang="en-US" sz="2400" spc="-1" strike="noStrike">
                <a:solidFill>
                  <a:srgbClr val="fafd00"/>
                </a:solidFill>
                <a:latin typeface="Times New Roman"/>
              </a:rPr>
              <a:t>inclu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ó retiramos do disco dados que queremos </a:t>
            </a:r>
            <a:r>
              <a:rPr b="1" i="1" lang="en-US" sz="2400" spc="-1" strike="noStrike">
                <a:solidFill>
                  <a:srgbClr val="fafd00"/>
                </a:solidFill>
                <a:latin typeface="Times New Roman"/>
              </a:rPr>
              <a:t>elimina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tor mais restritivo: o </a:t>
            </a:r>
            <a:r>
              <a:rPr b="1" i="1" lang="en-US" sz="2800" spc="-1" strike="noStrike">
                <a:solidFill>
                  <a:srgbClr val="f57b49"/>
                </a:solidFill>
                <a:latin typeface="Times New Roman"/>
              </a:rPr>
              <a:t>tempo de acesso aos d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ganizamos os arquivos de forma a </a:t>
            </a:r>
            <a:r>
              <a:rPr b="1" i="1" lang="en-US" sz="2400" spc="-1" strike="noStrike">
                <a:solidFill>
                  <a:srgbClr val="fafd00"/>
                </a:solidFill>
                <a:latin typeface="Times New Roman"/>
              </a:rPr>
              <a:t>minimizar o tempo de acess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os d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Times New Roman"/>
              </a:rPr>
              <a:t>eficiênci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na organização tem prioridade maior que economia de espaço (pode ser desperdiçado moderadament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11.2.2 Gerência de Arquivos: Princípio Básico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ganizamos os dados de forma a </a:t>
            </a:r>
            <a:r>
              <a:rPr b="0" lang="en-US" sz="2800" spc="-1" strike="noStrike">
                <a:solidFill>
                  <a:srgbClr val="f57b49"/>
                </a:solidFill>
                <a:latin typeface="Times New Roman"/>
              </a:rPr>
              <a:t>minimiza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 número de acessos à memória secundária para executar uma operação (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procura, inserção, alteração, deleçã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a isto utilizam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ganizações de dados mais </a:t>
            </a:r>
            <a:r>
              <a:rPr b="1" i="1" lang="en-US" sz="2400" spc="-1" strike="noStrike">
                <a:solidFill>
                  <a:srgbClr val="fafd00"/>
                </a:solidFill>
                <a:latin typeface="Times New Roman"/>
              </a:rPr>
              <a:t>rígida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de que na memória (mesmo que isso signifique desperdício de espaç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écnicas de </a:t>
            </a:r>
            <a:r>
              <a:rPr b="1" i="1" lang="en-US" sz="2400" spc="-1" strike="noStrike">
                <a:solidFill>
                  <a:srgbClr val="fafd00"/>
                </a:solidFill>
                <a:latin typeface="Times New Roman"/>
              </a:rPr>
              <a:t>index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goritmos de </a:t>
            </a:r>
            <a:r>
              <a:rPr b="1" i="1" lang="en-US" sz="2400" spc="-1" strike="noStrike">
                <a:solidFill>
                  <a:srgbClr val="fafd00"/>
                </a:solidFill>
                <a:latin typeface="Times New Roman"/>
              </a:rPr>
              <a:t>bus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2T02:53:20Z</dcterms:created>
  <dc:creator>Prof. Dr. Aldo von Wangenheim</dc:creator>
  <dc:description/>
  <cp:keywords>C++</cp:keywords>
  <dc:language>en-US</dc:language>
  <cp:lastModifiedBy>Kaiser</cp:lastModifiedBy>
  <dcterms:modified xsi:type="dcterms:W3CDTF">1999-06-24T14:32:49Z</dcterms:modified>
  <cp:revision>147</cp:revision>
  <dc:subject>C++</dc:subject>
  <dc:title>Estruturas de Dados - T.332  Capítulo 4 Parte 1: C++</dc:title>
</cp:coreProperties>
</file>