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85440" y="384912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38491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80600" y="38491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19360" y="11426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53280" y="11426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85440" y="384912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19360" y="384912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53280" y="384912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83818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440" y="38491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80600" y="38491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84912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609480" cy="6845400"/>
            <a:chOff x="0" y="0"/>
            <a:chExt cx="609480" cy="684540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60948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2840" y="162000"/>
              <a:ext cx="85680" cy="6543720"/>
              <a:chOff x="42840" y="162000"/>
              <a:chExt cx="85680" cy="6543720"/>
            </a:xfrm>
          </p:grpSpPr>
          <p:sp>
            <p:nvSpPr>
              <p:cNvPr id="5" name=""/>
              <p:cNvSpPr/>
              <p:nvPr/>
            </p:nvSpPr>
            <p:spPr>
              <a:xfrm>
                <a:off x="42840" y="1752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2840" y="1981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2840" y="22096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840" y="24382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2840" y="26668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2840" y="2895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2840" y="3124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2840" y="33526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2840" y="35812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42840" y="38098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2840" y="4038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2840" y="4267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2840" y="44956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2840" y="47242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2840" y="49528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2840" y="5181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42840" y="5410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2840" y="56386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2840" y="58672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2840" y="60958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42840" y="6324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42840" y="6553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2840" y="1620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42840" y="3906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2840" y="6192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2840" y="8478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42840" y="10764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42840" y="13050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42840" y="15336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" name=""/>
          <p:cNvSpPr/>
          <p:nvPr/>
        </p:nvSpPr>
        <p:spPr>
          <a:xfrm>
            <a:off x="82800" y="6486480"/>
            <a:ext cx="6992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INE - UFSC        -      Disciplina Estruturas de Dados       -       Prof. Dr. Aldo von Wangenhei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7101360" y="6486480"/>
            <a:ext cx="146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ágina </a:t>
            </a:r>
            <a:fld id="{2709E9C4-EC53-48F0-8617-E7AF344CFD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" name="" descr=""/>
          <p:cNvPicPr/>
          <p:nvPr/>
        </p:nvPicPr>
        <p:blipFill>
          <a:blip r:embed="rId2"/>
          <a:stretch/>
        </p:blipFill>
        <p:spPr>
          <a:xfrm>
            <a:off x="8458200" y="6019920"/>
            <a:ext cx="609480" cy="73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ula de Laboratório 2:</a:t>
            </a:r>
            <a:br>
              <a:rPr sz="2800"/>
            </a:b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Objetivo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o declarar tipos derivados estruturados em “C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o usar arquivos-cabeçalho (</a:t>
            </a:r>
            <a:r>
              <a:rPr b="0" i="1" lang="en-US" sz="2400" spc="-1" strike="noStrike">
                <a:solidFill>
                  <a:srgbClr val="fafd00"/>
                </a:solidFill>
                <a:latin typeface="Tahoma"/>
              </a:rPr>
              <a:t>Headerfil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 .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 que são diretivas de compilação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#inclu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#def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#ifde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#ifnde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#endi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apitulação Pilha com Vet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écnicas de documentação de progra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lementação da Pil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ula de Laboratório 2:</a:t>
            </a:r>
            <a:br>
              <a:rPr sz="2800"/>
            </a:b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Organização dos Programa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da Estrutura é um Compon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Pil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pilha.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&gt; define os tipos e protótipos de funçõ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pilha.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&gt; define as operações sobre a pilh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Programa Principal: é a aplicação que usa a pil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principal.c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&gt; tem a função </a:t>
            </a: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main(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e outras de menu, se necessár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i incluir </a:t>
            </a: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pilha.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para a </a:t>
            </a:r>
            <a:r>
              <a:rPr b="0" lang="en-US" sz="2000" spc="-1" strike="noStrike">
                <a:solidFill>
                  <a:srgbClr val="f57b49"/>
                </a:solidFill>
                <a:latin typeface="Tahoma"/>
              </a:rPr>
              <a:t>definiçã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os dado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mais inclui pilha.c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unções são visíveis através da compilação, onde tudo é compilado junto e o linkeditor (</a:t>
            </a: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l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) vai "grudar" os códigos gerados a partir de </a:t>
            </a: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pilha.c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com os gerados a partir de </a:t>
            </a: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principal.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cluir </a:t>
            </a: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.c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em outro </a:t>
            </a: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.c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é péssima técnica de proramaçã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gcc -o minhapilha pilha.c principal.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ula de Laboratório 2:</a:t>
            </a:r>
            <a:br>
              <a:rPr sz="2800"/>
            </a:b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Uso do #ifndef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vita que definições sejam reavaliadas desnecessariamente pelo compilador, gerando redefinição de tipos de dados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pilha.h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afd00"/>
                </a:solidFill>
                <a:latin typeface="Courier New"/>
              </a:rPr>
              <a:t>#ifndef definiuPilh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afd00"/>
                </a:solidFill>
                <a:latin typeface="Courier New"/>
              </a:rPr>
              <a:t>#define definiuPilh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pt-BR" sz="1400" spc="-1" strike="noStrike">
                <a:solidFill>
                  <a:srgbClr val="8cf4ea"/>
                </a:solidFill>
                <a:latin typeface="Courier New"/>
              </a:rPr>
              <a:t>#define Maxpilha 100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8cf4ea"/>
                </a:solidFill>
                <a:latin typeface="Courier New"/>
              </a:rPr>
              <a:t>     </a:t>
            </a:r>
            <a:r>
              <a:rPr b="1" lang="pt-BR" sz="1400" spc="-1" strike="noStrike">
                <a:solidFill>
                  <a:srgbClr val="8cf4ea"/>
                </a:solidFill>
                <a:latin typeface="Courier New"/>
              </a:rPr>
              <a:t>#define ErroPilhaCheia -1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8cf4ea"/>
                </a:solidFill>
                <a:latin typeface="Courier New"/>
              </a:rPr>
              <a:t>     </a:t>
            </a:r>
            <a:r>
              <a:rPr b="1" lang="pt-BR" sz="1400" spc="-1" strike="noStrike">
                <a:solidFill>
                  <a:srgbClr val="8cf4ea"/>
                </a:solidFill>
                <a:latin typeface="Courier New"/>
              </a:rPr>
              <a:t>#define ErroPilhaVazia -2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fc0128"/>
                </a:solidFill>
                <a:latin typeface="Courier New"/>
              </a:rPr>
              <a:t>  </a:t>
            </a:r>
            <a:r>
              <a:rPr b="1" lang="pt-BR" sz="1400" spc="-1" strike="noStrike">
                <a:solidFill>
                  <a:srgbClr val="fc0128"/>
                </a:solidFill>
                <a:latin typeface="Courier New"/>
              </a:rPr>
              <a:t>/* define estrutura de um tipo pilha */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1400" spc="-1" strike="noStrike">
                <a:solidFill>
                  <a:srgbClr val="ffffff"/>
                </a:solidFill>
                <a:latin typeface="Courier New"/>
              </a:rPr>
              <a:t>struct estruturaDaPilha {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pt-BR" sz="1400" spc="-1" strike="noStrike">
                <a:solidFill>
                  <a:srgbClr val="ffffff"/>
                </a:solidFill>
                <a:latin typeface="Courier New"/>
              </a:rPr>
              <a:t>int dados[Maxpilha]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pt-BR" sz="1400" spc="-1" strike="noStrike">
                <a:solidFill>
                  <a:srgbClr val="ffffff"/>
                </a:solidFill>
                <a:latin typeface="Courier New"/>
              </a:rPr>
              <a:t>int topo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1400" spc="-1" strike="noStrike">
                <a:solidFill>
                  <a:srgbClr val="ffffff"/>
                </a:solidFill>
                <a:latin typeface="Courier New"/>
              </a:rPr>
              <a:t>}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c0128"/>
                </a:solidFill>
                <a:latin typeface="Courier New"/>
              </a:rPr>
              <a:t>     </a:t>
            </a:r>
            <a:r>
              <a:rPr b="1" lang="pt-BR" sz="1400" spc="-1" strike="noStrike">
                <a:solidFill>
                  <a:srgbClr val="fc0128"/>
                </a:solidFill>
                <a:latin typeface="Courier New"/>
              </a:rPr>
              <a:t>/* declara o tipo Pilha com a estrutura dada */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pt-BR" sz="1400" spc="-1" strike="noStrike">
                <a:solidFill>
                  <a:srgbClr val="ffffff"/>
                </a:solidFill>
                <a:latin typeface="Courier New"/>
              </a:rPr>
              <a:t>typedef struct estruturaDaPilha Pilha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pt-BR" sz="1400" spc="-1" strike="noStrike">
                <a:solidFill>
                  <a:srgbClr val="d50124"/>
                </a:solidFill>
                <a:latin typeface="Courier New"/>
              </a:rPr>
              <a:t>/* declara os protótipos de todas as funções da pilha */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pt-BR" sz="1400" spc="-1" strike="noStrike">
                <a:solidFill>
                  <a:srgbClr val="ffffff"/>
                </a:solidFill>
                <a:latin typeface="Courier New"/>
              </a:rPr>
              <a:t>void inicializaPilha(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pt-BR" sz="1400" spc="-1" strike="noStrike">
                <a:solidFill>
                  <a:srgbClr val="ffffff"/>
                </a:solidFill>
                <a:latin typeface="Courier New"/>
              </a:rPr>
              <a:t>int pilhaCheia(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c0128"/>
                </a:solidFill>
                <a:latin typeface="Courier New"/>
              </a:rPr>
              <a:t>     </a:t>
            </a:r>
            <a:r>
              <a:rPr b="1" lang="pt-BR" sz="1400" spc="-1" strike="noStrike">
                <a:solidFill>
                  <a:srgbClr val="fc0128"/>
                </a:solidFill>
                <a:latin typeface="Courier New"/>
              </a:rPr>
              <a:t>...etc...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afd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ula de Laboratório 2:</a:t>
            </a:r>
            <a:br>
              <a:rPr sz="2800"/>
            </a:b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Documentação do Program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da arquivo de codigo C é documentado através de um Dicionário de dados antes de cada funçã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afd00"/>
                </a:solidFill>
                <a:latin typeface="Courier New"/>
              </a:rPr>
              <a:t>/* ------------------------------------------*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afd00"/>
                </a:solidFill>
                <a:latin typeface="Courier New"/>
              </a:rPr>
              <a:t>/* funcao empilha                            *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afd00"/>
                </a:solidFill>
                <a:latin typeface="Courier New"/>
              </a:rPr>
              <a:t>/* Coloca um novo dado no topo da pilha.     *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afd00"/>
                </a:solidFill>
                <a:latin typeface="Courier New"/>
              </a:rPr>
              <a:t>/* Incrementa a posição do topo.     </a:t>
            </a:r>
            <a:r>
              <a:rPr b="1" lang="pt-BR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afd00"/>
                </a:solidFill>
                <a:latin typeface="Courier New"/>
              </a:rPr>
              <a:t>        *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afd00"/>
                </a:solidFill>
                <a:latin typeface="Courier New"/>
              </a:rPr>
              <a:t>/*-------------------------------------------*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afd00"/>
                </a:solidFill>
                <a:latin typeface="Courier New"/>
              </a:rPr>
              <a:t>/* Valor de retorno: inteiro com o novo topo.*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afd00"/>
                </a:solidFill>
                <a:latin typeface="Courier New"/>
              </a:rPr>
              <a:t>/* Parametros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afd00"/>
                </a:solidFill>
                <a:latin typeface="Courier New"/>
              </a:rPr>
              <a:t>novo: inteiro    novo dado a ser inserido.*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afd00"/>
                </a:solidFill>
                <a:latin typeface="Courier New"/>
              </a:rPr>
              <a:t>/* Variaveis locais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afd00"/>
                </a:solidFill>
                <a:latin typeface="Courier New"/>
              </a:rPr>
              <a:t>nenhuma                                   *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afd00"/>
                </a:solidFill>
                <a:latin typeface="Courier New"/>
              </a:rPr>
              <a:t>/*-------------------------------------------*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57b49"/>
                </a:solidFill>
                <a:latin typeface="Courier New"/>
              </a:rPr>
              <a:t>int empilha( int novo 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57b49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57b49"/>
                </a:solidFill>
                <a:latin typeface="Courier New"/>
              </a:rPr>
              <a:t>----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57b4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ula de Laboratório 2:</a:t>
            </a:r>
            <a:br>
              <a:rPr sz="2800"/>
            </a:b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Observações sobre a implementa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ncipal.c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#include &lt;stdio.h&g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lude “pilha.h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rn Pilha aPilha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lha.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#include &lt;stdio.h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lude “pilha.h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lha aPilh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2T02:53:20Z</dcterms:created>
  <dc:creator>Prof. Dr. Aldo von Wangenheim</dc:creator>
  <dc:description/>
  <cp:keywords>C++</cp:keywords>
  <dc:language>en-US</dc:language>
  <cp:lastModifiedBy>LISHA</cp:lastModifiedBy>
  <cp:lastPrinted>1997-06-23T00:41:22Z</cp:lastPrinted>
  <dcterms:modified xsi:type="dcterms:W3CDTF">2000-08-31T18:03:11Z</dcterms:modified>
  <cp:revision>100</cp:revision>
  <dc:subject>C++</dc:subject>
  <dc:title>Estruturas de Dados - T.332  Capítulo 4 Parte 1: C++</dc:title>
</cp:coreProperties>
</file>