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B8D-9000-4382-B254-1D6DBEE0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5F4-4BE9-4843-AD32-D18ACCB9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7E3-6A0B-4212-80E3-2272C80D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BED-4D95-4384-B305-3F78F7A9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98C-8F10-40E9-AC2D-3AD2970B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FC7-F04F-4B3F-9904-E2217BCD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AE9-107C-4F7E-8640-56613509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3FF-B88B-49B8-A21E-BD6AFB05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7E8-708E-47FF-A48C-2473A6FE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06D-A726-4663-A6F6-F7B3051D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7BD-4755-4691-AED2-C27F9EDE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51B-E4A2-4C35-9872-855201EF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8A91-D064-4530-A493-559348724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age01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71769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g1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g1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g1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g1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g1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g1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g1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g1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g1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g1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age02" descr=""/>
          <p:cNvPicPr/>
          <p:nvPr/>
        </p:nvPicPr>
        <p:blipFill>
          <a:blip r:embed="rId1"/>
          <a:stretch/>
        </p:blipFill>
        <p:spPr>
          <a:xfrm>
            <a:off x="0" y="0"/>
            <a:ext cx="7175520" cy="99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g2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g2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g2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g2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g2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g2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g2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g2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g2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g2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age03" descr=""/>
          <p:cNvPicPr/>
          <p:nvPr/>
        </p:nvPicPr>
        <p:blipFill>
          <a:blip r:embed="rId1"/>
          <a:stretch/>
        </p:blipFill>
        <p:spPr>
          <a:xfrm>
            <a:off x="-322200" y="-1440"/>
            <a:ext cx="7180200" cy="990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g3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g3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g3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g3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g3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g3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g3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g3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g3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g3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ge0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g4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g4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g4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g4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g4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g4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g4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g4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g4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g4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g0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g5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g5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g5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g5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g5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g5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g5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g5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g5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g5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g0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g6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g6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g6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g6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g6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g6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g6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g6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g6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g6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g0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g7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g7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g7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g7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g7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g7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g7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g7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g7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g7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g0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g8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g8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g0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12:31:59Z</dcterms:created>
  <dc:creator>Mauro Roisenberg</dc:creator>
  <dc:description/>
  <dc:language>en-US</dc:language>
  <cp:lastModifiedBy>Mauro Roisenberg</cp:lastModifiedBy>
  <dcterms:modified xsi:type="dcterms:W3CDTF">2001-04-02T13:38:49Z</dcterms:modified>
  <cp:revision>5</cp:revision>
  <dc:subject/>
  <dc:title>Apresentação do PowerPoint</dc:title>
</cp:coreProperties>
</file>