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BC92-C0E8-4A4A-968B-302A6029D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A5CA-E5DF-4F22-A273-AB7F2995D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BF2D-FA68-4723-B8E8-F87A5EB23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0526-DD1D-4E95-A45B-D1811BAEB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E153-0112-4AFB-816C-B526C8A6E6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C54A-5341-44BB-B43F-553AF7819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5803-E05E-49C3-B5E2-B72EF8619B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B874-5DED-4C9B-863B-35B69662F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28EB-0B75-422D-A3D3-9A57EFDD32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0149-2E27-4998-AE2E-3E2B1FBFB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A70F-85B8-4D9F-AA49-7CE9500EE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826D-1DA1-4F86-8AB3-434764A63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DECB-D305-4AC9-AE00-FAEA61DAF1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FD57-6DB9-4949-8AF3-7894EB2D43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2DD8-0BD5-4028-BA30-DEA9F720AB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6E78-9771-42FE-A8CE-FCFDBA0FD3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3ADC-18AE-476A-BCED-B1A7B365EA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CA7A-62A9-4144-BD02-281446E9A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8F2F-A12F-45D5-8E35-2958B38EA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E61C-667F-406B-8662-FACBAF31A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ED83-0153-4BC7-A472-2BC57B013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23BB-4EEC-4BFA-B9CE-8F67D77A8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49B6-6716-4DE6-A719-359FCAA1F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C780-F5BB-4D44-A1AC-30E094B96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06D8-F846-46B8-9BC0-5A6FA7035F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EBE2-E578-43D8-8E77-7080901F9E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9E1A-E3BC-4287-96FC-FE3BC7AF69A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hared Memory vs. Distributed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venience vs. co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hared memory model - transparenc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’s Memory channel and S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rtual memory manage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coherent ( write and invalidate )  -&gt;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scale: managea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d memory mod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 / receive API ( explicit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rite Operation to Remote Memo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2052720"/>
          <a:ext cx="8791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2720"/>
                    <a:ext cx="8791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580760"/>
            <a:ext cx="46418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 lo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itical to performance and us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uter, most implemented at the prototype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place for NI, but proprietary system bu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 today, no way to support cache coher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94120" y="1638360"/>
          <a:ext cx="419256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4120" y="1638360"/>
                    <a:ext cx="41925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341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ruction set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unication registe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nsputer from INM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Wrap, related systolic architectur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successful ( too small mark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l (case of high performance b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tem bus based N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l on cache-coherent NI regi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MA can read/write from/to main memory using burst cyc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 implementation on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I-3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CI-based N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 any system w/ PCI I/O bu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urrent PCI 32bit/33 MHz -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tential bottlenec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uture 64bit/ 66MHz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advantage of the I/O bus location is the loss of some properties such as cache coherence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9760" y="1676520"/>
            <a:ext cx="8613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ink Protoco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d for layout of messag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etect start/en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gnal ev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Bidirectional Link and the General Message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1040" y="1852560"/>
          <a:ext cx="86328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2560"/>
                    <a:ext cx="86328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2600" y="1676520"/>
            <a:ext cx="80773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hysical Lay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physical medium  (data rate, cos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medium - adequate standard link level transport layer (ex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bps Etherne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omic Sans MS"/>
              </a:rPr>
              <a:t>64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t wide cable (ex. HiPPI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n count is limitation for the implemen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 x 8 unidirectional switch with 32 bit signal li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&gt; 1024 pins for the link ( Too Muc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tewide link (ex. Myrinet or ServerN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comprom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rate size of switches and moderate spe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cal layers will replace copper-base lay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wit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main techniq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switching - tradi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forward operation =&gt; limit packet’s character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mhole switching - Myri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 if header is deco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atency and small buffer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size can be var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t error correction is diffic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2440" y="363600"/>
            <a:ext cx="786456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itching Techniq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7360" y="1871640"/>
          <a:ext cx="8988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871640"/>
                    <a:ext cx="8988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9188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Speed Network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apter 9 by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Nagendra &amp; L. Rzymianowic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25680"/>
            <a:ext cx="555948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ign Issu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Parallel Interface (HiPP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Coherent Interface (SC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nfi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34680" y="2927520"/>
            <a:ext cx="2785320" cy="3431160"/>
            <a:chOff x="6034680" y="2927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253200" y="2927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34680" y="6051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utgoing w/ contained address in hea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terministic and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daptive routing schem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urce-path and table-based rou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uting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938240"/>
          <a:ext cx="882360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38240"/>
                    <a:ext cx="88236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low Contro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oid buffer overr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 based schemes (get and consum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Myrinet STOP and GO control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low control signal travels in the opposite direction relative to the dat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detection and cor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ery low error rate in physical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-&gt;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need not s/w CRC check =&gt;  NI can do it !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nk Parame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0" y="2117880"/>
          <a:ext cx="913608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117880"/>
                    <a:ext cx="913608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) 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590480"/>
            <a:ext cx="87915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 is criti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level operation to avoid the costs of OS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ero copy mechanis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transferred to main memory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grammed I/O vs. Direct Memory Ac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copies data between memory and N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start up times but inefficient as message size g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device itself initiate the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 bit more: can swap anytime ? Is it ru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1 : data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2 : insert que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3 : NI sets up a DMA transfer to read the msg data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O versus DMA Data Transf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1746360"/>
          <a:ext cx="87915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6360"/>
                    <a:ext cx="87915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fact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: write message sequentially into a single NI regi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bus cycles and poor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e burst 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ing on consecutive addr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al write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d as burst trans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nstruction set support for cache contr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can read/write a large block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 is superior to DMA for small mess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of copy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olling vs. Interrup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DM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bus NI - polling wastes a lot of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rror NI status into main memory (cache-coherent 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rupt - context switching overh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brid solution – programmable watchdog ti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ollective oper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times need collective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nly few have direct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roadcasting, multicasting, barrier synchroniz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uster networks leave collective communication to software: tree-based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shared bus system, easy to broadca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rinet or ServerNet is more compl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100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bps over UTP or fiber-optic cabl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C protocol: CSMA/CD (Carrier Sense Multiple Access with Collision Detection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0960" y="3224160"/>
          <a:ext cx="853452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224160"/>
                    <a:ext cx="853452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9760" y="1530000"/>
            <a:ext cx="861372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is the most critical part of a clust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ts capabilities and performance directly influences the applicability of the whole system for HPC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rting from Local/Wide Area Networks (LAN/WAN) like Fast Ethernet and ATM, to System Area Networks(SAN) like Myrinet and Memory Channe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connection dev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ea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ore data and collision sig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lify and regenerate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poi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at and copy: All can see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datalin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ward to other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networ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Mi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eplacement of hubs with Ethernet 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Ethernet repeater is the perfect complement to a LAN growth strateg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Performance Parallel Interface (HiPP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487160"/>
            <a:ext cx="879156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facilitate high speed communication between very high speed computers, &amp; thereby to attempt to meet their I/O requiremen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be a rapid mover of data, as well as a very implementable standar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 efficient simplex point-to-point link using copper twisted pair cable for distance of up to 25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tandard capable of transferring data: 800Mbit/sec over 32 parallel lines or 1.6Gbit/sec 64 parallel lin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09080"/>
            <a:ext cx="879156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omic Sans MS"/>
              </a:rPr>
              <a:t>High Performance Parallel Interfac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(HiPPI)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standar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echanical, electrical, &amp; signaling of HiPPI physical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only a single point-to-point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 format and content (including head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S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switching mechanism to be built which could allow multiple simultaneous point-to-point connectio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drawbac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provide a complete, general purpose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multiprocessors and management systems are needed  without sacrificing HiPPIs data transfer speed or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25 m distance between nodes -&gt; serial HiPPI, SONET extension -&gt; storag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 of connection is restricted due to the SC complex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PPI-SC (Switch Control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PPI-PH: only single point-to-poi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eviate the number of connections (but not final solu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 grows 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early connect up to 50-pair within 25 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HiPP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vercome 25m distance (HiPPI-PH, standard 50-pair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igabit dark fiber optics and copper coax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 the turn around 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tencies are hidden (only show connected or not 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 Speed SONET Extens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 extender using SONET’s STS-12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set of terminal de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TS-12c payload for transmi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rt it back to HiPP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y out PLCP (Physical Layer Convergence Protocol) which maps HiPPI bursts into STS-12c 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 on large RAM in the down-link ext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x bandwidth x delayby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PPI to SONET interface implemented completely i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Mbyte of RAM of data buffering (on the down-link si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4 bit CRC transmitted with each STS-12c fr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i960 RISC-based microprocessor is included for supervisory functions and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Connection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al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: policies upon shared knowle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: no explicit knowledge (random wait and retrying metho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d primarily as a high speed networked data channel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between computer systems &amp; supercompu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and direct connection with another HiPPI interface or conjunction of HiPP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ous HiPPI interfa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ME-HiPPI, SBUS, PC and workstation standard, special interfaces used in CRAY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ME64 HiPPI Interface Block Diag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87280" y="1523880"/>
          <a:ext cx="6504120" cy="52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23880"/>
                    <a:ext cx="650412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rray System: The HiPPI Interconn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memory multi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0 or more MIPS processors in as many as 8 POWER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ak aggregate computing capacity in excess of 50 GFLO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PPI switch is nonblocking with sub-microsecond connection delay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ray System Schemati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28960" y="1523880"/>
          <a:ext cx="4397400" cy="51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523880"/>
                    <a:ext cx="43974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Eth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SMA/CD (Carrier Sense Multiple Access with Collision Detec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(High Performance Parallel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pper-based, 800/1600 Mbps over 32/64 bit l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int-to-point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TM (Asynchronous Transfer Mod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nection-oriented packet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length (53 bytes cel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I (Scalable Coherent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EEE standard 1596, hardware DSM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synchronous Transfer Mode (ATM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625760"/>
            <a:ext cx="8791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ffer significantly greater bandwidth, flexibility, &amp; QoS service suppor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ATM switches, ATM routers, &amp; LAN switch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nection oriented packet swi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ly suitable for wide area LAN and WA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TM routers and LAN switches are more effectiv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uge bandwidth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effective to transfer large quantitie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ot so good for cluster computer interconnec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ware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good performance in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ive in supporting clusters over W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CI ( Virtual Circuit Identifie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to be carrier over the network is broken up into blocks (cells) with an identifying label called V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I is attached to each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PI (virtual path identifier): group of VC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cast Virtual Circu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transfer info from a single source to several recip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ion and forwarding (switching 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ed virtual circuit (SVC) vs. Permanent virtual circuit (PV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VC: automatically set up by ATM signaling &amp; flexible a fast connection setup time of 1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C: manually setup for leased lines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TM Adaptation Layer (AAL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many kinds of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types of A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1: support connection-oriented services that require constant bit rates services and have specific timing and dela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2: support connection-oriented services tha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ire constant bit rates, but service variable bit rat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3/4: for both connectionless and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5: support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TM Adap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E 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Intel i960 RIS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AL5 and 3/4 Segmentation and Reassembly (SA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tter-gather D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ATM Adap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63600" y="1544760"/>
          <a:ext cx="646452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544760"/>
                    <a:ext cx="64645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M API Basic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P(Service access point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ddress, ATM selector, Broadband low layer information (BLLI), and Broadband high layer information (BH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TM address, ATM Selector, BLLI id2, BLLI id3, BHLI id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LI ids: layer 2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HLI id: application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P vector element (SVE): tag, length, and value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erformance Evaluation of AT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parc Sun workstations with 10 Mbit/s Ethernet adapter and a Fore system ATM adapter connected to a Fore system ASX-200 ATM swi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DE (parallel differential equations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matrix multi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ising over loc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leration may be consid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cution Time (sec) of Partial Differential Equ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44560"/>
          <a:ext cx="913608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13608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ssues in Distributed Networks for ATM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rate can adapt to data traffic and available network availability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rate leads to significant in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cast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eedy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new endpoints using a shortest path from the endpoint to the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te endpoints by pruning the branch needed only by the endpoint being dro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Coherent Interface (SC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recent communication standard for 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ffectively a processor memory &amp; I/O bus, high performance switch, local area network, &amp; optical netwo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 info sharing &amp; info communication system that provides distributed directory-based cache coherency for a global shared memory model &amp; uses electrical or fiber optic point-to-point unidirectional cables of various width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single address space is used to specify data as well as its source &amp; destination when transported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00 Mbyte/s (CMOS) to 1000 Mbyte/s (BiCMOS) over distances of tens of meters for electrical cable &amp; kilometers for serial fiber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rv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riginally, interconnection for high bandwidth I/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yri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able microcontrol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2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mory Chann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shared memo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rict message order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nfi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2.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ware support for message passing, shared memory and synchron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ta transfer via SCI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interface with common buses such as PCI, VME, etc,  &amp; to I/O connections such as ATM or Fiber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 approach of mov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the data arrive at the destination, hardware stores them in a memory buffer and alerts the processor by an interrupt when a packet is complete or the buffers are f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then moves  the data to a waiting user buf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application examines the packet to find the desired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e scheme is comprehensive &amp; robu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ependent of the interconnect type or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handled entirely in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distributed shared memory with transparent caching that improves performance by hiding the cost of remote data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the need for costly SW cache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the Dolphin PCI-SCI Brid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082960" y="1571760"/>
          <a:ext cx="47066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2960" y="1571760"/>
                    <a:ext cx="47066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vantages of SCI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the delay of interprocessor comm by an enormous fa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 eliminates the need for runtime layers of                                SW protocol-paradigm transl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useful for clustering over local area distance or 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st suitable over long dist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communication is op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address cache miss =&gt; get from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ing all the network protocol as a fraction of one i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cache-coherent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- efficient with large block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lots of handshaking and heavy traff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nterface chip can handle active packets concurrently ( flight awaiting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first commercially available implementation of a SAN in 1995 by Tandem, now supported by Compaq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II in 1998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ise the bandwidth &amp; add new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nd to provide high bandwidth, scalable, and reliable interconnect between processors and I/O devices required by HPC applications, but turned quickly into a general purpose SA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125Mbyte/sec bandwidth between two nodes in a clustered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alability and reliability as main goa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endnodes &amp; rou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ndnodes with interface to the system bus or various I/O interfac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outers to connect all endnodes to one clustered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bility to transfer data directly between 2 I/O devices, thus relieving processors of plain data copy jobs (zero copy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Sample ServerNet Configu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3560" y="1501920"/>
          <a:ext cx="802944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501920"/>
                    <a:ext cx="802944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Lin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ll duplex, wormhole switched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 version: 9 bps , 50MH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nd version: 125MByte/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copper cable =&gt; longer distan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ith additional converter, ServerNet I and II components can be mixed within one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erate asynchronously and avoid buffer overrun through periodic insertion of SKIP control symbols, which are dropped by the recei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MA-based remote memory read/wri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ndnode: 64 (512 in ServerNet II) byte from/to a remote mem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eck read/write permi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(advance) specify one of several packet queu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Address Sp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2036880"/>
          <a:ext cx="879156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36880"/>
                    <a:ext cx="879156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guaranteed &amp; error free in-order delivery of data on various leve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eck validation at each st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nding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: 6 port switches,  2nd: 12 p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parate the data channel and control chann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bility to form so called Fat Pip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physical link can be used to form one logical link and choose dynam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volution in Interconnect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ational capacity vs. network bandwidt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ing power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wa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 in the past. But the communication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city, bus based -&gt; complicated technology, switch base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ular, easy to accommodate new techn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ance, speed, limited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gh speed network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iga bps, distance (optical media) etc..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iver and Management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overhead protocol layers and driver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chanism to efficiently support the message passing model of the VIA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(In Band Control): same links as normal data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rotocol is responsible for initialization, faulty node isolation and several other management issu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ackets are used to gather status or scatter control data to all ServerNet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36240" y="1501920"/>
            <a:ext cx="860724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ocus on the business server market, poorly accepted by researchers so fa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lot of properties, extremely useful for cluster 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 handling on various leve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protection scheme (AV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ndard physical layers (1000BaseX cable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 for network management (IB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ill be one of the leading S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companies will use ServerNet for their servers &amp; clus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derable influence on the VIA spec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SAN evolved from supercomputer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main product of Myricom (founded in 1994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Quite popular in the research commu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HW &amp; SW specifications are open &amp; publ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sed on 2 research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aic by Calte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ine grain supercomputer, need a truly scalable interconnection network with lots of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omic LAN by U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Mosaic technology, a research prototype of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peed: 1.28 Gb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ood price/performance rati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ost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ai chi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ustom VLSI chip, a programmable micro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the data transfer between the host &amp;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RAM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data must first be written to the NI SRAM, before it can be injected into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+) the great flexibility of the HW due to a programmable microcontroller,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-) but can also be a bottleneck with respect to performan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ince the LANai runs only at moderate frequen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Host Interf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811160" y="1536840"/>
          <a:ext cx="58676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536840"/>
                    <a:ext cx="5867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and Packet Layer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milar 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9 bit parallel channel in one direction running at 80MHz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offer 160Mbyte/s physical bandwidth over one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different cable type (SAN, L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m SAN link, 10m LAN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length data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 with wormhole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urce path ro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routing head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al control symbols (STOP, G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low Contro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(Slack Buffer Operation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0801" t="19071" r="44702" b="0"/>
          <a:stretch/>
        </p:blipFill>
        <p:spPr>
          <a:xfrm>
            <a:off x="550800" y="1878120"/>
            <a:ext cx="815976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, 8 and 16 ports, mixable SAN and LA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utodetect the absence of a lin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arting up, host interface detect network topology automat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Hand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TBF: million hours are report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ble fault and node fail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routing by LAN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vent deadlock: time out generates a forward reset (FRES) sig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formance of Message Layers over Myri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38240" y="1986120"/>
          <a:ext cx="8869320" cy="28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986120"/>
                    <a:ext cx="8869320" cy="28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completely different approach towards SA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rovide a portion of global virtual shared memory by mapping portions of remote physical memory as local virtual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Obtained from Encore &amp; several other projects such as VMMC or SHRIMP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peed: 800 Mbp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Iss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5680" y="1676160"/>
            <a:ext cx="8497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oa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ice/performance trade off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eneral Architectur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design effort, free from processo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sign Detai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mple, fast, pipelin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start-up latencies, good overall throughpu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2680" y="1725480"/>
            <a:ext cx="8561160" cy="4718160"/>
            <a:chOff x="382680" y="1725480"/>
            <a:chExt cx="8561160" cy="4718160"/>
          </a:xfrm>
        </p:grpSpPr>
        <p:sp>
          <p:nvSpPr>
            <p:cNvPr id="258" name=""/>
            <p:cNvSpPr/>
            <p:nvPr/>
          </p:nvSpPr>
          <p:spPr>
            <a:xfrm>
              <a:off x="3152880" y="607536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emory Channel(M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82680" y="1725480"/>
              <a:ext cx="8561160" cy="4179960"/>
              <a:chOff x="382680" y="1725480"/>
              <a:chExt cx="8561160" cy="417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954000" y="2322360"/>
                <a:ext cx="758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35000" y="5905440"/>
                <a:ext cx="70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680" y="283536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79440" y="2835360"/>
                <a:ext cx="1386000" cy="68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68320" y="394344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0560" y="488160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51120" y="556416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27760" y="274968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4520" y="2749680"/>
                <a:ext cx="138600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7760" y="385776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34200" y="479592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75400" y="5478480"/>
                <a:ext cx="0" cy="42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32120" y="2322360"/>
                <a:ext cx="0" cy="51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58200" y="2322360"/>
                <a:ext cx="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388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644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89760" y="1725480"/>
                <a:ext cx="106020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1312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3676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6108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5880" y="1725480"/>
                <a:ext cx="114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98760" y="4114800"/>
                <a:ext cx="25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26000" y="3602160"/>
                <a:ext cx="195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 B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81560" y="4456080"/>
                <a:ext cx="89676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48200" y="4456080"/>
                <a:ext cx="89712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89440" y="411480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95880" y="4284720"/>
                <a:ext cx="73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33880" y="3090960"/>
                <a:ext cx="11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5437080" y="4114800"/>
            <a:ext cx="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ringing Together Simplicity and Performan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PCI adapter &amp; a Hu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st version: shared medium =&gt; bottleneck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nd version: point-to-point, full-duplex 8x8 cross ba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eartbeat signal and flow contro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ct node failure or blocked data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of Memory Channel 1 and 2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280" y="1824120"/>
          <a:ext cx="879156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4120"/>
                    <a:ext cx="87915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p pages as read- or write-only into virtual address sp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-only page: a page is pinned down in local physical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e-only: page table entry is created in PCI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 local copy of each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acknowledge message from receiv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packet as broadcast or point-to-point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Transfer over Memory Chann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2280" y="2220840"/>
          <a:ext cx="879156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20840"/>
                    <a:ext cx="87915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ftware and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 and UMP(Universal Message Pass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, PVM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pha 4100 nodes (300 MHz 21164 CPU) in a two node config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 communication to the minimum: simple stor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ies for single data transfers are very 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ay latency for an 8 byte ping-pong test: 2.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raw), 5.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HPF) and 6.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MP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 the max sustained datarate of 88 Mbyte/s with relative small data packets of 32 byt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rgest possible 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 12-CPU Alpha server nodes: a 96-CPU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eveloped &amp; marketed by Fujitsu System Technologies (FJS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usiness unit of HAL computer Systems &amp; Fujit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technology of HAL’s Mercury interconn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upport both parallel programming models: Message Passing &amp; Shared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3 component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dapter to connect SMP nodes together to one ccNUMA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host adapter intended for Message 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x-port switch to connect several interfaces together to 1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ushing networking to the technological limits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Xeon processor, forming ccNU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USTER interfa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2/64 bit , 33/66MHz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MB (PCI to Mercury Bridge) and MIC (Mercury Interface Chip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Mercury Interface Chip (MIC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994120" y="1565280"/>
          <a:ext cx="31478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4120" y="1565280"/>
                    <a:ext cx="31478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PCI to Mercury Bridge (PMB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521080" y="1517760"/>
          <a:ext cx="421776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1517760"/>
                    <a:ext cx="421776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ce vs.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duction volume, expensive physical layer, amount of stor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($50-100)  vs. Myrinet or ServerNet ( $1000 or more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labi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topology vs. dynamic topology, shared media vs. private med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ly fixed network topology (mesh, hypercu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clusters are more dynam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can tolerate the increased load and deliver nearly the same bandwidth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fford arbitrary numb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data transfer and communication ser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lain Send/Rece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/G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W (Remote Atomic Read Modify-Writ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Fetch/Add or Compare/Swa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al barri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ed chained descrip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-based mechanis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st/Retry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port, virtual cut-through switch (200MHz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4 nodes in an arbitrary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urce-path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prevent blocking of small special-service packets, 3 arbitration priorities allow small message to bypass large Put/Get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oftware is available as a VIA implementation under Window 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20 Mbyte/s bandwidth on a 64 bit/66 MHz PCI Sun Ult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oks good for message passing system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communication mechanism directly supported in hard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nables thins and fast protocol lay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dvanced Flow control in heavy load is very interes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18" name="sci" descr=""/>
          <p:cNvPicPr/>
          <p:nvPr/>
        </p:nvPicPr>
        <p:blipFill>
          <a:blip r:embed="rId1"/>
          <a:stretch/>
        </p:blipFill>
        <p:spPr>
          <a:xfrm>
            <a:off x="3132000" y="1765440"/>
            <a:ext cx="297360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(2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01560"/>
            <a:ext cx="87915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li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 check level/provider, buffering storage for retransmission, protocol complex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classes of parallel 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and business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operate itself without software overhea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freed physical lay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RC can be computed by NI itself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signaling (interrupt or status registers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I side buff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39Z</dcterms:modified>
  <cp:revision>88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