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8BA5-E5F5-4459-B8C3-30C632858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CE88-CC2F-4CBF-AC16-12CF187A8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6405-8ECA-44DC-A795-6FDEA3245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3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5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3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8D8B-C4F6-4326-9FB2-D9C41515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0A9F-5E60-492C-8713-67E56C00AD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4BA0-FCC4-4086-A9D7-1648F14714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BF2A-7CBE-4F31-A98D-6BEC9496E0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50EA-69B2-48C5-ACF5-49707784D1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FD85-E495-4D5C-9B19-B3D1140CAA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4BEE-569B-4E0F-8F25-EFB61E575F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85CE-657D-4321-AB33-BA950567F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8959-C36D-412B-90B0-6E841CA0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E5DD-13FD-416D-B2B3-78B07DCE08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E6AA-1382-49E4-9123-218638E5B2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F7F2-EAA0-47B4-AA4C-19857ACDC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91FF-882B-41C8-A5C8-2A9E3E6876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93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220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93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220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698E-7EAE-4EDC-88C2-547C44FF7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E07C-E825-4CFD-914B-87F3AE1B0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61FA-EF08-4095-B9DA-AB4FF663D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B3FC-717B-4FF6-B544-459D8DFCB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442F-4404-40C7-B649-B75CC4EB5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46B0-7EEF-4F26-9085-3F14802F5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229B-F005-4662-B15F-35697128C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4C34-1B8B-41CC-9652-7D72CD066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2FB9-9708-4DAF-BDA6-B1C652A5B0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52F1-9520-4882-B8EF-8F9F578F9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B5FD-40BD-4C67-AE96-5B0D7D5DC57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Job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job in the context of a RMS is any agglomeration of computational tasks usually solving a complex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jo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consist of a single program, of several interacting progra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also utilize operating system comman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re are four types of jobs in the context of R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tch Jobs: require no manual interaction as soon as start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active Jobs: require input during run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Jobs: subtasks spread across several hosts in a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-pointing Jobs: periodically save status to the file system and can be aborted any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Resour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term resour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ften called attribu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fers to the available memory, CPU time, and peripheral devi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job is accompanied by its resource requiremen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n RMS should ensure that resources are not oversubscribed by running job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can be performed by comparing resource utilization information with the thresholds defined by the cluster administ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Polic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o manage the computational resources of a cluster, categorizing classes of jobs in terms of queues is used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RMS may offer more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Comic Sans MS"/>
              </a:rPr>
              <a:t>abstract and advanced mechanisms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 to automate control of utilization of a compute server environmen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wo types of poli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source Utilization Polic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heduling Polic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Utilization Polici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 bas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 utilization entitlements with respect to the whole cluster are assigned to organization entities such as users, departments or projec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ced RMS allow the definition of resource shares by means of a hierarchical share tre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attribute of share based utilization policies is that they attempt to establish the defined resource entitlements within a time wind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unctiona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ke share based policies, they also define resource entitle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st usage is not taken into account in functional polic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resource entitlements maintained as fixed level of import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Utilization Polici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adlin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ime critical applications which are required to finish before a given dead-line represent a probl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nual overrid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n administrator may raise the resource entitlement of a certain job or of all jobs of a user, department, project and job class by a certain and well-interpretable quant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heduling Polic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heduling policies are meant to apply only to the process of dispatching job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RMS may provide a variety of scheduling poli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rst-Come-First-Serv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ect-Least-Load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ect-Fixed-Sequen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binations abo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Modern Architectural Approach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structured design is vital for the quality of service that a RMS provid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central CODINE/GRD functionality is provided by three types of daem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qmaster: master daem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schedd: scheduler is implemented in cod_sched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execd: execution daem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three daemons communicate over a communication system based upon TCP and provided by the CODINE/GRD communication daemon cod_comm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equirements and Goal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ally achieve the performance goals of the enterp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accomplished through resource management polic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knesses in mediating the sharing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s will rarely perform at the optimum performance because imbalanced load is the common situation in multiprocessing environ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ortant/urgent work may be deferred or starved for resources while other work is initiated and pro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uthorized users may inadvertently dominate shared resources by simply submitting the largest amount of 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user may grossly exceed her/his desired resource utilization level over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ynamic reallocation of resources is a prerequisite to optimal workload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Quantifying Availability and Usage of Resource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performs resource tasking based upon the utilization and collective capabilities of an entire system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avoid improper dispatching of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continuously maintains alignment of resource utilization with policies, using a dynamic workload regula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monitors and adjusts resource usage correlated to all processes of a job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licy Model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ared bas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hierarchical allocation of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unction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relative weighting among users, projects, departments, and job classes during exec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itiation deadli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escalates a job’s resource entitlement over time as it approaches its dead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err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justs resource entitlements at the job, job class, user, project, or department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ob and Resource Management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200" y="1498320"/>
            <a:ext cx="56088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y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ritz Ferst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otivation and Historical Syst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onents and Architecture of Job- and Resource Managemen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State-of-the-Art in R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hallenges for the Present and the Futu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02720" y="2125800"/>
            <a:ext cx="2785320" cy="3431160"/>
            <a:chOff x="6102720" y="212580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321240" y="212580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02720" y="524988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D Policy Integ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160" y="1909800"/>
          <a:ext cx="899172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909800"/>
                    <a:ext cx="89917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olicy Enforcement 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D is implemented by a dynamic scheduling fac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ultiple feed-back loops to adjust CPU shares of concurrently executing jobs toward dynamically changing requiremen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tic Scheduling Schem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925640"/>
          <a:ext cx="87915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25640"/>
                    <a:ext cx="87915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D’s Dynamic Scheduling Schem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3360" y="1498680"/>
          <a:ext cx="8991720" cy="50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498680"/>
                    <a:ext cx="8991720" cy="50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5220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ial Batch Job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 RMS allow to submit batch job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ability to suspend and resume execution of batch jobs and to restart batch jobs after system crashes is a standard toda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ractive Suppor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eractive job need to maintain a terminal conn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interactive user suffers from background RMS jobs, “watchdog” program withdraw such machines from the RMS pool subsequent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arallel Suppor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t all RMS provide parallel suppor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kind of support provided differs considerab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upport of Arbitrary or Particular PP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xed integrated parallel support (e.g.. Condor) providing an interfaces to PVM on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DINE/GRD offers freely configurable start-and-stop procedures for each PPE to be support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Level of Control for Parallel Process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simple way to provide an interface between a RMS and PPEs consists of submitting a start-up procedure/script for the run-time environment of PPEs to the RMS instead of a simple job scrip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approach proposed by the psched initiati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s linking a RMS and PPEs to exchang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echanisms for dealing with the checkpointing of a job are provided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SF and CODINE/GRD provide interfaces for so-called kernel level, application level and library based checkpoint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adLeveler and Condor provide checkpointing only for applications linked with operating specific libraries enabling the facil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pen Interfa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APIs are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rs might want to use a RMS’s load balancing and load distribution capabilities to distribute computational subtasks across a network of compute ho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various reasons it is necessary to retrieve the following kind of information from inside RMS rela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overall load situ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us of job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us of que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oftware developer might want to pass information to a RMS system to support the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cially for the purpose of low-level integration of RMS with other software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RMS’s graphical user’s and administrator’s interface should use API to configure RMS objects or to submit and monitor batch req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MS administrators might wish to write special-purpose RMS commands in case the site’s users expect a very special behav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pen Interfa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ce RMS API must satisfy following reques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must be easy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need to be usable from any programming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must hide RMS implementation details from the application develo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l RMS changes should not necessarily require software built upon the API to be chan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DINE/GRD API already meets these requirem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a applicable for any client/server in CODINE/G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extensible without requiring recompilation for every API-based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 SQL inspired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tivation and Historical Evolu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Need for Job Management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erating system offers job and resource management service for a single compu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batch job control on multi-user mainframes was performed outside the operating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in advantages ar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for a structured resource utilization planning and control by the administ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 the resources of a compute center to a user in an abstract, transparent, easy-to-understand and easy-to-use fash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vendor independent user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irst RMS of this type was NQS (Network Queuing Syste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urce Control and Mainframe-Like Batch Processing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S controls the following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cyc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k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pheral devices such as printer, tape drives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operating system and hardware architec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es for the installed base and application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interconnect and its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eterogeneous Parallel Environments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 affinity is one of the common requirements that are demanded by users of shared memory paralle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dicated Distribut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blem is that there are several types of machines available from several vendors showing strongly differe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Based Distribut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clusters as distributed memory parallel machines brings in several com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st important are difficulties in interfacing parallel programming environ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caused by the multi-user and multitasking nature of cluster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MS in a WAN Environment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y large industrial and research organizations operate with several branches being separated by long dist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ing a RMS to a WAN yields a number of problems related 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fi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day’s RMS offer good utilization of compute resources for a wide variety of applicati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y have proven their usefulness in production environments and still extend their application area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ed to evolve and integrate with other client/server soft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DINE/GRD is well recognized as one of the leading RMS for clusters today and is well-equipped for the challenges of the futu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ob Management Systems on Workstation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workstation clusters imposes specific requirements on job management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typical job management system usually off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terogeneous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tch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active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-pointing and Process Mig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ob Run-Time Limi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imary application fiel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pointing and migrating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programs or I/O intensive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requisit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ic prerequisi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mputers are interconnected by a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mputers provide multi-user as well as multitasking cap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mogeneous operating system architectures are not a restri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practice, the following situation occurs frequent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” operating systems run on al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 (in all variants) is very customary in the context of using 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’s Windows NT introduced the interest in the usage of relatively cheap PC hardware for clustered batch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S at least provides a command line user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ypical comman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job submission command to register jobs for execution with the 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us display command to monitor progress or failure of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job deletion command to cancel jobs no longer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of the popular RMS also offer a GU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40" y="66600"/>
            <a:ext cx="899172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I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dministrative environ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machine characteristics for the hosts in the RMS po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feasible job classes and the appropriate hosts for the job cla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user access per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resource limitations for users and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policies for the assignment of jobs according to load or other site specific preferen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rol and ensure proper operation of the R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lyze accounting data to tune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ommand line interface needs to be availabl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administrative GUI is offered in some R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Que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concept of queues refers to the standard computer science first-in-first-out queu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echanis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job is assigned to a queue and processed on a host bound to the queu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all queues are busy with a job when a new job is submitted, the new job waits until a queue becomes availabl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Hos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erver nod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pute services: consists of executing job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MS management services: covers all types of tasks to guarantee the operability of the RMS (network communication, scheduling, RMS configuration, etc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ubmit/control hos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pass jobs to the RMS for execution and to control jobs respective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2-01-06T08:55:50Z</dcterms:modified>
  <cp:revision>780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