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B247-FD02-4B57-9450-3F4B86058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70F6-5957-4DB2-A36C-06FFB9CAF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A0F5-5E66-448D-BAE8-D035E7B0E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75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868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7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75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868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23BF-160B-4982-8AC4-67F96B5B1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D734-5783-4B8E-9820-0089DE391F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1638-D6E8-4AA2-AEFB-FF5680E8C7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0DD1-C999-455C-B60A-8637DDD881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C29A-86A1-4A7E-90D9-A203532A84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550F-7E92-40FA-B0AF-5F237F2888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66A9-568F-4ABA-8920-CBA3F1905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AD52-A544-46C0-8EC5-C0AFB9375D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BF88-C2D0-4B73-8A87-67B484967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0ADE-ABE9-44FB-916E-ED57B137BA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1B87-5645-46D3-BACC-B57F80E9EF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6F65-5FA3-4A58-8D14-189D9F7C76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211D-133A-4C75-A92D-FBE8F93F0E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075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868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7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075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868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62AA-14E3-40B5-AD63-1CC4081B0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A1D5-4FD9-453F-8ABF-862B78520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0DFB-81DF-4DD3-91E5-7A16FCE0A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9408-0720-4BDB-9F7F-51F310DFA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9A5D-3296-4A2E-B6B3-9E4261A40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F359-BEA2-420A-A606-D38510295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08A3-58C8-479A-BCF4-D4CEA893D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8E90-C420-4E22-A11D-BD906AD5E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A29B-A327-4EDB-BBF0-E6C4C3B5CFD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CB39-C66E-46C2-AC5C-58115BEDB0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043-923F-4D7F-AC7D-4B16BE820C9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Paging System Stru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76280" y="1467000"/>
          <a:ext cx="818496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67000"/>
                    <a:ext cx="81849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mplementation Alternativ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client workstation has a remote paging sub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-leve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 it to use network memory as backing st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global resource management proces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on a workstation in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 information about the memory resources &amp; how they are being utilized in the clust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onfiguration server  (registry server) proc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ible for the setup of the network memory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contacted when a machine wants to enter or leave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ed according to the system administrator’s r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ent remote paging sub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main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echanism for intercepting &amp; handling page fa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ge management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 track of which local pages are stored on which remote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alternative implementations of transparent remote paging subsystem on the client work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the mechanisms provided by the existing client’s 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modifying the virtual memory manager &amp; its mechanisms in the client’s OS ker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using Existing OS Mechanisms (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r Level Memory Manageme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ach program uses new memory allocation &amp; management calls, which are usually contained in a library dynamically or statically linked to the user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quire some program code modif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totype by E. Anders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ustom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bra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TCP/IP, perform a 4K page replacement in 1.5 – 8.0 ms (1.3 – 6.6 fas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chan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cept page faults through the use of segmentation fa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egmentation fault signal from OS memory man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signal intercepted by the user level signal handler rout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ge management algorithm is called to locate &amp; transfer a remote page into local memory, replacing a local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 Level Memory Management Solution’s Stru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5200" y="1515960"/>
          <a:ext cx="7569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515960"/>
                    <a:ext cx="7569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using Existing OS Mechanisms (I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wap Device Driv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S level implemen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modern operating system provide virtual memory manager which swap pages to the first device on the list of swap devices which will be the remote memory paging device dr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a custom block device &amp; configure the virtual memory manager to use it for physical memory backing sto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run out of physical memory, it will swap pages to the first device on the list (may be the remote memory paging device driv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and when this Network RAM device runs out of space, the virtual memory manager will swap pages to the next de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in concept &amp; require one minor modification to the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ddition of a device driv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wap Device Driver Solution’s Stru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58760" y="1542960"/>
          <a:ext cx="720900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542960"/>
                    <a:ext cx="720900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using Existing OS Mechanisms (II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ge Management Polici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ich memory server should the client select each time to send p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resource management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 the pages equally among the serv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ndling of a server’s pages when its workstation becomes loa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 the client &amp; the other servers of its loaded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them to the server’s disk &amp; deallocate them each time they are referen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all the pages back to the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all servers are ful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the pages on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Through OS Kernel Modification (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OS modific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ftware solution offers the highest performance without modifying user prog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arduous tas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t portable between architectu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Kernel modific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global memory management in a workstation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ing a single unified memory manager as low-level component of OS that runs on each workst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integrate all the Network RAM for use by all higher-level functions, including virtual memory paging, memory mapped files and filesystem cach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perating System Modification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90640" y="1544760"/>
          <a:ext cx="7091280" cy="52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1544760"/>
                    <a:ext cx="7091280" cy="52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RA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36560"/>
            <a:ext cx="5240520" cy="49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hap 16 by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760320" indent="-266760">
              <a:lnSpc>
                <a:spcPts val="3498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. Flouris &amp; E. Marka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mote Memory Pag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etwork Memory File System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lications of Network RAM in Databas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847120" y="2214720"/>
            <a:ext cx="2785320" cy="3431160"/>
            <a:chOff x="5847120" y="221472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065640" y="221472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847120" y="533880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Through OS Kernel Modification (I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Global memory managemen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ge fault in node P in GM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ulted page is in the global memory of another node 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ulted page is in the global memory nodes of node Q, but P’s memory contains only local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ge is on dis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ulted page is a shared page in the local memory of another node 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080" y="151920"/>
            <a:ext cx="8991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oosting Performance with Subpag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ubpages are transferred over the network much faster than whole pag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t with magnetic disk transf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ing subpages allow a large window for the overlap of computation with communica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liability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ain disadvantages of remote memory pag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urity: can be resolved through the use of a regist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ility (fault-toleran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 a reliable devi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simplest reliability poli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le device such as the dis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ync write but, bandwidth lim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chieve high availability but si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under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 memory overhead (expensiv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plication – mirror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ing page replication to remote memory without using dis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-) use a lot of memory space, high network overhea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liability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mple par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tensively used in RAIDs, based on XOR op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duce memory requirement (1+1/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bandwidth &amp; computation overhe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wo servers have failure??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ity logg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duce the network overhead close to (1 + 1/S)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fficult problems from page overwri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n Example of the Simple Parity Policy (Each server in this example can store 1000 pages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547640"/>
          <a:ext cx="8791560" cy="48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47640"/>
                    <a:ext cx="8791560" cy="48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Parity Logging Example with Four Memory Servers and One Parity Server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41440" y="1501920"/>
          <a:ext cx="840240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501920"/>
                    <a:ext cx="840240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Paging Prototyp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Global Memory Service (GMS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modified kernel solution for using Network RAM as a paging device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reliability) Write data asynchronously to dis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prototype was implemented on the DEC OSF/1 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 real application workloads, show speedups of 1.5 to 3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d effectively to load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nerally very efficient system for remote memory pag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s and Cons of G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2289240"/>
          <a:ext cx="8791560" cy="35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9240"/>
                    <a:ext cx="879156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Paging Prototyp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he Remote Memory Pager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 the swap device driver approac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prototype was implemented on the DEC OSF/1 v3.2 O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sist of a swap device driver on the client machine &amp; a user-level memory server program runs on the serv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ffective remote paging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need to modify the 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s and Cons of the Remote Memory Pag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680" y="2203560"/>
          <a:ext cx="899172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2203560"/>
                    <a:ext cx="899172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iscuss efficient distribution &amp; exploitation of main memory in a clust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etwork RAM or Network Memor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ggregate main memory of the workstation in a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memory vs. remote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significant amount of resources unused in the cluster at any given tim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-90% of workstation will be idle in the evening &amp; late afterno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of workstations are completely unused, even at the busiest times of d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-85% of the Network RAM in a cluster is id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sist of volatile memor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till can offer good reliab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some form of redundancy, such as replication of data or pa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 an excellent cost-effective alternative to magnetic disk 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Memory File System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 the Network RAM as a filesystem cache, or directly as a faster-than-disk storage device for file I/O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Network Memory as a File Cach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filesystem use a portion of the workstation’s memory as a filesystem cach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wo probl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cached copies waste local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knowledge of the file’s exist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ral ways to improve the filesystem’s caching perform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iminate the multiple cached cop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a global network memory filesystem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perate caching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Memory File System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etwork RamDisk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’s I/O performanc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reliable network memory for directly storing temporary fi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Remote Memory P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easily implemented without modifying OS (Device Driv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accessed by any filesystem (NF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Ram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block device that unifies all the idle main memories in a NOW under a disk interf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haves like any normal disk, but implemented in main memory (RA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iff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ead of memory pages, send disk blocks to remote mem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k blocks are much smaller than memory pages (512 or 1024 bytes) and on many OSs variable in size (from 512 bytes to 8 Kbytes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pplications of Network RAM in Databas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ansaction-Based Syst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substitute the disk accesses with Network RAM ac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ucing the latency of a trans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ransaction during its execution makes a number of disk accesses to read its data, makes some designated calculations on that data, writes its results to the disk and, at the end, comm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ity &amp; recover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main areas where Network RAM can be used to boost a transactions-based system’s performa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the initial phase of a transaction when read requests from the disk are performe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ugh the use of global filesystem cac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ed up synchronous write operations to reliable storag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at transaction commit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action-based systems make many small synchronous writes to stable sto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pplications of Network RAM in Databas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ansaction-Based Syst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eps performed in a transaction-based system that uses Network 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ransaction commit time, the data are synchronously written to remote main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urrently, the same data are asynchronously sent to the dis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ata have been safely written to th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the modified transaction-based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ransaction commits after the second ste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icate the data in the main memories of 2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se of Network RAM can deliver up to 2 orders of magnitude higher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Emergence of high speed interconnection network added a new layer in memory hierarchy (Network RAM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oost the performance of application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memory p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system &amp; data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clus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Network RAM results in significant performance improv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rating Network RAM in existing systems is eas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ice driver, loadable filesystem, user-level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enefits of Network RAM will probably increase with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p between memory and disk continue to be wid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uture Tren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ility &amp; Filesystem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echnology tren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performance network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witched high performance local area network : ex) myri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latency communication and messaging protocols : ex) U-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ency of Active Message on ATM (2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) vs. magnetic disk latency (10m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performance workst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mories with low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RAM even more attracti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I/O processor performance ga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erformance improvement rate f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croprocessor:  50-100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 latency:  10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latency:  20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bandwidth:  45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Hierarchy Figures for a Typical Workstation Clust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1960" y="1957320"/>
          <a:ext cx="794556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957320"/>
                    <a:ext cx="794556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720" y="5091120"/>
            <a:ext cx="88167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typical NOW with 100 workst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network of 20 </a:t>
            </a:r>
            <a:r>
              <a:rPr b="0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 latency &amp; 15 MB/s bandwidth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ssues in Using Network RA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network RAM consists essentially of locating &amp; managing effectively unused memory resources in a workstation clust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s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up-to-date inform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bout unused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loit memory in a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ransparent wa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 that local users will not notice any performance degrad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 the cooperation of several different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on use of Network 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te memory pag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formance: between the local RAM and the dis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memory file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used to store temporary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 providing Network RAM with a filesystem abstra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memory D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used as a large DB cache and/or a fast non-volatile data buffer to store DB sensitive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64-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it address spa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avy memory us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ication’s working sets have increased dramaticall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phisticated GUI, multimedia, AI, VLSI design tools, DB and transaction processing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twork RA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quivalent of remote memory p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ache) – (main memory) – (network RAM) – (dis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ter than th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memory-intensive applications could benefit from Network R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ful for mobile or portable computers, where storage space is lim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nging the Memory Hierarch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706400"/>
          <a:ext cx="879156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06400"/>
                    <a:ext cx="87915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mplementation Alternativ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in idea of remote memory pag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memory server processes on workstations that are either idle or lightly loaded and have sufficient amount of unused physical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policy for the page manage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local pag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remote node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periodically asks the global resource man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 the pages equally among the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server lo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gotiation from server to client &amp; mig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data to server’s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8:02Z</dcterms:modified>
  <cp:revision>780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