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2A87D-E05B-4AAE-AAC2-5DE885D9B7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0428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A1686-F0C8-4500-BB44-590FFC4B9E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088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E790A-E5C0-4EEA-A370-BA874D697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668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688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668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688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0C7B2-C1BC-46BA-9E91-165DB93C39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FBE0F-AA0A-4AFD-84AE-BE856BA44F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3FA1B-1C40-4DD6-A010-45A175BC21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A0032-DBD9-4EE0-9821-6A58C99E66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8768B-67B3-4A40-9340-BB96AC376A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B769F-E648-4F65-9712-1C1D295EB5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E8A88-2B50-4ECA-9906-74DDF308C4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473AA-C92E-4C09-B6C1-DD90672675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BF623-A664-46DF-8E4E-FE1429C886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9088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FE9F7-F2B1-4153-8309-D8B49CA926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02F29-74B5-402D-BE31-AEEF30AFBB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00428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F4B3C-374D-4FAD-A172-F6BD639A58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9088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E5CF3-0837-4FD8-BB90-69D0A3A1B1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668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688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668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688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46621-4517-4E86-9325-01462EE65B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ED835-EA2E-4B5C-B80A-EE3C79F975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6D1F9-F602-4786-9EC3-AB9D0B5FC9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BCD3C-58EE-47AE-B656-3AC1A7350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ABEC3-AC17-46A2-92DD-DB31A2806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E4524-498F-4764-ADDE-2291D019DA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088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9C5C9-DD91-418A-96A1-3E731A6854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69A26-3565-44A7-874B-9359B3DFAE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spcBef>
                <a:spcPts val="7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3" marL="1600200" indent="-228600">
              <a:spcBef>
                <a:spcPts val="7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4" marL="2057400" indent="-228600">
              <a:spcBef>
                <a:spcPts val="7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380A-C56C-4A71-B295-3BD465D40C8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16440" y="6483240"/>
            <a:ext cx="1093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2945-31F0-4A68-AC9E-121EBF0447AD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90520" y="2013120"/>
            <a:ext cx="711360" cy="474480"/>
            <a:chOff x="290520" y="2013120"/>
            <a:chExt cx="711360" cy="474480"/>
          </a:xfrm>
        </p:grpSpPr>
        <p:sp>
          <p:nvSpPr>
            <p:cNvPr id="42" name=""/>
            <p:cNvSpPr/>
            <p:nvPr/>
          </p:nvSpPr>
          <p:spPr>
            <a:xfrm>
              <a:off x="290520" y="2013120"/>
              <a:ext cx="43740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3560" y="201312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14360" y="2435400"/>
            <a:ext cx="737640" cy="474480"/>
            <a:chOff x="414360" y="2435400"/>
            <a:chExt cx="737640" cy="474480"/>
          </a:xfrm>
        </p:grpSpPr>
        <p:sp>
          <p:nvSpPr>
            <p:cNvPr id="45" name=""/>
            <p:cNvSpPr/>
            <p:nvPr/>
          </p:nvSpPr>
          <p:spPr>
            <a:xfrm>
              <a:off x="414360" y="2435400"/>
              <a:ext cx="42156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3000" y="2435400"/>
              <a:ext cx="36900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0" y="23623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AE3D-FA90-4B08-ABCB-C930D2EE76DA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720" y="2224080"/>
            <a:ext cx="31680" cy="10526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400" y="2681280"/>
            <a:ext cx="8226720" cy="316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136224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High Performance Cluster Computing</a:t>
            </a:r>
            <a:br>
              <a:rPr sz="3600"/>
            </a:b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Architectures and Systems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01360" y="3428640"/>
            <a:ext cx="6604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ook Editor: Rajkumar Buyya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lides Prepared by: Hai J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573360" y="5757840"/>
          <a:ext cx="509760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3360" y="5757840"/>
                    <a:ext cx="50976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iccc" descr=""/>
          <p:cNvPicPr/>
          <p:nvPr/>
        </p:nvPicPr>
        <p:blipFill>
          <a:blip r:embed="rId3"/>
          <a:stretch/>
        </p:blipFill>
        <p:spPr>
          <a:xfrm>
            <a:off x="76320" y="49320"/>
            <a:ext cx="1523880" cy="1474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470760" y="5294160"/>
            <a:ext cx="51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Internet and Cluster Computing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vol1pic_large" descr=""/>
          <p:cNvPicPr/>
          <p:nvPr/>
        </p:nvPicPr>
        <p:blipFill>
          <a:blip r:embed="rId4"/>
          <a:stretch/>
        </p:blipFill>
        <p:spPr>
          <a:xfrm>
            <a:off x="457200" y="3200400"/>
            <a:ext cx="1096920" cy="1447920"/>
          </a:xfrm>
          <a:prstGeom prst="rect">
            <a:avLst/>
          </a:prstGeom>
          <a:ln w="0">
            <a:noFill/>
          </a:ln>
        </p:spPr>
      </p:pic>
      <p:pic>
        <p:nvPicPr>
          <p:cNvPr id="96" name="monash_logo" descr=""/>
          <p:cNvPicPr/>
          <p:nvPr/>
        </p:nvPicPr>
        <p:blipFill>
          <a:blip r:embed="rId5"/>
          <a:stretch/>
        </p:blipFill>
        <p:spPr>
          <a:xfrm>
            <a:off x="1600200" y="5797440"/>
            <a:ext cx="1725480" cy="468360"/>
          </a:xfrm>
          <a:prstGeom prst="rect">
            <a:avLst/>
          </a:prstGeom>
          <a:ln w="0">
            <a:noFill/>
          </a:ln>
        </p:spPr>
      </p:pic>
      <p:pic>
        <p:nvPicPr>
          <p:cNvPr id="97" name="ph_logo" descr=""/>
          <p:cNvPicPr/>
          <p:nvPr/>
        </p:nvPicPr>
        <p:blipFill>
          <a:blip r:embed="rId6"/>
          <a:stretch/>
        </p:blipFill>
        <p:spPr>
          <a:xfrm>
            <a:off x="264960" y="5627520"/>
            <a:ext cx="1143000" cy="6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pendability Concept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Faults, Errors, Failure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rror detection latenc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207080" indent="-3016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time between the first occurrence of the error an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moment when it is detec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207080" indent="-3016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longer, the most affected the internal state of the system may beco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ul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207080" indent="-3016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en an error has some phenomenological cau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207080" indent="-3016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nsien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59600" indent="-30168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-execution can compensate for a transient faul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207080" indent="-3016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man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59600" indent="-30168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re complex to hand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59600" indent="-30168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oftware faults (bug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4" marL="2112120" indent="-30168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ohrbug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4" marL="21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ugs are always there again when the program is re-execut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4" marL="2112120" indent="-30168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eisenbug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4" marL="21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in a re-execution, the timing will usually be slightly different,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bug does not happen aga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pendability Concept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ependability Attribut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800280" indent="-34308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219320" indent="-304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bability of that continuous correct ope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vailabilit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219320" indent="-304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measure of the probability that the system will be providing  good service at a given point in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TBF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219320" indent="-304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ean Time Between Failu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TT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219320" indent="-304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ean Time To Repair a failure,  &amp; bring the system back to correct serv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vailability can be expressed as MTBF/(MTBF+MTTR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pendability Concept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ependability Mean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way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ult preven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venting faults from occurr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complished through conservative design, formal proofs, extensive testing, et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ult toler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vent errors from becoming failu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approaches are complement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aster Toler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chniques aimed at handling a very particular type of faults, namely site failures caused by fire, floods, sabotages, et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ually implies having redundant hardware at a remote ci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Architecture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Share-Nothing versus Shared-Storage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e-nothing cluster mod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ach node has its own memory &amp; own storage resourc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ow nodes to access common devices or resources, as long as these resources are owned and managed by a single system at a ti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void the complexity of cache coherency schemes &amp; distributed lock mana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y eliminate single point of failure within the cluster stor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lable, because of the lack of contention &amp; overhea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veral strategies aimed at reducing bandwidth overhea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ed-Stor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 servers share the same storage resource with the consequent need for synchronization between disks accesses to keep data integr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tributed lock managers must be us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lability becomes compromis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hared-nothing Cluster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26" name="Figure_21" descr=""/>
          <p:cNvPicPr/>
          <p:nvPr/>
        </p:nvPicPr>
        <p:blipFill>
          <a:blip r:embed="rId1"/>
          <a:srcRect l="1188" t="0" r="0" b="1757"/>
          <a:stretch/>
        </p:blipFill>
        <p:spPr>
          <a:xfrm>
            <a:off x="762120" y="1600200"/>
            <a:ext cx="769608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Architecture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ctive/Standby versus Active/Activ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ctive/Standby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lled hot backu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imary server where the critical application ru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ary server (hot spar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rmally in standby m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 be a lower performance mach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ctive/Active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servers are active &amp; do not sit idle waiting for a fault to occur &amp; take o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ing bidirectional-failo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price to performance ratio decre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-Wa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ral active servers that back up one anoth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ctive/Standby Cluster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30" name="Figure_22" descr=""/>
          <p:cNvPicPr/>
          <p:nvPr/>
        </p:nvPicPr>
        <p:blipFill>
          <a:blip r:embed="rId1"/>
          <a:srcRect l="2401" t="603" r="1292" b="603"/>
          <a:stretch/>
        </p:blipFill>
        <p:spPr>
          <a:xfrm>
            <a:off x="1828800" y="1600200"/>
            <a:ext cx="5334120" cy="502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N-Way Cluster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32" name="Figure_23" descr=""/>
          <p:cNvPicPr/>
          <p:nvPr/>
        </p:nvPicPr>
        <p:blipFill>
          <a:blip r:embed="rId1"/>
          <a:srcRect l="3123" t="724" r="1561" b="0"/>
          <a:stretch/>
        </p:blipFill>
        <p:spPr>
          <a:xfrm>
            <a:off x="2362320" y="1486080"/>
            <a:ext cx="464796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Architecture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Interconnect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main kinds of interconnects – network, storage, monitor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tal for clust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twork interconnec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munication channels that provides the network connection between the client systems &amp; the clust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enerally Ethernet or fast-Etherne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vide the I/O connection between the cluster nodes &amp; disk storag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SI and Fiber Chann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SI is more popular, limit in length (SCSI extender technologie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C-AL permits fast connections - 100Mb/s - &amp; up to 10 K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nitor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ditional comm media used for monitoring purposes (heartbeats transfer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CR Lifekeep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e both the network &amp; storage interconnect for monitor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lso have an additional serial link between the servers for that purpos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Interconnec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36" name="Figure_24" descr=""/>
          <p:cNvPicPr/>
          <p:nvPr/>
        </p:nvPicPr>
        <p:blipFill>
          <a:blip r:embed="rId1"/>
          <a:srcRect l="0" t="0" r="0" b="1276"/>
          <a:stretch/>
        </p:blipFill>
        <p:spPr>
          <a:xfrm>
            <a:off x="1447920" y="1447920"/>
            <a:ext cx="6337080" cy="54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pendable Clustered Computing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hapter 4 b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J. Carreira and J. Gabriel Silva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5867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Introduction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wo Worlds Converge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Dependable Concept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uster Architecture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Detecting and Masking Fault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Recovering from Fault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 Practice of Dependable</a:t>
            </a:r>
            <a:br>
              <a:rPr sz="3000"/>
            </a:b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ustered Comput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348960" y="2286000"/>
            <a:ext cx="2785320" cy="3431160"/>
            <a:chOff x="6348960" y="2286000"/>
            <a:chExt cx="2785320" cy="3431160"/>
          </a:xfrm>
        </p:grpSpPr>
        <p:pic>
          <p:nvPicPr>
            <p:cNvPr id="101" name="vol1pic_large" descr=""/>
            <p:cNvPicPr/>
            <p:nvPr/>
          </p:nvPicPr>
          <p:blipFill>
            <a:blip r:embed="rId1"/>
            <a:stretch/>
          </p:blipFill>
          <p:spPr>
            <a:xfrm>
              <a:off x="6567480" y="2286000"/>
              <a:ext cx="23670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348960" y="5410080"/>
              <a:ext cx="278532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ahoma"/>
                </a:rPr>
                <a:t>http://www.buyya.com/cluster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Architecture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VIA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irtual Interface (VI) Architectur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n open industry specification promoted by Intel, Compaq, &amp; Microsof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im at defining the interface for high performance interconnection of servers and storage devices within a cluster (SAN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I proposes to standardize the network (SAN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efine a thin, fast interface that connects software applications directly to the networking hardware while retaining the security &amp; protection of the O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I-SA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ially optimized for high bandwidth &amp; low latency co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Architectures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Storage Area Network &amp; Fiber Channel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eliminate the bandwidth bottlenecks &amp; scalability limitations imposed by previous storage (mainly SCSI bus-based) architectu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SI is based on the concept of a single host transferring data to a single LUN (logical unit) in a serial mann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C-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merged as the high-speed, serial technology of choice for server-storage connectiv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most widely endorsed open standard for the SAN environ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 bandwidth &amp; scalability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ort multiple protocols (SCSI, IP) over a single physical conne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dular scala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st important advantages of the SAN approa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key to enabling infrastructure for long term growth &amp; manageabil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tecting and Masking Fault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dependable systems is built upon several layer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DM (Error Detection Mechanism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ified according to 2 important characteristic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rror cover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percentage of errors that are detec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tection latenc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time an error takes to be detec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iagnosis lay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llect as much info as possible about the location, source &amp; affected par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n diagnosis over the failed system to determine whether the fault is transient or perman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covery &amp; reconfigur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tecting and Masking Fault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Self-Testing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detect errors generated by permanent faul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ists of executing specific programs that exercise different parts of the system, &amp; validating the output to the expected known resul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very effective in detecting transient faul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Processor, Memory, and Buse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ity bits - primary memor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ity checking circuitry – system buses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DAC (error detection &amp; correction) chi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mon in workstation hardwa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ilt-in error detection mechanis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side of microprocesso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il to detect problem occurs at a higher level or affects data in subtle way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tecting and Masking Fault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Watchdog Hardware Timer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 a simple way of keeping track of proper process function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the timer is not reset before it expires, the process has probably failed in some wa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 an indication of possible process fail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verage is limi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a &amp; results are not check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plemented in SW or HW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Loosing the Software Watchdog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ftware watchdo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process that monitors other process(es) for erro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simplest) Watch its application until it eventually crashes, the only action it takes is to relaunch the applica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nitored process is instrumented to cooperate with the watchdo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nF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pical example of a SW watchdo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tecting and Masking Fault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Heartbeats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periodic notification sent by the application to the watchdog to assert its alivenes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sist of an application–initiated “I’m Alive” message, or a request-response scheme (watchdog requests the application to assert its aliveness through “Are you Alive?” message) &amp; wait for acknowledge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n coexist in the same syst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eless if OS crash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ustering solutions provide several alternate heartbeat path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CP-IP, RS-232, a shared SCSI bu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Idle notification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form the watchdog about periods when the application is idle, or it is not doing any useful work, then the watchdog can perform preventive actions (restarting application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oftware Rejuven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oftware gets older, the probability of faults is higher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Error notification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 application that is encountering errors which it can’t overcome can signal the problem to the watchdog &amp; request recovery ac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start may be enoug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tecting and Masking Faults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ssertions, Consistency Checking, and ABFT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stency check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ple fault detection technique that can be implemented both at the hardware and at the programming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ed by verifying that the intermediate or final results of some operation are reason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 the hardware level, built-in consistency checks for checking addresses, opcodes, and arithmetic oper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ge che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firm that a computed value is within a valid ran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gorithm-Based Fault Tolerance (ABF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fter executing an algorithm, the application runs a consistency check specific for that algorith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cksum for matrix oper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tend the matrices with additional column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overing from Fault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heckpointing and Rollback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ckpointin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ow a process to save its state at regular intervals during normal execution so that it can be restored later after a failure to reduce the amount of lost work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en  a fault occurs, the affected process can simply be restarted         from the last saved checkpoint (state) rather than from the beginn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ect long-running applications against transient faul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itable to recover applications from software erro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ckpointing classif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nsparency (data to include in the checkpoin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ckpoints can be transparently or automatically inserted at runtime (or by the compiler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ave large amounts of da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serted manually by the application programm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checkpointing interv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time interval between consecutive checkpoi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ritical for automatic checkpoint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overing from Fault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ransaction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group of operations which form a consistent transformation of stat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erations :- DB updates, messages, or external a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CID properti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micit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ither all or none of the actions should happen commit or ab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sistenc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ach transformation should see a correct picture of the state, even if concurrent transactions are updating the stat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tegr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transaction should be a correct state transform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ra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ce a transaction commit, all its effects must be preserved, even if there is a fail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overing from Fault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Failover and Failback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ilover proces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core of the cluster recovery mod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situation in which the failure of one node causes a switch to an alternative or backup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ould be totally automatic and transparent, without the need for administrator intervention or client manual reconne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quire a number of resources to be switched over to the new system (switch network identity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keover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d in fault-tolerant syste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ilt with multiple components running in lock-ste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ilba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back the applications/clients to the original server once it is repair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ould be automatic &amp; transpar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d efficiently for another purpose: maintena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wo different areas of computing with slightly different motivation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 performance (HP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 availability (H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e clustering model can provide both HA &amp; HP, and also manageability, scalability, &amp; affordability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accomplish the dream, cluster software technologies still have to evolve &amp; mat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Cluster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or man’s answer for the parallel high performance computing que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bserved in Gordon Bell priz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ypically homogeneous, tightly coupled, nodes trust each oth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pare with distributed syste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s number of h/w components rises, so does the probability of fail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Leslie Lamport) “ a distributed system is one in which the failure of a computer you didn’t even know existed can render your own computer unusable”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creasing probability of fault occurrence for long-running applica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Practice of Dependable Clustered Computing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MS Cluster Server</a:t>
            </a:r>
            <a:endParaRPr b="0" lang="en-US" sz="1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lfpack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vide HA over legacy windows applications, as well as provide tools &amp; mechanisms to create cluster-aware applic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herited much of the experience of Tandem in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2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andem provided the Nonstop SW &amp; the ServerNet from Himalaya Server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 phased approac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ase I :- support 2 node clusters &amp; failover of one node to anot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ase II :- a multinode share-nothing architecture scalable up to 16 no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t lock-step/fault-tolerant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t support the “moving” of running applic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t 99.99999 % available (max of 3-4 sec of downtime per year), but 20 - 30 sec downtime per ye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tructured approach to the cluster paradigm using a set of abstraction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source :- a program or device managed by a clus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source Group :- a collection of related resource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uster :- a collection of nodes, resources, and group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ic building block of the archite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st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2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ffline (exists but is not offering service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2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nline (exists and offers service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2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iled (not able to offer service)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Practice of Dependable Clustered Computing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NCR LifeKeeper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1980 NCR began delivering failover products to the telecomm industr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ifeKeeper in the Unix world in beginning of 90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cently ported to Windows N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ple fault detection mechanism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rtbeat via SCSI, LAN, &amp; RS 232, event monitoring, &amp; Log monito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3 different configura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tive/active, active/standby, &amp; N-way (with N=3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covery action SW kits for core system components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vide a single point of administration &amp; remote administration capabiliti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Practice of Dependable Clustered Computing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Oracle Failsafe and Parallel Server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acle DB options for clustered syste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archetype of a cluster solution specially designed for DB syste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acle Failsaf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ased on MSC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pport a max of 2 nodes (due to limitations of MSCS phase I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argeted for workgroup and department serv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acle Parallel Serv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pport a single DB running across multiple nodes in a clust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t require MSC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pport more than 2 nod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argeted for enterprise level systems, seeking not only HA but also scalabili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pport Digital Clusters for Windows NT &amp; IBM’s “Phoenix” technolog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acle serv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pport hot-backups, replication, &amp; mirrored solu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Other Reference Book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64" name="cluster4ha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3163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ailover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In case of failure of a component in the primary system, the critical applications can be transferred to the secondary server, thus avoiding downtime and guaranteeing application’s availability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Inevitably imply a temporary degradation of the service, but without total permanent los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ault-tolerant servers, pioneered by Tandem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wo Worlds Converg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Only fault tolerance can enable effective parallel computing by allowing application continuity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Parallelism enables high-availability by providing redundancy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pendable Parallel Computing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Dependability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ose as an issue as soon as clusters started to be used by HP commun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wo main reasons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 systems scale up to hundreds of nodes, the likelihood of a node failure increases proportionally with number of n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used not only by permanent faults (permanent damage), but mainly by transient ones (due to heating, electromagnetic interference, marginal design, transient SW faults, and power supply disturbance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ose faults that statistically don’t cause node failures, but have other insidious effec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effect of faults on application running in parallel syste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large percentage of faults do not cause nodes to crash, system panics, core dumps, or application to ha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many cases, everything goes apparently fine, but in the end, parallel application generate incorrect resul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pendable Parallel Computing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xample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CI Red : 9000 Intel Pentium Pro (a 263 Gbytes memory machin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MTBF : 10 hours for permanent faults, 1-2 hours for transient faults (a node’s MTBF is 10 years)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NL (MPP, not cluste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MTBF is 20 hours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negie Mellon University (400 nod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MTBF is 14 hours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ission/Business Critical Computing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e demand for HA applications increase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ectronic commerce, WWW, data warehouse, OLAP, et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cost of outage is substanti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Development of dependable computing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ld-backu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e of the first protection mechanism for critical applic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offline backu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t-backu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ect data, not just at a certain time of the day, but on a continuous basis using a mirrored storage system where all data is replica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ID were introduced to protect data integr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dvanced H/W redundancy system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dundancy at all system level to eliminate single point of fail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ult tolerant, 99.999 % availability (5 mins downtime per yea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ission/Business Critical Computing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Combine highly reliable &amp; highly scalable computing solutions with open &amp; affordable component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 be done with clust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ability to scale to meet the demands of service growth became a require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 performance joined high-availability as an additional requirement for mission/business critical syste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Clusters intrinsically have the ability to provide HP &amp; scalability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 availability scalable clust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oday’s mission/business critical clusters as a combination of the following capabilitie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vailability: one system to failover to another syst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lability: increase the number of nodes to handle load increa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formance: perform workload distribu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nageability: manage a single syst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s a require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usterwar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i Jin</dc:creator>
  <dc:description/>
  <dc:language>en-US</dc:language>
  <cp:lastModifiedBy>Rajkumar Buyya</cp:lastModifiedBy>
  <dcterms:modified xsi:type="dcterms:W3CDTF">2001-12-31T06:54:24Z</dcterms:modified>
  <cp:revision>895</cp:revision>
  <dc:subject/>
  <dc:title>HPCC - Chapter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npac.syr.edu/projects/pcrc/HPJava/beijing.html</vt:lpwstr>
  </property>
  <property fmtid="{D5CDD505-2E9C-101B-9397-08002B2CF9AE}" pid="9" name="LinkColor">
    <vt:r8>16711782</vt:r8>
  </property>
  <property fmtid="{D5CDD505-2E9C-101B-9397-08002B2CF9AE}" pid="10" name="MailAddress">
    <vt:lpwstr>dbc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dbc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