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779640" y="-36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779640" y="942768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AE62B6-E216-44BE-B163-4115BFBEFED3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배경설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475B-87FA-4A12-AAF2-CA6C57A53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9320" y="423900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2973-A7FA-4F13-A8AF-5F5CB5453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3F18-6FFD-4B04-A961-95945BAC8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80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028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932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80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028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9232-E5B7-4D79-9684-A993356D5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171EB-1CBE-4126-9DD7-CDA8D914F4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026F-FCB3-4291-9410-DDD5EABC39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6909B-198A-4AA8-9D1E-7D64F8CA99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407E-7E7B-4FB7-9D6F-3F70092030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566C1-A653-409C-8057-5DBC03929D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D0ED-ABE7-4CDA-9517-0C3F3FCF55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BC7D-E287-401F-9F03-F0CFEF419A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86C9-612F-4437-8478-6CE954AA5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16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D3CD-B92D-4D46-876E-EAD34776AB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85C7-B49F-46E2-94CB-7A0CB189F5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9320" y="423900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3496-FA1F-42C8-8354-AE81177AAB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16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7A06-A9EB-429A-9DA3-0E46DB40E8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80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028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932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80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028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B646D-B6CF-4B63-92C0-9F95D8B1D4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B863-98B7-45F2-890E-5BDD02E6A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5A0D-B9EE-4FEC-97CD-0BC04C794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A0FD-91F2-4641-9B8F-0A7B74549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DC27-A959-4739-8142-7637F0F28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6E09-EEE9-474D-A179-19B745076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5175-F258-48A2-81C4-DA5716D74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CA13-E526-44A3-A624-78FB72E9E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C3F0-C793-4971-AB06-B8D80D40602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AFA3-FE60-4A6F-A01F-7503F0051E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C49B-AA22-433C-8D46-608BC0524D9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104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omain Nam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rm the basis of many balancing metho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pping Fully Qualified Domain Name (FQDN) to IP addr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bination of both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ost name and the domain 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reate a uniquely identifiable name for a system on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omain Name System (DN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tandard translation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pping names to address and vice ver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p multiple hosts to a single host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 most computer are referenced by their FQDN and not their direct IP addr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S  server becomes a crucial aid to the balancing device system to help determine load distrib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Wire-speed Process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bility to perform network traffic processing and redirection at the full speed of the incoming packets to prevent any traffic bottlenecks at the network devic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perating system may be limited in this capacit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is can result in slower response or an inability to accept new connections at individual nodes in a cluster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ode Operating System Limitation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me operating systems have limitation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peed at which they can process pack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umber of connections they can sup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ype of traffic they can ac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arge number of interrupts as new packets arriv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is affects the cluster in much the same way as for wire-speed process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Balancing Device Limitation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ll balancing devices have practical limitations incurred by memory and processing spe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alancing methods which work well in small clusters may not be scaleable to large numbers of nod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tables of information on incoming connections and node statu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 limit the size of the cluster and the traffic processing 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ssion- and nonsession-based Traffic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ssion-based  traffic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IP packet with TCP_SYN and TCP_FIN messages as the start and end of a sess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all traffic between the source and destination to a specific node in the clu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nsession-based traffic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not be completely accounted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d a patchwork system for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ing track of incoming datagram from a 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ablishing a time limit for a ‘session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interval-based ‘UDP session’ managem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pplication Dependenci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me applications require that once a source computer has accessed a particular node, they continue to connect to that same node every time in the futur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inuous service in shared nothing clu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n be fixed by changing the application code to build a more cluster-aware applic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not always poss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 single function that select the node within a cluster to send a new request to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ome of these methods can be used by themselv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Used in conjunction with another simple or advanced method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Weight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ovides a simple way of conferring load onto the nodes according to the priority value or weight of the nod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fferent weights to the nodes of different capaciti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Randomization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ssigns each node with a value generated by a pseudorandom algorith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orks good in identical node environmen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ound-Robi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signs the next incoming request to the next node in the list and rotates through the list continuously for further reques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monly used by itself in D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NS servers don’t keep track of server lo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caching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fective where all the nodes in the cluster are identical in capacity and performan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knowledge of nodes, address cach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as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similar to the simple weighting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nef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ckets from the same source address will always get assigned to the same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Least Connection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s track of all currently active connections assigned to each node in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igns the next new incoming connection request to the node which currently has the least conn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 from actual amount of proc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ume more system resource than oth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ts a maximum limit on the number of connections assigned to each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ad Balancing Over Network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p 14 by: R. Shaw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7480" y="1947960"/>
            <a:ext cx="4933800" cy="46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mon Erro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actical Implementat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02760" y="2209680"/>
            <a:ext cx="2785320" cy="3431160"/>
            <a:chOff x="5702760" y="2209680"/>
            <a:chExt cx="2785320" cy="3431160"/>
          </a:xfrm>
        </p:grpSpPr>
        <p:pic>
          <p:nvPicPr>
            <p:cNvPr id="108" name="vol1pic_large" descr=""/>
            <p:cNvPicPr/>
            <p:nvPr/>
          </p:nvPicPr>
          <p:blipFill>
            <a:blip r:embed="rId1"/>
            <a:stretch/>
          </p:blipFill>
          <p:spPr>
            <a:xfrm>
              <a:off x="5921280" y="220968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702760" y="533376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Minimum Miss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Keeps long-term track of all incoming requests assignments to the nod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ssign the next incoming request to the nodes which has processed the least number of incoming request in its histor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ifference with Least Connect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keeps track of the number of current and past conne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astest Respons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Keeps track of the network response time between the node and itself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signs the next incoming connection request to the node with the fastest respon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quires active monitoring of the individual nod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ing ICMP packets with the ‘ping’ comm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rietary mechanism based upon UDP pa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ke little sense except heavy load dow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ful in different network segm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rimary optimization vector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etwork traffic optimiz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air load distribu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etwork route optimiz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onse latency minimiz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pplication-specific performa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dministrative or network management optimiz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imary Optimization Vectors of Advanced Balancing Metho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63440" y="1550880"/>
          <a:ext cx="879156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1550880"/>
                    <a:ext cx="879156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Use a combination of the simple systems described earlier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etwork Traffic-based Balanc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quires active monitoring of incoming traffic from different sources and distributing them accordingly to the nod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cus on predicting the volume of incoming traffic from a source on the network based upon past histor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ased on a simple weighting func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ode Traffic-based Balanc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verse of the network traffic balancing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d Least Connectio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tact software agent on the no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onitoring of the status of the network buff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ode Load-based balanc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ftware ag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PU or system load in UNIX syste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ious system load in Windows NT syste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Load-balancing Domain Name Resolu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volves the Round-Robin method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ad-balancing occurs within the DNS server itself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ependent of the application that generates the traffic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n create an effective load-balancing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adding a few algorithms to a standard DNS server ap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mple &amp; most popular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est used in a cluster of nodes with identical application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opology-based Redire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direct traffic to the cluster nearest to the user’s computer in terms of network topolog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 count (static) and network latency (dynami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p count is the number of routers the packets have to traverse to reach the destin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work latency is the amount of time taken for a network packet to travel between the client and the cluster balancing devi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test respo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op level node in a particular dom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fective in several clusters deployed across a net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ing Triangulation in Topology-based Redire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57320" y="1522440"/>
          <a:ext cx="522936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7320" y="1522440"/>
                    <a:ext cx="522936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olicy-based Redire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ication of a mathematical or functional set of rules that define the balancing behavior of the clus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andwidth Allocation Polic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er priority on network administration &amp; security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dministrative Polic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to the needs of each message in network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urity Polic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er access right for access the re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oad balancing over a network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of devices external to the processing nodes in a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te workload or network traffic load across the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des may be interconnected among themselv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st be connected directly or indirectly to the balancing de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ocessing nod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various status inform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rent processor l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pplication system l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 of active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vailability of network protocol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specific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pplication-specific Redirection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ovides load-balancing features dependent upon the type application or resource the client trying to acces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upport for application level of sess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atabase &amp; Web load-balanc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re are four common error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verflo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nderflo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outing erro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uced network erro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at can be destabilize efficient network cluster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verflow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cur when too much network traffic to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cur at the balancing device or at individual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t packets or throttling of packets intended for a destination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s of data and proces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balancing de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ly much greater than that of individual cluster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 it possible to be overflo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 in throttling or deleting some data streams to the nodes (leaving an adequate level of traffic to the no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CP conn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 is an idle timeout clock for receiving an acknowled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an overflow situation, the acknowledge can’t be send 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ries from the client to deliver the same packet again until the timeout limits or connection droppe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nderflow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blem within the cluster itsel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one node is not getting enough traffic as compared to the other member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ode is underutilized or starved while others are getting loaded d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cating an inefficient distribution of traff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typically a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algorithm itself  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improper use of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 of Non symmetric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nodes in the cluster are not identical in power and one or more member nodes have far more computing resources than 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6000" y="1576440"/>
            <a:ext cx="84963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Routing Error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t occu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tween a balancing device and the cluster n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tween the source client and the cluster no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ypically, it occurs from misconfiguration or a disconnected link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duced Network Erro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rrors generated by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rmal use of the networ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an incorrect or unstable network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not really err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results from delays in the propagation of packets along a network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o much traffic can result in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bottleneck in the network route in network route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ear as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se errors are temporary, but can last for hou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particular, the Fastest Response method and Topology-based redirection are the most affected by these err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actical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 number of  vendors have different approached, but arrived with similar solutio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re is no commonly accepted standar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ost vendor implementations are proprietary and work with only other products from the same vend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in Vendor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280" y="2000160"/>
          <a:ext cx="879156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00160"/>
                    <a:ext cx="879156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in Vendor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2247840"/>
          <a:ext cx="879156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47840"/>
                    <a:ext cx="879156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Network Traffic Implementation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Independent of the software application using the network and transport layer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P balanc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CP session load-balancing on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UDP sess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Balancing devic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monitors the status of all the processing nod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ctates where to direct the next processing job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n be a single unit or a group of units working in parallel or under a tree hierarch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 one or more algorithms or methods together with static or dynamic setting to decide which node gets the next incoming connection reques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Network Traffic Implementation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HolenTech HyperFlow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ad balancing at the IP network lev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pendent of the TCP and UD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be functionally useful or efficient as balancing TCP ses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eighting &amp; round-robin in initial load balanc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wo level hashing as the basic method for mapping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-to-one, many-source-to-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balancing dev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Network Traffic Implementation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isco LocalDirecto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N-based system originally based on N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IP (Channel interface processor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80Mbps, 700,000 TCP connections, 8,000 IP map in 1997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400Mbps, 1,000,000 TCP connections, 64,000 IP map no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isco DistributedDirecto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AN-based system based on D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pology-based redire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DP-based Director Response Protocol (DRP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Network Traffic Implementation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sonate Central Dispat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imary scheduler communicates with the agent to determine server and network traffic lo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sonate Global Dispat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pology-based Redirection server that works with RC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lteon Networks ACEdirecto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0 or 100 Mbps Ethernet switches with load balanc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5 Labs BIG/ip and 3D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ad balancing, DNS, firewal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b-specific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ydraWEB Load Manag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b content level cluster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rtions of URL may be distributed across several nodes for asymmetric balanc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gents on nodes to monit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ND Network Web Server Director and Director Pro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N-based cluster WSN, WSN Pr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SN-DS (Distributed Sites) for distributed environm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ynamically reassigns nodes from other clusters to become part of the loaded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ther Application Specific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un Microsystems StorEdg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pansion of RAID to two-node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mote mirroring (replica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-bandwidth direct connection between the two end-poi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 Point FireWall-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access security monitors or firewal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 Point VPN-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P-gateway providing certificate-based authent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 Point FloodGate-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ndwidth can be assignment via domain names, IP address, or user inform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eparate balancing devi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a network load balancing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itor traffic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ecute a method of distributing traffic to a cluster of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alancing method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mplemented independently, but very simila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NS as a crucial part in many load-balancing metho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twork layer (IP) &amp; transport layer (TCP, UDP) implement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stead of QoS, best-guess and proprietary metho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wo ways of network load balanc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work point of vie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d balancing system monitors incoming data to a cluster and distributes traffic based upon network protocol and traffic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application point of vie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er level in the network communications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possible to build an application-specific balancing system on top of an existing network-specific balancing system or combine the two into a more complex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mplement of load balanc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rough the employment of several basic method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combined to create more advanced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ethod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n be looked upon as mathematical functions that work on statistics of network traffic and node status to determine an appropriate target for receiving new lo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of these functions are influenced by several facto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behavior and role of the de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How new traffic is to be distributed across the nodes of the cluster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actors Affecting Balancing Method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imple Balancing Method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dvanced Balancing Method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Define the capabilities and limits of the balancing devic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Influences of the environment that the device works in and have to support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most basic factor: TCP/IP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ck of a separate session lay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ck of appropriate QoS guarante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, ICMP, TCP, UD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etwork Address Translation (NAT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verting internal or private network address and routing information into external or public addresses and rout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ue to the limited address space of the current version of the IPV4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r security reason, NAT as firewal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y balancing device required to perform network address translation must keep separate tables for internal and external representations of computer or host inform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nnot be used with VPN (Virtual Private Networks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6:12Z</dcterms:modified>
  <cp:revision>792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