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15.png" ContentType="image/png"/>
  <Override PartName="/ppt/media/image32.jpeg" ContentType="image/jpeg"/>
  <Override PartName="/ppt/media/image7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088F-5164-443E-828D-B85E419AB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C6C8-EDAF-4921-9549-713CF238F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8926-E5AD-434F-874D-EBE370630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A850-68B1-46A0-AEC6-0D9EDA1AD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2EDC-F617-4236-893C-C77CD202B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85EE-B1AA-4A7E-B556-7C7D5AB56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1A9F-1840-442D-B7A5-C8B4EF63E4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F83C-0A5D-44BF-9AB2-37131E6FE8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80FF-41F7-44A1-8784-AB5BF94893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AF62-FFC8-44A0-8497-520D3986ED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B08B-E6DC-49DA-BB58-8B841492D0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01AF-C10F-4474-A3A1-005E5F171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141F-7779-4468-A6AB-95388B94E6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733D-A073-4DB8-9D1B-2C5DCAB254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AFA3-F8ED-4A21-8C55-D59A76F5D2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E9C6-B3F0-4A4B-9002-ED317F724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2BE9-B2A7-4363-9E28-45B1778D2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0878-F331-49A2-9B56-C2DDAE061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403F-BA97-4071-ADD3-DB30CA6B1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47B3-9B76-400A-9353-B6C21EA33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F2A-B82D-435E-A4E6-DBC6315FF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63B1-91B9-46FF-9AFE-C979324D7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E60E-D2DF-4952-B8C7-5ECF4A085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9717-DBEE-47CD-B6E7-E089848A1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AB4B-B1D5-474F-8C4F-72775F8CDDD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180-FB6B-4BB7-8690-1097A2408D3C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1C17-5C06-4C8D-8608-1CF5FB59426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44600" y="2217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he Grid Impac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66360" y="1704960"/>
            <a:ext cx="769932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The global computational grid is expected to drive the economy of the 21st century similar to the electric power grid that drove the economy of the 20th century”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ts of a Metacompu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metacomputer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irtual computer architectu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s constituent components are individually not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ey concept is how these components work together as a unified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s an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n array of processors with some dynamic memory associated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s and Communications Soft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hysical connections and some communications software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rtual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figure, manage, and maintain the metacomputing environment like an O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Data Access and Retrie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teracting between supercomputers across national or international networks (a major challenge for metacomputing environment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Evolution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arly exampl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FN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Running on any workstation with more than 4MB of memory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-WA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 means of unifying the resource of large supercomputing center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e RSA algorithm - combining prime numb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ctoring is computationally very expensi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y Bellcore Labs. ,Syracus University and Co-Operating Systems in 1995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project of factoring via the Web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parallel factoring algorithm (RSA130) which require no communications after the initial setup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a numerical technique NFS (Number Field Sieve) factoring method using computational Web serv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onsortium produced a Web interface to N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rver-side CGI scripts (in Perl) invoked by contributors support services for the sieving step of the factoriz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on award in TeraFlop challenge at SC95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ctors for suc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FS implementation allowed even single workstations with 4MB to perform useful work using small bounds and a small sie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anonymous registration – users could contribute their hardware resources to the sieving effort without revealing their identity to anyone other than the local server administr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sortium of sites was recruited to run the CGI script package locally, forming a hierarchical network of RSA130 Web servers which reduced the potential administrator bottleneck and allowed sieving to proceed around the clock with minimal human interv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formation Wide Area Year (I-WAY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erimental high performance network linking many high performance computers &amp; advanced visualization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ived in early 1995 with the idea not to build a network, but to integrate existing high-bandwidth networks with telephone syste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17 different U.S. sites by 10 network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d on ATM techn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POP (Point-of-Presence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s to I-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work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ccessible via the Internet, operated within its site’s firewall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d an ATM interfac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-POP provide uniform authentication, resource reservation, process creation, and communication functions across I-WAY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Sof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ndard S/W environment of I-P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overcome issues such as heterogeneity, scalability, performance, and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mputational Resource Broker (CRB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user-to-CRB and CRB-to-local-schedul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central scheduler and multiple local scheduler daemons (one per I-P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al scheduler maintain queues of jobs and tables representing the state of local machines, allocating jobs to machine and maintaining state information on the AFS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proxy, performing subsequent authentication to I-WAY resource on a user’s beha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beros authentication and encry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shared file repository for software and scheduler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rsion of remote copy (ircp) to move data between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xu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communication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utomatic configuration mechanism to choose appropriate configuration depending on the technology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pplication drive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computer – Super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Resource –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Reality-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supercomputer – Multi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deo, Web, GII-Win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 of FAFNER and I-WA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AFN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erunner of projects such as WebFl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k on any platform where a Web server could be r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ilored to a particular factoring application that was in itself trivially parallel and was not dependent on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pendent on quite a lot of human intervention to distribute and collect sieving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of a number of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ry client had to compile, link, and run a FAFNER daem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tasks were unable to communicate with one anoth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-WAY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-soft was very influential on the approach used to design components employed in the Globus toolk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fy the resource at supercomputing si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pe with a range of diverse high performance applications that typically need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mited by the design of components that made up I-POP and I-Sof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umber of inappropriate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-POP is a single-points-of-fail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neral Principle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nterfere with the existing site administration or autonom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mpromise existing security of users or remote si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need to replace existing OS, network protocols, o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remote sites to join or leave the environment whenever they cho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mandate the programming paradigms, languages, tools, or libraries that a user w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reliable and fault tolerance infrastructure with no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support for heterogeneous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tandards, and existing technologies, and is able to interact with legacy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ppropriate synchronization and component program link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: Harnessing Informal Super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ter 7: M. Baker and G. Fox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 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Evolution of Meta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Design Objectives and Iss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erging Metacomputing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mmary and Conclus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819520"/>
            <a:ext cx="2785320" cy="3431160"/>
            <a:chOff x="6348960" y="2819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819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943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derlying Hardware and Software Infrastructure 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tacomputing environment must be able to operate on top of the whole spectrum of current and emerging HW &amp; SW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deal environment will provide access to the available resources in a seamless manner such that physical discontinuities such as difference between platforms, network protocols, and administrative boundaries become completely transpa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ay that each metacomputing environment divides itself up to cope with a potentially global ex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s to support protocols that are used for bulk-data transport, streaming data, group communications, and those used by distribut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mechanism for registering and obtaining information about the metacomputer structure, resources, services, and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cesses, threads, and concurrency contr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data and maintain consistency when multiple processes or threads have concurrent access to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nd c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is an entity that we wish to measure accurate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s have been developed that depends on clock synchroniz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for maintaining the consistency of distributed data or as a part of the Kerberos authentication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name space across the complex metacomput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.500, DNS naming sche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file systems and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global name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a range of file I/O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little or no program mod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means that enable performance optimization to be implem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and authoriz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: prevent disclosure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: prevent tampering with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: verify ident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ability: knowing whom to bl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tly and effectively schedule the applications that need to utilize the available resource in the metacomput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tools and paradig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interface, APIs, and conversion tools so as to provide a rich development environ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 range of programming paradig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uite of numerical and other commonly used libraries should be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and administrative 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uitive and easy to use interface to the services and resources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ily port on to a range of commonly used platforms, or use technologies that enable it to be platform neut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Proj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lobus  (from Argonne National Laborator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toolkit on a set of existing components to build metacomputing environ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egion  (from the University of Virginia)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high-level unified object model out of new and existing components to build a meta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ebflow  (from Syracuse Universit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Web-based metacomputing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omputational gr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ardware and software infrastructure to provide dependable, consistent, and pervasive access to high-end computational capabilities, despite the geographical distribution of both resources and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layered architectur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global services are built upon essential low-level core local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lobus Metacomputing Toolkit (GM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entral element of the Globus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the basic services and capabilities required to construct a computational gr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a set of components that implement basic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a bag of serv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possible when the services are distinct and have well-defined interfaces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GMT consists of the following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s allocation and process management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cast and multicast communications services (Nex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uthentication and related security services (GS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access to structure and state information (M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ing of health and status of system components (HB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access to data via sequential and parallel interfaces (GAS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truction, caching, and location of executables (G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obvious administrative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multimethod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application a single relatively low-level communication API to support a wide range of high-level communication protocol characte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us Metacomputing Directory Service (MD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static and dynamic information about the status of Globus system compon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ightweight Directory Access Protocol (LDAP) server to store metacomputing-specific objec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 information pertaining to the potential computing resource, their specifications, and their current avai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cesses, threads, and concurrency contro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t process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 API can be used to construct communication primitive between 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currency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ime and clock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particular time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aming servic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LDAP, DNS and X.5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curity and authorizatio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ic Security Service API (GSI) using an implementation of Secure Sockets Layer and X509 certificate as authentication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RSA encryption algorithm and associated public and private 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rom CASA project, one of several U.S. Gigabit testbeds around 1989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etacomput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dynamic environment that has some informal pool of nodes that can join or leave the environment whenever they desi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odes refer to independent machin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arallel computer (IBM SP2) can be viewed as a “metacomputer in a box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SMP parallel computer (Tera MTA or SUN E10000) cann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nodes in an SMP are not 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Catlett &amp; Smar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use of powerful computing resources transparently available to the user via a networked environment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tworked virtual super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ps to realize a meta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ntegration of individual SW &amp; HW resources into a combined networked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mplementation of middleware to provide a transparent view of the resources avail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development &amp; optimization of distributed applications to take advantage of the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stributed file systems and cach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Access to Secondary Storage (GA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global name space via UR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asic access to remote files via standard I/O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cache is used to address bandwidth management issues associated with repeated access to remote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mple locking protocol for local concurrency control, not implement a wide-area cache coherency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 (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istributed implementation of MPI-IO, parallel I/O A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Executable Management (G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loading and executing a remote file through GRAM using GASS caching ca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tection of a fault is a necessary prerequisite to fault recovery and fault toler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rtbeat monitor (HBM) as fault detection ser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xus communication library support for fault dete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us Resource Allocation Manager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jobs to run remotely and provide an API for submitting, monitoring, and terminating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local component for resource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M is responsible 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sing and processing the Resource Specific Language (RSL) specifications that outline job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ing remote monitoring and managing of jobs already cre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ing MDS with information regarding the availability of the resource it man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ogramming tools and paradig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MPI, Java, Compositional C++, Simple RPC, Per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and administrative GU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 Web and command line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ailable on most version of UNIX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object-based meta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rganized by classes and metaclass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very thing is an objec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manage their in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s can define their own cla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e obj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re objec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and Metaclasses, Host objects, Vault objects, Binding Ag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lementation Objects and Caches, Context objects and Context spa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4735440" y="316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face Definition Language (IDL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et of methods of an object describes its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state of Legion ob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: run as a process that is accept function invocation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ert: the object which resides on some stable storage (OP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ed nam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s refer to objects using human-readable strings, called context nam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ext objects map context names to LOIDs which are location-independent identifier that include an RSA public ke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OID is mapped to an LO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putational extension of the Web mode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ct as a framework for the wide-area distributed computing and metacomp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ain goa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d a seamless framework for publishing and reusing computational modules on the We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 Java-based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backend tier is implemented using the Globus toolkit 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DS, GRAM, GA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high level, visual user interface and job broker for Globu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Management Infrastructure - by three servel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s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e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URL addr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ffer dynamic information about their services and current st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municate with each other via socket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Functionality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28600" y="1536840"/>
          <a:ext cx="8686800" cy="52448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2514600"/>
                <a:gridCol w="220968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ign 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lob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Webf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dmin. Hierar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.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xus – Low-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MPS – Socket-bas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ierarchical – Sockets+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r/Reg.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a Binding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/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aming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/x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ext Manger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lesystems &amp; C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+ROM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ustom Legion file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SI (RSA+X.509 cer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-based with 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ault Tole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eart-beat mon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available y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+RSL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st object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g. Paradig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ny and var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L, BFS+wra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ser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pplet-based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 and 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merging Metacomputing Environm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Java and the Web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communications infrastru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has revolutionized the shape and characteristics of the software environments for heterogeneous distributed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the developers no longer have to focus on aspects such as portability and heterogene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RB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om a relatively slow start, the development of metacomputers is accelerating fast with the advent of these new and emerging technolog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framework of a metacomputing environment must be adaptable, malleable, and extensible, whatever technology and fashions become influenti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y Do We Need Metacomputing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ur computational needs are infinite, whereas our financial resources are finite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ll always want more &amp; more powerful comput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&amp; utilize the potentially hundreds of thousands of computers  that are interconnected in some unified w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seamless access to remote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Impact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acomputing is an infrastructure that can bond and unify globally remote and diverse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 some stage in the future, our computing needs will be satisfied in same pervasive and ubiquitous manner that we use the electricity power gri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Inform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26" name="F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494080" cy="3657600"/>
          </a:xfrm>
          <a:prstGeom prst="rect">
            <a:avLst/>
          </a:prstGeom>
          <a:ln w="0">
            <a:noFill/>
          </a:ln>
        </p:spPr>
      </p:pic>
      <p:pic>
        <p:nvPicPr>
          <p:cNvPr id="1227" name="g2" descr=""/>
          <p:cNvPicPr/>
          <p:nvPr/>
        </p:nvPicPr>
        <p:blipFill>
          <a:blip r:embed="rId2"/>
          <a:stretch/>
        </p:blipFill>
        <p:spPr>
          <a:xfrm>
            <a:off x="3375000" y="2209680"/>
            <a:ext cx="2416320" cy="3657600"/>
          </a:xfrm>
          <a:prstGeom prst="rect">
            <a:avLst/>
          </a:prstGeom>
          <a:ln w="0">
            <a:noFill/>
          </a:ln>
        </p:spPr>
      </p:pic>
      <p:pic>
        <p:nvPicPr>
          <p:cNvPr id="1228" name="cc" descr=""/>
          <p:cNvPicPr/>
          <p:nvPr/>
        </p:nvPicPr>
        <p:blipFill>
          <a:blip r:embed="rId3"/>
          <a:stretch/>
        </p:blipFill>
        <p:spPr>
          <a:xfrm>
            <a:off x="6019920" y="2209680"/>
            <a:ext cx="2765160" cy="358164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3417120" y="617220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ridcomputi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Metacomputer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putational Gri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quivalent to metacomputing environ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cribe a universal source of computing pow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ans to provide pervasive access to advanced computational resources, databases, sensors, and peop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og to electricity gri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encompa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amless access to high performance resour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meter studies (embarrassingly parallel ap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linkage of scientific instruments, analysis system, archival storage, and visualization (4-way metacomput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 complex linkage of N distributed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ustomap98" descr="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owards Grid Computing…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7680" y="4838760"/>
            <a:ext cx="449280" cy="350280"/>
            <a:chOff x="517680" y="4838760"/>
            <a:chExt cx="449280" cy="350280"/>
          </a:xfrm>
        </p:grpSpPr>
        <p:sp>
          <p:nvSpPr>
            <p:cNvPr id="112" name=""/>
            <p:cNvSpPr/>
            <p:nvPr/>
          </p:nvSpPr>
          <p:spPr>
            <a:xfrm>
              <a:off x="517680" y="509328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440" y="483876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920" y="485856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convex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593640" cy="963720"/>
          </a:xfrm>
          <a:prstGeom prst="rect">
            <a:avLst/>
          </a:prstGeom>
          <a:ln w="0">
            <a:noFill/>
          </a:ln>
        </p:spPr>
      </p:pic>
      <p:pic>
        <p:nvPicPr>
          <p:cNvPr id="116" name="OriginRack" descr=""/>
          <p:cNvPicPr/>
          <p:nvPr/>
        </p:nvPicPr>
        <p:blipFill>
          <a:blip r:embed="rId3"/>
          <a:stretch/>
        </p:blipFill>
        <p:spPr>
          <a:xfrm>
            <a:off x="5108400" y="3484440"/>
            <a:ext cx="600120" cy="1113120"/>
          </a:xfrm>
          <a:prstGeom prst="rect">
            <a:avLst/>
          </a:prstGeom>
          <a:ln w="0">
            <a:noFill/>
          </a:ln>
        </p:spPr>
      </p:pic>
      <p:pic>
        <p:nvPicPr>
          <p:cNvPr id="117" name="Sp-cropped" descr=""/>
          <p:cNvPicPr/>
          <p:nvPr/>
        </p:nvPicPr>
        <p:blipFill>
          <a:blip r:embed="rId4"/>
          <a:stretch/>
        </p:blipFill>
        <p:spPr>
          <a:xfrm>
            <a:off x="3627360" y="266868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18" name="Sp-cropped" descr=""/>
          <p:cNvPicPr/>
          <p:nvPr/>
        </p:nvPicPr>
        <p:blipFill>
          <a:blip r:embed="rId5"/>
          <a:stretch/>
        </p:blipFill>
        <p:spPr>
          <a:xfrm>
            <a:off x="1036800" y="3632040"/>
            <a:ext cx="871200" cy="1260720"/>
          </a:xfrm>
          <a:prstGeom prst="rect">
            <a:avLst/>
          </a:prstGeom>
          <a:ln w="0">
            <a:noFill/>
          </a:ln>
        </p:spPr>
      </p:pic>
      <p:pic>
        <p:nvPicPr>
          <p:cNvPr id="119" name="OriginRack" descr=""/>
          <p:cNvPicPr/>
          <p:nvPr/>
        </p:nvPicPr>
        <p:blipFill>
          <a:blip r:embed="rId6"/>
          <a:stretch/>
        </p:blipFill>
        <p:spPr>
          <a:xfrm>
            <a:off x="7773840" y="3632040"/>
            <a:ext cx="797040" cy="1474920"/>
          </a:xfrm>
          <a:prstGeom prst="rect">
            <a:avLst/>
          </a:prstGeom>
          <a:ln w="0">
            <a:noFill/>
          </a:ln>
        </p:spPr>
      </p:pic>
      <p:pic>
        <p:nvPicPr>
          <p:cNvPr id="120" name="Sp-cropped" descr=""/>
          <p:cNvPicPr/>
          <p:nvPr/>
        </p:nvPicPr>
        <p:blipFill>
          <a:blip r:embed="rId7"/>
          <a:stretch/>
        </p:blipFill>
        <p:spPr>
          <a:xfrm>
            <a:off x="8272440" y="4003560"/>
            <a:ext cx="871560" cy="1260720"/>
          </a:xfrm>
          <a:prstGeom prst="rect">
            <a:avLst/>
          </a:prstGeom>
          <a:ln w="0">
            <a:noFill/>
          </a:ln>
        </p:spPr>
      </p:pic>
      <p:pic>
        <p:nvPicPr>
          <p:cNvPr id="121" name="OriginRack" descr=""/>
          <p:cNvPicPr/>
          <p:nvPr/>
        </p:nvPicPr>
        <p:blipFill>
          <a:blip r:embed="rId8"/>
          <a:stretch/>
        </p:blipFill>
        <p:spPr>
          <a:xfrm>
            <a:off x="814320" y="1779480"/>
            <a:ext cx="600120" cy="1111320"/>
          </a:xfrm>
          <a:prstGeom prst="rect">
            <a:avLst/>
          </a:prstGeom>
          <a:ln w="0">
            <a:noFill/>
          </a:ln>
        </p:spPr>
      </p:pic>
      <p:pic>
        <p:nvPicPr>
          <p:cNvPr id="122" name="Sp-cropped" descr=""/>
          <p:cNvPicPr/>
          <p:nvPr/>
        </p:nvPicPr>
        <p:blipFill>
          <a:blip r:embed="rId9"/>
          <a:stretch/>
        </p:blipFill>
        <p:spPr>
          <a:xfrm>
            <a:off x="1111320" y="1927080"/>
            <a:ext cx="871560" cy="12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3508200"/>
            <a:ext cx="371520" cy="5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920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0184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80852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498960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525636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1998720" y="3781440"/>
            <a:ext cx="1425600" cy="1154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5033880" y="1630440"/>
            <a:ext cx="17780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Grid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482840"/>
            <a:ext cx="73152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infrastructure that cou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s (PCs, workstations, clusters, traditional supercomputers, and even laptops, notebooks, mobile computers, PDA, and so on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 (e.g., renting expensive special purpose applications on deman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s (e.g., transparent access to human genome databas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Instruments (e.g., radio telescope--SETI@Home Searching for Life in galaxy, Austrophysics@Swinburne for pulsa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(may be even animals who knows 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ross the Internet and presents them as an unified integrated (single) resour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radiotelescope" descr=""/>
          <p:cNvPicPr/>
          <p:nvPr/>
        </p:nvPicPr>
        <p:blipFill>
          <a:blip r:embed="rId1"/>
          <a:stretch/>
        </p:blipFill>
        <p:spPr>
          <a:xfrm>
            <a:off x="7921800" y="4300560"/>
            <a:ext cx="1110960" cy="1111320"/>
          </a:xfrm>
          <a:prstGeom prst="rect">
            <a:avLst/>
          </a:prstGeom>
          <a:ln w="0">
            <a:noFill/>
          </a:ln>
        </p:spPr>
      </p:pic>
      <p:pic>
        <p:nvPicPr>
          <p:cNvPr id="134" name="OriginRack" descr=""/>
          <p:cNvPicPr/>
          <p:nvPr/>
        </p:nvPicPr>
        <p:blipFill>
          <a:blip r:embed="rId2"/>
          <a:stretch/>
        </p:blipFill>
        <p:spPr>
          <a:xfrm>
            <a:off x="7921800" y="1335240"/>
            <a:ext cx="599760" cy="1110960"/>
          </a:xfrm>
          <a:prstGeom prst="rect">
            <a:avLst/>
          </a:prstGeom>
          <a:ln w="0">
            <a:noFill/>
          </a:ln>
        </p:spPr>
      </p:pic>
      <p:pic>
        <p:nvPicPr>
          <p:cNvPr id="135" name="Sp-cropped" descr=""/>
          <p:cNvPicPr/>
          <p:nvPr/>
        </p:nvPicPr>
        <p:blipFill>
          <a:blip r:embed="rId3"/>
          <a:stretch/>
        </p:blipFill>
        <p:spPr>
          <a:xfrm>
            <a:off x="8366040" y="133524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996320" y="54864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107120" y="5937120"/>
            <a:ext cx="1111320" cy="920880"/>
          </a:xfrm>
          <a:prstGeom prst="rect">
            <a:avLst/>
          </a:prstGeom>
          <a:ln w="0">
            <a:noFill/>
          </a:ln>
        </p:spPr>
      </p:pic>
      <p:pic>
        <p:nvPicPr>
          <p:cNvPr id="138" name="HumanGenome" descr=""/>
          <p:cNvPicPr/>
          <p:nvPr/>
        </p:nvPicPr>
        <p:blipFill>
          <a:blip r:embed="rId6"/>
          <a:stretch/>
        </p:blipFill>
        <p:spPr>
          <a:xfrm>
            <a:off x="7996320" y="3187800"/>
            <a:ext cx="1009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7996320" y="2446200"/>
            <a:ext cx="666720" cy="668520"/>
            <a:chOff x="7996320" y="2446200"/>
            <a:chExt cx="666720" cy="668520"/>
          </a:xfrm>
        </p:grpSpPr>
        <p:sp>
          <p:nvSpPr>
            <p:cNvPr id="140" name=""/>
            <p:cNvSpPr/>
            <p:nvPr/>
          </p:nvSpPr>
          <p:spPr>
            <a:xfrm>
              <a:off x="7996320" y="2446200"/>
              <a:ext cx="666720" cy="668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disksoftware" descr=""/>
            <p:cNvPicPr/>
            <p:nvPr/>
          </p:nvPicPr>
          <p:blipFill>
            <a:blip r:embed="rId7"/>
            <a:stretch/>
          </p:blipFill>
          <p:spPr>
            <a:xfrm>
              <a:off x="8070480" y="2520360"/>
              <a:ext cx="518040" cy="519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2" name=""/>
          <p:cNvGraphicFramePr/>
          <p:nvPr/>
        </p:nvGraphicFramePr>
        <p:xfrm>
          <a:off x="7404120" y="1407960"/>
          <a:ext cx="51444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4120" y="1407960"/>
                    <a:ext cx="514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404120" y="519120"/>
          <a:ext cx="961920" cy="81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04120" y="519120"/>
                    <a:ext cx="961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94840" y="554040"/>
          <a:ext cx="74916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94840" y="554040"/>
                    <a:ext cx="7491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477200" y="5114880"/>
          <a:ext cx="398520" cy="4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7200" y="5114880"/>
                    <a:ext cx="398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12880" y="6483240"/>
            <a:ext cx="45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sse.monash.edu.au/~rajkumar/ecogrid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Conceptual view of the Gri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73240" y="1482840"/>
            <a:ext cx="4516560" cy="2890800"/>
            <a:chOff x="2073240" y="1482840"/>
            <a:chExt cx="4516560" cy="2890800"/>
          </a:xfrm>
        </p:grpSpPr>
        <p:grpSp>
          <p:nvGrpSpPr>
            <p:cNvPr id="159" name=""/>
            <p:cNvGrpSpPr/>
            <p:nvPr/>
          </p:nvGrpSpPr>
          <p:grpSpPr>
            <a:xfrm>
              <a:off x="2073240" y="1482840"/>
              <a:ext cx="4516560" cy="2890800"/>
              <a:chOff x="2073240" y="1482840"/>
              <a:chExt cx="4516560" cy="2890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073240" y="1482840"/>
                <a:ext cx="4516560" cy="289080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2221200" y="1778760"/>
                <a:ext cx="4251960" cy="2379240"/>
                <a:chOff x="2221200" y="1778760"/>
                <a:chExt cx="4251960" cy="2379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95600" y="3135960"/>
                  <a:ext cx="9000" cy="10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20840" y="313308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9240" y="303264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61560" y="313452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412240" y="303120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42440" y="2992320"/>
                  <a:ext cx="262080" cy="79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71920" y="3129840"/>
                  <a:ext cx="949680" cy="108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7600" y="3319560"/>
                  <a:ext cx="21240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86040" y="3332160"/>
                  <a:ext cx="7272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596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6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69" y="66"/>
                      </a:lnTo>
                      <a:lnTo>
                        <a:pt x="369" y="66"/>
                      </a:lnTo>
                      <a:lnTo>
                        <a:pt x="4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7192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0680" y="336456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96760" y="3191400"/>
                  <a:ext cx="15552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07200" y="3202200"/>
                  <a:ext cx="1342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519880" y="3202200"/>
                  <a:ext cx="201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526360" y="3208680"/>
                  <a:ext cx="90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09960" y="2976840"/>
                  <a:ext cx="18468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11400" y="3021480"/>
                  <a:ext cx="182160" cy="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83452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6080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84360" y="2975400"/>
                  <a:ext cx="212760" cy="644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07400" y="3017160"/>
                  <a:ext cx="169920" cy="230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78600" y="2908800"/>
                  <a:ext cx="231120" cy="66240"/>
                </a:xfrm>
                <a:custGeom>
                  <a:avLst/>
                  <a:gdLst/>
                  <a:ahLst/>
                  <a:rect l="l" t="t" r="r" b="b"/>
                  <a:pathLst>
                    <a:path w="375" h="108">
                      <a:moveTo>
                        <a:pt x="0" y="88"/>
                      </a:moveTo>
                      <a:lnTo>
                        <a:pt x="13" y="108"/>
                      </a:lnTo>
                      <a:lnTo>
                        <a:pt x="352" y="108"/>
                      </a:lnTo>
                      <a:lnTo>
                        <a:pt x="375" y="88"/>
                      </a:lnTo>
                      <a:lnTo>
                        <a:pt x="375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72120" y="3009240"/>
                  <a:ext cx="15120" cy="12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078600" y="2921400"/>
                  <a:ext cx="234000" cy="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35480" y="2904480"/>
                  <a:ext cx="169560" cy="6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295680" y="298620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0" y="19"/>
                      </a:moveTo>
                      <a:lnTo>
                        <a:pt x="73" y="0"/>
                      </a:lnTo>
                      <a:lnTo>
                        <a:pt x="73" y="13"/>
                      </a:lnTo>
                      <a:lnTo>
                        <a:pt x="0" y="3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96960" y="2930400"/>
                  <a:ext cx="15120" cy="15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098400" y="2929320"/>
                  <a:ext cx="12240" cy="151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3" y="4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5461560" y="2966040"/>
                  <a:ext cx="2304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84600" y="296640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9280" y="2966400"/>
                  <a:ext cx="4320" cy="4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93600" y="2970720"/>
                  <a:ext cx="6120" cy="13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00080" y="2984400"/>
                  <a:ext cx="2880" cy="61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02960" y="2990880"/>
                  <a:ext cx="288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6200" y="2992320"/>
                  <a:ext cx="2880" cy="144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09440" y="299412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14120" y="2994120"/>
                  <a:ext cx="10800" cy="28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90200" y="3000240"/>
                  <a:ext cx="229680" cy="42840"/>
                </a:xfrm>
                <a:custGeom>
                  <a:avLst/>
                  <a:gdLst/>
                  <a:ahLst/>
                  <a:rect l="l" t="t" r="r" b="b"/>
                  <a:pathLst>
                    <a:path w="372" h="69">
                      <a:moveTo>
                        <a:pt x="47" y="0"/>
                      </a:moveTo>
                      <a:lnTo>
                        <a:pt x="326" y="0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369" y="69"/>
                      </a:lnTo>
                      <a:lnTo>
                        <a:pt x="7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01000" y="300924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59760" y="300924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9520" y="2898000"/>
                  <a:ext cx="126360" cy="99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57880" y="2912040"/>
                  <a:ext cx="89280" cy="6948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436720" y="2986200"/>
                  <a:ext cx="1224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8440" y="2835000"/>
                  <a:ext cx="66240" cy="19728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37160" y="2850480"/>
                  <a:ext cx="36720" cy="583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40040" y="2865960"/>
                  <a:ext cx="12240" cy="27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544720" y="2851920"/>
                  <a:ext cx="288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723640" y="3319560"/>
                  <a:ext cx="2127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41000" y="3332160"/>
                  <a:ext cx="7344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42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9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7" y="66"/>
                      </a:lnTo>
                      <a:lnTo>
                        <a:pt x="3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26520" y="3364560"/>
                  <a:ext cx="154080" cy="25920"/>
                </a:xfrm>
                <a:custGeom>
                  <a:avLst/>
                  <a:gdLst/>
                  <a:ahLst/>
                  <a:rect l="l" t="t" r="r" b="b"/>
                  <a:pathLst>
                    <a:path w="250" h="43">
                      <a:moveTo>
                        <a:pt x="36" y="0"/>
                      </a:moveTo>
                      <a:lnTo>
                        <a:pt x="237" y="0"/>
                      </a:lnTo>
                      <a:lnTo>
                        <a:pt x="250" y="43"/>
                      </a:lnTo>
                      <a:lnTo>
                        <a:pt x="0" y="4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8528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5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754600" y="3191400"/>
                  <a:ext cx="15228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63600" y="3202200"/>
                  <a:ext cx="1324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77720" y="3202200"/>
                  <a:ext cx="183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82760" y="3208680"/>
                  <a:ext cx="756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96960" y="3319560"/>
                  <a:ext cx="2091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12520" y="3332160"/>
                  <a:ext cx="7380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9400" y="3356640"/>
                  <a:ext cx="227880" cy="39960"/>
                </a:xfrm>
                <a:custGeom>
                  <a:avLst/>
                  <a:gdLst/>
                  <a:ahLst/>
                  <a:rect l="l" t="t" r="r" b="b"/>
                  <a:pathLst>
                    <a:path w="371" h="66">
                      <a:moveTo>
                        <a:pt x="46" y="0"/>
                      </a:moveTo>
                      <a:lnTo>
                        <a:pt x="325" y="0"/>
                      </a:lnTo>
                      <a:lnTo>
                        <a:pt x="371" y="59"/>
                      </a:lnTo>
                      <a:lnTo>
                        <a:pt x="371" y="62"/>
                      </a:lnTo>
                      <a:lnTo>
                        <a:pt x="368" y="66"/>
                      </a:lnTo>
                      <a:lnTo>
                        <a:pt x="365" y="66"/>
                      </a:lnTo>
                      <a:lnTo>
                        <a:pt x="3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9984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5716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75" y="43"/>
                      </a:lnTo>
                      <a:lnTo>
                        <a:pt x="16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26120" y="3191400"/>
                  <a:ext cx="15264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5480" y="3202200"/>
                  <a:ext cx="13536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249600" y="3202200"/>
                  <a:ext cx="1980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53920" y="3208680"/>
                  <a:ext cx="108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6" name="" descr=""/>
                <p:cNvPicPr/>
                <p:nvPr/>
              </p:nvPicPr>
              <p:blipFill>
                <a:blip r:embed="rId1"/>
                <a:srcRect l="0" t="0" r="477" b="0"/>
                <a:stretch/>
              </p:blipFill>
              <p:spPr>
                <a:xfrm>
                  <a:off x="2221200" y="2882520"/>
                  <a:ext cx="120888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54280" y="1778760"/>
                  <a:ext cx="687960" cy="86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16480" y="3405960"/>
                  <a:ext cx="76968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2840" y="3312000"/>
                  <a:ext cx="46260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0" name=""/>
                <p:cNvGrpSpPr/>
                <p:nvPr/>
              </p:nvGrpSpPr>
              <p:grpSpPr>
                <a:xfrm>
                  <a:off x="3325320" y="2005920"/>
                  <a:ext cx="1990800" cy="1533240"/>
                  <a:chOff x="3325320" y="2005920"/>
                  <a:chExt cx="1990800" cy="15332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325320" y="2005920"/>
                    <a:ext cx="1985400" cy="153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0" h="2483">
                        <a:moveTo>
                          <a:pt x="2490" y="214"/>
                        </a:moveTo>
                        <a:lnTo>
                          <a:pt x="2500" y="204"/>
                        </a:lnTo>
                        <a:lnTo>
                          <a:pt x="2510" y="195"/>
                        </a:lnTo>
                        <a:lnTo>
                          <a:pt x="2519" y="195"/>
                        </a:lnTo>
                        <a:lnTo>
                          <a:pt x="2529" y="185"/>
                        </a:lnTo>
                        <a:lnTo>
                          <a:pt x="2539" y="185"/>
                        </a:lnTo>
                        <a:lnTo>
                          <a:pt x="2549" y="185"/>
                        </a:lnTo>
                        <a:lnTo>
                          <a:pt x="2568" y="185"/>
                        </a:lnTo>
                        <a:lnTo>
                          <a:pt x="2578" y="185"/>
                        </a:lnTo>
                        <a:lnTo>
                          <a:pt x="2587" y="185"/>
                        </a:lnTo>
                        <a:lnTo>
                          <a:pt x="2597" y="195"/>
                        </a:lnTo>
                        <a:lnTo>
                          <a:pt x="2607" y="195"/>
                        </a:lnTo>
                        <a:lnTo>
                          <a:pt x="2617" y="195"/>
                        </a:lnTo>
                        <a:lnTo>
                          <a:pt x="2626" y="195"/>
                        </a:lnTo>
                        <a:lnTo>
                          <a:pt x="2636" y="204"/>
                        </a:lnTo>
                        <a:lnTo>
                          <a:pt x="2665" y="204"/>
                        </a:lnTo>
                        <a:lnTo>
                          <a:pt x="2665" y="195"/>
                        </a:lnTo>
                        <a:lnTo>
                          <a:pt x="2675" y="195"/>
                        </a:lnTo>
                        <a:lnTo>
                          <a:pt x="2685" y="185"/>
                        </a:lnTo>
                        <a:lnTo>
                          <a:pt x="2685" y="175"/>
                        </a:lnTo>
                        <a:lnTo>
                          <a:pt x="2694" y="175"/>
                        </a:lnTo>
                        <a:lnTo>
                          <a:pt x="2694" y="166"/>
                        </a:lnTo>
                        <a:lnTo>
                          <a:pt x="2704" y="175"/>
                        </a:lnTo>
                        <a:lnTo>
                          <a:pt x="2724" y="175"/>
                        </a:lnTo>
                        <a:lnTo>
                          <a:pt x="2733" y="175"/>
                        </a:lnTo>
                        <a:lnTo>
                          <a:pt x="2762" y="175"/>
                        </a:lnTo>
                        <a:lnTo>
                          <a:pt x="2772" y="185"/>
                        </a:lnTo>
                        <a:lnTo>
                          <a:pt x="2792" y="185"/>
                        </a:lnTo>
                        <a:lnTo>
                          <a:pt x="2801" y="185"/>
                        </a:lnTo>
                        <a:lnTo>
                          <a:pt x="2811" y="195"/>
                        </a:lnTo>
                        <a:lnTo>
                          <a:pt x="2831" y="195"/>
                        </a:lnTo>
                        <a:lnTo>
                          <a:pt x="2840" y="204"/>
                        </a:lnTo>
                        <a:lnTo>
                          <a:pt x="2850" y="214"/>
                        </a:lnTo>
                        <a:lnTo>
                          <a:pt x="2860" y="214"/>
                        </a:lnTo>
                        <a:lnTo>
                          <a:pt x="2869" y="234"/>
                        </a:lnTo>
                        <a:lnTo>
                          <a:pt x="2879" y="243"/>
                        </a:lnTo>
                        <a:lnTo>
                          <a:pt x="2879" y="253"/>
                        </a:lnTo>
                        <a:lnTo>
                          <a:pt x="2889" y="253"/>
                        </a:lnTo>
                        <a:lnTo>
                          <a:pt x="2899" y="253"/>
                        </a:lnTo>
                        <a:lnTo>
                          <a:pt x="2928" y="253"/>
                        </a:lnTo>
                        <a:lnTo>
                          <a:pt x="2928" y="253"/>
                        </a:lnTo>
                        <a:lnTo>
                          <a:pt x="2967" y="253"/>
                        </a:lnTo>
                        <a:lnTo>
                          <a:pt x="2976" y="253"/>
                        </a:lnTo>
                        <a:lnTo>
                          <a:pt x="2986" y="253"/>
                        </a:lnTo>
                        <a:lnTo>
                          <a:pt x="3006" y="253"/>
                        </a:lnTo>
                        <a:lnTo>
                          <a:pt x="3015" y="253"/>
                        </a:lnTo>
                        <a:lnTo>
                          <a:pt x="3015" y="263"/>
                        </a:lnTo>
                        <a:lnTo>
                          <a:pt x="3025" y="263"/>
                        </a:lnTo>
                        <a:lnTo>
                          <a:pt x="3035" y="273"/>
                        </a:lnTo>
                        <a:lnTo>
                          <a:pt x="3045" y="273"/>
                        </a:lnTo>
                        <a:lnTo>
                          <a:pt x="3064" y="292"/>
                        </a:lnTo>
                        <a:lnTo>
                          <a:pt x="3074" y="312"/>
                        </a:lnTo>
                        <a:lnTo>
                          <a:pt x="3083" y="331"/>
                        </a:lnTo>
                        <a:lnTo>
                          <a:pt x="3093" y="350"/>
                        </a:lnTo>
                        <a:lnTo>
                          <a:pt x="3103" y="370"/>
                        </a:lnTo>
                        <a:lnTo>
                          <a:pt x="3103" y="389"/>
                        </a:lnTo>
                        <a:lnTo>
                          <a:pt x="3103" y="419"/>
                        </a:lnTo>
                        <a:lnTo>
                          <a:pt x="3103" y="438"/>
                        </a:lnTo>
                        <a:lnTo>
                          <a:pt x="3103" y="458"/>
                        </a:lnTo>
                        <a:lnTo>
                          <a:pt x="3103" y="467"/>
                        </a:lnTo>
                        <a:lnTo>
                          <a:pt x="3093" y="487"/>
                        </a:lnTo>
                        <a:lnTo>
                          <a:pt x="3093" y="535"/>
                        </a:lnTo>
                        <a:lnTo>
                          <a:pt x="3103" y="555"/>
                        </a:lnTo>
                        <a:lnTo>
                          <a:pt x="3103" y="594"/>
                        </a:lnTo>
                        <a:lnTo>
                          <a:pt x="3093" y="604"/>
                        </a:lnTo>
                        <a:lnTo>
                          <a:pt x="3093" y="613"/>
                        </a:lnTo>
                        <a:lnTo>
                          <a:pt x="3083" y="623"/>
                        </a:lnTo>
                        <a:lnTo>
                          <a:pt x="3074" y="643"/>
                        </a:lnTo>
                        <a:lnTo>
                          <a:pt x="3054" y="652"/>
                        </a:lnTo>
                        <a:lnTo>
                          <a:pt x="3064" y="662"/>
                        </a:lnTo>
                        <a:lnTo>
                          <a:pt x="3064" y="672"/>
                        </a:lnTo>
                        <a:lnTo>
                          <a:pt x="3074" y="682"/>
                        </a:lnTo>
                        <a:lnTo>
                          <a:pt x="3074" y="691"/>
                        </a:lnTo>
                        <a:lnTo>
                          <a:pt x="3093" y="691"/>
                        </a:lnTo>
                        <a:lnTo>
                          <a:pt x="3103" y="691"/>
                        </a:lnTo>
                        <a:lnTo>
                          <a:pt x="3113" y="701"/>
                        </a:lnTo>
                        <a:lnTo>
                          <a:pt x="3132" y="701"/>
                        </a:lnTo>
                        <a:lnTo>
                          <a:pt x="3142" y="701"/>
                        </a:lnTo>
                        <a:lnTo>
                          <a:pt x="3151" y="711"/>
                        </a:lnTo>
                        <a:lnTo>
                          <a:pt x="3161" y="711"/>
                        </a:lnTo>
                        <a:lnTo>
                          <a:pt x="3181" y="720"/>
                        </a:lnTo>
                        <a:lnTo>
                          <a:pt x="3190" y="740"/>
                        </a:lnTo>
                        <a:lnTo>
                          <a:pt x="3200" y="759"/>
                        </a:lnTo>
                        <a:lnTo>
                          <a:pt x="3210" y="779"/>
                        </a:lnTo>
                        <a:lnTo>
                          <a:pt x="3210" y="798"/>
                        </a:lnTo>
                        <a:lnTo>
                          <a:pt x="3200" y="818"/>
                        </a:lnTo>
                        <a:lnTo>
                          <a:pt x="3200" y="837"/>
                        </a:lnTo>
                        <a:lnTo>
                          <a:pt x="3190" y="867"/>
                        </a:lnTo>
                        <a:lnTo>
                          <a:pt x="3190" y="876"/>
                        </a:lnTo>
                        <a:lnTo>
                          <a:pt x="3190" y="886"/>
                        </a:lnTo>
                        <a:lnTo>
                          <a:pt x="3200" y="886"/>
                        </a:lnTo>
                        <a:lnTo>
                          <a:pt x="3210" y="896"/>
                        </a:lnTo>
                        <a:lnTo>
                          <a:pt x="3210" y="896"/>
                        </a:lnTo>
                        <a:lnTo>
                          <a:pt x="3210" y="905"/>
                        </a:lnTo>
                        <a:lnTo>
                          <a:pt x="3210" y="905"/>
                        </a:lnTo>
                        <a:lnTo>
                          <a:pt x="3220" y="915"/>
                        </a:lnTo>
                        <a:lnTo>
                          <a:pt x="3220" y="915"/>
                        </a:lnTo>
                        <a:lnTo>
                          <a:pt x="3220" y="935"/>
                        </a:lnTo>
                        <a:lnTo>
                          <a:pt x="3220" y="954"/>
                        </a:lnTo>
                        <a:lnTo>
                          <a:pt x="3220" y="964"/>
                        </a:lnTo>
                        <a:lnTo>
                          <a:pt x="3210" y="974"/>
                        </a:lnTo>
                        <a:lnTo>
                          <a:pt x="3210" y="993"/>
                        </a:lnTo>
                        <a:lnTo>
                          <a:pt x="3200" y="1003"/>
                        </a:lnTo>
                        <a:lnTo>
                          <a:pt x="3190" y="1013"/>
                        </a:lnTo>
                        <a:lnTo>
                          <a:pt x="3190" y="1022"/>
                        </a:lnTo>
                        <a:lnTo>
                          <a:pt x="3190" y="1052"/>
                        </a:lnTo>
                        <a:lnTo>
                          <a:pt x="3190" y="1090"/>
                        </a:lnTo>
                        <a:lnTo>
                          <a:pt x="3190" y="1159"/>
                        </a:lnTo>
                        <a:lnTo>
                          <a:pt x="3190" y="1188"/>
                        </a:lnTo>
                        <a:lnTo>
                          <a:pt x="3181" y="1217"/>
                        </a:lnTo>
                        <a:lnTo>
                          <a:pt x="3161" y="1237"/>
                        </a:lnTo>
                        <a:lnTo>
                          <a:pt x="3132" y="1256"/>
                        </a:lnTo>
                        <a:lnTo>
                          <a:pt x="3122" y="1266"/>
                        </a:lnTo>
                        <a:lnTo>
                          <a:pt x="3113" y="1266"/>
                        </a:lnTo>
                        <a:lnTo>
                          <a:pt x="3103" y="1266"/>
                        </a:lnTo>
                        <a:lnTo>
                          <a:pt x="3103" y="1266"/>
                        </a:lnTo>
                        <a:lnTo>
                          <a:pt x="3093" y="1275"/>
                        </a:lnTo>
                        <a:lnTo>
                          <a:pt x="3083" y="1275"/>
                        </a:lnTo>
                        <a:lnTo>
                          <a:pt x="3074" y="1275"/>
                        </a:lnTo>
                        <a:lnTo>
                          <a:pt x="3054" y="1275"/>
                        </a:lnTo>
                        <a:lnTo>
                          <a:pt x="3054" y="1285"/>
                        </a:lnTo>
                        <a:lnTo>
                          <a:pt x="3045" y="1285"/>
                        </a:lnTo>
                        <a:lnTo>
                          <a:pt x="3035" y="1285"/>
                        </a:lnTo>
                        <a:lnTo>
                          <a:pt x="3025" y="1285"/>
                        </a:lnTo>
                        <a:lnTo>
                          <a:pt x="3015" y="1295"/>
                        </a:lnTo>
                        <a:lnTo>
                          <a:pt x="2976" y="1295"/>
                        </a:lnTo>
                        <a:lnTo>
                          <a:pt x="2957" y="1363"/>
                        </a:lnTo>
                        <a:lnTo>
                          <a:pt x="2986" y="1363"/>
                        </a:lnTo>
                        <a:lnTo>
                          <a:pt x="3006" y="1363"/>
                        </a:lnTo>
                        <a:lnTo>
                          <a:pt x="3113" y="1363"/>
                        </a:lnTo>
                        <a:lnTo>
                          <a:pt x="3132" y="1373"/>
                        </a:lnTo>
                        <a:lnTo>
                          <a:pt x="3142" y="1373"/>
                        </a:lnTo>
                        <a:lnTo>
                          <a:pt x="3151" y="1373"/>
                        </a:lnTo>
                        <a:lnTo>
                          <a:pt x="3171" y="1373"/>
                        </a:lnTo>
                        <a:lnTo>
                          <a:pt x="3171" y="1402"/>
                        </a:lnTo>
                        <a:lnTo>
                          <a:pt x="3161" y="1431"/>
                        </a:lnTo>
                        <a:lnTo>
                          <a:pt x="3161" y="1451"/>
                        </a:lnTo>
                        <a:lnTo>
                          <a:pt x="3151" y="1480"/>
                        </a:lnTo>
                        <a:lnTo>
                          <a:pt x="3142" y="1499"/>
                        </a:lnTo>
                        <a:lnTo>
                          <a:pt x="3142" y="1529"/>
                        </a:lnTo>
                        <a:lnTo>
                          <a:pt x="3132" y="1548"/>
                        </a:lnTo>
                        <a:lnTo>
                          <a:pt x="3132" y="1577"/>
                        </a:lnTo>
                        <a:lnTo>
                          <a:pt x="3122" y="1587"/>
                        </a:lnTo>
                        <a:lnTo>
                          <a:pt x="3113" y="1587"/>
                        </a:lnTo>
                        <a:lnTo>
                          <a:pt x="3103" y="1597"/>
                        </a:lnTo>
                        <a:lnTo>
                          <a:pt x="3093" y="1597"/>
                        </a:lnTo>
                        <a:lnTo>
                          <a:pt x="3093" y="1597"/>
                        </a:lnTo>
                        <a:lnTo>
                          <a:pt x="2957" y="1587"/>
                        </a:lnTo>
                        <a:lnTo>
                          <a:pt x="2947" y="1616"/>
                        </a:lnTo>
                        <a:lnTo>
                          <a:pt x="2947" y="1636"/>
                        </a:lnTo>
                        <a:lnTo>
                          <a:pt x="2938" y="1665"/>
                        </a:lnTo>
                        <a:lnTo>
                          <a:pt x="2928" y="1694"/>
                        </a:lnTo>
                        <a:lnTo>
                          <a:pt x="2928" y="1714"/>
                        </a:lnTo>
                        <a:lnTo>
                          <a:pt x="2918" y="1743"/>
                        </a:lnTo>
                        <a:lnTo>
                          <a:pt x="2908" y="1762"/>
                        </a:lnTo>
                        <a:lnTo>
                          <a:pt x="2899" y="1782"/>
                        </a:lnTo>
                        <a:lnTo>
                          <a:pt x="2879" y="1821"/>
                        </a:lnTo>
                        <a:lnTo>
                          <a:pt x="2860" y="1869"/>
                        </a:lnTo>
                        <a:lnTo>
                          <a:pt x="2840" y="1899"/>
                        </a:lnTo>
                        <a:lnTo>
                          <a:pt x="2821" y="1938"/>
                        </a:lnTo>
                        <a:lnTo>
                          <a:pt x="2792" y="1976"/>
                        </a:lnTo>
                        <a:lnTo>
                          <a:pt x="2762" y="2006"/>
                        </a:lnTo>
                        <a:lnTo>
                          <a:pt x="2743" y="2045"/>
                        </a:lnTo>
                        <a:lnTo>
                          <a:pt x="2714" y="2074"/>
                        </a:lnTo>
                        <a:lnTo>
                          <a:pt x="2685" y="2103"/>
                        </a:lnTo>
                        <a:lnTo>
                          <a:pt x="2655" y="2132"/>
                        </a:lnTo>
                        <a:lnTo>
                          <a:pt x="2617" y="2161"/>
                        </a:lnTo>
                        <a:lnTo>
                          <a:pt x="2587" y="2191"/>
                        </a:lnTo>
                        <a:lnTo>
                          <a:pt x="2549" y="2220"/>
                        </a:lnTo>
                        <a:lnTo>
                          <a:pt x="2519" y="2239"/>
                        </a:lnTo>
                        <a:lnTo>
                          <a:pt x="2480" y="2269"/>
                        </a:lnTo>
                        <a:lnTo>
                          <a:pt x="2442" y="2288"/>
                        </a:lnTo>
                        <a:lnTo>
                          <a:pt x="2403" y="2308"/>
                        </a:lnTo>
                        <a:lnTo>
                          <a:pt x="2364" y="2327"/>
                        </a:lnTo>
                        <a:lnTo>
                          <a:pt x="2325" y="2346"/>
                        </a:lnTo>
                        <a:lnTo>
                          <a:pt x="2286" y="2356"/>
                        </a:lnTo>
                        <a:lnTo>
                          <a:pt x="2247" y="2376"/>
                        </a:lnTo>
                        <a:lnTo>
                          <a:pt x="2208" y="2395"/>
                        </a:lnTo>
                        <a:lnTo>
                          <a:pt x="2169" y="2405"/>
                        </a:lnTo>
                        <a:lnTo>
                          <a:pt x="2130" y="2424"/>
                        </a:lnTo>
                        <a:lnTo>
                          <a:pt x="2082" y="2434"/>
                        </a:lnTo>
                        <a:lnTo>
                          <a:pt x="2043" y="2444"/>
                        </a:lnTo>
                        <a:lnTo>
                          <a:pt x="2004" y="2454"/>
                        </a:lnTo>
                        <a:lnTo>
                          <a:pt x="1955" y="2463"/>
                        </a:lnTo>
                        <a:lnTo>
                          <a:pt x="1916" y="2463"/>
                        </a:lnTo>
                        <a:lnTo>
                          <a:pt x="1877" y="2473"/>
                        </a:lnTo>
                        <a:lnTo>
                          <a:pt x="1829" y="2473"/>
                        </a:lnTo>
                        <a:lnTo>
                          <a:pt x="1790" y="2483"/>
                        </a:lnTo>
                        <a:lnTo>
                          <a:pt x="1634" y="2483"/>
                        </a:lnTo>
                        <a:lnTo>
                          <a:pt x="1586" y="2473"/>
                        </a:lnTo>
                        <a:lnTo>
                          <a:pt x="1537" y="2473"/>
                        </a:lnTo>
                        <a:lnTo>
                          <a:pt x="1488" y="2463"/>
                        </a:lnTo>
                        <a:lnTo>
                          <a:pt x="1440" y="2454"/>
                        </a:lnTo>
                        <a:lnTo>
                          <a:pt x="1391" y="2444"/>
                        </a:lnTo>
                        <a:lnTo>
                          <a:pt x="1352" y="2434"/>
                        </a:lnTo>
                        <a:lnTo>
                          <a:pt x="1304" y="2424"/>
                        </a:lnTo>
                        <a:lnTo>
                          <a:pt x="1255" y="2405"/>
                        </a:lnTo>
                        <a:lnTo>
                          <a:pt x="1206" y="2395"/>
                        </a:lnTo>
                        <a:lnTo>
                          <a:pt x="1168" y="2376"/>
                        </a:lnTo>
                        <a:lnTo>
                          <a:pt x="1119" y="2356"/>
                        </a:lnTo>
                        <a:lnTo>
                          <a:pt x="1070" y="2337"/>
                        </a:lnTo>
                        <a:lnTo>
                          <a:pt x="1031" y="2317"/>
                        </a:lnTo>
                        <a:lnTo>
                          <a:pt x="992" y="2288"/>
                        </a:lnTo>
                        <a:lnTo>
                          <a:pt x="954" y="2269"/>
                        </a:lnTo>
                        <a:lnTo>
                          <a:pt x="915" y="2239"/>
                        </a:lnTo>
                        <a:lnTo>
                          <a:pt x="866" y="2210"/>
                        </a:lnTo>
                        <a:lnTo>
                          <a:pt x="827" y="2181"/>
                        </a:lnTo>
                        <a:lnTo>
                          <a:pt x="798" y="2152"/>
                        </a:lnTo>
                        <a:lnTo>
                          <a:pt x="691" y="2054"/>
                        </a:lnTo>
                        <a:lnTo>
                          <a:pt x="662" y="2015"/>
                        </a:lnTo>
                        <a:lnTo>
                          <a:pt x="633" y="1976"/>
                        </a:lnTo>
                        <a:lnTo>
                          <a:pt x="603" y="1938"/>
                        </a:lnTo>
                        <a:lnTo>
                          <a:pt x="574" y="1889"/>
                        </a:lnTo>
                        <a:lnTo>
                          <a:pt x="555" y="1850"/>
                        </a:lnTo>
                        <a:lnTo>
                          <a:pt x="526" y="1801"/>
                        </a:lnTo>
                        <a:lnTo>
                          <a:pt x="506" y="1762"/>
                        </a:lnTo>
                        <a:lnTo>
                          <a:pt x="458" y="1606"/>
                        </a:lnTo>
                        <a:lnTo>
                          <a:pt x="438" y="1606"/>
                        </a:lnTo>
                        <a:lnTo>
                          <a:pt x="166" y="1606"/>
                        </a:lnTo>
                        <a:lnTo>
                          <a:pt x="156" y="1587"/>
                        </a:lnTo>
                        <a:lnTo>
                          <a:pt x="146" y="1568"/>
                        </a:lnTo>
                        <a:lnTo>
                          <a:pt x="146" y="1558"/>
                        </a:lnTo>
                        <a:lnTo>
                          <a:pt x="146" y="1538"/>
                        </a:lnTo>
                        <a:lnTo>
                          <a:pt x="137" y="1529"/>
                        </a:lnTo>
                        <a:lnTo>
                          <a:pt x="137" y="1480"/>
                        </a:lnTo>
                        <a:lnTo>
                          <a:pt x="146" y="1383"/>
                        </a:lnTo>
                        <a:lnTo>
                          <a:pt x="312" y="1373"/>
                        </a:lnTo>
                        <a:lnTo>
                          <a:pt x="312" y="1344"/>
                        </a:lnTo>
                        <a:lnTo>
                          <a:pt x="312" y="1314"/>
                        </a:lnTo>
                        <a:lnTo>
                          <a:pt x="321" y="1295"/>
                        </a:lnTo>
                        <a:lnTo>
                          <a:pt x="331" y="1266"/>
                        </a:lnTo>
                        <a:lnTo>
                          <a:pt x="273" y="1266"/>
                        </a:lnTo>
                        <a:lnTo>
                          <a:pt x="263" y="1266"/>
                        </a:lnTo>
                        <a:lnTo>
                          <a:pt x="253" y="1266"/>
                        </a:lnTo>
                        <a:lnTo>
                          <a:pt x="253" y="1266"/>
                        </a:lnTo>
                        <a:lnTo>
                          <a:pt x="244" y="1256"/>
                        </a:lnTo>
                        <a:lnTo>
                          <a:pt x="234" y="1256"/>
                        </a:lnTo>
                        <a:lnTo>
                          <a:pt x="224" y="1246"/>
                        </a:lnTo>
                        <a:lnTo>
                          <a:pt x="214" y="1237"/>
                        </a:lnTo>
                        <a:lnTo>
                          <a:pt x="205" y="1237"/>
                        </a:lnTo>
                        <a:lnTo>
                          <a:pt x="205" y="1227"/>
                        </a:lnTo>
                        <a:lnTo>
                          <a:pt x="195" y="1217"/>
                        </a:lnTo>
                        <a:lnTo>
                          <a:pt x="185" y="1207"/>
                        </a:lnTo>
                        <a:lnTo>
                          <a:pt x="176" y="1198"/>
                        </a:lnTo>
                        <a:lnTo>
                          <a:pt x="166" y="1188"/>
                        </a:lnTo>
                        <a:lnTo>
                          <a:pt x="166" y="1178"/>
                        </a:lnTo>
                        <a:lnTo>
                          <a:pt x="166" y="1168"/>
                        </a:lnTo>
                        <a:lnTo>
                          <a:pt x="156" y="1159"/>
                        </a:lnTo>
                        <a:lnTo>
                          <a:pt x="156" y="1149"/>
                        </a:lnTo>
                        <a:lnTo>
                          <a:pt x="146" y="1149"/>
                        </a:lnTo>
                        <a:lnTo>
                          <a:pt x="137" y="1139"/>
                        </a:lnTo>
                        <a:lnTo>
                          <a:pt x="127" y="1139"/>
                        </a:lnTo>
                        <a:lnTo>
                          <a:pt x="117" y="1139"/>
                        </a:lnTo>
                        <a:lnTo>
                          <a:pt x="98" y="1120"/>
                        </a:lnTo>
                        <a:lnTo>
                          <a:pt x="98" y="1110"/>
                        </a:lnTo>
                        <a:lnTo>
                          <a:pt x="88" y="1100"/>
                        </a:lnTo>
                        <a:lnTo>
                          <a:pt x="78" y="1090"/>
                        </a:lnTo>
                        <a:lnTo>
                          <a:pt x="78" y="1081"/>
                        </a:lnTo>
                        <a:lnTo>
                          <a:pt x="69" y="1061"/>
                        </a:lnTo>
                        <a:lnTo>
                          <a:pt x="69" y="1052"/>
                        </a:lnTo>
                        <a:lnTo>
                          <a:pt x="59" y="1042"/>
                        </a:lnTo>
                        <a:lnTo>
                          <a:pt x="69" y="1022"/>
                        </a:lnTo>
                        <a:lnTo>
                          <a:pt x="69" y="1003"/>
                        </a:lnTo>
                        <a:lnTo>
                          <a:pt x="49" y="983"/>
                        </a:lnTo>
                        <a:lnTo>
                          <a:pt x="39" y="964"/>
                        </a:lnTo>
                        <a:lnTo>
                          <a:pt x="30" y="935"/>
                        </a:lnTo>
                        <a:lnTo>
                          <a:pt x="10" y="915"/>
                        </a:lnTo>
                        <a:lnTo>
                          <a:pt x="10" y="886"/>
                        </a:lnTo>
                        <a:lnTo>
                          <a:pt x="0" y="857"/>
                        </a:lnTo>
                        <a:lnTo>
                          <a:pt x="10" y="828"/>
                        </a:lnTo>
                        <a:lnTo>
                          <a:pt x="10" y="798"/>
                        </a:lnTo>
                        <a:lnTo>
                          <a:pt x="20" y="789"/>
                        </a:lnTo>
                        <a:lnTo>
                          <a:pt x="30" y="779"/>
                        </a:lnTo>
                        <a:lnTo>
                          <a:pt x="39" y="769"/>
                        </a:lnTo>
                        <a:lnTo>
                          <a:pt x="49" y="759"/>
                        </a:lnTo>
                        <a:lnTo>
                          <a:pt x="78" y="730"/>
                        </a:lnTo>
                        <a:lnTo>
                          <a:pt x="78" y="730"/>
                        </a:lnTo>
                        <a:lnTo>
                          <a:pt x="88" y="720"/>
                        </a:lnTo>
                        <a:lnTo>
                          <a:pt x="98" y="711"/>
                        </a:lnTo>
                        <a:lnTo>
                          <a:pt x="107" y="711"/>
                        </a:lnTo>
                        <a:lnTo>
                          <a:pt x="117" y="701"/>
                        </a:lnTo>
                        <a:lnTo>
                          <a:pt x="137" y="701"/>
                        </a:lnTo>
                        <a:lnTo>
                          <a:pt x="146" y="711"/>
                        </a:lnTo>
                        <a:lnTo>
                          <a:pt x="176" y="740"/>
                        </a:lnTo>
                        <a:lnTo>
                          <a:pt x="176" y="730"/>
                        </a:lnTo>
                        <a:lnTo>
                          <a:pt x="176" y="730"/>
                        </a:lnTo>
                        <a:lnTo>
                          <a:pt x="176" y="720"/>
                        </a:lnTo>
                        <a:lnTo>
                          <a:pt x="166" y="711"/>
                        </a:lnTo>
                        <a:lnTo>
                          <a:pt x="166" y="701"/>
                        </a:lnTo>
                        <a:lnTo>
                          <a:pt x="156" y="701"/>
                        </a:lnTo>
                        <a:lnTo>
                          <a:pt x="156" y="691"/>
                        </a:lnTo>
                        <a:lnTo>
                          <a:pt x="156" y="691"/>
                        </a:lnTo>
                        <a:lnTo>
                          <a:pt x="137" y="662"/>
                        </a:lnTo>
                        <a:lnTo>
                          <a:pt x="127" y="643"/>
                        </a:lnTo>
                        <a:lnTo>
                          <a:pt x="127" y="613"/>
                        </a:lnTo>
                        <a:lnTo>
                          <a:pt x="117" y="594"/>
                        </a:lnTo>
                        <a:lnTo>
                          <a:pt x="117" y="545"/>
                        </a:lnTo>
                        <a:lnTo>
                          <a:pt x="127" y="516"/>
                        </a:lnTo>
                        <a:lnTo>
                          <a:pt x="127" y="497"/>
                        </a:lnTo>
                        <a:lnTo>
                          <a:pt x="137" y="477"/>
                        </a:lnTo>
                        <a:lnTo>
                          <a:pt x="146" y="477"/>
                        </a:lnTo>
                        <a:lnTo>
                          <a:pt x="166" y="467"/>
                        </a:lnTo>
                        <a:lnTo>
                          <a:pt x="176" y="458"/>
                        </a:lnTo>
                        <a:lnTo>
                          <a:pt x="185" y="448"/>
                        </a:lnTo>
                        <a:lnTo>
                          <a:pt x="195" y="448"/>
                        </a:lnTo>
                        <a:lnTo>
                          <a:pt x="214" y="438"/>
                        </a:lnTo>
                        <a:lnTo>
                          <a:pt x="224" y="438"/>
                        </a:lnTo>
                        <a:lnTo>
                          <a:pt x="224" y="389"/>
                        </a:lnTo>
                        <a:lnTo>
                          <a:pt x="224" y="360"/>
                        </a:lnTo>
                        <a:lnTo>
                          <a:pt x="234" y="341"/>
                        </a:lnTo>
                        <a:lnTo>
                          <a:pt x="253" y="321"/>
                        </a:lnTo>
                        <a:lnTo>
                          <a:pt x="273" y="312"/>
                        </a:lnTo>
                        <a:lnTo>
                          <a:pt x="292" y="302"/>
                        </a:lnTo>
                        <a:lnTo>
                          <a:pt x="302" y="282"/>
                        </a:lnTo>
                        <a:lnTo>
                          <a:pt x="321" y="273"/>
                        </a:lnTo>
                        <a:lnTo>
                          <a:pt x="341" y="263"/>
                        </a:lnTo>
                        <a:lnTo>
                          <a:pt x="360" y="253"/>
                        </a:lnTo>
                        <a:lnTo>
                          <a:pt x="380" y="243"/>
                        </a:lnTo>
                        <a:lnTo>
                          <a:pt x="399" y="234"/>
                        </a:lnTo>
                        <a:lnTo>
                          <a:pt x="419" y="224"/>
                        </a:lnTo>
                        <a:lnTo>
                          <a:pt x="438" y="214"/>
                        </a:lnTo>
                        <a:lnTo>
                          <a:pt x="458" y="204"/>
                        </a:lnTo>
                        <a:lnTo>
                          <a:pt x="477" y="195"/>
                        </a:lnTo>
                        <a:lnTo>
                          <a:pt x="496" y="185"/>
                        </a:lnTo>
                        <a:lnTo>
                          <a:pt x="516" y="175"/>
                        </a:lnTo>
                        <a:lnTo>
                          <a:pt x="535" y="166"/>
                        </a:lnTo>
                        <a:lnTo>
                          <a:pt x="545" y="166"/>
                        </a:lnTo>
                        <a:lnTo>
                          <a:pt x="555" y="166"/>
                        </a:lnTo>
                        <a:lnTo>
                          <a:pt x="565" y="156"/>
                        </a:lnTo>
                        <a:lnTo>
                          <a:pt x="574" y="156"/>
                        </a:lnTo>
                        <a:lnTo>
                          <a:pt x="584" y="156"/>
                        </a:lnTo>
                        <a:lnTo>
                          <a:pt x="633" y="156"/>
                        </a:lnTo>
                        <a:lnTo>
                          <a:pt x="642" y="156"/>
                        </a:lnTo>
                        <a:lnTo>
                          <a:pt x="652" y="156"/>
                        </a:lnTo>
                        <a:lnTo>
                          <a:pt x="662" y="166"/>
                        </a:lnTo>
                        <a:lnTo>
                          <a:pt x="662" y="166"/>
                        </a:lnTo>
                        <a:lnTo>
                          <a:pt x="672" y="16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701" y="204"/>
                        </a:lnTo>
                        <a:lnTo>
                          <a:pt x="701" y="224"/>
                        </a:lnTo>
                        <a:lnTo>
                          <a:pt x="701" y="243"/>
                        </a:lnTo>
                        <a:lnTo>
                          <a:pt x="701" y="253"/>
                        </a:lnTo>
                        <a:lnTo>
                          <a:pt x="710" y="273"/>
                        </a:lnTo>
                        <a:lnTo>
                          <a:pt x="710" y="292"/>
                        </a:lnTo>
                        <a:lnTo>
                          <a:pt x="788" y="253"/>
                        </a:lnTo>
                        <a:lnTo>
                          <a:pt x="856" y="263"/>
                        </a:lnTo>
                        <a:lnTo>
                          <a:pt x="905" y="234"/>
                        </a:lnTo>
                        <a:lnTo>
                          <a:pt x="944" y="204"/>
                        </a:lnTo>
                        <a:lnTo>
                          <a:pt x="992" y="175"/>
                        </a:lnTo>
                        <a:lnTo>
                          <a:pt x="1041" y="156"/>
                        </a:lnTo>
                        <a:lnTo>
                          <a:pt x="1090" y="136"/>
                        </a:lnTo>
                        <a:lnTo>
                          <a:pt x="1138" y="117"/>
                        </a:lnTo>
                        <a:lnTo>
                          <a:pt x="1187" y="97"/>
                        </a:lnTo>
                        <a:lnTo>
                          <a:pt x="1236" y="78"/>
                        </a:lnTo>
                        <a:lnTo>
                          <a:pt x="1294" y="58"/>
                        </a:lnTo>
                        <a:lnTo>
                          <a:pt x="1343" y="49"/>
                        </a:lnTo>
                        <a:lnTo>
                          <a:pt x="1391" y="39"/>
                        </a:lnTo>
                        <a:lnTo>
                          <a:pt x="1450" y="29"/>
                        </a:lnTo>
                        <a:lnTo>
                          <a:pt x="1508" y="19"/>
                        </a:lnTo>
                        <a:lnTo>
                          <a:pt x="1557" y="10"/>
                        </a:lnTo>
                        <a:lnTo>
                          <a:pt x="1615" y="10"/>
                        </a:lnTo>
                        <a:lnTo>
                          <a:pt x="1664" y="0"/>
                        </a:lnTo>
                        <a:lnTo>
                          <a:pt x="1780" y="0"/>
                        </a:lnTo>
                        <a:lnTo>
                          <a:pt x="1829" y="10"/>
                        </a:lnTo>
                        <a:lnTo>
                          <a:pt x="1887" y="10"/>
                        </a:lnTo>
                        <a:lnTo>
                          <a:pt x="1946" y="19"/>
                        </a:lnTo>
                        <a:lnTo>
                          <a:pt x="1994" y="29"/>
                        </a:lnTo>
                        <a:lnTo>
                          <a:pt x="2053" y="39"/>
                        </a:lnTo>
                        <a:lnTo>
                          <a:pt x="2101" y="49"/>
                        </a:lnTo>
                        <a:lnTo>
                          <a:pt x="2150" y="58"/>
                        </a:lnTo>
                        <a:lnTo>
                          <a:pt x="2208" y="78"/>
                        </a:lnTo>
                        <a:lnTo>
                          <a:pt x="2257" y="97"/>
                        </a:lnTo>
                        <a:lnTo>
                          <a:pt x="2305" y="117"/>
                        </a:lnTo>
                        <a:lnTo>
                          <a:pt x="2354" y="136"/>
                        </a:lnTo>
                        <a:lnTo>
                          <a:pt x="2403" y="156"/>
                        </a:lnTo>
                        <a:lnTo>
                          <a:pt x="2442" y="185"/>
                        </a:lnTo>
                        <a:lnTo>
                          <a:pt x="2490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860360" y="2113920"/>
                    <a:ext cx="10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9">
                        <a:moveTo>
                          <a:pt x="175" y="20"/>
                        </a:move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2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78" y="1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75" y="29"/>
                        </a:lnTo>
                        <a:lnTo>
                          <a:pt x="17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968360" y="210816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10" y="38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86360" y="2108160"/>
                    <a:ext cx="120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7">
                        <a:moveTo>
                          <a:pt x="195" y="87"/>
                        </a:moveTo>
                        <a:lnTo>
                          <a:pt x="185" y="77"/>
                        </a:lnTo>
                        <a:lnTo>
                          <a:pt x="185" y="58"/>
                        </a:lnTo>
                        <a:lnTo>
                          <a:pt x="156" y="38"/>
                        </a:lnTo>
                        <a:lnTo>
                          <a:pt x="146" y="38"/>
                        </a:lnTo>
                        <a:lnTo>
                          <a:pt x="137" y="29"/>
                        </a:lnTo>
                        <a:lnTo>
                          <a:pt x="127" y="19"/>
                        </a:lnTo>
                        <a:lnTo>
                          <a:pt x="107" y="19"/>
                        </a:lnTo>
                        <a:lnTo>
                          <a:pt x="98" y="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5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37" y="38"/>
                        </a:lnTo>
                        <a:lnTo>
                          <a:pt x="146" y="38"/>
                        </a:lnTo>
                        <a:lnTo>
                          <a:pt x="156" y="48"/>
                        </a:lnTo>
                        <a:lnTo>
                          <a:pt x="175" y="68"/>
                        </a:lnTo>
                        <a:lnTo>
                          <a:pt x="185" y="77"/>
                        </a:lnTo>
                        <a:lnTo>
                          <a:pt x="185" y="87"/>
                        </a:lnTo>
                        <a:lnTo>
                          <a:pt x="195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100480" y="216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6600" y="215604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30"/>
                        </a:moveTo>
                        <a:lnTo>
                          <a:pt x="156" y="30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36" y="30"/>
                        </a:lnTo>
                        <a:lnTo>
                          <a:pt x="146" y="30"/>
                        </a:lnTo>
                        <a:lnTo>
                          <a:pt x="156" y="39"/>
                        </a:lnTo>
                        <a:lnTo>
                          <a:pt x="165" y="30"/>
                        </a:lnTo>
                        <a:lnTo>
                          <a:pt x="156" y="30"/>
                        </a:lnTo>
                        <a:lnTo>
                          <a:pt x="16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202720" y="2174400"/>
                    <a:ext cx="41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5">
                        <a:moveTo>
                          <a:pt x="68" y="165"/>
                        </a:moveTo>
                        <a:lnTo>
                          <a:pt x="68" y="146"/>
                        </a:lnTo>
                        <a:lnTo>
                          <a:pt x="58" y="116"/>
                        </a:lnTo>
                        <a:lnTo>
                          <a:pt x="58" y="97"/>
                        </a:lnTo>
                        <a:lnTo>
                          <a:pt x="48" y="77"/>
                        </a:lnTo>
                        <a:lnTo>
                          <a:pt x="48" y="58"/>
                        </a:lnTo>
                        <a:lnTo>
                          <a:pt x="2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38" y="58"/>
                        </a:lnTo>
                        <a:lnTo>
                          <a:pt x="38" y="77"/>
                        </a:lnTo>
                        <a:lnTo>
                          <a:pt x="48" y="97"/>
                        </a:lnTo>
                        <a:lnTo>
                          <a:pt x="58" y="116"/>
                        </a:lnTo>
                        <a:lnTo>
                          <a:pt x="58" y="146"/>
                        </a:lnTo>
                        <a:lnTo>
                          <a:pt x="58" y="165"/>
                        </a:lnTo>
                        <a:lnTo>
                          <a:pt x="58" y="15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232240" y="2270160"/>
                    <a:ext cx="12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5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2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208120" y="235476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0" y="87"/>
                        </a:move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29" y="48"/>
                        </a:lnTo>
                        <a:lnTo>
                          <a:pt x="29" y="5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208120" y="24084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39"/>
                        </a:moveTo>
                        <a:lnTo>
                          <a:pt x="29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220360" y="243252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77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280480" y="2450520"/>
                    <a:ext cx="23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6">
                        <a:moveTo>
                          <a:pt x="19" y="156"/>
                        </a:moveTo>
                        <a:lnTo>
                          <a:pt x="19" y="166"/>
                        </a:lnTo>
                        <a:lnTo>
                          <a:pt x="29" y="147"/>
                        </a:lnTo>
                        <a:lnTo>
                          <a:pt x="29" y="117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19" y="117"/>
                        </a:lnTo>
                        <a:lnTo>
                          <a:pt x="19" y="147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292000" y="2546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30" y="39"/>
                        </a:move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286600" y="2570760"/>
                    <a:ext cx="29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7">
                        <a:moveTo>
                          <a:pt x="9" y="107"/>
                        </a:moveTo>
                        <a:lnTo>
                          <a:pt x="9" y="11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8" y="39"/>
                        </a:lnTo>
                        <a:lnTo>
                          <a:pt x="48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256360" y="2637000"/>
                    <a:ext cx="417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4">
                        <a:moveTo>
                          <a:pt x="0" y="244"/>
                        </a:moveTo>
                        <a:lnTo>
                          <a:pt x="10" y="244"/>
                        </a:lnTo>
                        <a:lnTo>
                          <a:pt x="29" y="215"/>
                        </a:lnTo>
                        <a:lnTo>
                          <a:pt x="58" y="195"/>
                        </a:lnTo>
                        <a:lnTo>
                          <a:pt x="58" y="166"/>
                        </a:lnTo>
                        <a:lnTo>
                          <a:pt x="68" y="137"/>
                        </a:lnTo>
                        <a:lnTo>
                          <a:pt x="68" y="68"/>
                        </a:lnTo>
                        <a:lnTo>
                          <a:pt x="58" y="3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58" y="30"/>
                        </a:lnTo>
                        <a:lnTo>
                          <a:pt x="58" y="68"/>
                        </a:lnTo>
                        <a:lnTo>
                          <a:pt x="58" y="137"/>
                        </a:lnTo>
                        <a:lnTo>
                          <a:pt x="58" y="156"/>
                        </a:lnTo>
                        <a:lnTo>
                          <a:pt x="49" y="195"/>
                        </a:lnTo>
                        <a:lnTo>
                          <a:pt x="29" y="215"/>
                        </a:lnTo>
                        <a:lnTo>
                          <a:pt x="0" y="23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60240" y="2781360"/>
                    <a:ext cx="9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9">
                        <a:moveTo>
                          <a:pt x="10" y="39"/>
                        </a:move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9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27" y="19"/>
                        </a:lnTo>
                        <a:lnTo>
                          <a:pt x="127" y="10"/>
                        </a:lnTo>
                        <a:lnTo>
                          <a:pt x="137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0"/>
                        </a:lnTo>
                        <a:lnTo>
                          <a:pt x="146" y="0"/>
                        </a:lnTo>
                        <a:lnTo>
                          <a:pt x="137" y="10"/>
                        </a:lnTo>
                        <a:lnTo>
                          <a:pt x="127" y="1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98" y="10"/>
                        </a:lnTo>
                        <a:lnTo>
                          <a:pt x="9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48360" y="280548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58"/>
                        </a:moveTo>
                        <a:lnTo>
                          <a:pt x="10" y="6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148360" y="284148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154480" y="2847600"/>
                    <a:ext cx="12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">
                        <a:moveTo>
                          <a:pt x="204" y="10"/>
                        </a:moveTo>
                        <a:lnTo>
                          <a:pt x="204" y="10"/>
                        </a:lnTo>
                        <a:lnTo>
                          <a:pt x="184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146" y="10"/>
                        </a:lnTo>
                        <a:lnTo>
                          <a:pt x="165" y="10"/>
                        </a:lnTo>
                        <a:lnTo>
                          <a:pt x="175" y="10"/>
                        </a:lnTo>
                        <a:lnTo>
                          <a:pt x="184" y="20"/>
                        </a:lnTo>
                        <a:lnTo>
                          <a:pt x="204" y="20"/>
                        </a:lnTo>
                        <a:lnTo>
                          <a:pt x="19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256360" y="28537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4">
                        <a:moveTo>
                          <a:pt x="10" y="204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2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9"/>
                        </a:lnTo>
                        <a:lnTo>
                          <a:pt x="29" y="58"/>
                        </a:lnTo>
                        <a:lnTo>
                          <a:pt x="19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32240" y="29797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148360" y="298584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36" y="19"/>
                        </a:lnTo>
                        <a:lnTo>
                          <a:pt x="136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112720" y="2985840"/>
                    <a:ext cx="41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9" y="204"/>
                        </a:moveTo>
                        <a:lnTo>
                          <a:pt x="9" y="175"/>
                        </a:lnTo>
                        <a:lnTo>
                          <a:pt x="29" y="156"/>
                        </a:lnTo>
                        <a:lnTo>
                          <a:pt x="29" y="127"/>
                        </a:lnTo>
                        <a:lnTo>
                          <a:pt x="39" y="107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5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29"/>
                        </a:lnTo>
                        <a:lnTo>
                          <a:pt x="39" y="49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29" y="127"/>
                        </a:lnTo>
                        <a:lnTo>
                          <a:pt x="19" y="146"/>
                        </a:lnTo>
                        <a:lnTo>
                          <a:pt x="9" y="175"/>
                        </a:lnTo>
                        <a:lnTo>
                          <a:pt x="0" y="195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428720" y="3106080"/>
                    <a:ext cx="68904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8" h="701">
                        <a:moveTo>
                          <a:pt x="0" y="701"/>
                        </a:moveTo>
                        <a:lnTo>
                          <a:pt x="39" y="701"/>
                        </a:lnTo>
                        <a:lnTo>
                          <a:pt x="87" y="691"/>
                        </a:lnTo>
                        <a:lnTo>
                          <a:pt x="126" y="691"/>
                        </a:lnTo>
                        <a:lnTo>
                          <a:pt x="165" y="681"/>
                        </a:lnTo>
                        <a:lnTo>
                          <a:pt x="214" y="672"/>
                        </a:lnTo>
                        <a:lnTo>
                          <a:pt x="253" y="662"/>
                        </a:lnTo>
                        <a:lnTo>
                          <a:pt x="301" y="652"/>
                        </a:lnTo>
                        <a:lnTo>
                          <a:pt x="340" y="642"/>
                        </a:lnTo>
                        <a:lnTo>
                          <a:pt x="379" y="633"/>
                        </a:lnTo>
                        <a:lnTo>
                          <a:pt x="418" y="623"/>
                        </a:lnTo>
                        <a:lnTo>
                          <a:pt x="457" y="603"/>
                        </a:lnTo>
                        <a:lnTo>
                          <a:pt x="496" y="584"/>
                        </a:lnTo>
                        <a:lnTo>
                          <a:pt x="535" y="564"/>
                        </a:lnTo>
                        <a:lnTo>
                          <a:pt x="583" y="545"/>
                        </a:lnTo>
                        <a:lnTo>
                          <a:pt x="613" y="526"/>
                        </a:lnTo>
                        <a:lnTo>
                          <a:pt x="652" y="506"/>
                        </a:lnTo>
                        <a:lnTo>
                          <a:pt x="690" y="487"/>
                        </a:lnTo>
                        <a:lnTo>
                          <a:pt x="729" y="457"/>
                        </a:lnTo>
                        <a:lnTo>
                          <a:pt x="768" y="438"/>
                        </a:lnTo>
                        <a:lnTo>
                          <a:pt x="797" y="409"/>
                        </a:lnTo>
                        <a:lnTo>
                          <a:pt x="827" y="379"/>
                        </a:lnTo>
                        <a:lnTo>
                          <a:pt x="865" y="360"/>
                        </a:lnTo>
                        <a:lnTo>
                          <a:pt x="953" y="263"/>
                        </a:lnTo>
                        <a:lnTo>
                          <a:pt x="982" y="224"/>
                        </a:lnTo>
                        <a:lnTo>
                          <a:pt x="1002" y="194"/>
                        </a:lnTo>
                        <a:lnTo>
                          <a:pt x="1031" y="156"/>
                        </a:lnTo>
                        <a:lnTo>
                          <a:pt x="1050" y="126"/>
                        </a:lnTo>
                        <a:lnTo>
                          <a:pt x="1079" y="87"/>
                        </a:lnTo>
                        <a:lnTo>
                          <a:pt x="1089" y="48"/>
                        </a:lnTo>
                        <a:lnTo>
                          <a:pt x="1118" y="9"/>
                        </a:lnTo>
                        <a:lnTo>
                          <a:pt x="1109" y="0"/>
                        </a:lnTo>
                        <a:lnTo>
                          <a:pt x="1089" y="39"/>
                        </a:lnTo>
                        <a:lnTo>
                          <a:pt x="1070" y="78"/>
                        </a:lnTo>
                        <a:lnTo>
                          <a:pt x="1050" y="117"/>
                        </a:lnTo>
                        <a:lnTo>
                          <a:pt x="1021" y="156"/>
                        </a:lnTo>
                        <a:lnTo>
                          <a:pt x="1002" y="185"/>
                        </a:lnTo>
                        <a:lnTo>
                          <a:pt x="972" y="224"/>
                        </a:lnTo>
                        <a:lnTo>
                          <a:pt x="943" y="263"/>
                        </a:lnTo>
                        <a:lnTo>
                          <a:pt x="914" y="292"/>
                        </a:lnTo>
                        <a:lnTo>
                          <a:pt x="885" y="321"/>
                        </a:lnTo>
                        <a:lnTo>
                          <a:pt x="856" y="350"/>
                        </a:lnTo>
                        <a:lnTo>
                          <a:pt x="827" y="379"/>
                        </a:lnTo>
                        <a:lnTo>
                          <a:pt x="788" y="399"/>
                        </a:lnTo>
                        <a:lnTo>
                          <a:pt x="759" y="428"/>
                        </a:lnTo>
                        <a:lnTo>
                          <a:pt x="729" y="457"/>
                        </a:lnTo>
                        <a:lnTo>
                          <a:pt x="690" y="477"/>
                        </a:lnTo>
                        <a:lnTo>
                          <a:pt x="652" y="496"/>
                        </a:lnTo>
                        <a:lnTo>
                          <a:pt x="613" y="526"/>
                        </a:lnTo>
                        <a:lnTo>
                          <a:pt x="574" y="535"/>
                        </a:lnTo>
                        <a:lnTo>
                          <a:pt x="535" y="555"/>
                        </a:lnTo>
                        <a:lnTo>
                          <a:pt x="496" y="574"/>
                        </a:lnTo>
                        <a:lnTo>
                          <a:pt x="457" y="594"/>
                        </a:lnTo>
                        <a:lnTo>
                          <a:pt x="418" y="613"/>
                        </a:lnTo>
                        <a:lnTo>
                          <a:pt x="379" y="623"/>
                        </a:lnTo>
                        <a:lnTo>
                          <a:pt x="340" y="633"/>
                        </a:lnTo>
                        <a:lnTo>
                          <a:pt x="292" y="642"/>
                        </a:lnTo>
                        <a:lnTo>
                          <a:pt x="253" y="662"/>
                        </a:lnTo>
                        <a:lnTo>
                          <a:pt x="214" y="662"/>
                        </a:lnTo>
                        <a:lnTo>
                          <a:pt x="165" y="672"/>
                        </a:lnTo>
                        <a:lnTo>
                          <a:pt x="126" y="681"/>
                        </a:lnTo>
                        <a:lnTo>
                          <a:pt x="87" y="691"/>
                        </a:lnTo>
                        <a:lnTo>
                          <a:pt x="39" y="691"/>
                        </a:lnTo>
                        <a:lnTo>
                          <a:pt x="0" y="691"/>
                        </a:lnTo>
                        <a:lnTo>
                          <a:pt x="0" y="7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637080" y="3088440"/>
                    <a:ext cx="7916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730">
                        <a:moveTo>
                          <a:pt x="0" y="9"/>
                        </a:moveTo>
                        <a:lnTo>
                          <a:pt x="20" y="58"/>
                        </a:lnTo>
                        <a:lnTo>
                          <a:pt x="39" y="97"/>
                        </a:lnTo>
                        <a:lnTo>
                          <a:pt x="68" y="146"/>
                        </a:lnTo>
                        <a:lnTo>
                          <a:pt x="97" y="185"/>
                        </a:lnTo>
                        <a:lnTo>
                          <a:pt x="127" y="223"/>
                        </a:lnTo>
                        <a:lnTo>
                          <a:pt x="156" y="262"/>
                        </a:lnTo>
                        <a:lnTo>
                          <a:pt x="185" y="301"/>
                        </a:lnTo>
                        <a:lnTo>
                          <a:pt x="253" y="370"/>
                        </a:lnTo>
                        <a:lnTo>
                          <a:pt x="282" y="399"/>
                        </a:lnTo>
                        <a:lnTo>
                          <a:pt x="321" y="428"/>
                        </a:lnTo>
                        <a:lnTo>
                          <a:pt x="360" y="467"/>
                        </a:lnTo>
                        <a:lnTo>
                          <a:pt x="399" y="486"/>
                        </a:lnTo>
                        <a:lnTo>
                          <a:pt x="438" y="516"/>
                        </a:lnTo>
                        <a:lnTo>
                          <a:pt x="486" y="545"/>
                        </a:lnTo>
                        <a:lnTo>
                          <a:pt x="525" y="564"/>
                        </a:lnTo>
                        <a:lnTo>
                          <a:pt x="564" y="584"/>
                        </a:lnTo>
                        <a:lnTo>
                          <a:pt x="613" y="603"/>
                        </a:lnTo>
                        <a:lnTo>
                          <a:pt x="652" y="623"/>
                        </a:lnTo>
                        <a:lnTo>
                          <a:pt x="700" y="642"/>
                        </a:lnTo>
                        <a:lnTo>
                          <a:pt x="749" y="662"/>
                        </a:lnTo>
                        <a:lnTo>
                          <a:pt x="798" y="671"/>
                        </a:lnTo>
                        <a:lnTo>
                          <a:pt x="837" y="691"/>
                        </a:lnTo>
                        <a:lnTo>
                          <a:pt x="885" y="691"/>
                        </a:lnTo>
                        <a:lnTo>
                          <a:pt x="934" y="710"/>
                        </a:lnTo>
                        <a:lnTo>
                          <a:pt x="982" y="710"/>
                        </a:lnTo>
                        <a:lnTo>
                          <a:pt x="1031" y="720"/>
                        </a:lnTo>
                        <a:lnTo>
                          <a:pt x="1080" y="730"/>
                        </a:lnTo>
                        <a:lnTo>
                          <a:pt x="1128" y="730"/>
                        </a:lnTo>
                        <a:lnTo>
                          <a:pt x="1284" y="730"/>
                        </a:lnTo>
                        <a:lnTo>
                          <a:pt x="1284" y="720"/>
                        </a:lnTo>
                        <a:lnTo>
                          <a:pt x="1128" y="720"/>
                        </a:lnTo>
                        <a:lnTo>
                          <a:pt x="1080" y="720"/>
                        </a:lnTo>
                        <a:lnTo>
                          <a:pt x="1031" y="710"/>
                        </a:lnTo>
                        <a:lnTo>
                          <a:pt x="982" y="701"/>
                        </a:lnTo>
                        <a:lnTo>
                          <a:pt x="934" y="691"/>
                        </a:lnTo>
                        <a:lnTo>
                          <a:pt x="885" y="691"/>
                        </a:lnTo>
                        <a:lnTo>
                          <a:pt x="846" y="681"/>
                        </a:lnTo>
                        <a:lnTo>
                          <a:pt x="798" y="662"/>
                        </a:lnTo>
                        <a:lnTo>
                          <a:pt x="749" y="652"/>
                        </a:lnTo>
                        <a:lnTo>
                          <a:pt x="700" y="632"/>
                        </a:lnTo>
                        <a:lnTo>
                          <a:pt x="662" y="613"/>
                        </a:lnTo>
                        <a:lnTo>
                          <a:pt x="613" y="603"/>
                        </a:lnTo>
                        <a:lnTo>
                          <a:pt x="574" y="574"/>
                        </a:lnTo>
                        <a:lnTo>
                          <a:pt x="525" y="555"/>
                        </a:lnTo>
                        <a:lnTo>
                          <a:pt x="486" y="535"/>
                        </a:lnTo>
                        <a:lnTo>
                          <a:pt x="448" y="516"/>
                        </a:lnTo>
                        <a:lnTo>
                          <a:pt x="409" y="486"/>
                        </a:lnTo>
                        <a:lnTo>
                          <a:pt x="360" y="457"/>
                        </a:lnTo>
                        <a:lnTo>
                          <a:pt x="331" y="428"/>
                        </a:lnTo>
                        <a:lnTo>
                          <a:pt x="292" y="399"/>
                        </a:lnTo>
                        <a:lnTo>
                          <a:pt x="224" y="331"/>
                        </a:lnTo>
                        <a:lnTo>
                          <a:pt x="185" y="292"/>
                        </a:lnTo>
                        <a:lnTo>
                          <a:pt x="156" y="253"/>
                        </a:lnTo>
                        <a:lnTo>
                          <a:pt x="127" y="214"/>
                        </a:lnTo>
                        <a:lnTo>
                          <a:pt x="97" y="175"/>
                        </a:lnTo>
                        <a:lnTo>
                          <a:pt x="78" y="136"/>
                        </a:lnTo>
                        <a:lnTo>
                          <a:pt x="49" y="97"/>
                        </a:lnTo>
                        <a:lnTo>
                          <a:pt x="29" y="48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601440" y="29973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58" y="156"/>
                        </a:lnTo>
                        <a:lnTo>
                          <a:pt x="68" y="14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21440" y="2991960"/>
                    <a:ext cx="18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282" y="9"/>
                        </a:lnTo>
                        <a:lnTo>
                          <a:pt x="302" y="19"/>
                        </a:lnTo>
                        <a:lnTo>
                          <a:pt x="302" y="9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204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09560" y="2919960"/>
                    <a:ext cx="176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26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107"/>
                        </a:lnTo>
                        <a:lnTo>
                          <a:pt x="19" y="126"/>
                        </a:lnTo>
                        <a:lnTo>
                          <a:pt x="29" y="117"/>
                        </a:lnTo>
                        <a:lnTo>
                          <a:pt x="19" y="107"/>
                        </a:lnTo>
                        <a:lnTo>
                          <a:pt x="19" y="88"/>
                        </a:lnTo>
                        <a:lnTo>
                          <a:pt x="9" y="78"/>
                        </a:lnTo>
                        <a:lnTo>
                          <a:pt x="9" y="5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09560" y="285372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19" y="10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415320" y="2847600"/>
                    <a:ext cx="10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9">
                        <a:moveTo>
                          <a:pt x="156" y="10"/>
                        </a:moveTo>
                        <a:lnTo>
                          <a:pt x="166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5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11440" y="27874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"/>
                        </a:move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39080" y="2751120"/>
                    <a:ext cx="90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30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59"/>
                        </a:lnTo>
                        <a:lnTo>
                          <a:pt x="88" y="68"/>
                        </a:lnTo>
                        <a:lnTo>
                          <a:pt x="146" y="68"/>
                        </a:lnTo>
                        <a:lnTo>
                          <a:pt x="146" y="59"/>
                        </a:lnTo>
                        <a:lnTo>
                          <a:pt x="78" y="59"/>
                        </a:lnTo>
                        <a:lnTo>
                          <a:pt x="68" y="59"/>
                        </a:lnTo>
                        <a:lnTo>
                          <a:pt x="68" y="49"/>
                        </a:lnTo>
                        <a:lnTo>
                          <a:pt x="59" y="49"/>
                        </a:lnTo>
                        <a:lnTo>
                          <a:pt x="4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15320" y="27090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30" y="59"/>
                        </a:lnTo>
                        <a:lnTo>
                          <a:pt x="30" y="68"/>
                        </a:lnTo>
                        <a:lnTo>
                          <a:pt x="39" y="7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379320" y="26913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361320" y="262512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10" y="1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9" y="87"/>
                        </a:lnTo>
                        <a:lnTo>
                          <a:pt x="19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19" y="87"/>
                        </a:ln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325320" y="2498400"/>
                    <a:ext cx="424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5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10" y="117"/>
                        </a:lnTo>
                        <a:lnTo>
                          <a:pt x="20" y="137"/>
                        </a:lnTo>
                        <a:lnTo>
                          <a:pt x="39" y="166"/>
                        </a:lnTo>
                        <a:lnTo>
                          <a:pt x="49" y="195"/>
                        </a:lnTo>
                        <a:lnTo>
                          <a:pt x="69" y="215"/>
                        </a:lnTo>
                        <a:lnTo>
                          <a:pt x="69" y="205"/>
                        </a:lnTo>
                        <a:lnTo>
                          <a:pt x="59" y="185"/>
                        </a:lnTo>
                        <a:lnTo>
                          <a:pt x="39" y="156"/>
                        </a:lnTo>
                        <a:lnTo>
                          <a:pt x="30" y="137"/>
                        </a:lnTo>
                        <a:lnTo>
                          <a:pt x="20" y="11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331440" y="2438640"/>
                    <a:ext cx="90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7">
                        <a:moveTo>
                          <a:pt x="146" y="0"/>
                        </a:move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27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lnTo>
                          <a:pt x="14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15320" y="2438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0" y="39"/>
                        </a:moveTo>
                        <a:lnTo>
                          <a:pt x="30" y="3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15320" y="2432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49"/>
                        </a:lnTo>
                        <a:lnTo>
                          <a:pt x="30" y="49"/>
                        </a:lnTo>
                        <a:lnTo>
                          <a:pt x="30" y="49"/>
                        </a:lnTo>
                        <a:lnTo>
                          <a:pt x="39" y="3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391200" y="2306520"/>
                    <a:ext cx="29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4">
                        <a:moveTo>
                          <a:pt x="20" y="0"/>
                        </a:move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20" y="156"/>
                        </a:lnTo>
                        <a:lnTo>
                          <a:pt x="30" y="175"/>
                        </a:lnTo>
                        <a:lnTo>
                          <a:pt x="39" y="204"/>
                        </a:lnTo>
                        <a:lnTo>
                          <a:pt x="49" y="204"/>
                        </a:lnTo>
                        <a:lnTo>
                          <a:pt x="39" y="175"/>
                        </a:lnTo>
                        <a:lnTo>
                          <a:pt x="30" y="156"/>
                        </a:lnTo>
                        <a:lnTo>
                          <a:pt x="20" y="126"/>
                        </a:lnTo>
                        <a:lnTo>
                          <a:pt x="20" y="107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03440" y="2270160"/>
                    <a:ext cx="59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9">
                        <a:moveTo>
                          <a:pt x="87" y="10"/>
                        </a:move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68" y="10"/>
                        </a:lnTo>
                        <a:lnTo>
                          <a:pt x="58" y="2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10" y="59"/>
                        </a:lnTo>
                        <a:lnTo>
                          <a:pt x="29" y="4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58" y="3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57080" y="2216520"/>
                    <a:ext cx="183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0" y="4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69320" y="2108160"/>
                    <a:ext cx="18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75">
                        <a:moveTo>
                          <a:pt x="301" y="0"/>
                        </a:moveTo>
                        <a:lnTo>
                          <a:pt x="282" y="9"/>
                        </a:lnTo>
                        <a:lnTo>
                          <a:pt x="262" y="9"/>
                        </a:lnTo>
                        <a:lnTo>
                          <a:pt x="243" y="29"/>
                        </a:lnTo>
                        <a:lnTo>
                          <a:pt x="224" y="38"/>
                        </a:lnTo>
                        <a:lnTo>
                          <a:pt x="204" y="48"/>
                        </a:lnTo>
                        <a:lnTo>
                          <a:pt x="185" y="48"/>
                        </a:lnTo>
                        <a:lnTo>
                          <a:pt x="165" y="58"/>
                        </a:lnTo>
                        <a:lnTo>
                          <a:pt x="146" y="68"/>
                        </a:lnTo>
                        <a:lnTo>
                          <a:pt x="126" y="77"/>
                        </a:lnTo>
                        <a:lnTo>
                          <a:pt x="107" y="87"/>
                        </a:lnTo>
                        <a:lnTo>
                          <a:pt x="87" y="97"/>
                        </a:lnTo>
                        <a:lnTo>
                          <a:pt x="68" y="116"/>
                        </a:lnTo>
                        <a:lnTo>
                          <a:pt x="49" y="126"/>
                        </a:lnTo>
                        <a:lnTo>
                          <a:pt x="29" y="136"/>
                        </a:lnTo>
                        <a:lnTo>
                          <a:pt x="19" y="155"/>
                        </a:lnTo>
                        <a:lnTo>
                          <a:pt x="0" y="175"/>
                        </a:lnTo>
                        <a:lnTo>
                          <a:pt x="10" y="175"/>
                        </a:lnTo>
                        <a:lnTo>
                          <a:pt x="19" y="165"/>
                        </a:lnTo>
                        <a:lnTo>
                          <a:pt x="39" y="146"/>
                        </a:lnTo>
                        <a:lnTo>
                          <a:pt x="58" y="136"/>
                        </a:lnTo>
                        <a:lnTo>
                          <a:pt x="68" y="126"/>
                        </a:lnTo>
                        <a:lnTo>
                          <a:pt x="87" y="107"/>
                        </a:lnTo>
                        <a:lnTo>
                          <a:pt x="107" y="97"/>
                        </a:lnTo>
                        <a:lnTo>
                          <a:pt x="126" y="87"/>
                        </a:lnTo>
                        <a:lnTo>
                          <a:pt x="146" y="77"/>
                        </a:lnTo>
                        <a:lnTo>
                          <a:pt x="165" y="68"/>
                        </a:lnTo>
                        <a:lnTo>
                          <a:pt x="185" y="58"/>
                        </a:lnTo>
                        <a:lnTo>
                          <a:pt x="204" y="48"/>
                        </a:lnTo>
                        <a:lnTo>
                          <a:pt x="224" y="48"/>
                        </a:lnTo>
                        <a:lnTo>
                          <a:pt x="243" y="38"/>
                        </a:lnTo>
                        <a:lnTo>
                          <a:pt x="262" y="29"/>
                        </a:lnTo>
                        <a:lnTo>
                          <a:pt x="282" y="9"/>
                        </a:lnTo>
                        <a:lnTo>
                          <a:pt x="301" y="0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655080" y="2095920"/>
                    <a:ext cx="90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29">
                        <a:moveTo>
                          <a:pt x="146" y="20"/>
                        </a:moveTo>
                        <a:lnTo>
                          <a:pt x="137" y="20"/>
                        </a:lnTo>
                        <a:lnTo>
                          <a:pt x="137" y="2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9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20"/>
                        </a:lnTo>
                        <a:lnTo>
                          <a:pt x="127" y="20"/>
                        </a:lnTo>
                        <a:lnTo>
                          <a:pt x="137" y="29"/>
                        </a:lnTo>
                        <a:lnTo>
                          <a:pt x="146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739320" y="2108160"/>
                    <a:ext cx="23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6">
                        <a:moveTo>
                          <a:pt x="38" y="116"/>
                        </a:moveTo>
                        <a:lnTo>
                          <a:pt x="38" y="126"/>
                        </a:lnTo>
                        <a:lnTo>
                          <a:pt x="38" y="107"/>
                        </a:lnTo>
                        <a:lnTo>
                          <a:pt x="38" y="87"/>
                        </a:lnTo>
                        <a:lnTo>
                          <a:pt x="38" y="77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19" y="2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77"/>
                        </a:lnTo>
                        <a:lnTo>
                          <a:pt x="29" y="87"/>
                        </a:lnTo>
                        <a:lnTo>
                          <a:pt x="29" y="107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763080" y="21621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810960" y="216216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68" y="10"/>
                        </a:moveTo>
                        <a:lnTo>
                          <a:pt x="68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853080" y="2005920"/>
                    <a:ext cx="1013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4" h="263">
                        <a:moveTo>
                          <a:pt x="1634" y="204"/>
                        </a:moveTo>
                        <a:lnTo>
                          <a:pt x="1634" y="204"/>
                        </a:lnTo>
                        <a:lnTo>
                          <a:pt x="1595" y="175"/>
                        </a:lnTo>
                        <a:lnTo>
                          <a:pt x="1547" y="156"/>
                        </a:lnTo>
                        <a:lnTo>
                          <a:pt x="1498" y="127"/>
                        </a:lnTo>
                        <a:lnTo>
                          <a:pt x="1449" y="107"/>
                        </a:lnTo>
                        <a:lnTo>
                          <a:pt x="1401" y="88"/>
                        </a:lnTo>
                        <a:lnTo>
                          <a:pt x="1352" y="78"/>
                        </a:lnTo>
                        <a:lnTo>
                          <a:pt x="1294" y="58"/>
                        </a:lnTo>
                        <a:lnTo>
                          <a:pt x="1245" y="39"/>
                        </a:lnTo>
                        <a:lnTo>
                          <a:pt x="1197" y="39"/>
                        </a:lnTo>
                        <a:lnTo>
                          <a:pt x="1138" y="19"/>
                        </a:lnTo>
                        <a:lnTo>
                          <a:pt x="1090" y="10"/>
                        </a:lnTo>
                        <a:lnTo>
                          <a:pt x="1031" y="10"/>
                        </a:lnTo>
                        <a:lnTo>
                          <a:pt x="973" y="0"/>
                        </a:lnTo>
                        <a:lnTo>
                          <a:pt x="924" y="0"/>
                        </a:lnTo>
                        <a:lnTo>
                          <a:pt x="808" y="0"/>
                        </a:lnTo>
                        <a:lnTo>
                          <a:pt x="759" y="0"/>
                        </a:lnTo>
                        <a:lnTo>
                          <a:pt x="701" y="10"/>
                        </a:lnTo>
                        <a:lnTo>
                          <a:pt x="652" y="10"/>
                        </a:lnTo>
                        <a:lnTo>
                          <a:pt x="594" y="19"/>
                        </a:lnTo>
                        <a:lnTo>
                          <a:pt x="535" y="39"/>
                        </a:lnTo>
                        <a:lnTo>
                          <a:pt x="487" y="39"/>
                        </a:lnTo>
                        <a:lnTo>
                          <a:pt x="438" y="58"/>
                        </a:lnTo>
                        <a:lnTo>
                          <a:pt x="380" y="78"/>
                        </a:lnTo>
                        <a:lnTo>
                          <a:pt x="331" y="88"/>
                        </a:lnTo>
                        <a:lnTo>
                          <a:pt x="282" y="107"/>
                        </a:lnTo>
                        <a:lnTo>
                          <a:pt x="234" y="127"/>
                        </a:lnTo>
                        <a:lnTo>
                          <a:pt x="185" y="156"/>
                        </a:lnTo>
                        <a:lnTo>
                          <a:pt x="136" y="175"/>
                        </a:lnTo>
                        <a:lnTo>
                          <a:pt x="88" y="204"/>
                        </a:lnTo>
                        <a:lnTo>
                          <a:pt x="39" y="234"/>
                        </a:lnTo>
                        <a:lnTo>
                          <a:pt x="0" y="263"/>
                        </a:lnTo>
                        <a:lnTo>
                          <a:pt x="0" y="263"/>
                        </a:lnTo>
                        <a:lnTo>
                          <a:pt x="49" y="243"/>
                        </a:lnTo>
                        <a:lnTo>
                          <a:pt x="98" y="214"/>
                        </a:lnTo>
                        <a:lnTo>
                          <a:pt x="136" y="185"/>
                        </a:lnTo>
                        <a:lnTo>
                          <a:pt x="185" y="166"/>
                        </a:lnTo>
                        <a:lnTo>
                          <a:pt x="234" y="136"/>
                        </a:lnTo>
                        <a:lnTo>
                          <a:pt x="282" y="117"/>
                        </a:lnTo>
                        <a:lnTo>
                          <a:pt x="331" y="97"/>
                        </a:lnTo>
                        <a:lnTo>
                          <a:pt x="389" y="78"/>
                        </a:lnTo>
                        <a:lnTo>
                          <a:pt x="438" y="68"/>
                        </a:lnTo>
                        <a:lnTo>
                          <a:pt x="487" y="49"/>
                        </a:lnTo>
                        <a:lnTo>
                          <a:pt x="535" y="39"/>
                        </a:lnTo>
                        <a:lnTo>
                          <a:pt x="594" y="29"/>
                        </a:lnTo>
                        <a:lnTo>
                          <a:pt x="652" y="19"/>
                        </a:lnTo>
                        <a:lnTo>
                          <a:pt x="701" y="19"/>
                        </a:lnTo>
                        <a:lnTo>
                          <a:pt x="759" y="10"/>
                        </a:lnTo>
                        <a:lnTo>
                          <a:pt x="808" y="10"/>
                        </a:lnTo>
                        <a:lnTo>
                          <a:pt x="924" y="10"/>
                        </a:lnTo>
                        <a:lnTo>
                          <a:pt x="973" y="10"/>
                        </a:lnTo>
                        <a:lnTo>
                          <a:pt x="1031" y="19"/>
                        </a:lnTo>
                        <a:lnTo>
                          <a:pt x="1090" y="19"/>
                        </a:lnTo>
                        <a:lnTo>
                          <a:pt x="1138" y="29"/>
                        </a:lnTo>
                        <a:lnTo>
                          <a:pt x="1197" y="39"/>
                        </a:lnTo>
                        <a:lnTo>
                          <a:pt x="1245" y="49"/>
                        </a:lnTo>
                        <a:lnTo>
                          <a:pt x="1294" y="68"/>
                        </a:lnTo>
                        <a:lnTo>
                          <a:pt x="1352" y="78"/>
                        </a:lnTo>
                        <a:lnTo>
                          <a:pt x="1401" y="97"/>
                        </a:lnTo>
                        <a:lnTo>
                          <a:pt x="1449" y="117"/>
                        </a:lnTo>
                        <a:lnTo>
                          <a:pt x="1498" y="136"/>
                        </a:lnTo>
                        <a:lnTo>
                          <a:pt x="1547" y="166"/>
                        </a:lnTo>
                        <a:lnTo>
                          <a:pt x="1586" y="185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643200" y="2017440"/>
                    <a:ext cx="1318680" cy="15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9" h="2444">
                        <a:moveTo>
                          <a:pt x="1712" y="88"/>
                        </a:moveTo>
                        <a:lnTo>
                          <a:pt x="1712" y="98"/>
                        </a:lnTo>
                        <a:lnTo>
                          <a:pt x="1712" y="108"/>
                        </a:lnTo>
                        <a:lnTo>
                          <a:pt x="1712" y="117"/>
                        </a:lnTo>
                        <a:lnTo>
                          <a:pt x="1721" y="127"/>
                        </a:lnTo>
                        <a:lnTo>
                          <a:pt x="1731" y="127"/>
                        </a:lnTo>
                        <a:lnTo>
                          <a:pt x="1750" y="137"/>
                        </a:lnTo>
                        <a:lnTo>
                          <a:pt x="1760" y="137"/>
                        </a:lnTo>
                        <a:lnTo>
                          <a:pt x="1780" y="147"/>
                        </a:lnTo>
                        <a:lnTo>
                          <a:pt x="1789" y="147"/>
                        </a:lnTo>
                        <a:lnTo>
                          <a:pt x="1809" y="147"/>
                        </a:lnTo>
                        <a:lnTo>
                          <a:pt x="1819" y="156"/>
                        </a:lnTo>
                        <a:lnTo>
                          <a:pt x="1838" y="156"/>
                        </a:lnTo>
                        <a:lnTo>
                          <a:pt x="1848" y="166"/>
                        </a:lnTo>
                        <a:lnTo>
                          <a:pt x="1857" y="176"/>
                        </a:lnTo>
                        <a:lnTo>
                          <a:pt x="1877" y="185"/>
                        </a:lnTo>
                        <a:lnTo>
                          <a:pt x="1887" y="195"/>
                        </a:lnTo>
                        <a:lnTo>
                          <a:pt x="1887" y="205"/>
                        </a:lnTo>
                        <a:lnTo>
                          <a:pt x="1896" y="224"/>
                        </a:lnTo>
                        <a:lnTo>
                          <a:pt x="1906" y="234"/>
                        </a:lnTo>
                        <a:lnTo>
                          <a:pt x="1896" y="244"/>
                        </a:lnTo>
                        <a:lnTo>
                          <a:pt x="1887" y="244"/>
                        </a:lnTo>
                        <a:lnTo>
                          <a:pt x="1877" y="254"/>
                        </a:lnTo>
                        <a:lnTo>
                          <a:pt x="1867" y="244"/>
                        </a:lnTo>
                        <a:lnTo>
                          <a:pt x="1857" y="244"/>
                        </a:lnTo>
                        <a:lnTo>
                          <a:pt x="1848" y="244"/>
                        </a:lnTo>
                        <a:lnTo>
                          <a:pt x="1838" y="234"/>
                        </a:lnTo>
                        <a:lnTo>
                          <a:pt x="1828" y="234"/>
                        </a:lnTo>
                        <a:lnTo>
                          <a:pt x="1819" y="234"/>
                        </a:lnTo>
                        <a:lnTo>
                          <a:pt x="1799" y="224"/>
                        </a:lnTo>
                        <a:lnTo>
                          <a:pt x="1789" y="215"/>
                        </a:lnTo>
                        <a:lnTo>
                          <a:pt x="1780" y="205"/>
                        </a:lnTo>
                        <a:lnTo>
                          <a:pt x="1770" y="195"/>
                        </a:lnTo>
                        <a:lnTo>
                          <a:pt x="1760" y="195"/>
                        </a:lnTo>
                        <a:lnTo>
                          <a:pt x="1750" y="185"/>
                        </a:lnTo>
                        <a:lnTo>
                          <a:pt x="1731" y="176"/>
                        </a:lnTo>
                        <a:lnTo>
                          <a:pt x="1721" y="156"/>
                        </a:lnTo>
                        <a:lnTo>
                          <a:pt x="1712" y="147"/>
                        </a:lnTo>
                        <a:lnTo>
                          <a:pt x="1702" y="147"/>
                        </a:lnTo>
                        <a:lnTo>
                          <a:pt x="1692" y="137"/>
                        </a:lnTo>
                        <a:lnTo>
                          <a:pt x="1673" y="137"/>
                        </a:lnTo>
                        <a:lnTo>
                          <a:pt x="1663" y="127"/>
                        </a:lnTo>
                        <a:lnTo>
                          <a:pt x="1653" y="127"/>
                        </a:lnTo>
                        <a:lnTo>
                          <a:pt x="1634" y="117"/>
                        </a:lnTo>
                        <a:lnTo>
                          <a:pt x="1624" y="117"/>
                        </a:lnTo>
                        <a:lnTo>
                          <a:pt x="1605" y="127"/>
                        </a:lnTo>
                        <a:lnTo>
                          <a:pt x="1595" y="127"/>
                        </a:lnTo>
                        <a:lnTo>
                          <a:pt x="1585" y="127"/>
                        </a:lnTo>
                        <a:lnTo>
                          <a:pt x="1556" y="127"/>
                        </a:lnTo>
                        <a:lnTo>
                          <a:pt x="1546" y="137"/>
                        </a:lnTo>
                        <a:lnTo>
                          <a:pt x="1537" y="137"/>
                        </a:lnTo>
                        <a:lnTo>
                          <a:pt x="1517" y="147"/>
                        </a:lnTo>
                        <a:lnTo>
                          <a:pt x="1498" y="156"/>
                        </a:lnTo>
                        <a:lnTo>
                          <a:pt x="1478" y="166"/>
                        </a:lnTo>
                        <a:lnTo>
                          <a:pt x="1459" y="176"/>
                        </a:lnTo>
                        <a:lnTo>
                          <a:pt x="1449" y="185"/>
                        </a:lnTo>
                        <a:lnTo>
                          <a:pt x="1420" y="185"/>
                        </a:lnTo>
                        <a:lnTo>
                          <a:pt x="1400" y="185"/>
                        </a:lnTo>
                        <a:lnTo>
                          <a:pt x="1381" y="195"/>
                        </a:lnTo>
                        <a:lnTo>
                          <a:pt x="1361" y="195"/>
                        </a:lnTo>
                        <a:lnTo>
                          <a:pt x="1342" y="195"/>
                        </a:lnTo>
                        <a:lnTo>
                          <a:pt x="1323" y="205"/>
                        </a:lnTo>
                        <a:lnTo>
                          <a:pt x="1303" y="215"/>
                        </a:lnTo>
                        <a:lnTo>
                          <a:pt x="1284" y="224"/>
                        </a:lnTo>
                        <a:lnTo>
                          <a:pt x="1274" y="234"/>
                        </a:lnTo>
                        <a:lnTo>
                          <a:pt x="1254" y="244"/>
                        </a:lnTo>
                        <a:lnTo>
                          <a:pt x="1245" y="263"/>
                        </a:lnTo>
                        <a:lnTo>
                          <a:pt x="1245" y="283"/>
                        </a:lnTo>
                        <a:lnTo>
                          <a:pt x="1254" y="293"/>
                        </a:lnTo>
                        <a:lnTo>
                          <a:pt x="1264" y="312"/>
                        </a:lnTo>
                        <a:lnTo>
                          <a:pt x="1274" y="322"/>
                        </a:lnTo>
                        <a:lnTo>
                          <a:pt x="1284" y="331"/>
                        </a:lnTo>
                        <a:lnTo>
                          <a:pt x="1293" y="351"/>
                        </a:lnTo>
                        <a:lnTo>
                          <a:pt x="1303" y="361"/>
                        </a:lnTo>
                        <a:lnTo>
                          <a:pt x="1313" y="370"/>
                        </a:lnTo>
                        <a:lnTo>
                          <a:pt x="1313" y="380"/>
                        </a:lnTo>
                        <a:lnTo>
                          <a:pt x="1303" y="390"/>
                        </a:lnTo>
                        <a:lnTo>
                          <a:pt x="1303" y="400"/>
                        </a:lnTo>
                        <a:lnTo>
                          <a:pt x="1313" y="409"/>
                        </a:lnTo>
                        <a:lnTo>
                          <a:pt x="1313" y="419"/>
                        </a:lnTo>
                        <a:lnTo>
                          <a:pt x="1313" y="439"/>
                        </a:lnTo>
                        <a:lnTo>
                          <a:pt x="1323" y="448"/>
                        </a:lnTo>
                        <a:lnTo>
                          <a:pt x="1361" y="478"/>
                        </a:lnTo>
                        <a:lnTo>
                          <a:pt x="1361" y="487"/>
                        </a:lnTo>
                        <a:lnTo>
                          <a:pt x="1361" y="497"/>
                        </a:lnTo>
                        <a:lnTo>
                          <a:pt x="1371" y="507"/>
                        </a:lnTo>
                        <a:lnTo>
                          <a:pt x="1371" y="516"/>
                        </a:lnTo>
                        <a:lnTo>
                          <a:pt x="1274" y="594"/>
                        </a:lnTo>
                        <a:lnTo>
                          <a:pt x="1274" y="604"/>
                        </a:lnTo>
                        <a:lnTo>
                          <a:pt x="1274" y="604"/>
                        </a:lnTo>
                        <a:lnTo>
                          <a:pt x="1284" y="614"/>
                        </a:lnTo>
                        <a:lnTo>
                          <a:pt x="1284" y="614"/>
                        </a:lnTo>
                        <a:lnTo>
                          <a:pt x="1293" y="624"/>
                        </a:lnTo>
                        <a:lnTo>
                          <a:pt x="1352" y="624"/>
                        </a:lnTo>
                        <a:lnTo>
                          <a:pt x="1361" y="614"/>
                        </a:lnTo>
                        <a:lnTo>
                          <a:pt x="1361" y="614"/>
                        </a:lnTo>
                        <a:lnTo>
                          <a:pt x="1371" y="614"/>
                        </a:lnTo>
                        <a:lnTo>
                          <a:pt x="1381" y="604"/>
                        </a:lnTo>
                        <a:lnTo>
                          <a:pt x="1391" y="604"/>
                        </a:lnTo>
                        <a:lnTo>
                          <a:pt x="1400" y="604"/>
                        </a:lnTo>
                        <a:lnTo>
                          <a:pt x="1449" y="604"/>
                        </a:lnTo>
                        <a:lnTo>
                          <a:pt x="1449" y="594"/>
                        </a:lnTo>
                        <a:lnTo>
                          <a:pt x="1478" y="594"/>
                        </a:lnTo>
                        <a:lnTo>
                          <a:pt x="1488" y="594"/>
                        </a:lnTo>
                        <a:lnTo>
                          <a:pt x="1507" y="594"/>
                        </a:lnTo>
                        <a:lnTo>
                          <a:pt x="1517" y="585"/>
                        </a:lnTo>
                        <a:lnTo>
                          <a:pt x="1537" y="585"/>
                        </a:lnTo>
                        <a:lnTo>
                          <a:pt x="1546" y="594"/>
                        </a:lnTo>
                        <a:lnTo>
                          <a:pt x="1566" y="594"/>
                        </a:lnTo>
                        <a:lnTo>
                          <a:pt x="1575" y="594"/>
                        </a:lnTo>
                        <a:lnTo>
                          <a:pt x="1585" y="624"/>
                        </a:lnTo>
                        <a:lnTo>
                          <a:pt x="1595" y="643"/>
                        </a:lnTo>
                        <a:lnTo>
                          <a:pt x="1595" y="672"/>
                        </a:lnTo>
                        <a:lnTo>
                          <a:pt x="1605" y="701"/>
                        </a:lnTo>
                        <a:lnTo>
                          <a:pt x="1605" y="721"/>
                        </a:lnTo>
                        <a:lnTo>
                          <a:pt x="1614" y="750"/>
                        </a:lnTo>
                        <a:lnTo>
                          <a:pt x="1614" y="809"/>
                        </a:lnTo>
                        <a:lnTo>
                          <a:pt x="1624" y="818"/>
                        </a:lnTo>
                        <a:lnTo>
                          <a:pt x="1634" y="838"/>
                        </a:lnTo>
                        <a:lnTo>
                          <a:pt x="1653" y="838"/>
                        </a:lnTo>
                        <a:lnTo>
                          <a:pt x="1663" y="848"/>
                        </a:lnTo>
                        <a:lnTo>
                          <a:pt x="1673" y="848"/>
                        </a:lnTo>
                        <a:lnTo>
                          <a:pt x="1682" y="857"/>
                        </a:lnTo>
                        <a:lnTo>
                          <a:pt x="1702" y="857"/>
                        </a:lnTo>
                        <a:lnTo>
                          <a:pt x="1712" y="867"/>
                        </a:lnTo>
                        <a:lnTo>
                          <a:pt x="1721" y="867"/>
                        </a:lnTo>
                        <a:lnTo>
                          <a:pt x="1741" y="877"/>
                        </a:lnTo>
                        <a:lnTo>
                          <a:pt x="1750" y="877"/>
                        </a:lnTo>
                        <a:lnTo>
                          <a:pt x="1760" y="886"/>
                        </a:lnTo>
                        <a:lnTo>
                          <a:pt x="1780" y="886"/>
                        </a:lnTo>
                        <a:lnTo>
                          <a:pt x="1789" y="896"/>
                        </a:lnTo>
                        <a:lnTo>
                          <a:pt x="1799" y="896"/>
                        </a:lnTo>
                        <a:lnTo>
                          <a:pt x="1809" y="896"/>
                        </a:lnTo>
                        <a:lnTo>
                          <a:pt x="1809" y="906"/>
                        </a:lnTo>
                        <a:lnTo>
                          <a:pt x="1819" y="916"/>
                        </a:lnTo>
                        <a:lnTo>
                          <a:pt x="1819" y="925"/>
                        </a:lnTo>
                        <a:lnTo>
                          <a:pt x="1828" y="935"/>
                        </a:lnTo>
                        <a:lnTo>
                          <a:pt x="1828" y="935"/>
                        </a:lnTo>
                        <a:lnTo>
                          <a:pt x="1809" y="945"/>
                        </a:lnTo>
                        <a:lnTo>
                          <a:pt x="1809" y="945"/>
                        </a:lnTo>
                        <a:lnTo>
                          <a:pt x="1799" y="945"/>
                        </a:lnTo>
                        <a:lnTo>
                          <a:pt x="1799" y="945"/>
                        </a:lnTo>
                        <a:lnTo>
                          <a:pt x="1789" y="935"/>
                        </a:lnTo>
                        <a:lnTo>
                          <a:pt x="1789" y="935"/>
                        </a:lnTo>
                        <a:lnTo>
                          <a:pt x="1780" y="935"/>
                        </a:lnTo>
                        <a:lnTo>
                          <a:pt x="1770" y="925"/>
                        </a:lnTo>
                        <a:lnTo>
                          <a:pt x="1770" y="916"/>
                        </a:lnTo>
                        <a:lnTo>
                          <a:pt x="1760" y="916"/>
                        </a:lnTo>
                        <a:lnTo>
                          <a:pt x="1750" y="906"/>
                        </a:lnTo>
                        <a:lnTo>
                          <a:pt x="1750" y="906"/>
                        </a:lnTo>
                        <a:lnTo>
                          <a:pt x="1741" y="896"/>
                        </a:lnTo>
                        <a:lnTo>
                          <a:pt x="1731" y="896"/>
                        </a:lnTo>
                        <a:lnTo>
                          <a:pt x="1721" y="896"/>
                        </a:lnTo>
                        <a:lnTo>
                          <a:pt x="1712" y="896"/>
                        </a:lnTo>
                        <a:lnTo>
                          <a:pt x="1712" y="886"/>
                        </a:lnTo>
                        <a:lnTo>
                          <a:pt x="1682" y="886"/>
                        </a:lnTo>
                        <a:lnTo>
                          <a:pt x="1673" y="886"/>
                        </a:lnTo>
                        <a:lnTo>
                          <a:pt x="1663" y="886"/>
                        </a:lnTo>
                        <a:lnTo>
                          <a:pt x="1663" y="896"/>
                        </a:lnTo>
                        <a:lnTo>
                          <a:pt x="1663" y="896"/>
                        </a:lnTo>
                        <a:lnTo>
                          <a:pt x="1663" y="906"/>
                        </a:lnTo>
                        <a:lnTo>
                          <a:pt x="1663" y="916"/>
                        </a:lnTo>
                        <a:lnTo>
                          <a:pt x="1721" y="974"/>
                        </a:lnTo>
                        <a:lnTo>
                          <a:pt x="1712" y="984"/>
                        </a:lnTo>
                        <a:lnTo>
                          <a:pt x="1702" y="984"/>
                        </a:lnTo>
                        <a:lnTo>
                          <a:pt x="1702" y="994"/>
                        </a:lnTo>
                        <a:lnTo>
                          <a:pt x="1692" y="994"/>
                        </a:lnTo>
                        <a:lnTo>
                          <a:pt x="1682" y="1003"/>
                        </a:lnTo>
                        <a:lnTo>
                          <a:pt x="1682" y="1033"/>
                        </a:lnTo>
                        <a:lnTo>
                          <a:pt x="1702" y="1042"/>
                        </a:lnTo>
                        <a:lnTo>
                          <a:pt x="1702" y="1052"/>
                        </a:lnTo>
                        <a:lnTo>
                          <a:pt x="1712" y="1101"/>
                        </a:lnTo>
                        <a:lnTo>
                          <a:pt x="1712" y="1110"/>
                        </a:lnTo>
                        <a:lnTo>
                          <a:pt x="1721" y="1110"/>
                        </a:lnTo>
                        <a:lnTo>
                          <a:pt x="1731" y="1110"/>
                        </a:lnTo>
                        <a:lnTo>
                          <a:pt x="1741" y="1120"/>
                        </a:lnTo>
                        <a:lnTo>
                          <a:pt x="1750" y="1120"/>
                        </a:lnTo>
                        <a:lnTo>
                          <a:pt x="1750" y="1130"/>
                        </a:lnTo>
                        <a:lnTo>
                          <a:pt x="1760" y="1130"/>
                        </a:lnTo>
                        <a:lnTo>
                          <a:pt x="1770" y="1130"/>
                        </a:lnTo>
                        <a:lnTo>
                          <a:pt x="1770" y="1149"/>
                        </a:lnTo>
                        <a:lnTo>
                          <a:pt x="1780" y="1159"/>
                        </a:lnTo>
                        <a:lnTo>
                          <a:pt x="1780" y="1169"/>
                        </a:lnTo>
                        <a:lnTo>
                          <a:pt x="1789" y="1179"/>
                        </a:lnTo>
                        <a:lnTo>
                          <a:pt x="1789" y="1188"/>
                        </a:lnTo>
                        <a:lnTo>
                          <a:pt x="1789" y="1198"/>
                        </a:lnTo>
                        <a:lnTo>
                          <a:pt x="1799" y="1208"/>
                        </a:lnTo>
                        <a:lnTo>
                          <a:pt x="1721" y="1266"/>
                        </a:lnTo>
                        <a:lnTo>
                          <a:pt x="1721" y="1295"/>
                        </a:lnTo>
                        <a:lnTo>
                          <a:pt x="1721" y="1334"/>
                        </a:lnTo>
                        <a:lnTo>
                          <a:pt x="1731" y="1373"/>
                        </a:lnTo>
                        <a:lnTo>
                          <a:pt x="1731" y="1403"/>
                        </a:lnTo>
                        <a:lnTo>
                          <a:pt x="1721" y="1422"/>
                        </a:lnTo>
                        <a:lnTo>
                          <a:pt x="1712" y="1461"/>
                        </a:lnTo>
                        <a:lnTo>
                          <a:pt x="1692" y="1490"/>
                        </a:lnTo>
                        <a:lnTo>
                          <a:pt x="1682" y="1519"/>
                        </a:lnTo>
                        <a:lnTo>
                          <a:pt x="1673" y="1549"/>
                        </a:lnTo>
                        <a:lnTo>
                          <a:pt x="1673" y="1578"/>
                        </a:lnTo>
                        <a:lnTo>
                          <a:pt x="1682" y="1607"/>
                        </a:lnTo>
                        <a:lnTo>
                          <a:pt x="1712" y="1636"/>
                        </a:lnTo>
                        <a:lnTo>
                          <a:pt x="1731" y="1656"/>
                        </a:lnTo>
                        <a:lnTo>
                          <a:pt x="1741" y="1665"/>
                        </a:lnTo>
                        <a:lnTo>
                          <a:pt x="1750" y="1675"/>
                        </a:lnTo>
                        <a:lnTo>
                          <a:pt x="1760" y="1695"/>
                        </a:lnTo>
                        <a:lnTo>
                          <a:pt x="1770" y="1704"/>
                        </a:lnTo>
                        <a:lnTo>
                          <a:pt x="1780" y="1714"/>
                        </a:lnTo>
                        <a:lnTo>
                          <a:pt x="1789" y="1724"/>
                        </a:lnTo>
                        <a:lnTo>
                          <a:pt x="1799" y="1734"/>
                        </a:lnTo>
                        <a:lnTo>
                          <a:pt x="1809" y="1753"/>
                        </a:lnTo>
                        <a:lnTo>
                          <a:pt x="1809" y="1763"/>
                        </a:lnTo>
                        <a:lnTo>
                          <a:pt x="1819" y="1772"/>
                        </a:lnTo>
                        <a:lnTo>
                          <a:pt x="1828" y="1782"/>
                        </a:lnTo>
                        <a:lnTo>
                          <a:pt x="1838" y="1792"/>
                        </a:lnTo>
                        <a:lnTo>
                          <a:pt x="1838" y="1802"/>
                        </a:lnTo>
                        <a:lnTo>
                          <a:pt x="1838" y="1821"/>
                        </a:lnTo>
                        <a:lnTo>
                          <a:pt x="1828" y="1841"/>
                        </a:lnTo>
                        <a:lnTo>
                          <a:pt x="1828" y="1860"/>
                        </a:lnTo>
                        <a:lnTo>
                          <a:pt x="1819" y="1880"/>
                        </a:lnTo>
                        <a:lnTo>
                          <a:pt x="1809" y="1899"/>
                        </a:lnTo>
                        <a:lnTo>
                          <a:pt x="1809" y="1919"/>
                        </a:lnTo>
                        <a:lnTo>
                          <a:pt x="1799" y="1938"/>
                        </a:lnTo>
                        <a:lnTo>
                          <a:pt x="1799" y="1957"/>
                        </a:lnTo>
                        <a:lnTo>
                          <a:pt x="1789" y="1967"/>
                        </a:lnTo>
                        <a:lnTo>
                          <a:pt x="1780" y="1977"/>
                        </a:lnTo>
                        <a:lnTo>
                          <a:pt x="1770" y="1987"/>
                        </a:lnTo>
                        <a:lnTo>
                          <a:pt x="1760" y="1987"/>
                        </a:lnTo>
                        <a:lnTo>
                          <a:pt x="1750" y="1996"/>
                        </a:lnTo>
                        <a:lnTo>
                          <a:pt x="1741" y="1996"/>
                        </a:lnTo>
                        <a:lnTo>
                          <a:pt x="1731" y="2016"/>
                        </a:lnTo>
                        <a:lnTo>
                          <a:pt x="1721" y="2026"/>
                        </a:lnTo>
                        <a:lnTo>
                          <a:pt x="1702" y="2045"/>
                        </a:lnTo>
                        <a:lnTo>
                          <a:pt x="1682" y="2074"/>
                        </a:lnTo>
                        <a:lnTo>
                          <a:pt x="1673" y="2104"/>
                        </a:lnTo>
                        <a:lnTo>
                          <a:pt x="1663" y="2133"/>
                        </a:lnTo>
                        <a:lnTo>
                          <a:pt x="1663" y="2172"/>
                        </a:lnTo>
                        <a:lnTo>
                          <a:pt x="1653" y="2211"/>
                        </a:lnTo>
                        <a:lnTo>
                          <a:pt x="1644" y="2240"/>
                        </a:lnTo>
                        <a:lnTo>
                          <a:pt x="1634" y="2269"/>
                        </a:lnTo>
                        <a:lnTo>
                          <a:pt x="1634" y="2308"/>
                        </a:lnTo>
                        <a:lnTo>
                          <a:pt x="1634" y="2337"/>
                        </a:lnTo>
                        <a:lnTo>
                          <a:pt x="1644" y="2357"/>
                        </a:lnTo>
                        <a:lnTo>
                          <a:pt x="1653" y="2347"/>
                        </a:lnTo>
                        <a:lnTo>
                          <a:pt x="1663" y="2347"/>
                        </a:lnTo>
                        <a:lnTo>
                          <a:pt x="1673" y="2337"/>
                        </a:lnTo>
                        <a:lnTo>
                          <a:pt x="1682" y="2337"/>
                        </a:lnTo>
                        <a:lnTo>
                          <a:pt x="1702" y="2337"/>
                        </a:lnTo>
                        <a:lnTo>
                          <a:pt x="1712" y="2327"/>
                        </a:lnTo>
                        <a:lnTo>
                          <a:pt x="1712" y="2327"/>
                        </a:lnTo>
                        <a:lnTo>
                          <a:pt x="1731" y="2327"/>
                        </a:lnTo>
                        <a:lnTo>
                          <a:pt x="1741" y="2318"/>
                        </a:lnTo>
                        <a:lnTo>
                          <a:pt x="1750" y="2318"/>
                        </a:lnTo>
                        <a:lnTo>
                          <a:pt x="1760" y="2308"/>
                        </a:lnTo>
                        <a:lnTo>
                          <a:pt x="1770" y="2308"/>
                        </a:lnTo>
                        <a:lnTo>
                          <a:pt x="1780" y="2298"/>
                        </a:lnTo>
                        <a:lnTo>
                          <a:pt x="1789" y="2298"/>
                        </a:lnTo>
                        <a:lnTo>
                          <a:pt x="1799" y="2298"/>
                        </a:lnTo>
                        <a:lnTo>
                          <a:pt x="1809" y="2289"/>
                        </a:lnTo>
                        <a:lnTo>
                          <a:pt x="1819" y="2269"/>
                        </a:lnTo>
                        <a:lnTo>
                          <a:pt x="1867" y="2220"/>
                        </a:lnTo>
                        <a:lnTo>
                          <a:pt x="1887" y="2211"/>
                        </a:lnTo>
                        <a:lnTo>
                          <a:pt x="1906" y="2201"/>
                        </a:lnTo>
                        <a:lnTo>
                          <a:pt x="1926" y="2181"/>
                        </a:lnTo>
                        <a:lnTo>
                          <a:pt x="1935" y="2172"/>
                        </a:lnTo>
                        <a:lnTo>
                          <a:pt x="1964" y="2162"/>
                        </a:lnTo>
                        <a:lnTo>
                          <a:pt x="1974" y="2152"/>
                        </a:lnTo>
                        <a:lnTo>
                          <a:pt x="1994" y="2142"/>
                        </a:lnTo>
                        <a:lnTo>
                          <a:pt x="2013" y="2133"/>
                        </a:lnTo>
                        <a:lnTo>
                          <a:pt x="2033" y="2123"/>
                        </a:lnTo>
                        <a:lnTo>
                          <a:pt x="2062" y="2123"/>
                        </a:lnTo>
                        <a:lnTo>
                          <a:pt x="2081" y="2113"/>
                        </a:lnTo>
                        <a:lnTo>
                          <a:pt x="2101" y="2104"/>
                        </a:lnTo>
                        <a:lnTo>
                          <a:pt x="2101" y="2104"/>
                        </a:lnTo>
                        <a:lnTo>
                          <a:pt x="2101" y="2094"/>
                        </a:lnTo>
                        <a:lnTo>
                          <a:pt x="2110" y="2094"/>
                        </a:lnTo>
                        <a:lnTo>
                          <a:pt x="2120" y="2094"/>
                        </a:lnTo>
                        <a:lnTo>
                          <a:pt x="2130" y="2094"/>
                        </a:lnTo>
                        <a:lnTo>
                          <a:pt x="2130" y="2084"/>
                        </a:lnTo>
                        <a:lnTo>
                          <a:pt x="2139" y="2084"/>
                        </a:lnTo>
                        <a:lnTo>
                          <a:pt x="2120" y="2104"/>
                        </a:lnTo>
                        <a:lnTo>
                          <a:pt x="2101" y="2123"/>
                        </a:lnTo>
                        <a:lnTo>
                          <a:pt x="2071" y="2152"/>
                        </a:lnTo>
                        <a:lnTo>
                          <a:pt x="2052" y="2162"/>
                        </a:lnTo>
                        <a:lnTo>
                          <a:pt x="2033" y="2172"/>
                        </a:lnTo>
                        <a:lnTo>
                          <a:pt x="2013" y="2191"/>
                        </a:lnTo>
                        <a:lnTo>
                          <a:pt x="1994" y="2201"/>
                        </a:lnTo>
                        <a:lnTo>
                          <a:pt x="1974" y="2211"/>
                        </a:lnTo>
                        <a:lnTo>
                          <a:pt x="1964" y="2230"/>
                        </a:lnTo>
                        <a:lnTo>
                          <a:pt x="1935" y="2240"/>
                        </a:lnTo>
                        <a:lnTo>
                          <a:pt x="1926" y="2250"/>
                        </a:lnTo>
                        <a:lnTo>
                          <a:pt x="1906" y="2259"/>
                        </a:lnTo>
                        <a:lnTo>
                          <a:pt x="1887" y="2269"/>
                        </a:lnTo>
                        <a:lnTo>
                          <a:pt x="1867" y="2279"/>
                        </a:lnTo>
                        <a:lnTo>
                          <a:pt x="1848" y="2289"/>
                        </a:lnTo>
                        <a:lnTo>
                          <a:pt x="1828" y="2298"/>
                        </a:lnTo>
                        <a:lnTo>
                          <a:pt x="1809" y="2308"/>
                        </a:lnTo>
                        <a:lnTo>
                          <a:pt x="1789" y="2318"/>
                        </a:lnTo>
                        <a:lnTo>
                          <a:pt x="1760" y="2327"/>
                        </a:lnTo>
                        <a:lnTo>
                          <a:pt x="1750" y="2337"/>
                        </a:lnTo>
                        <a:lnTo>
                          <a:pt x="1721" y="2337"/>
                        </a:lnTo>
                        <a:lnTo>
                          <a:pt x="1712" y="2347"/>
                        </a:lnTo>
                        <a:lnTo>
                          <a:pt x="1682" y="2357"/>
                        </a:lnTo>
                        <a:lnTo>
                          <a:pt x="1663" y="2366"/>
                        </a:lnTo>
                        <a:lnTo>
                          <a:pt x="1644" y="2376"/>
                        </a:lnTo>
                        <a:lnTo>
                          <a:pt x="1624" y="2386"/>
                        </a:lnTo>
                        <a:lnTo>
                          <a:pt x="1605" y="2386"/>
                        </a:lnTo>
                        <a:lnTo>
                          <a:pt x="1585" y="2396"/>
                        </a:lnTo>
                        <a:lnTo>
                          <a:pt x="1566" y="2396"/>
                        </a:lnTo>
                        <a:lnTo>
                          <a:pt x="1537" y="2405"/>
                        </a:lnTo>
                        <a:lnTo>
                          <a:pt x="1517" y="2415"/>
                        </a:lnTo>
                        <a:lnTo>
                          <a:pt x="1507" y="2415"/>
                        </a:lnTo>
                        <a:lnTo>
                          <a:pt x="1488" y="2415"/>
                        </a:lnTo>
                        <a:lnTo>
                          <a:pt x="1478" y="2425"/>
                        </a:lnTo>
                        <a:lnTo>
                          <a:pt x="1468" y="2425"/>
                        </a:lnTo>
                        <a:lnTo>
                          <a:pt x="1449" y="2425"/>
                        </a:lnTo>
                        <a:lnTo>
                          <a:pt x="1439" y="2425"/>
                        </a:lnTo>
                        <a:lnTo>
                          <a:pt x="1420" y="2425"/>
                        </a:lnTo>
                        <a:lnTo>
                          <a:pt x="1400" y="2425"/>
                        </a:lnTo>
                        <a:lnTo>
                          <a:pt x="1381" y="2435"/>
                        </a:lnTo>
                        <a:lnTo>
                          <a:pt x="1361" y="2435"/>
                        </a:lnTo>
                        <a:lnTo>
                          <a:pt x="1352" y="2435"/>
                        </a:lnTo>
                        <a:lnTo>
                          <a:pt x="1323" y="2435"/>
                        </a:lnTo>
                        <a:lnTo>
                          <a:pt x="1313" y="2444"/>
                        </a:lnTo>
                        <a:lnTo>
                          <a:pt x="1099" y="2444"/>
                        </a:lnTo>
                        <a:lnTo>
                          <a:pt x="1089" y="2435"/>
                        </a:lnTo>
                        <a:lnTo>
                          <a:pt x="1060" y="2435"/>
                        </a:lnTo>
                        <a:lnTo>
                          <a:pt x="1070" y="2425"/>
                        </a:lnTo>
                        <a:lnTo>
                          <a:pt x="1070" y="2425"/>
                        </a:lnTo>
                        <a:lnTo>
                          <a:pt x="1079" y="2405"/>
                        </a:lnTo>
                        <a:lnTo>
                          <a:pt x="1079" y="2396"/>
                        </a:lnTo>
                        <a:lnTo>
                          <a:pt x="1060" y="2386"/>
                        </a:lnTo>
                        <a:lnTo>
                          <a:pt x="1050" y="2376"/>
                        </a:lnTo>
                        <a:lnTo>
                          <a:pt x="1050" y="2376"/>
                        </a:lnTo>
                        <a:lnTo>
                          <a:pt x="1041" y="2376"/>
                        </a:lnTo>
                        <a:lnTo>
                          <a:pt x="1021" y="2376"/>
                        </a:lnTo>
                        <a:lnTo>
                          <a:pt x="1011" y="2386"/>
                        </a:lnTo>
                        <a:lnTo>
                          <a:pt x="1011" y="2386"/>
                        </a:lnTo>
                        <a:lnTo>
                          <a:pt x="1002" y="2386"/>
                        </a:lnTo>
                        <a:lnTo>
                          <a:pt x="1002" y="2396"/>
                        </a:lnTo>
                        <a:lnTo>
                          <a:pt x="992" y="2405"/>
                        </a:lnTo>
                        <a:lnTo>
                          <a:pt x="992" y="2405"/>
                        </a:lnTo>
                        <a:lnTo>
                          <a:pt x="1002" y="2415"/>
                        </a:lnTo>
                        <a:lnTo>
                          <a:pt x="1002" y="2425"/>
                        </a:lnTo>
                        <a:lnTo>
                          <a:pt x="1011" y="2425"/>
                        </a:lnTo>
                        <a:lnTo>
                          <a:pt x="1011" y="2425"/>
                        </a:lnTo>
                        <a:lnTo>
                          <a:pt x="963" y="2425"/>
                        </a:lnTo>
                        <a:lnTo>
                          <a:pt x="963" y="2425"/>
                        </a:lnTo>
                        <a:lnTo>
                          <a:pt x="953" y="2425"/>
                        </a:lnTo>
                        <a:lnTo>
                          <a:pt x="934" y="2425"/>
                        </a:lnTo>
                        <a:lnTo>
                          <a:pt x="924" y="2425"/>
                        </a:lnTo>
                        <a:lnTo>
                          <a:pt x="924" y="2415"/>
                        </a:lnTo>
                        <a:lnTo>
                          <a:pt x="904" y="2415"/>
                        </a:lnTo>
                        <a:lnTo>
                          <a:pt x="895" y="2415"/>
                        </a:lnTo>
                        <a:lnTo>
                          <a:pt x="885" y="2415"/>
                        </a:lnTo>
                        <a:lnTo>
                          <a:pt x="875" y="2405"/>
                        </a:lnTo>
                        <a:lnTo>
                          <a:pt x="865" y="2405"/>
                        </a:lnTo>
                        <a:lnTo>
                          <a:pt x="856" y="2405"/>
                        </a:lnTo>
                        <a:lnTo>
                          <a:pt x="846" y="2405"/>
                        </a:lnTo>
                        <a:lnTo>
                          <a:pt x="856" y="2396"/>
                        </a:lnTo>
                        <a:lnTo>
                          <a:pt x="856" y="2396"/>
                        </a:lnTo>
                        <a:lnTo>
                          <a:pt x="865" y="2386"/>
                        </a:lnTo>
                        <a:lnTo>
                          <a:pt x="865" y="2376"/>
                        </a:lnTo>
                        <a:lnTo>
                          <a:pt x="856" y="2366"/>
                        </a:lnTo>
                        <a:lnTo>
                          <a:pt x="856" y="2357"/>
                        </a:lnTo>
                        <a:lnTo>
                          <a:pt x="856" y="2347"/>
                        </a:lnTo>
                        <a:lnTo>
                          <a:pt x="856" y="2337"/>
                        </a:lnTo>
                        <a:lnTo>
                          <a:pt x="846" y="2337"/>
                        </a:lnTo>
                        <a:lnTo>
                          <a:pt x="827" y="2337"/>
                        </a:lnTo>
                        <a:lnTo>
                          <a:pt x="817" y="2337"/>
                        </a:lnTo>
                        <a:lnTo>
                          <a:pt x="807" y="2337"/>
                        </a:lnTo>
                        <a:lnTo>
                          <a:pt x="788" y="2327"/>
                        </a:lnTo>
                        <a:lnTo>
                          <a:pt x="788" y="2337"/>
                        </a:lnTo>
                        <a:lnTo>
                          <a:pt x="778" y="2337"/>
                        </a:lnTo>
                        <a:lnTo>
                          <a:pt x="768" y="2347"/>
                        </a:lnTo>
                        <a:lnTo>
                          <a:pt x="768" y="2347"/>
                        </a:lnTo>
                        <a:lnTo>
                          <a:pt x="768" y="2357"/>
                        </a:lnTo>
                        <a:lnTo>
                          <a:pt x="797" y="2386"/>
                        </a:lnTo>
                        <a:lnTo>
                          <a:pt x="768" y="2386"/>
                        </a:lnTo>
                        <a:lnTo>
                          <a:pt x="739" y="2376"/>
                        </a:lnTo>
                        <a:lnTo>
                          <a:pt x="710" y="2357"/>
                        </a:lnTo>
                        <a:lnTo>
                          <a:pt x="681" y="2347"/>
                        </a:lnTo>
                        <a:lnTo>
                          <a:pt x="652" y="2337"/>
                        </a:lnTo>
                        <a:lnTo>
                          <a:pt x="622" y="2327"/>
                        </a:lnTo>
                        <a:lnTo>
                          <a:pt x="593" y="2318"/>
                        </a:lnTo>
                        <a:lnTo>
                          <a:pt x="564" y="2298"/>
                        </a:lnTo>
                        <a:lnTo>
                          <a:pt x="535" y="2289"/>
                        </a:lnTo>
                        <a:lnTo>
                          <a:pt x="506" y="2269"/>
                        </a:lnTo>
                        <a:lnTo>
                          <a:pt x="486" y="2250"/>
                        </a:lnTo>
                        <a:lnTo>
                          <a:pt x="457" y="2240"/>
                        </a:lnTo>
                        <a:lnTo>
                          <a:pt x="428" y="2220"/>
                        </a:lnTo>
                        <a:lnTo>
                          <a:pt x="399" y="2211"/>
                        </a:lnTo>
                        <a:lnTo>
                          <a:pt x="379" y="2191"/>
                        </a:lnTo>
                        <a:lnTo>
                          <a:pt x="350" y="2162"/>
                        </a:lnTo>
                        <a:lnTo>
                          <a:pt x="331" y="2152"/>
                        </a:lnTo>
                        <a:lnTo>
                          <a:pt x="301" y="2123"/>
                        </a:lnTo>
                        <a:lnTo>
                          <a:pt x="282" y="2104"/>
                        </a:lnTo>
                        <a:lnTo>
                          <a:pt x="253" y="2084"/>
                        </a:lnTo>
                        <a:lnTo>
                          <a:pt x="185" y="2016"/>
                        </a:lnTo>
                        <a:lnTo>
                          <a:pt x="175" y="1987"/>
                        </a:lnTo>
                        <a:lnTo>
                          <a:pt x="146" y="1967"/>
                        </a:lnTo>
                        <a:lnTo>
                          <a:pt x="126" y="1948"/>
                        </a:lnTo>
                        <a:lnTo>
                          <a:pt x="107" y="1919"/>
                        </a:lnTo>
                        <a:lnTo>
                          <a:pt x="87" y="1889"/>
                        </a:lnTo>
                        <a:lnTo>
                          <a:pt x="78" y="1860"/>
                        </a:lnTo>
                        <a:lnTo>
                          <a:pt x="58" y="1841"/>
                        </a:lnTo>
                        <a:lnTo>
                          <a:pt x="49" y="1811"/>
                        </a:lnTo>
                        <a:lnTo>
                          <a:pt x="29" y="1782"/>
                        </a:lnTo>
                        <a:lnTo>
                          <a:pt x="0" y="1704"/>
                        </a:lnTo>
                        <a:lnTo>
                          <a:pt x="0" y="1685"/>
                        </a:lnTo>
                        <a:lnTo>
                          <a:pt x="10" y="1685"/>
                        </a:lnTo>
                        <a:lnTo>
                          <a:pt x="10" y="1665"/>
                        </a:lnTo>
                        <a:lnTo>
                          <a:pt x="19" y="1656"/>
                        </a:lnTo>
                        <a:lnTo>
                          <a:pt x="19" y="1636"/>
                        </a:lnTo>
                        <a:lnTo>
                          <a:pt x="29" y="1626"/>
                        </a:lnTo>
                        <a:lnTo>
                          <a:pt x="29" y="1617"/>
                        </a:lnTo>
                        <a:lnTo>
                          <a:pt x="39" y="1607"/>
                        </a:lnTo>
                        <a:lnTo>
                          <a:pt x="29" y="1587"/>
                        </a:lnTo>
                        <a:lnTo>
                          <a:pt x="58" y="1587"/>
                        </a:lnTo>
                        <a:lnTo>
                          <a:pt x="78" y="1587"/>
                        </a:lnTo>
                        <a:lnTo>
                          <a:pt x="87" y="1587"/>
                        </a:lnTo>
                        <a:lnTo>
                          <a:pt x="97" y="1587"/>
                        </a:lnTo>
                        <a:lnTo>
                          <a:pt x="97" y="1597"/>
                        </a:lnTo>
                        <a:lnTo>
                          <a:pt x="97" y="1617"/>
                        </a:lnTo>
                        <a:lnTo>
                          <a:pt x="107" y="1626"/>
                        </a:lnTo>
                        <a:lnTo>
                          <a:pt x="107" y="1636"/>
                        </a:lnTo>
                        <a:lnTo>
                          <a:pt x="107" y="1636"/>
                        </a:lnTo>
                        <a:lnTo>
                          <a:pt x="117" y="1646"/>
                        </a:lnTo>
                        <a:lnTo>
                          <a:pt x="117" y="1646"/>
                        </a:lnTo>
                        <a:lnTo>
                          <a:pt x="126" y="1656"/>
                        </a:lnTo>
                        <a:lnTo>
                          <a:pt x="126" y="1665"/>
                        </a:lnTo>
                        <a:lnTo>
                          <a:pt x="136" y="1665"/>
                        </a:lnTo>
                        <a:lnTo>
                          <a:pt x="136" y="1675"/>
                        </a:lnTo>
                        <a:lnTo>
                          <a:pt x="146" y="1675"/>
                        </a:lnTo>
                        <a:lnTo>
                          <a:pt x="156" y="1675"/>
                        </a:lnTo>
                        <a:lnTo>
                          <a:pt x="165" y="1685"/>
                        </a:lnTo>
                        <a:lnTo>
                          <a:pt x="175" y="1685"/>
                        </a:lnTo>
                        <a:lnTo>
                          <a:pt x="175" y="1685"/>
                        </a:lnTo>
                        <a:lnTo>
                          <a:pt x="194" y="1685"/>
                        </a:lnTo>
                        <a:lnTo>
                          <a:pt x="194" y="1685"/>
                        </a:lnTo>
                        <a:lnTo>
                          <a:pt x="204" y="1685"/>
                        </a:lnTo>
                        <a:lnTo>
                          <a:pt x="204" y="1675"/>
                        </a:lnTo>
                        <a:lnTo>
                          <a:pt x="204" y="1656"/>
                        </a:lnTo>
                        <a:lnTo>
                          <a:pt x="204" y="1636"/>
                        </a:lnTo>
                        <a:lnTo>
                          <a:pt x="204" y="1607"/>
                        </a:lnTo>
                        <a:lnTo>
                          <a:pt x="194" y="1587"/>
                        </a:lnTo>
                        <a:lnTo>
                          <a:pt x="340" y="1587"/>
                        </a:lnTo>
                        <a:lnTo>
                          <a:pt x="311" y="1607"/>
                        </a:lnTo>
                        <a:lnTo>
                          <a:pt x="301" y="1626"/>
                        </a:lnTo>
                        <a:lnTo>
                          <a:pt x="292" y="1646"/>
                        </a:lnTo>
                        <a:lnTo>
                          <a:pt x="292" y="1665"/>
                        </a:lnTo>
                        <a:lnTo>
                          <a:pt x="282" y="1685"/>
                        </a:lnTo>
                        <a:lnTo>
                          <a:pt x="282" y="1704"/>
                        </a:lnTo>
                        <a:lnTo>
                          <a:pt x="292" y="1734"/>
                        </a:lnTo>
                        <a:lnTo>
                          <a:pt x="311" y="1753"/>
                        </a:lnTo>
                        <a:lnTo>
                          <a:pt x="311" y="1753"/>
                        </a:lnTo>
                        <a:lnTo>
                          <a:pt x="321" y="1753"/>
                        </a:lnTo>
                        <a:lnTo>
                          <a:pt x="340" y="1753"/>
                        </a:lnTo>
                        <a:lnTo>
                          <a:pt x="350" y="1763"/>
                        </a:lnTo>
                        <a:lnTo>
                          <a:pt x="350" y="1763"/>
                        </a:lnTo>
                        <a:lnTo>
                          <a:pt x="360" y="1772"/>
                        </a:lnTo>
                        <a:lnTo>
                          <a:pt x="369" y="1772"/>
                        </a:lnTo>
                        <a:lnTo>
                          <a:pt x="379" y="1772"/>
                        </a:lnTo>
                        <a:lnTo>
                          <a:pt x="389" y="1782"/>
                        </a:lnTo>
                        <a:lnTo>
                          <a:pt x="399" y="1782"/>
                        </a:lnTo>
                        <a:lnTo>
                          <a:pt x="408" y="1782"/>
                        </a:lnTo>
                        <a:lnTo>
                          <a:pt x="418" y="1792"/>
                        </a:lnTo>
                        <a:lnTo>
                          <a:pt x="428" y="1772"/>
                        </a:lnTo>
                        <a:lnTo>
                          <a:pt x="438" y="1763"/>
                        </a:lnTo>
                        <a:lnTo>
                          <a:pt x="486" y="1714"/>
                        </a:lnTo>
                        <a:lnTo>
                          <a:pt x="496" y="1695"/>
                        </a:lnTo>
                        <a:lnTo>
                          <a:pt x="506" y="1685"/>
                        </a:lnTo>
                        <a:lnTo>
                          <a:pt x="515" y="1665"/>
                        </a:lnTo>
                        <a:lnTo>
                          <a:pt x="506" y="1656"/>
                        </a:lnTo>
                        <a:lnTo>
                          <a:pt x="506" y="1636"/>
                        </a:lnTo>
                        <a:lnTo>
                          <a:pt x="496" y="1636"/>
                        </a:lnTo>
                        <a:lnTo>
                          <a:pt x="496" y="1626"/>
                        </a:lnTo>
                        <a:lnTo>
                          <a:pt x="486" y="1617"/>
                        </a:lnTo>
                        <a:lnTo>
                          <a:pt x="486" y="1607"/>
                        </a:lnTo>
                        <a:lnTo>
                          <a:pt x="476" y="1597"/>
                        </a:lnTo>
                        <a:lnTo>
                          <a:pt x="467" y="1587"/>
                        </a:lnTo>
                        <a:lnTo>
                          <a:pt x="486" y="1587"/>
                        </a:lnTo>
                        <a:lnTo>
                          <a:pt x="496" y="1578"/>
                        </a:lnTo>
                        <a:lnTo>
                          <a:pt x="515" y="1578"/>
                        </a:lnTo>
                        <a:lnTo>
                          <a:pt x="525" y="1578"/>
                        </a:lnTo>
                        <a:lnTo>
                          <a:pt x="574" y="1578"/>
                        </a:lnTo>
                        <a:lnTo>
                          <a:pt x="593" y="1568"/>
                        </a:lnTo>
                        <a:lnTo>
                          <a:pt x="642" y="1568"/>
                        </a:lnTo>
                        <a:lnTo>
                          <a:pt x="652" y="1568"/>
                        </a:lnTo>
                        <a:lnTo>
                          <a:pt x="661" y="1568"/>
                        </a:lnTo>
                        <a:lnTo>
                          <a:pt x="671" y="1558"/>
                        </a:lnTo>
                        <a:lnTo>
                          <a:pt x="671" y="1432"/>
                        </a:lnTo>
                        <a:lnTo>
                          <a:pt x="661" y="1393"/>
                        </a:lnTo>
                        <a:lnTo>
                          <a:pt x="661" y="1393"/>
                        </a:lnTo>
                        <a:lnTo>
                          <a:pt x="652" y="1383"/>
                        </a:lnTo>
                        <a:lnTo>
                          <a:pt x="652" y="1383"/>
                        </a:lnTo>
                        <a:lnTo>
                          <a:pt x="642" y="1383"/>
                        </a:lnTo>
                        <a:lnTo>
                          <a:pt x="613" y="1383"/>
                        </a:lnTo>
                        <a:lnTo>
                          <a:pt x="613" y="1383"/>
                        </a:lnTo>
                        <a:lnTo>
                          <a:pt x="622" y="1373"/>
                        </a:lnTo>
                        <a:lnTo>
                          <a:pt x="632" y="1373"/>
                        </a:lnTo>
                        <a:lnTo>
                          <a:pt x="642" y="1344"/>
                        </a:lnTo>
                        <a:lnTo>
                          <a:pt x="652" y="1315"/>
                        </a:lnTo>
                        <a:lnTo>
                          <a:pt x="652" y="1188"/>
                        </a:lnTo>
                        <a:lnTo>
                          <a:pt x="652" y="1159"/>
                        </a:lnTo>
                        <a:lnTo>
                          <a:pt x="661" y="1130"/>
                        </a:lnTo>
                        <a:lnTo>
                          <a:pt x="642" y="1101"/>
                        </a:lnTo>
                        <a:lnTo>
                          <a:pt x="632" y="1081"/>
                        </a:lnTo>
                        <a:lnTo>
                          <a:pt x="613" y="1071"/>
                        </a:lnTo>
                        <a:lnTo>
                          <a:pt x="593" y="1052"/>
                        </a:lnTo>
                        <a:lnTo>
                          <a:pt x="574" y="1042"/>
                        </a:lnTo>
                        <a:lnTo>
                          <a:pt x="554" y="1033"/>
                        </a:lnTo>
                        <a:lnTo>
                          <a:pt x="525" y="1023"/>
                        </a:lnTo>
                        <a:lnTo>
                          <a:pt x="506" y="1013"/>
                        </a:lnTo>
                        <a:lnTo>
                          <a:pt x="486" y="1013"/>
                        </a:lnTo>
                        <a:lnTo>
                          <a:pt x="457" y="1013"/>
                        </a:lnTo>
                        <a:lnTo>
                          <a:pt x="438" y="1003"/>
                        </a:lnTo>
                        <a:lnTo>
                          <a:pt x="379" y="1003"/>
                        </a:lnTo>
                        <a:lnTo>
                          <a:pt x="350" y="1013"/>
                        </a:lnTo>
                        <a:lnTo>
                          <a:pt x="331" y="1013"/>
                        </a:lnTo>
                        <a:lnTo>
                          <a:pt x="301" y="1013"/>
                        </a:lnTo>
                        <a:lnTo>
                          <a:pt x="292" y="1023"/>
                        </a:lnTo>
                        <a:lnTo>
                          <a:pt x="272" y="1023"/>
                        </a:lnTo>
                        <a:lnTo>
                          <a:pt x="262" y="1033"/>
                        </a:lnTo>
                        <a:lnTo>
                          <a:pt x="253" y="1042"/>
                        </a:lnTo>
                        <a:lnTo>
                          <a:pt x="243" y="1052"/>
                        </a:lnTo>
                        <a:lnTo>
                          <a:pt x="233" y="1062"/>
                        </a:lnTo>
                        <a:lnTo>
                          <a:pt x="224" y="1071"/>
                        </a:lnTo>
                        <a:lnTo>
                          <a:pt x="224" y="1091"/>
                        </a:lnTo>
                        <a:lnTo>
                          <a:pt x="224" y="1101"/>
                        </a:lnTo>
                        <a:lnTo>
                          <a:pt x="224" y="1110"/>
                        </a:lnTo>
                        <a:lnTo>
                          <a:pt x="224" y="1130"/>
                        </a:lnTo>
                        <a:lnTo>
                          <a:pt x="224" y="1140"/>
                        </a:lnTo>
                        <a:lnTo>
                          <a:pt x="224" y="1149"/>
                        </a:lnTo>
                        <a:lnTo>
                          <a:pt x="224" y="1159"/>
                        </a:lnTo>
                        <a:lnTo>
                          <a:pt x="214" y="1169"/>
                        </a:lnTo>
                        <a:lnTo>
                          <a:pt x="194" y="1169"/>
                        </a:lnTo>
                        <a:lnTo>
                          <a:pt x="185" y="1169"/>
                        </a:lnTo>
                        <a:lnTo>
                          <a:pt x="185" y="1159"/>
                        </a:lnTo>
                        <a:lnTo>
                          <a:pt x="175" y="1149"/>
                        </a:lnTo>
                        <a:lnTo>
                          <a:pt x="175" y="1140"/>
                        </a:lnTo>
                        <a:lnTo>
                          <a:pt x="175" y="1130"/>
                        </a:lnTo>
                        <a:lnTo>
                          <a:pt x="165" y="1110"/>
                        </a:lnTo>
                        <a:lnTo>
                          <a:pt x="165" y="1101"/>
                        </a:lnTo>
                        <a:lnTo>
                          <a:pt x="156" y="1091"/>
                        </a:lnTo>
                        <a:lnTo>
                          <a:pt x="146" y="1081"/>
                        </a:lnTo>
                        <a:lnTo>
                          <a:pt x="165" y="1071"/>
                        </a:lnTo>
                        <a:lnTo>
                          <a:pt x="175" y="1062"/>
                        </a:lnTo>
                        <a:lnTo>
                          <a:pt x="204" y="1033"/>
                        </a:lnTo>
                        <a:lnTo>
                          <a:pt x="214" y="1023"/>
                        </a:lnTo>
                        <a:lnTo>
                          <a:pt x="224" y="1003"/>
                        </a:lnTo>
                        <a:lnTo>
                          <a:pt x="224" y="994"/>
                        </a:lnTo>
                        <a:lnTo>
                          <a:pt x="233" y="984"/>
                        </a:lnTo>
                        <a:lnTo>
                          <a:pt x="243" y="964"/>
                        </a:lnTo>
                        <a:lnTo>
                          <a:pt x="243" y="945"/>
                        </a:lnTo>
                        <a:lnTo>
                          <a:pt x="253" y="935"/>
                        </a:lnTo>
                        <a:lnTo>
                          <a:pt x="262" y="916"/>
                        </a:lnTo>
                        <a:lnTo>
                          <a:pt x="262" y="896"/>
                        </a:lnTo>
                        <a:lnTo>
                          <a:pt x="262" y="886"/>
                        </a:lnTo>
                        <a:lnTo>
                          <a:pt x="272" y="867"/>
                        </a:lnTo>
                        <a:lnTo>
                          <a:pt x="272" y="848"/>
                        </a:lnTo>
                        <a:lnTo>
                          <a:pt x="292" y="848"/>
                        </a:lnTo>
                        <a:lnTo>
                          <a:pt x="311" y="838"/>
                        </a:lnTo>
                        <a:lnTo>
                          <a:pt x="321" y="818"/>
                        </a:lnTo>
                        <a:lnTo>
                          <a:pt x="340" y="809"/>
                        </a:lnTo>
                        <a:lnTo>
                          <a:pt x="350" y="799"/>
                        </a:lnTo>
                        <a:lnTo>
                          <a:pt x="360" y="779"/>
                        </a:lnTo>
                        <a:lnTo>
                          <a:pt x="369" y="760"/>
                        </a:lnTo>
                        <a:lnTo>
                          <a:pt x="369" y="750"/>
                        </a:lnTo>
                        <a:lnTo>
                          <a:pt x="379" y="731"/>
                        </a:lnTo>
                        <a:lnTo>
                          <a:pt x="379" y="711"/>
                        </a:lnTo>
                        <a:lnTo>
                          <a:pt x="369" y="692"/>
                        </a:lnTo>
                        <a:lnTo>
                          <a:pt x="369" y="672"/>
                        </a:lnTo>
                        <a:lnTo>
                          <a:pt x="369" y="672"/>
                        </a:lnTo>
                        <a:lnTo>
                          <a:pt x="379" y="672"/>
                        </a:lnTo>
                        <a:lnTo>
                          <a:pt x="399" y="643"/>
                        </a:lnTo>
                        <a:lnTo>
                          <a:pt x="399" y="643"/>
                        </a:lnTo>
                        <a:lnTo>
                          <a:pt x="408" y="643"/>
                        </a:lnTo>
                        <a:lnTo>
                          <a:pt x="418" y="643"/>
                        </a:lnTo>
                        <a:lnTo>
                          <a:pt x="428" y="643"/>
                        </a:lnTo>
                        <a:lnTo>
                          <a:pt x="438" y="633"/>
                        </a:lnTo>
                        <a:lnTo>
                          <a:pt x="447" y="633"/>
                        </a:lnTo>
                        <a:lnTo>
                          <a:pt x="457" y="633"/>
                        </a:lnTo>
                        <a:lnTo>
                          <a:pt x="467" y="624"/>
                        </a:lnTo>
                        <a:lnTo>
                          <a:pt x="486" y="604"/>
                        </a:lnTo>
                        <a:lnTo>
                          <a:pt x="486" y="594"/>
                        </a:lnTo>
                        <a:lnTo>
                          <a:pt x="496" y="585"/>
                        </a:lnTo>
                        <a:lnTo>
                          <a:pt x="506" y="575"/>
                        </a:lnTo>
                        <a:lnTo>
                          <a:pt x="506" y="575"/>
                        </a:lnTo>
                        <a:lnTo>
                          <a:pt x="515" y="555"/>
                        </a:lnTo>
                        <a:lnTo>
                          <a:pt x="515" y="555"/>
                        </a:lnTo>
                        <a:lnTo>
                          <a:pt x="525" y="546"/>
                        </a:lnTo>
                        <a:lnTo>
                          <a:pt x="535" y="526"/>
                        </a:lnTo>
                        <a:lnTo>
                          <a:pt x="554" y="526"/>
                        </a:lnTo>
                        <a:lnTo>
                          <a:pt x="564" y="516"/>
                        </a:lnTo>
                        <a:lnTo>
                          <a:pt x="574" y="516"/>
                        </a:lnTo>
                        <a:lnTo>
                          <a:pt x="622" y="516"/>
                        </a:lnTo>
                        <a:lnTo>
                          <a:pt x="622" y="536"/>
                        </a:lnTo>
                        <a:lnTo>
                          <a:pt x="622" y="546"/>
                        </a:lnTo>
                        <a:lnTo>
                          <a:pt x="613" y="565"/>
                        </a:lnTo>
                        <a:lnTo>
                          <a:pt x="613" y="585"/>
                        </a:lnTo>
                        <a:lnTo>
                          <a:pt x="603" y="604"/>
                        </a:lnTo>
                        <a:lnTo>
                          <a:pt x="603" y="624"/>
                        </a:lnTo>
                        <a:lnTo>
                          <a:pt x="603" y="633"/>
                        </a:lnTo>
                        <a:lnTo>
                          <a:pt x="593" y="653"/>
                        </a:lnTo>
                        <a:lnTo>
                          <a:pt x="603" y="663"/>
                        </a:lnTo>
                        <a:lnTo>
                          <a:pt x="613" y="672"/>
                        </a:lnTo>
                        <a:lnTo>
                          <a:pt x="622" y="672"/>
                        </a:lnTo>
                        <a:lnTo>
                          <a:pt x="632" y="663"/>
                        </a:lnTo>
                        <a:lnTo>
                          <a:pt x="642" y="663"/>
                        </a:lnTo>
                        <a:lnTo>
                          <a:pt x="652" y="663"/>
                        </a:lnTo>
                        <a:lnTo>
                          <a:pt x="661" y="663"/>
                        </a:lnTo>
                        <a:lnTo>
                          <a:pt x="671" y="653"/>
                        </a:lnTo>
                        <a:lnTo>
                          <a:pt x="700" y="624"/>
                        </a:lnTo>
                        <a:lnTo>
                          <a:pt x="700" y="614"/>
                        </a:lnTo>
                        <a:lnTo>
                          <a:pt x="720" y="594"/>
                        </a:lnTo>
                        <a:lnTo>
                          <a:pt x="729" y="585"/>
                        </a:lnTo>
                        <a:lnTo>
                          <a:pt x="749" y="575"/>
                        </a:lnTo>
                        <a:lnTo>
                          <a:pt x="749" y="565"/>
                        </a:lnTo>
                        <a:lnTo>
                          <a:pt x="758" y="565"/>
                        </a:lnTo>
                        <a:lnTo>
                          <a:pt x="788" y="565"/>
                        </a:lnTo>
                        <a:lnTo>
                          <a:pt x="797" y="565"/>
                        </a:lnTo>
                        <a:lnTo>
                          <a:pt x="807" y="575"/>
                        </a:lnTo>
                        <a:lnTo>
                          <a:pt x="885" y="575"/>
                        </a:lnTo>
                        <a:lnTo>
                          <a:pt x="924" y="536"/>
                        </a:lnTo>
                        <a:lnTo>
                          <a:pt x="924" y="526"/>
                        </a:lnTo>
                        <a:lnTo>
                          <a:pt x="924" y="516"/>
                        </a:lnTo>
                        <a:lnTo>
                          <a:pt x="934" y="507"/>
                        </a:lnTo>
                        <a:lnTo>
                          <a:pt x="934" y="497"/>
                        </a:lnTo>
                        <a:lnTo>
                          <a:pt x="924" y="468"/>
                        </a:lnTo>
                        <a:lnTo>
                          <a:pt x="924" y="448"/>
                        </a:lnTo>
                        <a:lnTo>
                          <a:pt x="924" y="429"/>
                        </a:lnTo>
                        <a:lnTo>
                          <a:pt x="924" y="400"/>
                        </a:lnTo>
                        <a:lnTo>
                          <a:pt x="924" y="390"/>
                        </a:lnTo>
                        <a:lnTo>
                          <a:pt x="934" y="390"/>
                        </a:lnTo>
                        <a:lnTo>
                          <a:pt x="943" y="380"/>
                        </a:lnTo>
                        <a:lnTo>
                          <a:pt x="953" y="390"/>
                        </a:lnTo>
                        <a:lnTo>
                          <a:pt x="963" y="390"/>
                        </a:lnTo>
                        <a:lnTo>
                          <a:pt x="963" y="390"/>
                        </a:lnTo>
                        <a:lnTo>
                          <a:pt x="972" y="390"/>
                        </a:lnTo>
                        <a:lnTo>
                          <a:pt x="982" y="400"/>
                        </a:lnTo>
                        <a:lnTo>
                          <a:pt x="992" y="400"/>
                        </a:lnTo>
                        <a:lnTo>
                          <a:pt x="1002" y="400"/>
                        </a:lnTo>
                        <a:lnTo>
                          <a:pt x="1011" y="400"/>
                        </a:lnTo>
                        <a:lnTo>
                          <a:pt x="1021" y="409"/>
                        </a:lnTo>
                        <a:lnTo>
                          <a:pt x="1031" y="400"/>
                        </a:lnTo>
                        <a:lnTo>
                          <a:pt x="1041" y="400"/>
                        </a:lnTo>
                        <a:lnTo>
                          <a:pt x="1050" y="400"/>
                        </a:lnTo>
                        <a:lnTo>
                          <a:pt x="1050" y="380"/>
                        </a:lnTo>
                        <a:lnTo>
                          <a:pt x="1060" y="370"/>
                        </a:lnTo>
                        <a:lnTo>
                          <a:pt x="1060" y="361"/>
                        </a:lnTo>
                        <a:lnTo>
                          <a:pt x="1060" y="341"/>
                        </a:lnTo>
                        <a:lnTo>
                          <a:pt x="1060" y="331"/>
                        </a:lnTo>
                        <a:lnTo>
                          <a:pt x="1050" y="312"/>
                        </a:lnTo>
                        <a:lnTo>
                          <a:pt x="1050" y="302"/>
                        </a:lnTo>
                        <a:lnTo>
                          <a:pt x="1050" y="283"/>
                        </a:lnTo>
                        <a:lnTo>
                          <a:pt x="1041" y="283"/>
                        </a:lnTo>
                        <a:lnTo>
                          <a:pt x="1031" y="283"/>
                        </a:lnTo>
                        <a:lnTo>
                          <a:pt x="1011" y="273"/>
                        </a:lnTo>
                        <a:lnTo>
                          <a:pt x="1002" y="263"/>
                        </a:lnTo>
                        <a:lnTo>
                          <a:pt x="992" y="263"/>
                        </a:lnTo>
                        <a:lnTo>
                          <a:pt x="972" y="254"/>
                        </a:lnTo>
                        <a:lnTo>
                          <a:pt x="963" y="244"/>
                        </a:lnTo>
                        <a:lnTo>
                          <a:pt x="953" y="244"/>
                        </a:lnTo>
                        <a:lnTo>
                          <a:pt x="943" y="234"/>
                        </a:lnTo>
                        <a:lnTo>
                          <a:pt x="924" y="234"/>
                        </a:lnTo>
                        <a:lnTo>
                          <a:pt x="914" y="234"/>
                        </a:lnTo>
                        <a:lnTo>
                          <a:pt x="846" y="234"/>
                        </a:lnTo>
                        <a:lnTo>
                          <a:pt x="836" y="234"/>
                        </a:lnTo>
                        <a:lnTo>
                          <a:pt x="827" y="215"/>
                        </a:lnTo>
                        <a:lnTo>
                          <a:pt x="817" y="205"/>
                        </a:lnTo>
                        <a:lnTo>
                          <a:pt x="797" y="195"/>
                        </a:lnTo>
                        <a:lnTo>
                          <a:pt x="788" y="185"/>
                        </a:lnTo>
                        <a:lnTo>
                          <a:pt x="778" y="176"/>
                        </a:lnTo>
                        <a:lnTo>
                          <a:pt x="768" y="176"/>
                        </a:lnTo>
                        <a:lnTo>
                          <a:pt x="758" y="166"/>
                        </a:lnTo>
                        <a:lnTo>
                          <a:pt x="749" y="156"/>
                        </a:lnTo>
                        <a:lnTo>
                          <a:pt x="749" y="156"/>
                        </a:lnTo>
                        <a:lnTo>
                          <a:pt x="739" y="147"/>
                        </a:lnTo>
                        <a:lnTo>
                          <a:pt x="729" y="147"/>
                        </a:lnTo>
                        <a:lnTo>
                          <a:pt x="720" y="137"/>
                        </a:lnTo>
                        <a:lnTo>
                          <a:pt x="700" y="137"/>
                        </a:lnTo>
                        <a:lnTo>
                          <a:pt x="710" y="117"/>
                        </a:lnTo>
                        <a:lnTo>
                          <a:pt x="710" y="108"/>
                        </a:lnTo>
                        <a:lnTo>
                          <a:pt x="700" y="98"/>
                        </a:lnTo>
                        <a:lnTo>
                          <a:pt x="700" y="88"/>
                        </a:lnTo>
                        <a:lnTo>
                          <a:pt x="729" y="78"/>
                        </a:lnTo>
                        <a:lnTo>
                          <a:pt x="749" y="59"/>
                        </a:lnTo>
                        <a:lnTo>
                          <a:pt x="788" y="59"/>
                        </a:lnTo>
                        <a:lnTo>
                          <a:pt x="817" y="49"/>
                        </a:lnTo>
                        <a:lnTo>
                          <a:pt x="846" y="39"/>
                        </a:lnTo>
                        <a:lnTo>
                          <a:pt x="875" y="30"/>
                        </a:lnTo>
                        <a:lnTo>
                          <a:pt x="914" y="20"/>
                        </a:lnTo>
                        <a:lnTo>
                          <a:pt x="943" y="20"/>
                        </a:lnTo>
                        <a:lnTo>
                          <a:pt x="972" y="20"/>
                        </a:lnTo>
                        <a:lnTo>
                          <a:pt x="1011" y="10"/>
                        </a:lnTo>
                        <a:lnTo>
                          <a:pt x="1041" y="10"/>
                        </a:lnTo>
                        <a:lnTo>
                          <a:pt x="1070" y="10"/>
                        </a:lnTo>
                        <a:lnTo>
                          <a:pt x="1109" y="0"/>
                        </a:lnTo>
                        <a:lnTo>
                          <a:pt x="1138" y="0"/>
                        </a:lnTo>
                        <a:lnTo>
                          <a:pt x="1177" y="0"/>
                        </a:lnTo>
                        <a:lnTo>
                          <a:pt x="1274" y="0"/>
                        </a:lnTo>
                        <a:lnTo>
                          <a:pt x="1303" y="0"/>
                        </a:lnTo>
                        <a:lnTo>
                          <a:pt x="1332" y="0"/>
                        </a:lnTo>
                        <a:lnTo>
                          <a:pt x="1361" y="10"/>
                        </a:lnTo>
                        <a:lnTo>
                          <a:pt x="1400" y="10"/>
                        </a:lnTo>
                        <a:lnTo>
                          <a:pt x="1430" y="20"/>
                        </a:lnTo>
                        <a:lnTo>
                          <a:pt x="1459" y="20"/>
                        </a:lnTo>
                        <a:lnTo>
                          <a:pt x="1498" y="20"/>
                        </a:lnTo>
                        <a:lnTo>
                          <a:pt x="1527" y="30"/>
                        </a:lnTo>
                        <a:lnTo>
                          <a:pt x="1556" y="39"/>
                        </a:lnTo>
                        <a:lnTo>
                          <a:pt x="1585" y="49"/>
                        </a:lnTo>
                        <a:lnTo>
                          <a:pt x="1624" y="59"/>
                        </a:lnTo>
                        <a:lnTo>
                          <a:pt x="1653" y="59"/>
                        </a:lnTo>
                        <a:lnTo>
                          <a:pt x="1682" y="78"/>
                        </a:lnTo>
                        <a:lnTo>
                          <a:pt x="1712" y="88"/>
                        </a:lnTo>
                        <a:close/>
                      </a:path>
                    </a:pathLst>
                  </a:custGeom>
                  <a:solidFill>
                    <a:srgbClr val="3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692960" y="20718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0"/>
                        </a:move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692960" y="2084040"/>
                    <a:ext cx="125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36">
                        <a:moveTo>
                          <a:pt x="204" y="136"/>
                        </a:moveTo>
                        <a:lnTo>
                          <a:pt x="204" y="126"/>
                        </a:lnTo>
                        <a:lnTo>
                          <a:pt x="204" y="116"/>
                        </a:lnTo>
                        <a:lnTo>
                          <a:pt x="194" y="97"/>
                        </a:lnTo>
                        <a:lnTo>
                          <a:pt x="185" y="87"/>
                        </a:lnTo>
                        <a:lnTo>
                          <a:pt x="165" y="68"/>
                        </a:lnTo>
                        <a:lnTo>
                          <a:pt x="146" y="58"/>
                        </a:lnTo>
                        <a:lnTo>
                          <a:pt x="136" y="48"/>
                        </a:lnTo>
                        <a:lnTo>
                          <a:pt x="117" y="39"/>
                        </a:lnTo>
                        <a:lnTo>
                          <a:pt x="107" y="39"/>
                        </a:lnTo>
                        <a:lnTo>
                          <a:pt x="97" y="39"/>
                        </a:lnTo>
                        <a:lnTo>
                          <a:pt x="78" y="29"/>
                        </a:ln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39"/>
                        </a:lnTo>
                        <a:lnTo>
                          <a:pt x="78" y="39"/>
                        </a:lnTo>
                        <a:lnTo>
                          <a:pt x="87" y="39"/>
                        </a:lnTo>
                        <a:lnTo>
                          <a:pt x="107" y="48"/>
                        </a:lnTo>
                        <a:lnTo>
                          <a:pt x="117" y="4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5" y="77"/>
                        </a:lnTo>
                        <a:lnTo>
                          <a:pt x="165" y="77"/>
                        </a:lnTo>
                        <a:lnTo>
                          <a:pt x="175" y="87"/>
                        </a:lnTo>
                        <a:lnTo>
                          <a:pt x="185" y="107"/>
                        </a:lnTo>
                        <a:lnTo>
                          <a:pt x="194" y="116"/>
                        </a:lnTo>
                        <a:lnTo>
                          <a:pt x="194" y="136"/>
                        </a:lnTo>
                        <a:lnTo>
                          <a:pt x="194" y="126"/>
                        </a:lnTo>
                        <a:lnTo>
                          <a:pt x="204" y="136"/>
                        </a:lnTo>
                        <a:lnTo>
                          <a:pt x="204" y="126"/>
                        </a:lnTo>
                        <a:lnTo>
                          <a:pt x="204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770360" y="216216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650840" y="2089800"/>
                    <a:ext cx="119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27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30"/>
                        </a:lnTo>
                        <a:lnTo>
                          <a:pt x="68" y="30"/>
                        </a:lnTo>
                        <a:lnTo>
                          <a:pt x="78" y="39"/>
                        </a:lnTo>
                        <a:lnTo>
                          <a:pt x="87" y="49"/>
                        </a:lnTo>
                        <a:lnTo>
                          <a:pt x="97" y="59"/>
                        </a:lnTo>
                        <a:lnTo>
                          <a:pt x="107" y="68"/>
                        </a:lnTo>
                        <a:lnTo>
                          <a:pt x="116" y="78"/>
                        </a:lnTo>
                        <a:lnTo>
                          <a:pt x="126" y="88"/>
                        </a:lnTo>
                        <a:lnTo>
                          <a:pt x="146" y="98"/>
                        </a:lnTo>
                        <a:lnTo>
                          <a:pt x="155" y="107"/>
                        </a:lnTo>
                        <a:lnTo>
                          <a:pt x="165" y="117"/>
                        </a:lnTo>
                        <a:lnTo>
                          <a:pt x="175" y="117"/>
                        </a:lnTo>
                        <a:lnTo>
                          <a:pt x="194" y="127"/>
                        </a:lnTo>
                        <a:lnTo>
                          <a:pt x="194" y="117"/>
                        </a:lnTo>
                        <a:lnTo>
                          <a:pt x="185" y="117"/>
                        </a:lnTo>
                        <a:lnTo>
                          <a:pt x="175" y="107"/>
                        </a:lnTo>
                        <a:lnTo>
                          <a:pt x="165" y="98"/>
                        </a:lnTo>
                        <a:lnTo>
                          <a:pt x="155" y="88"/>
                        </a:lnTo>
                        <a:lnTo>
                          <a:pt x="136" y="78"/>
                        </a:lnTo>
                        <a:lnTo>
                          <a:pt x="126" y="68"/>
                        </a:lnTo>
                        <a:lnTo>
                          <a:pt x="116" y="5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584960" y="2089800"/>
                    <a:ext cx="65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" y="20"/>
                        </a:move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404600" y="2095920"/>
                    <a:ext cx="18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36">
                        <a:moveTo>
                          <a:pt x="10" y="136"/>
                        </a:moveTo>
                        <a:lnTo>
                          <a:pt x="10" y="136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8" y="78"/>
                        </a:lnTo>
                        <a:lnTo>
                          <a:pt x="107" y="78"/>
                        </a:lnTo>
                        <a:lnTo>
                          <a:pt x="126" y="68"/>
                        </a:lnTo>
                        <a:lnTo>
                          <a:pt x="146" y="68"/>
                        </a:lnTo>
                        <a:lnTo>
                          <a:pt x="165" y="68"/>
                        </a:lnTo>
                        <a:lnTo>
                          <a:pt x="195" y="58"/>
                        </a:lnTo>
                        <a:lnTo>
                          <a:pt x="214" y="58"/>
                        </a:lnTo>
                        <a:lnTo>
                          <a:pt x="233" y="49"/>
                        </a:lnTo>
                        <a:lnTo>
                          <a:pt x="25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10"/>
                        </a:lnTo>
                        <a:lnTo>
                          <a:pt x="292" y="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14" y="49"/>
                        </a:lnTo>
                        <a:lnTo>
                          <a:pt x="185" y="58"/>
                        </a:lnTo>
                        <a:lnTo>
                          <a:pt x="165" y="58"/>
                        </a:lnTo>
                        <a:lnTo>
                          <a:pt x="146" y="58"/>
                        </a:lnTo>
                        <a:lnTo>
                          <a:pt x="126" y="68"/>
                        </a:lnTo>
                        <a:lnTo>
                          <a:pt x="107" y="68"/>
                        </a:lnTo>
                        <a:lnTo>
                          <a:pt x="88" y="68"/>
                        </a:lnTo>
                        <a:lnTo>
                          <a:pt x="68" y="78"/>
                        </a:lnTo>
                        <a:lnTo>
                          <a:pt x="49" y="88"/>
                        </a:lnTo>
                        <a:lnTo>
                          <a:pt x="39" y="107"/>
                        </a:lnTo>
                        <a:lnTo>
                          <a:pt x="19" y="117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1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404600" y="2179800"/>
                    <a:ext cx="54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7">
                        <a:moveTo>
                          <a:pt x="88" y="107"/>
                        </a:moveTo>
                        <a:lnTo>
                          <a:pt x="88" y="107"/>
                        </a:lnTo>
                        <a:lnTo>
                          <a:pt x="78" y="98"/>
                        </a:lnTo>
                        <a:lnTo>
                          <a:pt x="58" y="8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68" y="107"/>
                        </a:lnTo>
                        <a:lnTo>
                          <a:pt x="78" y="10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446720" y="224604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78"/>
                        </a:moveTo>
                        <a:lnTo>
                          <a:pt x="20" y="69"/>
                        </a:lnTo>
                        <a:lnTo>
                          <a:pt x="2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69"/>
                        </a:lnTo>
                        <a:lnTo>
                          <a:pt x="20" y="78"/>
                        </a:lnTo>
                        <a:lnTo>
                          <a:pt x="20" y="88"/>
                        </a:lnTo>
                        <a:lnTo>
                          <a:pt x="2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458960" y="22942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48" y="68"/>
                        </a:move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49"/>
                        </a:lnTo>
                        <a:lnTo>
                          <a:pt x="38" y="39"/>
                        </a:lnTo>
                        <a:lnTo>
                          <a:pt x="38" y="3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29" y="39"/>
                        </a:lnTo>
                        <a:lnTo>
                          <a:pt x="38" y="49"/>
                        </a:lnTo>
                        <a:lnTo>
                          <a:pt x="38" y="49"/>
                        </a:lnTo>
                        <a:lnTo>
                          <a:pt x="38" y="59"/>
                        </a:lnTo>
                        <a:lnTo>
                          <a:pt x="38" y="68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422600" y="2330640"/>
                    <a:ext cx="65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7">
                        <a:moveTo>
                          <a:pt x="10" y="87"/>
                        </a:moveTo>
                        <a:lnTo>
                          <a:pt x="10" y="87"/>
                        </a:lnTo>
                        <a:lnTo>
                          <a:pt x="107" y="9"/>
                        </a:lnTo>
                        <a:lnTo>
                          <a:pt x="97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422600" y="23842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2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440600" y="2384280"/>
                    <a:ext cx="90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9">
                        <a:moveTo>
                          <a:pt x="146" y="0"/>
                        </a:move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10" y="3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30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68" y="3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107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30600" y="237888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9"/>
                        </a:moveTo>
                        <a:lnTo>
                          <a:pt x="136" y="9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27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609080" y="2384280"/>
                    <a:ext cx="29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5">
                        <a:moveTo>
                          <a:pt x="48" y="215"/>
                        </a:moveTo>
                        <a:lnTo>
                          <a:pt x="48" y="215"/>
                        </a:lnTo>
                        <a:lnTo>
                          <a:pt x="48" y="156"/>
                        </a:lnTo>
                        <a:lnTo>
                          <a:pt x="48" y="127"/>
                        </a:lnTo>
                        <a:lnTo>
                          <a:pt x="48" y="98"/>
                        </a:lnTo>
                        <a:lnTo>
                          <a:pt x="39" y="78"/>
                        </a:lnTo>
                        <a:lnTo>
                          <a:pt x="29" y="49"/>
                        </a:lnTo>
                        <a:lnTo>
                          <a:pt x="19" y="3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lnTo>
                          <a:pt x="19" y="49"/>
                        </a:lnTo>
                        <a:lnTo>
                          <a:pt x="29" y="78"/>
                        </a:lnTo>
                        <a:lnTo>
                          <a:pt x="29" y="107"/>
                        </a:lnTo>
                        <a:lnTo>
                          <a:pt x="39" y="127"/>
                        </a:lnTo>
                        <a:lnTo>
                          <a:pt x="39" y="156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48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632840" y="2517120"/>
                    <a:ext cx="119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7">
                        <a:moveTo>
                          <a:pt x="194" y="87"/>
                        </a:moveTo>
                        <a:lnTo>
                          <a:pt x="184" y="77"/>
                        </a:lnTo>
                        <a:lnTo>
                          <a:pt x="175" y="77"/>
                        </a:lnTo>
                        <a:lnTo>
                          <a:pt x="155" y="68"/>
                        </a:lnTo>
                        <a:lnTo>
                          <a:pt x="145" y="68"/>
                        </a:lnTo>
                        <a:lnTo>
                          <a:pt x="136" y="58"/>
                        </a:lnTo>
                        <a:lnTo>
                          <a:pt x="116" y="58"/>
                        </a:lnTo>
                        <a:lnTo>
                          <a:pt x="107" y="48"/>
                        </a:lnTo>
                        <a:lnTo>
                          <a:pt x="97" y="48"/>
                        </a:lnTo>
                        <a:lnTo>
                          <a:pt x="77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97" y="58"/>
                        </a:lnTo>
                        <a:lnTo>
                          <a:pt x="107" y="58"/>
                        </a:lnTo>
                        <a:lnTo>
                          <a:pt x="116" y="68"/>
                        </a:lnTo>
                        <a:lnTo>
                          <a:pt x="136" y="68"/>
                        </a:lnTo>
                        <a:lnTo>
                          <a:pt x="145" y="77"/>
                        </a:lnTo>
                        <a:lnTo>
                          <a:pt x="155" y="77"/>
                        </a:lnTo>
                        <a:lnTo>
                          <a:pt x="165" y="87"/>
                        </a:lnTo>
                        <a:lnTo>
                          <a:pt x="18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2720" y="25707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74624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668840" y="255888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26" y="58"/>
                        </a:lnTo>
                        <a:lnTo>
                          <a:pt x="126" y="48"/>
                        </a:lnTo>
                        <a:lnTo>
                          <a:pt x="117" y="48"/>
                        </a:lnTo>
                        <a:lnTo>
                          <a:pt x="107" y="3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662720" y="256464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30"/>
                        </a:move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668840" y="258300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58" y="58"/>
                        </a:moveTo>
                        <a:lnTo>
                          <a:pt x="58" y="58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58"/>
                        </a:lnTo>
                        <a:lnTo>
                          <a:pt x="49" y="58"/>
                        </a:lnTo>
                        <a:lnTo>
                          <a:pt x="58" y="58"/>
                        </a:lnTo>
                        <a:lnTo>
                          <a:pt x="68" y="58"/>
                        </a:lnTo>
                        <a:lnTo>
                          <a:pt x="58" y="58"/>
                        </a:lnTo>
                        <a:lnTo>
                          <a:pt x="5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680360" y="26190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10" y="49"/>
                        </a:move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680360" y="264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29"/>
                        </a:moveTo>
                        <a:lnTo>
                          <a:pt x="3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692960" y="266724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692960" y="269748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29"/>
                        </a:move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734720" y="271548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88"/>
                        </a:move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9" y="68"/>
                        </a:lnTo>
                        <a:lnTo>
                          <a:pt x="19" y="6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704480" y="2763360"/>
                    <a:ext cx="47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10" y="58"/>
                        </a:moveTo>
                        <a:lnTo>
                          <a:pt x="10" y="68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699080" y="2799360"/>
                    <a:ext cx="17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29" y="137"/>
                        </a:moveTo>
                        <a:lnTo>
                          <a:pt x="19" y="98"/>
                        </a:lnTo>
                        <a:lnTo>
                          <a:pt x="19" y="68"/>
                        </a:lnTo>
                        <a:lnTo>
                          <a:pt x="9" y="2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29"/>
                        </a:lnTo>
                        <a:lnTo>
                          <a:pt x="9" y="68"/>
                        </a:lnTo>
                        <a:lnTo>
                          <a:pt x="9" y="107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674960" y="2883960"/>
                    <a:ext cx="417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33">
                        <a:moveTo>
                          <a:pt x="39" y="233"/>
                        </a:moveTo>
                        <a:lnTo>
                          <a:pt x="19" y="204"/>
                        </a:lnTo>
                        <a:lnTo>
                          <a:pt x="9" y="175"/>
                        </a:lnTo>
                        <a:lnTo>
                          <a:pt x="9" y="146"/>
                        </a:lnTo>
                        <a:lnTo>
                          <a:pt x="19" y="116"/>
                        </a:lnTo>
                        <a:lnTo>
                          <a:pt x="29" y="87"/>
                        </a:lnTo>
                        <a:lnTo>
                          <a:pt x="39" y="58"/>
                        </a:lnTo>
                        <a:lnTo>
                          <a:pt x="4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58"/>
                        </a:lnTo>
                        <a:lnTo>
                          <a:pt x="19" y="87"/>
                        </a:lnTo>
                        <a:lnTo>
                          <a:pt x="9" y="116"/>
                        </a:lnTo>
                        <a:lnTo>
                          <a:pt x="0" y="146"/>
                        </a:lnTo>
                        <a:lnTo>
                          <a:pt x="0" y="175"/>
                        </a:lnTo>
                        <a:lnTo>
                          <a:pt x="9" y="204"/>
                        </a:lnTo>
                        <a:lnTo>
                          <a:pt x="29" y="233"/>
                        </a:lnTo>
                        <a:lnTo>
                          <a:pt x="39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692960" y="302760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166"/>
                        </a:moveTo>
                        <a:lnTo>
                          <a:pt x="136" y="156"/>
                        </a:lnTo>
                        <a:lnTo>
                          <a:pt x="136" y="146"/>
                        </a:lnTo>
                        <a:lnTo>
                          <a:pt x="126" y="136"/>
                        </a:lnTo>
                        <a:lnTo>
                          <a:pt x="117" y="117"/>
                        </a:lnTo>
                        <a:lnTo>
                          <a:pt x="107" y="107"/>
                        </a:lnTo>
                        <a:lnTo>
                          <a:pt x="97" y="98"/>
                        </a:lnTo>
                        <a:lnTo>
                          <a:pt x="97" y="88"/>
                        </a:lnTo>
                        <a:lnTo>
                          <a:pt x="87" y="78"/>
                        </a:lnTo>
                        <a:lnTo>
                          <a:pt x="58" y="49"/>
                        </a:lnTo>
                        <a:lnTo>
                          <a:pt x="48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59"/>
                        </a:lnTo>
                        <a:lnTo>
                          <a:pt x="68" y="68"/>
                        </a:lnTo>
                        <a:lnTo>
                          <a:pt x="78" y="88"/>
                        </a:lnTo>
                        <a:lnTo>
                          <a:pt x="87" y="98"/>
                        </a:lnTo>
                        <a:lnTo>
                          <a:pt x="107" y="127"/>
                        </a:lnTo>
                        <a:lnTo>
                          <a:pt x="117" y="136"/>
                        </a:lnTo>
                        <a:lnTo>
                          <a:pt x="126" y="146"/>
                        </a:lnTo>
                        <a:lnTo>
                          <a:pt x="126" y="156"/>
                        </a:lnTo>
                        <a:lnTo>
                          <a:pt x="136" y="175"/>
                        </a:lnTo>
                        <a:lnTo>
                          <a:pt x="136" y="166"/>
                        </a:lnTo>
                        <a:lnTo>
                          <a:pt x="146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746240" y="3130200"/>
                    <a:ext cx="363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5">
                        <a:moveTo>
                          <a:pt x="10" y="155"/>
                        </a:moveTo>
                        <a:lnTo>
                          <a:pt x="20" y="136"/>
                        </a:lnTo>
                        <a:lnTo>
                          <a:pt x="20" y="117"/>
                        </a:lnTo>
                        <a:lnTo>
                          <a:pt x="30" y="97"/>
                        </a:lnTo>
                        <a:lnTo>
                          <a:pt x="30" y="78"/>
                        </a:lnTo>
                        <a:lnTo>
                          <a:pt x="39" y="58"/>
                        </a:lnTo>
                        <a:lnTo>
                          <a:pt x="49" y="39"/>
                        </a:lnTo>
                        <a:lnTo>
                          <a:pt x="49" y="1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19"/>
                        </a:lnTo>
                        <a:lnTo>
                          <a:pt x="39" y="39"/>
                        </a:lnTo>
                        <a:lnTo>
                          <a:pt x="30" y="58"/>
                        </a:lnTo>
                        <a:lnTo>
                          <a:pt x="20" y="78"/>
                        </a:lnTo>
                        <a:lnTo>
                          <a:pt x="20" y="9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46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704480" y="3220560"/>
                    <a:ext cx="47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78"/>
                        </a:move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9" y="4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9"/>
                        </a:lnTo>
                        <a:lnTo>
                          <a:pt x="68" y="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3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644720" y="3268800"/>
                    <a:ext cx="65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3">
                        <a:moveTo>
                          <a:pt x="10" y="243"/>
                        </a:moveTo>
                        <a:lnTo>
                          <a:pt x="29" y="214"/>
                        </a:lnTo>
                        <a:lnTo>
                          <a:pt x="39" y="185"/>
                        </a:lnTo>
                        <a:lnTo>
                          <a:pt x="39" y="146"/>
                        </a:lnTo>
                        <a:lnTo>
                          <a:pt x="39" y="116"/>
                        </a:lnTo>
                        <a:lnTo>
                          <a:pt x="49" y="78"/>
                        </a:lnTo>
                        <a:lnTo>
                          <a:pt x="68" y="48"/>
                        </a:lnTo>
                        <a:lnTo>
                          <a:pt x="78" y="1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19"/>
                        </a:lnTo>
                        <a:lnTo>
                          <a:pt x="58" y="48"/>
                        </a:lnTo>
                        <a:lnTo>
                          <a:pt x="39" y="78"/>
                        </a:lnTo>
                        <a:lnTo>
                          <a:pt x="39" y="107"/>
                        </a:lnTo>
                        <a:lnTo>
                          <a:pt x="29" y="146"/>
                        </a:lnTo>
                        <a:lnTo>
                          <a:pt x="29" y="175"/>
                        </a:lnTo>
                        <a:lnTo>
                          <a:pt x="20" y="214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644720" y="341892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0" y="78"/>
                        </a:moveTo>
                        <a:lnTo>
                          <a:pt x="29" y="78"/>
                        </a:lnTo>
                        <a:lnTo>
                          <a:pt x="20" y="68"/>
                        </a:lnTo>
                        <a:lnTo>
                          <a:pt x="10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0" y="6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656960" y="3431160"/>
                    <a:ext cx="10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8">
                        <a:moveTo>
                          <a:pt x="155" y="0"/>
                        </a:move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9"/>
                        </a:lnTo>
                        <a:lnTo>
                          <a:pt x="106" y="19"/>
                        </a:lnTo>
                        <a:lnTo>
                          <a:pt x="106" y="19"/>
                        </a:lnTo>
                        <a:lnTo>
                          <a:pt x="97" y="29"/>
                        </a:lnTo>
                        <a:lnTo>
                          <a:pt x="77" y="29"/>
                        </a:lnTo>
                        <a:lnTo>
                          <a:pt x="68" y="38"/>
                        </a:lnTo>
                        <a:lnTo>
                          <a:pt x="68" y="38"/>
                        </a:lnTo>
                        <a:lnTo>
                          <a:pt x="48" y="38"/>
                        </a:lnTo>
                        <a:lnTo>
                          <a:pt x="38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87" y="38"/>
                        </a:lnTo>
                        <a:lnTo>
                          <a:pt x="97" y="38"/>
                        </a:lnTo>
                        <a:lnTo>
                          <a:pt x="106" y="29"/>
                        </a:lnTo>
                        <a:lnTo>
                          <a:pt x="116" y="29"/>
                        </a:lnTo>
                        <a:lnTo>
                          <a:pt x="126" y="19"/>
                        </a:lnTo>
                        <a:lnTo>
                          <a:pt x="136" y="19"/>
                        </a:lnTo>
                        <a:lnTo>
                          <a:pt x="145" y="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752720" y="3316680"/>
                    <a:ext cx="185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85">
                        <a:moveTo>
                          <a:pt x="302" y="0"/>
                        </a:moveTo>
                        <a:lnTo>
                          <a:pt x="302" y="0"/>
                        </a:lnTo>
                        <a:lnTo>
                          <a:pt x="282" y="0"/>
                        </a:lnTo>
                        <a:lnTo>
                          <a:pt x="263" y="9"/>
                        </a:lnTo>
                        <a:lnTo>
                          <a:pt x="234" y="19"/>
                        </a:lnTo>
                        <a:lnTo>
                          <a:pt x="214" y="19"/>
                        </a:lnTo>
                        <a:lnTo>
                          <a:pt x="195" y="29"/>
                        </a:lnTo>
                        <a:lnTo>
                          <a:pt x="175" y="38"/>
                        </a:lnTo>
                        <a:lnTo>
                          <a:pt x="156" y="58"/>
                        </a:lnTo>
                        <a:lnTo>
                          <a:pt x="136" y="58"/>
                        </a:lnTo>
                        <a:lnTo>
                          <a:pt x="127" y="77"/>
                        </a:lnTo>
                        <a:lnTo>
                          <a:pt x="97" y="87"/>
                        </a:lnTo>
                        <a:lnTo>
                          <a:pt x="88" y="107"/>
                        </a:lnTo>
                        <a:lnTo>
                          <a:pt x="68" y="116"/>
                        </a:lnTo>
                        <a:lnTo>
                          <a:pt x="49" y="136"/>
                        </a:lnTo>
                        <a:lnTo>
                          <a:pt x="39" y="146"/>
                        </a:lnTo>
                        <a:lnTo>
                          <a:pt x="20" y="165"/>
                        </a:lnTo>
                        <a:lnTo>
                          <a:pt x="0" y="185"/>
                        </a:lnTo>
                        <a:lnTo>
                          <a:pt x="10" y="185"/>
                        </a:lnTo>
                        <a:lnTo>
                          <a:pt x="39" y="155"/>
                        </a:lnTo>
                        <a:lnTo>
                          <a:pt x="58" y="136"/>
                        </a:lnTo>
                        <a:lnTo>
                          <a:pt x="78" y="126"/>
                        </a:lnTo>
                        <a:lnTo>
                          <a:pt x="88" y="107"/>
                        </a:lnTo>
                        <a:lnTo>
                          <a:pt x="107" y="97"/>
                        </a:lnTo>
                        <a:lnTo>
                          <a:pt x="127" y="87"/>
                        </a:lnTo>
                        <a:lnTo>
                          <a:pt x="146" y="68"/>
                        </a:lnTo>
                        <a:lnTo>
                          <a:pt x="165" y="58"/>
                        </a:lnTo>
                        <a:lnTo>
                          <a:pt x="175" y="48"/>
                        </a:lnTo>
                        <a:lnTo>
                          <a:pt x="204" y="38"/>
                        </a:lnTo>
                        <a:lnTo>
                          <a:pt x="214" y="29"/>
                        </a:lnTo>
                        <a:lnTo>
                          <a:pt x="243" y="19"/>
                        </a:lnTo>
                        <a:lnTo>
                          <a:pt x="263" y="19"/>
                        </a:lnTo>
                        <a:lnTo>
                          <a:pt x="282" y="9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938840" y="3298320"/>
                    <a:ext cx="2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38" y="20"/>
                        </a:move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8" y="20"/>
                        </a:lnTo>
                        <a:lnTo>
                          <a:pt x="29" y="10"/>
                        </a:lnTo>
                        <a:lnTo>
                          <a:pt x="38" y="20"/>
                        </a:lnTo>
                        <a:lnTo>
                          <a:pt x="48" y="0"/>
                        </a:lnTo>
                        <a:lnTo>
                          <a:pt x="38" y="10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578840" y="3304440"/>
                    <a:ext cx="3834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31">
                        <a:moveTo>
                          <a:pt x="10" y="331"/>
                        </a:moveTo>
                        <a:lnTo>
                          <a:pt x="20" y="321"/>
                        </a:lnTo>
                        <a:lnTo>
                          <a:pt x="49" y="321"/>
                        </a:lnTo>
                        <a:lnTo>
                          <a:pt x="68" y="312"/>
                        </a:lnTo>
                        <a:lnTo>
                          <a:pt x="88" y="302"/>
                        </a:lnTo>
                        <a:lnTo>
                          <a:pt x="107" y="302"/>
                        </a:lnTo>
                        <a:lnTo>
                          <a:pt x="127" y="292"/>
                        </a:lnTo>
                        <a:lnTo>
                          <a:pt x="146" y="282"/>
                        </a:lnTo>
                        <a:lnTo>
                          <a:pt x="175" y="282"/>
                        </a:lnTo>
                        <a:lnTo>
                          <a:pt x="195" y="273"/>
                        </a:lnTo>
                        <a:lnTo>
                          <a:pt x="214" y="263"/>
                        </a:lnTo>
                        <a:lnTo>
                          <a:pt x="233" y="253"/>
                        </a:lnTo>
                        <a:lnTo>
                          <a:pt x="253" y="253"/>
                        </a:lnTo>
                        <a:lnTo>
                          <a:pt x="272" y="243"/>
                        </a:lnTo>
                        <a:lnTo>
                          <a:pt x="292" y="234"/>
                        </a:lnTo>
                        <a:lnTo>
                          <a:pt x="311" y="224"/>
                        </a:lnTo>
                        <a:lnTo>
                          <a:pt x="331" y="214"/>
                        </a:lnTo>
                        <a:lnTo>
                          <a:pt x="350" y="205"/>
                        </a:lnTo>
                        <a:lnTo>
                          <a:pt x="370" y="195"/>
                        </a:lnTo>
                        <a:lnTo>
                          <a:pt x="389" y="175"/>
                        </a:lnTo>
                        <a:lnTo>
                          <a:pt x="409" y="166"/>
                        </a:lnTo>
                        <a:lnTo>
                          <a:pt x="428" y="156"/>
                        </a:lnTo>
                        <a:lnTo>
                          <a:pt x="447" y="146"/>
                        </a:lnTo>
                        <a:lnTo>
                          <a:pt x="457" y="136"/>
                        </a:lnTo>
                        <a:lnTo>
                          <a:pt x="486" y="127"/>
                        </a:lnTo>
                        <a:lnTo>
                          <a:pt x="496" y="107"/>
                        </a:lnTo>
                        <a:lnTo>
                          <a:pt x="516" y="97"/>
                        </a:lnTo>
                        <a:lnTo>
                          <a:pt x="535" y="78"/>
                        </a:lnTo>
                        <a:lnTo>
                          <a:pt x="554" y="68"/>
                        </a:lnTo>
                        <a:lnTo>
                          <a:pt x="574" y="58"/>
                        </a:lnTo>
                        <a:lnTo>
                          <a:pt x="603" y="20"/>
                        </a:lnTo>
                        <a:lnTo>
                          <a:pt x="622" y="10"/>
                        </a:lnTo>
                        <a:lnTo>
                          <a:pt x="613" y="0"/>
                        </a:lnTo>
                        <a:lnTo>
                          <a:pt x="603" y="20"/>
                        </a:lnTo>
                        <a:lnTo>
                          <a:pt x="584" y="29"/>
                        </a:lnTo>
                        <a:lnTo>
                          <a:pt x="564" y="49"/>
                        </a:lnTo>
                        <a:lnTo>
                          <a:pt x="545" y="58"/>
                        </a:lnTo>
                        <a:lnTo>
                          <a:pt x="535" y="78"/>
                        </a:lnTo>
                        <a:lnTo>
                          <a:pt x="516" y="88"/>
                        </a:lnTo>
                        <a:lnTo>
                          <a:pt x="496" y="107"/>
                        </a:lnTo>
                        <a:lnTo>
                          <a:pt x="477" y="117"/>
                        </a:lnTo>
                        <a:lnTo>
                          <a:pt x="457" y="127"/>
                        </a:lnTo>
                        <a:lnTo>
                          <a:pt x="438" y="136"/>
                        </a:lnTo>
                        <a:lnTo>
                          <a:pt x="418" y="156"/>
                        </a:lnTo>
                        <a:lnTo>
                          <a:pt x="409" y="166"/>
                        </a:lnTo>
                        <a:lnTo>
                          <a:pt x="379" y="175"/>
                        </a:lnTo>
                        <a:lnTo>
                          <a:pt x="370" y="185"/>
                        </a:lnTo>
                        <a:lnTo>
                          <a:pt x="340" y="195"/>
                        </a:lnTo>
                        <a:lnTo>
                          <a:pt x="321" y="205"/>
                        </a:lnTo>
                        <a:lnTo>
                          <a:pt x="311" y="214"/>
                        </a:lnTo>
                        <a:lnTo>
                          <a:pt x="282" y="224"/>
                        </a:lnTo>
                        <a:lnTo>
                          <a:pt x="272" y="234"/>
                        </a:lnTo>
                        <a:lnTo>
                          <a:pt x="243" y="243"/>
                        </a:lnTo>
                        <a:lnTo>
                          <a:pt x="233" y="253"/>
                        </a:lnTo>
                        <a:lnTo>
                          <a:pt x="204" y="253"/>
                        </a:lnTo>
                        <a:lnTo>
                          <a:pt x="195" y="263"/>
                        </a:lnTo>
                        <a:lnTo>
                          <a:pt x="165" y="273"/>
                        </a:lnTo>
                        <a:lnTo>
                          <a:pt x="146" y="273"/>
                        </a:lnTo>
                        <a:lnTo>
                          <a:pt x="127" y="282"/>
                        </a:lnTo>
                        <a:lnTo>
                          <a:pt x="107" y="292"/>
                        </a:lnTo>
                        <a:lnTo>
                          <a:pt x="88" y="302"/>
                        </a:lnTo>
                        <a:lnTo>
                          <a:pt x="58" y="302"/>
                        </a:lnTo>
                        <a:lnTo>
                          <a:pt x="49" y="312"/>
                        </a:lnTo>
                        <a:lnTo>
                          <a:pt x="20" y="321"/>
                        </a:lnTo>
                        <a:lnTo>
                          <a:pt x="0" y="321"/>
                        </a:lnTo>
                        <a:lnTo>
                          <a:pt x="1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285080" y="3502800"/>
                    <a:ext cx="29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9">
                        <a:moveTo>
                          <a:pt x="9" y="30"/>
                        </a:moveTo>
                        <a:lnTo>
                          <a:pt x="19" y="3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116" y="39"/>
                        </a:lnTo>
                        <a:lnTo>
                          <a:pt x="136" y="49"/>
                        </a:lnTo>
                        <a:lnTo>
                          <a:pt x="194" y="49"/>
                        </a:lnTo>
                        <a:lnTo>
                          <a:pt x="204" y="39"/>
                        </a:lnTo>
                        <a:lnTo>
                          <a:pt x="272" y="39"/>
                        </a:lnTo>
                        <a:lnTo>
                          <a:pt x="282" y="39"/>
                        </a:lnTo>
                        <a:lnTo>
                          <a:pt x="311" y="39"/>
                        </a:lnTo>
                        <a:lnTo>
                          <a:pt x="320" y="30"/>
                        </a:lnTo>
                        <a:lnTo>
                          <a:pt x="359" y="30"/>
                        </a:lnTo>
                        <a:lnTo>
                          <a:pt x="369" y="30"/>
                        </a:lnTo>
                        <a:lnTo>
                          <a:pt x="379" y="20"/>
                        </a:lnTo>
                        <a:lnTo>
                          <a:pt x="408" y="20"/>
                        </a:lnTo>
                        <a:lnTo>
                          <a:pt x="427" y="20"/>
                        </a:lnTo>
                        <a:lnTo>
                          <a:pt x="437" y="20"/>
                        </a:lnTo>
                        <a:lnTo>
                          <a:pt x="447" y="20"/>
                        </a:lnTo>
                        <a:lnTo>
                          <a:pt x="466" y="10"/>
                        </a:lnTo>
                        <a:lnTo>
                          <a:pt x="486" y="10"/>
                        </a:lnTo>
                        <a:lnTo>
                          <a:pt x="476" y="0"/>
                        </a:lnTo>
                        <a:lnTo>
                          <a:pt x="466" y="0"/>
                        </a:lnTo>
                        <a:lnTo>
                          <a:pt x="447" y="10"/>
                        </a:lnTo>
                        <a:lnTo>
                          <a:pt x="437" y="10"/>
                        </a:lnTo>
                        <a:lnTo>
                          <a:pt x="418" y="10"/>
                        </a:lnTo>
                        <a:lnTo>
                          <a:pt x="408" y="20"/>
                        </a:lnTo>
                        <a:lnTo>
                          <a:pt x="398" y="20"/>
                        </a:lnTo>
                        <a:lnTo>
                          <a:pt x="379" y="20"/>
                        </a:lnTo>
                        <a:lnTo>
                          <a:pt x="359" y="20"/>
                        </a:lnTo>
                        <a:lnTo>
                          <a:pt x="359" y="20"/>
                        </a:lnTo>
                        <a:lnTo>
                          <a:pt x="320" y="20"/>
                        </a:lnTo>
                        <a:lnTo>
                          <a:pt x="311" y="30"/>
                        </a:lnTo>
                        <a:lnTo>
                          <a:pt x="282" y="30"/>
                        </a:lnTo>
                        <a:lnTo>
                          <a:pt x="272" y="30"/>
                        </a:lnTo>
                        <a:lnTo>
                          <a:pt x="58" y="30"/>
                        </a:lnTo>
                        <a:lnTo>
                          <a:pt x="48" y="3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lnTo>
                          <a:pt x="0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290840" y="34970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0" y="9"/>
                        </a:move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272840" y="347868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30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54840" y="34848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1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254840" y="3502800"/>
                    <a:ext cx="11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19" y="20"/>
                        </a:move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266720" y="351504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147200" y="349704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65" y="39"/>
                        </a:lnTo>
                        <a:lnTo>
                          <a:pt x="194" y="39"/>
                        </a:lnTo>
                        <a:lnTo>
                          <a:pt x="194" y="29"/>
                        </a:lnTo>
                        <a:lnTo>
                          <a:pt x="146" y="29"/>
                        </a:lnTo>
                        <a:lnTo>
                          <a:pt x="146" y="2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19"/>
                        </a:lnTo>
                        <a:lnTo>
                          <a:pt x="87" y="1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164840" y="34606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164840" y="34606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110840" y="345456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10" y="20"/>
                        </a:move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110840" y="34668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39" y="49"/>
                        </a:moveTo>
                        <a:lnTo>
                          <a:pt x="39" y="39"/>
                        </a:lnTo>
                        <a:lnTo>
                          <a:pt x="30" y="2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661200" y="3117960"/>
                    <a:ext cx="47340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1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29" y="59"/>
                        </a:lnTo>
                        <a:lnTo>
                          <a:pt x="49" y="88"/>
                        </a:lnTo>
                        <a:lnTo>
                          <a:pt x="58" y="117"/>
                        </a:lnTo>
                        <a:lnTo>
                          <a:pt x="78" y="137"/>
                        </a:lnTo>
                        <a:lnTo>
                          <a:pt x="97" y="166"/>
                        </a:lnTo>
                        <a:lnTo>
                          <a:pt x="117" y="185"/>
                        </a:lnTo>
                        <a:lnTo>
                          <a:pt x="136" y="214"/>
                        </a:lnTo>
                        <a:lnTo>
                          <a:pt x="156" y="234"/>
                        </a:lnTo>
                        <a:lnTo>
                          <a:pt x="175" y="263"/>
                        </a:lnTo>
                        <a:lnTo>
                          <a:pt x="204" y="283"/>
                        </a:lnTo>
                        <a:lnTo>
                          <a:pt x="272" y="351"/>
                        </a:lnTo>
                        <a:lnTo>
                          <a:pt x="292" y="370"/>
                        </a:lnTo>
                        <a:lnTo>
                          <a:pt x="321" y="390"/>
                        </a:lnTo>
                        <a:lnTo>
                          <a:pt x="350" y="409"/>
                        </a:lnTo>
                        <a:lnTo>
                          <a:pt x="370" y="429"/>
                        </a:lnTo>
                        <a:lnTo>
                          <a:pt x="399" y="448"/>
                        </a:lnTo>
                        <a:lnTo>
                          <a:pt x="428" y="458"/>
                        </a:lnTo>
                        <a:lnTo>
                          <a:pt x="457" y="477"/>
                        </a:lnTo>
                        <a:lnTo>
                          <a:pt x="477" y="497"/>
                        </a:lnTo>
                        <a:lnTo>
                          <a:pt x="506" y="507"/>
                        </a:lnTo>
                        <a:lnTo>
                          <a:pt x="535" y="526"/>
                        </a:lnTo>
                        <a:lnTo>
                          <a:pt x="564" y="536"/>
                        </a:lnTo>
                        <a:lnTo>
                          <a:pt x="593" y="555"/>
                        </a:lnTo>
                        <a:lnTo>
                          <a:pt x="623" y="555"/>
                        </a:lnTo>
                        <a:lnTo>
                          <a:pt x="652" y="575"/>
                        </a:lnTo>
                        <a:lnTo>
                          <a:pt x="671" y="584"/>
                        </a:lnTo>
                        <a:lnTo>
                          <a:pt x="710" y="594"/>
                        </a:lnTo>
                        <a:lnTo>
                          <a:pt x="739" y="604"/>
                        </a:lnTo>
                        <a:lnTo>
                          <a:pt x="768" y="614"/>
                        </a:lnTo>
                        <a:lnTo>
                          <a:pt x="768" y="604"/>
                        </a:lnTo>
                        <a:lnTo>
                          <a:pt x="739" y="594"/>
                        </a:lnTo>
                        <a:lnTo>
                          <a:pt x="710" y="584"/>
                        </a:lnTo>
                        <a:lnTo>
                          <a:pt x="681" y="575"/>
                        </a:lnTo>
                        <a:lnTo>
                          <a:pt x="652" y="565"/>
                        </a:lnTo>
                        <a:lnTo>
                          <a:pt x="623" y="555"/>
                        </a:lnTo>
                        <a:lnTo>
                          <a:pt x="593" y="545"/>
                        </a:lnTo>
                        <a:lnTo>
                          <a:pt x="564" y="526"/>
                        </a:lnTo>
                        <a:lnTo>
                          <a:pt x="545" y="516"/>
                        </a:lnTo>
                        <a:lnTo>
                          <a:pt x="506" y="507"/>
                        </a:lnTo>
                        <a:lnTo>
                          <a:pt x="486" y="487"/>
                        </a:lnTo>
                        <a:lnTo>
                          <a:pt x="457" y="468"/>
                        </a:lnTo>
                        <a:lnTo>
                          <a:pt x="428" y="458"/>
                        </a:lnTo>
                        <a:lnTo>
                          <a:pt x="409" y="438"/>
                        </a:lnTo>
                        <a:lnTo>
                          <a:pt x="379" y="419"/>
                        </a:lnTo>
                        <a:lnTo>
                          <a:pt x="350" y="399"/>
                        </a:lnTo>
                        <a:lnTo>
                          <a:pt x="321" y="380"/>
                        </a:lnTo>
                        <a:lnTo>
                          <a:pt x="302" y="360"/>
                        </a:lnTo>
                        <a:lnTo>
                          <a:pt x="282" y="341"/>
                        </a:lnTo>
                        <a:lnTo>
                          <a:pt x="253" y="322"/>
                        </a:lnTo>
                        <a:lnTo>
                          <a:pt x="233" y="292"/>
                        </a:lnTo>
                        <a:lnTo>
                          <a:pt x="204" y="283"/>
                        </a:lnTo>
                        <a:lnTo>
                          <a:pt x="185" y="253"/>
                        </a:lnTo>
                        <a:lnTo>
                          <a:pt x="165" y="234"/>
                        </a:lnTo>
                        <a:lnTo>
                          <a:pt x="146" y="205"/>
                        </a:lnTo>
                        <a:lnTo>
                          <a:pt x="127" y="185"/>
                        </a:lnTo>
                        <a:lnTo>
                          <a:pt x="107" y="156"/>
                        </a:lnTo>
                        <a:lnTo>
                          <a:pt x="88" y="127"/>
                        </a:lnTo>
                        <a:lnTo>
                          <a:pt x="68" y="10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637080" y="30643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637080" y="300384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5080" y="299196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9"/>
                        </a:move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661200" y="299196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29"/>
                        </a:moveTo>
                        <a:lnTo>
                          <a:pt x="7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702960" y="30099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49"/>
                        </a:moveTo>
                        <a:lnTo>
                          <a:pt x="29" y="58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720960" y="3040200"/>
                    <a:ext cx="36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9">
                        <a:moveTo>
                          <a:pt x="59" y="29"/>
                        </a:move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9" y="39"/>
                        </a:lnTo>
                        <a:lnTo>
                          <a:pt x="5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757320" y="30517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763080" y="299736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0" y="49"/>
                        </a:lnTo>
                        <a:lnTo>
                          <a:pt x="0" y="69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10" y="69"/>
                        </a:lnTo>
                        <a:lnTo>
                          <a:pt x="10" y="4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763080" y="2991960"/>
                    <a:ext cx="10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9">
                        <a:moveTo>
                          <a:pt x="156" y="9"/>
                        </a:moveTo>
                        <a:lnTo>
                          <a:pt x="146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817080" y="29919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46"/>
                        </a:move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87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817080" y="308232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29"/>
                        </a:move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3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853080" y="30999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8" y="29"/>
                        </a:move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59" y="2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94840" y="3045600"/>
                    <a:ext cx="65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7">
                        <a:moveTo>
                          <a:pt x="98" y="0"/>
                        </a:moveTo>
                        <a:lnTo>
                          <a:pt x="88" y="20"/>
                        </a:lnTo>
                        <a:lnTo>
                          <a:pt x="78" y="30"/>
                        </a:lnTo>
                        <a:lnTo>
                          <a:pt x="68" y="49"/>
                        </a:lnTo>
                        <a:lnTo>
                          <a:pt x="59" y="59"/>
                        </a:lnTo>
                        <a:lnTo>
                          <a:pt x="30" y="88"/>
                        </a:lnTo>
                        <a:lnTo>
                          <a:pt x="20" y="107"/>
                        </a:lnTo>
                        <a:lnTo>
                          <a:pt x="0" y="117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30" y="98"/>
                        </a:lnTo>
                        <a:lnTo>
                          <a:pt x="49" y="78"/>
                        </a:lnTo>
                        <a:lnTo>
                          <a:pt x="68" y="69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98" y="2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931200" y="2991960"/>
                    <a:ext cx="291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8" y="87"/>
                        </a:lnTo>
                        <a:lnTo>
                          <a:pt x="48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931200" y="2979720"/>
                    <a:ext cx="11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9">
                        <a:moveTo>
                          <a:pt x="194" y="0"/>
                        </a:moveTo>
                        <a:lnTo>
                          <a:pt x="185" y="0"/>
                        </a:lnTo>
                        <a:lnTo>
                          <a:pt x="175" y="10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58" y="10"/>
                        </a:lnTo>
                        <a:lnTo>
                          <a:pt x="48" y="2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20"/>
                        </a:lnTo>
                        <a:lnTo>
                          <a:pt x="107" y="20"/>
                        </a:lnTo>
                        <a:lnTo>
                          <a:pt x="12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50720" y="29739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9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050720" y="2871720"/>
                    <a:ext cx="12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5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49"/>
                        </a:lnTo>
                        <a:lnTo>
                          <a:pt x="0" y="127"/>
                        </a:lnTo>
                        <a:lnTo>
                          <a:pt x="10" y="175"/>
                        </a:lnTo>
                        <a:lnTo>
                          <a:pt x="20" y="175"/>
                        </a:lnTo>
                        <a:lnTo>
                          <a:pt x="20" y="4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015080" y="286560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015080" y="28656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026960" y="2715480"/>
                    <a:ext cx="23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43">
                        <a:moveTo>
                          <a:pt x="30" y="0"/>
                        </a:moveTo>
                        <a:lnTo>
                          <a:pt x="30" y="29"/>
                        </a:lnTo>
                        <a:lnTo>
                          <a:pt x="20" y="58"/>
                        </a:lnTo>
                        <a:lnTo>
                          <a:pt x="20" y="185"/>
                        </a:lnTo>
                        <a:lnTo>
                          <a:pt x="1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20" y="214"/>
                        </a:lnTo>
                        <a:lnTo>
                          <a:pt x="30" y="185"/>
                        </a:lnTo>
                        <a:lnTo>
                          <a:pt x="30" y="2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828960" y="2637000"/>
                    <a:ext cx="221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27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30" y="10"/>
                        </a:lnTo>
                        <a:lnTo>
                          <a:pt x="185" y="1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53" y="30"/>
                        </a:lnTo>
                        <a:lnTo>
                          <a:pt x="273" y="39"/>
                        </a:lnTo>
                        <a:lnTo>
                          <a:pt x="292" y="49"/>
                        </a:lnTo>
                        <a:lnTo>
                          <a:pt x="312" y="68"/>
                        </a:lnTo>
                        <a:lnTo>
                          <a:pt x="321" y="78"/>
                        </a:lnTo>
                        <a:lnTo>
                          <a:pt x="341" y="107"/>
                        </a:lnTo>
                        <a:lnTo>
                          <a:pt x="351" y="127"/>
                        </a:lnTo>
                        <a:lnTo>
                          <a:pt x="360" y="127"/>
                        </a:lnTo>
                        <a:lnTo>
                          <a:pt x="351" y="98"/>
                        </a:lnTo>
                        <a:lnTo>
                          <a:pt x="331" y="78"/>
                        </a:lnTo>
                        <a:lnTo>
                          <a:pt x="312" y="59"/>
                        </a:lnTo>
                        <a:lnTo>
                          <a:pt x="292" y="49"/>
                        </a:lnTo>
                        <a:lnTo>
                          <a:pt x="273" y="30"/>
                        </a:lnTo>
                        <a:lnTo>
                          <a:pt x="253" y="20"/>
                        </a:lnTo>
                        <a:lnTo>
                          <a:pt x="224" y="20"/>
                        </a:lnTo>
                        <a:lnTo>
                          <a:pt x="205" y="1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137" y="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81440" y="2637000"/>
                    <a:ext cx="53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8">
                        <a:moveTo>
                          <a:pt x="0" y="88"/>
                        </a:moveTo>
                        <a:lnTo>
                          <a:pt x="9" y="6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8" y="3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87" y="2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29" y="30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763080" y="2691360"/>
                    <a:ext cx="183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88"/>
                        </a:move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0" y="58"/>
                        </a:lnTo>
                        <a:lnTo>
                          <a:pt x="30" y="4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30" y="19"/>
                        </a:lnTo>
                        <a:lnTo>
                          <a:pt x="30" y="5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757320" y="273960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27080" y="2685240"/>
                    <a:ext cx="3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49"/>
                        </a:lnTo>
                        <a:lnTo>
                          <a:pt x="39" y="5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98"/>
                        </a:lnTo>
                        <a:lnTo>
                          <a:pt x="58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733200" y="2541240"/>
                    <a:ext cx="8388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33">
                        <a:moveTo>
                          <a:pt x="126" y="0"/>
                        </a:moveTo>
                        <a:lnTo>
                          <a:pt x="126" y="0"/>
                        </a:lnTo>
                        <a:lnTo>
                          <a:pt x="116" y="19"/>
                        </a:lnTo>
                        <a:lnTo>
                          <a:pt x="116" y="38"/>
                        </a:lnTo>
                        <a:lnTo>
                          <a:pt x="116" y="48"/>
                        </a:lnTo>
                        <a:lnTo>
                          <a:pt x="107" y="68"/>
                        </a:lnTo>
                        <a:lnTo>
                          <a:pt x="107" y="87"/>
                        </a:lnTo>
                        <a:lnTo>
                          <a:pt x="97" y="97"/>
                        </a:lnTo>
                        <a:lnTo>
                          <a:pt x="87" y="116"/>
                        </a:lnTo>
                        <a:lnTo>
                          <a:pt x="87" y="136"/>
                        </a:lnTo>
                        <a:lnTo>
                          <a:pt x="78" y="146"/>
                        </a:lnTo>
                        <a:lnTo>
                          <a:pt x="68" y="155"/>
                        </a:lnTo>
                        <a:lnTo>
                          <a:pt x="58" y="175"/>
                        </a:lnTo>
                        <a:lnTo>
                          <a:pt x="19" y="223"/>
                        </a:lnTo>
                        <a:lnTo>
                          <a:pt x="0" y="233"/>
                        </a:lnTo>
                        <a:lnTo>
                          <a:pt x="0" y="233"/>
                        </a:lnTo>
                        <a:lnTo>
                          <a:pt x="19" y="223"/>
                        </a:lnTo>
                        <a:lnTo>
                          <a:pt x="29" y="214"/>
                        </a:lnTo>
                        <a:lnTo>
                          <a:pt x="48" y="204"/>
                        </a:lnTo>
                        <a:lnTo>
                          <a:pt x="58" y="194"/>
                        </a:lnTo>
                        <a:lnTo>
                          <a:pt x="68" y="175"/>
                        </a:lnTo>
                        <a:lnTo>
                          <a:pt x="78" y="165"/>
                        </a:lnTo>
                        <a:lnTo>
                          <a:pt x="87" y="146"/>
                        </a:lnTo>
                        <a:lnTo>
                          <a:pt x="97" y="136"/>
                        </a:lnTo>
                        <a:lnTo>
                          <a:pt x="97" y="116"/>
                        </a:lnTo>
                        <a:lnTo>
                          <a:pt x="107" y="97"/>
                        </a:lnTo>
                        <a:lnTo>
                          <a:pt x="116" y="87"/>
                        </a:lnTo>
                        <a:lnTo>
                          <a:pt x="116" y="68"/>
                        </a:lnTo>
                        <a:lnTo>
                          <a:pt x="116" y="48"/>
                        </a:lnTo>
                        <a:lnTo>
                          <a:pt x="126" y="38"/>
                        </a:lnTo>
                        <a:lnTo>
                          <a:pt x="126" y="19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810960" y="2480760"/>
                    <a:ext cx="65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98">
                        <a:moveTo>
                          <a:pt x="97" y="0"/>
                        </a:moveTo>
                        <a:lnTo>
                          <a:pt x="88" y="10"/>
                        </a:lnTo>
                        <a:lnTo>
                          <a:pt x="88" y="29"/>
                        </a:lnTo>
                        <a:lnTo>
                          <a:pt x="78" y="49"/>
                        </a:lnTo>
                        <a:lnTo>
                          <a:pt x="68" y="59"/>
                        </a:lnTo>
                        <a:lnTo>
                          <a:pt x="49" y="68"/>
                        </a:lnTo>
                        <a:lnTo>
                          <a:pt x="39" y="78"/>
                        </a:lnTo>
                        <a:lnTo>
                          <a:pt x="20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20" y="98"/>
                        </a:lnTo>
                        <a:lnTo>
                          <a:pt x="39" y="88"/>
                        </a:lnTo>
                        <a:lnTo>
                          <a:pt x="59" y="78"/>
                        </a:lnTo>
                        <a:lnTo>
                          <a:pt x="78" y="49"/>
                        </a:lnTo>
                        <a:lnTo>
                          <a:pt x="88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865320" y="243252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9" y="7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865320" y="24084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889440" y="2354760"/>
                    <a:ext cx="77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7">
                        <a:moveTo>
                          <a:pt x="116" y="0"/>
                        </a:moveTo>
                        <a:lnTo>
                          <a:pt x="116" y="0"/>
                        </a:lnTo>
                        <a:lnTo>
                          <a:pt x="107" y="9"/>
                        </a:lnTo>
                        <a:lnTo>
                          <a:pt x="107" y="19"/>
                        </a:lnTo>
                        <a:lnTo>
                          <a:pt x="97" y="29"/>
                        </a:lnTo>
                        <a:lnTo>
                          <a:pt x="87" y="39"/>
                        </a:lnTo>
                        <a:lnTo>
                          <a:pt x="87" y="48"/>
                        </a:lnTo>
                        <a:lnTo>
                          <a:pt x="77" y="58"/>
                        </a:lnTo>
                        <a:lnTo>
                          <a:pt x="68" y="6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48" y="87"/>
                        </a:lnTo>
                        <a:lnTo>
                          <a:pt x="39" y="87"/>
                        </a:lnTo>
                        <a:lnTo>
                          <a:pt x="29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97"/>
                        </a:lnTo>
                        <a:lnTo>
                          <a:pt x="39" y="97"/>
                        </a:lnTo>
                        <a:lnTo>
                          <a:pt x="48" y="87"/>
                        </a:lnTo>
                        <a:lnTo>
                          <a:pt x="58" y="87"/>
                        </a:lnTo>
                        <a:lnTo>
                          <a:pt x="87" y="68"/>
                        </a:lnTo>
                        <a:lnTo>
                          <a:pt x="87" y="58"/>
                        </a:lnTo>
                        <a:lnTo>
                          <a:pt x="97" y="48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960720" y="2330640"/>
                    <a:ext cx="7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8">
                        <a:moveTo>
                          <a:pt x="117" y="9"/>
                        </a:moveTo>
                        <a:lnTo>
                          <a:pt x="107" y="0"/>
                        </a:ln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0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008960" y="2336400"/>
                    <a:ext cx="2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108"/>
                        </a:lnTo>
                        <a:lnTo>
                          <a:pt x="20" y="88"/>
                        </a:lnTo>
                        <a:lnTo>
                          <a:pt x="20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3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20"/>
                        </a:lnTo>
                        <a:lnTo>
                          <a:pt x="20" y="30"/>
                        </a:lnTo>
                        <a:lnTo>
                          <a:pt x="20" y="49"/>
                        </a:lnTo>
                        <a:lnTo>
                          <a:pt x="20" y="69"/>
                        </a:lnTo>
                        <a:lnTo>
                          <a:pt x="10" y="88"/>
                        </a:lnTo>
                        <a:lnTo>
                          <a:pt x="10" y="108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008960" y="24210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68" y="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050720" y="2360160"/>
                    <a:ext cx="961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46" y="10"/>
                        </a:moveTo>
                        <a:lnTo>
                          <a:pt x="156" y="10"/>
                        </a:lnTo>
                        <a:lnTo>
                          <a:pt x="136" y="10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30"/>
                        </a:lnTo>
                        <a:lnTo>
                          <a:pt x="39" y="5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0" y="8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20" y="8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59" y="49"/>
                        </a:lnTo>
                        <a:lnTo>
                          <a:pt x="68" y="39"/>
                        </a:lnTo>
                        <a:lnTo>
                          <a:pt x="68" y="30"/>
                        </a:lnTo>
                        <a:lnTo>
                          <a:pt x="78" y="3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97" y="10"/>
                        </a:lnTo>
                        <a:lnTo>
                          <a:pt x="127" y="1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4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41080" y="2366640"/>
                    <a:ext cx="4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">
                        <a:moveTo>
                          <a:pt x="68" y="0"/>
                        </a:move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182840" y="2324520"/>
                    <a:ext cx="360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8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9" y="58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206960" y="226440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68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213080" y="22521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58" y="1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248720" y="225828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9" y="10"/>
                        </a:move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285080" y="219240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19" y="58"/>
                        </a:lnTo>
                        <a:lnTo>
                          <a:pt x="19" y="78"/>
                        </a:lnTo>
                        <a:lnTo>
                          <a:pt x="9" y="87"/>
                        </a:lnTo>
                        <a:lnTo>
                          <a:pt x="9" y="9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19" y="107"/>
                        </a:lnTo>
                        <a:lnTo>
                          <a:pt x="19" y="87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164840" y="2162160"/>
                    <a:ext cx="12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5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65" y="39"/>
                        </a:lnTo>
                        <a:lnTo>
                          <a:pt x="175" y="49"/>
                        </a:lnTo>
                        <a:lnTo>
                          <a:pt x="195" y="49"/>
                        </a:lnTo>
                        <a:lnTo>
                          <a:pt x="204" y="59"/>
                        </a:lnTo>
                        <a:lnTo>
                          <a:pt x="204" y="49"/>
                        </a:lnTo>
                        <a:lnTo>
                          <a:pt x="195" y="49"/>
                        </a:lnTo>
                        <a:lnTo>
                          <a:pt x="185" y="39"/>
                        </a:lnTo>
                        <a:lnTo>
                          <a:pt x="165" y="2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10"/>
                        </a:lnTo>
                        <a:lnTo>
                          <a:pt x="11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074840" y="2095920"/>
                    <a:ext cx="90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88" y="68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117" y="78"/>
                        </a:lnTo>
                        <a:lnTo>
                          <a:pt x="127" y="88"/>
                        </a:lnTo>
                        <a:lnTo>
                          <a:pt x="127" y="97"/>
                        </a:lnTo>
                        <a:lnTo>
                          <a:pt x="136" y="107"/>
                        </a:lnTo>
                        <a:lnTo>
                          <a:pt x="146" y="107"/>
                        </a:lnTo>
                        <a:lnTo>
                          <a:pt x="146" y="107"/>
                        </a:lnTo>
                        <a:lnTo>
                          <a:pt x="146" y="97"/>
                        </a:lnTo>
                        <a:lnTo>
                          <a:pt x="127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068720" y="206568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074840" y="2012040"/>
                    <a:ext cx="623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97">
                        <a:moveTo>
                          <a:pt x="1012" y="97"/>
                        </a:moveTo>
                        <a:lnTo>
                          <a:pt x="1012" y="87"/>
                        </a:lnTo>
                        <a:lnTo>
                          <a:pt x="982" y="78"/>
                        </a:lnTo>
                        <a:lnTo>
                          <a:pt x="953" y="68"/>
                        </a:lnTo>
                        <a:lnTo>
                          <a:pt x="924" y="58"/>
                        </a:lnTo>
                        <a:lnTo>
                          <a:pt x="885" y="48"/>
                        </a:lnTo>
                        <a:lnTo>
                          <a:pt x="856" y="48"/>
                        </a:lnTo>
                        <a:lnTo>
                          <a:pt x="827" y="39"/>
                        </a:lnTo>
                        <a:lnTo>
                          <a:pt x="798" y="29"/>
                        </a:lnTo>
                        <a:lnTo>
                          <a:pt x="768" y="29"/>
                        </a:lnTo>
                        <a:lnTo>
                          <a:pt x="730" y="19"/>
                        </a:lnTo>
                        <a:lnTo>
                          <a:pt x="700" y="19"/>
                        </a:lnTo>
                        <a:lnTo>
                          <a:pt x="661" y="9"/>
                        </a:lnTo>
                        <a:lnTo>
                          <a:pt x="632" y="9"/>
                        </a:lnTo>
                        <a:lnTo>
                          <a:pt x="603" y="9"/>
                        </a:lnTo>
                        <a:lnTo>
                          <a:pt x="574" y="0"/>
                        </a:lnTo>
                        <a:lnTo>
                          <a:pt x="477" y="0"/>
                        </a:lnTo>
                        <a:lnTo>
                          <a:pt x="438" y="9"/>
                        </a:lnTo>
                        <a:lnTo>
                          <a:pt x="409" y="9"/>
                        </a:lnTo>
                        <a:lnTo>
                          <a:pt x="370" y="9"/>
                        </a:lnTo>
                        <a:lnTo>
                          <a:pt x="341" y="9"/>
                        </a:lnTo>
                        <a:lnTo>
                          <a:pt x="311" y="19"/>
                        </a:lnTo>
                        <a:lnTo>
                          <a:pt x="272" y="19"/>
                        </a:lnTo>
                        <a:lnTo>
                          <a:pt x="243" y="29"/>
                        </a:lnTo>
                        <a:lnTo>
                          <a:pt x="214" y="29"/>
                        </a:lnTo>
                        <a:lnTo>
                          <a:pt x="175" y="39"/>
                        </a:lnTo>
                        <a:lnTo>
                          <a:pt x="146" y="48"/>
                        </a:lnTo>
                        <a:lnTo>
                          <a:pt x="117" y="48"/>
                        </a:lnTo>
                        <a:lnTo>
                          <a:pt x="88" y="58"/>
                        </a:lnTo>
                        <a:lnTo>
                          <a:pt x="49" y="68"/>
                        </a:lnTo>
                        <a:lnTo>
                          <a:pt x="29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87"/>
                        </a:lnTo>
                        <a:lnTo>
                          <a:pt x="58" y="78"/>
                        </a:lnTo>
                        <a:lnTo>
                          <a:pt x="88" y="68"/>
                        </a:lnTo>
                        <a:lnTo>
                          <a:pt x="117" y="58"/>
                        </a:lnTo>
                        <a:lnTo>
                          <a:pt x="146" y="48"/>
                        </a:lnTo>
                        <a:lnTo>
                          <a:pt x="175" y="48"/>
                        </a:lnTo>
                        <a:lnTo>
                          <a:pt x="214" y="39"/>
                        </a:lnTo>
                        <a:lnTo>
                          <a:pt x="243" y="29"/>
                        </a:lnTo>
                        <a:lnTo>
                          <a:pt x="272" y="29"/>
                        </a:lnTo>
                        <a:lnTo>
                          <a:pt x="311" y="29"/>
                        </a:lnTo>
                        <a:lnTo>
                          <a:pt x="341" y="19"/>
                        </a:lnTo>
                        <a:lnTo>
                          <a:pt x="370" y="19"/>
                        </a:lnTo>
                        <a:lnTo>
                          <a:pt x="409" y="19"/>
                        </a:lnTo>
                        <a:lnTo>
                          <a:pt x="438" y="19"/>
                        </a:lnTo>
                        <a:lnTo>
                          <a:pt x="477" y="9"/>
                        </a:lnTo>
                        <a:lnTo>
                          <a:pt x="574" y="9"/>
                        </a:lnTo>
                        <a:lnTo>
                          <a:pt x="603" y="19"/>
                        </a:lnTo>
                        <a:lnTo>
                          <a:pt x="632" y="19"/>
                        </a:lnTo>
                        <a:lnTo>
                          <a:pt x="661" y="19"/>
                        </a:lnTo>
                        <a:lnTo>
                          <a:pt x="700" y="29"/>
                        </a:lnTo>
                        <a:lnTo>
                          <a:pt x="730" y="29"/>
                        </a:lnTo>
                        <a:lnTo>
                          <a:pt x="759" y="29"/>
                        </a:lnTo>
                        <a:lnTo>
                          <a:pt x="798" y="39"/>
                        </a:lnTo>
                        <a:lnTo>
                          <a:pt x="827" y="48"/>
                        </a:lnTo>
                        <a:lnTo>
                          <a:pt x="856" y="48"/>
                        </a:lnTo>
                        <a:lnTo>
                          <a:pt x="885" y="58"/>
                        </a:lnTo>
                        <a:lnTo>
                          <a:pt x="924" y="68"/>
                        </a:lnTo>
                        <a:lnTo>
                          <a:pt x="953" y="78"/>
                        </a:lnTo>
                        <a:lnTo>
                          <a:pt x="982" y="8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87"/>
                        </a:lnTo>
                        <a:lnTo>
                          <a:pt x="1012" y="87"/>
                        </a:lnTo>
                        <a:lnTo>
                          <a:pt x="1012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865320" y="2071800"/>
                    <a:ext cx="4251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555">
                        <a:moveTo>
                          <a:pt x="340" y="59"/>
                        </a:moveTo>
                        <a:lnTo>
                          <a:pt x="360" y="68"/>
                        </a:lnTo>
                        <a:lnTo>
                          <a:pt x="379" y="78"/>
                        </a:lnTo>
                        <a:lnTo>
                          <a:pt x="389" y="88"/>
                        </a:lnTo>
                        <a:lnTo>
                          <a:pt x="408" y="107"/>
                        </a:lnTo>
                        <a:lnTo>
                          <a:pt x="428" y="127"/>
                        </a:lnTo>
                        <a:lnTo>
                          <a:pt x="437" y="136"/>
                        </a:lnTo>
                        <a:lnTo>
                          <a:pt x="467" y="156"/>
                        </a:lnTo>
                        <a:lnTo>
                          <a:pt x="476" y="166"/>
                        </a:lnTo>
                        <a:lnTo>
                          <a:pt x="486" y="166"/>
                        </a:lnTo>
                        <a:lnTo>
                          <a:pt x="525" y="166"/>
                        </a:lnTo>
                        <a:lnTo>
                          <a:pt x="544" y="166"/>
                        </a:lnTo>
                        <a:lnTo>
                          <a:pt x="564" y="166"/>
                        </a:lnTo>
                        <a:lnTo>
                          <a:pt x="574" y="166"/>
                        </a:lnTo>
                        <a:lnTo>
                          <a:pt x="583" y="166"/>
                        </a:lnTo>
                        <a:lnTo>
                          <a:pt x="593" y="175"/>
                        </a:lnTo>
                        <a:lnTo>
                          <a:pt x="603" y="175"/>
                        </a:lnTo>
                        <a:lnTo>
                          <a:pt x="603" y="185"/>
                        </a:lnTo>
                        <a:lnTo>
                          <a:pt x="622" y="185"/>
                        </a:lnTo>
                        <a:lnTo>
                          <a:pt x="632" y="195"/>
                        </a:lnTo>
                        <a:lnTo>
                          <a:pt x="642" y="195"/>
                        </a:lnTo>
                        <a:lnTo>
                          <a:pt x="651" y="195"/>
                        </a:lnTo>
                        <a:lnTo>
                          <a:pt x="651" y="195"/>
                        </a:lnTo>
                        <a:lnTo>
                          <a:pt x="671" y="205"/>
                        </a:lnTo>
                        <a:lnTo>
                          <a:pt x="671" y="214"/>
                        </a:lnTo>
                        <a:lnTo>
                          <a:pt x="681" y="224"/>
                        </a:lnTo>
                        <a:lnTo>
                          <a:pt x="681" y="263"/>
                        </a:lnTo>
                        <a:lnTo>
                          <a:pt x="690" y="273"/>
                        </a:lnTo>
                        <a:lnTo>
                          <a:pt x="681" y="282"/>
                        </a:lnTo>
                        <a:lnTo>
                          <a:pt x="681" y="292"/>
                        </a:lnTo>
                        <a:lnTo>
                          <a:pt x="671" y="292"/>
                        </a:lnTo>
                        <a:lnTo>
                          <a:pt x="651" y="292"/>
                        </a:lnTo>
                        <a:lnTo>
                          <a:pt x="642" y="292"/>
                        </a:lnTo>
                        <a:lnTo>
                          <a:pt x="622" y="292"/>
                        </a:lnTo>
                        <a:lnTo>
                          <a:pt x="612" y="282"/>
                        </a:lnTo>
                        <a:lnTo>
                          <a:pt x="603" y="282"/>
                        </a:lnTo>
                        <a:lnTo>
                          <a:pt x="564" y="282"/>
                        </a:lnTo>
                        <a:lnTo>
                          <a:pt x="564" y="282"/>
                        </a:lnTo>
                        <a:lnTo>
                          <a:pt x="554" y="292"/>
                        </a:lnTo>
                        <a:lnTo>
                          <a:pt x="554" y="292"/>
                        </a:lnTo>
                        <a:lnTo>
                          <a:pt x="544" y="302"/>
                        </a:lnTo>
                        <a:lnTo>
                          <a:pt x="544" y="321"/>
                        </a:lnTo>
                        <a:lnTo>
                          <a:pt x="544" y="351"/>
                        </a:lnTo>
                        <a:lnTo>
                          <a:pt x="554" y="370"/>
                        </a:lnTo>
                        <a:lnTo>
                          <a:pt x="554" y="399"/>
                        </a:lnTo>
                        <a:lnTo>
                          <a:pt x="554" y="419"/>
                        </a:lnTo>
                        <a:lnTo>
                          <a:pt x="544" y="438"/>
                        </a:lnTo>
                        <a:lnTo>
                          <a:pt x="535" y="458"/>
                        </a:lnTo>
                        <a:lnTo>
                          <a:pt x="515" y="467"/>
                        </a:lnTo>
                        <a:lnTo>
                          <a:pt x="505" y="467"/>
                        </a:lnTo>
                        <a:lnTo>
                          <a:pt x="476" y="467"/>
                        </a:lnTo>
                        <a:lnTo>
                          <a:pt x="467" y="467"/>
                        </a:lnTo>
                        <a:lnTo>
                          <a:pt x="437" y="467"/>
                        </a:lnTo>
                        <a:lnTo>
                          <a:pt x="428" y="458"/>
                        </a:lnTo>
                        <a:lnTo>
                          <a:pt x="389" y="458"/>
                        </a:lnTo>
                        <a:lnTo>
                          <a:pt x="389" y="467"/>
                        </a:lnTo>
                        <a:lnTo>
                          <a:pt x="379" y="467"/>
                        </a:lnTo>
                        <a:lnTo>
                          <a:pt x="369" y="477"/>
                        </a:lnTo>
                        <a:lnTo>
                          <a:pt x="360" y="487"/>
                        </a:lnTo>
                        <a:lnTo>
                          <a:pt x="350" y="497"/>
                        </a:lnTo>
                        <a:lnTo>
                          <a:pt x="340" y="506"/>
                        </a:lnTo>
                        <a:lnTo>
                          <a:pt x="330" y="526"/>
                        </a:lnTo>
                        <a:lnTo>
                          <a:pt x="321" y="536"/>
                        </a:lnTo>
                        <a:lnTo>
                          <a:pt x="301" y="545"/>
                        </a:lnTo>
                        <a:lnTo>
                          <a:pt x="292" y="555"/>
                        </a:lnTo>
                        <a:lnTo>
                          <a:pt x="253" y="555"/>
                        </a:lnTo>
                        <a:lnTo>
                          <a:pt x="253" y="545"/>
                        </a:lnTo>
                        <a:lnTo>
                          <a:pt x="262" y="526"/>
                        </a:lnTo>
                        <a:lnTo>
                          <a:pt x="262" y="506"/>
                        </a:lnTo>
                        <a:lnTo>
                          <a:pt x="272" y="487"/>
                        </a:lnTo>
                        <a:lnTo>
                          <a:pt x="272" y="477"/>
                        </a:lnTo>
                        <a:lnTo>
                          <a:pt x="282" y="458"/>
                        </a:lnTo>
                        <a:lnTo>
                          <a:pt x="282" y="438"/>
                        </a:lnTo>
                        <a:lnTo>
                          <a:pt x="292" y="419"/>
                        </a:lnTo>
                        <a:lnTo>
                          <a:pt x="272" y="409"/>
                        </a:lnTo>
                        <a:lnTo>
                          <a:pt x="262" y="409"/>
                        </a:lnTo>
                        <a:lnTo>
                          <a:pt x="243" y="409"/>
                        </a:lnTo>
                        <a:lnTo>
                          <a:pt x="233" y="409"/>
                        </a:lnTo>
                        <a:lnTo>
                          <a:pt x="194" y="409"/>
                        </a:lnTo>
                        <a:lnTo>
                          <a:pt x="175" y="419"/>
                        </a:lnTo>
                        <a:lnTo>
                          <a:pt x="155" y="448"/>
                        </a:lnTo>
                        <a:lnTo>
                          <a:pt x="146" y="458"/>
                        </a:lnTo>
                        <a:lnTo>
                          <a:pt x="136" y="467"/>
                        </a:lnTo>
                        <a:lnTo>
                          <a:pt x="136" y="477"/>
                        </a:lnTo>
                        <a:lnTo>
                          <a:pt x="126" y="487"/>
                        </a:lnTo>
                        <a:lnTo>
                          <a:pt x="116" y="497"/>
                        </a:lnTo>
                        <a:lnTo>
                          <a:pt x="97" y="516"/>
                        </a:lnTo>
                        <a:lnTo>
                          <a:pt x="97" y="526"/>
                        </a:lnTo>
                        <a:lnTo>
                          <a:pt x="78" y="526"/>
                        </a:lnTo>
                        <a:lnTo>
                          <a:pt x="78" y="536"/>
                        </a:lnTo>
                        <a:lnTo>
                          <a:pt x="48" y="536"/>
                        </a:lnTo>
                        <a:lnTo>
                          <a:pt x="48" y="282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0" y="166"/>
                        </a:lnTo>
                        <a:lnTo>
                          <a:pt x="19" y="146"/>
                        </a:lnTo>
                        <a:lnTo>
                          <a:pt x="39" y="146"/>
                        </a:lnTo>
                        <a:lnTo>
                          <a:pt x="48" y="127"/>
                        </a:lnTo>
                        <a:lnTo>
                          <a:pt x="78" y="117"/>
                        </a:lnTo>
                        <a:lnTo>
                          <a:pt x="87" y="107"/>
                        </a:lnTo>
                        <a:lnTo>
                          <a:pt x="116" y="97"/>
                        </a:lnTo>
                        <a:lnTo>
                          <a:pt x="126" y="88"/>
                        </a:lnTo>
                        <a:lnTo>
                          <a:pt x="155" y="68"/>
                        </a:lnTo>
                        <a:lnTo>
                          <a:pt x="165" y="59"/>
                        </a:lnTo>
                        <a:lnTo>
                          <a:pt x="194" y="59"/>
                        </a:lnTo>
                        <a:lnTo>
                          <a:pt x="214" y="49"/>
                        </a:lnTo>
                        <a:lnTo>
                          <a:pt x="233" y="39"/>
                        </a:lnTo>
                        <a:lnTo>
                          <a:pt x="253" y="29"/>
                        </a:lnTo>
                        <a:lnTo>
                          <a:pt x="272" y="20"/>
                        </a:lnTo>
                        <a:lnTo>
                          <a:pt x="292" y="10"/>
                        </a:lnTo>
                        <a:lnTo>
                          <a:pt x="311" y="0"/>
                        </a:lnTo>
                        <a:lnTo>
                          <a:pt x="330" y="10"/>
                        </a:lnTo>
                        <a:lnTo>
                          <a:pt x="330" y="20"/>
                        </a:lnTo>
                        <a:lnTo>
                          <a:pt x="330" y="29"/>
                        </a:lnTo>
                        <a:lnTo>
                          <a:pt x="330" y="49"/>
                        </a:lnTo>
                        <a:lnTo>
                          <a:pt x="330" y="59"/>
                        </a:lnTo>
                        <a:lnTo>
                          <a:pt x="340" y="59"/>
                        </a:lnTo>
                        <a:lnTo>
                          <a:pt x="340" y="5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4840" y="2108160"/>
                    <a:ext cx="72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7">
                        <a:moveTo>
                          <a:pt x="117" y="87"/>
                        </a:moveTo>
                        <a:lnTo>
                          <a:pt x="107" y="77"/>
                        </a:lnTo>
                        <a:lnTo>
                          <a:pt x="78" y="48"/>
                        </a:lnTo>
                        <a:lnTo>
                          <a:pt x="68" y="38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0" y="19"/>
                        </a:lnTo>
                        <a:lnTo>
                          <a:pt x="39" y="29"/>
                        </a:lnTo>
                        <a:lnTo>
                          <a:pt x="49" y="38"/>
                        </a:lnTo>
                        <a:lnTo>
                          <a:pt x="58" y="48"/>
                        </a:lnTo>
                        <a:lnTo>
                          <a:pt x="107" y="87"/>
                        </a:lnTo>
                        <a:lnTo>
                          <a:pt x="107" y="87"/>
                        </a:lnTo>
                        <a:lnTo>
                          <a:pt x="117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141080" y="216216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29"/>
                        </a:moveTo>
                        <a:lnTo>
                          <a:pt x="165" y="3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0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127" y="20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56" y="39"/>
                        </a:lnTo>
                        <a:lnTo>
                          <a:pt x="165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237200" y="2179800"/>
                    <a:ext cx="53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9">
                        <a:moveTo>
                          <a:pt x="78" y="49"/>
                        </a:moveTo>
                        <a:lnTo>
                          <a:pt x="7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87" y="49"/>
                        </a:lnTo>
                        <a:lnTo>
                          <a:pt x="78" y="39"/>
                        </a:lnTo>
                        <a:lnTo>
                          <a:pt x="7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278960" y="221004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200840" y="2246040"/>
                    <a:ext cx="78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20"/>
                        </a:lnTo>
                        <a:lnTo>
                          <a:pt x="107" y="20"/>
                        </a:lnTo>
                        <a:lnTo>
                          <a:pt x="127" y="20"/>
                        </a:lnTo>
                        <a:lnTo>
                          <a:pt x="127" y="1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182840" y="2258280"/>
                    <a:ext cx="29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65">
                        <a:moveTo>
                          <a:pt x="0" y="165"/>
                        </a:moveTo>
                        <a:lnTo>
                          <a:pt x="20" y="15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39" y="97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1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19"/>
                        </a:lnTo>
                        <a:lnTo>
                          <a:pt x="29" y="49"/>
                        </a:lnTo>
                        <a:lnTo>
                          <a:pt x="29" y="68"/>
                        </a:lnTo>
                        <a:lnTo>
                          <a:pt x="29" y="97"/>
                        </a:lnTo>
                        <a:lnTo>
                          <a:pt x="39" y="117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0" y="156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080960" y="2354760"/>
                    <a:ext cx="10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">
                        <a:moveTo>
                          <a:pt x="10" y="29"/>
                        </a:move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78" y="9"/>
                        </a:lnTo>
                        <a:lnTo>
                          <a:pt x="87" y="9"/>
                        </a:lnTo>
                        <a:lnTo>
                          <a:pt x="117" y="9"/>
                        </a:lnTo>
                        <a:lnTo>
                          <a:pt x="12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9"/>
                        </a:lnTo>
                        <a:lnTo>
                          <a:pt x="126" y="9"/>
                        </a:lnTo>
                        <a:lnTo>
                          <a:pt x="117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021200" y="2372760"/>
                    <a:ext cx="65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68"/>
                        </a:moveTo>
                        <a:lnTo>
                          <a:pt x="0" y="78"/>
                        </a:lnTo>
                        <a:lnTo>
                          <a:pt x="19" y="78"/>
                        </a:lnTo>
                        <a:lnTo>
                          <a:pt x="39" y="68"/>
                        </a:lnTo>
                        <a:lnTo>
                          <a:pt x="48" y="68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87" y="1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19" y="68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021200" y="2330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29" y="0"/>
                        </a:moveTo>
                        <a:lnTo>
                          <a:pt x="29" y="1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9" y="68"/>
                        </a:lnTo>
                        <a:lnTo>
                          <a:pt x="9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36"/>
                        </a:lnTo>
                        <a:lnTo>
                          <a:pt x="9" y="13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19" y="78"/>
                        </a:lnTo>
                        <a:lnTo>
                          <a:pt x="29" y="58"/>
                        </a:lnTo>
                        <a:lnTo>
                          <a:pt x="29" y="3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984840" y="2318400"/>
                    <a:ext cx="604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">
                        <a:moveTo>
                          <a:pt x="0" y="20"/>
                        </a:moveTo>
                        <a:lnTo>
                          <a:pt x="20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88" y="10"/>
                        </a:ln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889440" y="2324520"/>
                    <a:ext cx="954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39" y="127"/>
                        </a:lnTo>
                        <a:lnTo>
                          <a:pt x="39" y="127"/>
                        </a:lnTo>
                        <a:lnTo>
                          <a:pt x="58" y="117"/>
                        </a:lnTo>
                        <a:lnTo>
                          <a:pt x="87" y="88"/>
                        </a:lnTo>
                        <a:lnTo>
                          <a:pt x="87" y="78"/>
                        </a:lnTo>
                        <a:lnTo>
                          <a:pt x="97" y="68"/>
                        </a:lnTo>
                        <a:lnTo>
                          <a:pt x="107" y="58"/>
                        </a:lnTo>
                        <a:lnTo>
                          <a:pt x="107" y="49"/>
                        </a:lnTo>
                        <a:lnTo>
                          <a:pt x="116" y="3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6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29"/>
                        </a:lnTo>
                        <a:lnTo>
                          <a:pt x="107" y="49"/>
                        </a:lnTo>
                        <a:lnTo>
                          <a:pt x="97" y="49"/>
                        </a:lnTo>
                        <a:lnTo>
                          <a:pt x="87" y="68"/>
                        </a:lnTo>
                        <a:lnTo>
                          <a:pt x="77" y="88"/>
                        </a:lnTo>
                        <a:lnTo>
                          <a:pt x="68" y="97"/>
                        </a:lnTo>
                        <a:lnTo>
                          <a:pt x="58" y="97"/>
                        </a:lnTo>
                        <a:lnTo>
                          <a:pt x="48" y="107"/>
                        </a:lnTo>
                        <a:lnTo>
                          <a:pt x="39" y="117"/>
                        </a:lnTo>
                        <a:lnTo>
                          <a:pt x="39" y="11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883320" y="2198520"/>
                    <a:ext cx="115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77"/>
                        </a:lnTo>
                        <a:lnTo>
                          <a:pt x="10" y="165"/>
                        </a:lnTo>
                        <a:lnTo>
                          <a:pt x="10" y="331"/>
                        </a:lnTo>
                        <a:lnTo>
                          <a:pt x="19" y="331"/>
                        </a:lnTo>
                        <a:lnTo>
                          <a:pt x="19" y="77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859200" y="217440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859200" y="2071800"/>
                    <a:ext cx="197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166">
                        <a:moveTo>
                          <a:pt x="321" y="0"/>
                        </a:moveTo>
                        <a:lnTo>
                          <a:pt x="302" y="1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04" y="49"/>
                        </a:lnTo>
                        <a:lnTo>
                          <a:pt x="175" y="59"/>
                        </a:lnTo>
                        <a:lnTo>
                          <a:pt x="156" y="68"/>
                        </a:lnTo>
                        <a:lnTo>
                          <a:pt x="136" y="78"/>
                        </a:lnTo>
                        <a:lnTo>
                          <a:pt x="117" y="88"/>
                        </a:lnTo>
                        <a:lnTo>
                          <a:pt x="97" y="107"/>
                        </a:lnTo>
                        <a:lnTo>
                          <a:pt x="78" y="107"/>
                        </a:lnTo>
                        <a:lnTo>
                          <a:pt x="58" y="127"/>
                        </a:lnTo>
                        <a:lnTo>
                          <a:pt x="39" y="136"/>
                        </a:lnTo>
                        <a:lnTo>
                          <a:pt x="19" y="146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29" y="156"/>
                        </a:lnTo>
                        <a:lnTo>
                          <a:pt x="49" y="146"/>
                        </a:lnTo>
                        <a:lnTo>
                          <a:pt x="68" y="136"/>
                        </a:lnTo>
                        <a:lnTo>
                          <a:pt x="88" y="117"/>
                        </a:lnTo>
                        <a:lnTo>
                          <a:pt x="107" y="107"/>
                        </a:lnTo>
                        <a:lnTo>
                          <a:pt x="126" y="97"/>
                        </a:lnTo>
                        <a:lnTo>
                          <a:pt x="146" y="88"/>
                        </a:lnTo>
                        <a:lnTo>
                          <a:pt x="165" y="78"/>
                        </a:lnTo>
                        <a:lnTo>
                          <a:pt x="185" y="68"/>
                        </a:lnTo>
                        <a:lnTo>
                          <a:pt x="204" y="59"/>
                        </a:lnTo>
                        <a:lnTo>
                          <a:pt x="224" y="49"/>
                        </a:lnTo>
                        <a:lnTo>
                          <a:pt x="24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20"/>
                        </a:lnTo>
                        <a:lnTo>
                          <a:pt x="321" y="10"/>
                        </a:lnTo>
                        <a:lnTo>
                          <a:pt x="321" y="0"/>
                        </a:lnTo>
                        <a:lnTo>
                          <a:pt x="3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056840" y="2071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422600" y="2071800"/>
                    <a:ext cx="479520" cy="65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1061">
                        <a:moveTo>
                          <a:pt x="700" y="117"/>
                        </a:moveTo>
                        <a:lnTo>
                          <a:pt x="700" y="136"/>
                        </a:lnTo>
                        <a:lnTo>
                          <a:pt x="691" y="14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642" y="195"/>
                        </a:lnTo>
                        <a:lnTo>
                          <a:pt x="623" y="195"/>
                        </a:lnTo>
                        <a:lnTo>
                          <a:pt x="623" y="205"/>
                        </a:lnTo>
                        <a:lnTo>
                          <a:pt x="613" y="214"/>
                        </a:lnTo>
                        <a:lnTo>
                          <a:pt x="603" y="224"/>
                        </a:lnTo>
                        <a:lnTo>
                          <a:pt x="593" y="243"/>
                        </a:lnTo>
                        <a:lnTo>
                          <a:pt x="593" y="263"/>
                        </a:lnTo>
                        <a:lnTo>
                          <a:pt x="584" y="282"/>
                        </a:lnTo>
                        <a:lnTo>
                          <a:pt x="584" y="302"/>
                        </a:lnTo>
                        <a:lnTo>
                          <a:pt x="584" y="321"/>
                        </a:lnTo>
                        <a:lnTo>
                          <a:pt x="574" y="341"/>
                        </a:lnTo>
                        <a:lnTo>
                          <a:pt x="574" y="360"/>
                        </a:lnTo>
                        <a:lnTo>
                          <a:pt x="584" y="370"/>
                        </a:lnTo>
                        <a:lnTo>
                          <a:pt x="584" y="390"/>
                        </a:lnTo>
                        <a:lnTo>
                          <a:pt x="593" y="399"/>
                        </a:lnTo>
                        <a:lnTo>
                          <a:pt x="593" y="409"/>
                        </a:lnTo>
                        <a:lnTo>
                          <a:pt x="603" y="419"/>
                        </a:lnTo>
                        <a:lnTo>
                          <a:pt x="613" y="428"/>
                        </a:lnTo>
                        <a:lnTo>
                          <a:pt x="623" y="438"/>
                        </a:lnTo>
                        <a:lnTo>
                          <a:pt x="632" y="448"/>
                        </a:lnTo>
                        <a:lnTo>
                          <a:pt x="642" y="448"/>
                        </a:lnTo>
                        <a:lnTo>
                          <a:pt x="652" y="458"/>
                        </a:lnTo>
                        <a:lnTo>
                          <a:pt x="662" y="458"/>
                        </a:lnTo>
                        <a:lnTo>
                          <a:pt x="671" y="458"/>
                        </a:lnTo>
                        <a:lnTo>
                          <a:pt x="681" y="458"/>
                        </a:lnTo>
                        <a:lnTo>
                          <a:pt x="691" y="458"/>
                        </a:lnTo>
                        <a:lnTo>
                          <a:pt x="700" y="467"/>
                        </a:lnTo>
                        <a:lnTo>
                          <a:pt x="691" y="526"/>
                        </a:lnTo>
                        <a:lnTo>
                          <a:pt x="691" y="740"/>
                        </a:lnTo>
                        <a:lnTo>
                          <a:pt x="700" y="798"/>
                        </a:lnTo>
                        <a:lnTo>
                          <a:pt x="700" y="847"/>
                        </a:lnTo>
                        <a:lnTo>
                          <a:pt x="710" y="906"/>
                        </a:lnTo>
                        <a:lnTo>
                          <a:pt x="710" y="915"/>
                        </a:lnTo>
                        <a:lnTo>
                          <a:pt x="710" y="915"/>
                        </a:lnTo>
                        <a:lnTo>
                          <a:pt x="710" y="935"/>
                        </a:lnTo>
                        <a:lnTo>
                          <a:pt x="720" y="935"/>
                        </a:lnTo>
                        <a:lnTo>
                          <a:pt x="720" y="945"/>
                        </a:lnTo>
                        <a:lnTo>
                          <a:pt x="730" y="945"/>
                        </a:lnTo>
                        <a:lnTo>
                          <a:pt x="749" y="964"/>
                        </a:lnTo>
                        <a:lnTo>
                          <a:pt x="759" y="964"/>
                        </a:lnTo>
                        <a:lnTo>
                          <a:pt x="778" y="1003"/>
                        </a:lnTo>
                        <a:lnTo>
                          <a:pt x="769" y="1003"/>
                        </a:lnTo>
                        <a:lnTo>
                          <a:pt x="759" y="1013"/>
                        </a:lnTo>
                        <a:lnTo>
                          <a:pt x="749" y="1013"/>
                        </a:lnTo>
                        <a:lnTo>
                          <a:pt x="739" y="1013"/>
                        </a:lnTo>
                        <a:lnTo>
                          <a:pt x="730" y="1013"/>
                        </a:lnTo>
                        <a:lnTo>
                          <a:pt x="720" y="1022"/>
                        </a:lnTo>
                        <a:lnTo>
                          <a:pt x="720" y="1022"/>
                        </a:lnTo>
                        <a:lnTo>
                          <a:pt x="720" y="1061"/>
                        </a:lnTo>
                        <a:lnTo>
                          <a:pt x="710" y="1061"/>
                        </a:lnTo>
                        <a:lnTo>
                          <a:pt x="700" y="1061"/>
                        </a:lnTo>
                        <a:lnTo>
                          <a:pt x="700" y="1061"/>
                        </a:lnTo>
                        <a:lnTo>
                          <a:pt x="700" y="1052"/>
                        </a:lnTo>
                        <a:lnTo>
                          <a:pt x="691" y="1052"/>
                        </a:lnTo>
                        <a:lnTo>
                          <a:pt x="691" y="1052"/>
                        </a:lnTo>
                        <a:lnTo>
                          <a:pt x="671" y="1052"/>
                        </a:lnTo>
                        <a:lnTo>
                          <a:pt x="671" y="1052"/>
                        </a:lnTo>
                        <a:lnTo>
                          <a:pt x="662" y="1052"/>
                        </a:lnTo>
                        <a:lnTo>
                          <a:pt x="662" y="1042"/>
                        </a:lnTo>
                        <a:lnTo>
                          <a:pt x="662" y="1042"/>
                        </a:lnTo>
                        <a:lnTo>
                          <a:pt x="662" y="1032"/>
                        </a:lnTo>
                        <a:lnTo>
                          <a:pt x="662" y="1022"/>
                        </a:lnTo>
                        <a:lnTo>
                          <a:pt x="662" y="1022"/>
                        </a:lnTo>
                        <a:lnTo>
                          <a:pt x="652" y="1013"/>
                        </a:lnTo>
                        <a:lnTo>
                          <a:pt x="642" y="1013"/>
                        </a:lnTo>
                        <a:lnTo>
                          <a:pt x="642" y="1013"/>
                        </a:lnTo>
                        <a:lnTo>
                          <a:pt x="623" y="1013"/>
                        </a:lnTo>
                        <a:lnTo>
                          <a:pt x="623" y="983"/>
                        </a:lnTo>
                        <a:lnTo>
                          <a:pt x="623" y="964"/>
                        </a:lnTo>
                        <a:lnTo>
                          <a:pt x="613" y="945"/>
                        </a:lnTo>
                        <a:lnTo>
                          <a:pt x="613" y="925"/>
                        </a:lnTo>
                        <a:lnTo>
                          <a:pt x="613" y="906"/>
                        </a:lnTo>
                        <a:lnTo>
                          <a:pt x="623" y="896"/>
                        </a:lnTo>
                        <a:lnTo>
                          <a:pt x="623" y="886"/>
                        </a:lnTo>
                        <a:lnTo>
                          <a:pt x="632" y="867"/>
                        </a:lnTo>
                        <a:lnTo>
                          <a:pt x="642" y="857"/>
                        </a:lnTo>
                        <a:lnTo>
                          <a:pt x="642" y="837"/>
                        </a:lnTo>
                        <a:lnTo>
                          <a:pt x="623" y="828"/>
                        </a:lnTo>
                        <a:lnTo>
                          <a:pt x="593" y="828"/>
                        </a:lnTo>
                        <a:lnTo>
                          <a:pt x="593" y="828"/>
                        </a:lnTo>
                        <a:lnTo>
                          <a:pt x="584" y="828"/>
                        </a:lnTo>
                        <a:lnTo>
                          <a:pt x="574" y="837"/>
                        </a:lnTo>
                        <a:lnTo>
                          <a:pt x="574" y="818"/>
                        </a:lnTo>
                        <a:lnTo>
                          <a:pt x="564" y="808"/>
                        </a:lnTo>
                        <a:lnTo>
                          <a:pt x="545" y="789"/>
                        </a:lnTo>
                        <a:lnTo>
                          <a:pt x="535" y="789"/>
                        </a:lnTo>
                        <a:lnTo>
                          <a:pt x="525" y="779"/>
                        </a:lnTo>
                        <a:lnTo>
                          <a:pt x="506" y="769"/>
                        </a:lnTo>
                        <a:lnTo>
                          <a:pt x="496" y="769"/>
                        </a:lnTo>
                        <a:lnTo>
                          <a:pt x="486" y="769"/>
                        </a:lnTo>
                        <a:lnTo>
                          <a:pt x="467" y="760"/>
                        </a:lnTo>
                        <a:lnTo>
                          <a:pt x="457" y="760"/>
                        </a:lnTo>
                        <a:lnTo>
                          <a:pt x="448" y="760"/>
                        </a:lnTo>
                        <a:lnTo>
                          <a:pt x="428" y="760"/>
                        </a:lnTo>
                        <a:lnTo>
                          <a:pt x="409" y="750"/>
                        </a:lnTo>
                        <a:lnTo>
                          <a:pt x="399" y="740"/>
                        </a:lnTo>
                        <a:lnTo>
                          <a:pt x="389" y="730"/>
                        </a:lnTo>
                        <a:lnTo>
                          <a:pt x="380" y="721"/>
                        </a:lnTo>
                        <a:lnTo>
                          <a:pt x="360" y="711"/>
                        </a:lnTo>
                        <a:lnTo>
                          <a:pt x="360" y="701"/>
                        </a:lnTo>
                        <a:lnTo>
                          <a:pt x="360" y="682"/>
                        </a:lnTo>
                        <a:lnTo>
                          <a:pt x="360" y="672"/>
                        </a:lnTo>
                        <a:lnTo>
                          <a:pt x="360" y="623"/>
                        </a:lnTo>
                        <a:lnTo>
                          <a:pt x="360" y="604"/>
                        </a:lnTo>
                        <a:lnTo>
                          <a:pt x="360" y="584"/>
                        </a:lnTo>
                        <a:lnTo>
                          <a:pt x="350" y="565"/>
                        </a:lnTo>
                        <a:lnTo>
                          <a:pt x="350" y="545"/>
                        </a:lnTo>
                        <a:lnTo>
                          <a:pt x="341" y="526"/>
                        </a:lnTo>
                        <a:lnTo>
                          <a:pt x="331" y="506"/>
                        </a:lnTo>
                        <a:lnTo>
                          <a:pt x="302" y="487"/>
                        </a:lnTo>
                        <a:lnTo>
                          <a:pt x="273" y="487"/>
                        </a:lnTo>
                        <a:lnTo>
                          <a:pt x="253" y="487"/>
                        </a:lnTo>
                        <a:lnTo>
                          <a:pt x="234" y="487"/>
                        </a:lnTo>
                        <a:lnTo>
                          <a:pt x="214" y="497"/>
                        </a:lnTo>
                        <a:lnTo>
                          <a:pt x="185" y="497"/>
                        </a:lnTo>
                        <a:lnTo>
                          <a:pt x="166" y="497"/>
                        </a:lnTo>
                        <a:lnTo>
                          <a:pt x="146" y="497"/>
                        </a:lnTo>
                        <a:lnTo>
                          <a:pt x="136" y="497"/>
                        </a:lnTo>
                        <a:lnTo>
                          <a:pt x="117" y="506"/>
                        </a:lnTo>
                        <a:lnTo>
                          <a:pt x="88" y="506"/>
                        </a:lnTo>
                        <a:lnTo>
                          <a:pt x="68" y="506"/>
                        </a:lnTo>
                        <a:lnTo>
                          <a:pt x="29" y="506"/>
                        </a:lnTo>
                        <a:lnTo>
                          <a:pt x="39" y="497"/>
                        </a:lnTo>
                        <a:lnTo>
                          <a:pt x="39" y="497"/>
                        </a:lnTo>
                        <a:lnTo>
                          <a:pt x="49" y="487"/>
                        </a:lnTo>
                        <a:lnTo>
                          <a:pt x="59" y="487"/>
                        </a:lnTo>
                        <a:lnTo>
                          <a:pt x="68" y="477"/>
                        </a:lnTo>
                        <a:lnTo>
                          <a:pt x="78" y="467"/>
                        </a:lnTo>
                        <a:lnTo>
                          <a:pt x="88" y="458"/>
                        </a:lnTo>
                        <a:lnTo>
                          <a:pt x="97" y="458"/>
                        </a:lnTo>
                        <a:lnTo>
                          <a:pt x="107" y="458"/>
                        </a:lnTo>
                        <a:lnTo>
                          <a:pt x="127" y="438"/>
                        </a:lnTo>
                        <a:lnTo>
                          <a:pt x="127" y="409"/>
                        </a:lnTo>
                        <a:lnTo>
                          <a:pt x="117" y="390"/>
                        </a:lnTo>
                        <a:lnTo>
                          <a:pt x="107" y="380"/>
                        </a:lnTo>
                        <a:lnTo>
                          <a:pt x="88" y="360"/>
                        </a:lnTo>
                        <a:lnTo>
                          <a:pt x="68" y="341"/>
                        </a:lnTo>
                        <a:lnTo>
                          <a:pt x="59" y="321"/>
                        </a:lnTo>
                        <a:lnTo>
                          <a:pt x="59" y="302"/>
                        </a:lnTo>
                        <a:lnTo>
                          <a:pt x="78" y="282"/>
                        </a:lnTo>
                        <a:lnTo>
                          <a:pt x="68" y="282"/>
                        </a:lnTo>
                        <a:lnTo>
                          <a:pt x="68" y="273"/>
                        </a:lnTo>
                        <a:lnTo>
                          <a:pt x="59" y="263"/>
                        </a:lnTo>
                        <a:lnTo>
                          <a:pt x="49" y="263"/>
                        </a:lnTo>
                        <a:lnTo>
                          <a:pt x="49" y="253"/>
                        </a:lnTo>
                        <a:lnTo>
                          <a:pt x="39" y="243"/>
                        </a:lnTo>
                        <a:lnTo>
                          <a:pt x="29" y="234"/>
                        </a:lnTo>
                        <a:lnTo>
                          <a:pt x="20" y="224"/>
                        </a:lnTo>
                        <a:lnTo>
                          <a:pt x="10" y="214"/>
                        </a:lnTo>
                        <a:lnTo>
                          <a:pt x="10" y="214"/>
                        </a:lnTo>
                        <a:lnTo>
                          <a:pt x="10" y="205"/>
                        </a:lnTo>
                        <a:lnTo>
                          <a:pt x="0" y="195"/>
                        </a:lnTo>
                        <a:lnTo>
                          <a:pt x="0" y="175"/>
                        </a:lnTo>
                        <a:lnTo>
                          <a:pt x="10" y="166"/>
                        </a:lnTo>
                        <a:lnTo>
                          <a:pt x="20" y="156"/>
                        </a:lnTo>
                        <a:lnTo>
                          <a:pt x="29" y="146"/>
                        </a:lnTo>
                        <a:lnTo>
                          <a:pt x="39" y="146"/>
                        </a:lnTo>
                        <a:lnTo>
                          <a:pt x="49" y="136"/>
                        </a:lnTo>
                        <a:lnTo>
                          <a:pt x="68" y="127"/>
                        </a:lnTo>
                        <a:lnTo>
                          <a:pt x="78" y="127"/>
                        </a:lnTo>
                        <a:lnTo>
                          <a:pt x="97" y="127"/>
                        </a:lnTo>
                        <a:lnTo>
                          <a:pt x="107" y="117"/>
                        </a:lnTo>
                        <a:lnTo>
                          <a:pt x="117" y="117"/>
                        </a:lnTo>
                        <a:lnTo>
                          <a:pt x="136" y="117"/>
                        </a:lnTo>
                        <a:lnTo>
                          <a:pt x="146" y="117"/>
                        </a:lnTo>
                        <a:lnTo>
                          <a:pt x="166" y="107"/>
                        </a:lnTo>
                        <a:lnTo>
                          <a:pt x="175" y="10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59"/>
                        </a:lnTo>
                        <a:lnTo>
                          <a:pt x="331" y="59"/>
                        </a:lnTo>
                        <a:lnTo>
                          <a:pt x="341" y="49"/>
                        </a:lnTo>
                        <a:lnTo>
                          <a:pt x="389" y="49"/>
                        </a:lnTo>
                        <a:lnTo>
                          <a:pt x="399" y="59"/>
                        </a:lnTo>
                        <a:lnTo>
                          <a:pt x="399" y="59"/>
                        </a:lnTo>
                        <a:lnTo>
                          <a:pt x="409" y="59"/>
                        </a:lnTo>
                        <a:lnTo>
                          <a:pt x="418" y="59"/>
                        </a:lnTo>
                        <a:lnTo>
                          <a:pt x="438" y="68"/>
                        </a:lnTo>
                        <a:lnTo>
                          <a:pt x="448" y="88"/>
                        </a:lnTo>
                        <a:lnTo>
                          <a:pt x="457" y="97"/>
                        </a:lnTo>
                        <a:lnTo>
                          <a:pt x="477" y="107"/>
                        </a:lnTo>
                        <a:lnTo>
                          <a:pt x="486" y="117"/>
                        </a:lnTo>
                        <a:lnTo>
                          <a:pt x="496" y="127"/>
                        </a:lnTo>
                        <a:lnTo>
                          <a:pt x="516" y="136"/>
                        </a:lnTo>
                        <a:lnTo>
                          <a:pt x="525" y="146"/>
                        </a:lnTo>
                        <a:lnTo>
                          <a:pt x="535" y="156"/>
                        </a:lnTo>
                        <a:lnTo>
                          <a:pt x="555" y="166"/>
                        </a:lnTo>
                        <a:lnTo>
                          <a:pt x="574" y="166"/>
                        </a:lnTo>
                        <a:lnTo>
                          <a:pt x="584" y="175"/>
                        </a:lnTo>
                        <a:lnTo>
                          <a:pt x="593" y="175"/>
                        </a:lnTo>
                        <a:lnTo>
                          <a:pt x="613" y="175"/>
                        </a:lnTo>
                        <a:lnTo>
                          <a:pt x="632" y="175"/>
                        </a:lnTo>
                        <a:lnTo>
                          <a:pt x="652" y="166"/>
                        </a:lnTo>
                        <a:lnTo>
                          <a:pt x="662" y="146"/>
                        </a:lnTo>
                        <a:lnTo>
                          <a:pt x="662" y="136"/>
                        </a:lnTo>
                        <a:lnTo>
                          <a:pt x="652" y="127"/>
                        </a:lnTo>
                        <a:lnTo>
                          <a:pt x="642" y="107"/>
                        </a:lnTo>
                        <a:lnTo>
                          <a:pt x="623" y="107"/>
                        </a:lnTo>
                        <a:lnTo>
                          <a:pt x="613" y="88"/>
                        </a:lnTo>
                        <a:lnTo>
                          <a:pt x="603" y="78"/>
                        </a:lnTo>
                        <a:lnTo>
                          <a:pt x="593" y="59"/>
                        </a:lnTo>
                        <a:lnTo>
                          <a:pt x="574" y="59"/>
                        </a:lnTo>
                        <a:lnTo>
                          <a:pt x="574" y="59"/>
                        </a:lnTo>
                        <a:lnTo>
                          <a:pt x="564" y="59"/>
                        </a:lnTo>
                        <a:lnTo>
                          <a:pt x="555" y="59"/>
                        </a:lnTo>
                        <a:lnTo>
                          <a:pt x="545" y="49"/>
                        </a:lnTo>
                        <a:lnTo>
                          <a:pt x="535" y="49"/>
                        </a:lnTo>
                        <a:lnTo>
                          <a:pt x="525" y="49"/>
                        </a:lnTo>
                        <a:lnTo>
                          <a:pt x="525" y="39"/>
                        </a:lnTo>
                        <a:lnTo>
                          <a:pt x="516" y="39"/>
                        </a:lnTo>
                        <a:lnTo>
                          <a:pt x="506" y="29"/>
                        </a:lnTo>
                        <a:lnTo>
                          <a:pt x="496" y="29"/>
                        </a:lnTo>
                        <a:lnTo>
                          <a:pt x="486" y="29"/>
                        </a:lnTo>
                        <a:lnTo>
                          <a:pt x="477" y="20"/>
                        </a:lnTo>
                        <a:lnTo>
                          <a:pt x="457" y="20"/>
                        </a:lnTo>
                        <a:lnTo>
                          <a:pt x="467" y="0"/>
                        </a:lnTo>
                        <a:lnTo>
                          <a:pt x="486" y="10"/>
                        </a:lnTo>
                        <a:lnTo>
                          <a:pt x="496" y="20"/>
                        </a:lnTo>
                        <a:lnTo>
                          <a:pt x="516" y="20"/>
                        </a:lnTo>
                        <a:lnTo>
                          <a:pt x="525" y="29"/>
                        </a:lnTo>
                        <a:lnTo>
                          <a:pt x="545" y="29"/>
                        </a:lnTo>
                        <a:lnTo>
                          <a:pt x="555" y="39"/>
                        </a:lnTo>
                        <a:lnTo>
                          <a:pt x="574" y="49"/>
                        </a:lnTo>
                        <a:lnTo>
                          <a:pt x="584" y="59"/>
                        </a:lnTo>
                        <a:lnTo>
                          <a:pt x="603" y="59"/>
                        </a:lnTo>
                        <a:lnTo>
                          <a:pt x="613" y="68"/>
                        </a:lnTo>
                        <a:lnTo>
                          <a:pt x="632" y="68"/>
                        </a:lnTo>
                        <a:lnTo>
                          <a:pt x="642" y="78"/>
                        </a:lnTo>
                        <a:lnTo>
                          <a:pt x="662" y="88"/>
                        </a:lnTo>
                        <a:lnTo>
                          <a:pt x="671" y="97"/>
                        </a:lnTo>
                        <a:lnTo>
                          <a:pt x="681" y="107"/>
                        </a:lnTo>
                        <a:lnTo>
                          <a:pt x="700" y="117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842720" y="214416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800600" y="219240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10" y="19"/>
                        </a:move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776480" y="2198520"/>
                    <a:ext cx="30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5">
                        <a:moveTo>
                          <a:pt x="10" y="155"/>
                        </a:move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10" y="97"/>
                        </a:lnTo>
                        <a:lnTo>
                          <a:pt x="19" y="77"/>
                        </a:lnTo>
                        <a:lnTo>
                          <a:pt x="19" y="58"/>
                        </a:lnTo>
                        <a:lnTo>
                          <a:pt x="29" y="38"/>
                        </a:lnTo>
                        <a:lnTo>
                          <a:pt x="29" y="29"/>
                        </a:lnTo>
                        <a:lnTo>
                          <a:pt x="49" y="9"/>
                        </a:lnTo>
                        <a:lnTo>
                          <a:pt x="39" y="0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10" y="58"/>
                        </a:lnTo>
                        <a:lnTo>
                          <a:pt x="10" y="77"/>
                        </a:lnTo>
                        <a:lnTo>
                          <a:pt x="0" y="97"/>
                        </a:lnTo>
                        <a:lnTo>
                          <a:pt x="0" y="116"/>
                        </a:lnTo>
                        <a:lnTo>
                          <a:pt x="0" y="136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776480" y="2294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78"/>
                        </a:move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58" y="88"/>
                        </a:lnTo>
                        <a:lnTo>
                          <a:pt x="58" y="8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6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12480" y="2342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29"/>
                        </a:move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48840" y="2360160"/>
                    <a:ext cx="1152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9">
                        <a:moveTo>
                          <a:pt x="19" y="439"/>
                        </a:moveTo>
                        <a:lnTo>
                          <a:pt x="19" y="380"/>
                        </a:lnTo>
                        <a:lnTo>
                          <a:pt x="9" y="331"/>
                        </a:lnTo>
                        <a:lnTo>
                          <a:pt x="9" y="273"/>
                        </a:lnTo>
                        <a:lnTo>
                          <a:pt x="9" y="5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lnTo>
                          <a:pt x="0" y="215"/>
                        </a:lnTo>
                        <a:lnTo>
                          <a:pt x="0" y="273"/>
                        </a:lnTo>
                        <a:lnTo>
                          <a:pt x="0" y="331"/>
                        </a:lnTo>
                        <a:lnTo>
                          <a:pt x="9" y="380"/>
                        </a:lnTo>
                        <a:lnTo>
                          <a:pt x="9" y="439"/>
                        </a:lnTo>
                        <a:lnTo>
                          <a:pt x="19" y="4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854240" y="2631240"/>
                    <a:ext cx="29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8">
                        <a:moveTo>
                          <a:pt x="49" y="48"/>
                        </a:moveTo>
                        <a:lnTo>
                          <a:pt x="49" y="48"/>
                        </a:lnTo>
                        <a:lnTo>
                          <a:pt x="39" y="48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884480" y="2661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90600" y="26672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49"/>
                        </a:moveTo>
                        <a:lnTo>
                          <a:pt x="19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860360" y="2691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854240" y="270288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39"/>
                        </a:move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830840" y="2715480"/>
                    <a:ext cx="29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830840" y="2721600"/>
                    <a:ext cx="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818600" y="26913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00600" y="269136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794480" y="2643120"/>
                    <a:ext cx="12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10" y="88"/>
                        </a:lnTo>
                        <a:lnTo>
                          <a:pt x="20" y="8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794480" y="257688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20" y="10"/>
                        </a:moveTo>
                        <a:lnTo>
                          <a:pt x="29" y="1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20" y="9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776480" y="25768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662720" y="2522520"/>
                    <a:ext cx="1202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7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7" y="49"/>
                        </a:lnTo>
                        <a:lnTo>
                          <a:pt x="136" y="49"/>
                        </a:lnTo>
                        <a:lnTo>
                          <a:pt x="146" y="59"/>
                        </a:lnTo>
                        <a:lnTo>
                          <a:pt x="156" y="68"/>
                        </a:lnTo>
                        <a:lnTo>
                          <a:pt x="185" y="88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85" y="88"/>
                        </a:lnTo>
                        <a:lnTo>
                          <a:pt x="185" y="78"/>
                        </a:lnTo>
                        <a:lnTo>
                          <a:pt x="175" y="68"/>
                        </a:lnTo>
                        <a:lnTo>
                          <a:pt x="156" y="59"/>
                        </a:lnTo>
                        <a:lnTo>
                          <a:pt x="146" y="49"/>
                        </a:lnTo>
                        <a:lnTo>
                          <a:pt x="136" y="39"/>
                        </a:lnTo>
                        <a:lnTo>
                          <a:pt x="127" y="39"/>
                        </a:lnTo>
                        <a:lnTo>
                          <a:pt x="107" y="39"/>
                        </a:lnTo>
                        <a:lnTo>
                          <a:pt x="97" y="3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9" y="3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644720" y="2456640"/>
                    <a:ext cx="1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20" y="9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609080" y="23666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39"/>
                        </a:lnTo>
                        <a:lnTo>
                          <a:pt x="29" y="59"/>
                        </a:lnTo>
                        <a:lnTo>
                          <a:pt x="39" y="68"/>
                        </a:lnTo>
                        <a:lnTo>
                          <a:pt x="48" y="88"/>
                        </a:lnTo>
                        <a:lnTo>
                          <a:pt x="48" y="107"/>
                        </a:lnTo>
                        <a:lnTo>
                          <a:pt x="58" y="127"/>
                        </a:lnTo>
                        <a:lnTo>
                          <a:pt x="58" y="146"/>
                        </a:lnTo>
                        <a:lnTo>
                          <a:pt x="68" y="146"/>
                        </a:lnTo>
                        <a:lnTo>
                          <a:pt x="58" y="127"/>
                        </a:lnTo>
                        <a:lnTo>
                          <a:pt x="58" y="107"/>
                        </a:lnTo>
                        <a:lnTo>
                          <a:pt x="58" y="88"/>
                        </a:lnTo>
                        <a:lnTo>
                          <a:pt x="48" y="6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40600" y="2366640"/>
                    <a:ext cx="168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9">
                        <a:moveTo>
                          <a:pt x="0" y="39"/>
                        </a:move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88" y="29"/>
                        </a:lnTo>
                        <a:lnTo>
                          <a:pt x="107" y="29"/>
                        </a:lnTo>
                        <a:lnTo>
                          <a:pt x="117" y="20"/>
                        </a:lnTo>
                        <a:lnTo>
                          <a:pt x="137" y="20"/>
                        </a:lnTo>
                        <a:lnTo>
                          <a:pt x="156" y="20"/>
                        </a:lnTo>
                        <a:lnTo>
                          <a:pt x="185" y="2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44" y="10"/>
                        </a:lnTo>
                        <a:lnTo>
                          <a:pt x="273" y="10"/>
                        </a:lnTo>
                        <a:lnTo>
                          <a:pt x="273" y="0"/>
                        </a:lnTo>
                        <a:lnTo>
                          <a:pt x="253" y="10"/>
                        </a:lnTo>
                        <a:lnTo>
                          <a:pt x="205" y="10"/>
                        </a:lnTo>
                        <a:lnTo>
                          <a:pt x="185" y="10"/>
                        </a:lnTo>
                        <a:lnTo>
                          <a:pt x="156" y="10"/>
                        </a:lnTo>
                        <a:lnTo>
                          <a:pt x="137" y="2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8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434840" y="2384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440600" y="231264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16">
                        <a:moveTo>
                          <a:pt x="88" y="9"/>
                        </a:moveTo>
                        <a:lnTo>
                          <a:pt x="78" y="9"/>
                        </a:lnTo>
                        <a:lnTo>
                          <a:pt x="88" y="19"/>
                        </a:lnTo>
                        <a:lnTo>
                          <a:pt x="88" y="38"/>
                        </a:lnTo>
                        <a:lnTo>
                          <a:pt x="88" y="48"/>
                        </a:lnTo>
                        <a:lnTo>
                          <a:pt x="78" y="58"/>
                        </a:lnTo>
                        <a:lnTo>
                          <a:pt x="68" y="58"/>
                        </a:lnTo>
                        <a:lnTo>
                          <a:pt x="68" y="68"/>
                        </a:lnTo>
                        <a:lnTo>
                          <a:pt x="59" y="68"/>
                        </a:lnTo>
                        <a:lnTo>
                          <a:pt x="49" y="77"/>
                        </a:lnTo>
                        <a:lnTo>
                          <a:pt x="39" y="77"/>
                        </a:lnTo>
                        <a:lnTo>
                          <a:pt x="30" y="87"/>
                        </a:lnTo>
                        <a:lnTo>
                          <a:pt x="20" y="97"/>
                        </a:lnTo>
                        <a:lnTo>
                          <a:pt x="0" y="107"/>
                        </a:lnTo>
                        <a:lnTo>
                          <a:pt x="0" y="116"/>
                        </a:lnTo>
                        <a:lnTo>
                          <a:pt x="10" y="116"/>
                        </a:lnTo>
                        <a:lnTo>
                          <a:pt x="10" y="116"/>
                        </a:lnTo>
                        <a:lnTo>
                          <a:pt x="20" y="107"/>
                        </a:lnTo>
                        <a:lnTo>
                          <a:pt x="20" y="107"/>
                        </a:lnTo>
                        <a:lnTo>
                          <a:pt x="30" y="97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59" y="77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98" y="48"/>
                        </a:lnTo>
                        <a:lnTo>
                          <a:pt x="98" y="19"/>
                        </a:lnTo>
                        <a:lnTo>
                          <a:pt x="88" y="0"/>
                        </a:lnTo>
                        <a:lnTo>
                          <a:pt x="8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452840" y="22460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30"/>
                        </a:lnTo>
                        <a:lnTo>
                          <a:pt x="10" y="49"/>
                        </a:lnTo>
                        <a:lnTo>
                          <a:pt x="19" y="59"/>
                        </a:lnTo>
                        <a:lnTo>
                          <a:pt x="29" y="78"/>
                        </a:lnTo>
                        <a:lnTo>
                          <a:pt x="39" y="88"/>
                        </a:lnTo>
                        <a:lnTo>
                          <a:pt x="68" y="11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48" y="8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440600" y="221652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422600" y="2179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422600" y="2131920"/>
                    <a:ext cx="12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8">
                        <a:moveTo>
                          <a:pt x="195" y="0"/>
                        </a:moveTo>
                        <a:lnTo>
                          <a:pt x="185" y="10"/>
                        </a:lnTo>
                        <a:lnTo>
                          <a:pt x="175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36" y="1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49" y="3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6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204" y="1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542840" y="210816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38"/>
                        </a:lnTo>
                        <a:lnTo>
                          <a:pt x="9" y="48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591080" y="2102040"/>
                    <a:ext cx="89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9">
                        <a:moveTo>
                          <a:pt x="145" y="10"/>
                        </a:moveTo>
                        <a:lnTo>
                          <a:pt x="136" y="1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38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680360" y="2108160"/>
                    <a:ext cx="144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6">
                        <a:moveTo>
                          <a:pt x="224" y="107"/>
                        </a:moveTo>
                        <a:lnTo>
                          <a:pt x="234" y="107"/>
                        </a:lnTo>
                        <a:lnTo>
                          <a:pt x="214" y="107"/>
                        </a:lnTo>
                        <a:lnTo>
                          <a:pt x="195" y="116"/>
                        </a:lnTo>
                        <a:lnTo>
                          <a:pt x="175" y="116"/>
                        </a:lnTo>
                        <a:lnTo>
                          <a:pt x="166" y="107"/>
                        </a:lnTo>
                        <a:lnTo>
                          <a:pt x="156" y="107"/>
                        </a:lnTo>
                        <a:lnTo>
                          <a:pt x="137" y="97"/>
                        </a:lnTo>
                        <a:lnTo>
                          <a:pt x="127" y="87"/>
                        </a:lnTo>
                        <a:lnTo>
                          <a:pt x="107" y="87"/>
                        </a:lnTo>
                        <a:lnTo>
                          <a:pt x="98" y="77"/>
                        </a:lnTo>
                        <a:lnTo>
                          <a:pt x="78" y="68"/>
                        </a:lnTo>
                        <a:lnTo>
                          <a:pt x="68" y="48"/>
                        </a:lnTo>
                        <a:lnTo>
                          <a:pt x="59" y="48"/>
                        </a:lnTo>
                        <a:lnTo>
                          <a:pt x="39" y="38"/>
                        </a:lnTo>
                        <a:lnTo>
                          <a:pt x="30" y="1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30" y="29"/>
                        </a:lnTo>
                        <a:lnTo>
                          <a:pt x="39" y="38"/>
                        </a:lnTo>
                        <a:lnTo>
                          <a:pt x="49" y="48"/>
                        </a:lnTo>
                        <a:lnTo>
                          <a:pt x="78" y="77"/>
                        </a:lnTo>
                        <a:lnTo>
                          <a:pt x="88" y="87"/>
                        </a:lnTo>
                        <a:lnTo>
                          <a:pt x="107" y="87"/>
                        </a:lnTo>
                        <a:lnTo>
                          <a:pt x="117" y="97"/>
                        </a:lnTo>
                        <a:lnTo>
                          <a:pt x="137" y="107"/>
                        </a:lnTo>
                        <a:lnTo>
                          <a:pt x="156" y="116"/>
                        </a:lnTo>
                        <a:lnTo>
                          <a:pt x="166" y="116"/>
                        </a:lnTo>
                        <a:lnTo>
                          <a:pt x="175" y="126"/>
                        </a:lnTo>
                        <a:lnTo>
                          <a:pt x="195" y="126"/>
                        </a:lnTo>
                        <a:lnTo>
                          <a:pt x="214" y="116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24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88360" y="2108160"/>
                    <a:ext cx="424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07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0" y="38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59" y="77"/>
                        </a:lnTo>
                        <a:lnTo>
                          <a:pt x="59" y="87"/>
                        </a:lnTo>
                        <a:lnTo>
                          <a:pt x="49" y="107"/>
                        </a:lnTo>
                        <a:lnTo>
                          <a:pt x="59" y="107"/>
                        </a:lnTo>
                        <a:lnTo>
                          <a:pt x="69" y="87"/>
                        </a:lnTo>
                        <a:lnTo>
                          <a:pt x="69" y="7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2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699080" y="2084040"/>
                    <a:ext cx="89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8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26" y="48"/>
                        </a:lnTo>
                        <a:lnTo>
                          <a:pt x="145" y="48"/>
                        </a:lnTo>
                        <a:lnTo>
                          <a:pt x="145" y="39"/>
                        </a:lnTo>
                        <a:lnTo>
                          <a:pt x="126" y="39"/>
                        </a:lnTo>
                        <a:lnTo>
                          <a:pt x="126" y="39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704480" y="20718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710600" y="2071800"/>
                    <a:ext cx="149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17">
                        <a:moveTo>
                          <a:pt x="233" y="117"/>
                        </a:moveTo>
                        <a:lnTo>
                          <a:pt x="233" y="107"/>
                        </a:lnTo>
                        <a:lnTo>
                          <a:pt x="224" y="107"/>
                        </a:lnTo>
                        <a:lnTo>
                          <a:pt x="204" y="97"/>
                        </a:lnTo>
                        <a:lnTo>
                          <a:pt x="195" y="88"/>
                        </a:lnTo>
                        <a:lnTo>
                          <a:pt x="175" y="78"/>
                        </a:lnTo>
                        <a:lnTo>
                          <a:pt x="165" y="68"/>
                        </a:lnTo>
                        <a:lnTo>
                          <a:pt x="156" y="59"/>
                        </a:lnTo>
                        <a:lnTo>
                          <a:pt x="136" y="59"/>
                        </a:lnTo>
                        <a:lnTo>
                          <a:pt x="117" y="49"/>
                        </a:lnTo>
                        <a:lnTo>
                          <a:pt x="107" y="39"/>
                        </a:lnTo>
                        <a:lnTo>
                          <a:pt x="88" y="39"/>
                        </a:lnTo>
                        <a:lnTo>
                          <a:pt x="78" y="2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88" y="49"/>
                        </a:lnTo>
                        <a:lnTo>
                          <a:pt x="107" y="49"/>
                        </a:lnTo>
                        <a:lnTo>
                          <a:pt x="117" y="59"/>
                        </a:lnTo>
                        <a:lnTo>
                          <a:pt x="126" y="59"/>
                        </a:lnTo>
                        <a:lnTo>
                          <a:pt x="146" y="68"/>
                        </a:lnTo>
                        <a:lnTo>
                          <a:pt x="156" y="78"/>
                        </a:lnTo>
                        <a:lnTo>
                          <a:pt x="175" y="88"/>
                        </a:lnTo>
                        <a:lnTo>
                          <a:pt x="195" y="97"/>
                        </a:lnTo>
                        <a:lnTo>
                          <a:pt x="204" y="107"/>
                        </a:lnTo>
                        <a:lnTo>
                          <a:pt x="214" y="107"/>
                        </a:lnTo>
                        <a:lnTo>
                          <a:pt x="233" y="117"/>
                        </a:lnTo>
                        <a:lnTo>
                          <a:pt x="224" y="117"/>
                        </a:lnTo>
                        <a:lnTo>
                          <a:pt x="233" y="117"/>
                        </a:lnTo>
                        <a:lnTo>
                          <a:pt x="243" y="107"/>
                        </a:lnTo>
                        <a:lnTo>
                          <a:pt x="233" y="10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788360" y="2120040"/>
                    <a:ext cx="4438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477">
                        <a:moveTo>
                          <a:pt x="428" y="19"/>
                        </a:moveTo>
                        <a:lnTo>
                          <a:pt x="428" y="19"/>
                        </a:lnTo>
                        <a:lnTo>
                          <a:pt x="448" y="19"/>
                        </a:lnTo>
                        <a:lnTo>
                          <a:pt x="448" y="29"/>
                        </a:lnTo>
                        <a:lnTo>
                          <a:pt x="467" y="29"/>
                        </a:lnTo>
                        <a:lnTo>
                          <a:pt x="477" y="49"/>
                        </a:lnTo>
                        <a:lnTo>
                          <a:pt x="487" y="58"/>
                        </a:lnTo>
                        <a:lnTo>
                          <a:pt x="496" y="68"/>
                        </a:lnTo>
                        <a:lnTo>
                          <a:pt x="496" y="68"/>
                        </a:lnTo>
                        <a:lnTo>
                          <a:pt x="506" y="88"/>
                        </a:lnTo>
                        <a:lnTo>
                          <a:pt x="506" y="97"/>
                        </a:lnTo>
                        <a:lnTo>
                          <a:pt x="516" y="88"/>
                        </a:lnTo>
                        <a:lnTo>
                          <a:pt x="526" y="88"/>
                        </a:lnTo>
                        <a:lnTo>
                          <a:pt x="545" y="78"/>
                        </a:lnTo>
                        <a:lnTo>
                          <a:pt x="565" y="78"/>
                        </a:lnTo>
                        <a:lnTo>
                          <a:pt x="574" y="78"/>
                        </a:lnTo>
                        <a:lnTo>
                          <a:pt x="584" y="78"/>
                        </a:lnTo>
                        <a:lnTo>
                          <a:pt x="603" y="78"/>
                        </a:lnTo>
                        <a:lnTo>
                          <a:pt x="613" y="88"/>
                        </a:lnTo>
                        <a:lnTo>
                          <a:pt x="623" y="88"/>
                        </a:lnTo>
                        <a:lnTo>
                          <a:pt x="642" y="88"/>
                        </a:lnTo>
                        <a:lnTo>
                          <a:pt x="642" y="97"/>
                        </a:lnTo>
                        <a:lnTo>
                          <a:pt x="652" y="107"/>
                        </a:lnTo>
                        <a:lnTo>
                          <a:pt x="662" y="107"/>
                        </a:lnTo>
                        <a:lnTo>
                          <a:pt x="681" y="127"/>
                        </a:lnTo>
                        <a:lnTo>
                          <a:pt x="691" y="146"/>
                        </a:lnTo>
                        <a:lnTo>
                          <a:pt x="701" y="165"/>
                        </a:lnTo>
                        <a:lnTo>
                          <a:pt x="710" y="185"/>
                        </a:lnTo>
                        <a:lnTo>
                          <a:pt x="710" y="204"/>
                        </a:lnTo>
                        <a:lnTo>
                          <a:pt x="720" y="224"/>
                        </a:lnTo>
                        <a:lnTo>
                          <a:pt x="720" y="243"/>
                        </a:lnTo>
                        <a:lnTo>
                          <a:pt x="720" y="263"/>
                        </a:lnTo>
                        <a:lnTo>
                          <a:pt x="701" y="312"/>
                        </a:lnTo>
                        <a:lnTo>
                          <a:pt x="701" y="331"/>
                        </a:lnTo>
                        <a:lnTo>
                          <a:pt x="710" y="350"/>
                        </a:lnTo>
                        <a:lnTo>
                          <a:pt x="710" y="370"/>
                        </a:lnTo>
                        <a:lnTo>
                          <a:pt x="710" y="380"/>
                        </a:lnTo>
                        <a:lnTo>
                          <a:pt x="710" y="409"/>
                        </a:lnTo>
                        <a:lnTo>
                          <a:pt x="701" y="419"/>
                        </a:lnTo>
                        <a:lnTo>
                          <a:pt x="691" y="438"/>
                        </a:lnTo>
                        <a:lnTo>
                          <a:pt x="681" y="448"/>
                        </a:lnTo>
                        <a:lnTo>
                          <a:pt x="681" y="458"/>
                        </a:lnTo>
                        <a:lnTo>
                          <a:pt x="672" y="458"/>
                        </a:lnTo>
                        <a:lnTo>
                          <a:pt x="652" y="467"/>
                        </a:lnTo>
                        <a:lnTo>
                          <a:pt x="642" y="467"/>
                        </a:lnTo>
                        <a:lnTo>
                          <a:pt x="633" y="467"/>
                        </a:lnTo>
                        <a:lnTo>
                          <a:pt x="623" y="467"/>
                        </a:lnTo>
                        <a:lnTo>
                          <a:pt x="613" y="477"/>
                        </a:lnTo>
                        <a:lnTo>
                          <a:pt x="603" y="409"/>
                        </a:lnTo>
                        <a:lnTo>
                          <a:pt x="594" y="399"/>
                        </a:lnTo>
                        <a:lnTo>
                          <a:pt x="574" y="380"/>
                        </a:lnTo>
                        <a:lnTo>
                          <a:pt x="565" y="370"/>
                        </a:lnTo>
                        <a:lnTo>
                          <a:pt x="555" y="350"/>
                        </a:lnTo>
                        <a:lnTo>
                          <a:pt x="555" y="341"/>
                        </a:lnTo>
                        <a:lnTo>
                          <a:pt x="555" y="331"/>
                        </a:lnTo>
                        <a:lnTo>
                          <a:pt x="555" y="312"/>
                        </a:lnTo>
                        <a:lnTo>
                          <a:pt x="555" y="292"/>
                        </a:lnTo>
                        <a:lnTo>
                          <a:pt x="565" y="282"/>
                        </a:lnTo>
                        <a:lnTo>
                          <a:pt x="574" y="263"/>
                        </a:lnTo>
                        <a:lnTo>
                          <a:pt x="574" y="243"/>
                        </a:lnTo>
                        <a:lnTo>
                          <a:pt x="584" y="234"/>
                        </a:lnTo>
                        <a:lnTo>
                          <a:pt x="584" y="214"/>
                        </a:lnTo>
                        <a:lnTo>
                          <a:pt x="574" y="195"/>
                        </a:lnTo>
                        <a:lnTo>
                          <a:pt x="574" y="185"/>
                        </a:lnTo>
                        <a:lnTo>
                          <a:pt x="565" y="175"/>
                        </a:lnTo>
                        <a:lnTo>
                          <a:pt x="555" y="165"/>
                        </a:lnTo>
                        <a:lnTo>
                          <a:pt x="516" y="165"/>
                        </a:lnTo>
                        <a:lnTo>
                          <a:pt x="506" y="165"/>
                        </a:lnTo>
                        <a:lnTo>
                          <a:pt x="506" y="156"/>
                        </a:lnTo>
                        <a:lnTo>
                          <a:pt x="487" y="136"/>
                        </a:lnTo>
                        <a:lnTo>
                          <a:pt x="477" y="127"/>
                        </a:lnTo>
                        <a:lnTo>
                          <a:pt x="467" y="127"/>
                        </a:lnTo>
                        <a:lnTo>
                          <a:pt x="458" y="136"/>
                        </a:lnTo>
                        <a:lnTo>
                          <a:pt x="448" y="136"/>
                        </a:lnTo>
                        <a:lnTo>
                          <a:pt x="448" y="136"/>
                        </a:lnTo>
                        <a:lnTo>
                          <a:pt x="438" y="146"/>
                        </a:lnTo>
                        <a:lnTo>
                          <a:pt x="428" y="146"/>
                        </a:lnTo>
                        <a:lnTo>
                          <a:pt x="428" y="156"/>
                        </a:lnTo>
                        <a:lnTo>
                          <a:pt x="428" y="165"/>
                        </a:lnTo>
                        <a:lnTo>
                          <a:pt x="448" y="165"/>
                        </a:lnTo>
                        <a:lnTo>
                          <a:pt x="448" y="156"/>
                        </a:lnTo>
                        <a:lnTo>
                          <a:pt x="467" y="146"/>
                        </a:lnTo>
                        <a:lnTo>
                          <a:pt x="467" y="146"/>
                        </a:lnTo>
                        <a:lnTo>
                          <a:pt x="506" y="175"/>
                        </a:lnTo>
                        <a:lnTo>
                          <a:pt x="487" y="195"/>
                        </a:lnTo>
                        <a:lnTo>
                          <a:pt x="477" y="195"/>
                        </a:lnTo>
                        <a:lnTo>
                          <a:pt x="467" y="185"/>
                        </a:lnTo>
                        <a:lnTo>
                          <a:pt x="467" y="175"/>
                        </a:lnTo>
                        <a:lnTo>
                          <a:pt x="458" y="175"/>
                        </a:lnTo>
                        <a:lnTo>
                          <a:pt x="448" y="175"/>
                        </a:lnTo>
                        <a:lnTo>
                          <a:pt x="438" y="175"/>
                        </a:lnTo>
                        <a:lnTo>
                          <a:pt x="428" y="175"/>
                        </a:lnTo>
                        <a:lnTo>
                          <a:pt x="419" y="185"/>
                        </a:lnTo>
                        <a:lnTo>
                          <a:pt x="419" y="195"/>
                        </a:lnTo>
                        <a:lnTo>
                          <a:pt x="409" y="195"/>
                        </a:lnTo>
                        <a:lnTo>
                          <a:pt x="409" y="204"/>
                        </a:lnTo>
                        <a:lnTo>
                          <a:pt x="399" y="214"/>
                        </a:lnTo>
                        <a:lnTo>
                          <a:pt x="399" y="224"/>
                        </a:lnTo>
                        <a:lnTo>
                          <a:pt x="389" y="234"/>
                        </a:lnTo>
                        <a:lnTo>
                          <a:pt x="380" y="234"/>
                        </a:lnTo>
                        <a:lnTo>
                          <a:pt x="351" y="234"/>
                        </a:lnTo>
                        <a:lnTo>
                          <a:pt x="341" y="234"/>
                        </a:lnTo>
                        <a:lnTo>
                          <a:pt x="331" y="224"/>
                        </a:lnTo>
                        <a:lnTo>
                          <a:pt x="321" y="224"/>
                        </a:lnTo>
                        <a:lnTo>
                          <a:pt x="321" y="224"/>
                        </a:lnTo>
                        <a:lnTo>
                          <a:pt x="302" y="224"/>
                        </a:lnTo>
                        <a:lnTo>
                          <a:pt x="292" y="234"/>
                        </a:lnTo>
                        <a:lnTo>
                          <a:pt x="292" y="243"/>
                        </a:lnTo>
                        <a:lnTo>
                          <a:pt x="282" y="263"/>
                        </a:lnTo>
                        <a:lnTo>
                          <a:pt x="282" y="273"/>
                        </a:lnTo>
                        <a:lnTo>
                          <a:pt x="273" y="292"/>
                        </a:lnTo>
                        <a:lnTo>
                          <a:pt x="273" y="302"/>
                        </a:lnTo>
                        <a:lnTo>
                          <a:pt x="253" y="312"/>
                        </a:lnTo>
                        <a:lnTo>
                          <a:pt x="244" y="312"/>
                        </a:lnTo>
                        <a:lnTo>
                          <a:pt x="234" y="302"/>
                        </a:lnTo>
                        <a:lnTo>
                          <a:pt x="224" y="302"/>
                        </a:lnTo>
                        <a:lnTo>
                          <a:pt x="224" y="292"/>
                        </a:lnTo>
                        <a:lnTo>
                          <a:pt x="214" y="292"/>
                        </a:lnTo>
                        <a:lnTo>
                          <a:pt x="205" y="292"/>
                        </a:lnTo>
                        <a:lnTo>
                          <a:pt x="205" y="292"/>
                        </a:lnTo>
                        <a:lnTo>
                          <a:pt x="195" y="292"/>
                        </a:lnTo>
                        <a:lnTo>
                          <a:pt x="185" y="302"/>
                        </a:lnTo>
                        <a:lnTo>
                          <a:pt x="185" y="312"/>
                        </a:lnTo>
                        <a:lnTo>
                          <a:pt x="176" y="321"/>
                        </a:lnTo>
                        <a:lnTo>
                          <a:pt x="176" y="331"/>
                        </a:lnTo>
                        <a:lnTo>
                          <a:pt x="156" y="331"/>
                        </a:lnTo>
                        <a:lnTo>
                          <a:pt x="146" y="331"/>
                        </a:lnTo>
                        <a:lnTo>
                          <a:pt x="137" y="331"/>
                        </a:lnTo>
                        <a:lnTo>
                          <a:pt x="117" y="331"/>
                        </a:lnTo>
                        <a:lnTo>
                          <a:pt x="107" y="321"/>
                        </a:lnTo>
                        <a:lnTo>
                          <a:pt x="98" y="312"/>
                        </a:lnTo>
                        <a:lnTo>
                          <a:pt x="78" y="312"/>
                        </a:lnTo>
                        <a:lnTo>
                          <a:pt x="69" y="302"/>
                        </a:lnTo>
                        <a:lnTo>
                          <a:pt x="59" y="312"/>
                        </a:lnTo>
                        <a:lnTo>
                          <a:pt x="59" y="321"/>
                        </a:lnTo>
                        <a:lnTo>
                          <a:pt x="107" y="341"/>
                        </a:lnTo>
                        <a:lnTo>
                          <a:pt x="107" y="360"/>
                        </a:lnTo>
                        <a:lnTo>
                          <a:pt x="107" y="360"/>
                        </a:lnTo>
                        <a:lnTo>
                          <a:pt x="88" y="360"/>
                        </a:lnTo>
                        <a:lnTo>
                          <a:pt x="78" y="360"/>
                        </a:lnTo>
                        <a:lnTo>
                          <a:pt x="69" y="360"/>
                        </a:lnTo>
                        <a:lnTo>
                          <a:pt x="59" y="350"/>
                        </a:lnTo>
                        <a:lnTo>
                          <a:pt x="49" y="341"/>
                        </a:lnTo>
                        <a:lnTo>
                          <a:pt x="30" y="331"/>
                        </a:lnTo>
                        <a:lnTo>
                          <a:pt x="30" y="331"/>
                        </a:lnTo>
                        <a:lnTo>
                          <a:pt x="20" y="321"/>
                        </a:lnTo>
                        <a:lnTo>
                          <a:pt x="10" y="302"/>
                        </a:lnTo>
                        <a:lnTo>
                          <a:pt x="0" y="282"/>
                        </a:lnTo>
                        <a:lnTo>
                          <a:pt x="0" y="243"/>
                        </a:lnTo>
                        <a:lnTo>
                          <a:pt x="10" y="224"/>
                        </a:lnTo>
                        <a:lnTo>
                          <a:pt x="20" y="204"/>
                        </a:lnTo>
                        <a:lnTo>
                          <a:pt x="20" y="185"/>
                        </a:lnTo>
                        <a:lnTo>
                          <a:pt x="20" y="156"/>
                        </a:lnTo>
                        <a:lnTo>
                          <a:pt x="30" y="146"/>
                        </a:lnTo>
                        <a:lnTo>
                          <a:pt x="39" y="136"/>
                        </a:lnTo>
                        <a:lnTo>
                          <a:pt x="49" y="136"/>
                        </a:lnTo>
                        <a:lnTo>
                          <a:pt x="69" y="136"/>
                        </a:lnTo>
                        <a:lnTo>
                          <a:pt x="78" y="136"/>
                        </a:lnTo>
                        <a:lnTo>
                          <a:pt x="98" y="136"/>
                        </a:lnTo>
                        <a:lnTo>
                          <a:pt x="107" y="127"/>
                        </a:lnTo>
                        <a:lnTo>
                          <a:pt x="117" y="117"/>
                        </a:lnTo>
                        <a:lnTo>
                          <a:pt x="117" y="68"/>
                        </a:lnTo>
                        <a:lnTo>
                          <a:pt x="117" y="49"/>
                        </a:lnTo>
                        <a:lnTo>
                          <a:pt x="137" y="29"/>
                        </a:lnTo>
                        <a:lnTo>
                          <a:pt x="146" y="29"/>
                        </a:lnTo>
                        <a:lnTo>
                          <a:pt x="156" y="19"/>
                        </a:lnTo>
                        <a:lnTo>
                          <a:pt x="176" y="1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24" y="1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92" y="29"/>
                        </a:lnTo>
                        <a:lnTo>
                          <a:pt x="302" y="29"/>
                        </a:lnTo>
                        <a:lnTo>
                          <a:pt x="312" y="19"/>
                        </a:lnTo>
                        <a:lnTo>
                          <a:pt x="331" y="0"/>
                        </a:lnTo>
                        <a:lnTo>
                          <a:pt x="341" y="0"/>
                        </a:lnTo>
                        <a:lnTo>
                          <a:pt x="351" y="10"/>
                        </a:lnTo>
                        <a:lnTo>
                          <a:pt x="380" y="10"/>
                        </a:lnTo>
                        <a:lnTo>
                          <a:pt x="389" y="10"/>
                        </a:lnTo>
                        <a:lnTo>
                          <a:pt x="419" y="10"/>
                        </a:lnTo>
                        <a:lnTo>
                          <a:pt x="428" y="19"/>
                        </a:lnTo>
                        <a:close/>
                      </a:path>
                    </a:pathLst>
                  </a:custGeom>
                  <a:solidFill>
                    <a:srgbClr val="6b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052240" y="213192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064480" y="213192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69"/>
                        </a:moveTo>
                        <a:lnTo>
                          <a:pt x="68" y="69"/>
                        </a:lnTo>
                        <a:lnTo>
                          <a:pt x="58" y="5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39" y="3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8" y="59"/>
                        </a:lnTo>
                        <a:lnTo>
                          <a:pt x="58" y="69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100480" y="2162160"/>
                    <a:ext cx="10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49">
                        <a:moveTo>
                          <a:pt x="175" y="49"/>
                        </a:moveTo>
                        <a:lnTo>
                          <a:pt x="166" y="39"/>
                        </a:lnTo>
                        <a:lnTo>
                          <a:pt x="146" y="29"/>
                        </a:lnTo>
                        <a:lnTo>
                          <a:pt x="13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6" y="49"/>
                        </a:lnTo>
                        <a:lnTo>
                          <a:pt x="166" y="49"/>
                        </a:lnTo>
                        <a:lnTo>
                          <a:pt x="175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202720" y="2192400"/>
                    <a:ext cx="35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6">
                        <a:moveTo>
                          <a:pt x="58" y="146"/>
                        </a:moveTo>
                        <a:lnTo>
                          <a:pt x="48" y="126"/>
                        </a:lnTo>
                        <a:lnTo>
                          <a:pt x="48" y="107"/>
                        </a:lnTo>
                        <a:lnTo>
                          <a:pt x="48" y="87"/>
                        </a:lnTo>
                        <a:lnTo>
                          <a:pt x="38" y="68"/>
                        </a:lnTo>
                        <a:lnTo>
                          <a:pt x="38" y="48"/>
                        </a:lnTo>
                        <a:lnTo>
                          <a:pt x="2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29" y="48"/>
                        </a:lnTo>
                        <a:lnTo>
                          <a:pt x="29" y="68"/>
                        </a:lnTo>
                        <a:lnTo>
                          <a:pt x="38" y="87"/>
                        </a:lnTo>
                        <a:lnTo>
                          <a:pt x="38" y="107"/>
                        </a:lnTo>
                        <a:lnTo>
                          <a:pt x="38" y="126"/>
                        </a:lnTo>
                        <a:lnTo>
                          <a:pt x="48" y="146"/>
                        </a:lnTo>
                        <a:lnTo>
                          <a:pt x="58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14240" y="2282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49"/>
                        </a:moveTo>
                        <a:lnTo>
                          <a:pt x="10" y="58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3337920" y="2113560"/>
                  <a:ext cx="1954080" cy="601560"/>
                  <a:chOff x="3337920" y="2113560"/>
                  <a:chExt cx="1954080" cy="6015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5208120" y="2312280"/>
                    <a:ext cx="23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6">
                        <a:moveTo>
                          <a:pt x="0" y="146"/>
                        </a:moveTo>
                        <a:lnTo>
                          <a:pt x="20" y="126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29" y="1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9"/>
                        </a:lnTo>
                        <a:lnTo>
                          <a:pt x="20" y="38"/>
                        </a:lnTo>
                        <a:lnTo>
                          <a:pt x="20" y="58"/>
                        </a:lnTo>
                        <a:lnTo>
                          <a:pt x="29" y="68"/>
                        </a:lnTo>
                        <a:lnTo>
                          <a:pt x="20" y="97"/>
                        </a:lnTo>
                        <a:lnTo>
                          <a:pt x="20" y="107"/>
                        </a:lnTo>
                        <a:lnTo>
                          <a:pt x="10" y="11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160240" y="239652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69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160240" y="2372400"/>
                    <a:ext cx="6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8">
                        <a:moveTo>
                          <a:pt x="0" y="0"/>
                        </a:move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30720" y="2312280"/>
                    <a:ext cx="29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29" y="77"/>
                        </a:lnTo>
                        <a:lnTo>
                          <a:pt x="39" y="97"/>
                        </a:lnTo>
                        <a:lnTo>
                          <a:pt x="48" y="97"/>
                        </a:lnTo>
                        <a:lnTo>
                          <a:pt x="48" y="97"/>
                        </a:lnTo>
                        <a:lnTo>
                          <a:pt x="10" y="58"/>
                        </a:lnTo>
                        <a:lnTo>
                          <a:pt x="10" y="38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130720" y="22276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10" y="10"/>
                        </a:move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10" y="11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106600" y="22215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0" y="1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070600" y="219816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48" y="38"/>
                        </a:lnTo>
                        <a:lnTo>
                          <a:pt x="58" y="48"/>
                        </a:lnTo>
                        <a:lnTo>
                          <a:pt x="68" y="38"/>
                        </a:lnTo>
                        <a:lnTo>
                          <a:pt x="5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8" y="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046840" y="219816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9" y="29"/>
                        </a:moveTo>
                        <a:lnTo>
                          <a:pt x="9" y="38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052240" y="22035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76360" y="220968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3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082480" y="22276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046840" y="22215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20"/>
                        </a:moveTo>
                        <a:lnTo>
                          <a:pt x="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30"/>
                        </a:lnTo>
                        <a:lnTo>
                          <a:pt x="58" y="39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022720" y="22338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974480" y="225180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78" y="29"/>
                        </a:lnTo>
                        <a:lnTo>
                          <a:pt x="7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938840" y="225180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38" y="78"/>
                        </a:lnTo>
                        <a:lnTo>
                          <a:pt x="38" y="59"/>
                        </a:lnTo>
                        <a:lnTo>
                          <a:pt x="48" y="49"/>
                        </a:lnTo>
                        <a:lnTo>
                          <a:pt x="48" y="29"/>
                        </a:lnTo>
                        <a:lnTo>
                          <a:pt x="4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8" y="29"/>
                        </a:lnTo>
                        <a:lnTo>
                          <a:pt x="38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9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908600" y="230004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10"/>
                        </a:moveTo>
                        <a:lnTo>
                          <a:pt x="2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896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9"/>
                        </a:move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30840" y="230616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1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2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824720" y="23061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824720" y="23122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58" y="29"/>
                        </a:moveTo>
                        <a:lnTo>
                          <a:pt x="58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58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848840" y="232416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9" y="2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94480" y="2318040"/>
                    <a:ext cx="59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68" y="3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788360" y="2216160"/>
                    <a:ext cx="18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5">
                        <a:moveTo>
                          <a:pt x="20" y="0"/>
                        </a:moveTo>
                        <a:lnTo>
                          <a:pt x="20" y="29"/>
                        </a:lnTo>
                        <a:lnTo>
                          <a:pt x="10" y="48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0" y="87"/>
                        </a:lnTo>
                        <a:lnTo>
                          <a:pt x="20" y="68"/>
                        </a:lnTo>
                        <a:lnTo>
                          <a:pt x="20" y="48"/>
                        </a:lnTo>
                        <a:lnTo>
                          <a:pt x="30" y="29"/>
                        </a:lnTo>
                        <a:lnTo>
                          <a:pt x="30" y="0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800600" y="219204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78" y="19"/>
                        </a:lnTo>
                        <a:lnTo>
                          <a:pt x="87" y="19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860360" y="2137320"/>
                    <a:ext cx="122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872600" y="2113560"/>
                    <a:ext cx="11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49">
                        <a:moveTo>
                          <a:pt x="194" y="0"/>
                        </a:moveTo>
                        <a:lnTo>
                          <a:pt x="194" y="10"/>
                        </a:lnTo>
                        <a:lnTo>
                          <a:pt x="184" y="20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55" y="39"/>
                        </a:lnTo>
                        <a:lnTo>
                          <a:pt x="116" y="39"/>
                        </a:lnTo>
                        <a:lnTo>
                          <a:pt x="107" y="2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5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39" y="29"/>
                        </a:lnTo>
                        <a:lnTo>
                          <a:pt x="68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55" y="39"/>
                        </a:lnTo>
                        <a:lnTo>
                          <a:pt x="165" y="39"/>
                        </a:lnTo>
                        <a:lnTo>
                          <a:pt x="175" y="39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94" y="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992480" y="21135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88" y="20"/>
                        </a:lnTo>
                        <a:lnTo>
                          <a:pt x="58" y="20"/>
                        </a:lnTo>
                        <a:lnTo>
                          <a:pt x="4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884480" y="2174040"/>
                    <a:ext cx="83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6">
                        <a:moveTo>
                          <a:pt x="136" y="9"/>
                        </a:moveTo>
                        <a:lnTo>
                          <a:pt x="68" y="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49" y="68"/>
                        </a:lnTo>
                        <a:lnTo>
                          <a:pt x="58" y="77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58" y="116"/>
                        </a:lnTo>
                        <a:lnTo>
                          <a:pt x="58" y="116"/>
                        </a:lnTo>
                        <a:lnTo>
                          <a:pt x="49" y="116"/>
                        </a:lnTo>
                        <a:lnTo>
                          <a:pt x="39" y="126"/>
                        </a:lnTo>
                        <a:lnTo>
                          <a:pt x="29" y="136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10" y="146"/>
                        </a:lnTo>
                        <a:lnTo>
                          <a:pt x="20" y="136"/>
                        </a:lnTo>
                        <a:lnTo>
                          <a:pt x="20" y="126"/>
                        </a:lnTo>
                        <a:lnTo>
                          <a:pt x="29" y="116"/>
                        </a:lnTo>
                        <a:lnTo>
                          <a:pt x="39" y="116"/>
                        </a:lnTo>
                        <a:lnTo>
                          <a:pt x="49" y="116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49" y="87"/>
                        </a:lnTo>
                        <a:lnTo>
                          <a:pt x="39" y="77"/>
                        </a:lnTo>
                        <a:lnTo>
                          <a:pt x="29" y="6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58"/>
                        </a:lnTo>
                        <a:lnTo>
                          <a:pt x="0" y="48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68" y="9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890600" y="2174040"/>
                    <a:ext cx="77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12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lnTo>
                          <a:pt x="78" y="0"/>
                        </a:lnTo>
                        <a:lnTo>
                          <a:pt x="7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890600" y="2198160"/>
                    <a:ext cx="356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7">
                        <a:moveTo>
                          <a:pt x="58" y="77"/>
                        </a:moveTo>
                        <a:lnTo>
                          <a:pt x="58" y="77"/>
                        </a:lnTo>
                        <a:lnTo>
                          <a:pt x="58" y="58"/>
                        </a:lnTo>
                        <a:lnTo>
                          <a:pt x="58" y="48"/>
                        </a:lnTo>
                        <a:lnTo>
                          <a:pt x="48" y="38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8" y="48"/>
                        </a:lnTo>
                        <a:lnTo>
                          <a:pt x="48" y="5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884480" y="224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890600" y="2227680"/>
                    <a:ext cx="29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4480" y="22035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884480" y="2167920"/>
                    <a:ext cx="54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8">
                        <a:moveTo>
                          <a:pt x="88" y="0"/>
                        </a:move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4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8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938840" y="216792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60360" y="2233800"/>
                    <a:ext cx="3474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750">
                        <a:moveTo>
                          <a:pt x="438" y="0"/>
                        </a:moveTo>
                        <a:lnTo>
                          <a:pt x="438" y="29"/>
                        </a:lnTo>
                        <a:lnTo>
                          <a:pt x="438" y="58"/>
                        </a:lnTo>
                        <a:lnTo>
                          <a:pt x="438" y="78"/>
                        </a:lnTo>
                        <a:lnTo>
                          <a:pt x="428" y="107"/>
                        </a:lnTo>
                        <a:lnTo>
                          <a:pt x="418" y="127"/>
                        </a:lnTo>
                        <a:lnTo>
                          <a:pt x="418" y="156"/>
                        </a:lnTo>
                        <a:lnTo>
                          <a:pt x="428" y="175"/>
                        </a:lnTo>
                        <a:lnTo>
                          <a:pt x="438" y="204"/>
                        </a:lnTo>
                        <a:lnTo>
                          <a:pt x="457" y="214"/>
                        </a:lnTo>
                        <a:lnTo>
                          <a:pt x="467" y="234"/>
                        </a:lnTo>
                        <a:lnTo>
                          <a:pt x="477" y="253"/>
                        </a:lnTo>
                        <a:lnTo>
                          <a:pt x="477" y="282"/>
                        </a:lnTo>
                        <a:lnTo>
                          <a:pt x="477" y="302"/>
                        </a:lnTo>
                        <a:lnTo>
                          <a:pt x="467" y="331"/>
                        </a:lnTo>
                        <a:lnTo>
                          <a:pt x="467" y="350"/>
                        </a:lnTo>
                        <a:lnTo>
                          <a:pt x="467" y="370"/>
                        </a:lnTo>
                        <a:lnTo>
                          <a:pt x="477" y="370"/>
                        </a:lnTo>
                        <a:lnTo>
                          <a:pt x="477" y="370"/>
                        </a:lnTo>
                        <a:lnTo>
                          <a:pt x="477" y="360"/>
                        </a:lnTo>
                        <a:lnTo>
                          <a:pt x="486" y="360"/>
                        </a:lnTo>
                        <a:lnTo>
                          <a:pt x="486" y="341"/>
                        </a:lnTo>
                        <a:lnTo>
                          <a:pt x="486" y="331"/>
                        </a:lnTo>
                        <a:lnTo>
                          <a:pt x="486" y="321"/>
                        </a:lnTo>
                        <a:lnTo>
                          <a:pt x="496" y="321"/>
                        </a:lnTo>
                        <a:lnTo>
                          <a:pt x="496" y="312"/>
                        </a:lnTo>
                        <a:lnTo>
                          <a:pt x="506" y="302"/>
                        </a:lnTo>
                        <a:lnTo>
                          <a:pt x="516" y="302"/>
                        </a:lnTo>
                        <a:lnTo>
                          <a:pt x="525" y="302"/>
                        </a:lnTo>
                        <a:lnTo>
                          <a:pt x="525" y="292"/>
                        </a:lnTo>
                        <a:lnTo>
                          <a:pt x="545" y="292"/>
                        </a:lnTo>
                        <a:lnTo>
                          <a:pt x="564" y="312"/>
                        </a:lnTo>
                        <a:lnTo>
                          <a:pt x="564" y="321"/>
                        </a:lnTo>
                        <a:lnTo>
                          <a:pt x="564" y="321"/>
                        </a:lnTo>
                        <a:lnTo>
                          <a:pt x="564" y="331"/>
                        </a:lnTo>
                        <a:lnTo>
                          <a:pt x="564" y="331"/>
                        </a:lnTo>
                        <a:lnTo>
                          <a:pt x="555" y="331"/>
                        </a:lnTo>
                        <a:lnTo>
                          <a:pt x="545" y="331"/>
                        </a:lnTo>
                        <a:lnTo>
                          <a:pt x="535" y="341"/>
                        </a:lnTo>
                        <a:lnTo>
                          <a:pt x="525" y="350"/>
                        </a:lnTo>
                        <a:lnTo>
                          <a:pt x="516" y="360"/>
                        </a:lnTo>
                        <a:lnTo>
                          <a:pt x="506" y="370"/>
                        </a:lnTo>
                        <a:lnTo>
                          <a:pt x="486" y="380"/>
                        </a:lnTo>
                        <a:lnTo>
                          <a:pt x="477" y="389"/>
                        </a:lnTo>
                        <a:lnTo>
                          <a:pt x="477" y="409"/>
                        </a:lnTo>
                        <a:lnTo>
                          <a:pt x="477" y="419"/>
                        </a:lnTo>
                        <a:lnTo>
                          <a:pt x="477" y="419"/>
                        </a:lnTo>
                        <a:lnTo>
                          <a:pt x="506" y="389"/>
                        </a:lnTo>
                        <a:lnTo>
                          <a:pt x="506" y="409"/>
                        </a:lnTo>
                        <a:lnTo>
                          <a:pt x="506" y="438"/>
                        </a:lnTo>
                        <a:lnTo>
                          <a:pt x="496" y="458"/>
                        </a:lnTo>
                        <a:lnTo>
                          <a:pt x="496" y="467"/>
                        </a:lnTo>
                        <a:lnTo>
                          <a:pt x="486" y="487"/>
                        </a:lnTo>
                        <a:lnTo>
                          <a:pt x="477" y="497"/>
                        </a:lnTo>
                        <a:lnTo>
                          <a:pt x="457" y="506"/>
                        </a:lnTo>
                        <a:lnTo>
                          <a:pt x="418" y="506"/>
                        </a:lnTo>
                        <a:lnTo>
                          <a:pt x="350" y="672"/>
                        </a:lnTo>
                        <a:lnTo>
                          <a:pt x="350" y="682"/>
                        </a:lnTo>
                        <a:lnTo>
                          <a:pt x="341" y="682"/>
                        </a:lnTo>
                        <a:lnTo>
                          <a:pt x="331" y="691"/>
                        </a:lnTo>
                        <a:lnTo>
                          <a:pt x="331" y="691"/>
                        </a:lnTo>
                        <a:lnTo>
                          <a:pt x="321" y="701"/>
                        </a:lnTo>
                        <a:lnTo>
                          <a:pt x="311" y="701"/>
                        </a:lnTo>
                        <a:lnTo>
                          <a:pt x="302" y="711"/>
                        </a:lnTo>
                        <a:lnTo>
                          <a:pt x="302" y="711"/>
                        </a:lnTo>
                        <a:lnTo>
                          <a:pt x="292" y="711"/>
                        </a:lnTo>
                        <a:lnTo>
                          <a:pt x="282" y="720"/>
                        </a:lnTo>
                        <a:lnTo>
                          <a:pt x="272" y="720"/>
                        </a:lnTo>
                        <a:lnTo>
                          <a:pt x="263" y="720"/>
                        </a:lnTo>
                        <a:lnTo>
                          <a:pt x="263" y="720"/>
                        </a:lnTo>
                        <a:lnTo>
                          <a:pt x="253" y="720"/>
                        </a:lnTo>
                        <a:lnTo>
                          <a:pt x="243" y="730"/>
                        </a:lnTo>
                        <a:lnTo>
                          <a:pt x="234" y="730"/>
                        </a:lnTo>
                        <a:lnTo>
                          <a:pt x="224" y="730"/>
                        </a:lnTo>
                        <a:lnTo>
                          <a:pt x="214" y="730"/>
                        </a:lnTo>
                        <a:lnTo>
                          <a:pt x="204" y="740"/>
                        </a:lnTo>
                        <a:lnTo>
                          <a:pt x="195" y="740"/>
                        </a:lnTo>
                        <a:lnTo>
                          <a:pt x="185" y="740"/>
                        </a:lnTo>
                        <a:lnTo>
                          <a:pt x="165" y="740"/>
                        </a:lnTo>
                        <a:lnTo>
                          <a:pt x="156" y="750"/>
                        </a:lnTo>
                        <a:lnTo>
                          <a:pt x="107" y="750"/>
                        </a:lnTo>
                        <a:lnTo>
                          <a:pt x="97" y="740"/>
                        </a:lnTo>
                        <a:lnTo>
                          <a:pt x="88" y="740"/>
                        </a:lnTo>
                        <a:lnTo>
                          <a:pt x="88" y="730"/>
                        </a:lnTo>
                        <a:lnTo>
                          <a:pt x="78" y="720"/>
                        </a:lnTo>
                        <a:lnTo>
                          <a:pt x="78" y="701"/>
                        </a:lnTo>
                        <a:lnTo>
                          <a:pt x="78" y="691"/>
                        </a:lnTo>
                        <a:lnTo>
                          <a:pt x="49" y="682"/>
                        </a:lnTo>
                        <a:lnTo>
                          <a:pt x="29" y="662"/>
                        </a:lnTo>
                        <a:lnTo>
                          <a:pt x="20" y="643"/>
                        </a:lnTo>
                        <a:lnTo>
                          <a:pt x="10" y="613"/>
                        </a:lnTo>
                        <a:lnTo>
                          <a:pt x="10" y="555"/>
                        </a:lnTo>
                        <a:lnTo>
                          <a:pt x="10" y="526"/>
                        </a:lnTo>
                        <a:lnTo>
                          <a:pt x="0" y="497"/>
                        </a:lnTo>
                        <a:lnTo>
                          <a:pt x="0" y="419"/>
                        </a:lnTo>
                        <a:lnTo>
                          <a:pt x="0" y="243"/>
                        </a:lnTo>
                        <a:lnTo>
                          <a:pt x="10" y="165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39" y="165"/>
                        </a:lnTo>
                        <a:lnTo>
                          <a:pt x="39" y="165"/>
                        </a:lnTo>
                        <a:lnTo>
                          <a:pt x="49" y="165"/>
                        </a:lnTo>
                        <a:lnTo>
                          <a:pt x="59" y="175"/>
                        </a:lnTo>
                        <a:lnTo>
                          <a:pt x="59" y="185"/>
                        </a:lnTo>
                        <a:lnTo>
                          <a:pt x="59" y="185"/>
                        </a:lnTo>
                        <a:lnTo>
                          <a:pt x="68" y="185"/>
                        </a:lnTo>
                        <a:lnTo>
                          <a:pt x="78" y="175"/>
                        </a:lnTo>
                        <a:lnTo>
                          <a:pt x="78" y="165"/>
                        </a:lnTo>
                        <a:lnTo>
                          <a:pt x="78" y="156"/>
                        </a:lnTo>
                        <a:lnTo>
                          <a:pt x="88" y="156"/>
                        </a:lnTo>
                        <a:lnTo>
                          <a:pt x="117" y="156"/>
                        </a:lnTo>
                        <a:lnTo>
                          <a:pt x="127" y="165"/>
                        </a:lnTo>
                        <a:lnTo>
                          <a:pt x="127" y="165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56" y="136"/>
                        </a:lnTo>
                        <a:lnTo>
                          <a:pt x="175" y="117"/>
                        </a:lnTo>
                        <a:lnTo>
                          <a:pt x="175" y="107"/>
                        </a:lnTo>
                        <a:lnTo>
                          <a:pt x="175" y="97"/>
                        </a:lnTo>
                        <a:lnTo>
                          <a:pt x="175" y="78"/>
                        </a:lnTo>
                        <a:lnTo>
                          <a:pt x="185" y="68"/>
                        </a:lnTo>
                        <a:lnTo>
                          <a:pt x="195" y="58"/>
                        </a:lnTo>
                        <a:lnTo>
                          <a:pt x="204" y="58"/>
                        </a:lnTo>
                        <a:lnTo>
                          <a:pt x="214" y="58"/>
                        </a:lnTo>
                        <a:lnTo>
                          <a:pt x="234" y="58"/>
                        </a:lnTo>
                        <a:lnTo>
                          <a:pt x="253" y="68"/>
                        </a:lnTo>
                        <a:lnTo>
                          <a:pt x="263" y="68"/>
                        </a:lnTo>
                        <a:lnTo>
                          <a:pt x="272" y="58"/>
                        </a:lnTo>
                        <a:lnTo>
                          <a:pt x="282" y="58"/>
                        </a:lnTo>
                        <a:lnTo>
                          <a:pt x="292" y="49"/>
                        </a:lnTo>
                        <a:lnTo>
                          <a:pt x="302" y="39"/>
                        </a:lnTo>
                        <a:lnTo>
                          <a:pt x="302" y="29"/>
                        </a:lnTo>
                        <a:lnTo>
                          <a:pt x="302" y="29"/>
                        </a:lnTo>
                        <a:lnTo>
                          <a:pt x="302" y="19"/>
                        </a:lnTo>
                        <a:lnTo>
                          <a:pt x="321" y="10"/>
                        </a:lnTo>
                        <a:lnTo>
                          <a:pt x="331" y="0"/>
                        </a:lnTo>
                        <a:lnTo>
                          <a:pt x="341" y="10"/>
                        </a:lnTo>
                        <a:lnTo>
                          <a:pt x="341" y="10"/>
                        </a:lnTo>
                        <a:lnTo>
                          <a:pt x="350" y="19"/>
                        </a:lnTo>
                        <a:lnTo>
                          <a:pt x="350" y="19"/>
                        </a:lnTo>
                        <a:lnTo>
                          <a:pt x="360" y="29"/>
                        </a:lnTo>
                        <a:lnTo>
                          <a:pt x="370" y="2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lnTo>
                          <a:pt x="379" y="10"/>
                        </a:lnTo>
                        <a:lnTo>
                          <a:pt x="389" y="10"/>
                        </a:lnTo>
                        <a:lnTo>
                          <a:pt x="389" y="0"/>
                        </a:lnTo>
                        <a:lnTo>
                          <a:pt x="438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118120" y="2233800"/>
                    <a:ext cx="183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4">
                        <a:moveTo>
                          <a:pt x="20" y="195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20" y="78"/>
                        </a:lnTo>
                        <a:lnTo>
                          <a:pt x="30" y="58"/>
                        </a:lnTo>
                        <a:lnTo>
                          <a:pt x="30" y="29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20" y="58"/>
                        </a:lnTo>
                        <a:lnTo>
                          <a:pt x="20" y="78"/>
                        </a:lnTo>
                        <a:lnTo>
                          <a:pt x="10" y="107"/>
                        </a:lnTo>
                        <a:lnTo>
                          <a:pt x="0" y="127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130720" y="2354400"/>
                    <a:ext cx="23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5">
                        <a:moveTo>
                          <a:pt x="29" y="175"/>
                        </a:moveTo>
                        <a:lnTo>
                          <a:pt x="39" y="175"/>
                        </a:lnTo>
                        <a:lnTo>
                          <a:pt x="29" y="155"/>
                        </a:lnTo>
                        <a:lnTo>
                          <a:pt x="39" y="136"/>
                        </a:lnTo>
                        <a:lnTo>
                          <a:pt x="39" y="107"/>
                        </a:lnTo>
                        <a:lnTo>
                          <a:pt x="39" y="87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58"/>
                        </a:lnTo>
                        <a:lnTo>
                          <a:pt x="29" y="107"/>
                        </a:lnTo>
                        <a:lnTo>
                          <a:pt x="29" y="136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148360" y="243216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160240" y="24145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190120" y="2414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96600" y="24321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48360" y="2438640"/>
                    <a:ext cx="54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8">
                        <a:moveTo>
                          <a:pt x="10" y="78"/>
                        </a:move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9" y="5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8" y="19"/>
                        </a:lnTo>
                        <a:lnTo>
                          <a:pt x="4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0" y="8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48360" y="24868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154480" y="24688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39" y="19"/>
                        </a:moveTo>
                        <a:lnTo>
                          <a:pt x="29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39" y="1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142240" y="2474280"/>
                    <a:ext cx="363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20" y="108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49" y="49"/>
                        </a:lnTo>
                        <a:lnTo>
                          <a:pt x="49" y="2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4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20" y="10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118120" y="254124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076360" y="2546640"/>
                    <a:ext cx="478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6">
                        <a:moveTo>
                          <a:pt x="10" y="176"/>
                        </a:moveTo>
                        <a:lnTo>
                          <a:pt x="10" y="166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166"/>
                        </a:lnTo>
                        <a:lnTo>
                          <a:pt x="0" y="166"/>
                        </a:lnTo>
                        <a:lnTo>
                          <a:pt x="10" y="176"/>
                        </a:lnTo>
                        <a:lnTo>
                          <a:pt x="10" y="166"/>
                        </a:lnTo>
                        <a:lnTo>
                          <a:pt x="1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004720" y="264924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16" y="0"/>
                        </a:lnTo>
                        <a:lnTo>
                          <a:pt x="116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7" y="19"/>
                        </a:lnTo>
                        <a:lnTo>
                          <a:pt x="87" y="1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914720" y="2679120"/>
                    <a:ext cx="90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77" y="30"/>
                        </a:lnTo>
                        <a:lnTo>
                          <a:pt x="87" y="30"/>
                        </a:lnTo>
                        <a:lnTo>
                          <a:pt x="97" y="3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10"/>
                        </a:lnTo>
                        <a:lnTo>
                          <a:pt x="107" y="1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902480" y="265536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3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860360" y="2541240"/>
                    <a:ext cx="47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10" y="11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78" y="194"/>
                        </a:lnTo>
                        <a:lnTo>
                          <a:pt x="78" y="18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36"/>
                        </a:lnTo>
                        <a:lnTo>
                          <a:pt x="20" y="116"/>
                        </a:lnTo>
                        <a:lnTo>
                          <a:pt x="2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860360" y="2330280"/>
                    <a:ext cx="612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41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87"/>
                        </a:lnTo>
                        <a:lnTo>
                          <a:pt x="0" y="263"/>
                        </a:lnTo>
                        <a:lnTo>
                          <a:pt x="0" y="341"/>
                        </a:lnTo>
                        <a:lnTo>
                          <a:pt x="10" y="341"/>
                        </a:lnTo>
                        <a:lnTo>
                          <a:pt x="0" y="263"/>
                        </a:lnTo>
                        <a:lnTo>
                          <a:pt x="0" y="87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866480" y="23302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890600" y="2330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896720" y="2330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908600" y="232416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938840" y="23241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938840" y="23241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944240" y="2264400"/>
                    <a:ext cx="36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7">
                        <a:moveTo>
                          <a:pt x="59" y="0"/>
                        </a:move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9" y="29"/>
                        </a:lnTo>
                        <a:lnTo>
                          <a:pt x="39" y="48"/>
                        </a:lnTo>
                        <a:lnTo>
                          <a:pt x="39" y="58"/>
                        </a:lnTo>
                        <a:lnTo>
                          <a:pt x="29" y="68"/>
                        </a:lnTo>
                        <a:lnTo>
                          <a:pt x="20" y="7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20" y="97"/>
                        </a:lnTo>
                        <a:lnTo>
                          <a:pt x="29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8"/>
                        </a:lnTo>
                        <a:lnTo>
                          <a:pt x="49" y="29"/>
                        </a:lnTo>
                        <a:lnTo>
                          <a:pt x="5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980600" y="2264400"/>
                    <a:ext cx="6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9">
                        <a:moveTo>
                          <a:pt x="97" y="0"/>
                        </a:moveTo>
                        <a:lnTo>
                          <a:pt x="97" y="0"/>
                        </a:lnTo>
                        <a:lnTo>
                          <a:pt x="87" y="9"/>
                        </a:lnTo>
                        <a:lnTo>
                          <a:pt x="77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7" y="19"/>
                        </a:lnTo>
                        <a:lnTo>
                          <a:pt x="97" y="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040360" y="22338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064480" y="223380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088600" y="22338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100480" y="223380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763080" y="2240280"/>
                    <a:ext cx="540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14">
                        <a:moveTo>
                          <a:pt x="88" y="214"/>
                        </a:moveTo>
                        <a:lnTo>
                          <a:pt x="88" y="185"/>
                        </a:lnTo>
                        <a:lnTo>
                          <a:pt x="78" y="146"/>
                        </a:lnTo>
                        <a:lnTo>
                          <a:pt x="68" y="126"/>
                        </a:lnTo>
                        <a:lnTo>
                          <a:pt x="68" y="97"/>
                        </a:lnTo>
                        <a:lnTo>
                          <a:pt x="59" y="78"/>
                        </a:lnTo>
                        <a:lnTo>
                          <a:pt x="39" y="48"/>
                        </a:lnTo>
                        <a:lnTo>
                          <a:pt x="30" y="2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30" y="19"/>
                        </a:lnTo>
                        <a:lnTo>
                          <a:pt x="4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78" y="126"/>
                        </a:lnTo>
                        <a:lnTo>
                          <a:pt x="78" y="146"/>
                        </a:lnTo>
                        <a:lnTo>
                          <a:pt x="88" y="185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49" y="78"/>
                        </a:lnTo>
                        <a:lnTo>
                          <a:pt x="59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763080" y="224028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88" y="214"/>
                        </a:move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68" y="68"/>
                        </a:lnTo>
                        <a:lnTo>
                          <a:pt x="49" y="39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30" y="19"/>
                        </a:lnTo>
                        <a:lnTo>
                          <a:pt x="3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499920" y="2245680"/>
                    <a:ext cx="251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5">
                        <a:moveTo>
                          <a:pt x="330" y="137"/>
                        </a:moveTo>
                        <a:lnTo>
                          <a:pt x="320" y="146"/>
                        </a:lnTo>
                        <a:lnTo>
                          <a:pt x="320" y="146"/>
                        </a:lnTo>
                        <a:lnTo>
                          <a:pt x="311" y="156"/>
                        </a:lnTo>
                        <a:lnTo>
                          <a:pt x="301" y="156"/>
                        </a:lnTo>
                        <a:lnTo>
                          <a:pt x="291" y="166"/>
                        </a:lnTo>
                        <a:lnTo>
                          <a:pt x="282" y="166"/>
                        </a:lnTo>
                        <a:lnTo>
                          <a:pt x="272" y="176"/>
                        </a:lnTo>
                        <a:lnTo>
                          <a:pt x="262" y="176"/>
                        </a:lnTo>
                        <a:lnTo>
                          <a:pt x="252" y="176"/>
                        </a:lnTo>
                        <a:lnTo>
                          <a:pt x="233" y="176"/>
                        </a:lnTo>
                        <a:lnTo>
                          <a:pt x="175" y="176"/>
                        </a:lnTo>
                        <a:lnTo>
                          <a:pt x="165" y="185"/>
                        </a:lnTo>
                        <a:lnTo>
                          <a:pt x="155" y="185"/>
                        </a:lnTo>
                        <a:lnTo>
                          <a:pt x="145" y="185"/>
                        </a:lnTo>
                        <a:lnTo>
                          <a:pt x="136" y="185"/>
                        </a:lnTo>
                        <a:lnTo>
                          <a:pt x="116" y="185"/>
                        </a:lnTo>
                        <a:lnTo>
                          <a:pt x="106" y="176"/>
                        </a:lnTo>
                        <a:lnTo>
                          <a:pt x="97" y="176"/>
                        </a:lnTo>
                        <a:lnTo>
                          <a:pt x="87" y="176"/>
                        </a:lnTo>
                        <a:lnTo>
                          <a:pt x="77" y="176"/>
                        </a:lnTo>
                        <a:lnTo>
                          <a:pt x="68" y="166"/>
                        </a:lnTo>
                        <a:lnTo>
                          <a:pt x="58" y="166"/>
                        </a:lnTo>
                        <a:lnTo>
                          <a:pt x="29" y="166"/>
                        </a:lnTo>
                        <a:lnTo>
                          <a:pt x="19" y="166"/>
                        </a:lnTo>
                        <a:lnTo>
                          <a:pt x="9" y="176"/>
                        </a:lnTo>
                        <a:lnTo>
                          <a:pt x="0" y="176"/>
                        </a:lnTo>
                        <a:lnTo>
                          <a:pt x="0" y="176"/>
                        </a:lnTo>
                        <a:lnTo>
                          <a:pt x="9" y="166"/>
                        </a:lnTo>
                        <a:lnTo>
                          <a:pt x="9" y="156"/>
                        </a:lnTo>
                        <a:lnTo>
                          <a:pt x="19" y="15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lnTo>
                          <a:pt x="68" y="137"/>
                        </a:lnTo>
                        <a:lnTo>
                          <a:pt x="87" y="137"/>
                        </a:lnTo>
                        <a:lnTo>
                          <a:pt x="106" y="137"/>
                        </a:lnTo>
                        <a:lnTo>
                          <a:pt x="116" y="146"/>
                        </a:lnTo>
                        <a:lnTo>
                          <a:pt x="145" y="146"/>
                        </a:lnTo>
                        <a:lnTo>
                          <a:pt x="165" y="146"/>
                        </a:lnTo>
                        <a:lnTo>
                          <a:pt x="223" y="146"/>
                        </a:lnTo>
                        <a:lnTo>
                          <a:pt x="233" y="146"/>
                        </a:lnTo>
                        <a:lnTo>
                          <a:pt x="252" y="146"/>
                        </a:lnTo>
                        <a:lnTo>
                          <a:pt x="272" y="137"/>
                        </a:lnTo>
                        <a:lnTo>
                          <a:pt x="282" y="127"/>
                        </a:lnTo>
                        <a:lnTo>
                          <a:pt x="291" y="127"/>
                        </a:lnTo>
                        <a:lnTo>
                          <a:pt x="311" y="127"/>
                        </a:lnTo>
                        <a:lnTo>
                          <a:pt x="320" y="117"/>
                        </a:lnTo>
                        <a:lnTo>
                          <a:pt x="320" y="117"/>
                        </a:lnTo>
                        <a:lnTo>
                          <a:pt x="359" y="78"/>
                        </a:lnTo>
                        <a:lnTo>
                          <a:pt x="369" y="69"/>
                        </a:lnTo>
                        <a:lnTo>
                          <a:pt x="379" y="49"/>
                        </a:lnTo>
                        <a:lnTo>
                          <a:pt x="389" y="39"/>
                        </a:lnTo>
                        <a:lnTo>
                          <a:pt x="398" y="30"/>
                        </a:lnTo>
                        <a:lnTo>
                          <a:pt x="398" y="20"/>
                        </a:lnTo>
                        <a:lnTo>
                          <a:pt x="408" y="10"/>
                        </a:lnTo>
                        <a:lnTo>
                          <a:pt x="408" y="0"/>
                        </a:lnTo>
                        <a:lnTo>
                          <a:pt x="408" y="20"/>
                        </a:lnTo>
                        <a:lnTo>
                          <a:pt x="408" y="39"/>
                        </a:lnTo>
                        <a:lnTo>
                          <a:pt x="398" y="59"/>
                        </a:lnTo>
                        <a:lnTo>
                          <a:pt x="389" y="78"/>
                        </a:lnTo>
                        <a:lnTo>
                          <a:pt x="379" y="98"/>
                        </a:lnTo>
                        <a:lnTo>
                          <a:pt x="369" y="108"/>
                        </a:lnTo>
                        <a:lnTo>
                          <a:pt x="350" y="127"/>
                        </a:lnTo>
                        <a:lnTo>
                          <a:pt x="330" y="13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607920" y="2330280"/>
                    <a:ext cx="10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8">
                        <a:moveTo>
                          <a:pt x="9" y="48"/>
                        </a:moveTo>
                        <a:lnTo>
                          <a:pt x="0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5" y="19"/>
                        </a:lnTo>
                        <a:lnTo>
                          <a:pt x="15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39"/>
                        </a:lnTo>
                        <a:lnTo>
                          <a:pt x="58" y="39"/>
                        </a:lnTo>
                        <a:lnTo>
                          <a:pt x="0" y="39"/>
                        </a:lnTo>
                        <a:lnTo>
                          <a:pt x="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493800" y="234216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0" y="20"/>
                        </a:move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55" y="39"/>
                        </a:lnTo>
                        <a:lnTo>
                          <a:pt x="165" y="29"/>
                        </a:lnTo>
                        <a:lnTo>
                          <a:pt x="175" y="29"/>
                        </a:lnTo>
                        <a:lnTo>
                          <a:pt x="194" y="29"/>
                        </a:lnTo>
                        <a:lnTo>
                          <a:pt x="185" y="20"/>
                        </a:lnTo>
                        <a:lnTo>
                          <a:pt x="17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97" y="20"/>
                        </a:ln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493800" y="2324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523320" y="2324160"/>
                    <a:ext cx="150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">
                        <a:moveTo>
                          <a:pt x="244" y="0"/>
                        </a:moveTo>
                        <a:lnTo>
                          <a:pt x="224" y="10"/>
                        </a:lnTo>
                        <a:lnTo>
                          <a:pt x="214" y="10"/>
                        </a:lnTo>
                        <a:lnTo>
                          <a:pt x="195" y="10"/>
                        </a:lnTo>
                        <a:lnTo>
                          <a:pt x="185" y="19"/>
                        </a:lnTo>
                        <a:lnTo>
                          <a:pt x="127" y="19"/>
                        </a:lnTo>
                        <a:lnTo>
                          <a:pt x="10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85" y="2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34" y="19"/>
                        </a:lnTo>
                        <a:lnTo>
                          <a:pt x="244" y="10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673800" y="2227680"/>
                    <a:ext cx="83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66">
                        <a:moveTo>
                          <a:pt x="136" y="29"/>
                        </a:moveTo>
                        <a:lnTo>
                          <a:pt x="126" y="29"/>
                        </a:lnTo>
                        <a:lnTo>
                          <a:pt x="126" y="39"/>
                        </a:lnTo>
                        <a:lnTo>
                          <a:pt x="116" y="49"/>
                        </a:lnTo>
                        <a:lnTo>
                          <a:pt x="107" y="59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87" y="88"/>
                        </a:lnTo>
                        <a:lnTo>
                          <a:pt x="87" y="98"/>
                        </a:lnTo>
                        <a:lnTo>
                          <a:pt x="68" y="117"/>
                        </a:lnTo>
                        <a:lnTo>
                          <a:pt x="58" y="117"/>
                        </a:lnTo>
                        <a:lnTo>
                          <a:pt x="48" y="127"/>
                        </a:lnTo>
                        <a:lnTo>
                          <a:pt x="38" y="137"/>
                        </a:lnTo>
                        <a:lnTo>
                          <a:pt x="29" y="146"/>
                        </a:lnTo>
                        <a:lnTo>
                          <a:pt x="19" y="156"/>
                        </a:lnTo>
                        <a:lnTo>
                          <a:pt x="9" y="156"/>
                        </a:lnTo>
                        <a:lnTo>
                          <a:pt x="0" y="156"/>
                        </a:lnTo>
                        <a:lnTo>
                          <a:pt x="0" y="166"/>
                        </a:lnTo>
                        <a:lnTo>
                          <a:pt x="9" y="156"/>
                        </a:lnTo>
                        <a:lnTo>
                          <a:pt x="29" y="156"/>
                        </a:lnTo>
                        <a:lnTo>
                          <a:pt x="38" y="156"/>
                        </a:lnTo>
                        <a:lnTo>
                          <a:pt x="48" y="146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97" y="9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26" y="4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lnTo>
                          <a:pt x="136" y="0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703320" y="2245680"/>
                    <a:ext cx="54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7">
                        <a:moveTo>
                          <a:pt x="10" y="137"/>
                        </a:moveTo>
                        <a:lnTo>
                          <a:pt x="29" y="127"/>
                        </a:lnTo>
                        <a:lnTo>
                          <a:pt x="39" y="117"/>
                        </a:lnTo>
                        <a:lnTo>
                          <a:pt x="49" y="98"/>
                        </a:lnTo>
                        <a:lnTo>
                          <a:pt x="59" y="78"/>
                        </a:lnTo>
                        <a:lnTo>
                          <a:pt x="68" y="59"/>
                        </a:lnTo>
                        <a:lnTo>
                          <a:pt x="78" y="39"/>
                        </a:lnTo>
                        <a:lnTo>
                          <a:pt x="7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7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108"/>
                        </a:lnTo>
                        <a:lnTo>
                          <a:pt x="2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439440" y="2257920"/>
                    <a:ext cx="42588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730">
                        <a:moveTo>
                          <a:pt x="603" y="273"/>
                        </a:moveTo>
                        <a:lnTo>
                          <a:pt x="603" y="292"/>
                        </a:lnTo>
                        <a:lnTo>
                          <a:pt x="593" y="302"/>
                        </a:lnTo>
                        <a:lnTo>
                          <a:pt x="593" y="331"/>
                        </a:lnTo>
                        <a:lnTo>
                          <a:pt x="603" y="341"/>
                        </a:lnTo>
                        <a:lnTo>
                          <a:pt x="613" y="350"/>
                        </a:lnTo>
                        <a:lnTo>
                          <a:pt x="623" y="350"/>
                        </a:lnTo>
                        <a:lnTo>
                          <a:pt x="623" y="331"/>
                        </a:lnTo>
                        <a:lnTo>
                          <a:pt x="623" y="302"/>
                        </a:lnTo>
                        <a:lnTo>
                          <a:pt x="632" y="292"/>
                        </a:lnTo>
                        <a:lnTo>
                          <a:pt x="632" y="282"/>
                        </a:lnTo>
                        <a:lnTo>
                          <a:pt x="642" y="282"/>
                        </a:lnTo>
                        <a:lnTo>
                          <a:pt x="671" y="282"/>
                        </a:lnTo>
                        <a:lnTo>
                          <a:pt x="671" y="282"/>
                        </a:lnTo>
                        <a:lnTo>
                          <a:pt x="681" y="292"/>
                        </a:lnTo>
                        <a:lnTo>
                          <a:pt x="681" y="292"/>
                        </a:lnTo>
                        <a:lnTo>
                          <a:pt x="681" y="302"/>
                        </a:lnTo>
                        <a:lnTo>
                          <a:pt x="691" y="311"/>
                        </a:lnTo>
                        <a:lnTo>
                          <a:pt x="691" y="331"/>
                        </a:lnTo>
                        <a:lnTo>
                          <a:pt x="681" y="350"/>
                        </a:lnTo>
                        <a:lnTo>
                          <a:pt x="681" y="360"/>
                        </a:lnTo>
                        <a:lnTo>
                          <a:pt x="681" y="370"/>
                        </a:lnTo>
                        <a:lnTo>
                          <a:pt x="671" y="380"/>
                        </a:lnTo>
                        <a:lnTo>
                          <a:pt x="671" y="399"/>
                        </a:lnTo>
                        <a:lnTo>
                          <a:pt x="652" y="409"/>
                        </a:lnTo>
                        <a:lnTo>
                          <a:pt x="652" y="419"/>
                        </a:lnTo>
                        <a:lnTo>
                          <a:pt x="642" y="419"/>
                        </a:lnTo>
                        <a:lnTo>
                          <a:pt x="642" y="428"/>
                        </a:lnTo>
                        <a:lnTo>
                          <a:pt x="632" y="428"/>
                        </a:lnTo>
                        <a:lnTo>
                          <a:pt x="623" y="428"/>
                        </a:lnTo>
                        <a:lnTo>
                          <a:pt x="613" y="438"/>
                        </a:lnTo>
                        <a:lnTo>
                          <a:pt x="613" y="428"/>
                        </a:lnTo>
                        <a:lnTo>
                          <a:pt x="613" y="419"/>
                        </a:lnTo>
                        <a:lnTo>
                          <a:pt x="613" y="419"/>
                        </a:lnTo>
                        <a:lnTo>
                          <a:pt x="623" y="409"/>
                        </a:lnTo>
                        <a:lnTo>
                          <a:pt x="623" y="399"/>
                        </a:lnTo>
                        <a:lnTo>
                          <a:pt x="613" y="389"/>
                        </a:lnTo>
                        <a:lnTo>
                          <a:pt x="603" y="389"/>
                        </a:lnTo>
                        <a:lnTo>
                          <a:pt x="593" y="409"/>
                        </a:lnTo>
                        <a:lnTo>
                          <a:pt x="593" y="428"/>
                        </a:lnTo>
                        <a:lnTo>
                          <a:pt x="593" y="448"/>
                        </a:lnTo>
                        <a:lnTo>
                          <a:pt x="584" y="467"/>
                        </a:lnTo>
                        <a:lnTo>
                          <a:pt x="574" y="496"/>
                        </a:lnTo>
                        <a:lnTo>
                          <a:pt x="574" y="526"/>
                        </a:lnTo>
                        <a:lnTo>
                          <a:pt x="564" y="545"/>
                        </a:lnTo>
                        <a:lnTo>
                          <a:pt x="555" y="574"/>
                        </a:lnTo>
                        <a:lnTo>
                          <a:pt x="545" y="594"/>
                        </a:lnTo>
                        <a:lnTo>
                          <a:pt x="525" y="623"/>
                        </a:lnTo>
                        <a:lnTo>
                          <a:pt x="506" y="643"/>
                        </a:lnTo>
                        <a:lnTo>
                          <a:pt x="487" y="662"/>
                        </a:lnTo>
                        <a:lnTo>
                          <a:pt x="467" y="662"/>
                        </a:lnTo>
                        <a:lnTo>
                          <a:pt x="457" y="672"/>
                        </a:lnTo>
                        <a:lnTo>
                          <a:pt x="448" y="681"/>
                        </a:lnTo>
                        <a:lnTo>
                          <a:pt x="428" y="681"/>
                        </a:lnTo>
                        <a:lnTo>
                          <a:pt x="418" y="691"/>
                        </a:lnTo>
                        <a:lnTo>
                          <a:pt x="409" y="701"/>
                        </a:lnTo>
                        <a:lnTo>
                          <a:pt x="399" y="720"/>
                        </a:lnTo>
                        <a:lnTo>
                          <a:pt x="399" y="730"/>
                        </a:lnTo>
                        <a:lnTo>
                          <a:pt x="389" y="730"/>
                        </a:lnTo>
                        <a:lnTo>
                          <a:pt x="380" y="730"/>
                        </a:lnTo>
                        <a:lnTo>
                          <a:pt x="380" y="730"/>
                        </a:lnTo>
                        <a:lnTo>
                          <a:pt x="370" y="720"/>
                        </a:lnTo>
                        <a:lnTo>
                          <a:pt x="370" y="720"/>
                        </a:lnTo>
                        <a:lnTo>
                          <a:pt x="350" y="701"/>
                        </a:lnTo>
                        <a:lnTo>
                          <a:pt x="341" y="681"/>
                        </a:lnTo>
                        <a:lnTo>
                          <a:pt x="331" y="672"/>
                        </a:lnTo>
                        <a:lnTo>
                          <a:pt x="321" y="662"/>
                        </a:lnTo>
                        <a:lnTo>
                          <a:pt x="311" y="652"/>
                        </a:lnTo>
                        <a:lnTo>
                          <a:pt x="292" y="652"/>
                        </a:lnTo>
                        <a:lnTo>
                          <a:pt x="273" y="643"/>
                        </a:lnTo>
                        <a:lnTo>
                          <a:pt x="263" y="643"/>
                        </a:lnTo>
                        <a:lnTo>
                          <a:pt x="243" y="633"/>
                        </a:lnTo>
                        <a:lnTo>
                          <a:pt x="224" y="623"/>
                        </a:lnTo>
                        <a:lnTo>
                          <a:pt x="214" y="604"/>
                        </a:lnTo>
                        <a:lnTo>
                          <a:pt x="195" y="594"/>
                        </a:lnTo>
                        <a:lnTo>
                          <a:pt x="185" y="574"/>
                        </a:lnTo>
                        <a:lnTo>
                          <a:pt x="175" y="555"/>
                        </a:lnTo>
                        <a:lnTo>
                          <a:pt x="166" y="545"/>
                        </a:lnTo>
                        <a:lnTo>
                          <a:pt x="156" y="526"/>
                        </a:lnTo>
                        <a:lnTo>
                          <a:pt x="146" y="506"/>
                        </a:lnTo>
                        <a:lnTo>
                          <a:pt x="146" y="506"/>
                        </a:lnTo>
                        <a:lnTo>
                          <a:pt x="136" y="496"/>
                        </a:lnTo>
                        <a:lnTo>
                          <a:pt x="127" y="487"/>
                        </a:lnTo>
                        <a:lnTo>
                          <a:pt x="117" y="487"/>
                        </a:lnTo>
                        <a:lnTo>
                          <a:pt x="107" y="487"/>
                        </a:lnTo>
                        <a:lnTo>
                          <a:pt x="98" y="477"/>
                        </a:lnTo>
                        <a:lnTo>
                          <a:pt x="88" y="477"/>
                        </a:lnTo>
                        <a:lnTo>
                          <a:pt x="78" y="477"/>
                        </a:lnTo>
                        <a:lnTo>
                          <a:pt x="68" y="467"/>
                        </a:lnTo>
                        <a:lnTo>
                          <a:pt x="59" y="458"/>
                        </a:lnTo>
                        <a:lnTo>
                          <a:pt x="29" y="438"/>
                        </a:lnTo>
                        <a:lnTo>
                          <a:pt x="29" y="419"/>
                        </a:lnTo>
                        <a:lnTo>
                          <a:pt x="29" y="419"/>
                        </a:lnTo>
                        <a:lnTo>
                          <a:pt x="29" y="399"/>
                        </a:lnTo>
                        <a:lnTo>
                          <a:pt x="20" y="389"/>
                        </a:lnTo>
                        <a:lnTo>
                          <a:pt x="20" y="380"/>
                        </a:lnTo>
                        <a:lnTo>
                          <a:pt x="20" y="370"/>
                        </a:lnTo>
                        <a:lnTo>
                          <a:pt x="10" y="370"/>
                        </a:lnTo>
                        <a:lnTo>
                          <a:pt x="10" y="360"/>
                        </a:lnTo>
                        <a:lnTo>
                          <a:pt x="0" y="350"/>
                        </a:lnTo>
                        <a:lnTo>
                          <a:pt x="0" y="331"/>
                        </a:lnTo>
                        <a:lnTo>
                          <a:pt x="10" y="331"/>
                        </a:lnTo>
                        <a:lnTo>
                          <a:pt x="10" y="321"/>
                        </a:lnTo>
                        <a:lnTo>
                          <a:pt x="20" y="311"/>
                        </a:lnTo>
                        <a:lnTo>
                          <a:pt x="29" y="311"/>
                        </a:lnTo>
                        <a:lnTo>
                          <a:pt x="39" y="302"/>
                        </a:lnTo>
                        <a:lnTo>
                          <a:pt x="49" y="302"/>
                        </a:lnTo>
                        <a:lnTo>
                          <a:pt x="59" y="311"/>
                        </a:lnTo>
                        <a:lnTo>
                          <a:pt x="59" y="311"/>
                        </a:lnTo>
                        <a:lnTo>
                          <a:pt x="68" y="321"/>
                        </a:lnTo>
                        <a:lnTo>
                          <a:pt x="68" y="331"/>
                        </a:lnTo>
                        <a:lnTo>
                          <a:pt x="78" y="331"/>
                        </a:lnTo>
                        <a:lnTo>
                          <a:pt x="88" y="341"/>
                        </a:lnTo>
                        <a:lnTo>
                          <a:pt x="88" y="350"/>
                        </a:lnTo>
                        <a:lnTo>
                          <a:pt x="88" y="370"/>
                        </a:lnTo>
                        <a:lnTo>
                          <a:pt x="98" y="370"/>
                        </a:lnTo>
                        <a:lnTo>
                          <a:pt x="98" y="380"/>
                        </a:lnTo>
                        <a:lnTo>
                          <a:pt x="107" y="399"/>
                        </a:lnTo>
                        <a:lnTo>
                          <a:pt x="117" y="409"/>
                        </a:lnTo>
                        <a:lnTo>
                          <a:pt x="117" y="419"/>
                        </a:lnTo>
                        <a:lnTo>
                          <a:pt x="117" y="419"/>
                        </a:lnTo>
                        <a:lnTo>
                          <a:pt x="127" y="419"/>
                        </a:lnTo>
                        <a:lnTo>
                          <a:pt x="136" y="419"/>
                        </a:lnTo>
                        <a:lnTo>
                          <a:pt x="127" y="380"/>
                        </a:lnTo>
                        <a:lnTo>
                          <a:pt x="127" y="360"/>
                        </a:lnTo>
                        <a:lnTo>
                          <a:pt x="117" y="331"/>
                        </a:lnTo>
                        <a:lnTo>
                          <a:pt x="117" y="302"/>
                        </a:lnTo>
                        <a:lnTo>
                          <a:pt x="127" y="282"/>
                        </a:lnTo>
                        <a:lnTo>
                          <a:pt x="127" y="273"/>
                        </a:lnTo>
                        <a:lnTo>
                          <a:pt x="136" y="253"/>
                        </a:lnTo>
                        <a:lnTo>
                          <a:pt x="136" y="243"/>
                        </a:lnTo>
                        <a:lnTo>
                          <a:pt x="136" y="224"/>
                        </a:lnTo>
                        <a:lnTo>
                          <a:pt x="146" y="204"/>
                        </a:lnTo>
                        <a:lnTo>
                          <a:pt x="146" y="185"/>
                        </a:lnTo>
                        <a:lnTo>
                          <a:pt x="136" y="165"/>
                        </a:lnTo>
                        <a:lnTo>
                          <a:pt x="156" y="165"/>
                        </a:lnTo>
                        <a:lnTo>
                          <a:pt x="166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204" y="185"/>
                        </a:lnTo>
                        <a:lnTo>
                          <a:pt x="214" y="185"/>
                        </a:lnTo>
                        <a:lnTo>
                          <a:pt x="224" y="185"/>
                        </a:lnTo>
                        <a:lnTo>
                          <a:pt x="243" y="185"/>
                        </a:lnTo>
                        <a:lnTo>
                          <a:pt x="234" y="195"/>
                        </a:lnTo>
                        <a:lnTo>
                          <a:pt x="234" y="204"/>
                        </a:lnTo>
                        <a:lnTo>
                          <a:pt x="224" y="214"/>
                        </a:lnTo>
                        <a:lnTo>
                          <a:pt x="214" y="224"/>
                        </a:lnTo>
                        <a:lnTo>
                          <a:pt x="214" y="23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24" y="253"/>
                        </a:lnTo>
                        <a:lnTo>
                          <a:pt x="234" y="243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63" y="195"/>
                        </a:lnTo>
                        <a:lnTo>
                          <a:pt x="273" y="185"/>
                        </a:lnTo>
                        <a:lnTo>
                          <a:pt x="282" y="185"/>
                        </a:lnTo>
                        <a:lnTo>
                          <a:pt x="302" y="185"/>
                        </a:lnTo>
                        <a:lnTo>
                          <a:pt x="311" y="185"/>
                        </a:lnTo>
                        <a:lnTo>
                          <a:pt x="311" y="195"/>
                        </a:lnTo>
                        <a:lnTo>
                          <a:pt x="311" y="204"/>
                        </a:lnTo>
                        <a:lnTo>
                          <a:pt x="321" y="214"/>
                        </a:lnTo>
                        <a:lnTo>
                          <a:pt x="331" y="204"/>
                        </a:lnTo>
                        <a:lnTo>
                          <a:pt x="331" y="185"/>
                        </a:lnTo>
                        <a:lnTo>
                          <a:pt x="331" y="185"/>
                        </a:lnTo>
                        <a:lnTo>
                          <a:pt x="341" y="175"/>
                        </a:lnTo>
                        <a:lnTo>
                          <a:pt x="350" y="175"/>
                        </a:lnTo>
                        <a:lnTo>
                          <a:pt x="370" y="165"/>
                        </a:lnTo>
                        <a:lnTo>
                          <a:pt x="380" y="165"/>
                        </a:lnTo>
                        <a:lnTo>
                          <a:pt x="389" y="156"/>
                        </a:lnTo>
                        <a:lnTo>
                          <a:pt x="409" y="156"/>
                        </a:lnTo>
                        <a:lnTo>
                          <a:pt x="418" y="156"/>
                        </a:lnTo>
                        <a:lnTo>
                          <a:pt x="428" y="146"/>
                        </a:lnTo>
                        <a:lnTo>
                          <a:pt x="438" y="136"/>
                        </a:lnTo>
                        <a:lnTo>
                          <a:pt x="448" y="126"/>
                        </a:lnTo>
                        <a:lnTo>
                          <a:pt x="467" y="117"/>
                        </a:lnTo>
                        <a:lnTo>
                          <a:pt x="467" y="107"/>
                        </a:lnTo>
                        <a:lnTo>
                          <a:pt x="477" y="97"/>
                        </a:lnTo>
                        <a:lnTo>
                          <a:pt x="487" y="88"/>
                        </a:lnTo>
                        <a:lnTo>
                          <a:pt x="496" y="78"/>
                        </a:lnTo>
                        <a:lnTo>
                          <a:pt x="506" y="68"/>
                        </a:lnTo>
                        <a:lnTo>
                          <a:pt x="525" y="0"/>
                        </a:lnTo>
                        <a:lnTo>
                          <a:pt x="545" y="29"/>
                        </a:lnTo>
                        <a:lnTo>
                          <a:pt x="564" y="58"/>
                        </a:lnTo>
                        <a:lnTo>
                          <a:pt x="574" y="97"/>
                        </a:lnTo>
                        <a:lnTo>
                          <a:pt x="584" y="126"/>
                        </a:lnTo>
                        <a:lnTo>
                          <a:pt x="593" y="156"/>
                        </a:lnTo>
                        <a:lnTo>
                          <a:pt x="593" y="195"/>
                        </a:lnTo>
                        <a:lnTo>
                          <a:pt x="593" y="234"/>
                        </a:lnTo>
                        <a:lnTo>
                          <a:pt x="603" y="27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805200" y="2426760"/>
                    <a:ext cx="12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7">
                        <a:moveTo>
                          <a:pt x="10" y="77"/>
                        </a:moveTo>
                        <a:lnTo>
                          <a:pt x="2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811320" y="243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4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835440" y="242676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49" y="38"/>
                        </a:move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841560" y="2450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19" y="88"/>
                        </a:lnTo>
                        <a:lnTo>
                          <a:pt x="29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817440" y="25045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0" y="3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811320" y="2493000"/>
                    <a:ext cx="122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799440" y="249300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9" y="87"/>
                        </a:moveTo>
                        <a:lnTo>
                          <a:pt x="9" y="6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9" y="68"/>
                        </a:lnTo>
                        <a:lnTo>
                          <a:pt x="0" y="87"/>
                        </a:lnTo>
                        <a:lnTo>
                          <a:pt x="9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733560" y="2546640"/>
                    <a:ext cx="712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95">
                        <a:moveTo>
                          <a:pt x="10" y="195"/>
                        </a:moveTo>
                        <a:lnTo>
                          <a:pt x="10" y="195"/>
                        </a:lnTo>
                        <a:lnTo>
                          <a:pt x="29" y="176"/>
                        </a:lnTo>
                        <a:lnTo>
                          <a:pt x="48" y="156"/>
                        </a:lnTo>
                        <a:lnTo>
                          <a:pt x="68" y="137"/>
                        </a:lnTo>
                        <a:lnTo>
                          <a:pt x="78" y="107"/>
                        </a:lnTo>
                        <a:lnTo>
                          <a:pt x="87" y="78"/>
                        </a:lnTo>
                        <a:lnTo>
                          <a:pt x="97" y="59"/>
                        </a:lnTo>
                        <a:lnTo>
                          <a:pt x="107" y="29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97" y="29"/>
                        </a:lnTo>
                        <a:lnTo>
                          <a:pt x="87" y="49"/>
                        </a:lnTo>
                        <a:lnTo>
                          <a:pt x="78" y="78"/>
                        </a:lnTo>
                        <a:lnTo>
                          <a:pt x="68" y="107"/>
                        </a:lnTo>
                        <a:lnTo>
                          <a:pt x="58" y="127"/>
                        </a:lnTo>
                        <a:lnTo>
                          <a:pt x="48" y="146"/>
                        </a:lnTo>
                        <a:lnTo>
                          <a:pt x="29" y="166"/>
                        </a:lnTo>
                        <a:lnTo>
                          <a:pt x="0" y="185"/>
                        </a:lnTo>
                        <a:lnTo>
                          <a:pt x="1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679200" y="26611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655080" y="26913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589200" y="2649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0" y="19"/>
                        </a:lnTo>
                        <a:lnTo>
                          <a:pt x="49" y="19"/>
                        </a:lnTo>
                        <a:lnTo>
                          <a:pt x="59" y="29"/>
                        </a:lnTo>
                        <a:lnTo>
                          <a:pt x="78" y="39"/>
                        </a:lnTo>
                        <a:lnTo>
                          <a:pt x="88" y="48"/>
                        </a:lnTo>
                        <a:lnTo>
                          <a:pt x="98" y="5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07" y="48"/>
                        </a:lnTo>
                        <a:lnTo>
                          <a:pt x="98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4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529440" y="2564640"/>
                    <a:ext cx="594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69"/>
                        </a:lnTo>
                        <a:lnTo>
                          <a:pt x="39" y="88"/>
                        </a:lnTo>
                        <a:lnTo>
                          <a:pt x="49" y="98"/>
                        </a:lnTo>
                        <a:lnTo>
                          <a:pt x="58" y="117"/>
                        </a:lnTo>
                        <a:lnTo>
                          <a:pt x="78" y="127"/>
                        </a:lnTo>
                        <a:lnTo>
                          <a:pt x="97" y="137"/>
                        </a:lnTo>
                        <a:lnTo>
                          <a:pt x="97" y="137"/>
                        </a:lnTo>
                        <a:lnTo>
                          <a:pt x="88" y="12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523320" y="2564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487680" y="254664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451680" y="250452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48" y="68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439440" y="2462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58"/>
                        </a:lnTo>
                        <a:lnTo>
                          <a:pt x="20" y="68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3439440" y="2444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463560" y="24447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487680" y="2468880"/>
                    <a:ext cx="29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49" y="78"/>
                        </a:move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511800" y="2511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511800" y="244476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87"/>
                        </a:lnTo>
                        <a:lnTo>
                          <a:pt x="19" y="117"/>
                        </a:lnTo>
                        <a:lnTo>
                          <a:pt x="19" y="117"/>
                        </a:lnTo>
                        <a:lnTo>
                          <a:pt x="19" y="7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511800" y="2354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97"/>
                        </a:lnTo>
                        <a:lnTo>
                          <a:pt x="10" y="11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29" y="87"/>
                        </a:lnTo>
                        <a:lnTo>
                          <a:pt x="29" y="68"/>
                        </a:lnTo>
                        <a:lnTo>
                          <a:pt x="29" y="48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523320" y="23544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65080" y="2372400"/>
                    <a:ext cx="23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565080" y="2366280"/>
                    <a:ext cx="60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8">
                        <a:moveTo>
                          <a:pt x="98" y="0"/>
                        </a:moveTo>
                        <a:lnTo>
                          <a:pt x="78" y="0"/>
                        </a:lnTo>
                        <a:lnTo>
                          <a:pt x="59" y="10"/>
                        </a:lnTo>
                        <a:lnTo>
                          <a:pt x="39" y="29"/>
                        </a:lnTo>
                        <a:lnTo>
                          <a:pt x="30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98" y="10"/>
                        </a:lnTo>
                        <a:lnTo>
                          <a:pt x="98" y="1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625560" y="236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29"/>
                        </a:move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637440" y="2366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643560" y="2300040"/>
                    <a:ext cx="10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7">
                        <a:moveTo>
                          <a:pt x="165" y="0"/>
                        </a:moveTo>
                        <a:lnTo>
                          <a:pt x="165" y="10"/>
                        </a:lnTo>
                        <a:lnTo>
                          <a:pt x="156" y="20"/>
                        </a:lnTo>
                        <a:lnTo>
                          <a:pt x="146" y="29"/>
                        </a:lnTo>
                        <a:lnTo>
                          <a:pt x="117" y="5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7" y="78"/>
                        </a:lnTo>
                        <a:lnTo>
                          <a:pt x="78" y="8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97"/>
                        </a:lnTo>
                        <a:lnTo>
                          <a:pt x="19" y="9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9" y="107"/>
                        </a:lnTo>
                        <a:lnTo>
                          <a:pt x="39" y="107"/>
                        </a:lnTo>
                        <a:lnTo>
                          <a:pt x="49" y="9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7" y="8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26" y="68"/>
                        </a:lnTo>
                        <a:lnTo>
                          <a:pt x="136" y="49"/>
                        </a:lnTo>
                        <a:lnTo>
                          <a:pt x="146" y="39"/>
                        </a:lnTo>
                        <a:lnTo>
                          <a:pt x="156" y="39"/>
                        </a:lnTo>
                        <a:lnTo>
                          <a:pt x="165" y="20"/>
                        </a:lnTo>
                        <a:lnTo>
                          <a:pt x="175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745440" y="225180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29" y="10"/>
                        </a:moveTo>
                        <a:lnTo>
                          <a:pt x="29" y="10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763080" y="2257920"/>
                    <a:ext cx="478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73">
                        <a:moveTo>
                          <a:pt x="78" y="273"/>
                        </a:moveTo>
                        <a:lnTo>
                          <a:pt x="78" y="234"/>
                        </a:lnTo>
                        <a:lnTo>
                          <a:pt x="68" y="195"/>
                        </a:lnTo>
                        <a:lnTo>
                          <a:pt x="68" y="156"/>
                        </a:lnTo>
                        <a:lnTo>
                          <a:pt x="68" y="126"/>
                        </a:lnTo>
                        <a:lnTo>
                          <a:pt x="59" y="88"/>
                        </a:lnTo>
                        <a:lnTo>
                          <a:pt x="39" y="58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9"/>
                        </a:lnTo>
                        <a:lnTo>
                          <a:pt x="30" y="68"/>
                        </a:lnTo>
                        <a:lnTo>
                          <a:pt x="49" y="97"/>
                        </a:lnTo>
                        <a:lnTo>
                          <a:pt x="59" y="126"/>
                        </a:lnTo>
                        <a:lnTo>
                          <a:pt x="59" y="165"/>
                        </a:lnTo>
                        <a:lnTo>
                          <a:pt x="68" y="195"/>
                        </a:lnTo>
                        <a:lnTo>
                          <a:pt x="68" y="234"/>
                        </a:lnTo>
                        <a:lnTo>
                          <a:pt x="68" y="273"/>
                        </a:lnTo>
                        <a:lnTo>
                          <a:pt x="78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160240" y="2264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19"/>
                        </a:moveTo>
                        <a:lnTo>
                          <a:pt x="78" y="29"/>
                        </a:lnTo>
                        <a:lnTo>
                          <a:pt x="78" y="4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49" y="78"/>
                        </a:lnTo>
                        <a:lnTo>
                          <a:pt x="49" y="87"/>
                        </a:lnTo>
                        <a:lnTo>
                          <a:pt x="49" y="97"/>
                        </a:lnTo>
                        <a:lnTo>
                          <a:pt x="69" y="107"/>
                        </a:lnTo>
                        <a:lnTo>
                          <a:pt x="69" y="107"/>
                        </a:lnTo>
                        <a:lnTo>
                          <a:pt x="59" y="10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69" y="29"/>
                        </a:lnTo>
                        <a:lnTo>
                          <a:pt x="69" y="29"/>
                        </a:lnTo>
                        <a:lnTo>
                          <a:pt x="59" y="19"/>
                        </a:lnTo>
                        <a:lnTo>
                          <a:pt x="49" y="1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0"/>
                        </a:lnTo>
                        <a:lnTo>
                          <a:pt x="49" y="0"/>
                        </a:lnTo>
                        <a:lnTo>
                          <a:pt x="59" y="9"/>
                        </a:lnTo>
                        <a:lnTo>
                          <a:pt x="69" y="9"/>
                        </a:lnTo>
                        <a:lnTo>
                          <a:pt x="78" y="9"/>
                        </a:lnTo>
                        <a:lnTo>
                          <a:pt x="78" y="9"/>
                        </a:lnTo>
                        <a:lnTo>
                          <a:pt x="7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184000" y="2275920"/>
                    <a:ext cx="29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39" y="88"/>
                        </a:moveTo>
                        <a:lnTo>
                          <a:pt x="30" y="78"/>
                        </a:lnTo>
                        <a:lnTo>
                          <a:pt x="20" y="78"/>
                        </a:lnTo>
                        <a:lnTo>
                          <a:pt x="1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30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190120" y="232416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178600" y="23000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9" y="49"/>
                        </a:lnTo>
                        <a:lnTo>
                          <a:pt x="19" y="58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184000" y="22759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0" y="10"/>
                        </a:move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5160240" y="22698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59" y="20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160240" y="226440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3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178600" y="226440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58" y="19"/>
                        </a:move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5022720" y="2288520"/>
                    <a:ext cx="65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8">
                        <a:moveTo>
                          <a:pt x="107" y="19"/>
                        </a:moveTo>
                        <a:lnTo>
                          <a:pt x="107" y="29"/>
                        </a:lnTo>
                        <a:lnTo>
                          <a:pt x="107" y="39"/>
                        </a:lnTo>
                        <a:lnTo>
                          <a:pt x="107" y="5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58"/>
                        </a:lnTo>
                        <a:lnTo>
                          <a:pt x="87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97" y="9"/>
                        </a:lnTo>
                        <a:lnTo>
                          <a:pt x="10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082480" y="230004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046840" y="2300040"/>
                    <a:ext cx="41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9">
                        <a:moveTo>
                          <a:pt x="0" y="10"/>
                        </a:move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22720" y="2300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39"/>
                        </a:moveTo>
                        <a:lnTo>
                          <a:pt x="9" y="3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022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028120" y="2282040"/>
                    <a:ext cx="60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9">
                        <a:moveTo>
                          <a:pt x="98" y="29"/>
                        </a:moveTo>
                        <a:lnTo>
                          <a:pt x="88" y="19"/>
                        </a:lnTo>
                        <a:lnTo>
                          <a:pt x="78" y="10"/>
                        </a:lnTo>
                        <a:lnTo>
                          <a:pt x="6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69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914720" y="2318040"/>
                    <a:ext cx="5400" cy="360"/>
                  </a:xfrm>
                  <a:prstGeom prst="rect">
                    <a:avLst/>
                  </a:prstGeom>
                  <a:solidFill>
                    <a:srgbClr val="8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914720" y="231804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914720" y="231228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727440" y="2336040"/>
                    <a:ext cx="59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59">
                        <a:moveTo>
                          <a:pt x="97" y="39"/>
                        </a:moveTo>
                        <a:lnTo>
                          <a:pt x="97" y="49"/>
                        </a:lnTo>
                        <a:lnTo>
                          <a:pt x="8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97" y="30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781440" y="236016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763080" y="23421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727440" y="2342160"/>
                    <a:ext cx="3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9">
                        <a:moveTo>
                          <a:pt x="0" y="49"/>
                        </a:moveTo>
                        <a:lnTo>
                          <a:pt x="10" y="4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727440" y="2348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739680" y="233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9"/>
                        </a:moveTo>
                        <a:lnTo>
                          <a:pt x="58" y="9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775320" y="23360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022720" y="2360160"/>
                    <a:ext cx="53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85">
                        <a:moveTo>
                          <a:pt x="87" y="30"/>
                        </a:moveTo>
                        <a:lnTo>
                          <a:pt x="87" y="39"/>
                        </a:lnTo>
                        <a:lnTo>
                          <a:pt x="78" y="49"/>
                        </a:lnTo>
                        <a:lnTo>
                          <a:pt x="78" y="69"/>
                        </a:lnTo>
                        <a:lnTo>
                          <a:pt x="78" y="108"/>
                        </a:lnTo>
                        <a:lnTo>
                          <a:pt x="68" y="117"/>
                        </a:lnTo>
                        <a:lnTo>
                          <a:pt x="68" y="137"/>
                        </a:lnTo>
                        <a:lnTo>
                          <a:pt x="58" y="156"/>
                        </a:lnTo>
                        <a:lnTo>
                          <a:pt x="58" y="176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78"/>
                        </a:lnTo>
                        <a:lnTo>
                          <a:pt x="29" y="4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87" y="20"/>
                        </a:lnTo>
                        <a:lnTo>
                          <a:pt x="87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076360" y="23785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070600" y="238428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046840" y="2390400"/>
                    <a:ext cx="295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0" y="146"/>
                        </a:moveTo>
                        <a:lnTo>
                          <a:pt x="9" y="146"/>
                        </a:lnTo>
                        <a:lnTo>
                          <a:pt x="19" y="127"/>
                        </a:lnTo>
                        <a:lnTo>
                          <a:pt x="29" y="11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20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19" y="88"/>
                        </a:lnTo>
                        <a:lnTo>
                          <a:pt x="19" y="107"/>
                        </a:lnTo>
                        <a:lnTo>
                          <a:pt x="9" y="117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034240" y="245016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028120" y="2372400"/>
                    <a:ext cx="183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6">
                        <a:moveTo>
                          <a:pt x="30" y="10"/>
                        </a:moveTo>
                        <a:lnTo>
                          <a:pt x="20" y="0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97"/>
                        </a:lnTo>
                        <a:lnTo>
                          <a:pt x="10" y="136"/>
                        </a:lnTo>
                        <a:lnTo>
                          <a:pt x="20" y="126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022720" y="2372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22720" y="23601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040360" y="236016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58" y="30"/>
                        </a:moveTo>
                        <a:lnTo>
                          <a:pt x="58" y="3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58" y="30"/>
                        </a:lnTo>
                        <a:lnTo>
                          <a:pt x="5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896720" y="2366280"/>
                    <a:ext cx="475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56">
                        <a:moveTo>
                          <a:pt x="77" y="29"/>
                        </a:move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68" y="49"/>
                        </a:lnTo>
                        <a:lnTo>
                          <a:pt x="58" y="146"/>
                        </a:lnTo>
                        <a:lnTo>
                          <a:pt x="48" y="156"/>
                        </a:lnTo>
                        <a:lnTo>
                          <a:pt x="38" y="136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19" y="88"/>
                        </a:lnTo>
                        <a:lnTo>
                          <a:pt x="19" y="3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3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7" y="29"/>
                        </a:lnTo>
                        <a:lnTo>
                          <a:pt x="7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938840" y="2384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926600" y="23965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97"/>
                        </a:moveTo>
                        <a:lnTo>
                          <a:pt x="20" y="97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920480" y="24501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908600" y="2378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10" y="107"/>
                        </a:lnTo>
                        <a:lnTo>
                          <a:pt x="10" y="116"/>
                        </a:lnTo>
                        <a:lnTo>
                          <a:pt x="29" y="136"/>
                        </a:lnTo>
                        <a:lnTo>
                          <a:pt x="29" y="126"/>
                        </a:lnTo>
                        <a:lnTo>
                          <a:pt x="19" y="116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890600" y="2378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890600" y="2360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920480" y="23601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30"/>
                        </a:lnTo>
                        <a:lnTo>
                          <a:pt x="30" y="30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4684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19"/>
                        </a:moveTo>
                        <a:lnTo>
                          <a:pt x="29" y="39"/>
                        </a:lnTo>
                        <a:lnTo>
                          <a:pt x="19" y="58"/>
                        </a:lnTo>
                        <a:lnTo>
                          <a:pt x="19" y="88"/>
                        </a:lnTo>
                        <a:lnTo>
                          <a:pt x="19" y="97"/>
                        </a:lnTo>
                        <a:lnTo>
                          <a:pt x="9" y="117"/>
                        </a:lnTo>
                        <a:lnTo>
                          <a:pt x="9" y="126"/>
                        </a:lnTo>
                        <a:lnTo>
                          <a:pt x="9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046840" y="23842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9" y="107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29" y="6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69"/>
                        </a:lnTo>
                        <a:lnTo>
                          <a:pt x="9" y="7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9" y="13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04036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19" y="146"/>
                        </a:ln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052240" y="237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920480" y="2378520"/>
                    <a:ext cx="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7">
                        <a:moveTo>
                          <a:pt x="10" y="107"/>
                        </a:moveTo>
                        <a:lnTo>
                          <a:pt x="0" y="78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914720" y="236628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10"/>
                        </a:moveTo>
                        <a:lnTo>
                          <a:pt x="9" y="20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98"/>
                        </a:lnTo>
                        <a:lnTo>
                          <a:pt x="9" y="127"/>
                        </a:lnTo>
                        <a:lnTo>
                          <a:pt x="19" y="117"/>
                        </a:lnTo>
                        <a:lnTo>
                          <a:pt x="9" y="98"/>
                        </a:lnTo>
                        <a:lnTo>
                          <a:pt x="9" y="39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920480" y="2372400"/>
                    <a:ext cx="122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6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20" y="5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9"/>
                        </a:lnTo>
                        <a:lnTo>
                          <a:pt x="10" y="88"/>
                        </a:lnTo>
                        <a:lnTo>
                          <a:pt x="0" y="117"/>
                        </a:lnTo>
                        <a:lnTo>
                          <a:pt x="10" y="107"/>
                        </a:lnTo>
                        <a:lnTo>
                          <a:pt x="0" y="117"/>
                        </a:lnTo>
                        <a:lnTo>
                          <a:pt x="10" y="136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727440" y="2396520"/>
                    <a:ext cx="65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46">
                        <a:moveTo>
                          <a:pt x="88" y="58"/>
                        </a:moveTo>
                        <a:lnTo>
                          <a:pt x="107" y="68"/>
                        </a:lnTo>
                        <a:lnTo>
                          <a:pt x="107" y="78"/>
                        </a:lnTo>
                        <a:lnTo>
                          <a:pt x="107" y="78"/>
                        </a:lnTo>
                        <a:lnTo>
                          <a:pt x="97" y="78"/>
                        </a:lnTo>
                        <a:lnTo>
                          <a:pt x="88" y="97"/>
                        </a:lnTo>
                        <a:lnTo>
                          <a:pt x="88" y="97"/>
                        </a:lnTo>
                        <a:lnTo>
                          <a:pt x="78" y="97"/>
                        </a:lnTo>
                        <a:lnTo>
                          <a:pt x="78" y="87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68" y="58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58"/>
                        </a:lnTo>
                        <a:lnTo>
                          <a:pt x="49" y="87"/>
                        </a:lnTo>
                        <a:lnTo>
                          <a:pt x="49" y="117"/>
                        </a:lnTo>
                        <a:lnTo>
                          <a:pt x="39" y="146"/>
                        </a:lnTo>
                        <a:lnTo>
                          <a:pt x="29" y="146"/>
                        </a:lnTo>
                        <a:lnTo>
                          <a:pt x="20" y="117"/>
                        </a:lnTo>
                        <a:lnTo>
                          <a:pt x="20" y="4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88" y="4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781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781440" y="243864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39"/>
                        </a:move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775320" y="245016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57680" y="24084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751560" y="2408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751560" y="241452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19" y="58"/>
                        </a:lnTo>
                        <a:lnTo>
                          <a:pt x="1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58"/>
                        </a:lnTo>
                        <a:lnTo>
                          <a:pt x="0" y="8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739680" y="248688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733560" y="242676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68"/>
                        </a:lnTo>
                        <a:lnTo>
                          <a:pt x="10" y="97"/>
                        </a:lnTo>
                        <a:lnTo>
                          <a:pt x="19" y="97"/>
                        </a:ln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19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3721320" y="242676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721320" y="239652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51560" y="2390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769200" y="24026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0" y="48"/>
                        </a:moveTo>
                        <a:lnTo>
                          <a:pt x="29" y="48"/>
                        </a:lnTo>
                        <a:lnTo>
                          <a:pt x="29" y="4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565080" y="2408400"/>
                    <a:ext cx="78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66">
                        <a:moveTo>
                          <a:pt x="117" y="59"/>
                        </a:moveTo>
                        <a:lnTo>
                          <a:pt x="117" y="59"/>
                        </a:lnTo>
                        <a:lnTo>
                          <a:pt x="107" y="59"/>
                        </a:lnTo>
                        <a:lnTo>
                          <a:pt x="107" y="59"/>
                        </a:lnTo>
                        <a:lnTo>
                          <a:pt x="107" y="107"/>
                        </a:lnTo>
                        <a:lnTo>
                          <a:pt x="98" y="137"/>
                        </a:lnTo>
                        <a:lnTo>
                          <a:pt x="98" y="166"/>
                        </a:lnTo>
                        <a:lnTo>
                          <a:pt x="98" y="166"/>
                        </a:lnTo>
                        <a:lnTo>
                          <a:pt x="78" y="166"/>
                        </a:lnTo>
                        <a:lnTo>
                          <a:pt x="78" y="156"/>
                        </a:lnTo>
                        <a:lnTo>
                          <a:pt x="78" y="137"/>
                        </a:lnTo>
                        <a:lnTo>
                          <a:pt x="69" y="117"/>
                        </a:lnTo>
                        <a:lnTo>
                          <a:pt x="69" y="88"/>
                        </a:lnTo>
                        <a:lnTo>
                          <a:pt x="78" y="68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98" y="39"/>
                        </a:lnTo>
                        <a:lnTo>
                          <a:pt x="98" y="39"/>
                        </a:lnTo>
                        <a:lnTo>
                          <a:pt x="88" y="39"/>
                        </a:lnTo>
                        <a:lnTo>
                          <a:pt x="78" y="39"/>
                        </a:lnTo>
                        <a:lnTo>
                          <a:pt x="59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39" y="107"/>
                        </a:lnTo>
                        <a:lnTo>
                          <a:pt x="30" y="117"/>
                        </a:lnTo>
                        <a:lnTo>
                          <a:pt x="30" y="127"/>
                        </a:lnTo>
                        <a:lnTo>
                          <a:pt x="20" y="127"/>
                        </a:lnTo>
                        <a:lnTo>
                          <a:pt x="20" y="137"/>
                        </a:lnTo>
                        <a:lnTo>
                          <a:pt x="10" y="127"/>
                        </a:lnTo>
                        <a:lnTo>
                          <a:pt x="10" y="137"/>
                        </a:lnTo>
                        <a:lnTo>
                          <a:pt x="10" y="12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30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78" y="10"/>
                        </a:ln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98" y="2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27" y="49"/>
                        </a:lnTo>
                        <a:lnTo>
                          <a:pt x="117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3625560" y="24321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25560" y="244476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613320" y="250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607920" y="243216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98"/>
                        </a:lnTo>
                        <a:lnTo>
                          <a:pt x="9" y="7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1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619440" y="243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619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619440" y="242676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77680" y="2426760"/>
                    <a:ext cx="41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10" y="97"/>
                        </a:moveTo>
                        <a:lnTo>
                          <a:pt x="19" y="87"/>
                        </a:lnTo>
                        <a:lnTo>
                          <a:pt x="19" y="77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9" y="38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10" y="6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565080" y="248688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559680" y="24627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565080" y="246888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571200" y="2408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8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619440" y="24084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29" y="68"/>
                        </a:move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84000" y="2444760"/>
                    <a:ext cx="10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75" y="58"/>
                        </a:moveTo>
                        <a:lnTo>
                          <a:pt x="175" y="117"/>
                        </a:lnTo>
                        <a:lnTo>
                          <a:pt x="166" y="136"/>
                        </a:lnTo>
                        <a:lnTo>
                          <a:pt x="166" y="156"/>
                        </a:lnTo>
                        <a:lnTo>
                          <a:pt x="146" y="156"/>
                        </a:lnTo>
                        <a:lnTo>
                          <a:pt x="136" y="156"/>
                        </a:lnTo>
                        <a:lnTo>
                          <a:pt x="127" y="156"/>
                        </a:lnTo>
                        <a:lnTo>
                          <a:pt x="117" y="146"/>
                        </a:lnTo>
                        <a:lnTo>
                          <a:pt x="98" y="146"/>
                        </a:lnTo>
                        <a:lnTo>
                          <a:pt x="88" y="14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68" y="126"/>
                        </a:lnTo>
                        <a:lnTo>
                          <a:pt x="78" y="117"/>
                        </a:lnTo>
                        <a:lnTo>
                          <a:pt x="78" y="97"/>
                        </a:lnTo>
                        <a:lnTo>
                          <a:pt x="88" y="78"/>
                        </a:lnTo>
                        <a:lnTo>
                          <a:pt x="88" y="68"/>
                        </a:lnTo>
                        <a:lnTo>
                          <a:pt x="98" y="48"/>
                        </a:lnTo>
                        <a:lnTo>
                          <a:pt x="98" y="29"/>
                        </a:lnTo>
                        <a:lnTo>
                          <a:pt x="107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88" y="9"/>
                        </a:lnTo>
                        <a:lnTo>
                          <a:pt x="88" y="29"/>
                        </a:lnTo>
                        <a:lnTo>
                          <a:pt x="78" y="48"/>
                        </a:lnTo>
                        <a:lnTo>
                          <a:pt x="68" y="68"/>
                        </a:lnTo>
                        <a:lnTo>
                          <a:pt x="68" y="87"/>
                        </a:lnTo>
                        <a:lnTo>
                          <a:pt x="59" y="107"/>
                        </a:lnTo>
                        <a:lnTo>
                          <a:pt x="49" y="117"/>
                        </a:lnTo>
                        <a:lnTo>
                          <a:pt x="49" y="146"/>
                        </a:lnTo>
                        <a:lnTo>
                          <a:pt x="39" y="156"/>
                        </a:lnTo>
                        <a:lnTo>
                          <a:pt x="39" y="165"/>
                        </a:lnTo>
                        <a:lnTo>
                          <a:pt x="30" y="165"/>
                        </a:lnTo>
                        <a:lnTo>
                          <a:pt x="20" y="156"/>
                        </a:lnTo>
                        <a:lnTo>
                          <a:pt x="10" y="156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8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107" y="0"/>
                        </a:lnTo>
                        <a:lnTo>
                          <a:pt x="127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46" y="29"/>
                        </a:lnTo>
                        <a:lnTo>
                          <a:pt x="156" y="29"/>
                        </a:lnTo>
                        <a:lnTo>
                          <a:pt x="166" y="39"/>
                        </a:lnTo>
                        <a:lnTo>
                          <a:pt x="175" y="48"/>
                        </a:lnTo>
                        <a:lnTo>
                          <a:pt x="175" y="5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280120" y="24804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10" y="107"/>
                        </a:moveTo>
                        <a:lnTo>
                          <a:pt x="10" y="107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59"/>
                        </a:lnTo>
                        <a:lnTo>
                          <a:pt x="10" y="78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220360" y="252864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220360" y="2450160"/>
                    <a:ext cx="29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3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19" y="88"/>
                        </a:lnTo>
                        <a:lnTo>
                          <a:pt x="9" y="108"/>
                        </a:lnTo>
                        <a:lnTo>
                          <a:pt x="9" y="117"/>
                        </a:lnTo>
                        <a:lnTo>
                          <a:pt x="0" y="137"/>
                        </a:lnTo>
                        <a:lnTo>
                          <a:pt x="9" y="137"/>
                        </a:lnTo>
                        <a:lnTo>
                          <a:pt x="19" y="117"/>
                        </a:lnTo>
                        <a:lnTo>
                          <a:pt x="19" y="108"/>
                        </a:lnTo>
                        <a:lnTo>
                          <a:pt x="29" y="88"/>
                        </a:lnTo>
                        <a:lnTo>
                          <a:pt x="29" y="69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238360" y="24447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208120" y="2450160"/>
                    <a:ext cx="36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7"/>
                        </a:lnTo>
                        <a:lnTo>
                          <a:pt x="20" y="117"/>
                        </a:lnTo>
                        <a:lnTo>
                          <a:pt x="20" y="9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49" y="2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59"/>
                        </a:lnTo>
                        <a:lnTo>
                          <a:pt x="20" y="69"/>
                        </a:lnTo>
                        <a:lnTo>
                          <a:pt x="20" y="98"/>
                        </a:lnTo>
                        <a:lnTo>
                          <a:pt x="10" y="108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47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178600" y="2522520"/>
                    <a:ext cx="29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48" y="30"/>
                        </a:lnTo>
                        <a:lnTo>
                          <a:pt x="48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78600" y="2450160"/>
                    <a:ext cx="237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39" y="0"/>
                        </a:move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202720" y="2444760"/>
                    <a:ext cx="89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8">
                        <a:moveTo>
                          <a:pt x="145" y="58"/>
                        </a:moveTo>
                        <a:lnTo>
                          <a:pt x="145" y="48"/>
                        </a:lnTo>
                        <a:lnTo>
                          <a:pt x="136" y="3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97" y="19"/>
                        </a:lnTo>
                        <a:lnTo>
                          <a:pt x="106" y="1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39"/>
                        </a:lnTo>
                        <a:lnTo>
                          <a:pt x="136" y="48"/>
                        </a:lnTo>
                        <a:lnTo>
                          <a:pt x="145" y="58"/>
                        </a:lnTo>
                        <a:lnTo>
                          <a:pt x="14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337920" y="2450160"/>
                    <a:ext cx="10764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73">
                        <a:moveTo>
                          <a:pt x="136" y="20"/>
                        </a:moveTo>
                        <a:lnTo>
                          <a:pt x="136" y="39"/>
                        </a:lnTo>
                        <a:lnTo>
                          <a:pt x="146" y="49"/>
                        </a:lnTo>
                        <a:lnTo>
                          <a:pt x="156" y="59"/>
                        </a:lnTo>
                        <a:lnTo>
                          <a:pt x="156" y="69"/>
                        </a:lnTo>
                        <a:lnTo>
                          <a:pt x="165" y="88"/>
                        </a:lnTo>
                        <a:lnTo>
                          <a:pt x="175" y="98"/>
                        </a:lnTo>
                        <a:lnTo>
                          <a:pt x="175" y="108"/>
                        </a:lnTo>
                        <a:lnTo>
                          <a:pt x="175" y="127"/>
                        </a:lnTo>
                        <a:lnTo>
                          <a:pt x="165" y="137"/>
                        </a:lnTo>
                        <a:lnTo>
                          <a:pt x="136" y="166"/>
                        </a:lnTo>
                        <a:lnTo>
                          <a:pt x="126" y="185"/>
                        </a:lnTo>
                        <a:lnTo>
                          <a:pt x="117" y="195"/>
                        </a:lnTo>
                        <a:lnTo>
                          <a:pt x="117" y="215"/>
                        </a:lnTo>
                        <a:lnTo>
                          <a:pt x="107" y="224"/>
                        </a:lnTo>
                        <a:lnTo>
                          <a:pt x="107" y="224"/>
                        </a:lnTo>
                        <a:lnTo>
                          <a:pt x="97" y="234"/>
                        </a:lnTo>
                        <a:lnTo>
                          <a:pt x="87" y="234"/>
                        </a:lnTo>
                        <a:lnTo>
                          <a:pt x="78" y="244"/>
                        </a:lnTo>
                        <a:lnTo>
                          <a:pt x="68" y="254"/>
                        </a:lnTo>
                        <a:lnTo>
                          <a:pt x="58" y="263"/>
                        </a:lnTo>
                        <a:lnTo>
                          <a:pt x="58" y="273"/>
                        </a:lnTo>
                        <a:lnTo>
                          <a:pt x="39" y="254"/>
                        </a:lnTo>
                        <a:lnTo>
                          <a:pt x="29" y="234"/>
                        </a:lnTo>
                        <a:lnTo>
                          <a:pt x="19" y="205"/>
                        </a:lnTo>
                        <a:lnTo>
                          <a:pt x="19" y="185"/>
                        </a:lnTo>
                        <a:lnTo>
                          <a:pt x="10" y="166"/>
                        </a:lnTo>
                        <a:lnTo>
                          <a:pt x="0" y="147"/>
                        </a:lnTo>
                        <a:lnTo>
                          <a:pt x="0" y="117"/>
                        </a:lnTo>
                        <a:lnTo>
                          <a:pt x="10" y="9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68" y="20"/>
                        </a:lnTo>
                        <a:lnTo>
                          <a:pt x="87" y="1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15320" y="2462760"/>
                    <a:ext cx="36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7">
                        <a:moveTo>
                          <a:pt x="59" y="107"/>
                        </a:moveTo>
                        <a:lnTo>
                          <a:pt x="59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5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409920" y="252252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9" y="107"/>
                        </a:move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9" y="30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67800" y="2583000"/>
                    <a:ext cx="47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9" y="48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0" y="5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337920" y="2504520"/>
                    <a:ext cx="35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19" y="146"/>
                        </a:lnTo>
                        <a:lnTo>
                          <a:pt x="39" y="166"/>
                        </a:lnTo>
                        <a:lnTo>
                          <a:pt x="49" y="185"/>
                        </a:lnTo>
                        <a:lnTo>
                          <a:pt x="58" y="185"/>
                        </a:lnTo>
                        <a:lnTo>
                          <a:pt x="49" y="156"/>
                        </a:lnTo>
                        <a:lnTo>
                          <a:pt x="29" y="14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337920" y="2444760"/>
                    <a:ext cx="65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0"/>
                        </a:moveTo>
                        <a:lnTo>
                          <a:pt x="87" y="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29" y="5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0" y="97"/>
                        </a:lnTo>
                        <a:lnTo>
                          <a:pt x="10" y="107"/>
                        </a:lnTo>
                        <a:lnTo>
                          <a:pt x="19" y="87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107" y="9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03800" y="24447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29"/>
                        </a:move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29320" y="246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835440" y="2462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49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373200" y="2456640"/>
                  <a:ext cx="1930680" cy="408960"/>
                  <a:chOff x="3373200" y="2456640"/>
                  <a:chExt cx="1930680" cy="40896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823200" y="2486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823200" y="245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840840" y="245664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878000" y="2468880"/>
                    <a:ext cx="126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46">
                        <a:moveTo>
                          <a:pt x="166" y="0"/>
                        </a:moveTo>
                        <a:lnTo>
                          <a:pt x="166" y="9"/>
                        </a:lnTo>
                        <a:lnTo>
                          <a:pt x="146" y="9"/>
                        </a:lnTo>
                        <a:lnTo>
                          <a:pt x="127" y="9"/>
                        </a:lnTo>
                        <a:lnTo>
                          <a:pt x="117" y="19"/>
                        </a:lnTo>
                        <a:lnTo>
                          <a:pt x="107" y="19"/>
                        </a:lnTo>
                        <a:lnTo>
                          <a:pt x="98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49" y="58"/>
                        </a:lnTo>
                        <a:lnTo>
                          <a:pt x="39" y="68"/>
                        </a:lnTo>
                        <a:lnTo>
                          <a:pt x="30" y="78"/>
                        </a:lnTo>
                        <a:lnTo>
                          <a:pt x="20" y="87"/>
                        </a:lnTo>
                        <a:lnTo>
                          <a:pt x="20" y="9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20" y="117"/>
                        </a:lnTo>
                        <a:lnTo>
                          <a:pt x="20" y="117"/>
                        </a:lnTo>
                        <a:lnTo>
                          <a:pt x="30" y="117"/>
                        </a:lnTo>
                        <a:lnTo>
                          <a:pt x="39" y="117"/>
                        </a:lnTo>
                        <a:lnTo>
                          <a:pt x="49" y="126"/>
                        </a:lnTo>
                        <a:lnTo>
                          <a:pt x="117" y="126"/>
                        </a:lnTo>
                        <a:lnTo>
                          <a:pt x="127" y="117"/>
                        </a:lnTo>
                        <a:lnTo>
                          <a:pt x="146" y="117"/>
                        </a:lnTo>
                        <a:lnTo>
                          <a:pt x="146" y="117"/>
                        </a:lnTo>
                        <a:lnTo>
                          <a:pt x="175" y="117"/>
                        </a:lnTo>
                        <a:lnTo>
                          <a:pt x="185" y="117"/>
                        </a:lnTo>
                        <a:lnTo>
                          <a:pt x="185" y="11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95" y="97"/>
                        </a:lnTo>
                        <a:lnTo>
                          <a:pt x="185" y="87"/>
                        </a:lnTo>
                        <a:lnTo>
                          <a:pt x="185" y="78"/>
                        </a:lnTo>
                        <a:lnTo>
                          <a:pt x="185" y="78"/>
                        </a:lnTo>
                        <a:lnTo>
                          <a:pt x="195" y="78"/>
                        </a:lnTo>
                        <a:lnTo>
                          <a:pt x="195" y="78"/>
                        </a:lnTo>
                        <a:lnTo>
                          <a:pt x="205" y="87"/>
                        </a:lnTo>
                        <a:lnTo>
                          <a:pt x="205" y="107"/>
                        </a:lnTo>
                        <a:lnTo>
                          <a:pt x="195" y="117"/>
                        </a:lnTo>
                        <a:lnTo>
                          <a:pt x="195" y="126"/>
                        </a:lnTo>
                        <a:lnTo>
                          <a:pt x="185" y="126"/>
                        </a:lnTo>
                        <a:lnTo>
                          <a:pt x="175" y="126"/>
                        </a:lnTo>
                        <a:lnTo>
                          <a:pt x="156" y="126"/>
                        </a:lnTo>
                        <a:lnTo>
                          <a:pt x="146" y="136"/>
                        </a:lnTo>
                        <a:lnTo>
                          <a:pt x="136" y="136"/>
                        </a:lnTo>
                        <a:lnTo>
                          <a:pt x="117" y="136"/>
                        </a:lnTo>
                        <a:lnTo>
                          <a:pt x="107" y="136"/>
                        </a:lnTo>
                        <a:lnTo>
                          <a:pt x="98" y="146"/>
                        </a:lnTo>
                        <a:lnTo>
                          <a:pt x="59" y="146"/>
                        </a:lnTo>
                        <a:lnTo>
                          <a:pt x="39" y="136"/>
                        </a:lnTo>
                        <a:lnTo>
                          <a:pt x="30" y="136"/>
                        </a:lnTo>
                        <a:lnTo>
                          <a:pt x="20" y="126"/>
                        </a:lnTo>
                        <a:lnTo>
                          <a:pt x="10" y="126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36" y="0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974120" y="246888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0" y="9"/>
                        </a:move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884120" y="2468880"/>
                    <a:ext cx="9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20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36" y="9"/>
                        </a:lnTo>
                        <a:lnTo>
                          <a:pt x="156" y="9"/>
                        </a:lnTo>
                        <a:lnTo>
                          <a:pt x="156" y="0"/>
                        </a:lnTo>
                        <a:lnTo>
                          <a:pt x="136" y="0"/>
                        </a:lnTo>
                        <a:lnTo>
                          <a:pt x="117" y="9"/>
                        </a:lnTo>
                        <a:lnTo>
                          <a:pt x="107" y="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49" y="39"/>
                        </a:lnTo>
                        <a:lnTo>
                          <a:pt x="20" y="7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884120" y="2535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908240" y="253512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0"/>
                        </a:move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7" y="19"/>
                        </a:lnTo>
                        <a:lnTo>
                          <a:pt x="97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992120" y="252900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986000" y="251712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986000" y="251712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998240" y="251712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0" y="48"/>
                        </a:move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872240" y="2541240"/>
                    <a:ext cx="12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5" y="1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04" y="9"/>
                        </a:lnTo>
                        <a:lnTo>
                          <a:pt x="204" y="0"/>
                        </a:lnTo>
                        <a:lnTo>
                          <a:pt x="194" y="0"/>
                        </a:lnTo>
                        <a:lnTo>
                          <a:pt x="184" y="9"/>
                        </a:ln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5" y="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107" y="1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872240" y="248688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58" y="0"/>
                        </a:moveTo>
                        <a:lnTo>
                          <a:pt x="58" y="1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908240" y="2462760"/>
                    <a:ext cx="72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9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974120" y="24627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457080" y="248076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59" y="59"/>
                        </a:moveTo>
                        <a:lnTo>
                          <a:pt x="59" y="68"/>
                        </a:lnTo>
                        <a:lnTo>
                          <a:pt x="49" y="68"/>
                        </a:lnTo>
                        <a:lnTo>
                          <a:pt x="49" y="59"/>
                        </a:lnTo>
                        <a:lnTo>
                          <a:pt x="4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59" y="49"/>
                        </a:lnTo>
                        <a:lnTo>
                          <a:pt x="5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493080" y="2517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480840" y="25110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451320" y="2486880"/>
                    <a:ext cx="35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451320" y="24742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39" y="10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469320" y="2480760"/>
                    <a:ext cx="29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49" y="59"/>
                        </a:move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870720" y="2486880"/>
                    <a:ext cx="1501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43">
                        <a:moveTo>
                          <a:pt x="156" y="19"/>
                        </a:moveTo>
                        <a:lnTo>
                          <a:pt x="156" y="68"/>
                        </a:lnTo>
                        <a:lnTo>
                          <a:pt x="176" y="78"/>
                        </a:lnTo>
                        <a:lnTo>
                          <a:pt x="185" y="88"/>
                        </a:lnTo>
                        <a:lnTo>
                          <a:pt x="205" y="88"/>
                        </a:lnTo>
                        <a:lnTo>
                          <a:pt x="224" y="97"/>
                        </a:lnTo>
                        <a:lnTo>
                          <a:pt x="234" y="97"/>
                        </a:lnTo>
                        <a:lnTo>
                          <a:pt x="244" y="117"/>
                        </a:lnTo>
                        <a:lnTo>
                          <a:pt x="244" y="126"/>
                        </a:lnTo>
                        <a:lnTo>
                          <a:pt x="244" y="146"/>
                        </a:lnTo>
                        <a:lnTo>
                          <a:pt x="224" y="156"/>
                        </a:lnTo>
                        <a:lnTo>
                          <a:pt x="214" y="175"/>
                        </a:lnTo>
                        <a:lnTo>
                          <a:pt x="214" y="185"/>
                        </a:lnTo>
                        <a:lnTo>
                          <a:pt x="205" y="204"/>
                        </a:lnTo>
                        <a:lnTo>
                          <a:pt x="205" y="224"/>
                        </a:lnTo>
                        <a:lnTo>
                          <a:pt x="205" y="234"/>
                        </a:lnTo>
                        <a:lnTo>
                          <a:pt x="185" y="243"/>
                        </a:lnTo>
                        <a:lnTo>
                          <a:pt x="166" y="243"/>
                        </a:lnTo>
                        <a:lnTo>
                          <a:pt x="137" y="243"/>
                        </a:lnTo>
                        <a:lnTo>
                          <a:pt x="127" y="234"/>
                        </a:lnTo>
                        <a:lnTo>
                          <a:pt x="117" y="234"/>
                        </a:lnTo>
                        <a:lnTo>
                          <a:pt x="107" y="224"/>
                        </a:lnTo>
                        <a:lnTo>
                          <a:pt x="88" y="224"/>
                        </a:lnTo>
                        <a:lnTo>
                          <a:pt x="69" y="234"/>
                        </a:lnTo>
                        <a:lnTo>
                          <a:pt x="59" y="234"/>
                        </a:lnTo>
                        <a:lnTo>
                          <a:pt x="39" y="234"/>
                        </a:lnTo>
                        <a:lnTo>
                          <a:pt x="39" y="224"/>
                        </a:lnTo>
                        <a:lnTo>
                          <a:pt x="30" y="214"/>
                        </a:lnTo>
                        <a:lnTo>
                          <a:pt x="30" y="195"/>
                        </a:lnTo>
                        <a:lnTo>
                          <a:pt x="20" y="185"/>
                        </a:lnTo>
                        <a:lnTo>
                          <a:pt x="10" y="175"/>
                        </a:lnTo>
                        <a:lnTo>
                          <a:pt x="0" y="175"/>
                        </a:lnTo>
                        <a:lnTo>
                          <a:pt x="0" y="15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lnTo>
                          <a:pt x="30" y="126"/>
                        </a:lnTo>
                        <a:lnTo>
                          <a:pt x="39" y="117"/>
                        </a:lnTo>
                        <a:lnTo>
                          <a:pt x="59" y="107"/>
                        </a:lnTo>
                        <a:lnTo>
                          <a:pt x="69" y="107"/>
                        </a:lnTo>
                        <a:lnTo>
                          <a:pt x="88" y="97"/>
                        </a:lnTo>
                        <a:lnTo>
                          <a:pt x="88" y="88"/>
                        </a:lnTo>
                        <a:lnTo>
                          <a:pt x="98" y="78"/>
                        </a:lnTo>
                        <a:lnTo>
                          <a:pt x="98" y="29"/>
                        </a:lnTo>
                        <a:lnTo>
                          <a:pt x="98" y="19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960360" y="249840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20" y="49"/>
                        </a:moveTo>
                        <a:lnTo>
                          <a:pt x="2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966840" y="2529000"/>
                    <a:ext cx="59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8" y="78"/>
                        </a:moveTo>
                        <a:lnTo>
                          <a:pt x="88" y="78"/>
                        </a:lnTo>
                        <a:lnTo>
                          <a:pt x="97" y="58"/>
                        </a:lnTo>
                        <a:lnTo>
                          <a:pt x="88" y="39"/>
                        </a:lnTo>
                        <a:lnTo>
                          <a:pt x="88" y="29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3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972960" y="257724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0" y="107"/>
                        </a:moveTo>
                        <a:lnTo>
                          <a:pt x="29" y="97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5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39" y="39"/>
                        </a:lnTo>
                        <a:lnTo>
                          <a:pt x="39" y="58"/>
                        </a:lnTo>
                        <a:lnTo>
                          <a:pt x="39" y="78"/>
                        </a:lnTo>
                        <a:lnTo>
                          <a:pt x="29" y="78"/>
                        </a:lnTo>
                        <a:lnTo>
                          <a:pt x="19" y="88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913200" y="2625480"/>
                    <a:ext cx="59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9" y="0"/>
                        </a:lnTo>
                        <a:lnTo>
                          <a:pt x="38" y="0"/>
                        </a:lnTo>
                        <a:lnTo>
                          <a:pt x="48" y="10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1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1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864960" y="25887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8" y="69"/>
                        </a:lnTo>
                        <a:lnTo>
                          <a:pt x="68" y="78"/>
                        </a:lnTo>
                        <a:lnTo>
                          <a:pt x="78" y="69"/>
                        </a:lnTo>
                        <a:lnTo>
                          <a:pt x="78" y="59"/>
                        </a:lnTo>
                        <a:lnTo>
                          <a:pt x="58" y="59"/>
                        </a:lnTo>
                        <a:lnTo>
                          <a:pt x="48" y="59"/>
                        </a:lnTo>
                        <a:lnTo>
                          <a:pt x="39" y="49"/>
                        </a:lnTo>
                        <a:lnTo>
                          <a:pt x="39" y="3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864960" y="2546640"/>
                    <a:ext cx="59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7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918600" y="248688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2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942720" y="24868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9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882960" y="2498400"/>
                    <a:ext cx="1317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05">
                        <a:moveTo>
                          <a:pt x="156" y="69"/>
                        </a:moveTo>
                        <a:lnTo>
                          <a:pt x="165" y="78"/>
                        </a:lnTo>
                        <a:lnTo>
                          <a:pt x="175" y="78"/>
                        </a:lnTo>
                        <a:lnTo>
                          <a:pt x="185" y="88"/>
                        </a:lnTo>
                        <a:lnTo>
                          <a:pt x="194" y="88"/>
                        </a:lnTo>
                        <a:lnTo>
                          <a:pt x="204" y="98"/>
                        </a:lnTo>
                        <a:lnTo>
                          <a:pt x="214" y="107"/>
                        </a:lnTo>
                        <a:lnTo>
                          <a:pt x="214" y="117"/>
                        </a:lnTo>
                        <a:lnTo>
                          <a:pt x="185" y="137"/>
                        </a:lnTo>
                        <a:lnTo>
                          <a:pt x="185" y="156"/>
                        </a:lnTo>
                        <a:lnTo>
                          <a:pt x="175" y="156"/>
                        </a:lnTo>
                        <a:lnTo>
                          <a:pt x="175" y="166"/>
                        </a:lnTo>
                        <a:lnTo>
                          <a:pt x="175" y="176"/>
                        </a:lnTo>
                        <a:lnTo>
                          <a:pt x="175" y="195"/>
                        </a:lnTo>
                        <a:lnTo>
                          <a:pt x="175" y="195"/>
                        </a:lnTo>
                        <a:lnTo>
                          <a:pt x="175" y="205"/>
                        </a:lnTo>
                        <a:lnTo>
                          <a:pt x="165" y="205"/>
                        </a:lnTo>
                        <a:lnTo>
                          <a:pt x="165" y="205"/>
                        </a:lnTo>
                        <a:lnTo>
                          <a:pt x="156" y="205"/>
                        </a:lnTo>
                        <a:lnTo>
                          <a:pt x="146" y="205"/>
                        </a:lnTo>
                        <a:lnTo>
                          <a:pt x="136" y="205"/>
                        </a:lnTo>
                        <a:lnTo>
                          <a:pt x="117" y="205"/>
                        </a:lnTo>
                        <a:lnTo>
                          <a:pt x="107" y="205"/>
                        </a:lnTo>
                        <a:lnTo>
                          <a:pt x="97" y="195"/>
                        </a:lnTo>
                        <a:lnTo>
                          <a:pt x="78" y="195"/>
                        </a:lnTo>
                        <a:lnTo>
                          <a:pt x="68" y="185"/>
                        </a:lnTo>
                        <a:lnTo>
                          <a:pt x="49" y="195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19" y="176"/>
                        </a:lnTo>
                        <a:lnTo>
                          <a:pt x="19" y="16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lnTo>
                          <a:pt x="0" y="13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10" y="117"/>
                        </a:lnTo>
                        <a:lnTo>
                          <a:pt x="19" y="117"/>
                        </a:lnTo>
                        <a:lnTo>
                          <a:pt x="39" y="117"/>
                        </a:lnTo>
                        <a:lnTo>
                          <a:pt x="49" y="107"/>
                        </a:lnTo>
                        <a:lnTo>
                          <a:pt x="49" y="98"/>
                        </a:lnTo>
                        <a:lnTo>
                          <a:pt x="68" y="98"/>
                        </a:lnTo>
                        <a:lnTo>
                          <a:pt x="78" y="88"/>
                        </a:lnTo>
                        <a:lnTo>
                          <a:pt x="87" y="78"/>
                        </a:lnTo>
                        <a:lnTo>
                          <a:pt x="87" y="69"/>
                        </a:lnTo>
                        <a:lnTo>
                          <a:pt x="87" y="49"/>
                        </a:lnTo>
                        <a:lnTo>
                          <a:pt x="97" y="30"/>
                        </a:lnTo>
                        <a:lnTo>
                          <a:pt x="97" y="2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17" y="20"/>
                        </a:lnTo>
                        <a:lnTo>
                          <a:pt x="126" y="30"/>
                        </a:lnTo>
                        <a:lnTo>
                          <a:pt x="126" y="49"/>
                        </a:lnTo>
                        <a:lnTo>
                          <a:pt x="126" y="59"/>
                        </a:lnTo>
                        <a:lnTo>
                          <a:pt x="136" y="69"/>
                        </a:lnTo>
                        <a:lnTo>
                          <a:pt x="136" y="69"/>
                        </a:lnTo>
                        <a:lnTo>
                          <a:pt x="156" y="6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972960" y="254124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8" y="48"/>
                        </a:moveTo>
                        <a:lnTo>
                          <a:pt x="68" y="38"/>
                        </a:ln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58" y="38"/>
                        </a:lnTo>
                        <a:lnTo>
                          <a:pt x="58" y="3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984480" y="2570760"/>
                    <a:ext cx="29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972960" y="26128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907080" y="2612880"/>
                    <a:ext cx="65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3882960" y="258876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876840" y="2559240"/>
                    <a:ext cx="36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59" y="0"/>
                        </a:move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913200" y="249840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8" y="20"/>
                        </a:lnTo>
                        <a:lnTo>
                          <a:pt x="38" y="30"/>
                        </a:lnTo>
                        <a:lnTo>
                          <a:pt x="38" y="49"/>
                        </a:lnTo>
                        <a:lnTo>
                          <a:pt x="38" y="69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19" y="8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38" y="88"/>
                        </a:lnTo>
                        <a:lnTo>
                          <a:pt x="38" y="78"/>
                        </a:lnTo>
                        <a:lnTo>
                          <a:pt x="48" y="69"/>
                        </a:lnTo>
                        <a:lnTo>
                          <a:pt x="48" y="49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942720" y="249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19"/>
                        </a:move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954960" y="250488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75084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750840" y="25351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3750840" y="2546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750840" y="252900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768840" y="25290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691080" y="254124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9" y="0"/>
                        </a:moveTo>
                        <a:lnTo>
                          <a:pt x="39" y="19"/>
                        </a:lnTo>
                        <a:lnTo>
                          <a:pt x="19" y="38"/>
                        </a:lnTo>
                        <a:lnTo>
                          <a:pt x="19" y="38"/>
                        </a:lnTo>
                        <a:lnTo>
                          <a:pt x="9" y="38"/>
                        </a:lnTo>
                        <a:lnTo>
                          <a:pt x="9" y="3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702960" y="25412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0" y="48"/>
                        </a:move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8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684960" y="2553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369108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3709080" y="253512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5088240" y="2541240"/>
                    <a:ext cx="107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4">
                        <a:moveTo>
                          <a:pt x="146" y="9"/>
                        </a:moveTo>
                        <a:lnTo>
                          <a:pt x="146" y="19"/>
                        </a:lnTo>
                        <a:lnTo>
                          <a:pt x="136" y="29"/>
                        </a:lnTo>
                        <a:lnTo>
                          <a:pt x="126" y="38"/>
                        </a:lnTo>
                        <a:lnTo>
                          <a:pt x="126" y="48"/>
                        </a:lnTo>
                        <a:lnTo>
                          <a:pt x="116" y="58"/>
                        </a:lnTo>
                        <a:lnTo>
                          <a:pt x="116" y="87"/>
                        </a:lnTo>
                        <a:lnTo>
                          <a:pt x="126" y="97"/>
                        </a:lnTo>
                        <a:lnTo>
                          <a:pt x="126" y="107"/>
                        </a:lnTo>
                        <a:lnTo>
                          <a:pt x="136" y="107"/>
                        </a:lnTo>
                        <a:lnTo>
                          <a:pt x="136" y="107"/>
                        </a:lnTo>
                        <a:lnTo>
                          <a:pt x="146" y="116"/>
                        </a:lnTo>
                        <a:lnTo>
                          <a:pt x="155" y="116"/>
                        </a:lnTo>
                        <a:lnTo>
                          <a:pt x="155" y="126"/>
                        </a:lnTo>
                        <a:lnTo>
                          <a:pt x="175" y="126"/>
                        </a:lnTo>
                        <a:lnTo>
                          <a:pt x="175" y="155"/>
                        </a:lnTo>
                        <a:lnTo>
                          <a:pt x="126" y="155"/>
                        </a:lnTo>
                        <a:lnTo>
                          <a:pt x="116" y="146"/>
                        </a:lnTo>
                        <a:lnTo>
                          <a:pt x="107" y="155"/>
                        </a:lnTo>
                        <a:lnTo>
                          <a:pt x="97" y="155"/>
                        </a:lnTo>
                        <a:lnTo>
                          <a:pt x="87" y="155"/>
                        </a:lnTo>
                        <a:lnTo>
                          <a:pt x="78" y="165"/>
                        </a:lnTo>
                        <a:lnTo>
                          <a:pt x="78" y="16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85"/>
                        </a:lnTo>
                        <a:lnTo>
                          <a:pt x="58" y="194"/>
                        </a:lnTo>
                        <a:lnTo>
                          <a:pt x="58" y="194"/>
                        </a:lnTo>
                        <a:lnTo>
                          <a:pt x="48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75"/>
                        </a:lnTo>
                        <a:lnTo>
                          <a:pt x="0" y="175"/>
                        </a:lnTo>
                        <a:lnTo>
                          <a:pt x="68" y="38"/>
                        </a:lnTo>
                        <a:lnTo>
                          <a:pt x="78" y="38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159520" y="254124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10" y="87"/>
                        </a:move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38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159520" y="259488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9" y="2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183640" y="2612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189760" y="2619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5136120" y="263160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123880" y="2637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39"/>
                        </a:move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08824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088240" y="25592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68" y="0"/>
                        </a:moveTo>
                        <a:lnTo>
                          <a:pt x="58" y="9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130000" y="253512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172120" y="253512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9"/>
                        </a:move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77496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74960" y="254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76884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774960" y="254124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9" y="9"/>
                        </a:move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421080" y="2541240"/>
                    <a:ext cx="54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88" y="29"/>
                        </a:moveTo>
                        <a:lnTo>
                          <a:pt x="88" y="38"/>
                        </a:lnTo>
                        <a:lnTo>
                          <a:pt x="7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58" y="48"/>
                        </a:lnTo>
                        <a:lnTo>
                          <a:pt x="29" y="48"/>
                        </a:lnTo>
                        <a:lnTo>
                          <a:pt x="20" y="48"/>
                        </a:lnTo>
                        <a:lnTo>
                          <a:pt x="1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46320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433320" y="256464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421080" y="25707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3421080" y="2541240"/>
                    <a:ext cx="29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451320" y="254124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5207760" y="254124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68"/>
                        </a:moveTo>
                        <a:lnTo>
                          <a:pt x="146" y="87"/>
                        </a:lnTo>
                        <a:lnTo>
                          <a:pt x="146" y="97"/>
                        </a:lnTo>
                        <a:lnTo>
                          <a:pt x="136" y="116"/>
                        </a:lnTo>
                        <a:lnTo>
                          <a:pt x="136" y="126"/>
                        </a:lnTo>
                        <a:lnTo>
                          <a:pt x="127" y="136"/>
                        </a:lnTo>
                        <a:lnTo>
                          <a:pt x="117" y="155"/>
                        </a:lnTo>
                        <a:lnTo>
                          <a:pt x="107" y="165"/>
                        </a:lnTo>
                        <a:lnTo>
                          <a:pt x="88" y="175"/>
                        </a:lnTo>
                        <a:lnTo>
                          <a:pt x="78" y="175"/>
                        </a:lnTo>
                        <a:lnTo>
                          <a:pt x="68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65"/>
                        </a:lnTo>
                        <a:lnTo>
                          <a:pt x="10" y="155"/>
                        </a:lnTo>
                        <a:lnTo>
                          <a:pt x="0" y="155"/>
                        </a:lnTo>
                        <a:lnTo>
                          <a:pt x="0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20" y="7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59" y="9"/>
                        </a:lnTo>
                        <a:lnTo>
                          <a:pt x="68" y="9"/>
                        </a:lnTo>
                        <a:lnTo>
                          <a:pt x="88" y="9"/>
                        </a:lnTo>
                        <a:lnTo>
                          <a:pt x="107" y="19"/>
                        </a:lnTo>
                        <a:lnTo>
                          <a:pt x="117" y="29"/>
                        </a:lnTo>
                        <a:lnTo>
                          <a:pt x="136" y="38"/>
                        </a:lnTo>
                        <a:lnTo>
                          <a:pt x="146" y="48"/>
                        </a:lnTo>
                        <a:lnTo>
                          <a:pt x="146" y="6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262120" y="2583360"/>
                    <a:ext cx="41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0" y="107"/>
                        </a:moveTo>
                        <a:lnTo>
                          <a:pt x="19" y="107"/>
                        </a:lnTo>
                        <a:lnTo>
                          <a:pt x="29" y="87"/>
                        </a:lnTo>
                        <a:lnTo>
                          <a:pt x="48" y="78"/>
                        </a:lnTo>
                        <a:lnTo>
                          <a:pt x="48" y="68"/>
                        </a:lnTo>
                        <a:lnTo>
                          <a:pt x="58" y="48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19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29" y="87"/>
                        </a:lnTo>
                        <a:lnTo>
                          <a:pt x="9" y="9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5202360" y="2631600"/>
                    <a:ext cx="59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9" y="0"/>
                        </a:move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5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19"/>
                        </a:lnTo>
                        <a:lnTo>
                          <a:pt x="58" y="19"/>
                        </a:lnTo>
                        <a:lnTo>
                          <a:pt x="38" y="1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5202360" y="2607480"/>
                    <a:ext cx="5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8">
                        <a:moveTo>
                          <a:pt x="9" y="0"/>
                        </a:move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207760" y="2570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5207760" y="2559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5207760" y="254124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29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231880" y="2541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117" y="68"/>
                        </a:moveTo>
                        <a:lnTo>
                          <a:pt x="117" y="58"/>
                        </a:lnTo>
                        <a:lnTo>
                          <a:pt x="107" y="48"/>
                        </a:lnTo>
                        <a:lnTo>
                          <a:pt x="97" y="38"/>
                        </a:lnTo>
                        <a:lnTo>
                          <a:pt x="88" y="19"/>
                        </a:lnTo>
                        <a:lnTo>
                          <a:pt x="68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97" y="38"/>
                        </a:lnTo>
                        <a:lnTo>
                          <a:pt x="97" y="4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17" y="58"/>
                        </a:lnTo>
                        <a:lnTo>
                          <a:pt x="11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583440" y="2553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10"/>
                        </a:move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583440" y="2559240"/>
                    <a:ext cx="29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9" y="39"/>
                        </a:move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577320" y="257724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583440" y="254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601080" y="2546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960360" y="255312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960360" y="2553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960360" y="255924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172120" y="255312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9" y="0"/>
                        </a:move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58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196240" y="2553120"/>
                    <a:ext cx="11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8">
                        <a:moveTo>
                          <a:pt x="0" y="88"/>
                        </a:moveTo>
                        <a:lnTo>
                          <a:pt x="0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17212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172120" y="2559240"/>
                    <a:ext cx="11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5178240" y="254664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4720" y="255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9"/>
                        </a:move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559320" y="256464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20"/>
                        </a:move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55932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570840" y="255312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674600" y="2570760"/>
                    <a:ext cx="1317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24">
                        <a:moveTo>
                          <a:pt x="146" y="78"/>
                        </a:moveTo>
                        <a:lnTo>
                          <a:pt x="146" y="68"/>
                        </a:lnTo>
                        <a:lnTo>
                          <a:pt x="165" y="49"/>
                        </a:lnTo>
                        <a:lnTo>
                          <a:pt x="165" y="49"/>
                        </a:lnTo>
                        <a:lnTo>
                          <a:pt x="175" y="39"/>
                        </a:lnTo>
                        <a:lnTo>
                          <a:pt x="184" y="39"/>
                        </a:lnTo>
                        <a:lnTo>
                          <a:pt x="18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49"/>
                        </a:lnTo>
                        <a:lnTo>
                          <a:pt x="214" y="59"/>
                        </a:lnTo>
                        <a:lnTo>
                          <a:pt x="204" y="68"/>
                        </a:lnTo>
                        <a:lnTo>
                          <a:pt x="204" y="78"/>
                        </a:lnTo>
                        <a:lnTo>
                          <a:pt x="194" y="88"/>
                        </a:lnTo>
                        <a:lnTo>
                          <a:pt x="184" y="88"/>
                        </a:lnTo>
                        <a:lnTo>
                          <a:pt x="184" y="98"/>
                        </a:lnTo>
                        <a:lnTo>
                          <a:pt x="175" y="107"/>
                        </a:lnTo>
                        <a:lnTo>
                          <a:pt x="184" y="137"/>
                        </a:lnTo>
                        <a:lnTo>
                          <a:pt x="184" y="185"/>
                        </a:lnTo>
                        <a:lnTo>
                          <a:pt x="184" y="214"/>
                        </a:lnTo>
                        <a:lnTo>
                          <a:pt x="175" y="214"/>
                        </a:lnTo>
                        <a:lnTo>
                          <a:pt x="165" y="214"/>
                        </a:lnTo>
                        <a:lnTo>
                          <a:pt x="155" y="214"/>
                        </a:lnTo>
                        <a:lnTo>
                          <a:pt x="146" y="224"/>
                        </a:lnTo>
                        <a:lnTo>
                          <a:pt x="136" y="224"/>
                        </a:lnTo>
                        <a:lnTo>
                          <a:pt x="126" y="224"/>
                        </a:lnTo>
                        <a:lnTo>
                          <a:pt x="116" y="224"/>
                        </a:lnTo>
                        <a:lnTo>
                          <a:pt x="107" y="214"/>
                        </a:lnTo>
                        <a:lnTo>
                          <a:pt x="87" y="214"/>
                        </a:lnTo>
                        <a:lnTo>
                          <a:pt x="87" y="214"/>
                        </a:lnTo>
                        <a:lnTo>
                          <a:pt x="77" y="214"/>
                        </a:lnTo>
                        <a:lnTo>
                          <a:pt x="97" y="214"/>
                        </a:lnTo>
                        <a:lnTo>
                          <a:pt x="116" y="205"/>
                        </a:lnTo>
                        <a:lnTo>
                          <a:pt x="126" y="205"/>
                        </a:lnTo>
                        <a:lnTo>
                          <a:pt x="126" y="195"/>
                        </a:lnTo>
                        <a:lnTo>
                          <a:pt x="136" y="195"/>
                        </a:lnTo>
                        <a:lnTo>
                          <a:pt x="136" y="185"/>
                        </a:lnTo>
                        <a:lnTo>
                          <a:pt x="146" y="175"/>
                        </a:lnTo>
                        <a:lnTo>
                          <a:pt x="146" y="166"/>
                        </a:lnTo>
                        <a:lnTo>
                          <a:pt x="136" y="166"/>
                        </a:lnTo>
                        <a:lnTo>
                          <a:pt x="136" y="156"/>
                        </a:lnTo>
                        <a:lnTo>
                          <a:pt x="126" y="146"/>
                        </a:lnTo>
                        <a:lnTo>
                          <a:pt x="136" y="146"/>
                        </a:lnTo>
                        <a:lnTo>
                          <a:pt x="136" y="137"/>
                        </a:lnTo>
                        <a:lnTo>
                          <a:pt x="136" y="127"/>
                        </a:lnTo>
                        <a:lnTo>
                          <a:pt x="136" y="117"/>
                        </a:lnTo>
                        <a:lnTo>
                          <a:pt x="126" y="107"/>
                        </a:lnTo>
                        <a:lnTo>
                          <a:pt x="116" y="98"/>
                        </a:lnTo>
                        <a:lnTo>
                          <a:pt x="116" y="88"/>
                        </a:lnTo>
                        <a:lnTo>
                          <a:pt x="107" y="88"/>
                        </a:lnTo>
                        <a:lnTo>
                          <a:pt x="87" y="88"/>
                        </a:lnTo>
                        <a:lnTo>
                          <a:pt x="87" y="88"/>
                        </a:lnTo>
                        <a:lnTo>
                          <a:pt x="77" y="78"/>
                        </a:lnTo>
                        <a:lnTo>
                          <a:pt x="68" y="68"/>
                        </a:lnTo>
                        <a:lnTo>
                          <a:pt x="58" y="59"/>
                        </a:lnTo>
                        <a:lnTo>
                          <a:pt x="48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49"/>
                        </a:lnTo>
                        <a:lnTo>
                          <a:pt x="116" y="59"/>
                        </a:lnTo>
                        <a:lnTo>
                          <a:pt x="126" y="68"/>
                        </a:lnTo>
                        <a:lnTo>
                          <a:pt x="136" y="68"/>
                        </a:lnTo>
                        <a:lnTo>
                          <a:pt x="146" y="7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758480" y="2588760"/>
                    <a:ext cx="29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788000" y="25887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782600" y="2594880"/>
                    <a:ext cx="29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9" y="68"/>
                        </a:move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82600" y="26370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19" y="59"/>
                        </a:lnTo>
                        <a:lnTo>
                          <a:pt x="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30"/>
                        </a:lnTo>
                        <a:lnTo>
                          <a:pt x="9" y="78"/>
                        </a:lnTo>
                        <a:lnTo>
                          <a:pt x="0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734360" y="2697840"/>
                    <a:ext cx="53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87" y="9"/>
                        </a:lnTo>
                        <a:lnTo>
                          <a:pt x="87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704120" y="269784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721760" y="267912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2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69" y="1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752360" y="2661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752360" y="2643120"/>
                    <a:ext cx="12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721760" y="2619000"/>
                    <a:ext cx="42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49" y="39"/>
                        </a:lnTo>
                        <a:lnTo>
                          <a:pt x="59" y="49"/>
                        </a:lnTo>
                        <a:lnTo>
                          <a:pt x="69" y="39"/>
                        </a:lnTo>
                        <a:lnTo>
                          <a:pt x="59" y="29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674600" y="2570760"/>
                    <a:ext cx="47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39" y="49"/>
                        </a:lnTo>
                        <a:lnTo>
                          <a:pt x="39" y="49"/>
                        </a:lnTo>
                        <a:lnTo>
                          <a:pt x="58" y="59"/>
                        </a:lnTo>
                        <a:lnTo>
                          <a:pt x="77" y="78"/>
                        </a:lnTo>
                        <a:lnTo>
                          <a:pt x="77" y="78"/>
                        </a:lnTo>
                        <a:lnTo>
                          <a:pt x="68" y="59"/>
                        </a:lnTo>
                        <a:lnTo>
                          <a:pt x="58" y="59"/>
                        </a:lnTo>
                        <a:lnTo>
                          <a:pt x="39" y="3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4600" y="2570760"/>
                    <a:ext cx="90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8">
                        <a:moveTo>
                          <a:pt x="136" y="78"/>
                        </a:moveTo>
                        <a:lnTo>
                          <a:pt x="146" y="68"/>
                        </a:lnTo>
                        <a:lnTo>
                          <a:pt x="136" y="68"/>
                        </a:lnTo>
                        <a:lnTo>
                          <a:pt x="126" y="59"/>
                        </a:lnTo>
                        <a:lnTo>
                          <a:pt x="126" y="59"/>
                        </a:lnTo>
                        <a:lnTo>
                          <a:pt x="116" y="4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7" y="29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49"/>
                        </a:lnTo>
                        <a:lnTo>
                          <a:pt x="97" y="49"/>
                        </a:lnTo>
                        <a:lnTo>
                          <a:pt x="107" y="59"/>
                        </a:lnTo>
                        <a:lnTo>
                          <a:pt x="116" y="68"/>
                        </a:lnTo>
                        <a:lnTo>
                          <a:pt x="126" y="68"/>
                        </a:lnTo>
                        <a:lnTo>
                          <a:pt x="13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88"/>
                        </a:lnTo>
                        <a:lnTo>
                          <a:pt x="146" y="78"/>
                        </a:lnTo>
                        <a:lnTo>
                          <a:pt x="136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919760" y="2570760"/>
                    <a:ext cx="126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7">
                        <a:moveTo>
                          <a:pt x="205" y="10"/>
                        </a:moveTo>
                        <a:lnTo>
                          <a:pt x="205" y="20"/>
                        </a:lnTo>
                        <a:lnTo>
                          <a:pt x="205" y="39"/>
                        </a:lnTo>
                        <a:lnTo>
                          <a:pt x="185" y="49"/>
                        </a:lnTo>
                        <a:lnTo>
                          <a:pt x="175" y="68"/>
                        </a:lnTo>
                        <a:lnTo>
                          <a:pt x="137" y="107"/>
                        </a:lnTo>
                        <a:lnTo>
                          <a:pt x="127" y="117"/>
                        </a:lnTo>
                        <a:lnTo>
                          <a:pt x="107" y="127"/>
                        </a:lnTo>
                        <a:lnTo>
                          <a:pt x="88" y="127"/>
                        </a:lnTo>
                        <a:lnTo>
                          <a:pt x="78" y="117"/>
                        </a:lnTo>
                        <a:lnTo>
                          <a:pt x="59" y="107"/>
                        </a:lnTo>
                        <a:lnTo>
                          <a:pt x="49" y="98"/>
                        </a:lnTo>
                        <a:lnTo>
                          <a:pt x="30" y="88"/>
                        </a:lnTo>
                        <a:lnTo>
                          <a:pt x="30" y="68"/>
                        </a:lnTo>
                        <a:lnTo>
                          <a:pt x="20" y="59"/>
                        </a:lnTo>
                        <a:lnTo>
                          <a:pt x="1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20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040000" y="257724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974120" y="2594880"/>
                    <a:ext cx="72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8">
                        <a:moveTo>
                          <a:pt x="0" y="88"/>
                        </a:moveTo>
                        <a:lnTo>
                          <a:pt x="29" y="88"/>
                        </a:lnTo>
                        <a:lnTo>
                          <a:pt x="39" y="78"/>
                        </a:lnTo>
                        <a:lnTo>
                          <a:pt x="58" y="68"/>
                        </a:lnTo>
                        <a:lnTo>
                          <a:pt x="78" y="49"/>
                        </a:lnTo>
                        <a:lnTo>
                          <a:pt x="97" y="2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87" y="20"/>
                        </a:lnTo>
                        <a:lnTo>
                          <a:pt x="78" y="39"/>
                        </a:lnTo>
                        <a:lnTo>
                          <a:pt x="49" y="59"/>
                        </a:lnTo>
                        <a:lnTo>
                          <a:pt x="39" y="68"/>
                        </a:lnTo>
                        <a:lnTo>
                          <a:pt x="19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919760" y="2583360"/>
                    <a:ext cx="60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30" y="68"/>
                        </a:lnTo>
                        <a:lnTo>
                          <a:pt x="59" y="9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98" y="97"/>
                        </a:lnTo>
                        <a:lnTo>
                          <a:pt x="78" y="97"/>
                        </a:lnTo>
                        <a:lnTo>
                          <a:pt x="59" y="87"/>
                        </a:lnTo>
                        <a:lnTo>
                          <a:pt x="39" y="68"/>
                        </a:lnTo>
                        <a:lnTo>
                          <a:pt x="30" y="48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919760" y="2570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3880" y="2570760"/>
                    <a:ext cx="10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">
                        <a:moveTo>
                          <a:pt x="166" y="10"/>
                        </a:moveTo>
                        <a:lnTo>
                          <a:pt x="166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66" y="2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433320" y="257724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8" y="29"/>
                        </a:moveTo>
                        <a:lnTo>
                          <a:pt x="58" y="3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48" y="58"/>
                        </a:lnTo>
                        <a:lnTo>
                          <a:pt x="38" y="68"/>
                        </a:lnTo>
                        <a:lnTo>
                          <a:pt x="38" y="78"/>
                        </a:lnTo>
                        <a:lnTo>
                          <a:pt x="38" y="8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29" y="49"/>
                        </a:lnTo>
                        <a:lnTo>
                          <a:pt x="0" y="19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3451320" y="25948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9" y="59"/>
                        </a:move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3445200" y="26013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10"/>
                        </a:move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3433320" y="2583360"/>
                    <a:ext cx="176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433320" y="257724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48" y="29"/>
                        </a:move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938480" y="2583360"/>
                    <a:ext cx="954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7">
                        <a:moveTo>
                          <a:pt x="155" y="9"/>
                        </a:moveTo>
                        <a:lnTo>
                          <a:pt x="145" y="19"/>
                        </a:lnTo>
                        <a:lnTo>
                          <a:pt x="136" y="39"/>
                        </a:lnTo>
                        <a:lnTo>
                          <a:pt x="126" y="48"/>
                        </a:lnTo>
                        <a:lnTo>
                          <a:pt x="107" y="68"/>
                        </a:lnTo>
                        <a:lnTo>
                          <a:pt x="97" y="78"/>
                        </a:lnTo>
                        <a:lnTo>
                          <a:pt x="87" y="87"/>
                        </a:lnTo>
                        <a:lnTo>
                          <a:pt x="68" y="87"/>
                        </a:lnTo>
                        <a:lnTo>
                          <a:pt x="48" y="87"/>
                        </a:lnTo>
                        <a:lnTo>
                          <a:pt x="48" y="78"/>
                        </a:lnTo>
                        <a:lnTo>
                          <a:pt x="38" y="6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58" y="0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968000" y="2588760"/>
                    <a:ext cx="65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78"/>
                        </a:move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78" y="49"/>
                        </a:lnTo>
                        <a:lnTo>
                          <a:pt x="88" y="3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59"/>
                        </a:lnTo>
                        <a:lnTo>
                          <a:pt x="3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938480" y="25948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59"/>
                        </a:lnTo>
                        <a:lnTo>
                          <a:pt x="38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938480" y="258336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7" y="0"/>
                        </a:move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998240" y="2583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649320" y="2583360"/>
                    <a:ext cx="8352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9"/>
                        </a:moveTo>
                        <a:lnTo>
                          <a:pt x="97" y="107"/>
                        </a:lnTo>
                        <a:lnTo>
                          <a:pt x="87" y="117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68" y="117"/>
                        </a:lnTo>
                        <a:lnTo>
                          <a:pt x="58" y="107"/>
                        </a:lnTo>
                        <a:lnTo>
                          <a:pt x="48" y="107"/>
                        </a:lnTo>
                        <a:lnTo>
                          <a:pt x="39" y="97"/>
                        </a:lnTo>
                        <a:lnTo>
                          <a:pt x="39" y="87"/>
                        </a:lnTo>
                        <a:lnTo>
                          <a:pt x="29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7" y="0"/>
                        </a:lnTo>
                        <a:lnTo>
                          <a:pt x="126" y="0"/>
                        </a:lnTo>
                        <a:lnTo>
                          <a:pt x="13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709080" y="259488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684960" y="26496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642840" y="260136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68" y="88"/>
                        </a:lnTo>
                        <a:lnTo>
                          <a:pt x="68" y="78"/>
                        </a:lnTo>
                        <a:lnTo>
                          <a:pt x="49" y="58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642840" y="2594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649320" y="258336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0"/>
                        </a:moveTo>
                        <a:lnTo>
                          <a:pt x="126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126" y="9"/>
                        </a:lnTo>
                        <a:lnTo>
                          <a:pt x="126" y="9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726720" y="25833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373200" y="259488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07" y="20"/>
                        </a:moveTo>
                        <a:lnTo>
                          <a:pt x="107" y="39"/>
                        </a:lnTo>
                        <a:lnTo>
                          <a:pt x="107" y="49"/>
                        </a:lnTo>
                        <a:lnTo>
                          <a:pt x="107" y="59"/>
                        </a:lnTo>
                        <a:lnTo>
                          <a:pt x="117" y="68"/>
                        </a:lnTo>
                        <a:lnTo>
                          <a:pt x="127" y="78"/>
                        </a:lnTo>
                        <a:lnTo>
                          <a:pt x="127" y="88"/>
                        </a:lnTo>
                        <a:lnTo>
                          <a:pt x="136" y="88"/>
                        </a:lnTo>
                        <a:lnTo>
                          <a:pt x="136" y="98"/>
                        </a:lnTo>
                        <a:lnTo>
                          <a:pt x="146" y="107"/>
                        </a:lnTo>
                        <a:lnTo>
                          <a:pt x="146" y="136"/>
                        </a:lnTo>
                        <a:lnTo>
                          <a:pt x="127" y="156"/>
                        </a:lnTo>
                        <a:lnTo>
                          <a:pt x="127" y="166"/>
                        </a:lnTo>
                        <a:lnTo>
                          <a:pt x="117" y="166"/>
                        </a:lnTo>
                        <a:lnTo>
                          <a:pt x="107" y="175"/>
                        </a:lnTo>
                        <a:lnTo>
                          <a:pt x="98" y="175"/>
                        </a:lnTo>
                        <a:lnTo>
                          <a:pt x="88" y="175"/>
                        </a:lnTo>
                        <a:lnTo>
                          <a:pt x="59" y="175"/>
                        </a:lnTo>
                        <a:lnTo>
                          <a:pt x="49" y="175"/>
                        </a:lnTo>
                        <a:lnTo>
                          <a:pt x="49" y="166"/>
                        </a:lnTo>
                        <a:lnTo>
                          <a:pt x="39" y="166"/>
                        </a:lnTo>
                        <a:lnTo>
                          <a:pt x="29" y="166"/>
                        </a:lnTo>
                        <a:lnTo>
                          <a:pt x="20" y="146"/>
                        </a:lnTo>
                        <a:lnTo>
                          <a:pt x="20" y="136"/>
                        </a:lnTo>
                        <a:lnTo>
                          <a:pt x="10" y="12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0" y="2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07" y="2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33320" y="260748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8">
                        <a:moveTo>
                          <a:pt x="9" y="3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433320" y="2631600"/>
                    <a:ext cx="2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48" y="77"/>
                        </a:moveTo>
                        <a:lnTo>
                          <a:pt x="48" y="48"/>
                        </a:lnTo>
                        <a:lnTo>
                          <a:pt x="48" y="3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38" y="48"/>
                        </a:lnTo>
                        <a:lnTo>
                          <a:pt x="38" y="48"/>
                        </a:lnTo>
                        <a:lnTo>
                          <a:pt x="38" y="68"/>
                        </a:lnTo>
                        <a:lnTo>
                          <a:pt x="4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433320" y="2673720"/>
                    <a:ext cx="29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0" y="48"/>
                        </a:moveTo>
                        <a:lnTo>
                          <a:pt x="9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8" y="39"/>
                        </a:lnTo>
                        <a:lnTo>
                          <a:pt x="4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3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390840" y="269136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69" y="10"/>
                        </a:lnTo>
                        <a:lnTo>
                          <a:pt x="5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373200" y="2625480"/>
                    <a:ext cx="23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10" y="87"/>
                        </a:lnTo>
                        <a:lnTo>
                          <a:pt x="20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20" y="87"/>
                        </a:ln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0" y="49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3373200" y="2594880"/>
                    <a:ext cx="60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49">
                        <a:moveTo>
                          <a:pt x="98" y="0"/>
                        </a:move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427200" y="259488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19" y="2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660840" y="2594880"/>
                    <a:ext cx="540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8">
                        <a:moveTo>
                          <a:pt x="78" y="20"/>
                        </a:moveTo>
                        <a:lnTo>
                          <a:pt x="88" y="39"/>
                        </a:lnTo>
                        <a:lnTo>
                          <a:pt x="78" y="49"/>
                        </a:lnTo>
                        <a:lnTo>
                          <a:pt x="78" y="6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78" y="20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702960" y="260748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0" y="68"/>
                        </a:move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654720" y="26013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59" y="68"/>
                        </a:lnTo>
                        <a:lnTo>
                          <a:pt x="68" y="78"/>
                        </a:lnTo>
                        <a:lnTo>
                          <a:pt x="78" y="78"/>
                        </a:ln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3660840" y="259488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88" y="20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692240" y="263160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29"/>
                        </a:moveTo>
                        <a:lnTo>
                          <a:pt x="87" y="39"/>
                        </a:lnTo>
                        <a:lnTo>
                          <a:pt x="78" y="39"/>
                        </a:lnTo>
                        <a:lnTo>
                          <a:pt x="68" y="48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97" y="2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698720" y="264960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0" y="1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77" y="19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692240" y="263700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698720" y="2625480"/>
                    <a:ext cx="23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38" y="0"/>
                        </a:moveTo>
                        <a:lnTo>
                          <a:pt x="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38" y="1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721760" y="2625480"/>
                    <a:ext cx="30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463200" y="263700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78" y="68"/>
                        </a:move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30"/>
                        </a:lnTo>
                        <a:lnTo>
                          <a:pt x="49" y="4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480840" y="267372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463200" y="26370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63200" y="2637000"/>
                    <a:ext cx="59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78" y="68"/>
                        </a:move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5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lnTo>
                          <a:pt x="97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5123880" y="2643120"/>
                    <a:ext cx="47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66">
                        <a:moveTo>
                          <a:pt x="78" y="10"/>
                        </a:moveTo>
                        <a:lnTo>
                          <a:pt x="68" y="20"/>
                        </a:lnTo>
                        <a:lnTo>
                          <a:pt x="68" y="49"/>
                        </a:lnTo>
                        <a:lnTo>
                          <a:pt x="58" y="68"/>
                        </a:lnTo>
                        <a:lnTo>
                          <a:pt x="58" y="88"/>
                        </a:lnTo>
                        <a:lnTo>
                          <a:pt x="49" y="97"/>
                        </a:lnTo>
                        <a:lnTo>
                          <a:pt x="49" y="127"/>
                        </a:lnTo>
                        <a:lnTo>
                          <a:pt x="39" y="146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20" y="156"/>
                        </a:lnTo>
                        <a:lnTo>
                          <a:pt x="20" y="156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0" y="146"/>
                        </a:lnTo>
                        <a:lnTo>
                          <a:pt x="0" y="127"/>
                        </a:lnTo>
                        <a:lnTo>
                          <a:pt x="0" y="107"/>
                        </a:ln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5141880" y="2649600"/>
                    <a:ext cx="302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6"/>
                        </a:lnTo>
                        <a:lnTo>
                          <a:pt x="20" y="117"/>
                        </a:lnTo>
                        <a:lnTo>
                          <a:pt x="20" y="9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39"/>
                        </a:lnTo>
                        <a:lnTo>
                          <a:pt x="29" y="48"/>
                        </a:lnTo>
                        <a:lnTo>
                          <a:pt x="20" y="78"/>
                        </a:lnTo>
                        <a:lnTo>
                          <a:pt x="20" y="8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117760" y="2727360"/>
                    <a:ext cx="30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117760" y="2643120"/>
                    <a:ext cx="302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6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30" y="2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27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20" y="12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0" y="68"/>
                        </a:lnTo>
                        <a:lnTo>
                          <a:pt x="30" y="58"/>
                        </a:lnTo>
                        <a:lnTo>
                          <a:pt x="30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148000" y="264312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54120" y="2649600"/>
                    <a:ext cx="95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5">
                        <a:moveTo>
                          <a:pt x="97" y="10"/>
                        </a:move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9"/>
                        </a:lnTo>
                        <a:lnTo>
                          <a:pt x="155" y="19"/>
                        </a:lnTo>
                        <a:lnTo>
                          <a:pt x="146" y="39"/>
                        </a:lnTo>
                        <a:lnTo>
                          <a:pt x="146" y="58"/>
                        </a:lnTo>
                        <a:lnTo>
                          <a:pt x="136" y="78"/>
                        </a:lnTo>
                        <a:lnTo>
                          <a:pt x="136" y="97"/>
                        </a:lnTo>
                        <a:lnTo>
                          <a:pt x="126" y="117"/>
                        </a:lnTo>
                        <a:lnTo>
                          <a:pt x="107" y="136"/>
                        </a:lnTo>
                        <a:lnTo>
                          <a:pt x="97" y="146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6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21388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202360" y="2661120"/>
                    <a:ext cx="47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46"/>
                        </a:moveTo>
                        <a:lnTo>
                          <a:pt x="19" y="127"/>
                        </a:lnTo>
                        <a:lnTo>
                          <a:pt x="38" y="117"/>
                        </a:lnTo>
                        <a:lnTo>
                          <a:pt x="48" y="98"/>
                        </a:lnTo>
                        <a:lnTo>
                          <a:pt x="58" y="78"/>
                        </a:lnTo>
                        <a:lnTo>
                          <a:pt x="68" y="59"/>
                        </a:lnTo>
                        <a:lnTo>
                          <a:pt x="68" y="39"/>
                        </a:lnTo>
                        <a:lnTo>
                          <a:pt x="77" y="2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68" y="20"/>
                        </a:lnTo>
                        <a:lnTo>
                          <a:pt x="58" y="39"/>
                        </a:lnTo>
                        <a:lnTo>
                          <a:pt x="58" y="59"/>
                        </a:lnTo>
                        <a:lnTo>
                          <a:pt x="48" y="78"/>
                        </a:lnTo>
                        <a:lnTo>
                          <a:pt x="38" y="98"/>
                        </a:lnTo>
                        <a:lnTo>
                          <a:pt x="29" y="107"/>
                        </a:lnTo>
                        <a:lnTo>
                          <a:pt x="9" y="12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154120" y="274608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154120" y="2643120"/>
                    <a:ext cx="29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39" y="29"/>
                        </a:lnTo>
                        <a:lnTo>
                          <a:pt x="29" y="4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9" y="107"/>
                        </a:lnTo>
                        <a:lnTo>
                          <a:pt x="0" y="13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9" y="175"/>
                        </a:lnTo>
                        <a:lnTo>
                          <a:pt x="9" y="156"/>
                        </a:lnTo>
                        <a:lnTo>
                          <a:pt x="9" y="136"/>
                        </a:lnTo>
                        <a:lnTo>
                          <a:pt x="19" y="117"/>
                        </a:lnTo>
                        <a:lnTo>
                          <a:pt x="29" y="97"/>
                        </a:lnTo>
                        <a:lnTo>
                          <a:pt x="29" y="68"/>
                        </a:lnTo>
                        <a:lnTo>
                          <a:pt x="39" y="49"/>
                        </a:lnTo>
                        <a:lnTo>
                          <a:pt x="48" y="29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183640" y="264312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49" y="20"/>
                        </a:move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0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792960" y="2649600"/>
                    <a:ext cx="23976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341">
                        <a:moveTo>
                          <a:pt x="389" y="97"/>
                        </a:moveTo>
                        <a:lnTo>
                          <a:pt x="389" y="126"/>
                        </a:lnTo>
                        <a:lnTo>
                          <a:pt x="389" y="156"/>
                        </a:lnTo>
                        <a:lnTo>
                          <a:pt x="389" y="272"/>
                        </a:lnTo>
                        <a:lnTo>
                          <a:pt x="379" y="302"/>
                        </a:lnTo>
                        <a:lnTo>
                          <a:pt x="370" y="331"/>
                        </a:lnTo>
                        <a:lnTo>
                          <a:pt x="360" y="341"/>
                        </a:lnTo>
                        <a:lnTo>
                          <a:pt x="350" y="341"/>
                        </a:lnTo>
                        <a:lnTo>
                          <a:pt x="321" y="341"/>
                        </a:lnTo>
                        <a:lnTo>
                          <a:pt x="311" y="341"/>
                        </a:lnTo>
                        <a:lnTo>
                          <a:pt x="292" y="331"/>
                        </a:lnTo>
                        <a:lnTo>
                          <a:pt x="253" y="331"/>
                        </a:lnTo>
                        <a:lnTo>
                          <a:pt x="233" y="341"/>
                        </a:lnTo>
                        <a:lnTo>
                          <a:pt x="204" y="341"/>
                        </a:lnTo>
                        <a:lnTo>
                          <a:pt x="195" y="331"/>
                        </a:lnTo>
                        <a:lnTo>
                          <a:pt x="146" y="331"/>
                        </a:lnTo>
                        <a:lnTo>
                          <a:pt x="126" y="331"/>
                        </a:lnTo>
                        <a:lnTo>
                          <a:pt x="97" y="331"/>
                        </a:lnTo>
                        <a:lnTo>
                          <a:pt x="88" y="321"/>
                        </a:lnTo>
                        <a:lnTo>
                          <a:pt x="39" y="321"/>
                        </a:lnTo>
                        <a:lnTo>
                          <a:pt x="19" y="321"/>
                        </a:lnTo>
                        <a:lnTo>
                          <a:pt x="19" y="321"/>
                        </a:lnTo>
                        <a:lnTo>
                          <a:pt x="19" y="311"/>
                        </a:lnTo>
                        <a:lnTo>
                          <a:pt x="10" y="292"/>
                        </a:lnTo>
                        <a:lnTo>
                          <a:pt x="0" y="272"/>
                        </a:lnTo>
                        <a:lnTo>
                          <a:pt x="0" y="253"/>
                        </a:lnTo>
                        <a:lnTo>
                          <a:pt x="0" y="18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8" y="48"/>
                        </a:lnTo>
                        <a:lnTo>
                          <a:pt x="88" y="48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6" y="68"/>
                        </a:lnTo>
                        <a:lnTo>
                          <a:pt x="165" y="78"/>
                        </a:lnTo>
                        <a:lnTo>
                          <a:pt x="175" y="87"/>
                        </a:lnTo>
                        <a:lnTo>
                          <a:pt x="175" y="78"/>
                        </a:lnTo>
                        <a:lnTo>
                          <a:pt x="185" y="78"/>
                        </a:lnTo>
                        <a:lnTo>
                          <a:pt x="185" y="68"/>
                        </a:lnTo>
                        <a:lnTo>
                          <a:pt x="17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48"/>
                        </a:lnTo>
                        <a:lnTo>
                          <a:pt x="126" y="39"/>
                        </a:lnTo>
                        <a:lnTo>
                          <a:pt x="117" y="39"/>
                        </a:lnTo>
                        <a:lnTo>
                          <a:pt x="117" y="39"/>
                        </a:ln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75" y="0"/>
                        </a:lnTo>
                        <a:lnTo>
                          <a:pt x="195" y="10"/>
                        </a:lnTo>
                        <a:lnTo>
                          <a:pt x="224" y="10"/>
                        </a:lnTo>
                        <a:lnTo>
                          <a:pt x="243" y="10"/>
                        </a:lnTo>
                        <a:lnTo>
                          <a:pt x="263" y="10"/>
                        </a:lnTo>
                        <a:lnTo>
                          <a:pt x="272" y="19"/>
                        </a:lnTo>
                        <a:lnTo>
                          <a:pt x="292" y="1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31" y="48"/>
                        </a:lnTo>
                        <a:lnTo>
                          <a:pt x="350" y="48"/>
                        </a:lnTo>
                        <a:lnTo>
                          <a:pt x="360" y="58"/>
                        </a:lnTo>
                        <a:lnTo>
                          <a:pt x="370" y="78"/>
                        </a:lnTo>
                        <a:lnTo>
                          <a:pt x="379" y="87"/>
                        </a:lnTo>
                        <a:lnTo>
                          <a:pt x="389" y="97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4021200" y="2709360"/>
                    <a:ext cx="17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4">
                        <a:moveTo>
                          <a:pt x="0" y="234"/>
                        </a:moveTo>
                        <a:lnTo>
                          <a:pt x="9" y="234"/>
                        </a:lnTo>
                        <a:lnTo>
                          <a:pt x="19" y="205"/>
                        </a:lnTo>
                        <a:lnTo>
                          <a:pt x="19" y="175"/>
                        </a:lnTo>
                        <a:lnTo>
                          <a:pt x="19" y="146"/>
                        </a:lnTo>
                        <a:lnTo>
                          <a:pt x="19" y="127"/>
                        </a:lnTo>
                        <a:lnTo>
                          <a:pt x="29" y="8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88"/>
                        </a:lnTo>
                        <a:lnTo>
                          <a:pt x="9" y="127"/>
                        </a:lnTo>
                        <a:lnTo>
                          <a:pt x="9" y="175"/>
                        </a:lnTo>
                        <a:lnTo>
                          <a:pt x="0" y="205"/>
                        </a:lnTo>
                        <a:lnTo>
                          <a:pt x="0" y="234"/>
                        </a:lnTo>
                        <a:lnTo>
                          <a:pt x="0" y="224"/>
                        </a:lnTo>
                        <a:lnTo>
                          <a:pt x="0" y="234"/>
                        </a:lnTo>
                        <a:lnTo>
                          <a:pt x="9" y="234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954960" y="28479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20"/>
                        </a:moveTo>
                        <a:lnTo>
                          <a:pt x="2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87" y="29"/>
                        </a:lnTo>
                        <a:lnTo>
                          <a:pt x="97" y="2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97" y="10"/>
                        </a:lnTo>
                        <a:lnTo>
                          <a:pt x="87" y="20"/>
                        </a:lnTo>
                        <a:lnTo>
                          <a:pt x="58" y="20"/>
                        </a:lnTo>
                        <a:lnTo>
                          <a:pt x="48" y="1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804480" y="2847960"/>
                    <a:ext cx="150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0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69" y="10"/>
                        </a:lnTo>
                        <a:lnTo>
                          <a:pt x="78" y="10"/>
                        </a:lnTo>
                        <a:lnTo>
                          <a:pt x="107" y="10"/>
                        </a:lnTo>
                        <a:lnTo>
                          <a:pt x="127" y="20"/>
                        </a:lnTo>
                        <a:lnTo>
                          <a:pt x="176" y="20"/>
                        </a:lnTo>
                        <a:lnTo>
                          <a:pt x="185" y="20"/>
                        </a:lnTo>
                        <a:lnTo>
                          <a:pt x="214" y="20"/>
                        </a:lnTo>
                        <a:lnTo>
                          <a:pt x="234" y="20"/>
                        </a:lnTo>
                        <a:lnTo>
                          <a:pt x="244" y="20"/>
                        </a:lnTo>
                        <a:lnTo>
                          <a:pt x="244" y="10"/>
                        </a:lnTo>
                        <a:lnTo>
                          <a:pt x="12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804480" y="2836440"/>
                    <a:ext cx="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786840" y="2739600"/>
                    <a:ext cx="1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5">
                        <a:moveTo>
                          <a:pt x="0" y="0"/>
                        </a:move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29" y="156"/>
                        </a:lnTo>
                        <a:lnTo>
                          <a:pt x="20" y="146"/>
                        </a:lnTo>
                        <a:lnTo>
                          <a:pt x="20" y="126"/>
                        </a:lnTo>
                        <a:lnTo>
                          <a:pt x="10" y="10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786840" y="266724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19"/>
                        </a:lnTo>
                        <a:lnTo>
                          <a:pt x="0" y="39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804480" y="266724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46" y="58"/>
                        </a:moveTo>
                        <a:lnTo>
                          <a:pt x="156" y="58"/>
                        </a:lnTo>
                        <a:lnTo>
                          <a:pt x="137" y="39"/>
                        </a:lnTo>
                        <a:lnTo>
                          <a:pt x="137" y="29"/>
                        </a:lnTo>
                        <a:lnTo>
                          <a:pt x="127" y="29"/>
                        </a:lnTo>
                        <a:lnTo>
                          <a:pt x="107" y="19"/>
                        </a:lnTo>
                        <a:lnTo>
                          <a:pt x="9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19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2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37" y="49"/>
                        </a:lnTo>
                        <a:lnTo>
                          <a:pt x="146" y="49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894480" y="2685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810600" y="265572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38"/>
                        </a:lnTo>
                        <a:lnTo>
                          <a:pt x="107" y="38"/>
                        </a:lnTo>
                        <a:lnTo>
                          <a:pt x="117" y="38"/>
                        </a:lnTo>
                        <a:lnTo>
                          <a:pt x="127" y="48"/>
                        </a:lnTo>
                        <a:lnTo>
                          <a:pt x="127" y="48"/>
                        </a:lnTo>
                        <a:lnTo>
                          <a:pt x="136" y="48"/>
                        </a:lnTo>
                        <a:lnTo>
                          <a:pt x="146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38"/>
                        </a:lnTo>
                        <a:lnTo>
                          <a:pt x="127" y="38"/>
                        </a:lnTo>
                        <a:lnTo>
                          <a:pt x="117" y="38"/>
                        </a:lnTo>
                        <a:lnTo>
                          <a:pt x="117" y="29"/>
                        </a:lnTo>
                        <a:lnTo>
                          <a:pt x="107" y="2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59" y="1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817080" y="2649600"/>
                    <a:ext cx="72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9">
                        <a:moveTo>
                          <a:pt x="117" y="0"/>
                        </a:move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117" y="1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889080" y="2649600"/>
                    <a:ext cx="149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07">
                        <a:moveTo>
                          <a:pt x="243" y="97"/>
                        </a:moveTo>
                        <a:lnTo>
                          <a:pt x="233" y="87"/>
                        </a:lnTo>
                        <a:lnTo>
                          <a:pt x="194" y="48"/>
                        </a:lnTo>
                        <a:lnTo>
                          <a:pt x="184" y="39"/>
                        </a:lnTo>
                        <a:lnTo>
                          <a:pt x="165" y="29"/>
                        </a:lnTo>
                        <a:lnTo>
                          <a:pt x="155" y="29"/>
                        </a:lnTo>
                        <a:lnTo>
                          <a:pt x="136" y="19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87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87" y="1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65" y="39"/>
                        </a:lnTo>
                        <a:lnTo>
                          <a:pt x="175" y="48"/>
                        </a:lnTo>
                        <a:lnTo>
                          <a:pt x="194" y="58"/>
                        </a:lnTo>
                        <a:lnTo>
                          <a:pt x="223" y="87"/>
                        </a:lnTo>
                        <a:lnTo>
                          <a:pt x="233" y="107"/>
                        </a:lnTo>
                        <a:lnTo>
                          <a:pt x="233" y="97"/>
                        </a:lnTo>
                        <a:lnTo>
                          <a:pt x="243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022360" y="2649600"/>
                    <a:ext cx="263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321">
                        <a:moveTo>
                          <a:pt x="369" y="204"/>
                        </a:moveTo>
                        <a:lnTo>
                          <a:pt x="360" y="204"/>
                        </a:lnTo>
                        <a:lnTo>
                          <a:pt x="350" y="214"/>
                        </a:lnTo>
                        <a:lnTo>
                          <a:pt x="350" y="214"/>
                        </a:lnTo>
                        <a:lnTo>
                          <a:pt x="340" y="214"/>
                        </a:lnTo>
                        <a:lnTo>
                          <a:pt x="330" y="224"/>
                        </a:lnTo>
                        <a:lnTo>
                          <a:pt x="321" y="224"/>
                        </a:lnTo>
                        <a:lnTo>
                          <a:pt x="311" y="224"/>
                        </a:lnTo>
                        <a:lnTo>
                          <a:pt x="301" y="224"/>
                        </a:lnTo>
                        <a:lnTo>
                          <a:pt x="292" y="224"/>
                        </a:lnTo>
                        <a:lnTo>
                          <a:pt x="262" y="224"/>
                        </a:lnTo>
                        <a:lnTo>
                          <a:pt x="253" y="233"/>
                        </a:lnTo>
                        <a:lnTo>
                          <a:pt x="233" y="233"/>
                        </a:lnTo>
                        <a:lnTo>
                          <a:pt x="233" y="224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33" y="204"/>
                        </a:lnTo>
                        <a:lnTo>
                          <a:pt x="233" y="204"/>
                        </a:lnTo>
                        <a:lnTo>
                          <a:pt x="223" y="214"/>
                        </a:lnTo>
                        <a:lnTo>
                          <a:pt x="223" y="224"/>
                        </a:lnTo>
                        <a:lnTo>
                          <a:pt x="223" y="224"/>
                        </a:lnTo>
                        <a:lnTo>
                          <a:pt x="214" y="233"/>
                        </a:lnTo>
                        <a:lnTo>
                          <a:pt x="214" y="243"/>
                        </a:lnTo>
                        <a:lnTo>
                          <a:pt x="214" y="253"/>
                        </a:lnTo>
                        <a:lnTo>
                          <a:pt x="204" y="263"/>
                        </a:lnTo>
                        <a:lnTo>
                          <a:pt x="204" y="272"/>
                        </a:lnTo>
                        <a:lnTo>
                          <a:pt x="204" y="282"/>
                        </a:lnTo>
                        <a:lnTo>
                          <a:pt x="194" y="292"/>
                        </a:lnTo>
                        <a:lnTo>
                          <a:pt x="194" y="302"/>
                        </a:lnTo>
                        <a:lnTo>
                          <a:pt x="185" y="311"/>
                        </a:lnTo>
                        <a:lnTo>
                          <a:pt x="185" y="321"/>
                        </a:lnTo>
                        <a:lnTo>
                          <a:pt x="0" y="321"/>
                        </a:lnTo>
                        <a:lnTo>
                          <a:pt x="0" y="311"/>
                        </a:lnTo>
                        <a:lnTo>
                          <a:pt x="0" y="302"/>
                        </a:lnTo>
                        <a:lnTo>
                          <a:pt x="0" y="292"/>
                        </a:lnTo>
                        <a:lnTo>
                          <a:pt x="9" y="282"/>
                        </a:lnTo>
                        <a:lnTo>
                          <a:pt x="19" y="253"/>
                        </a:lnTo>
                        <a:lnTo>
                          <a:pt x="39" y="224"/>
                        </a:lnTo>
                        <a:lnTo>
                          <a:pt x="48" y="185"/>
                        </a:lnTo>
                        <a:lnTo>
                          <a:pt x="58" y="156"/>
                        </a:lnTo>
                        <a:lnTo>
                          <a:pt x="68" y="126"/>
                        </a:lnTo>
                        <a:lnTo>
                          <a:pt x="87" y="87"/>
                        </a:lnTo>
                        <a:lnTo>
                          <a:pt x="97" y="58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5" y="48"/>
                        </a:lnTo>
                        <a:lnTo>
                          <a:pt x="155" y="78"/>
                        </a:lnTo>
                        <a:lnTo>
                          <a:pt x="146" y="87"/>
                        </a:lnTo>
                        <a:lnTo>
                          <a:pt x="146" y="107"/>
                        </a:lnTo>
                        <a:lnTo>
                          <a:pt x="136" y="126"/>
                        </a:lnTo>
                        <a:lnTo>
                          <a:pt x="136" y="136"/>
                        </a:lnTo>
                        <a:lnTo>
                          <a:pt x="165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194" y="175"/>
                        </a:lnTo>
                        <a:lnTo>
                          <a:pt x="214" y="185"/>
                        </a:lnTo>
                        <a:lnTo>
                          <a:pt x="223" y="185"/>
                        </a:lnTo>
                        <a:lnTo>
                          <a:pt x="233" y="185"/>
                        </a:lnTo>
                        <a:lnTo>
                          <a:pt x="262" y="185"/>
                        </a:lnTo>
                        <a:lnTo>
                          <a:pt x="272" y="175"/>
                        </a:lnTo>
                        <a:lnTo>
                          <a:pt x="292" y="175"/>
                        </a:lnTo>
                        <a:lnTo>
                          <a:pt x="301" y="175"/>
                        </a:lnTo>
                        <a:lnTo>
                          <a:pt x="311" y="175"/>
                        </a:lnTo>
                        <a:lnTo>
                          <a:pt x="340" y="146"/>
                        </a:lnTo>
                        <a:lnTo>
                          <a:pt x="350" y="136"/>
                        </a:lnTo>
                        <a:lnTo>
                          <a:pt x="360" y="117"/>
                        </a:lnTo>
                        <a:lnTo>
                          <a:pt x="369" y="97"/>
                        </a:lnTo>
                        <a:lnTo>
                          <a:pt x="369" y="78"/>
                        </a:lnTo>
                        <a:lnTo>
                          <a:pt x="379" y="58"/>
                        </a:lnTo>
                        <a:lnTo>
                          <a:pt x="389" y="39"/>
                        </a:lnTo>
                        <a:lnTo>
                          <a:pt x="389" y="19"/>
                        </a:lnTo>
                        <a:lnTo>
                          <a:pt x="418" y="0"/>
                        </a:lnTo>
                        <a:lnTo>
                          <a:pt x="418" y="29"/>
                        </a:lnTo>
                        <a:lnTo>
                          <a:pt x="428" y="58"/>
                        </a:lnTo>
                        <a:lnTo>
                          <a:pt x="428" y="117"/>
                        </a:lnTo>
                        <a:lnTo>
                          <a:pt x="418" y="146"/>
                        </a:lnTo>
                        <a:lnTo>
                          <a:pt x="408" y="175"/>
                        </a:lnTo>
                        <a:lnTo>
                          <a:pt x="389" y="185"/>
                        </a:lnTo>
                        <a:lnTo>
                          <a:pt x="369" y="20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165640" y="2775600"/>
                    <a:ext cx="83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59" y="29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17" y="10"/>
                        </a:lnTo>
                        <a:lnTo>
                          <a:pt x="127" y="1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165640" y="27756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48000" y="27756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130000" y="2799720"/>
                    <a:ext cx="23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0" y="59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5015880" y="2841840"/>
                    <a:ext cx="11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5" y="10"/>
                        </a:lnTo>
                        <a:lnTo>
                          <a:pt x="195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015880" y="282384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022360" y="2667240"/>
                    <a:ext cx="658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3">
                        <a:moveTo>
                          <a:pt x="107" y="0"/>
                        </a:moveTo>
                        <a:lnTo>
                          <a:pt x="87" y="29"/>
                        </a:lnTo>
                        <a:lnTo>
                          <a:pt x="78" y="58"/>
                        </a:lnTo>
                        <a:lnTo>
                          <a:pt x="68" y="97"/>
                        </a:lnTo>
                        <a:lnTo>
                          <a:pt x="48" y="127"/>
                        </a:lnTo>
                        <a:lnTo>
                          <a:pt x="39" y="156"/>
                        </a:lnTo>
                        <a:lnTo>
                          <a:pt x="29" y="195"/>
                        </a:lnTo>
                        <a:lnTo>
                          <a:pt x="19" y="224"/>
                        </a:lnTo>
                        <a:lnTo>
                          <a:pt x="0" y="253"/>
                        </a:lnTo>
                        <a:lnTo>
                          <a:pt x="9" y="253"/>
                        </a:lnTo>
                        <a:lnTo>
                          <a:pt x="29" y="224"/>
                        </a:lnTo>
                        <a:lnTo>
                          <a:pt x="39" y="195"/>
                        </a:lnTo>
                        <a:lnTo>
                          <a:pt x="48" y="156"/>
                        </a:lnTo>
                        <a:lnTo>
                          <a:pt x="58" y="127"/>
                        </a:lnTo>
                        <a:lnTo>
                          <a:pt x="78" y="97"/>
                        </a:lnTo>
                        <a:lnTo>
                          <a:pt x="87" y="68"/>
                        </a:lnTo>
                        <a:lnTo>
                          <a:pt x="97" y="29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5088240" y="26611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5099760" y="266112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0" y="117"/>
                        </a:moveTo>
                        <a:lnTo>
                          <a:pt x="20" y="11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106240" y="2733480"/>
                    <a:ext cx="53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9">
                        <a:moveTo>
                          <a:pt x="87" y="49"/>
                        </a:moveTo>
                        <a:lnTo>
                          <a:pt x="78" y="39"/>
                        </a:lnTo>
                        <a:lnTo>
                          <a:pt x="68" y="39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4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87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5159520" y="2746080"/>
                    <a:ext cx="65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98" y="0"/>
                        </a:moveTo>
                        <a:lnTo>
                          <a:pt x="88" y="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69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107" y="9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5220000" y="2655720"/>
                    <a:ext cx="41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5">
                        <a:moveTo>
                          <a:pt x="68" y="0"/>
                        </a:moveTo>
                        <a:lnTo>
                          <a:pt x="68" y="9"/>
                        </a:lnTo>
                        <a:lnTo>
                          <a:pt x="58" y="29"/>
                        </a:lnTo>
                        <a:lnTo>
                          <a:pt x="58" y="48"/>
                        </a:lnTo>
                        <a:lnTo>
                          <a:pt x="48" y="68"/>
                        </a:lnTo>
                        <a:lnTo>
                          <a:pt x="39" y="77"/>
                        </a:lnTo>
                        <a:lnTo>
                          <a:pt x="29" y="97"/>
                        </a:lnTo>
                        <a:lnTo>
                          <a:pt x="29" y="116"/>
                        </a:lnTo>
                        <a:lnTo>
                          <a:pt x="9" y="136"/>
                        </a:lnTo>
                        <a:lnTo>
                          <a:pt x="0" y="146"/>
                        </a:lnTo>
                        <a:lnTo>
                          <a:pt x="9" y="155"/>
                        </a:lnTo>
                        <a:lnTo>
                          <a:pt x="19" y="136"/>
                        </a:lnTo>
                        <a:lnTo>
                          <a:pt x="29" y="126"/>
                        </a:lnTo>
                        <a:lnTo>
                          <a:pt x="39" y="107"/>
                        </a:lnTo>
                        <a:lnTo>
                          <a:pt x="48" y="87"/>
                        </a:lnTo>
                        <a:lnTo>
                          <a:pt x="58" y="68"/>
                        </a:lnTo>
                        <a:lnTo>
                          <a:pt x="68" y="48"/>
                        </a:lnTo>
                        <a:lnTo>
                          <a:pt x="68" y="2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262120" y="26496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5249520" y="2649600"/>
                    <a:ext cx="41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0" y="204"/>
                        </a:moveTo>
                        <a:lnTo>
                          <a:pt x="29" y="195"/>
                        </a:lnTo>
                        <a:lnTo>
                          <a:pt x="49" y="175"/>
                        </a:lnTo>
                        <a:lnTo>
                          <a:pt x="59" y="146"/>
                        </a:lnTo>
                        <a:lnTo>
                          <a:pt x="59" y="117"/>
                        </a:lnTo>
                        <a:lnTo>
                          <a:pt x="68" y="87"/>
                        </a:lnTo>
                        <a:lnTo>
                          <a:pt x="59" y="58"/>
                        </a:lnTo>
                        <a:lnTo>
                          <a:pt x="59" y="2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29"/>
                        </a:lnTo>
                        <a:lnTo>
                          <a:pt x="49" y="146"/>
                        </a:lnTo>
                        <a:lnTo>
                          <a:pt x="39" y="165"/>
                        </a:lnTo>
                        <a:lnTo>
                          <a:pt x="20" y="185"/>
                        </a:lnTo>
                        <a:lnTo>
                          <a:pt x="0" y="204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529080" y="2673720"/>
                    <a:ext cx="1620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92">
                        <a:moveTo>
                          <a:pt x="127" y="0"/>
                        </a:moveTo>
                        <a:lnTo>
                          <a:pt x="127" y="9"/>
                        </a:lnTo>
                        <a:lnTo>
                          <a:pt x="127" y="39"/>
                        </a:lnTo>
                        <a:lnTo>
                          <a:pt x="127" y="48"/>
                        </a:lnTo>
                        <a:lnTo>
                          <a:pt x="127" y="78"/>
                        </a:lnTo>
                        <a:lnTo>
                          <a:pt x="136" y="97"/>
                        </a:lnTo>
                        <a:lnTo>
                          <a:pt x="146" y="117"/>
                        </a:lnTo>
                        <a:lnTo>
                          <a:pt x="146" y="126"/>
                        </a:lnTo>
                        <a:lnTo>
                          <a:pt x="165" y="136"/>
                        </a:lnTo>
                        <a:lnTo>
                          <a:pt x="185" y="136"/>
                        </a:lnTo>
                        <a:lnTo>
                          <a:pt x="185" y="156"/>
                        </a:lnTo>
                        <a:lnTo>
                          <a:pt x="185" y="165"/>
                        </a:lnTo>
                        <a:lnTo>
                          <a:pt x="195" y="185"/>
                        </a:lnTo>
                        <a:lnTo>
                          <a:pt x="204" y="185"/>
                        </a:lnTo>
                        <a:lnTo>
                          <a:pt x="214" y="204"/>
                        </a:lnTo>
                        <a:lnTo>
                          <a:pt x="214" y="214"/>
                        </a:lnTo>
                        <a:lnTo>
                          <a:pt x="214" y="22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14" y="263"/>
                        </a:lnTo>
                        <a:lnTo>
                          <a:pt x="214" y="272"/>
                        </a:lnTo>
                        <a:lnTo>
                          <a:pt x="224" y="272"/>
                        </a:lnTo>
                        <a:lnTo>
                          <a:pt x="224" y="272"/>
                        </a:lnTo>
                        <a:lnTo>
                          <a:pt x="253" y="272"/>
                        </a:lnTo>
                        <a:lnTo>
                          <a:pt x="253" y="272"/>
                        </a:lnTo>
                        <a:lnTo>
                          <a:pt x="263" y="272"/>
                        </a:lnTo>
                        <a:lnTo>
                          <a:pt x="263" y="263"/>
                        </a:lnTo>
                        <a:lnTo>
                          <a:pt x="263" y="272"/>
                        </a:lnTo>
                        <a:lnTo>
                          <a:pt x="10" y="272"/>
                        </a:lnTo>
                        <a:lnTo>
                          <a:pt x="0" y="292"/>
                        </a:lnTo>
                        <a:lnTo>
                          <a:pt x="0" y="263"/>
                        </a:lnTo>
                        <a:lnTo>
                          <a:pt x="0" y="233"/>
                        </a:lnTo>
                        <a:lnTo>
                          <a:pt x="10" y="214"/>
                        </a:lnTo>
                        <a:lnTo>
                          <a:pt x="20" y="185"/>
                        </a:lnTo>
                        <a:lnTo>
                          <a:pt x="29" y="175"/>
                        </a:lnTo>
                        <a:lnTo>
                          <a:pt x="39" y="175"/>
                        </a:lnTo>
                        <a:lnTo>
                          <a:pt x="58" y="165"/>
                        </a:lnTo>
                        <a:lnTo>
                          <a:pt x="68" y="156"/>
                        </a:lnTo>
                        <a:lnTo>
                          <a:pt x="78" y="146"/>
                        </a:lnTo>
                        <a:lnTo>
                          <a:pt x="97" y="136"/>
                        </a:lnTo>
                        <a:lnTo>
                          <a:pt x="107" y="117"/>
                        </a:lnTo>
                        <a:lnTo>
                          <a:pt x="107" y="107"/>
                        </a:lnTo>
                        <a:lnTo>
                          <a:pt x="97" y="97"/>
                        </a:lnTo>
                        <a:lnTo>
                          <a:pt x="97" y="7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8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78" y="9"/>
                        </a:lnTo>
                        <a:lnTo>
                          <a:pt x="88" y="9"/>
                        </a:lnTo>
                        <a:lnTo>
                          <a:pt x="97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601080" y="2673720"/>
                    <a:ext cx="29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48" y="136"/>
                        </a:moveTo>
                        <a:lnTo>
                          <a:pt x="39" y="126"/>
                        </a:lnTo>
                        <a:lnTo>
                          <a:pt x="29" y="107"/>
                        </a:lnTo>
                        <a:lnTo>
                          <a:pt x="19" y="97"/>
                        </a:lnTo>
                        <a:lnTo>
                          <a:pt x="19" y="78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29" y="136"/>
                        </a:lnTo>
                        <a:lnTo>
                          <a:pt x="48" y="146"/>
                        </a:lnTo>
                        <a:lnTo>
                          <a:pt x="48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630600" y="27576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636720" y="275760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7"/>
                        </a:moveTo>
                        <a:lnTo>
                          <a:pt x="39" y="107"/>
                        </a:lnTo>
                        <a:lnTo>
                          <a:pt x="49" y="8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88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3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654720" y="28238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666960" y="283644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421080" y="2666520"/>
                  <a:ext cx="1847160" cy="793080"/>
                  <a:chOff x="3421080" y="2666520"/>
                  <a:chExt cx="1847160" cy="7930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691080" y="283500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19"/>
                        </a:move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535200" y="284040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0">
                        <a:moveTo>
                          <a:pt x="0" y="10"/>
                        </a:moveTo>
                        <a:lnTo>
                          <a:pt x="253" y="10"/>
                        </a:lnTo>
                        <a:lnTo>
                          <a:pt x="253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522600" y="284040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522600" y="2786760"/>
                    <a:ext cx="18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535200" y="2744640"/>
                    <a:ext cx="594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87" y="0"/>
                        </a:moveTo>
                        <a:lnTo>
                          <a:pt x="87" y="1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570840" y="2684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29" y="98"/>
                        </a:lnTo>
                        <a:lnTo>
                          <a:pt x="39" y="98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570840" y="2666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1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704840" y="267264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9"/>
                        </a:move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59" y="0"/>
                        </a:lnTo>
                        <a:lnTo>
                          <a:pt x="68" y="0"/>
                        </a:lnTo>
                        <a:lnTo>
                          <a:pt x="78" y="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704840" y="2678040"/>
                    <a:ext cx="54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0">
                        <a:moveTo>
                          <a:pt x="0" y="30"/>
                        </a:move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99080" y="266652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704840" y="2666520"/>
                    <a:ext cx="54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">
                        <a:moveTo>
                          <a:pt x="88" y="19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59" y="10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427200" y="2672640"/>
                    <a:ext cx="155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65">
                        <a:moveTo>
                          <a:pt x="253" y="107"/>
                        </a:moveTo>
                        <a:lnTo>
                          <a:pt x="243" y="117"/>
                        </a:lnTo>
                        <a:lnTo>
                          <a:pt x="243" y="126"/>
                        </a:lnTo>
                        <a:lnTo>
                          <a:pt x="233" y="136"/>
                        </a:lnTo>
                        <a:lnTo>
                          <a:pt x="223" y="136"/>
                        </a:lnTo>
                        <a:lnTo>
                          <a:pt x="214" y="146"/>
                        </a:lnTo>
                        <a:lnTo>
                          <a:pt x="204" y="146"/>
                        </a:lnTo>
                        <a:lnTo>
                          <a:pt x="194" y="156"/>
                        </a:lnTo>
                        <a:lnTo>
                          <a:pt x="185" y="165"/>
                        </a:lnTo>
                        <a:lnTo>
                          <a:pt x="175" y="165"/>
                        </a:lnTo>
                        <a:lnTo>
                          <a:pt x="165" y="165"/>
                        </a:lnTo>
                        <a:lnTo>
                          <a:pt x="107" y="165"/>
                        </a:lnTo>
                        <a:lnTo>
                          <a:pt x="97" y="165"/>
                        </a:lnTo>
                        <a:lnTo>
                          <a:pt x="87" y="165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46"/>
                        </a:lnTo>
                        <a:lnTo>
                          <a:pt x="58" y="136"/>
                        </a:lnTo>
                        <a:lnTo>
                          <a:pt x="48" y="136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48" y="48"/>
                        </a:lnTo>
                        <a:lnTo>
                          <a:pt x="48" y="48"/>
                        </a:lnTo>
                        <a:lnTo>
                          <a:pt x="58" y="3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1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36" y="29"/>
                        </a:lnTo>
                        <a:lnTo>
                          <a:pt x="14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75" y="9"/>
                        </a:lnTo>
                        <a:lnTo>
                          <a:pt x="185" y="0"/>
                        </a:lnTo>
                        <a:lnTo>
                          <a:pt x="185" y="0"/>
                        </a:lnTo>
                        <a:lnTo>
                          <a:pt x="204" y="9"/>
                        </a:lnTo>
                        <a:lnTo>
                          <a:pt x="214" y="19"/>
                        </a:lnTo>
                        <a:lnTo>
                          <a:pt x="223" y="39"/>
                        </a:lnTo>
                        <a:lnTo>
                          <a:pt x="223" y="48"/>
                        </a:lnTo>
                        <a:lnTo>
                          <a:pt x="233" y="68"/>
                        </a:lnTo>
                        <a:lnTo>
                          <a:pt x="243" y="78"/>
                        </a:lnTo>
                        <a:lnTo>
                          <a:pt x="243" y="97"/>
                        </a:lnTo>
                        <a:lnTo>
                          <a:pt x="253" y="10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541320" y="273852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19" y="49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456720" y="27565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9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78" y="3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117" y="39"/>
                        </a:lnTo>
                        <a:lnTo>
                          <a:pt x="127" y="29"/>
                        </a:lnTo>
                        <a:lnTo>
                          <a:pt x="127" y="29"/>
                        </a:lnTo>
                        <a:lnTo>
                          <a:pt x="137" y="29"/>
                        </a:lnTo>
                        <a:lnTo>
                          <a:pt x="137" y="20"/>
                        </a:lnTo>
                        <a:lnTo>
                          <a:pt x="127" y="20"/>
                        </a:lnTo>
                        <a:lnTo>
                          <a:pt x="127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421080" y="270828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27200" y="269676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58" y="0"/>
                        </a:moveTo>
                        <a:lnTo>
                          <a:pt x="4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462840" y="267804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468960" y="2672640"/>
                    <a:ext cx="77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8">
                        <a:moveTo>
                          <a:pt x="126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9"/>
                        </a:lnTo>
                        <a:lnTo>
                          <a:pt x="87" y="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29" y="4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1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26" y="9"/>
                        </a:lnTo>
                        <a:lnTo>
                          <a:pt x="117" y="9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541320" y="26726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68" y="117"/>
                        </a:moveTo>
                        <a:lnTo>
                          <a:pt x="68" y="107"/>
                        </a:lnTo>
                        <a:lnTo>
                          <a:pt x="68" y="97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48"/>
                        </a:lnTo>
                        <a:lnTo>
                          <a:pt x="38" y="39"/>
                        </a:lnTo>
                        <a:lnTo>
                          <a:pt x="2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8" y="48"/>
                        </a:lnTo>
                        <a:lnTo>
                          <a:pt x="48" y="68"/>
                        </a:lnTo>
                        <a:lnTo>
                          <a:pt x="48" y="78"/>
                        </a:lnTo>
                        <a:lnTo>
                          <a:pt x="58" y="9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939200" y="2672640"/>
                    <a:ext cx="137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07">
                        <a:moveTo>
                          <a:pt x="175" y="97"/>
                        </a:moveTo>
                        <a:lnTo>
                          <a:pt x="165" y="97"/>
                        </a:lnTo>
                        <a:lnTo>
                          <a:pt x="145" y="97"/>
                        </a:lnTo>
                        <a:lnTo>
                          <a:pt x="136" y="87"/>
                        </a:lnTo>
                        <a:lnTo>
                          <a:pt x="126" y="78"/>
                        </a:lnTo>
                        <a:lnTo>
                          <a:pt x="116" y="6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9" y="107"/>
                        </a:lnTo>
                        <a:lnTo>
                          <a:pt x="9" y="9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9" y="58"/>
                        </a:lnTo>
                        <a:lnTo>
                          <a:pt x="1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77" y="48"/>
                        </a:lnTo>
                        <a:lnTo>
                          <a:pt x="87" y="39"/>
                        </a:lnTo>
                        <a:lnTo>
                          <a:pt x="107" y="39"/>
                        </a:lnTo>
                        <a:lnTo>
                          <a:pt x="11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19"/>
                        </a:lnTo>
                        <a:lnTo>
                          <a:pt x="17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14" y="9"/>
                        </a:lnTo>
                        <a:lnTo>
                          <a:pt x="223" y="0"/>
                        </a:lnTo>
                        <a:lnTo>
                          <a:pt x="175" y="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980960" y="2696760"/>
                    <a:ext cx="65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8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58"/>
                        </a:lnTo>
                        <a:lnTo>
                          <a:pt x="97" y="58"/>
                        </a:lnTo>
                        <a:lnTo>
                          <a:pt x="107" y="6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939200" y="2702160"/>
                    <a:ext cx="475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9">
                        <a:moveTo>
                          <a:pt x="0" y="59"/>
                        </a:moveTo>
                        <a:lnTo>
                          <a:pt x="9" y="59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0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939200" y="2702160"/>
                    <a:ext cx="5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9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939200" y="2666520"/>
                    <a:ext cx="143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68">
                        <a:moveTo>
                          <a:pt x="223" y="10"/>
                        </a:moveTo>
                        <a:lnTo>
                          <a:pt x="223" y="10"/>
                        </a:lnTo>
                        <a:lnTo>
                          <a:pt x="204" y="10"/>
                        </a:lnTo>
                        <a:lnTo>
                          <a:pt x="194" y="19"/>
                        </a:lnTo>
                        <a:lnTo>
                          <a:pt x="184" y="19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45" y="29"/>
                        </a:lnTo>
                        <a:lnTo>
                          <a:pt x="136" y="39"/>
                        </a:lnTo>
                        <a:lnTo>
                          <a:pt x="116" y="39"/>
                        </a:lnTo>
                        <a:lnTo>
                          <a:pt x="97" y="39"/>
                        </a:lnTo>
                        <a:lnTo>
                          <a:pt x="87" y="49"/>
                        </a:lnTo>
                        <a:lnTo>
                          <a:pt x="77" y="49"/>
                        </a:lnTo>
                        <a:lnTo>
                          <a:pt x="58" y="49"/>
                        </a:lnTo>
                        <a:lnTo>
                          <a:pt x="48" y="58"/>
                        </a:lnTo>
                        <a:lnTo>
                          <a:pt x="38" y="5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19" y="68"/>
                        </a:lnTo>
                        <a:lnTo>
                          <a:pt x="38" y="58"/>
                        </a:lnTo>
                        <a:lnTo>
                          <a:pt x="48" y="58"/>
                        </a:lnTo>
                        <a:lnTo>
                          <a:pt x="58" y="5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107" y="49"/>
                        </a:lnTo>
                        <a:lnTo>
                          <a:pt x="116" y="49"/>
                        </a:lnTo>
                        <a:lnTo>
                          <a:pt x="136" y="49"/>
                        </a:lnTo>
                        <a:lnTo>
                          <a:pt x="145" y="39"/>
                        </a:lnTo>
                        <a:lnTo>
                          <a:pt x="155" y="39"/>
                        </a:lnTo>
                        <a:lnTo>
                          <a:pt x="175" y="29"/>
                        </a:lnTo>
                        <a:lnTo>
                          <a:pt x="184" y="29"/>
                        </a:lnTo>
                        <a:lnTo>
                          <a:pt x="194" y="29"/>
                        </a:lnTo>
                        <a:lnTo>
                          <a:pt x="214" y="19"/>
                        </a:lnTo>
                        <a:lnTo>
                          <a:pt x="223" y="19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lnTo>
                          <a:pt x="233" y="0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47200" y="267264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618720" y="2672640"/>
                    <a:ext cx="54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7">
                        <a:moveTo>
                          <a:pt x="49" y="48"/>
                        </a:moveTo>
                        <a:lnTo>
                          <a:pt x="88" y="78"/>
                        </a:lnTo>
                        <a:lnTo>
                          <a:pt x="78" y="87"/>
                        </a:lnTo>
                        <a:lnTo>
                          <a:pt x="68" y="87"/>
                        </a:lnTo>
                        <a:lnTo>
                          <a:pt x="58" y="97"/>
                        </a:lnTo>
                        <a:lnTo>
                          <a:pt x="58" y="97"/>
                        </a:lnTo>
                        <a:lnTo>
                          <a:pt x="49" y="107"/>
                        </a:lnTo>
                        <a:lnTo>
                          <a:pt x="39" y="107"/>
                        </a:lnTo>
                        <a:lnTo>
                          <a:pt x="39" y="117"/>
                        </a:lnTo>
                        <a:lnTo>
                          <a:pt x="29" y="117"/>
                        </a:lnTo>
                        <a:lnTo>
                          <a:pt x="19" y="117"/>
                        </a:lnTo>
                        <a:lnTo>
                          <a:pt x="10" y="107"/>
                        </a:lnTo>
                        <a:lnTo>
                          <a:pt x="10" y="97"/>
                        </a:lnTo>
                        <a:lnTo>
                          <a:pt x="0" y="8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649320" y="2702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39"/>
                        </a:moveTo>
                        <a:lnTo>
                          <a:pt x="3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2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63672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0" y="48"/>
                        </a:moveTo>
                        <a:lnTo>
                          <a:pt x="0" y="48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612600" y="270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9" y="69"/>
                        </a:lnTo>
                        <a:lnTo>
                          <a:pt x="39" y="7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618720" y="267264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618720" y="267264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58" y="48"/>
                        </a:moveTo>
                        <a:lnTo>
                          <a:pt x="49" y="4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684960" y="2690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19"/>
                        </a:moveTo>
                        <a:lnTo>
                          <a:pt x="68" y="68"/>
                        </a:lnTo>
                        <a:lnTo>
                          <a:pt x="68" y="7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3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715200" y="270216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0" y="78"/>
                        </a:moveTo>
                        <a:lnTo>
                          <a:pt x="9" y="69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67884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684960" y="2684160"/>
                    <a:ext cx="41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68" y="10"/>
                        </a:move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720600" y="26902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925080" y="2702160"/>
                    <a:ext cx="9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">
                        <a:moveTo>
                          <a:pt x="156" y="0"/>
                        </a:moveTo>
                        <a:lnTo>
                          <a:pt x="156" y="0"/>
                        </a:lnTo>
                        <a:lnTo>
                          <a:pt x="156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26" y="10"/>
                        </a:lnTo>
                        <a:lnTo>
                          <a:pt x="117" y="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4021200" y="2702160"/>
                    <a:ext cx="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925080" y="2702160"/>
                    <a:ext cx="9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46" y="10"/>
                        </a:lnTo>
                        <a:lnTo>
                          <a:pt x="156" y="20"/>
                        </a:lnTo>
                        <a:lnTo>
                          <a:pt x="156" y="10"/>
                        </a:lnTo>
                        <a:lnTo>
                          <a:pt x="146" y="0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925080" y="26967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931200" y="2696760"/>
                    <a:ext cx="9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9">
                        <a:moveTo>
                          <a:pt x="155" y="9"/>
                        </a:move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746600" y="2702160"/>
                    <a:ext cx="2102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234">
                        <a:moveTo>
                          <a:pt x="302" y="10"/>
                        </a:moveTo>
                        <a:lnTo>
                          <a:pt x="302" y="39"/>
                        </a:lnTo>
                        <a:lnTo>
                          <a:pt x="312" y="69"/>
                        </a:lnTo>
                        <a:lnTo>
                          <a:pt x="312" y="98"/>
                        </a:lnTo>
                        <a:lnTo>
                          <a:pt x="312" y="127"/>
                        </a:lnTo>
                        <a:lnTo>
                          <a:pt x="321" y="156"/>
                        </a:lnTo>
                        <a:lnTo>
                          <a:pt x="331" y="176"/>
                        </a:lnTo>
                        <a:lnTo>
                          <a:pt x="341" y="205"/>
                        </a:lnTo>
                        <a:lnTo>
                          <a:pt x="341" y="234"/>
                        </a:lnTo>
                        <a:lnTo>
                          <a:pt x="292" y="234"/>
                        </a:lnTo>
                        <a:lnTo>
                          <a:pt x="282" y="234"/>
                        </a:lnTo>
                        <a:lnTo>
                          <a:pt x="273" y="234"/>
                        </a:lnTo>
                        <a:lnTo>
                          <a:pt x="263" y="234"/>
                        </a:lnTo>
                        <a:lnTo>
                          <a:pt x="263" y="224"/>
                        </a:lnTo>
                        <a:lnTo>
                          <a:pt x="253" y="205"/>
                        </a:lnTo>
                        <a:lnTo>
                          <a:pt x="244" y="185"/>
                        </a:lnTo>
                        <a:lnTo>
                          <a:pt x="244" y="176"/>
                        </a:lnTo>
                        <a:lnTo>
                          <a:pt x="244" y="166"/>
                        </a:lnTo>
                        <a:lnTo>
                          <a:pt x="234" y="146"/>
                        </a:lnTo>
                        <a:lnTo>
                          <a:pt x="234" y="137"/>
                        </a:lnTo>
                        <a:lnTo>
                          <a:pt x="224" y="117"/>
                        </a:lnTo>
                        <a:lnTo>
                          <a:pt x="224" y="117"/>
                        </a:lnTo>
                        <a:lnTo>
                          <a:pt x="214" y="127"/>
                        </a:lnTo>
                        <a:lnTo>
                          <a:pt x="214" y="137"/>
                        </a:lnTo>
                        <a:lnTo>
                          <a:pt x="214" y="13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75" y="146"/>
                        </a:lnTo>
                        <a:lnTo>
                          <a:pt x="166" y="146"/>
                        </a:lnTo>
                        <a:lnTo>
                          <a:pt x="146" y="146"/>
                        </a:lnTo>
                        <a:lnTo>
                          <a:pt x="137" y="146"/>
                        </a:lnTo>
                        <a:lnTo>
                          <a:pt x="127" y="156"/>
                        </a:lnTo>
                        <a:lnTo>
                          <a:pt x="98" y="15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59" y="137"/>
                        </a:lnTo>
                        <a:lnTo>
                          <a:pt x="49" y="137"/>
                        </a:lnTo>
                        <a:lnTo>
                          <a:pt x="39" y="127"/>
                        </a:lnTo>
                        <a:lnTo>
                          <a:pt x="30" y="117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30"/>
                        </a:lnTo>
                        <a:lnTo>
                          <a:pt x="117" y="49"/>
                        </a:lnTo>
                        <a:lnTo>
                          <a:pt x="127" y="49"/>
                        </a:lnTo>
                        <a:lnTo>
                          <a:pt x="137" y="49"/>
                        </a:lnTo>
                        <a:lnTo>
                          <a:pt x="137" y="49"/>
                        </a:lnTo>
                        <a:lnTo>
                          <a:pt x="166" y="49"/>
                        </a:lnTo>
                        <a:lnTo>
                          <a:pt x="175" y="59"/>
                        </a:lnTo>
                        <a:lnTo>
                          <a:pt x="185" y="59"/>
                        </a:lnTo>
                        <a:lnTo>
                          <a:pt x="185" y="49"/>
                        </a:lnTo>
                        <a:lnTo>
                          <a:pt x="205" y="49"/>
                        </a:lnTo>
                        <a:lnTo>
                          <a:pt x="205" y="49"/>
                        </a:lnTo>
                        <a:lnTo>
                          <a:pt x="214" y="49"/>
                        </a:lnTo>
                        <a:lnTo>
                          <a:pt x="224" y="39"/>
                        </a:lnTo>
                        <a:lnTo>
                          <a:pt x="214" y="10"/>
                        </a:lnTo>
                        <a:lnTo>
                          <a:pt x="224" y="10"/>
                        </a:lnTo>
                        <a:lnTo>
                          <a:pt x="224" y="0"/>
                        </a:lnTo>
                        <a:lnTo>
                          <a:pt x="234" y="0"/>
                        </a:lnTo>
                        <a:lnTo>
                          <a:pt x="244" y="0"/>
                        </a:lnTo>
                        <a:lnTo>
                          <a:pt x="263" y="0"/>
                        </a:lnTo>
                        <a:lnTo>
                          <a:pt x="273" y="0"/>
                        </a:lnTo>
                        <a:lnTo>
                          <a:pt x="273" y="10"/>
                        </a:lnTo>
                        <a:lnTo>
                          <a:pt x="302" y="1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926960" y="2708280"/>
                    <a:ext cx="35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34">
                        <a:moveTo>
                          <a:pt x="49" y="224"/>
                        </a:moveTo>
                        <a:lnTo>
                          <a:pt x="58" y="224"/>
                        </a:lnTo>
                        <a:lnTo>
                          <a:pt x="49" y="195"/>
                        </a:lnTo>
                        <a:lnTo>
                          <a:pt x="39" y="166"/>
                        </a:lnTo>
                        <a:lnTo>
                          <a:pt x="39" y="136"/>
                        </a:lnTo>
                        <a:lnTo>
                          <a:pt x="29" y="117"/>
                        </a:lnTo>
                        <a:lnTo>
                          <a:pt x="20" y="88"/>
                        </a:lnTo>
                        <a:lnTo>
                          <a:pt x="20" y="59"/>
                        </a:lnTo>
                        <a:lnTo>
                          <a:pt x="20" y="2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0" y="59"/>
                        </a:lnTo>
                        <a:lnTo>
                          <a:pt x="20" y="88"/>
                        </a:lnTo>
                        <a:lnTo>
                          <a:pt x="20" y="11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39" y="195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58" y="234"/>
                        </a:lnTo>
                        <a:lnTo>
                          <a:pt x="58" y="224"/>
                        </a:lnTo>
                        <a:lnTo>
                          <a:pt x="49" y="2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908960" y="28404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84840" y="2774520"/>
                    <a:ext cx="2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78"/>
                        </a:lnTo>
                        <a:lnTo>
                          <a:pt x="29" y="88"/>
                        </a:lnTo>
                        <a:lnTo>
                          <a:pt x="29" y="107"/>
                        </a:lnTo>
                        <a:lnTo>
                          <a:pt x="39" y="117"/>
                        </a:lnTo>
                        <a:lnTo>
                          <a:pt x="49" y="117"/>
                        </a:lnTo>
                        <a:lnTo>
                          <a:pt x="39" y="107"/>
                        </a:lnTo>
                        <a:lnTo>
                          <a:pt x="39" y="88"/>
                        </a:lnTo>
                        <a:lnTo>
                          <a:pt x="29" y="68"/>
                        </a:lnTo>
                        <a:lnTo>
                          <a:pt x="20" y="59"/>
                        </a:lnTo>
                        <a:lnTo>
                          <a:pt x="20" y="4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872960" y="277452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765320" y="2774520"/>
                    <a:ext cx="113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6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29"/>
                        </a:lnTo>
                        <a:lnTo>
                          <a:pt x="165" y="20"/>
                        </a:lnTo>
                        <a:lnTo>
                          <a:pt x="184" y="20"/>
                        </a:lnTo>
                        <a:lnTo>
                          <a:pt x="184" y="20"/>
                        </a:lnTo>
                        <a:lnTo>
                          <a:pt x="165" y="20"/>
                        </a:lnTo>
                        <a:lnTo>
                          <a:pt x="155" y="20"/>
                        </a:lnTo>
                        <a:lnTo>
                          <a:pt x="145" y="20"/>
                        </a:lnTo>
                        <a:lnTo>
                          <a:pt x="136" y="20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68" y="2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746600" y="272052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0" y="87"/>
                        </a:lnTo>
                        <a:lnTo>
                          <a:pt x="39" y="87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746600" y="2702160"/>
                    <a:ext cx="72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9">
                        <a:moveTo>
                          <a:pt x="117" y="0"/>
                        </a:move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812840" y="2702160"/>
                    <a:ext cx="18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0" y="49"/>
                        </a:moveTo>
                        <a:lnTo>
                          <a:pt x="30" y="49"/>
                        </a:lnTo>
                        <a:lnTo>
                          <a:pt x="2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825080" y="2732400"/>
                    <a:ext cx="29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">
                        <a:moveTo>
                          <a:pt x="39" y="0"/>
                        </a:move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849200" y="272628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48" y="10"/>
                        </a:move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872960" y="27021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878720" y="270216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9" y="0"/>
                        </a:move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lnTo>
                          <a:pt x="4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915080" y="27021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3913200" y="2708280"/>
                    <a:ext cx="176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4">
                        <a:moveTo>
                          <a:pt x="19" y="20"/>
                        </a:moveTo>
                        <a:lnTo>
                          <a:pt x="19" y="78"/>
                        </a:lnTo>
                        <a:lnTo>
                          <a:pt x="19" y="117"/>
                        </a:lnTo>
                        <a:lnTo>
                          <a:pt x="29" y="166"/>
                        </a:lnTo>
                        <a:lnTo>
                          <a:pt x="19" y="214"/>
                        </a:lnTo>
                        <a:lnTo>
                          <a:pt x="9" y="214"/>
                        </a:lnTo>
                        <a:lnTo>
                          <a:pt x="9" y="166"/>
                        </a:lnTo>
                        <a:lnTo>
                          <a:pt x="0" y="11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3918960" y="2720520"/>
                    <a:ext cx="122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4">
                        <a:moveTo>
                          <a:pt x="10" y="194"/>
                        </a:moveTo>
                        <a:lnTo>
                          <a:pt x="10" y="194"/>
                        </a:lnTo>
                        <a:lnTo>
                          <a:pt x="20" y="146"/>
                        </a:lnTo>
                        <a:lnTo>
                          <a:pt x="20" y="97"/>
                        </a:lnTo>
                        <a:lnTo>
                          <a:pt x="10" y="58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10" y="97"/>
                        </a:lnTo>
                        <a:lnTo>
                          <a:pt x="10" y="146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913200" y="2840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3913200" y="2702160"/>
                    <a:ext cx="5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69"/>
                        </a:lnTo>
                        <a:lnTo>
                          <a:pt x="0" y="127"/>
                        </a:lnTo>
                        <a:lnTo>
                          <a:pt x="0" y="176"/>
                        </a:lnTo>
                        <a:lnTo>
                          <a:pt x="0" y="224"/>
                        </a:lnTo>
                        <a:lnTo>
                          <a:pt x="9" y="224"/>
                        </a:lnTo>
                        <a:lnTo>
                          <a:pt x="9" y="127"/>
                        </a:lnTo>
                        <a:lnTo>
                          <a:pt x="9" y="69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913200" y="2708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980960" y="2714400"/>
                    <a:ext cx="29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19"/>
                        </a:moveTo>
                        <a:lnTo>
                          <a:pt x="29" y="58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998960" y="272628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974840" y="2714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58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980960" y="2714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709080" y="2726280"/>
                    <a:ext cx="47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8">
                        <a:moveTo>
                          <a:pt x="78" y="98"/>
                        </a:moveTo>
                        <a:lnTo>
                          <a:pt x="39" y="98"/>
                        </a:lnTo>
                        <a:lnTo>
                          <a:pt x="29" y="9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0" y="69"/>
                        </a:lnTo>
                        <a:lnTo>
                          <a:pt x="10" y="5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39" y="30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68" y="39"/>
                        </a:lnTo>
                        <a:lnTo>
                          <a:pt x="68" y="49"/>
                        </a:lnTo>
                        <a:lnTo>
                          <a:pt x="68" y="59"/>
                        </a:lnTo>
                        <a:lnTo>
                          <a:pt x="68" y="78"/>
                        </a:lnTo>
                        <a:lnTo>
                          <a:pt x="68" y="88"/>
                        </a:lnTo>
                        <a:lnTo>
                          <a:pt x="78" y="98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702960" y="2786760"/>
                    <a:ext cx="54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709080" y="275040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726720" y="272052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9"/>
                        </a:move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739320" y="27262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8"/>
                        </a:moveTo>
                        <a:lnTo>
                          <a:pt x="2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19" y="98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951080" y="2726280"/>
                    <a:ext cx="35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6">
                        <a:moveTo>
                          <a:pt x="58" y="49"/>
                        </a:moveTo>
                        <a:lnTo>
                          <a:pt x="49" y="59"/>
                        </a:lnTo>
                        <a:lnTo>
                          <a:pt x="49" y="78"/>
                        </a:lnTo>
                        <a:lnTo>
                          <a:pt x="49" y="98"/>
                        </a:lnTo>
                        <a:lnTo>
                          <a:pt x="39" y="107"/>
                        </a:lnTo>
                        <a:lnTo>
                          <a:pt x="39" y="127"/>
                        </a:lnTo>
                        <a:lnTo>
                          <a:pt x="29" y="13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10" y="117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lnTo>
                          <a:pt x="0" y="6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968720" y="2756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97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9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944600" y="2744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20" y="87"/>
                        </a:lnTo>
                        <a:lnTo>
                          <a:pt x="20" y="107"/>
                        </a:lnTo>
                        <a:lnTo>
                          <a:pt x="29" y="116"/>
                        </a:lnTo>
                        <a:lnTo>
                          <a:pt x="39" y="136"/>
                        </a:lnTo>
                        <a:lnTo>
                          <a:pt x="39" y="136"/>
                        </a:lnTo>
                        <a:lnTo>
                          <a:pt x="39" y="116"/>
                        </a:lnTo>
                        <a:lnTo>
                          <a:pt x="29" y="107"/>
                        </a:lnTo>
                        <a:lnTo>
                          <a:pt x="29" y="8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944600" y="272628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968720" y="272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4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649320" y="2732400"/>
                    <a:ext cx="532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7" y="39"/>
                        </a:moveTo>
                        <a:lnTo>
                          <a:pt x="77" y="49"/>
                        </a:lnTo>
                        <a:lnTo>
                          <a:pt x="87" y="68"/>
                        </a:lnTo>
                        <a:lnTo>
                          <a:pt x="87" y="78"/>
                        </a:lnTo>
                        <a:lnTo>
                          <a:pt x="77" y="88"/>
                        </a:lnTo>
                        <a:lnTo>
                          <a:pt x="77" y="88"/>
                        </a:lnTo>
                        <a:lnTo>
                          <a:pt x="68" y="88"/>
                        </a:lnTo>
                        <a:lnTo>
                          <a:pt x="58" y="88"/>
                        </a:lnTo>
                        <a:lnTo>
                          <a:pt x="58" y="97"/>
                        </a:lnTo>
                        <a:lnTo>
                          <a:pt x="48" y="97"/>
                        </a:lnTo>
                        <a:lnTo>
                          <a:pt x="39" y="97"/>
                        </a:lnTo>
                        <a:lnTo>
                          <a:pt x="39" y="107"/>
                        </a:lnTo>
                        <a:lnTo>
                          <a:pt x="39" y="97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77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696480" y="275652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4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673080" y="2786760"/>
                    <a:ext cx="23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649320" y="274464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68"/>
                        </a:lnTo>
                        <a:lnTo>
                          <a:pt x="29" y="7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9" y="7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19" y="48"/>
                        </a:lnTo>
                        <a:lnTo>
                          <a:pt x="19" y="3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649320" y="2732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0"/>
                        </a:move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673080" y="273240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48" y="39"/>
                        </a:moveTo>
                        <a:lnTo>
                          <a:pt x="38" y="3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010840" y="273852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49" y="19"/>
                        </a:move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49" y="49"/>
                        </a:lnTo>
                        <a:lnTo>
                          <a:pt x="39" y="58"/>
                        </a:lnTo>
                        <a:lnTo>
                          <a:pt x="39" y="6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4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023080" y="275040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9" y="78"/>
                        </a:ln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010840" y="274464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87"/>
                        </a:lnTo>
                        <a:lnTo>
                          <a:pt x="29" y="77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010840" y="273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16960" y="27324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49" y="29"/>
                        </a:moveTo>
                        <a:lnTo>
                          <a:pt x="4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762720" y="2744640"/>
                    <a:ext cx="18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6">
                        <a:moveTo>
                          <a:pt x="30" y="116"/>
                        </a:moveTo>
                        <a:lnTo>
                          <a:pt x="20" y="10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30" y="0"/>
                        </a:lnTo>
                        <a:lnTo>
                          <a:pt x="3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756960" y="275040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9" y="0"/>
                        </a:moveTo>
                        <a:lnTo>
                          <a:pt x="9" y="30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39" y="98"/>
                        </a:lnTo>
                        <a:lnTo>
                          <a:pt x="39" y="9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762720" y="273852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10"/>
                        </a:moveTo>
                        <a:lnTo>
                          <a:pt x="3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774960" y="2744640"/>
                    <a:ext cx="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6">
                        <a:moveTo>
                          <a:pt x="0" y="116"/>
                        </a:moveTo>
                        <a:lnTo>
                          <a:pt x="10" y="116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  <a:lnTo>
                          <a:pt x="10" y="107"/>
                        </a:lnTo>
                        <a:lnTo>
                          <a:pt x="0" y="116"/>
                        </a:ln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974840" y="275652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49" y="146"/>
                        </a:moveTo>
                        <a:lnTo>
                          <a:pt x="0" y="146"/>
                        </a:lnTo>
                        <a:lnTo>
                          <a:pt x="10" y="12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78"/>
                        </a:lnTo>
                        <a:lnTo>
                          <a:pt x="68" y="117"/>
                        </a:lnTo>
                        <a:lnTo>
                          <a:pt x="68" y="136"/>
                        </a:lnTo>
                        <a:lnTo>
                          <a:pt x="49" y="146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974840" y="284688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974840" y="2744640"/>
                    <a:ext cx="23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5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0" y="155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19" y="97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992840" y="2756520"/>
                    <a:ext cx="298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20" y="156"/>
                        </a:moveTo>
                        <a:lnTo>
                          <a:pt x="20" y="14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39"/>
                        </a:lnTo>
                        <a:lnTo>
                          <a:pt x="29" y="58"/>
                        </a:lnTo>
                        <a:lnTo>
                          <a:pt x="39" y="78"/>
                        </a:lnTo>
                        <a:lnTo>
                          <a:pt x="39" y="117"/>
                        </a:lnTo>
                        <a:lnTo>
                          <a:pt x="29" y="127"/>
                        </a:lnTo>
                        <a:lnTo>
                          <a:pt x="10" y="14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662720" y="2774520"/>
                    <a:ext cx="4680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100">
                        <a:moveTo>
                          <a:pt x="166" y="29"/>
                        </a:moveTo>
                        <a:lnTo>
                          <a:pt x="185" y="39"/>
                        </a:lnTo>
                        <a:lnTo>
                          <a:pt x="185" y="49"/>
                        </a:lnTo>
                        <a:lnTo>
                          <a:pt x="195" y="49"/>
                        </a:lnTo>
                        <a:lnTo>
                          <a:pt x="214" y="59"/>
                        </a:lnTo>
                        <a:lnTo>
                          <a:pt x="224" y="59"/>
                        </a:lnTo>
                        <a:lnTo>
                          <a:pt x="234" y="59"/>
                        </a:lnTo>
                        <a:lnTo>
                          <a:pt x="263" y="59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49"/>
                        </a:lnTo>
                        <a:lnTo>
                          <a:pt x="321" y="49"/>
                        </a:lnTo>
                        <a:lnTo>
                          <a:pt x="331" y="49"/>
                        </a:lnTo>
                        <a:lnTo>
                          <a:pt x="341" y="39"/>
                        </a:lnTo>
                        <a:lnTo>
                          <a:pt x="350" y="39"/>
                        </a:lnTo>
                        <a:lnTo>
                          <a:pt x="360" y="49"/>
                        </a:lnTo>
                        <a:lnTo>
                          <a:pt x="360" y="59"/>
                        </a:lnTo>
                        <a:lnTo>
                          <a:pt x="360" y="68"/>
                        </a:lnTo>
                        <a:lnTo>
                          <a:pt x="360" y="78"/>
                        </a:lnTo>
                        <a:lnTo>
                          <a:pt x="370" y="88"/>
                        </a:lnTo>
                        <a:lnTo>
                          <a:pt x="370" y="98"/>
                        </a:lnTo>
                        <a:lnTo>
                          <a:pt x="380" y="107"/>
                        </a:lnTo>
                        <a:lnTo>
                          <a:pt x="380" y="117"/>
                        </a:lnTo>
                        <a:lnTo>
                          <a:pt x="292" y="117"/>
                        </a:lnTo>
                        <a:lnTo>
                          <a:pt x="273" y="117"/>
                        </a:lnTo>
                        <a:lnTo>
                          <a:pt x="243" y="117"/>
                        </a:lnTo>
                        <a:lnTo>
                          <a:pt x="234" y="127"/>
                        </a:lnTo>
                        <a:lnTo>
                          <a:pt x="214" y="127"/>
                        </a:lnTo>
                        <a:lnTo>
                          <a:pt x="204" y="127"/>
                        </a:lnTo>
                        <a:lnTo>
                          <a:pt x="195" y="12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95" y="156"/>
                        </a:lnTo>
                        <a:lnTo>
                          <a:pt x="195" y="185"/>
                        </a:lnTo>
                        <a:lnTo>
                          <a:pt x="204" y="205"/>
                        </a:lnTo>
                        <a:lnTo>
                          <a:pt x="204" y="234"/>
                        </a:lnTo>
                        <a:lnTo>
                          <a:pt x="214" y="253"/>
                        </a:lnTo>
                        <a:lnTo>
                          <a:pt x="214" y="273"/>
                        </a:lnTo>
                        <a:lnTo>
                          <a:pt x="224" y="29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43" y="331"/>
                        </a:lnTo>
                        <a:lnTo>
                          <a:pt x="525" y="331"/>
                        </a:lnTo>
                        <a:lnTo>
                          <a:pt x="535" y="341"/>
                        </a:lnTo>
                        <a:lnTo>
                          <a:pt x="623" y="341"/>
                        </a:lnTo>
                        <a:lnTo>
                          <a:pt x="632" y="341"/>
                        </a:lnTo>
                        <a:lnTo>
                          <a:pt x="759" y="341"/>
                        </a:lnTo>
                        <a:lnTo>
                          <a:pt x="759" y="380"/>
                        </a:lnTo>
                        <a:lnTo>
                          <a:pt x="759" y="409"/>
                        </a:lnTo>
                        <a:lnTo>
                          <a:pt x="749" y="438"/>
                        </a:lnTo>
                        <a:lnTo>
                          <a:pt x="739" y="468"/>
                        </a:lnTo>
                        <a:lnTo>
                          <a:pt x="720" y="497"/>
                        </a:lnTo>
                        <a:lnTo>
                          <a:pt x="710" y="526"/>
                        </a:lnTo>
                        <a:lnTo>
                          <a:pt x="700" y="555"/>
                        </a:lnTo>
                        <a:lnTo>
                          <a:pt x="691" y="584"/>
                        </a:lnTo>
                        <a:lnTo>
                          <a:pt x="671" y="614"/>
                        </a:lnTo>
                        <a:lnTo>
                          <a:pt x="662" y="633"/>
                        </a:lnTo>
                        <a:lnTo>
                          <a:pt x="642" y="672"/>
                        </a:lnTo>
                        <a:lnTo>
                          <a:pt x="623" y="692"/>
                        </a:lnTo>
                        <a:lnTo>
                          <a:pt x="603" y="721"/>
                        </a:lnTo>
                        <a:lnTo>
                          <a:pt x="584" y="750"/>
                        </a:lnTo>
                        <a:lnTo>
                          <a:pt x="564" y="769"/>
                        </a:lnTo>
                        <a:lnTo>
                          <a:pt x="545" y="799"/>
                        </a:lnTo>
                        <a:lnTo>
                          <a:pt x="525" y="808"/>
                        </a:lnTo>
                        <a:lnTo>
                          <a:pt x="496" y="828"/>
                        </a:lnTo>
                        <a:lnTo>
                          <a:pt x="477" y="838"/>
                        </a:lnTo>
                        <a:lnTo>
                          <a:pt x="457" y="847"/>
                        </a:lnTo>
                        <a:lnTo>
                          <a:pt x="438" y="857"/>
                        </a:lnTo>
                        <a:lnTo>
                          <a:pt x="409" y="867"/>
                        </a:lnTo>
                        <a:lnTo>
                          <a:pt x="389" y="877"/>
                        </a:lnTo>
                        <a:lnTo>
                          <a:pt x="360" y="886"/>
                        </a:lnTo>
                        <a:lnTo>
                          <a:pt x="341" y="896"/>
                        </a:lnTo>
                        <a:lnTo>
                          <a:pt x="321" y="906"/>
                        </a:lnTo>
                        <a:lnTo>
                          <a:pt x="302" y="915"/>
                        </a:lnTo>
                        <a:lnTo>
                          <a:pt x="273" y="925"/>
                        </a:lnTo>
                        <a:lnTo>
                          <a:pt x="253" y="935"/>
                        </a:lnTo>
                        <a:lnTo>
                          <a:pt x="234" y="954"/>
                        </a:lnTo>
                        <a:lnTo>
                          <a:pt x="214" y="974"/>
                        </a:lnTo>
                        <a:lnTo>
                          <a:pt x="195" y="993"/>
                        </a:lnTo>
                        <a:lnTo>
                          <a:pt x="166" y="1023"/>
                        </a:lnTo>
                        <a:lnTo>
                          <a:pt x="156" y="1032"/>
                        </a:lnTo>
                        <a:lnTo>
                          <a:pt x="146" y="1042"/>
                        </a:lnTo>
                        <a:lnTo>
                          <a:pt x="136" y="1052"/>
                        </a:lnTo>
                        <a:lnTo>
                          <a:pt x="117" y="1062"/>
                        </a:lnTo>
                        <a:lnTo>
                          <a:pt x="107" y="1062"/>
                        </a:lnTo>
                        <a:lnTo>
                          <a:pt x="97" y="1071"/>
                        </a:lnTo>
                        <a:lnTo>
                          <a:pt x="78" y="1071"/>
                        </a:lnTo>
                        <a:lnTo>
                          <a:pt x="68" y="1081"/>
                        </a:lnTo>
                        <a:lnTo>
                          <a:pt x="59" y="1081"/>
                        </a:lnTo>
                        <a:lnTo>
                          <a:pt x="39" y="1081"/>
                        </a:lnTo>
                        <a:lnTo>
                          <a:pt x="29" y="1091"/>
                        </a:lnTo>
                        <a:lnTo>
                          <a:pt x="10" y="1100"/>
                        </a:lnTo>
                        <a:lnTo>
                          <a:pt x="10" y="1100"/>
                        </a:lnTo>
                        <a:lnTo>
                          <a:pt x="0" y="1071"/>
                        </a:lnTo>
                        <a:lnTo>
                          <a:pt x="10" y="1042"/>
                        </a:lnTo>
                        <a:lnTo>
                          <a:pt x="10" y="1013"/>
                        </a:lnTo>
                        <a:lnTo>
                          <a:pt x="10" y="984"/>
                        </a:lnTo>
                        <a:lnTo>
                          <a:pt x="20" y="954"/>
                        </a:lnTo>
                        <a:lnTo>
                          <a:pt x="29" y="925"/>
                        </a:lnTo>
                        <a:lnTo>
                          <a:pt x="39" y="896"/>
                        </a:lnTo>
                        <a:lnTo>
                          <a:pt x="49" y="867"/>
                        </a:lnTo>
                        <a:lnTo>
                          <a:pt x="49" y="847"/>
                        </a:lnTo>
                        <a:lnTo>
                          <a:pt x="59" y="847"/>
                        </a:lnTo>
                        <a:lnTo>
                          <a:pt x="78" y="818"/>
                        </a:lnTo>
                        <a:lnTo>
                          <a:pt x="88" y="808"/>
                        </a:lnTo>
                        <a:lnTo>
                          <a:pt x="97" y="799"/>
                        </a:lnTo>
                        <a:lnTo>
                          <a:pt x="97" y="799"/>
                        </a:lnTo>
                        <a:lnTo>
                          <a:pt x="107" y="789"/>
                        </a:lnTo>
                        <a:lnTo>
                          <a:pt x="117" y="779"/>
                        </a:lnTo>
                        <a:lnTo>
                          <a:pt x="127" y="769"/>
                        </a:lnTo>
                        <a:lnTo>
                          <a:pt x="136" y="760"/>
                        </a:lnTo>
                        <a:lnTo>
                          <a:pt x="146" y="760"/>
                        </a:lnTo>
                        <a:lnTo>
                          <a:pt x="146" y="750"/>
                        </a:lnTo>
                        <a:lnTo>
                          <a:pt x="156" y="740"/>
                        </a:lnTo>
                        <a:lnTo>
                          <a:pt x="166" y="730"/>
                        </a:lnTo>
                        <a:lnTo>
                          <a:pt x="166" y="711"/>
                        </a:lnTo>
                        <a:lnTo>
                          <a:pt x="175" y="682"/>
                        </a:lnTo>
                        <a:lnTo>
                          <a:pt x="185" y="672"/>
                        </a:lnTo>
                        <a:lnTo>
                          <a:pt x="185" y="653"/>
                        </a:lnTo>
                        <a:lnTo>
                          <a:pt x="195" y="633"/>
                        </a:lnTo>
                        <a:lnTo>
                          <a:pt x="195" y="614"/>
                        </a:lnTo>
                        <a:lnTo>
                          <a:pt x="204" y="584"/>
                        </a:lnTo>
                        <a:lnTo>
                          <a:pt x="204" y="575"/>
                        </a:lnTo>
                        <a:lnTo>
                          <a:pt x="195" y="555"/>
                        </a:lnTo>
                        <a:lnTo>
                          <a:pt x="195" y="545"/>
                        </a:lnTo>
                        <a:lnTo>
                          <a:pt x="185" y="526"/>
                        </a:lnTo>
                        <a:lnTo>
                          <a:pt x="175" y="507"/>
                        </a:lnTo>
                        <a:lnTo>
                          <a:pt x="97" y="438"/>
                        </a:lnTo>
                        <a:lnTo>
                          <a:pt x="97" y="419"/>
                        </a:lnTo>
                        <a:lnTo>
                          <a:pt x="68" y="399"/>
                        </a:lnTo>
                        <a:lnTo>
                          <a:pt x="59" y="380"/>
                        </a:lnTo>
                        <a:lnTo>
                          <a:pt x="49" y="370"/>
                        </a:lnTo>
                        <a:lnTo>
                          <a:pt x="49" y="351"/>
                        </a:lnTo>
                        <a:lnTo>
                          <a:pt x="49" y="312"/>
                        </a:lnTo>
                        <a:lnTo>
                          <a:pt x="59" y="283"/>
                        </a:lnTo>
                        <a:lnTo>
                          <a:pt x="59" y="263"/>
                        </a:lnTo>
                        <a:lnTo>
                          <a:pt x="68" y="244"/>
                        </a:lnTo>
                        <a:lnTo>
                          <a:pt x="78" y="224"/>
                        </a:lnTo>
                        <a:lnTo>
                          <a:pt x="88" y="205"/>
                        </a:lnTo>
                        <a:lnTo>
                          <a:pt x="97" y="185"/>
                        </a:lnTo>
                        <a:lnTo>
                          <a:pt x="97" y="156"/>
                        </a:lnTo>
                        <a:lnTo>
                          <a:pt x="97" y="137"/>
                        </a:lnTo>
                        <a:lnTo>
                          <a:pt x="88" y="107"/>
                        </a:lnTo>
                        <a:lnTo>
                          <a:pt x="88" y="59"/>
                        </a:lnTo>
                        <a:lnTo>
                          <a:pt x="97" y="39"/>
                        </a:lnTo>
                        <a:lnTo>
                          <a:pt x="107" y="20"/>
                        </a:lnTo>
                        <a:lnTo>
                          <a:pt x="136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56" y="10"/>
                        </a:lnTo>
                        <a:lnTo>
                          <a:pt x="156" y="20"/>
                        </a:lnTo>
                        <a:lnTo>
                          <a:pt x="156" y="20"/>
                        </a:lnTo>
                        <a:lnTo>
                          <a:pt x="166" y="2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765320" y="2792520"/>
                    <a:ext cx="11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0">
                        <a:moveTo>
                          <a:pt x="194" y="10"/>
                        </a:moveTo>
                        <a:lnTo>
                          <a:pt x="184" y="0"/>
                        </a:lnTo>
                        <a:lnTo>
                          <a:pt x="175" y="10"/>
                        </a:lnTo>
                        <a:lnTo>
                          <a:pt x="165" y="10"/>
                        </a:lnTo>
                        <a:lnTo>
                          <a:pt x="155" y="10"/>
                        </a:lnTo>
                        <a:lnTo>
                          <a:pt x="14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07" y="20"/>
                        </a:lnTo>
                        <a:lnTo>
                          <a:pt x="97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36" y="30"/>
                        </a:lnTo>
                        <a:lnTo>
                          <a:pt x="145" y="30"/>
                        </a:lnTo>
                        <a:lnTo>
                          <a:pt x="155" y="20"/>
                        </a:lnTo>
                        <a:lnTo>
                          <a:pt x="165" y="20"/>
                        </a:lnTo>
                        <a:lnTo>
                          <a:pt x="175" y="20"/>
                        </a:lnTo>
                        <a:lnTo>
                          <a:pt x="194" y="10"/>
                        </a:lnTo>
                        <a:lnTo>
                          <a:pt x="18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84" y="0"/>
                        </a:lnTo>
                        <a:lnTo>
                          <a:pt x="19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878720" y="279864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0" y="78"/>
                        </a:move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78"/>
                        </a:lnTo>
                        <a:lnTo>
                          <a:pt x="39" y="78"/>
                        </a:lnTo>
                        <a:lnTo>
                          <a:pt x="30" y="78"/>
                        </a:lnTo>
                        <a:lnTo>
                          <a:pt x="3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788720" y="2840400"/>
                    <a:ext cx="108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69" y="20"/>
                        </a:lnTo>
                        <a:lnTo>
                          <a:pt x="88" y="10"/>
                        </a:lnTo>
                        <a:lnTo>
                          <a:pt x="176" y="10"/>
                        </a:lnTo>
                        <a:lnTo>
                          <a:pt x="176" y="0"/>
                        </a:ln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77684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776840" y="2859120"/>
                    <a:ext cx="302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5">
                        <a:moveTo>
                          <a:pt x="39" y="185"/>
                        </a:moveTo>
                        <a:lnTo>
                          <a:pt x="49" y="185"/>
                        </a:lnTo>
                        <a:lnTo>
                          <a:pt x="39" y="155"/>
                        </a:lnTo>
                        <a:lnTo>
                          <a:pt x="39" y="136"/>
                        </a:lnTo>
                        <a:lnTo>
                          <a:pt x="29" y="116"/>
                        </a:lnTo>
                        <a:lnTo>
                          <a:pt x="29" y="97"/>
                        </a:lnTo>
                        <a:lnTo>
                          <a:pt x="19" y="68"/>
                        </a:lnTo>
                        <a:lnTo>
                          <a:pt x="19" y="4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48"/>
                        </a:lnTo>
                        <a:lnTo>
                          <a:pt x="10" y="68"/>
                        </a:lnTo>
                        <a:lnTo>
                          <a:pt x="19" y="97"/>
                        </a:lnTo>
                        <a:lnTo>
                          <a:pt x="19" y="116"/>
                        </a:lnTo>
                        <a:lnTo>
                          <a:pt x="29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800960" y="2967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19"/>
                        </a:move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818960" y="2973240"/>
                    <a:ext cx="31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9">
                        <a:moveTo>
                          <a:pt x="516" y="19"/>
                        </a:moveTo>
                        <a:lnTo>
                          <a:pt x="506" y="19"/>
                        </a:lnTo>
                        <a:lnTo>
                          <a:pt x="379" y="19"/>
                        </a:lnTo>
                        <a:lnTo>
                          <a:pt x="370" y="9"/>
                        </a:lnTo>
                        <a:lnTo>
                          <a:pt x="253" y="9"/>
                        </a:lnTo>
                        <a:lnTo>
                          <a:pt x="243" y="9"/>
                        </a:lnTo>
                        <a:lnTo>
                          <a:pt x="146" y="9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78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78" y="19"/>
                        </a:lnTo>
                        <a:lnTo>
                          <a:pt x="97" y="9"/>
                        </a:lnTo>
                        <a:lnTo>
                          <a:pt x="127" y="9"/>
                        </a:lnTo>
                        <a:lnTo>
                          <a:pt x="146" y="19"/>
                        </a:lnTo>
                        <a:lnTo>
                          <a:pt x="272" y="19"/>
                        </a:lnTo>
                        <a:lnTo>
                          <a:pt x="282" y="19"/>
                        </a:lnTo>
                        <a:lnTo>
                          <a:pt x="370" y="19"/>
                        </a:lnTo>
                        <a:lnTo>
                          <a:pt x="379" y="29"/>
                        </a:lnTo>
                        <a:lnTo>
                          <a:pt x="506" y="2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lnTo>
                          <a:pt x="516" y="1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992840" y="2985120"/>
                    <a:ext cx="1443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458">
                        <a:moveTo>
                          <a:pt x="10" y="458"/>
                        </a:moveTo>
                        <a:lnTo>
                          <a:pt x="39" y="428"/>
                        </a:lnTo>
                        <a:lnTo>
                          <a:pt x="49" y="409"/>
                        </a:lnTo>
                        <a:lnTo>
                          <a:pt x="78" y="380"/>
                        </a:lnTo>
                        <a:lnTo>
                          <a:pt x="88" y="351"/>
                        </a:lnTo>
                        <a:lnTo>
                          <a:pt x="107" y="331"/>
                        </a:lnTo>
                        <a:lnTo>
                          <a:pt x="127" y="302"/>
                        </a:lnTo>
                        <a:lnTo>
                          <a:pt x="136" y="273"/>
                        </a:lnTo>
                        <a:lnTo>
                          <a:pt x="156" y="243"/>
                        </a:lnTo>
                        <a:lnTo>
                          <a:pt x="175" y="214"/>
                        </a:lnTo>
                        <a:lnTo>
                          <a:pt x="185" y="185"/>
                        </a:lnTo>
                        <a:lnTo>
                          <a:pt x="195" y="156"/>
                        </a:lnTo>
                        <a:lnTo>
                          <a:pt x="204" y="127"/>
                        </a:lnTo>
                        <a:lnTo>
                          <a:pt x="214" y="97"/>
                        </a:lnTo>
                        <a:lnTo>
                          <a:pt x="224" y="68"/>
                        </a:lnTo>
                        <a:lnTo>
                          <a:pt x="224" y="39"/>
                        </a:lnTo>
                        <a:lnTo>
                          <a:pt x="234" y="0"/>
                        </a:lnTo>
                        <a:lnTo>
                          <a:pt x="224" y="0"/>
                        </a:lnTo>
                        <a:lnTo>
                          <a:pt x="224" y="29"/>
                        </a:lnTo>
                        <a:lnTo>
                          <a:pt x="214" y="68"/>
                        </a:lnTo>
                        <a:lnTo>
                          <a:pt x="204" y="97"/>
                        </a:lnTo>
                        <a:lnTo>
                          <a:pt x="195" y="127"/>
                        </a:lnTo>
                        <a:lnTo>
                          <a:pt x="185" y="156"/>
                        </a:lnTo>
                        <a:lnTo>
                          <a:pt x="175" y="185"/>
                        </a:lnTo>
                        <a:lnTo>
                          <a:pt x="165" y="214"/>
                        </a:lnTo>
                        <a:lnTo>
                          <a:pt x="146" y="243"/>
                        </a:lnTo>
                        <a:lnTo>
                          <a:pt x="136" y="273"/>
                        </a:lnTo>
                        <a:lnTo>
                          <a:pt x="117" y="292"/>
                        </a:lnTo>
                        <a:lnTo>
                          <a:pt x="107" y="321"/>
                        </a:lnTo>
                        <a:lnTo>
                          <a:pt x="88" y="351"/>
                        </a:lnTo>
                        <a:lnTo>
                          <a:pt x="68" y="380"/>
                        </a:lnTo>
                        <a:lnTo>
                          <a:pt x="49" y="399"/>
                        </a:lnTo>
                        <a:lnTo>
                          <a:pt x="29" y="428"/>
                        </a:lnTo>
                        <a:lnTo>
                          <a:pt x="0" y="448"/>
                        </a:lnTo>
                        <a:lnTo>
                          <a:pt x="1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783320" y="3261600"/>
                    <a:ext cx="21564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204">
                        <a:moveTo>
                          <a:pt x="9" y="204"/>
                        </a:moveTo>
                        <a:lnTo>
                          <a:pt x="29" y="185"/>
                        </a:lnTo>
                        <a:lnTo>
                          <a:pt x="39" y="175"/>
                        </a:lnTo>
                        <a:lnTo>
                          <a:pt x="58" y="156"/>
                        </a:lnTo>
                        <a:lnTo>
                          <a:pt x="78" y="136"/>
                        </a:lnTo>
                        <a:lnTo>
                          <a:pt x="107" y="126"/>
                        </a:lnTo>
                        <a:lnTo>
                          <a:pt x="126" y="117"/>
                        </a:lnTo>
                        <a:lnTo>
                          <a:pt x="146" y="107"/>
                        </a:lnTo>
                        <a:lnTo>
                          <a:pt x="175" y="97"/>
                        </a:lnTo>
                        <a:lnTo>
                          <a:pt x="194" y="88"/>
                        </a:lnTo>
                        <a:lnTo>
                          <a:pt x="214" y="78"/>
                        </a:lnTo>
                        <a:lnTo>
                          <a:pt x="243" y="68"/>
                        </a:lnTo>
                        <a:lnTo>
                          <a:pt x="262" y="58"/>
                        </a:lnTo>
                        <a:lnTo>
                          <a:pt x="291" y="58"/>
                        </a:lnTo>
                        <a:lnTo>
                          <a:pt x="311" y="39"/>
                        </a:lnTo>
                        <a:lnTo>
                          <a:pt x="330" y="29"/>
                        </a:lnTo>
                        <a:lnTo>
                          <a:pt x="350" y="10"/>
                        </a:lnTo>
                        <a:lnTo>
                          <a:pt x="340" y="0"/>
                        </a:lnTo>
                        <a:lnTo>
                          <a:pt x="330" y="19"/>
                        </a:lnTo>
                        <a:lnTo>
                          <a:pt x="301" y="29"/>
                        </a:lnTo>
                        <a:lnTo>
                          <a:pt x="282" y="49"/>
                        </a:lnTo>
                        <a:lnTo>
                          <a:pt x="262" y="58"/>
                        </a:lnTo>
                        <a:lnTo>
                          <a:pt x="243" y="58"/>
                        </a:lnTo>
                        <a:lnTo>
                          <a:pt x="214" y="68"/>
                        </a:lnTo>
                        <a:lnTo>
                          <a:pt x="194" y="78"/>
                        </a:lnTo>
                        <a:lnTo>
                          <a:pt x="165" y="88"/>
                        </a:lnTo>
                        <a:lnTo>
                          <a:pt x="146" y="97"/>
                        </a:lnTo>
                        <a:lnTo>
                          <a:pt x="126" y="107"/>
                        </a:lnTo>
                        <a:lnTo>
                          <a:pt x="97" y="117"/>
                        </a:lnTo>
                        <a:lnTo>
                          <a:pt x="78" y="136"/>
                        </a:lnTo>
                        <a:lnTo>
                          <a:pt x="58" y="146"/>
                        </a:lnTo>
                        <a:lnTo>
                          <a:pt x="39" y="165"/>
                        </a:lnTo>
                        <a:lnTo>
                          <a:pt x="19" y="185"/>
                        </a:lnTo>
                        <a:lnTo>
                          <a:pt x="0" y="204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662720" y="3387600"/>
                    <a:ext cx="125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17">
                        <a:moveTo>
                          <a:pt x="0" y="107"/>
                        </a:moveTo>
                        <a:lnTo>
                          <a:pt x="10" y="117"/>
                        </a:lnTo>
                        <a:lnTo>
                          <a:pt x="20" y="107"/>
                        </a:lnTo>
                        <a:lnTo>
                          <a:pt x="29" y="98"/>
                        </a:lnTo>
                        <a:lnTo>
                          <a:pt x="49" y="98"/>
                        </a:lnTo>
                        <a:lnTo>
                          <a:pt x="59" y="88"/>
                        </a:lnTo>
                        <a:lnTo>
                          <a:pt x="68" y="88"/>
                        </a:lnTo>
                        <a:lnTo>
                          <a:pt x="88" y="88"/>
                        </a:lnTo>
                        <a:lnTo>
                          <a:pt x="97" y="78"/>
                        </a:lnTo>
                        <a:lnTo>
                          <a:pt x="107" y="78"/>
                        </a:lnTo>
                        <a:lnTo>
                          <a:pt x="117" y="69"/>
                        </a:lnTo>
                        <a:lnTo>
                          <a:pt x="136" y="69"/>
                        </a:lnTo>
                        <a:lnTo>
                          <a:pt x="146" y="59"/>
                        </a:lnTo>
                        <a:lnTo>
                          <a:pt x="156" y="49"/>
                        </a:lnTo>
                        <a:lnTo>
                          <a:pt x="166" y="39"/>
                        </a:lnTo>
                        <a:lnTo>
                          <a:pt x="185" y="30"/>
                        </a:lnTo>
                        <a:lnTo>
                          <a:pt x="185" y="2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185" y="10"/>
                        </a:lnTo>
                        <a:lnTo>
                          <a:pt x="175" y="20"/>
                        </a:lnTo>
                        <a:lnTo>
                          <a:pt x="166" y="30"/>
                        </a:lnTo>
                        <a:lnTo>
                          <a:pt x="156" y="39"/>
                        </a:lnTo>
                        <a:lnTo>
                          <a:pt x="146" y="49"/>
                        </a:lnTo>
                        <a:lnTo>
                          <a:pt x="127" y="59"/>
                        </a:lnTo>
                        <a:lnTo>
                          <a:pt x="117" y="59"/>
                        </a:lnTo>
                        <a:lnTo>
                          <a:pt x="107" y="69"/>
                        </a:lnTo>
                        <a:lnTo>
                          <a:pt x="97" y="69"/>
                        </a:lnTo>
                        <a:lnTo>
                          <a:pt x="78" y="78"/>
                        </a:lnTo>
                        <a:lnTo>
                          <a:pt x="68" y="78"/>
                        </a:lnTo>
                        <a:lnTo>
                          <a:pt x="5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0" y="9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4662720" y="3303720"/>
                    <a:ext cx="29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43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39"/>
                        </a:lnTo>
                        <a:lnTo>
                          <a:pt x="29" y="68"/>
                        </a:lnTo>
                        <a:lnTo>
                          <a:pt x="20" y="88"/>
                        </a:lnTo>
                        <a:lnTo>
                          <a:pt x="10" y="127"/>
                        </a:lnTo>
                        <a:lnTo>
                          <a:pt x="10" y="156"/>
                        </a:lnTo>
                        <a:lnTo>
                          <a:pt x="0" y="185"/>
                        </a:lnTo>
                        <a:lnTo>
                          <a:pt x="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10" y="214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20" y="12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4686840" y="326160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722480" y="3219840"/>
                    <a:ext cx="42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8">
                        <a:moveTo>
                          <a:pt x="59" y="9"/>
                        </a:moveTo>
                        <a:lnTo>
                          <a:pt x="59" y="0"/>
                        </a:lnTo>
                        <a:lnTo>
                          <a:pt x="59" y="9"/>
                        </a:lnTo>
                        <a:lnTo>
                          <a:pt x="49" y="19"/>
                        </a:lnTo>
                        <a:lnTo>
                          <a:pt x="30" y="48"/>
                        </a:lnTo>
                        <a:lnTo>
                          <a:pt x="20" y="4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68"/>
                        </a:lnTo>
                        <a:lnTo>
                          <a:pt x="30" y="4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19"/>
                        </a:lnTo>
                        <a:lnTo>
                          <a:pt x="69" y="9"/>
                        </a:lnTo>
                        <a:lnTo>
                          <a:pt x="5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759200" y="3123360"/>
                    <a:ext cx="35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5">
                        <a:moveTo>
                          <a:pt x="48" y="10"/>
                        </a:moveTo>
                        <a:lnTo>
                          <a:pt x="39" y="19"/>
                        </a:lnTo>
                        <a:lnTo>
                          <a:pt x="39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19" y="107"/>
                        </a:lnTo>
                        <a:lnTo>
                          <a:pt x="10" y="117"/>
                        </a:lnTo>
                        <a:lnTo>
                          <a:pt x="1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9" y="146"/>
                        </a:lnTo>
                        <a:lnTo>
                          <a:pt x="19" y="117"/>
                        </a:lnTo>
                        <a:lnTo>
                          <a:pt x="29" y="10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48" y="49"/>
                        </a:lnTo>
                        <a:lnTo>
                          <a:pt x="48" y="19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686840" y="2991240"/>
                    <a:ext cx="1076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24">
                        <a:moveTo>
                          <a:pt x="0" y="0"/>
                        </a:move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9" y="48"/>
                        </a:lnTo>
                        <a:lnTo>
                          <a:pt x="39" y="58"/>
                        </a:lnTo>
                        <a:lnTo>
                          <a:pt x="49" y="78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107" y="136"/>
                        </a:lnTo>
                        <a:lnTo>
                          <a:pt x="117" y="146"/>
                        </a:lnTo>
                        <a:lnTo>
                          <a:pt x="136" y="165"/>
                        </a:lnTo>
                        <a:lnTo>
                          <a:pt x="146" y="175"/>
                        </a:lnTo>
                        <a:lnTo>
                          <a:pt x="146" y="194"/>
                        </a:lnTo>
                        <a:lnTo>
                          <a:pt x="156" y="204"/>
                        </a:lnTo>
                        <a:lnTo>
                          <a:pt x="165" y="224"/>
                        </a:lnTo>
                        <a:lnTo>
                          <a:pt x="175" y="214"/>
                        </a:lnTo>
                        <a:lnTo>
                          <a:pt x="165" y="204"/>
                        </a:lnTo>
                        <a:lnTo>
                          <a:pt x="156" y="185"/>
                        </a:lnTo>
                        <a:lnTo>
                          <a:pt x="146" y="175"/>
                        </a:lnTo>
                        <a:lnTo>
                          <a:pt x="136" y="156"/>
                        </a:lnTo>
                        <a:lnTo>
                          <a:pt x="127" y="146"/>
                        </a:lnTo>
                        <a:lnTo>
                          <a:pt x="107" y="117"/>
                        </a:lnTo>
                        <a:lnTo>
                          <a:pt x="97" y="107"/>
                        </a:lnTo>
                        <a:lnTo>
                          <a:pt x="49" y="5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686840" y="2888640"/>
                    <a:ext cx="41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6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39" y="39"/>
                        </a:lnTo>
                        <a:lnTo>
                          <a:pt x="20" y="49"/>
                        </a:lnTo>
                        <a:lnTo>
                          <a:pt x="20" y="78"/>
                        </a:lnTo>
                        <a:lnTo>
                          <a:pt x="10" y="98"/>
                        </a:lnTo>
                        <a:lnTo>
                          <a:pt x="0" y="117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10" y="127"/>
                        </a:lnTo>
                        <a:lnTo>
                          <a:pt x="20" y="9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49" y="39"/>
                        </a:lnTo>
                        <a:lnTo>
                          <a:pt x="58" y="2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717080" y="2780640"/>
                    <a:ext cx="29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48" y="0"/>
                        </a:lnTo>
                        <a:lnTo>
                          <a:pt x="19" y="10"/>
                        </a:lnTo>
                        <a:lnTo>
                          <a:pt x="9" y="29"/>
                        </a:lnTo>
                        <a:lnTo>
                          <a:pt x="0" y="49"/>
                        </a:lnTo>
                        <a:lnTo>
                          <a:pt x="0" y="97"/>
                        </a:lnTo>
                        <a:lnTo>
                          <a:pt x="0" y="127"/>
                        </a:lnTo>
                        <a:lnTo>
                          <a:pt x="9" y="146"/>
                        </a:lnTo>
                        <a:lnTo>
                          <a:pt x="9" y="175"/>
                        </a:lnTo>
                        <a:lnTo>
                          <a:pt x="19" y="175"/>
                        </a:lnTo>
                        <a:lnTo>
                          <a:pt x="9" y="146"/>
                        </a:lnTo>
                        <a:lnTo>
                          <a:pt x="9" y="127"/>
                        </a:lnTo>
                        <a:lnTo>
                          <a:pt x="9" y="97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19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46600" y="2774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3666960" y="2798640"/>
                    <a:ext cx="10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78">
                        <a:moveTo>
                          <a:pt x="155" y="10"/>
                        </a:moveTo>
                        <a:lnTo>
                          <a:pt x="155" y="20"/>
                        </a:lnTo>
                        <a:lnTo>
                          <a:pt x="165" y="39"/>
                        </a:lnTo>
                        <a:lnTo>
                          <a:pt x="165" y="49"/>
                        </a:lnTo>
                        <a:lnTo>
                          <a:pt x="165" y="68"/>
                        </a:lnTo>
                        <a:lnTo>
                          <a:pt x="146" y="78"/>
                        </a:lnTo>
                        <a:lnTo>
                          <a:pt x="136" y="68"/>
                        </a:lnTo>
                        <a:lnTo>
                          <a:pt x="136" y="59"/>
                        </a:lnTo>
                        <a:lnTo>
                          <a:pt x="136" y="59"/>
                        </a:lnTo>
                        <a:lnTo>
                          <a:pt x="126" y="68"/>
                        </a:lnTo>
                        <a:lnTo>
                          <a:pt x="126" y="68"/>
                        </a:lnTo>
                        <a:lnTo>
                          <a:pt x="126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107" y="49"/>
                        </a:lnTo>
                        <a:lnTo>
                          <a:pt x="97" y="39"/>
                        </a:lnTo>
                        <a:lnTo>
                          <a:pt x="87" y="59"/>
                        </a:lnTo>
                        <a:lnTo>
                          <a:pt x="87" y="68"/>
                        </a:lnTo>
                        <a:lnTo>
                          <a:pt x="78" y="68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58" y="68"/>
                        </a:lnTo>
                        <a:lnTo>
                          <a:pt x="58" y="59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19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26" y="0"/>
                        </a:lnTo>
                        <a:lnTo>
                          <a:pt x="136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756960" y="28047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58"/>
                        </a:move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5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756960" y="28404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74472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73320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726720" y="282276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702960" y="282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702960" y="281664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666960" y="281664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666960" y="2798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684960" y="2798640"/>
                    <a:ext cx="77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126" y="10"/>
                        </a:moveTo>
                        <a:lnTo>
                          <a:pt x="126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7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26" y="0"/>
                        </a:lnTo>
                        <a:lnTo>
                          <a:pt x="12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781080" y="28108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541320" y="2853000"/>
                    <a:ext cx="239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97">
                        <a:moveTo>
                          <a:pt x="77" y="0"/>
                        </a:moveTo>
                        <a:lnTo>
                          <a:pt x="77" y="10"/>
                        </a:lnTo>
                        <a:lnTo>
                          <a:pt x="77" y="1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77" y="29"/>
                        </a:lnTo>
                        <a:lnTo>
                          <a:pt x="87" y="39"/>
                        </a:lnTo>
                        <a:lnTo>
                          <a:pt x="87" y="39"/>
                        </a:ln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58" y="49"/>
                        </a:lnTo>
                        <a:lnTo>
                          <a:pt x="58" y="49"/>
                        </a:lnTo>
                        <a:lnTo>
                          <a:pt x="58" y="58"/>
                        </a:lnTo>
                        <a:lnTo>
                          <a:pt x="58" y="68"/>
                        </a:lnTo>
                        <a:lnTo>
                          <a:pt x="77" y="6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97" y="68"/>
                        </a:lnTo>
                        <a:lnTo>
                          <a:pt x="97" y="6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16" y="58"/>
                        </a:lnTo>
                        <a:lnTo>
                          <a:pt x="136" y="58"/>
                        </a:lnTo>
                        <a:lnTo>
                          <a:pt x="136" y="68"/>
                        </a:lnTo>
                        <a:lnTo>
                          <a:pt x="145" y="68"/>
                        </a:lnTo>
                        <a:lnTo>
                          <a:pt x="155" y="68"/>
                        </a:lnTo>
                        <a:lnTo>
                          <a:pt x="15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75" y="58"/>
                        </a:lnTo>
                        <a:lnTo>
                          <a:pt x="184" y="68"/>
                        </a:lnTo>
                        <a:lnTo>
                          <a:pt x="184" y="68"/>
                        </a:lnTo>
                        <a:lnTo>
                          <a:pt x="194" y="68"/>
                        </a:lnTo>
                        <a:lnTo>
                          <a:pt x="194" y="68"/>
                        </a:lnTo>
                        <a:lnTo>
                          <a:pt x="204" y="68"/>
                        </a:lnTo>
                        <a:lnTo>
                          <a:pt x="214" y="58"/>
                        </a:lnTo>
                        <a:lnTo>
                          <a:pt x="223" y="58"/>
                        </a:lnTo>
                        <a:lnTo>
                          <a:pt x="233" y="68"/>
                        </a:lnTo>
                        <a:lnTo>
                          <a:pt x="243" y="58"/>
                        </a:lnTo>
                        <a:lnTo>
                          <a:pt x="243" y="68"/>
                        </a:lnTo>
                        <a:lnTo>
                          <a:pt x="252" y="68"/>
                        </a:lnTo>
                        <a:lnTo>
                          <a:pt x="252" y="78"/>
                        </a:lnTo>
                        <a:lnTo>
                          <a:pt x="262" y="68"/>
                        </a:lnTo>
                        <a:lnTo>
                          <a:pt x="262" y="58"/>
                        </a:lnTo>
                        <a:lnTo>
                          <a:pt x="262" y="68"/>
                        </a:lnTo>
                        <a:lnTo>
                          <a:pt x="272" y="58"/>
                        </a:lnTo>
                        <a:lnTo>
                          <a:pt x="291" y="5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11" y="68"/>
                        </a:lnTo>
                        <a:lnTo>
                          <a:pt x="311" y="68"/>
                        </a:lnTo>
                        <a:lnTo>
                          <a:pt x="311" y="58"/>
                        </a:lnTo>
                        <a:lnTo>
                          <a:pt x="330" y="58"/>
                        </a:lnTo>
                        <a:lnTo>
                          <a:pt x="340" y="68"/>
                        </a:lnTo>
                        <a:lnTo>
                          <a:pt x="359" y="68"/>
                        </a:lnTo>
                        <a:lnTo>
                          <a:pt x="369" y="58"/>
                        </a:lnTo>
                        <a:lnTo>
                          <a:pt x="369" y="58"/>
                        </a:lnTo>
                        <a:lnTo>
                          <a:pt x="369" y="49"/>
                        </a:lnTo>
                        <a:lnTo>
                          <a:pt x="359" y="49"/>
                        </a:lnTo>
                        <a:lnTo>
                          <a:pt x="350" y="49"/>
                        </a:lnTo>
                        <a:lnTo>
                          <a:pt x="340" y="39"/>
                        </a:lnTo>
                        <a:lnTo>
                          <a:pt x="311" y="3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79" y="39"/>
                        </a:lnTo>
                        <a:lnTo>
                          <a:pt x="379" y="29"/>
                        </a:lnTo>
                        <a:lnTo>
                          <a:pt x="369" y="19"/>
                        </a:lnTo>
                        <a:lnTo>
                          <a:pt x="359" y="19"/>
                        </a:lnTo>
                        <a:lnTo>
                          <a:pt x="350" y="19"/>
                        </a:lnTo>
                        <a:lnTo>
                          <a:pt x="321" y="19"/>
                        </a:lnTo>
                        <a:lnTo>
                          <a:pt x="311" y="19"/>
                        </a:lnTo>
                        <a:lnTo>
                          <a:pt x="301" y="19"/>
                        </a:lnTo>
                        <a:lnTo>
                          <a:pt x="301" y="10"/>
                        </a:lnTo>
                        <a:lnTo>
                          <a:pt x="291" y="19"/>
                        </a:lnTo>
                        <a:lnTo>
                          <a:pt x="291" y="19"/>
                        </a:lnTo>
                        <a:lnTo>
                          <a:pt x="282" y="19"/>
                        </a:lnTo>
                        <a:lnTo>
                          <a:pt x="282" y="19"/>
                        </a:lnTo>
                        <a:lnTo>
                          <a:pt x="272" y="19"/>
                        </a:lnTo>
                        <a:lnTo>
                          <a:pt x="252" y="19"/>
                        </a:lnTo>
                        <a:lnTo>
                          <a:pt x="252" y="10"/>
                        </a:lnTo>
                        <a:lnTo>
                          <a:pt x="252" y="0"/>
                        </a:lnTo>
                        <a:lnTo>
                          <a:pt x="243" y="10"/>
                        </a:lnTo>
                        <a:lnTo>
                          <a:pt x="243" y="10"/>
                        </a:lnTo>
                        <a:lnTo>
                          <a:pt x="233" y="19"/>
                        </a:lnTo>
                        <a:lnTo>
                          <a:pt x="233" y="19"/>
                        </a:lnTo>
                        <a:lnTo>
                          <a:pt x="223" y="19"/>
                        </a:lnTo>
                        <a:lnTo>
                          <a:pt x="214" y="19"/>
                        </a:lnTo>
                        <a:lnTo>
                          <a:pt x="204" y="19"/>
                        </a:lnTo>
                        <a:lnTo>
                          <a:pt x="20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84" y="0"/>
                        </a:lnTo>
                        <a:lnTo>
                          <a:pt x="184" y="10"/>
                        </a:lnTo>
                        <a:lnTo>
                          <a:pt x="184" y="19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lnTo>
                          <a:pt x="145" y="10"/>
                        </a:lnTo>
                        <a:lnTo>
                          <a:pt x="145" y="0"/>
                        </a:ln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126" y="19"/>
                        </a:lnTo>
                        <a:lnTo>
                          <a:pt x="97" y="19"/>
                        </a:lnTo>
                        <a:lnTo>
                          <a:pt x="97" y="0"/>
                        </a:lnTo>
                        <a:lnTo>
                          <a:pt x="252" y="0"/>
                        </a:lnTo>
                        <a:lnTo>
                          <a:pt x="262" y="10"/>
                        </a:lnTo>
                        <a:lnTo>
                          <a:pt x="340" y="10"/>
                        </a:lnTo>
                        <a:lnTo>
                          <a:pt x="350" y="10"/>
                        </a:lnTo>
                        <a:lnTo>
                          <a:pt x="389" y="10"/>
                        </a:lnTo>
                        <a:lnTo>
                          <a:pt x="389" y="29"/>
                        </a:lnTo>
                        <a:lnTo>
                          <a:pt x="389" y="68"/>
                        </a:lnTo>
                        <a:lnTo>
                          <a:pt x="389" y="78"/>
                        </a:lnTo>
                        <a:lnTo>
                          <a:pt x="379" y="97"/>
                        </a:lnTo>
                        <a:lnTo>
                          <a:pt x="19" y="87"/>
                        </a:lnTo>
                        <a:lnTo>
                          <a:pt x="9" y="7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558960" y="285300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9" y="1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564720" y="2864520"/>
                    <a:ext cx="36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0">
                        <a:moveTo>
                          <a:pt x="49" y="30"/>
                        </a:move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570840" y="2877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570840" y="2888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601080" y="289476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607200" y="288324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612600" y="288324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0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625200" y="28947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630600" y="2883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642840" y="288324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29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660840" y="288864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691080" y="2888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696480" y="2888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702960" y="288864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39" y="10"/>
                        </a:move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726720" y="288864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733200" y="288324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9"/>
                        </a:move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726720" y="287712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9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726720" y="2870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733200" y="287064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8" y="10"/>
                        </a:moveTo>
                        <a:lnTo>
                          <a:pt x="5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762720" y="286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726720" y="285912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696480" y="285912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69108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68496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660840" y="28530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649320" y="285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9" y="0"/>
                        </a:moveTo>
                        <a:lnTo>
                          <a:pt x="9" y="10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630600" y="28530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63060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61872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601080" y="2859120"/>
                    <a:ext cx="17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594960" y="285300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0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601080" y="2853000"/>
                    <a:ext cx="9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">
                        <a:moveTo>
                          <a:pt x="15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69648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702960" y="2853000"/>
                    <a:ext cx="78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9">
                        <a:moveTo>
                          <a:pt x="127" y="10"/>
                        </a:move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127" y="19"/>
                        </a:lnTo>
                        <a:lnTo>
                          <a:pt x="117" y="19"/>
                        </a:lnTo>
                        <a:lnTo>
                          <a:pt x="12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77496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9" y="77"/>
                        </a:move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77"/>
                        </a:lnTo>
                        <a:lnTo>
                          <a:pt x="19" y="68"/>
                        </a:lnTo>
                        <a:lnTo>
                          <a:pt x="1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774960" y="290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552840" y="2906640"/>
                    <a:ext cx="22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0">
                        <a:moveTo>
                          <a:pt x="0" y="10"/>
                        </a:moveTo>
                        <a:lnTo>
                          <a:pt x="360" y="1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535200" y="2853000"/>
                    <a:ext cx="17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87"/>
                        </a:lnTo>
                        <a:lnTo>
                          <a:pt x="29" y="97"/>
                        </a:lnTo>
                        <a:lnTo>
                          <a:pt x="29" y="87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535200" y="2846880"/>
                    <a:ext cx="59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0">
                        <a:moveTo>
                          <a:pt x="97" y="1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794840" y="2859120"/>
                    <a:ext cx="4680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94">
                        <a:moveTo>
                          <a:pt x="749" y="9"/>
                        </a:moveTo>
                        <a:lnTo>
                          <a:pt x="759" y="9"/>
                        </a:lnTo>
                        <a:lnTo>
                          <a:pt x="759" y="9"/>
                        </a:lnTo>
                        <a:lnTo>
                          <a:pt x="759" y="48"/>
                        </a:lnTo>
                        <a:lnTo>
                          <a:pt x="759" y="58"/>
                        </a:lnTo>
                        <a:lnTo>
                          <a:pt x="759" y="68"/>
                        </a:lnTo>
                        <a:lnTo>
                          <a:pt x="759" y="77"/>
                        </a:lnTo>
                        <a:lnTo>
                          <a:pt x="749" y="97"/>
                        </a:lnTo>
                        <a:lnTo>
                          <a:pt x="739" y="107"/>
                        </a:lnTo>
                        <a:lnTo>
                          <a:pt x="739" y="126"/>
                        </a:lnTo>
                        <a:lnTo>
                          <a:pt x="739" y="146"/>
                        </a:lnTo>
                        <a:lnTo>
                          <a:pt x="739" y="155"/>
                        </a:lnTo>
                        <a:lnTo>
                          <a:pt x="730" y="175"/>
                        </a:lnTo>
                        <a:lnTo>
                          <a:pt x="730" y="185"/>
                        </a:lnTo>
                        <a:lnTo>
                          <a:pt x="720" y="194"/>
                        </a:lnTo>
                        <a:lnTo>
                          <a:pt x="574" y="194"/>
                        </a:lnTo>
                        <a:lnTo>
                          <a:pt x="574" y="185"/>
                        </a:lnTo>
                        <a:lnTo>
                          <a:pt x="564" y="185"/>
                        </a:lnTo>
                        <a:lnTo>
                          <a:pt x="555" y="185"/>
                        </a:lnTo>
                        <a:lnTo>
                          <a:pt x="545" y="185"/>
                        </a:lnTo>
                        <a:lnTo>
                          <a:pt x="545" y="194"/>
                        </a:lnTo>
                        <a:lnTo>
                          <a:pt x="535" y="185"/>
                        </a:lnTo>
                        <a:lnTo>
                          <a:pt x="496" y="185"/>
                        </a:lnTo>
                        <a:lnTo>
                          <a:pt x="477" y="185"/>
                        </a:lnTo>
                        <a:lnTo>
                          <a:pt x="379" y="185"/>
                        </a:lnTo>
                        <a:lnTo>
                          <a:pt x="370" y="185"/>
                        </a:lnTo>
                        <a:lnTo>
                          <a:pt x="282" y="185"/>
                        </a:lnTo>
                        <a:lnTo>
                          <a:pt x="263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68" y="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66" y="0"/>
                        </a:lnTo>
                        <a:lnTo>
                          <a:pt x="195" y="0"/>
                        </a:lnTo>
                        <a:lnTo>
                          <a:pt x="331" y="0"/>
                        </a:lnTo>
                        <a:lnTo>
                          <a:pt x="350" y="0"/>
                        </a:lnTo>
                        <a:lnTo>
                          <a:pt x="418" y="0"/>
                        </a:lnTo>
                        <a:lnTo>
                          <a:pt x="448" y="0"/>
                        </a:lnTo>
                        <a:lnTo>
                          <a:pt x="467" y="0"/>
                        </a:lnTo>
                        <a:lnTo>
                          <a:pt x="496" y="0"/>
                        </a:lnTo>
                        <a:lnTo>
                          <a:pt x="700" y="0"/>
                        </a:lnTo>
                        <a:lnTo>
                          <a:pt x="720" y="0"/>
                        </a:lnTo>
                        <a:lnTo>
                          <a:pt x="749" y="9"/>
                        </a:lnTo>
                        <a:close/>
                      </a:path>
                    </a:pathLst>
                  </a:custGeom>
                  <a:solidFill>
                    <a:srgbClr val="b25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525672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0" y="77"/>
                        </a:move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48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77"/>
                        </a:lnTo>
                        <a:lnTo>
                          <a:pt x="0" y="7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239080" y="2906640"/>
                    <a:ext cx="23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10" y="108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19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10" y="6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5149080" y="2973240"/>
                    <a:ext cx="89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124960" y="297324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818960" y="2967120"/>
                    <a:ext cx="306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9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438" y="10"/>
                        </a:lnTo>
                        <a:lnTo>
                          <a:pt x="457" y="19"/>
                        </a:lnTo>
                        <a:lnTo>
                          <a:pt x="496" y="19"/>
                        </a:lnTo>
                        <a:lnTo>
                          <a:pt x="496" y="10"/>
                        </a:lnTo>
                        <a:lnTo>
                          <a:pt x="457" y="10"/>
                        </a:lnTo>
                        <a:lnTo>
                          <a:pt x="438" y="10"/>
                        </a:lnTo>
                        <a:lnTo>
                          <a:pt x="370" y="10"/>
                        </a:lnTo>
                        <a:lnTo>
                          <a:pt x="360" y="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812840" y="29610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94840" y="288864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17"/>
                        </a:lnTo>
                        <a:lnTo>
                          <a:pt x="39" y="117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94840" y="286452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94840" y="2853000"/>
                    <a:ext cx="22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29">
                        <a:moveTo>
                          <a:pt x="370" y="0"/>
                        </a:moveTo>
                        <a:lnTo>
                          <a:pt x="350" y="0"/>
                        </a:lnTo>
                        <a:lnTo>
                          <a:pt x="331" y="10"/>
                        </a:lnTo>
                        <a:lnTo>
                          <a:pt x="214" y="10"/>
                        </a:lnTo>
                        <a:lnTo>
                          <a:pt x="195" y="0"/>
                        </a:lnTo>
                        <a:lnTo>
                          <a:pt x="117" y="0"/>
                        </a:lnTo>
                        <a:lnTo>
                          <a:pt x="97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20" y="1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350" y="19"/>
                        </a:lnTo>
                        <a:lnTo>
                          <a:pt x="370" y="1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023080" y="2853000"/>
                    <a:ext cx="23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9">
                        <a:moveTo>
                          <a:pt x="379" y="10"/>
                        </a:moveTo>
                        <a:lnTo>
                          <a:pt x="350" y="10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48" y="19"/>
                        </a:lnTo>
                        <a:lnTo>
                          <a:pt x="175" y="19"/>
                        </a:lnTo>
                        <a:lnTo>
                          <a:pt x="194" y="10"/>
                        </a:lnTo>
                        <a:lnTo>
                          <a:pt x="301" y="10"/>
                        </a:lnTo>
                        <a:lnTo>
                          <a:pt x="330" y="1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792960" y="2864520"/>
                    <a:ext cx="21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98">
                        <a:moveTo>
                          <a:pt x="175" y="0"/>
                        </a:moveTo>
                        <a:lnTo>
                          <a:pt x="175" y="30"/>
                        </a:lnTo>
                        <a:lnTo>
                          <a:pt x="175" y="49"/>
                        </a:lnTo>
                        <a:lnTo>
                          <a:pt x="165" y="68"/>
                        </a:lnTo>
                        <a:lnTo>
                          <a:pt x="175" y="88"/>
                        </a:lnTo>
                        <a:lnTo>
                          <a:pt x="185" y="88"/>
                        </a:lnTo>
                        <a:lnTo>
                          <a:pt x="195" y="88"/>
                        </a:lnTo>
                        <a:lnTo>
                          <a:pt x="195" y="0"/>
                        </a:lnTo>
                        <a:lnTo>
                          <a:pt x="311" y="0"/>
                        </a:lnTo>
                        <a:lnTo>
                          <a:pt x="321" y="10"/>
                        </a:lnTo>
                        <a:lnTo>
                          <a:pt x="331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340" y="49"/>
                        </a:lnTo>
                        <a:lnTo>
                          <a:pt x="350" y="68"/>
                        </a:lnTo>
                        <a:lnTo>
                          <a:pt x="350" y="88"/>
                        </a:lnTo>
                        <a:lnTo>
                          <a:pt x="350" y="88"/>
                        </a:lnTo>
                        <a:lnTo>
                          <a:pt x="311" y="88"/>
                        </a:lnTo>
                        <a:lnTo>
                          <a:pt x="282" y="9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56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94840" y="286452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10" y="88"/>
                        </a:move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0"/>
                        </a:lnTo>
                        <a:lnTo>
                          <a:pt x="0" y="4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00960" y="2918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07080" y="2864520"/>
                    <a:ext cx="61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13200" y="2864520"/>
                    <a:ext cx="9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0">
                        <a:moveTo>
                          <a:pt x="155" y="10"/>
                        </a:moveTo>
                        <a:lnTo>
                          <a:pt x="155" y="10"/>
                        </a:lnTo>
                        <a:lnTo>
                          <a:pt x="145" y="1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20"/>
                        </a:lnTo>
                        <a:lnTo>
                          <a:pt x="145" y="20"/>
                        </a:lnTo>
                        <a:lnTo>
                          <a:pt x="14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4002480" y="2870640"/>
                    <a:ext cx="122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002480" y="29127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799080" y="2918880"/>
                    <a:ext cx="209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0"/>
                        </a:moveTo>
                        <a:lnTo>
                          <a:pt x="272" y="10"/>
                        </a:lnTo>
                        <a:lnTo>
                          <a:pt x="301" y="10"/>
                        </a:lnTo>
                        <a:lnTo>
                          <a:pt x="340" y="10"/>
                        </a:lnTo>
                        <a:lnTo>
                          <a:pt x="340" y="0"/>
                        </a:lnTo>
                        <a:lnTo>
                          <a:pt x="321" y="0"/>
                        </a:lnTo>
                        <a:lnTo>
                          <a:pt x="301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792960" y="2918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792960" y="285912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799080" y="2859120"/>
                    <a:ext cx="10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9">
                        <a:moveTo>
                          <a:pt x="165" y="9"/>
                        </a:move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97" y="9"/>
                        </a:lnTo>
                        <a:lnTo>
                          <a:pt x="87" y="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46" y="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421080" y="2864520"/>
                    <a:ext cx="624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95">
                        <a:moveTo>
                          <a:pt x="165" y="0"/>
                        </a:moveTo>
                        <a:lnTo>
                          <a:pt x="175" y="10"/>
                        </a:lnTo>
                        <a:lnTo>
                          <a:pt x="175" y="30"/>
                        </a:lnTo>
                        <a:lnTo>
                          <a:pt x="175" y="39"/>
                        </a:lnTo>
                        <a:lnTo>
                          <a:pt x="175" y="49"/>
                        </a:lnTo>
                        <a:lnTo>
                          <a:pt x="185" y="68"/>
                        </a:lnTo>
                        <a:lnTo>
                          <a:pt x="195" y="88"/>
                        </a:lnTo>
                        <a:lnTo>
                          <a:pt x="214" y="88"/>
                        </a:lnTo>
                        <a:lnTo>
                          <a:pt x="350" y="88"/>
                        </a:lnTo>
                        <a:lnTo>
                          <a:pt x="370" y="88"/>
                        </a:lnTo>
                        <a:lnTo>
                          <a:pt x="535" y="88"/>
                        </a:lnTo>
                        <a:lnTo>
                          <a:pt x="56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93" y="98"/>
                        </a:lnTo>
                        <a:lnTo>
                          <a:pt x="593" y="107"/>
                        </a:lnTo>
                        <a:lnTo>
                          <a:pt x="603" y="117"/>
                        </a:lnTo>
                        <a:lnTo>
                          <a:pt x="953" y="117"/>
                        </a:lnTo>
                        <a:lnTo>
                          <a:pt x="963" y="107"/>
                        </a:lnTo>
                        <a:lnTo>
                          <a:pt x="973" y="98"/>
                        </a:lnTo>
                        <a:lnTo>
                          <a:pt x="973" y="88"/>
                        </a:lnTo>
                        <a:lnTo>
                          <a:pt x="973" y="78"/>
                        </a:lnTo>
                        <a:lnTo>
                          <a:pt x="973" y="68"/>
                        </a:lnTo>
                        <a:lnTo>
                          <a:pt x="963" y="49"/>
                        </a:lnTo>
                        <a:lnTo>
                          <a:pt x="963" y="30"/>
                        </a:lnTo>
                        <a:lnTo>
                          <a:pt x="1002" y="30"/>
                        </a:lnTo>
                        <a:lnTo>
                          <a:pt x="1012" y="39"/>
                        </a:lnTo>
                        <a:lnTo>
                          <a:pt x="1012" y="176"/>
                        </a:lnTo>
                        <a:lnTo>
                          <a:pt x="1002" y="176"/>
                        </a:lnTo>
                        <a:lnTo>
                          <a:pt x="992" y="176"/>
                        </a:lnTo>
                        <a:lnTo>
                          <a:pt x="992" y="185"/>
                        </a:lnTo>
                        <a:lnTo>
                          <a:pt x="953" y="185"/>
                        </a:lnTo>
                        <a:lnTo>
                          <a:pt x="943" y="176"/>
                        </a:lnTo>
                        <a:lnTo>
                          <a:pt x="924" y="185"/>
                        </a:lnTo>
                        <a:lnTo>
                          <a:pt x="905" y="185"/>
                        </a:lnTo>
                        <a:lnTo>
                          <a:pt x="856" y="185"/>
                        </a:lnTo>
                        <a:lnTo>
                          <a:pt x="827" y="195"/>
                        </a:lnTo>
                        <a:lnTo>
                          <a:pt x="661" y="195"/>
                        </a:lnTo>
                        <a:lnTo>
                          <a:pt x="632" y="185"/>
                        </a:lnTo>
                        <a:lnTo>
                          <a:pt x="584" y="185"/>
                        </a:lnTo>
                        <a:lnTo>
                          <a:pt x="564" y="195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0" y="117"/>
                        </a:lnTo>
                        <a:lnTo>
                          <a:pt x="0" y="39"/>
                        </a:lnTo>
                        <a:lnTo>
                          <a:pt x="10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c1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522600" y="2864520"/>
                    <a:ext cx="29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49" y="88"/>
                        </a:moveTo>
                        <a:lnTo>
                          <a:pt x="30" y="78"/>
                        </a:lnTo>
                        <a:lnTo>
                          <a:pt x="20" y="6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30" y="88"/>
                        </a:lnTo>
                        <a:lnTo>
                          <a:pt x="49" y="88"/>
                        </a:lnTo>
                        <a:lnTo>
                          <a:pt x="4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552840" y="2918880"/>
                    <a:ext cx="22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0">
                        <a:moveTo>
                          <a:pt x="370" y="0"/>
                        </a:move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21" y="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85" y="10"/>
                        </a:lnTo>
                        <a:lnTo>
                          <a:pt x="302" y="10"/>
                        </a:lnTo>
                        <a:lnTo>
                          <a:pt x="321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781080" y="2918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781080" y="291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29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92960" y="2930760"/>
                    <a:ext cx="215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10">
                        <a:moveTo>
                          <a:pt x="350" y="0"/>
                        </a:moveTo>
                        <a:lnTo>
                          <a:pt x="4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311" y="10"/>
                        </a:lnTo>
                        <a:lnTo>
                          <a:pt x="331" y="10"/>
                        </a:lnTo>
                        <a:lnTo>
                          <a:pt x="350" y="10"/>
                        </a:lnTo>
                        <a:lnTo>
                          <a:pt x="3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08960" y="28771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015080" y="287712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58" y="39"/>
                        </a:move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045320" y="2901240"/>
                    <a:ext cx="5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7">
                        <a:moveTo>
                          <a:pt x="0" y="117"/>
                        </a:moveTo>
                        <a:lnTo>
                          <a:pt x="9" y="11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002480" y="29671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768840" y="2973240"/>
                    <a:ext cx="23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9">
                        <a:moveTo>
                          <a:pt x="0" y="19"/>
                        </a:moveTo>
                        <a:lnTo>
                          <a:pt x="263" y="19"/>
                        </a:lnTo>
                        <a:lnTo>
                          <a:pt x="292" y="19"/>
                        </a:lnTo>
                        <a:lnTo>
                          <a:pt x="311" y="19"/>
                        </a:lnTo>
                        <a:lnTo>
                          <a:pt x="341" y="9"/>
                        </a:lnTo>
                        <a:lnTo>
                          <a:pt x="360" y="9"/>
                        </a:lnTo>
                        <a:lnTo>
                          <a:pt x="389" y="9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1" y="9"/>
                        </a:lnTo>
                        <a:lnTo>
                          <a:pt x="311" y="9"/>
                        </a:lnTo>
                        <a:lnTo>
                          <a:pt x="292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427200" y="2978640"/>
                    <a:ext cx="341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54" y="1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4" name=""/>
                <p:cNvSpPr/>
                <p:nvPr/>
              </p:nvSpPr>
              <p:spPr>
                <a:xfrm>
                  <a:off x="3421080" y="2884320"/>
                  <a:ext cx="12240" cy="95400"/>
                </a:xfrm>
                <a:custGeom>
                  <a:avLst/>
                  <a:gdLst/>
                  <a:ahLst/>
                  <a:rect l="l" t="t" r="r" b="b"/>
                  <a:pathLst>
                    <a:path w="20" h="155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0" y="87"/>
                      </a:lnTo>
                      <a:lnTo>
                        <a:pt x="0" y="126"/>
                      </a:lnTo>
                      <a:lnTo>
                        <a:pt x="10" y="155"/>
                      </a:lnTo>
                      <a:lnTo>
                        <a:pt x="20" y="155"/>
                      </a:lnTo>
                      <a:lnTo>
                        <a:pt x="10" y="126"/>
                      </a:lnTo>
                      <a:lnTo>
                        <a:pt x="10" y="87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21080" y="2865960"/>
                  <a:ext cx="5760" cy="230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426840" y="2865960"/>
                  <a:ext cx="101520" cy="360"/>
                </a:xfrm>
                <a:custGeom>
                  <a:avLst/>
                  <a:gdLst/>
                  <a:ahLst/>
                  <a:rect l="l" t="t" r="r" b="b"/>
                  <a:pathLst>
                    <a:path w="165" h="0">
                      <a:moveTo>
                        <a:pt x="165" y="0"/>
                      </a:moveTo>
                      <a:lnTo>
                        <a:pt x="15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07560" y="287208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20160" y="2872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1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6014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10"/>
                      </a:moveTo>
                      <a:lnTo>
                        <a:pt x="10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601440" y="286596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636720" y="2872080"/>
                  <a:ext cx="1224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630600" y="2878200"/>
                  <a:ext cx="18360" cy="612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630600" y="286596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636720" y="2865960"/>
                  <a:ext cx="18360" cy="122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9" y="10"/>
                      </a:moveTo>
                      <a:lnTo>
                        <a:pt x="2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648960" y="287208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67680" y="2872080"/>
                  <a:ext cx="1692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661560" y="287208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39" y="20"/>
                      </a:lnTo>
                      <a:lnTo>
                        <a:pt x="4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67680" y="28720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684600" y="28720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2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6968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30" y="20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96840" y="2878200"/>
                  <a:ext cx="24480" cy="612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696840" y="286596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39" y="30"/>
                      </a:moveTo>
                      <a:lnTo>
                        <a:pt x="49" y="20"/>
                      </a:lnTo>
                      <a:lnTo>
                        <a:pt x="49" y="20"/>
                      </a:lnTo>
                      <a:lnTo>
                        <a:pt x="39" y="10"/>
                      </a:lnTo>
                      <a:lnTo>
                        <a:pt x="30" y="10"/>
                      </a:ln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30"/>
                      </a:lnTo>
                      <a:lnTo>
                        <a:pt x="49" y="30"/>
                      </a:lnTo>
                      <a:lnTo>
                        <a:pt x="49" y="2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709080" y="29970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8" h="88">
                      <a:moveTo>
                        <a:pt x="78" y="20"/>
                      </a:moveTo>
                      <a:lnTo>
                        <a:pt x="78" y="88"/>
                      </a:lnTo>
                      <a:lnTo>
                        <a:pt x="68" y="88"/>
                      </a:lnTo>
                      <a:lnTo>
                        <a:pt x="68" y="78"/>
                      </a:lnTo>
                      <a:lnTo>
                        <a:pt x="58" y="78"/>
                      </a:lnTo>
                      <a:lnTo>
                        <a:pt x="49" y="69"/>
                      </a:lnTo>
                      <a:lnTo>
                        <a:pt x="49" y="69"/>
                      </a:lnTo>
                      <a:lnTo>
                        <a:pt x="39" y="69"/>
                      </a:lnTo>
                      <a:lnTo>
                        <a:pt x="29" y="59"/>
                      </a:lnTo>
                      <a:lnTo>
                        <a:pt x="29" y="4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10"/>
                      </a:lnTo>
                      <a:lnTo>
                        <a:pt x="78" y="2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750840" y="3009240"/>
                  <a:ext cx="6120" cy="414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0" y="5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727800" y="302796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20" y="29"/>
                      </a:lnTo>
                      <a:lnTo>
                        <a:pt x="29" y="2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0" y="2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709080" y="2992320"/>
                  <a:ext cx="18360" cy="41760"/>
                </a:xfrm>
                <a:custGeom>
                  <a:avLst/>
                  <a:gdLst/>
                  <a:ahLst/>
                  <a:rect l="l" t="t" r="r" b="b"/>
                  <a:pathLst>
                    <a:path w="29" h="68">
                      <a:moveTo>
                        <a:pt x="1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9" y="48"/>
                      </a:lnTo>
                      <a:lnTo>
                        <a:pt x="19" y="58"/>
                      </a:lnTo>
                      <a:lnTo>
                        <a:pt x="19" y="58"/>
                      </a:lnTo>
                      <a:lnTo>
                        <a:pt x="29" y="68"/>
                      </a:lnTo>
                      <a:lnTo>
                        <a:pt x="29" y="6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19" y="48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709080" y="2992320"/>
                  <a:ext cx="47880" cy="1692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29"/>
                      </a:moveTo>
                      <a:lnTo>
                        <a:pt x="78" y="19"/>
                      </a:lnTo>
                      <a:lnTo>
                        <a:pt x="68" y="9"/>
                      </a:lnTo>
                      <a:lnTo>
                        <a:pt x="58" y="0"/>
                      </a:lnTo>
                      <a:lnTo>
                        <a:pt x="49" y="0"/>
                      </a:lnTo>
                      <a:lnTo>
                        <a:pt x="39" y="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29" y="19"/>
                      </a:lnTo>
                      <a:lnTo>
                        <a:pt x="39" y="9"/>
                      </a:lnTo>
                      <a:lnTo>
                        <a:pt x="58" y="9"/>
                      </a:lnTo>
                      <a:lnTo>
                        <a:pt x="68" y="1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829680" y="2992320"/>
                  <a:ext cx="114120" cy="118800"/>
                </a:xfrm>
                <a:custGeom>
                  <a:avLst/>
                  <a:gdLst/>
                  <a:ahLst/>
                  <a:rect l="l" t="t" r="r" b="b"/>
                  <a:pathLst>
                    <a:path w="185" h="194">
                      <a:moveTo>
                        <a:pt x="146" y="9"/>
                      </a:moveTo>
                      <a:lnTo>
                        <a:pt x="156" y="19"/>
                      </a:lnTo>
                      <a:lnTo>
                        <a:pt x="156" y="29"/>
                      </a:lnTo>
                      <a:lnTo>
                        <a:pt x="166" y="39"/>
                      </a:lnTo>
                      <a:lnTo>
                        <a:pt x="175" y="58"/>
                      </a:lnTo>
                      <a:lnTo>
                        <a:pt x="185" y="58"/>
                      </a:lnTo>
                      <a:lnTo>
                        <a:pt x="185" y="78"/>
                      </a:lnTo>
                      <a:lnTo>
                        <a:pt x="185" y="87"/>
                      </a:lnTo>
                      <a:lnTo>
                        <a:pt x="185" y="107"/>
                      </a:lnTo>
                      <a:lnTo>
                        <a:pt x="185" y="117"/>
                      </a:lnTo>
                      <a:lnTo>
                        <a:pt x="117" y="185"/>
                      </a:lnTo>
                      <a:lnTo>
                        <a:pt x="107" y="194"/>
                      </a:lnTo>
                      <a:lnTo>
                        <a:pt x="98" y="194"/>
                      </a:lnTo>
                      <a:lnTo>
                        <a:pt x="88" y="185"/>
                      </a:lnTo>
                      <a:lnTo>
                        <a:pt x="68" y="175"/>
                      </a:lnTo>
                      <a:lnTo>
                        <a:pt x="59" y="175"/>
                      </a:lnTo>
                      <a:lnTo>
                        <a:pt x="49" y="165"/>
                      </a:lnTo>
                      <a:lnTo>
                        <a:pt x="39" y="156"/>
                      </a:lnTo>
                      <a:lnTo>
                        <a:pt x="20" y="156"/>
                      </a:lnTo>
                      <a:lnTo>
                        <a:pt x="10" y="156"/>
                      </a:lnTo>
                      <a:lnTo>
                        <a:pt x="0" y="136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0" y="78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39" y="29"/>
                      </a:lnTo>
                      <a:lnTo>
                        <a:pt x="49" y="19"/>
                      </a:lnTo>
                      <a:lnTo>
                        <a:pt x="59" y="19"/>
                      </a:lnTo>
                      <a:lnTo>
                        <a:pt x="68" y="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0"/>
                      </a:lnTo>
                      <a:lnTo>
                        <a:pt x="137" y="0"/>
                      </a:lnTo>
                      <a:lnTo>
                        <a:pt x="146" y="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912840" y="2997000"/>
                  <a:ext cx="36720" cy="6012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48" y="98"/>
                      </a:moveTo>
                      <a:lnTo>
                        <a:pt x="48" y="98"/>
                      </a:lnTo>
                      <a:lnTo>
                        <a:pt x="58" y="78"/>
                      </a:lnTo>
                      <a:lnTo>
                        <a:pt x="58" y="69"/>
                      </a:lnTo>
                      <a:lnTo>
                        <a:pt x="48" y="49"/>
                      </a:lnTo>
                      <a:lnTo>
                        <a:pt x="48" y="39"/>
                      </a:lnTo>
                      <a:lnTo>
                        <a:pt x="38" y="3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20"/>
                      </a:lnTo>
                      <a:lnTo>
                        <a:pt x="29" y="39"/>
                      </a:lnTo>
                      <a:lnTo>
                        <a:pt x="38" y="49"/>
                      </a:lnTo>
                      <a:lnTo>
                        <a:pt x="48" y="59"/>
                      </a:lnTo>
                      <a:lnTo>
                        <a:pt x="48" y="69"/>
                      </a:lnTo>
                      <a:lnTo>
                        <a:pt x="48" y="98"/>
                      </a:lnTo>
                      <a:lnTo>
                        <a:pt x="48" y="88"/>
                      </a:lnTo>
                      <a:lnTo>
                        <a:pt x="4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889800" y="3051000"/>
                  <a:ext cx="54000" cy="60120"/>
                </a:xfrm>
                <a:custGeom>
                  <a:avLst/>
                  <a:gdLst/>
                  <a:ahLst/>
                  <a:rect l="l" t="t" r="r" b="b"/>
                  <a:pathLst>
                    <a:path w="87" h="97">
                      <a:moveTo>
                        <a:pt x="9" y="97"/>
                      </a:moveTo>
                      <a:lnTo>
                        <a:pt x="9" y="97"/>
                      </a:lnTo>
                      <a:lnTo>
                        <a:pt x="19" y="88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7" y="29"/>
                      </a:lnTo>
                      <a:lnTo>
                        <a:pt x="87" y="2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7" y="10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19" y="68"/>
                      </a:lnTo>
                      <a:lnTo>
                        <a:pt x="9" y="88"/>
                      </a:lnTo>
                      <a:lnTo>
                        <a:pt x="0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835800" y="3081960"/>
                  <a:ext cx="58680" cy="29160"/>
                </a:xfrm>
                <a:custGeom>
                  <a:avLst/>
                  <a:gdLst/>
                  <a:ahLst/>
                  <a:rect l="l" t="t" r="r" b="b"/>
                  <a:pathLst>
                    <a:path w="97" h="4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49" y="29"/>
                      </a:lnTo>
                      <a:lnTo>
                        <a:pt x="58" y="39"/>
                      </a:lnTo>
                      <a:lnTo>
                        <a:pt x="68" y="48"/>
                      </a:lnTo>
                      <a:lnTo>
                        <a:pt x="88" y="48"/>
                      </a:lnTo>
                      <a:lnTo>
                        <a:pt x="97" y="48"/>
                      </a:lnTo>
                      <a:lnTo>
                        <a:pt x="97" y="48"/>
                      </a:lnTo>
                      <a:lnTo>
                        <a:pt x="88" y="39"/>
                      </a:lnTo>
                      <a:lnTo>
                        <a:pt x="78" y="39"/>
                      </a:lnTo>
                      <a:lnTo>
                        <a:pt x="58" y="29"/>
                      </a:lnTo>
                      <a:lnTo>
                        <a:pt x="49" y="19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23560" y="3040200"/>
                  <a:ext cx="12240" cy="47880"/>
                </a:xfrm>
                <a:custGeom>
                  <a:avLst/>
                  <a:gdLst/>
                  <a:ahLst/>
                  <a:rect l="l" t="t" r="r" b="b"/>
                  <a:pathLst>
                    <a:path w="19" h="78">
                      <a:moveTo>
                        <a:pt x="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9" y="58"/>
                      </a:lnTo>
                      <a:lnTo>
                        <a:pt x="19" y="78"/>
                      </a:lnTo>
                      <a:lnTo>
                        <a:pt x="19" y="78"/>
                      </a:lnTo>
                      <a:lnTo>
                        <a:pt x="19" y="5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1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829680" y="2992320"/>
                  <a:ext cx="95760" cy="52200"/>
                </a:xfrm>
                <a:custGeom>
                  <a:avLst/>
                  <a:gdLst/>
                  <a:ahLst/>
                  <a:rect l="l" t="t" r="r" b="b"/>
                  <a:pathLst>
                    <a:path w="156" h="87">
                      <a:moveTo>
                        <a:pt x="156" y="9"/>
                      </a:moveTo>
                      <a:lnTo>
                        <a:pt x="146" y="0"/>
                      </a:lnTo>
                      <a:lnTo>
                        <a:pt x="13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9"/>
                      </a:lnTo>
                      <a:lnTo>
                        <a:pt x="68" y="9"/>
                      </a:lnTo>
                      <a:lnTo>
                        <a:pt x="59" y="19"/>
                      </a:lnTo>
                      <a:lnTo>
                        <a:pt x="49" y="1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87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30" y="48"/>
                      </a:lnTo>
                      <a:lnTo>
                        <a:pt x="39" y="3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9" y="19"/>
                      </a:lnTo>
                      <a:lnTo>
                        <a:pt x="68" y="1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9"/>
                      </a:lnTo>
                      <a:lnTo>
                        <a:pt x="137" y="9"/>
                      </a:lnTo>
                      <a:lnTo>
                        <a:pt x="146" y="9"/>
                      </a:lnTo>
                      <a:lnTo>
                        <a:pt x="137" y="9"/>
                      </a:lnTo>
                      <a:lnTo>
                        <a:pt x="156" y="9"/>
                      </a:lnTo>
                      <a:lnTo>
                        <a:pt x="146" y="0"/>
                      </a:lnTo>
                      <a:lnTo>
                        <a:pt x="15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620160" y="2997000"/>
                  <a:ext cx="28800" cy="53640"/>
                </a:xfrm>
                <a:custGeom>
                  <a:avLst/>
                  <a:gdLst/>
                  <a:ahLst/>
                  <a:rect l="l" t="t" r="r" b="b"/>
                  <a:pathLst>
                    <a:path w="49" h="88">
                      <a:moveTo>
                        <a:pt x="49" y="10"/>
                      </a:moveTo>
                      <a:lnTo>
                        <a:pt x="29" y="78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10" y="69"/>
                      </a:lnTo>
                      <a:lnTo>
                        <a:pt x="10" y="49"/>
                      </a:lnTo>
                      <a:lnTo>
                        <a:pt x="10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10"/>
                      </a:lnTo>
                      <a:lnTo>
                        <a:pt x="49" y="1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636720" y="300312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9" h="78">
                      <a:moveTo>
                        <a:pt x="0" y="78"/>
                      </a:moveTo>
                      <a:lnTo>
                        <a:pt x="10" y="68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78"/>
                      </a:lnTo>
                      <a:lnTo>
                        <a:pt x="10" y="6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630600" y="30448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620160" y="2992320"/>
                  <a:ext cx="16560" cy="5868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10" y="58"/>
                      </a:lnTo>
                      <a:lnTo>
                        <a:pt x="10" y="78"/>
                      </a:lnTo>
                      <a:lnTo>
                        <a:pt x="10" y="87"/>
                      </a:lnTo>
                      <a:lnTo>
                        <a:pt x="19" y="97"/>
                      </a:lnTo>
                      <a:lnTo>
                        <a:pt x="2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19" y="58"/>
                      </a:lnTo>
                      <a:lnTo>
                        <a:pt x="10" y="48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620160" y="299232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8" y="19"/>
                      </a:move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045680" y="3027960"/>
                  <a:ext cx="107640" cy="78480"/>
                </a:xfrm>
                <a:custGeom>
                  <a:avLst/>
                  <a:gdLst/>
                  <a:ahLst/>
                  <a:rect l="l" t="t" r="r" b="b"/>
                  <a:pathLst>
                    <a:path w="175" h="127">
                      <a:moveTo>
                        <a:pt x="48" y="20"/>
                      </a:moveTo>
                      <a:lnTo>
                        <a:pt x="68" y="20"/>
                      </a:lnTo>
                      <a:lnTo>
                        <a:pt x="77" y="20"/>
                      </a:lnTo>
                      <a:lnTo>
                        <a:pt x="97" y="20"/>
                      </a:lnTo>
                      <a:lnTo>
                        <a:pt x="97" y="29"/>
                      </a:lnTo>
                      <a:lnTo>
                        <a:pt x="116" y="29"/>
                      </a:lnTo>
                      <a:lnTo>
                        <a:pt x="126" y="39"/>
                      </a:lnTo>
                      <a:lnTo>
                        <a:pt x="136" y="39"/>
                      </a:lnTo>
                      <a:lnTo>
                        <a:pt x="136" y="49"/>
                      </a:lnTo>
                      <a:lnTo>
                        <a:pt x="155" y="59"/>
                      </a:lnTo>
                      <a:lnTo>
                        <a:pt x="155" y="68"/>
                      </a:lnTo>
                      <a:lnTo>
                        <a:pt x="165" y="68"/>
                      </a:lnTo>
                      <a:lnTo>
                        <a:pt x="175" y="78"/>
                      </a:lnTo>
                      <a:lnTo>
                        <a:pt x="175" y="98"/>
                      </a:lnTo>
                      <a:lnTo>
                        <a:pt x="165" y="107"/>
                      </a:lnTo>
                      <a:lnTo>
                        <a:pt x="155" y="117"/>
                      </a:lnTo>
                      <a:lnTo>
                        <a:pt x="145" y="117"/>
                      </a:lnTo>
                      <a:lnTo>
                        <a:pt x="136" y="127"/>
                      </a:lnTo>
                      <a:lnTo>
                        <a:pt x="136" y="127"/>
                      </a:lnTo>
                      <a:lnTo>
                        <a:pt x="97" y="127"/>
                      </a:lnTo>
                      <a:lnTo>
                        <a:pt x="97" y="127"/>
                      </a:lnTo>
                      <a:lnTo>
                        <a:pt x="77" y="127"/>
                      </a:lnTo>
                      <a:lnTo>
                        <a:pt x="58" y="117"/>
                      </a:lnTo>
                      <a:lnTo>
                        <a:pt x="48" y="117"/>
                      </a:lnTo>
                      <a:lnTo>
                        <a:pt x="29" y="117"/>
                      </a:lnTo>
                      <a:lnTo>
                        <a:pt x="19" y="117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88"/>
                      </a:lnTo>
                      <a:lnTo>
                        <a:pt x="9" y="59"/>
                      </a:lnTo>
                      <a:lnTo>
                        <a:pt x="9" y="49"/>
                      </a:ln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074840" y="3034080"/>
                  <a:ext cx="84960" cy="60120"/>
                </a:xfrm>
                <a:custGeom>
                  <a:avLst/>
                  <a:gdLst/>
                  <a:ahLst/>
                  <a:rect l="l" t="t" r="r" b="b"/>
                  <a:pathLst>
                    <a:path w="136" h="97">
                      <a:moveTo>
                        <a:pt x="127" y="97"/>
                      </a:moveTo>
                      <a:lnTo>
                        <a:pt x="127" y="78"/>
                      </a:lnTo>
                      <a:lnTo>
                        <a:pt x="127" y="68"/>
                      </a:lnTo>
                      <a:lnTo>
                        <a:pt x="127" y="58"/>
                      </a:lnTo>
                      <a:lnTo>
                        <a:pt x="117" y="49"/>
                      </a:lnTo>
                      <a:lnTo>
                        <a:pt x="107" y="39"/>
                      </a:lnTo>
                      <a:lnTo>
                        <a:pt x="97" y="39"/>
                      </a:lnTo>
                      <a:lnTo>
                        <a:pt x="88" y="29"/>
                      </a:lnTo>
                      <a:lnTo>
                        <a:pt x="88" y="29"/>
                      </a:lnTo>
                      <a:lnTo>
                        <a:pt x="78" y="19"/>
                      </a:lnTo>
                      <a:lnTo>
                        <a:pt x="68" y="19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29"/>
                      </a:lnTo>
                      <a:lnTo>
                        <a:pt x="68" y="29"/>
                      </a:lnTo>
                      <a:lnTo>
                        <a:pt x="78" y="39"/>
                      </a:lnTo>
                      <a:lnTo>
                        <a:pt x="88" y="39"/>
                      </a:lnTo>
                      <a:lnTo>
                        <a:pt x="97" y="39"/>
                      </a:lnTo>
                      <a:lnTo>
                        <a:pt x="97" y="49"/>
                      </a:lnTo>
                      <a:lnTo>
                        <a:pt x="107" y="58"/>
                      </a:lnTo>
                      <a:lnTo>
                        <a:pt x="117" y="68"/>
                      </a:lnTo>
                      <a:lnTo>
                        <a:pt x="117" y="78"/>
                      </a:lnTo>
                      <a:lnTo>
                        <a:pt x="117" y="78"/>
                      </a:lnTo>
                      <a:lnTo>
                        <a:pt x="127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lnTo>
                        <a:pt x="136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057920" y="3088080"/>
                  <a:ext cx="95400" cy="23040"/>
                </a:xfrm>
                <a:custGeom>
                  <a:avLst/>
                  <a:gdLst/>
                  <a:ahLst/>
                  <a:rect l="l" t="t" r="r" b="b"/>
                  <a:pathLst>
                    <a:path w="156" h="38">
                      <a:moveTo>
                        <a:pt x="0" y="19"/>
                      </a:move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78" y="29"/>
                      </a:lnTo>
                      <a:lnTo>
                        <a:pt x="78" y="38"/>
                      </a:lnTo>
                      <a:lnTo>
                        <a:pt x="117" y="38"/>
                      </a:lnTo>
                      <a:lnTo>
                        <a:pt x="117" y="29"/>
                      </a:lnTo>
                      <a:lnTo>
                        <a:pt x="126" y="29"/>
                      </a:lnTo>
                      <a:lnTo>
                        <a:pt x="136" y="19"/>
                      </a:lnTo>
                      <a:lnTo>
                        <a:pt x="156" y="19"/>
                      </a:lnTo>
                      <a:lnTo>
                        <a:pt x="156" y="9"/>
                      </a:lnTo>
                      <a:lnTo>
                        <a:pt x="156" y="0"/>
                      </a:lnTo>
                      <a:lnTo>
                        <a:pt x="136" y="19"/>
                      </a:lnTo>
                      <a:lnTo>
                        <a:pt x="126" y="19"/>
                      </a:lnTo>
                      <a:lnTo>
                        <a:pt x="117" y="19"/>
                      </a:lnTo>
                      <a:lnTo>
                        <a:pt x="117" y="29"/>
                      </a:lnTo>
                      <a:lnTo>
                        <a:pt x="78" y="29"/>
                      </a:lnTo>
                      <a:lnTo>
                        <a:pt x="78" y="19"/>
                      </a:lnTo>
                      <a:lnTo>
                        <a:pt x="58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045680" y="3040200"/>
                  <a:ext cx="18360" cy="6012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9" y="39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9" y="87"/>
                      </a:lnTo>
                      <a:lnTo>
                        <a:pt x="19" y="97"/>
                      </a:lnTo>
                      <a:lnTo>
                        <a:pt x="29" y="97"/>
                      </a:lnTo>
                      <a:lnTo>
                        <a:pt x="19" y="87"/>
                      </a:lnTo>
                      <a:lnTo>
                        <a:pt x="19" y="78"/>
                      </a:lnTo>
                      <a:lnTo>
                        <a:pt x="9" y="6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9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045680" y="3027960"/>
                  <a:ext cx="183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057920" y="30214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20"/>
                      </a:move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9" y="20"/>
                      </a:lnTo>
                      <a:lnTo>
                        <a:pt x="2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051800" y="3040200"/>
                  <a:ext cx="89280" cy="60120"/>
                </a:xfrm>
                <a:custGeom>
                  <a:avLst/>
                  <a:gdLst/>
                  <a:ahLst/>
                  <a:rect l="l" t="t" r="r" b="b"/>
                  <a:pathLst>
                    <a:path w="146" h="97">
                      <a:moveTo>
                        <a:pt x="146" y="78"/>
                      </a:moveTo>
                      <a:lnTo>
                        <a:pt x="136" y="78"/>
                      </a:lnTo>
                      <a:lnTo>
                        <a:pt x="136" y="87"/>
                      </a:lnTo>
                      <a:lnTo>
                        <a:pt x="127" y="87"/>
                      </a:lnTo>
                      <a:lnTo>
                        <a:pt x="117" y="97"/>
                      </a:lnTo>
                      <a:lnTo>
                        <a:pt x="88" y="97"/>
                      </a:lnTo>
                      <a:lnTo>
                        <a:pt x="88" y="87"/>
                      </a:lnTo>
                      <a:lnTo>
                        <a:pt x="68" y="87"/>
                      </a:lnTo>
                      <a:lnTo>
                        <a:pt x="59" y="87"/>
                      </a:lnTo>
                      <a:lnTo>
                        <a:pt x="39" y="87"/>
                      </a:lnTo>
                      <a:lnTo>
                        <a:pt x="39" y="78"/>
                      </a:lnTo>
                      <a:lnTo>
                        <a:pt x="29" y="87"/>
                      </a:lnTo>
                      <a:lnTo>
                        <a:pt x="20" y="78"/>
                      </a:lnTo>
                      <a:lnTo>
                        <a:pt x="20" y="68"/>
                      </a:lnTo>
                      <a:lnTo>
                        <a:pt x="20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0" y="9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9" y="9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59" y="9"/>
                      </a:lnTo>
                      <a:lnTo>
                        <a:pt x="68" y="19"/>
                      </a:lnTo>
                      <a:lnTo>
                        <a:pt x="88" y="19"/>
                      </a:lnTo>
                      <a:lnTo>
                        <a:pt x="88" y="19"/>
                      </a:lnTo>
                      <a:lnTo>
                        <a:pt x="97" y="29"/>
                      </a:lnTo>
                      <a:lnTo>
                        <a:pt x="117" y="29"/>
                      </a:lnTo>
                      <a:lnTo>
                        <a:pt x="117" y="29"/>
                      </a:lnTo>
                      <a:lnTo>
                        <a:pt x="127" y="39"/>
                      </a:lnTo>
                      <a:lnTo>
                        <a:pt x="136" y="48"/>
                      </a:lnTo>
                      <a:lnTo>
                        <a:pt x="136" y="58"/>
                      </a:lnTo>
                      <a:lnTo>
                        <a:pt x="146" y="68"/>
                      </a:lnTo>
                      <a:lnTo>
                        <a:pt x="146" y="7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064400" y="3088080"/>
                  <a:ext cx="83160" cy="12240"/>
                </a:xfrm>
                <a:custGeom>
                  <a:avLst/>
                  <a:gdLst/>
                  <a:ahLst/>
                  <a:rect l="l" t="t" r="r" b="b"/>
                  <a:pathLst>
                    <a:path w="136" h="19">
                      <a:moveTo>
                        <a:pt x="0" y="9"/>
                      </a:moveTo>
                      <a:lnTo>
                        <a:pt x="9" y="9"/>
                      </a:lnTo>
                      <a:lnTo>
                        <a:pt x="39" y="9"/>
                      </a:lnTo>
                      <a:lnTo>
                        <a:pt x="48" y="19"/>
                      </a:lnTo>
                      <a:lnTo>
                        <a:pt x="68" y="19"/>
                      </a:lnTo>
                      <a:lnTo>
                        <a:pt x="68" y="19"/>
                      </a:lnTo>
                      <a:lnTo>
                        <a:pt x="107" y="19"/>
                      </a:lnTo>
                      <a:lnTo>
                        <a:pt x="107" y="19"/>
                      </a:lnTo>
                      <a:lnTo>
                        <a:pt x="116" y="9"/>
                      </a:lnTo>
                      <a:lnTo>
                        <a:pt x="126" y="9"/>
                      </a:ln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7" y="9"/>
                      </a:lnTo>
                      <a:lnTo>
                        <a:pt x="107" y="9"/>
                      </a:lnTo>
                      <a:lnTo>
                        <a:pt x="97" y="9"/>
                      </a:lnTo>
                      <a:lnTo>
                        <a:pt x="68" y="9"/>
                      </a:lnTo>
                      <a:lnTo>
                        <a:pt x="68" y="9"/>
                      </a:lnTo>
                      <a:lnTo>
                        <a:pt x="48" y="9"/>
                      </a:lnTo>
                      <a:lnTo>
                        <a:pt x="3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051800" y="3040200"/>
                  <a:ext cx="16920" cy="54000"/>
                </a:xfrm>
                <a:custGeom>
                  <a:avLst/>
                  <a:gdLst/>
                  <a:ahLst/>
                  <a:rect l="l" t="t" r="r" b="b"/>
                  <a:pathLst>
                    <a:path w="29" h="8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20" y="68"/>
                      </a:lnTo>
                      <a:lnTo>
                        <a:pt x="20" y="78"/>
                      </a:lnTo>
                      <a:lnTo>
                        <a:pt x="20" y="87"/>
                      </a:lnTo>
                      <a:lnTo>
                        <a:pt x="29" y="78"/>
                      </a:lnTo>
                      <a:lnTo>
                        <a:pt x="29" y="7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2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051800" y="30340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057920" y="3034080"/>
                  <a:ext cx="89280" cy="5364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88"/>
                      </a:moveTo>
                      <a:lnTo>
                        <a:pt x="146" y="88"/>
                      </a:lnTo>
                      <a:lnTo>
                        <a:pt x="136" y="78"/>
                      </a:lnTo>
                      <a:lnTo>
                        <a:pt x="136" y="58"/>
                      </a:lnTo>
                      <a:lnTo>
                        <a:pt x="117" y="39"/>
                      </a:lnTo>
                      <a:lnTo>
                        <a:pt x="107" y="39"/>
                      </a:lnTo>
                      <a:lnTo>
                        <a:pt x="97" y="29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68" y="19"/>
                      </a:lnTo>
                      <a:lnTo>
                        <a:pt x="49" y="19"/>
                      </a:lnTo>
                      <a:lnTo>
                        <a:pt x="39" y="19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19"/>
                      </a:lnTo>
                      <a:lnTo>
                        <a:pt x="29" y="1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8" y="29"/>
                      </a:lnTo>
                      <a:lnTo>
                        <a:pt x="78" y="39"/>
                      </a:lnTo>
                      <a:lnTo>
                        <a:pt x="78" y="39"/>
                      </a:lnTo>
                      <a:lnTo>
                        <a:pt x="87" y="39"/>
                      </a:lnTo>
                      <a:lnTo>
                        <a:pt x="97" y="39"/>
                      </a:lnTo>
                      <a:lnTo>
                        <a:pt x="107" y="49"/>
                      </a:lnTo>
                      <a:lnTo>
                        <a:pt x="126" y="68"/>
                      </a:lnTo>
                      <a:lnTo>
                        <a:pt x="126" y="78"/>
                      </a:lnTo>
                      <a:lnTo>
                        <a:pt x="13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937680" y="306972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69" y="59"/>
                      </a:moveTo>
                      <a:lnTo>
                        <a:pt x="69" y="68"/>
                      </a:lnTo>
                      <a:lnTo>
                        <a:pt x="59" y="78"/>
                      </a:lnTo>
                      <a:lnTo>
                        <a:pt x="49" y="88"/>
                      </a:lnTo>
                      <a:lnTo>
                        <a:pt x="39" y="98"/>
                      </a:lnTo>
                      <a:lnTo>
                        <a:pt x="39" y="98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10" y="88"/>
                      </a:lnTo>
                      <a:lnTo>
                        <a:pt x="10" y="78"/>
                      </a:lnTo>
                      <a:lnTo>
                        <a:pt x="10" y="78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10" y="30"/>
                      </a:lnTo>
                      <a:lnTo>
                        <a:pt x="20" y="2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39" y="10"/>
                      </a:lnTo>
                      <a:lnTo>
                        <a:pt x="49" y="10"/>
                      </a:lnTo>
                      <a:lnTo>
                        <a:pt x="49" y="20"/>
                      </a:lnTo>
                      <a:lnTo>
                        <a:pt x="59" y="30"/>
                      </a:lnTo>
                      <a:lnTo>
                        <a:pt x="59" y="30"/>
                      </a:lnTo>
                      <a:lnTo>
                        <a:pt x="69" y="39"/>
                      </a:lnTo>
                      <a:lnTo>
                        <a:pt x="69" y="49"/>
                      </a:lnTo>
                      <a:lnTo>
                        <a:pt x="6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956040" y="3106800"/>
                  <a:ext cx="29160" cy="291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9" y="3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39" y="19"/>
                      </a:lnTo>
                      <a:lnTo>
                        <a:pt x="39" y="9"/>
                      </a:lnTo>
                      <a:lnTo>
                        <a:pt x="48" y="0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19"/>
                      </a:lnTo>
                      <a:lnTo>
                        <a:pt x="19" y="1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931200" y="3100320"/>
                  <a:ext cx="24480" cy="3564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19" y="49"/>
                      </a:lnTo>
                      <a:lnTo>
                        <a:pt x="29" y="58"/>
                      </a:lnTo>
                      <a:lnTo>
                        <a:pt x="39" y="58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29" y="39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9" y="1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93120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9" y="39"/>
                      </a:lnTo>
                      <a:lnTo>
                        <a:pt x="9" y="49"/>
                      </a:lnTo>
                      <a:lnTo>
                        <a:pt x="0" y="59"/>
                      </a:lnTo>
                      <a:lnTo>
                        <a:pt x="9" y="5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29" y="20"/>
                      </a:lnTo>
                      <a:lnTo>
                        <a:pt x="39" y="20"/>
                      </a:lnTo>
                      <a:lnTo>
                        <a:pt x="39" y="10"/>
                      </a:lnTo>
                      <a:lnTo>
                        <a:pt x="48" y="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95604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48" y="59"/>
                      </a:moveTo>
                      <a:lnTo>
                        <a:pt x="48" y="49"/>
                      </a:lnTo>
                      <a:lnTo>
                        <a:pt x="39" y="39"/>
                      </a:lnTo>
                      <a:lnTo>
                        <a:pt x="3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30"/>
                      </a:lnTo>
                      <a:lnTo>
                        <a:pt x="29" y="39"/>
                      </a:lnTo>
                      <a:lnTo>
                        <a:pt x="29" y="4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48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943800" y="3081960"/>
                  <a:ext cx="23040" cy="414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39" y="29"/>
                      </a:moveTo>
                      <a:lnTo>
                        <a:pt x="39" y="4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29" y="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956040" y="3100320"/>
                  <a:ext cx="16560" cy="230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39"/>
                      </a:moveTo>
                      <a:lnTo>
                        <a:pt x="9" y="39"/>
                      </a:lnTo>
                      <a:lnTo>
                        <a:pt x="29" y="1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9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943800" y="310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20" y="29"/>
                      </a:lnTo>
                      <a:lnTo>
                        <a:pt x="29" y="1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943800" y="308196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29" y="0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20" y="19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60720" y="3081960"/>
                  <a:ext cx="12240" cy="183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9"/>
                      </a:move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2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972960" y="3088080"/>
                  <a:ext cx="371520" cy="361080"/>
                </a:xfrm>
                <a:custGeom>
                  <a:avLst/>
                  <a:gdLst/>
                  <a:ahLst/>
                  <a:rect l="l" t="t" r="r" b="b"/>
                  <a:pathLst>
                    <a:path w="603" h="584">
                      <a:moveTo>
                        <a:pt x="506" y="87"/>
                      </a:moveTo>
                      <a:lnTo>
                        <a:pt x="515" y="107"/>
                      </a:lnTo>
                      <a:lnTo>
                        <a:pt x="525" y="126"/>
                      </a:lnTo>
                      <a:lnTo>
                        <a:pt x="535" y="146"/>
                      </a:lnTo>
                      <a:lnTo>
                        <a:pt x="544" y="165"/>
                      </a:lnTo>
                      <a:lnTo>
                        <a:pt x="554" y="185"/>
                      </a:lnTo>
                      <a:lnTo>
                        <a:pt x="564" y="204"/>
                      </a:lnTo>
                      <a:lnTo>
                        <a:pt x="574" y="214"/>
                      </a:lnTo>
                      <a:lnTo>
                        <a:pt x="583" y="233"/>
                      </a:lnTo>
                      <a:lnTo>
                        <a:pt x="593" y="262"/>
                      </a:lnTo>
                      <a:lnTo>
                        <a:pt x="603" y="301"/>
                      </a:lnTo>
                      <a:lnTo>
                        <a:pt x="603" y="331"/>
                      </a:lnTo>
                      <a:lnTo>
                        <a:pt x="593" y="370"/>
                      </a:lnTo>
                      <a:lnTo>
                        <a:pt x="593" y="399"/>
                      </a:lnTo>
                      <a:lnTo>
                        <a:pt x="583" y="428"/>
                      </a:lnTo>
                      <a:lnTo>
                        <a:pt x="564" y="467"/>
                      </a:lnTo>
                      <a:lnTo>
                        <a:pt x="554" y="496"/>
                      </a:lnTo>
                      <a:lnTo>
                        <a:pt x="428" y="584"/>
                      </a:lnTo>
                      <a:lnTo>
                        <a:pt x="418" y="584"/>
                      </a:lnTo>
                      <a:lnTo>
                        <a:pt x="408" y="584"/>
                      </a:lnTo>
                      <a:lnTo>
                        <a:pt x="408" y="574"/>
                      </a:lnTo>
                      <a:lnTo>
                        <a:pt x="399" y="564"/>
                      </a:lnTo>
                      <a:lnTo>
                        <a:pt x="389" y="564"/>
                      </a:lnTo>
                      <a:lnTo>
                        <a:pt x="389" y="564"/>
                      </a:lnTo>
                      <a:lnTo>
                        <a:pt x="379" y="555"/>
                      </a:lnTo>
                      <a:lnTo>
                        <a:pt x="311" y="555"/>
                      </a:lnTo>
                      <a:lnTo>
                        <a:pt x="301" y="545"/>
                      </a:lnTo>
                      <a:lnTo>
                        <a:pt x="292" y="535"/>
                      </a:lnTo>
                      <a:lnTo>
                        <a:pt x="272" y="516"/>
                      </a:lnTo>
                      <a:lnTo>
                        <a:pt x="253" y="506"/>
                      </a:lnTo>
                      <a:lnTo>
                        <a:pt x="243" y="496"/>
                      </a:lnTo>
                      <a:lnTo>
                        <a:pt x="233" y="486"/>
                      </a:lnTo>
                      <a:lnTo>
                        <a:pt x="214" y="486"/>
                      </a:lnTo>
                      <a:lnTo>
                        <a:pt x="97" y="486"/>
                      </a:lnTo>
                      <a:lnTo>
                        <a:pt x="87" y="477"/>
                      </a:lnTo>
                      <a:lnTo>
                        <a:pt x="68" y="477"/>
                      </a:lnTo>
                      <a:lnTo>
                        <a:pt x="58" y="477"/>
                      </a:lnTo>
                      <a:lnTo>
                        <a:pt x="39" y="477"/>
                      </a:lnTo>
                      <a:lnTo>
                        <a:pt x="29" y="457"/>
                      </a:lnTo>
                      <a:lnTo>
                        <a:pt x="19" y="428"/>
                      </a:lnTo>
                      <a:lnTo>
                        <a:pt x="10" y="408"/>
                      </a:lnTo>
                      <a:lnTo>
                        <a:pt x="10" y="389"/>
                      </a:lnTo>
                      <a:lnTo>
                        <a:pt x="0" y="360"/>
                      </a:lnTo>
                      <a:lnTo>
                        <a:pt x="0" y="262"/>
                      </a:lnTo>
                      <a:lnTo>
                        <a:pt x="10" y="253"/>
                      </a:lnTo>
                      <a:lnTo>
                        <a:pt x="10" y="243"/>
                      </a:lnTo>
                      <a:lnTo>
                        <a:pt x="19" y="233"/>
                      </a:lnTo>
                      <a:lnTo>
                        <a:pt x="29" y="223"/>
                      </a:lnTo>
                      <a:lnTo>
                        <a:pt x="58" y="194"/>
                      </a:lnTo>
                      <a:lnTo>
                        <a:pt x="68" y="185"/>
                      </a:lnTo>
                      <a:lnTo>
                        <a:pt x="78" y="175"/>
                      </a:lnTo>
                      <a:lnTo>
                        <a:pt x="87" y="165"/>
                      </a:lnTo>
                      <a:lnTo>
                        <a:pt x="97" y="165"/>
                      </a:lnTo>
                      <a:lnTo>
                        <a:pt x="107" y="155"/>
                      </a:lnTo>
                      <a:lnTo>
                        <a:pt x="117" y="155"/>
                      </a:lnTo>
                      <a:lnTo>
                        <a:pt x="126" y="146"/>
                      </a:lnTo>
                      <a:lnTo>
                        <a:pt x="146" y="146"/>
                      </a:lnTo>
                      <a:lnTo>
                        <a:pt x="155" y="155"/>
                      </a:lnTo>
                      <a:lnTo>
                        <a:pt x="165" y="155"/>
                      </a:lnTo>
                      <a:lnTo>
                        <a:pt x="175" y="146"/>
                      </a:lnTo>
                      <a:lnTo>
                        <a:pt x="204" y="146"/>
                      </a:lnTo>
                      <a:lnTo>
                        <a:pt x="214" y="146"/>
                      </a:lnTo>
                      <a:lnTo>
                        <a:pt x="233" y="146"/>
                      </a:lnTo>
                      <a:lnTo>
                        <a:pt x="243" y="136"/>
                      </a:lnTo>
                      <a:lnTo>
                        <a:pt x="253" y="136"/>
                      </a:lnTo>
                      <a:lnTo>
                        <a:pt x="262" y="126"/>
                      </a:lnTo>
                      <a:lnTo>
                        <a:pt x="282" y="126"/>
                      </a:lnTo>
                      <a:lnTo>
                        <a:pt x="292" y="126"/>
                      </a:lnTo>
                      <a:lnTo>
                        <a:pt x="330" y="126"/>
                      </a:lnTo>
                      <a:lnTo>
                        <a:pt x="340" y="116"/>
                      </a:lnTo>
                      <a:lnTo>
                        <a:pt x="350" y="107"/>
                      </a:lnTo>
                      <a:lnTo>
                        <a:pt x="360" y="87"/>
                      </a:lnTo>
                      <a:lnTo>
                        <a:pt x="369" y="77"/>
                      </a:lnTo>
                      <a:lnTo>
                        <a:pt x="379" y="58"/>
                      </a:lnTo>
                      <a:lnTo>
                        <a:pt x="379" y="38"/>
                      </a:lnTo>
                      <a:lnTo>
                        <a:pt x="379" y="19"/>
                      </a:lnTo>
                      <a:lnTo>
                        <a:pt x="389" y="0"/>
                      </a:lnTo>
                      <a:lnTo>
                        <a:pt x="389" y="0"/>
                      </a:lnTo>
                      <a:lnTo>
                        <a:pt x="399" y="0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418" y="9"/>
                      </a:lnTo>
                      <a:lnTo>
                        <a:pt x="428" y="19"/>
                      </a:lnTo>
                      <a:lnTo>
                        <a:pt x="457" y="48"/>
                      </a:lnTo>
                      <a:lnTo>
                        <a:pt x="476" y="58"/>
                      </a:lnTo>
                      <a:lnTo>
                        <a:pt x="476" y="68"/>
                      </a:lnTo>
                      <a:lnTo>
                        <a:pt x="496" y="77"/>
                      </a:lnTo>
                      <a:lnTo>
                        <a:pt x="506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286160" y="3135960"/>
                  <a:ext cx="52200" cy="95400"/>
                </a:xfrm>
                <a:custGeom>
                  <a:avLst/>
                  <a:gdLst/>
                  <a:ahLst/>
                  <a:rect l="l" t="t" r="r" b="b"/>
                  <a:pathLst>
                    <a:path w="87" h="156">
                      <a:moveTo>
                        <a:pt x="87" y="156"/>
                      </a:moveTo>
                      <a:lnTo>
                        <a:pt x="68" y="137"/>
                      </a:lnTo>
                      <a:lnTo>
                        <a:pt x="58" y="117"/>
                      </a:lnTo>
                      <a:lnTo>
                        <a:pt x="48" y="98"/>
                      </a:lnTo>
                      <a:lnTo>
                        <a:pt x="38" y="88"/>
                      </a:lnTo>
                      <a:lnTo>
                        <a:pt x="38" y="59"/>
                      </a:lnTo>
                      <a:lnTo>
                        <a:pt x="29" y="49"/>
                      </a:lnTo>
                      <a:lnTo>
                        <a:pt x="19" y="2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30"/>
                      </a:lnTo>
                      <a:lnTo>
                        <a:pt x="19" y="49"/>
                      </a:lnTo>
                      <a:lnTo>
                        <a:pt x="29" y="69"/>
                      </a:lnTo>
                      <a:lnTo>
                        <a:pt x="29" y="88"/>
                      </a:lnTo>
                      <a:lnTo>
                        <a:pt x="38" y="108"/>
                      </a:lnTo>
                      <a:lnTo>
                        <a:pt x="48" y="127"/>
                      </a:lnTo>
                      <a:lnTo>
                        <a:pt x="58" y="137"/>
                      </a:lnTo>
                      <a:lnTo>
                        <a:pt x="77" y="156"/>
                      </a:lnTo>
                      <a:lnTo>
                        <a:pt x="77" y="156"/>
                      </a:lnTo>
                      <a:lnTo>
                        <a:pt x="87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15320" y="3231720"/>
                  <a:ext cx="29160" cy="162000"/>
                </a:xfrm>
                <a:custGeom>
                  <a:avLst/>
                  <a:gdLst/>
                  <a:ahLst/>
                  <a:rect l="l" t="t" r="r" b="b"/>
                  <a:pathLst>
                    <a:path w="49" h="263">
                      <a:moveTo>
                        <a:pt x="10" y="263"/>
                      </a:moveTo>
                      <a:lnTo>
                        <a:pt x="10" y="263"/>
                      </a:lnTo>
                      <a:lnTo>
                        <a:pt x="20" y="234"/>
                      </a:lnTo>
                      <a:lnTo>
                        <a:pt x="29" y="195"/>
                      </a:lnTo>
                      <a:lnTo>
                        <a:pt x="39" y="166"/>
                      </a:lnTo>
                      <a:lnTo>
                        <a:pt x="49" y="137"/>
                      </a:lnTo>
                      <a:lnTo>
                        <a:pt x="49" y="98"/>
                      </a:lnTo>
                      <a:lnTo>
                        <a:pt x="49" y="68"/>
                      </a:lnTo>
                      <a:lnTo>
                        <a:pt x="49" y="29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29"/>
                      </a:lnTo>
                      <a:lnTo>
                        <a:pt x="39" y="68"/>
                      </a:lnTo>
                      <a:lnTo>
                        <a:pt x="39" y="98"/>
                      </a:lnTo>
                      <a:lnTo>
                        <a:pt x="39" y="137"/>
                      </a:lnTo>
                      <a:lnTo>
                        <a:pt x="29" y="166"/>
                      </a:lnTo>
                      <a:lnTo>
                        <a:pt x="20" y="195"/>
                      </a:lnTo>
                      <a:lnTo>
                        <a:pt x="10" y="234"/>
                      </a:lnTo>
                      <a:lnTo>
                        <a:pt x="0" y="25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236840" y="3387600"/>
                  <a:ext cx="84960" cy="66240"/>
                </a:xfrm>
                <a:custGeom>
                  <a:avLst/>
                  <a:gdLst/>
                  <a:ahLst/>
                  <a:rect l="l" t="t" r="r" b="b"/>
                  <a:pathLst>
                    <a:path w="136" h="107">
                      <a:moveTo>
                        <a:pt x="9" y="107"/>
                      </a:moveTo>
                      <a:lnTo>
                        <a:pt x="9" y="98"/>
                      </a:ln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0" y="98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207680" y="343080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58" h="38">
                      <a:moveTo>
                        <a:pt x="0" y="9"/>
                      </a:move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20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38"/>
                      </a:lnTo>
                      <a:lnTo>
                        <a:pt x="58" y="38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165920" y="343080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68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8" y="9"/>
                      </a:ln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105800" y="3382920"/>
                  <a:ext cx="65880" cy="47880"/>
                </a:xfrm>
                <a:custGeom>
                  <a:avLst/>
                  <a:gdLst/>
                  <a:ahLst/>
                  <a:rect l="l" t="t" r="r" b="b"/>
                  <a:pathLst>
                    <a:path w="107" h="78">
                      <a:moveTo>
                        <a:pt x="0" y="9"/>
                      </a:moveTo>
                      <a:lnTo>
                        <a:pt x="1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78" y="58"/>
                      </a:lnTo>
                      <a:lnTo>
                        <a:pt x="87" y="68"/>
                      </a:lnTo>
                      <a:lnTo>
                        <a:pt x="97" y="78"/>
                      </a:lnTo>
                      <a:lnTo>
                        <a:pt x="107" y="78"/>
                      </a:lnTo>
                      <a:lnTo>
                        <a:pt x="97" y="58"/>
                      </a:lnTo>
                      <a:lnTo>
                        <a:pt x="87" y="48"/>
                      </a:lnTo>
                      <a:lnTo>
                        <a:pt x="68" y="39"/>
                      </a:lnTo>
                      <a:lnTo>
                        <a:pt x="58" y="39"/>
                      </a:lnTo>
                      <a:lnTo>
                        <a:pt x="48" y="29"/>
                      </a:lnTo>
                      <a:lnTo>
                        <a:pt x="39" y="19"/>
                      </a:lnTo>
                      <a:lnTo>
                        <a:pt x="19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997800" y="3382920"/>
                  <a:ext cx="108000" cy="4320"/>
                </a:xfrm>
                <a:custGeom>
                  <a:avLst/>
                  <a:gdLst/>
                  <a:ahLst/>
                  <a:rect l="l" t="t" r="r" b="b"/>
                  <a:pathLst>
                    <a:path w="175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9" y="9"/>
                      </a:lnTo>
                      <a:lnTo>
                        <a:pt x="48" y="9"/>
                      </a:lnTo>
                      <a:lnTo>
                        <a:pt x="58" y="9"/>
                      </a:lnTo>
                      <a:lnTo>
                        <a:pt x="175" y="9"/>
                      </a:lnTo>
                      <a:lnTo>
                        <a:pt x="175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972960" y="326268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48" h="195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0" y="107"/>
                      </a:lnTo>
                      <a:lnTo>
                        <a:pt x="10" y="126"/>
                      </a:lnTo>
                      <a:lnTo>
                        <a:pt x="19" y="146"/>
                      </a:lnTo>
                      <a:lnTo>
                        <a:pt x="29" y="175"/>
                      </a:lnTo>
                      <a:lnTo>
                        <a:pt x="39" y="195"/>
                      </a:lnTo>
                      <a:lnTo>
                        <a:pt x="48" y="195"/>
                      </a:lnTo>
                      <a:lnTo>
                        <a:pt x="39" y="175"/>
                      </a:lnTo>
                      <a:lnTo>
                        <a:pt x="19" y="146"/>
                      </a:lnTo>
                      <a:lnTo>
                        <a:pt x="19" y="126"/>
                      </a:lnTo>
                      <a:lnTo>
                        <a:pt x="10" y="107"/>
                      </a:lnTo>
                      <a:lnTo>
                        <a:pt x="10" y="78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72960" y="3177720"/>
                  <a:ext cx="78480" cy="84600"/>
                </a:xfrm>
                <a:custGeom>
                  <a:avLst/>
                  <a:gdLst/>
                  <a:ahLst/>
                  <a:rect l="l" t="t" r="r" b="b"/>
                  <a:pathLst>
                    <a:path w="126" h="136">
                      <a:moveTo>
                        <a:pt x="126" y="0"/>
                      </a:moveTo>
                      <a:lnTo>
                        <a:pt x="117" y="0"/>
                      </a:lnTo>
                      <a:lnTo>
                        <a:pt x="107" y="9"/>
                      </a:lnTo>
                      <a:lnTo>
                        <a:pt x="97" y="19"/>
                      </a:lnTo>
                      <a:lnTo>
                        <a:pt x="87" y="19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58" y="48"/>
                      </a:lnTo>
                      <a:lnTo>
                        <a:pt x="48" y="48"/>
                      </a:lnTo>
                      <a:lnTo>
                        <a:pt x="19" y="77"/>
                      </a:lnTo>
                      <a:lnTo>
                        <a:pt x="19" y="87"/>
                      </a:lnTo>
                      <a:lnTo>
                        <a:pt x="10" y="97"/>
                      </a:lnTo>
                      <a:lnTo>
                        <a:pt x="0" y="107"/>
                      </a:lnTo>
                      <a:lnTo>
                        <a:pt x="0" y="11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10" y="107"/>
                      </a:lnTo>
                      <a:lnTo>
                        <a:pt x="19" y="107"/>
                      </a:lnTo>
                      <a:lnTo>
                        <a:pt x="19" y="97"/>
                      </a:lnTo>
                      <a:lnTo>
                        <a:pt x="68" y="48"/>
                      </a:lnTo>
                      <a:lnTo>
                        <a:pt x="78" y="48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07" y="19"/>
                      </a:lnTo>
                      <a:lnTo>
                        <a:pt x="117" y="1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051800" y="3159360"/>
                  <a:ext cx="124920" cy="24480"/>
                </a:xfrm>
                <a:custGeom>
                  <a:avLst/>
                  <a:gdLst/>
                  <a:ahLst/>
                  <a:rect l="l" t="t" r="r" b="b"/>
                  <a:pathLst>
                    <a:path w="204" h="39">
                      <a:moveTo>
                        <a:pt x="204" y="10"/>
                      </a:moveTo>
                      <a:lnTo>
                        <a:pt x="185" y="0"/>
                      </a:lnTo>
                      <a:lnTo>
                        <a:pt x="175" y="10"/>
                      </a:lnTo>
                      <a:lnTo>
                        <a:pt x="166" y="10"/>
                      </a:lnTo>
                      <a:lnTo>
                        <a:pt x="156" y="10"/>
                      </a:lnTo>
                      <a:lnTo>
                        <a:pt x="136" y="10"/>
                      </a:lnTo>
                      <a:lnTo>
                        <a:pt x="127" y="10"/>
                      </a:lnTo>
                      <a:lnTo>
                        <a:pt x="117" y="20"/>
                      </a:lnTo>
                      <a:lnTo>
                        <a:pt x="97" y="20"/>
                      </a:lnTo>
                      <a:lnTo>
                        <a:pt x="88" y="20"/>
                      </a:lnTo>
                      <a:lnTo>
                        <a:pt x="78" y="30"/>
                      </a:lnTo>
                      <a:lnTo>
                        <a:pt x="39" y="30"/>
                      </a:lnTo>
                      <a:lnTo>
                        <a:pt x="29" y="30"/>
                      </a:lnTo>
                      <a:lnTo>
                        <a:pt x="2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78" y="39"/>
                      </a:lnTo>
                      <a:lnTo>
                        <a:pt x="88" y="30"/>
                      </a:lnTo>
                      <a:lnTo>
                        <a:pt x="107" y="30"/>
                      </a:lnTo>
                      <a:lnTo>
                        <a:pt x="117" y="30"/>
                      </a:lnTo>
                      <a:lnTo>
                        <a:pt x="127" y="20"/>
                      </a:lnTo>
                      <a:lnTo>
                        <a:pt x="136" y="20"/>
                      </a:lnTo>
                      <a:lnTo>
                        <a:pt x="156" y="20"/>
                      </a:lnTo>
                      <a:lnTo>
                        <a:pt x="166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176720" y="308808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6">
                      <a:moveTo>
                        <a:pt x="49" y="0"/>
                      </a:moveTo>
                      <a:lnTo>
                        <a:pt x="49" y="0"/>
                      </a:lnTo>
                      <a:lnTo>
                        <a:pt x="49" y="19"/>
                      </a:lnTo>
                      <a:lnTo>
                        <a:pt x="39" y="38"/>
                      </a:lnTo>
                      <a:lnTo>
                        <a:pt x="39" y="58"/>
                      </a:lnTo>
                      <a:lnTo>
                        <a:pt x="30" y="68"/>
                      </a:lnTo>
                      <a:lnTo>
                        <a:pt x="30" y="87"/>
                      </a:lnTo>
                      <a:lnTo>
                        <a:pt x="20" y="9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30" y="107"/>
                      </a:lnTo>
                      <a:lnTo>
                        <a:pt x="39" y="87"/>
                      </a:lnTo>
                      <a:lnTo>
                        <a:pt x="39" y="77"/>
                      </a:lnTo>
                      <a:lnTo>
                        <a:pt x="49" y="58"/>
                      </a:lnTo>
                      <a:lnTo>
                        <a:pt x="49" y="38"/>
                      </a:lnTo>
                      <a:lnTo>
                        <a:pt x="59" y="19"/>
                      </a:lnTo>
                      <a:lnTo>
                        <a:pt x="59" y="0"/>
                      </a:lnTo>
                      <a:lnTo>
                        <a:pt x="59" y="9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207680" y="308196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224600" y="3088080"/>
                  <a:ext cx="66240" cy="53640"/>
                </a:xfrm>
                <a:custGeom>
                  <a:avLst/>
                  <a:gdLst/>
                  <a:ahLst/>
                  <a:rect l="l" t="t" r="r" b="b"/>
                  <a:pathLst>
                    <a:path w="107" h="87">
                      <a:moveTo>
                        <a:pt x="107" y="77"/>
                      </a:moveTo>
                      <a:lnTo>
                        <a:pt x="88" y="77"/>
                      </a:lnTo>
                      <a:lnTo>
                        <a:pt x="78" y="68"/>
                      </a:lnTo>
                      <a:lnTo>
                        <a:pt x="68" y="48"/>
                      </a:lnTo>
                      <a:lnTo>
                        <a:pt x="59" y="38"/>
                      </a:lnTo>
                      <a:lnTo>
                        <a:pt x="3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49" y="48"/>
                      </a:lnTo>
                      <a:lnTo>
                        <a:pt x="59" y="58"/>
                      </a:lnTo>
                      <a:lnTo>
                        <a:pt x="68" y="68"/>
                      </a:lnTo>
                      <a:lnTo>
                        <a:pt x="88" y="77"/>
                      </a:lnTo>
                      <a:lnTo>
                        <a:pt x="98" y="87"/>
                      </a:lnTo>
                      <a:lnTo>
                        <a:pt x="107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985560" y="3100320"/>
                  <a:ext cx="346680" cy="336240"/>
                </a:xfrm>
                <a:custGeom>
                  <a:avLst/>
                  <a:gdLst/>
                  <a:ahLst/>
                  <a:rect l="l" t="t" r="r" b="b"/>
                  <a:pathLst>
                    <a:path w="564" h="545">
                      <a:moveTo>
                        <a:pt x="467" y="68"/>
                      </a:moveTo>
                      <a:lnTo>
                        <a:pt x="487" y="88"/>
                      </a:lnTo>
                      <a:lnTo>
                        <a:pt x="496" y="107"/>
                      </a:lnTo>
                      <a:lnTo>
                        <a:pt x="496" y="127"/>
                      </a:lnTo>
                      <a:lnTo>
                        <a:pt x="506" y="146"/>
                      </a:lnTo>
                      <a:lnTo>
                        <a:pt x="516" y="175"/>
                      </a:lnTo>
                      <a:lnTo>
                        <a:pt x="525" y="195"/>
                      </a:lnTo>
                      <a:lnTo>
                        <a:pt x="545" y="214"/>
                      </a:lnTo>
                      <a:lnTo>
                        <a:pt x="555" y="234"/>
                      </a:lnTo>
                      <a:lnTo>
                        <a:pt x="564" y="263"/>
                      </a:lnTo>
                      <a:lnTo>
                        <a:pt x="564" y="321"/>
                      </a:lnTo>
                      <a:lnTo>
                        <a:pt x="555" y="351"/>
                      </a:lnTo>
                      <a:lnTo>
                        <a:pt x="555" y="380"/>
                      </a:lnTo>
                      <a:lnTo>
                        <a:pt x="545" y="409"/>
                      </a:lnTo>
                      <a:lnTo>
                        <a:pt x="535" y="438"/>
                      </a:lnTo>
                      <a:lnTo>
                        <a:pt x="525" y="458"/>
                      </a:lnTo>
                      <a:lnTo>
                        <a:pt x="409" y="545"/>
                      </a:lnTo>
                      <a:lnTo>
                        <a:pt x="399" y="545"/>
                      </a:lnTo>
                      <a:lnTo>
                        <a:pt x="389" y="545"/>
                      </a:lnTo>
                      <a:lnTo>
                        <a:pt x="380" y="526"/>
                      </a:lnTo>
                      <a:lnTo>
                        <a:pt x="370" y="516"/>
                      </a:lnTo>
                      <a:lnTo>
                        <a:pt x="370" y="516"/>
                      </a:lnTo>
                      <a:lnTo>
                        <a:pt x="311" y="516"/>
                      </a:lnTo>
                      <a:lnTo>
                        <a:pt x="214" y="458"/>
                      </a:lnTo>
                      <a:lnTo>
                        <a:pt x="204" y="448"/>
                      </a:lnTo>
                      <a:lnTo>
                        <a:pt x="59" y="448"/>
                      </a:lnTo>
                      <a:lnTo>
                        <a:pt x="39" y="448"/>
                      </a:lnTo>
                      <a:lnTo>
                        <a:pt x="29" y="438"/>
                      </a:lnTo>
                      <a:lnTo>
                        <a:pt x="20" y="428"/>
                      </a:lnTo>
                      <a:lnTo>
                        <a:pt x="20" y="409"/>
                      </a:lnTo>
                      <a:lnTo>
                        <a:pt x="10" y="389"/>
                      </a:lnTo>
                      <a:lnTo>
                        <a:pt x="0" y="370"/>
                      </a:lnTo>
                      <a:lnTo>
                        <a:pt x="0" y="341"/>
                      </a:lnTo>
                      <a:lnTo>
                        <a:pt x="0" y="321"/>
                      </a:lnTo>
                      <a:lnTo>
                        <a:pt x="0" y="292"/>
                      </a:lnTo>
                      <a:lnTo>
                        <a:pt x="0" y="273"/>
                      </a:lnTo>
                      <a:lnTo>
                        <a:pt x="10" y="243"/>
                      </a:lnTo>
                      <a:lnTo>
                        <a:pt x="20" y="224"/>
                      </a:lnTo>
                      <a:lnTo>
                        <a:pt x="20" y="214"/>
                      </a:lnTo>
                      <a:lnTo>
                        <a:pt x="29" y="204"/>
                      </a:lnTo>
                      <a:lnTo>
                        <a:pt x="39" y="195"/>
                      </a:lnTo>
                      <a:lnTo>
                        <a:pt x="49" y="195"/>
                      </a:lnTo>
                      <a:lnTo>
                        <a:pt x="59" y="175"/>
                      </a:lnTo>
                      <a:lnTo>
                        <a:pt x="68" y="175"/>
                      </a:lnTo>
                      <a:lnTo>
                        <a:pt x="88" y="156"/>
                      </a:lnTo>
                      <a:lnTo>
                        <a:pt x="98" y="146"/>
                      </a:lnTo>
                      <a:lnTo>
                        <a:pt x="107" y="146"/>
                      </a:lnTo>
                      <a:lnTo>
                        <a:pt x="117" y="146"/>
                      </a:lnTo>
                      <a:lnTo>
                        <a:pt x="136" y="146"/>
                      </a:lnTo>
                      <a:lnTo>
                        <a:pt x="146" y="146"/>
                      </a:lnTo>
                      <a:lnTo>
                        <a:pt x="185" y="146"/>
                      </a:lnTo>
                      <a:lnTo>
                        <a:pt x="195" y="146"/>
                      </a:lnTo>
                      <a:lnTo>
                        <a:pt x="195" y="136"/>
                      </a:lnTo>
                      <a:lnTo>
                        <a:pt x="214" y="136"/>
                      </a:lnTo>
                      <a:lnTo>
                        <a:pt x="224" y="136"/>
                      </a:lnTo>
                      <a:lnTo>
                        <a:pt x="234" y="136"/>
                      </a:lnTo>
                      <a:lnTo>
                        <a:pt x="243" y="127"/>
                      </a:lnTo>
                      <a:lnTo>
                        <a:pt x="253" y="127"/>
                      </a:lnTo>
                      <a:lnTo>
                        <a:pt x="263" y="127"/>
                      </a:lnTo>
                      <a:lnTo>
                        <a:pt x="282" y="127"/>
                      </a:lnTo>
                      <a:lnTo>
                        <a:pt x="292" y="117"/>
                      </a:lnTo>
                      <a:lnTo>
                        <a:pt x="311" y="117"/>
                      </a:lnTo>
                      <a:lnTo>
                        <a:pt x="321" y="117"/>
                      </a:lnTo>
                      <a:lnTo>
                        <a:pt x="331" y="117"/>
                      </a:lnTo>
                      <a:lnTo>
                        <a:pt x="350" y="97"/>
                      </a:lnTo>
                      <a:lnTo>
                        <a:pt x="360" y="78"/>
                      </a:lnTo>
                      <a:lnTo>
                        <a:pt x="370" y="58"/>
                      </a:lnTo>
                      <a:lnTo>
                        <a:pt x="370" y="49"/>
                      </a:lnTo>
                      <a:lnTo>
                        <a:pt x="370" y="29"/>
                      </a:lnTo>
                      <a:lnTo>
                        <a:pt x="370" y="19"/>
                      </a:lnTo>
                      <a:lnTo>
                        <a:pt x="380" y="0"/>
                      </a:lnTo>
                      <a:lnTo>
                        <a:pt x="389" y="10"/>
                      </a:lnTo>
                      <a:lnTo>
                        <a:pt x="409" y="19"/>
                      </a:lnTo>
                      <a:lnTo>
                        <a:pt x="438" y="49"/>
                      </a:lnTo>
                      <a:lnTo>
                        <a:pt x="448" y="58"/>
                      </a:lnTo>
                      <a:lnTo>
                        <a:pt x="457" y="58"/>
                      </a:lnTo>
                      <a:lnTo>
                        <a:pt x="467" y="6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273560" y="3142080"/>
                  <a:ext cx="54000" cy="10188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88" y="166"/>
                      </a:moveTo>
                      <a:lnTo>
                        <a:pt x="88" y="156"/>
                      </a:lnTo>
                      <a:lnTo>
                        <a:pt x="78" y="146"/>
                      </a:lnTo>
                      <a:lnTo>
                        <a:pt x="68" y="127"/>
                      </a:lnTo>
                      <a:lnTo>
                        <a:pt x="58" y="107"/>
                      </a:lnTo>
                      <a:lnTo>
                        <a:pt x="49" y="78"/>
                      </a:lnTo>
                      <a:lnTo>
                        <a:pt x="39" y="59"/>
                      </a:lnTo>
                      <a:lnTo>
                        <a:pt x="29" y="39"/>
                      </a:lnTo>
                      <a:lnTo>
                        <a:pt x="20" y="2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39" y="8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68" y="14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56"/>
                      </a:lnTo>
                      <a:lnTo>
                        <a:pt x="88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309560" y="3243960"/>
                  <a:ext cx="230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224">
                      <a:moveTo>
                        <a:pt x="10" y="224"/>
                      </a:moveTo>
                      <a:lnTo>
                        <a:pt x="20" y="204"/>
                      </a:lnTo>
                      <a:lnTo>
                        <a:pt x="20" y="175"/>
                      </a:lnTo>
                      <a:lnTo>
                        <a:pt x="30" y="146"/>
                      </a:lnTo>
                      <a:lnTo>
                        <a:pt x="39" y="117"/>
                      </a:lnTo>
                      <a:lnTo>
                        <a:pt x="39" y="87"/>
                      </a:lnTo>
                      <a:lnTo>
                        <a:pt x="39" y="2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9"/>
                      </a:lnTo>
                      <a:lnTo>
                        <a:pt x="30" y="87"/>
                      </a:lnTo>
                      <a:lnTo>
                        <a:pt x="30" y="117"/>
                      </a:lnTo>
                      <a:lnTo>
                        <a:pt x="20" y="146"/>
                      </a:lnTo>
                      <a:lnTo>
                        <a:pt x="20" y="175"/>
                      </a:lnTo>
                      <a:lnTo>
                        <a:pt x="10" y="194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0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236840" y="3382920"/>
                  <a:ext cx="78480" cy="53640"/>
                </a:xfrm>
                <a:custGeom>
                  <a:avLst/>
                  <a:gdLst/>
                  <a:ahLst/>
                  <a:rect l="l" t="t" r="r" b="b"/>
                  <a:pathLst>
                    <a:path w="126" h="87">
                      <a:moveTo>
                        <a:pt x="0" y="87"/>
                      </a:moveTo>
                      <a:lnTo>
                        <a:pt x="9" y="87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3440" y="34124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0" y="10"/>
                      </a:move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39" y="39"/>
                      </a:lnTo>
                      <a:lnTo>
                        <a:pt x="29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176720" y="3412440"/>
                  <a:ext cx="36720" cy="12240"/>
                </a:xfrm>
                <a:custGeom>
                  <a:avLst/>
                  <a:gdLst/>
                  <a:ahLst/>
                  <a:rect l="l" t="t" r="r" b="b"/>
                  <a:pathLst>
                    <a:path w="59" h="20">
                      <a:moveTo>
                        <a:pt x="0" y="20"/>
                      </a:moveTo>
                      <a:lnTo>
                        <a:pt x="59" y="10"/>
                      </a:lnTo>
                      <a:lnTo>
                        <a:pt x="5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116600" y="337716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97" y="78"/>
                      </a:lnTo>
                      <a:lnTo>
                        <a:pt x="97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057920" y="3377160"/>
                  <a:ext cx="58680" cy="576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10"/>
                      </a:moveTo>
                      <a:lnTo>
                        <a:pt x="87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991320" y="3352320"/>
                  <a:ext cx="66240" cy="30600"/>
                </a:xfrm>
                <a:custGeom>
                  <a:avLst/>
                  <a:gdLst/>
                  <a:ahLst/>
                  <a:rect l="l" t="t" r="r" b="b"/>
                  <a:pathLst>
                    <a:path w="107" h="49">
                      <a:moveTo>
                        <a:pt x="0" y="0"/>
                      </a:moveTo>
                      <a:lnTo>
                        <a:pt x="10" y="1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49" y="49"/>
                      </a:lnTo>
                      <a:lnTo>
                        <a:pt x="107" y="49"/>
                      </a:lnTo>
                      <a:lnTo>
                        <a:pt x="107" y="39"/>
                      </a:lnTo>
                      <a:lnTo>
                        <a:pt x="4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10" y="19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979080" y="3237840"/>
                  <a:ext cx="18360" cy="114120"/>
                </a:xfrm>
                <a:custGeom>
                  <a:avLst/>
                  <a:gdLst/>
                  <a:ahLst/>
                  <a:rect l="l" t="t" r="r" b="b"/>
                  <a:pathLst>
                    <a:path w="29" h="185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9" y="49"/>
                      </a:lnTo>
                      <a:lnTo>
                        <a:pt x="0" y="68"/>
                      </a:lnTo>
                      <a:lnTo>
                        <a:pt x="0" y="97"/>
                      </a:lnTo>
                      <a:lnTo>
                        <a:pt x="9" y="117"/>
                      </a:lnTo>
                      <a:lnTo>
                        <a:pt x="9" y="146"/>
                      </a:lnTo>
                      <a:lnTo>
                        <a:pt x="9" y="165"/>
                      </a:lnTo>
                      <a:lnTo>
                        <a:pt x="19" y="185"/>
                      </a:lnTo>
                      <a:lnTo>
                        <a:pt x="29" y="185"/>
                      </a:lnTo>
                      <a:lnTo>
                        <a:pt x="19" y="165"/>
                      </a:lnTo>
                      <a:lnTo>
                        <a:pt x="19" y="146"/>
                      </a:lnTo>
                      <a:lnTo>
                        <a:pt x="19" y="117"/>
                      </a:lnTo>
                      <a:lnTo>
                        <a:pt x="9" y="97"/>
                      </a:lnTo>
                      <a:lnTo>
                        <a:pt x="9" y="68"/>
                      </a:lnTo>
                      <a:lnTo>
                        <a:pt x="19" y="49"/>
                      </a:lnTo>
                      <a:lnTo>
                        <a:pt x="19" y="19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91320" y="3183840"/>
                  <a:ext cx="89280" cy="5400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10"/>
                      </a:move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107" y="0"/>
                      </a:lnTo>
                      <a:lnTo>
                        <a:pt x="97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30"/>
                      </a:lnTo>
                      <a:lnTo>
                        <a:pt x="49" y="3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29" y="59"/>
                      </a:lnTo>
                      <a:lnTo>
                        <a:pt x="19" y="68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0" y="88"/>
                      </a:lnTo>
                      <a:lnTo>
                        <a:pt x="39" y="59"/>
                      </a:lnTo>
                      <a:lnTo>
                        <a:pt x="49" y="59"/>
                      </a:lnTo>
                      <a:lnTo>
                        <a:pt x="68" y="39"/>
                      </a:lnTo>
                      <a:lnTo>
                        <a:pt x="78" y="30"/>
                      </a:lnTo>
                      <a:lnTo>
                        <a:pt x="88" y="20"/>
                      </a:lnTo>
                      <a:lnTo>
                        <a:pt x="97" y="10"/>
                      </a:lnTo>
                      <a:lnTo>
                        <a:pt x="107" y="10"/>
                      </a:lnTo>
                      <a:lnTo>
                        <a:pt x="136" y="1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46" y="10"/>
                      </a:lnTo>
                      <a:lnTo>
                        <a:pt x="1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080960" y="316512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165" y="0"/>
                      </a:move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5" y="10"/>
                      </a:lnTo>
                      <a:lnTo>
                        <a:pt x="136" y="10"/>
                      </a:lnTo>
                      <a:lnTo>
                        <a:pt x="126" y="10"/>
                      </a:lnTo>
                      <a:lnTo>
                        <a:pt x="117" y="10"/>
                      </a:lnTo>
                      <a:lnTo>
                        <a:pt x="107" y="20"/>
                      </a:lnTo>
                      <a:lnTo>
                        <a:pt x="87" y="2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29"/>
                      </a:lnTo>
                      <a:lnTo>
                        <a:pt x="39" y="29"/>
                      </a:lnTo>
                      <a:lnTo>
                        <a:pt x="39" y="29"/>
                      </a:lnTo>
                      <a:lnTo>
                        <a:pt x="29" y="39"/>
                      </a:lnTo>
                      <a:lnTo>
                        <a:pt x="1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58" y="3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lnTo>
                        <a:pt x="87" y="29"/>
                      </a:lnTo>
                      <a:lnTo>
                        <a:pt x="97" y="29"/>
                      </a:lnTo>
                      <a:lnTo>
                        <a:pt x="107" y="20"/>
                      </a:lnTo>
                      <a:lnTo>
                        <a:pt x="126" y="20"/>
                      </a:lnTo>
                      <a:lnTo>
                        <a:pt x="126" y="20"/>
                      </a:lnTo>
                      <a:lnTo>
                        <a:pt x="155" y="20"/>
                      </a:lnTo>
                      <a:lnTo>
                        <a:pt x="165" y="10"/>
                      </a:lnTo>
                      <a:lnTo>
                        <a:pt x="175" y="1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182840" y="309456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7">
                      <a:moveTo>
                        <a:pt x="59" y="10"/>
                      </a:moveTo>
                      <a:lnTo>
                        <a:pt x="49" y="10"/>
                      </a:lnTo>
                      <a:lnTo>
                        <a:pt x="49" y="29"/>
                      </a:lnTo>
                      <a:lnTo>
                        <a:pt x="49" y="39"/>
                      </a:lnTo>
                      <a:lnTo>
                        <a:pt x="49" y="59"/>
                      </a:lnTo>
                      <a:lnTo>
                        <a:pt x="39" y="68"/>
                      </a:lnTo>
                      <a:lnTo>
                        <a:pt x="39" y="88"/>
                      </a:lnTo>
                      <a:lnTo>
                        <a:pt x="29" y="98"/>
                      </a:lnTo>
                      <a:lnTo>
                        <a:pt x="20" y="117"/>
                      </a:lnTo>
                      <a:lnTo>
                        <a:pt x="0" y="117"/>
                      </a:lnTo>
                      <a:lnTo>
                        <a:pt x="10" y="127"/>
                      </a:lnTo>
                      <a:lnTo>
                        <a:pt x="29" y="117"/>
                      </a:lnTo>
                      <a:lnTo>
                        <a:pt x="39" y="107"/>
                      </a:lnTo>
                      <a:lnTo>
                        <a:pt x="49" y="88"/>
                      </a:lnTo>
                      <a:lnTo>
                        <a:pt x="49" y="68"/>
                      </a:lnTo>
                      <a:lnTo>
                        <a:pt x="49" y="59"/>
                      </a:lnTo>
                      <a:lnTo>
                        <a:pt x="49" y="39"/>
                      </a:lnTo>
                      <a:lnTo>
                        <a:pt x="59" y="29"/>
                      </a:lnTo>
                      <a:lnTo>
                        <a:pt x="59" y="10"/>
                      </a:lnTo>
                      <a:lnTo>
                        <a:pt x="59" y="20"/>
                      </a:lnTo>
                      <a:lnTo>
                        <a:pt x="59" y="10"/>
                      </a:lnTo>
                      <a:lnTo>
                        <a:pt x="49" y="0"/>
                      </a:lnTo>
                      <a:lnTo>
                        <a:pt x="49" y="10"/>
                      </a:lnTo>
                      <a:lnTo>
                        <a:pt x="5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19920" y="3100320"/>
                  <a:ext cx="60120" cy="4788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97" y="68"/>
                      </a:moveTo>
                      <a:lnTo>
                        <a:pt x="87" y="68"/>
                      </a:lnTo>
                      <a:lnTo>
                        <a:pt x="77" y="58"/>
                      </a:lnTo>
                      <a:lnTo>
                        <a:pt x="68" y="58"/>
                      </a:lnTo>
                      <a:lnTo>
                        <a:pt x="58" y="49"/>
                      </a:lnTo>
                      <a:lnTo>
                        <a:pt x="48" y="29"/>
                      </a:lnTo>
                      <a:lnTo>
                        <a:pt x="29" y="19"/>
                      </a:lnTo>
                      <a:lnTo>
                        <a:pt x="19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29"/>
                      </a:lnTo>
                      <a:lnTo>
                        <a:pt x="38" y="39"/>
                      </a:lnTo>
                      <a:lnTo>
                        <a:pt x="58" y="58"/>
                      </a:lnTo>
                      <a:lnTo>
                        <a:pt x="77" y="68"/>
                      </a:lnTo>
                      <a:lnTo>
                        <a:pt x="87" y="78"/>
                      </a:lnTo>
                      <a:lnTo>
                        <a:pt x="97" y="68"/>
                      </a:lnTo>
                      <a:lnTo>
                        <a:pt x="87" y="68"/>
                      </a:lnTo>
                      <a:lnTo>
                        <a:pt x="9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90840" y="338760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146" h="146">
                      <a:moveTo>
                        <a:pt x="117" y="117"/>
                      </a:moveTo>
                      <a:lnTo>
                        <a:pt x="107" y="117"/>
                      </a:lnTo>
                      <a:lnTo>
                        <a:pt x="107" y="127"/>
                      </a:lnTo>
                      <a:lnTo>
                        <a:pt x="98" y="127"/>
                      </a:lnTo>
                      <a:lnTo>
                        <a:pt x="88" y="137"/>
                      </a:lnTo>
                      <a:lnTo>
                        <a:pt x="88" y="137"/>
                      </a:lnTo>
                      <a:lnTo>
                        <a:pt x="78" y="137"/>
                      </a:lnTo>
                      <a:lnTo>
                        <a:pt x="59" y="137"/>
                      </a:lnTo>
                      <a:lnTo>
                        <a:pt x="49" y="146"/>
                      </a:lnTo>
                      <a:lnTo>
                        <a:pt x="49" y="146"/>
                      </a:lnTo>
                      <a:lnTo>
                        <a:pt x="39" y="137"/>
                      </a:lnTo>
                      <a:lnTo>
                        <a:pt x="29" y="137"/>
                      </a:lnTo>
                      <a:lnTo>
                        <a:pt x="20" y="137"/>
                      </a:lnTo>
                      <a:lnTo>
                        <a:pt x="10" y="137"/>
                      </a:lnTo>
                      <a:lnTo>
                        <a:pt x="0" y="127"/>
                      </a:lnTo>
                      <a:lnTo>
                        <a:pt x="10" y="117"/>
                      </a:lnTo>
                      <a:lnTo>
                        <a:pt x="10" y="107"/>
                      </a:lnTo>
                      <a:lnTo>
                        <a:pt x="20" y="98"/>
                      </a:lnTo>
                      <a:lnTo>
                        <a:pt x="29" y="88"/>
                      </a:lnTo>
                      <a:lnTo>
                        <a:pt x="39" y="78"/>
                      </a:lnTo>
                      <a:lnTo>
                        <a:pt x="59" y="59"/>
                      </a:lnTo>
                      <a:lnTo>
                        <a:pt x="68" y="49"/>
                      </a:lnTo>
                      <a:lnTo>
                        <a:pt x="88" y="30"/>
                      </a:lnTo>
                      <a:lnTo>
                        <a:pt x="98" y="30"/>
                      </a:lnTo>
                      <a:lnTo>
                        <a:pt x="107" y="20"/>
                      </a:lnTo>
                      <a:lnTo>
                        <a:pt x="117" y="20"/>
                      </a:lnTo>
                      <a:lnTo>
                        <a:pt x="136" y="0"/>
                      </a:lnTo>
                      <a:lnTo>
                        <a:pt x="136" y="10"/>
                      </a:lnTo>
                      <a:lnTo>
                        <a:pt x="146" y="30"/>
                      </a:lnTo>
                      <a:lnTo>
                        <a:pt x="146" y="39"/>
                      </a:lnTo>
                      <a:lnTo>
                        <a:pt x="136" y="59"/>
                      </a:lnTo>
                      <a:lnTo>
                        <a:pt x="136" y="78"/>
                      </a:lnTo>
                      <a:lnTo>
                        <a:pt x="127" y="88"/>
                      </a:lnTo>
                      <a:lnTo>
                        <a:pt x="127" y="107"/>
                      </a:lnTo>
                      <a:lnTo>
                        <a:pt x="117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90840" y="3460320"/>
                  <a:ext cx="72360" cy="1836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9"/>
                      </a:lnTo>
                      <a:lnTo>
                        <a:pt x="59" y="29"/>
                      </a:lnTo>
                      <a:lnTo>
                        <a:pt x="78" y="29"/>
                      </a:lnTo>
                      <a:lnTo>
                        <a:pt x="88" y="20"/>
                      </a:lnTo>
                      <a:lnTo>
                        <a:pt x="88" y="20"/>
                      </a:lnTo>
                      <a:lnTo>
                        <a:pt x="98" y="20"/>
                      </a:lnTo>
                      <a:lnTo>
                        <a:pt x="107" y="10"/>
                      </a:lnTo>
                      <a:lnTo>
                        <a:pt x="117" y="1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98" y="10"/>
                      </a:lnTo>
                      <a:lnTo>
                        <a:pt x="88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9" y="20"/>
                      </a:lnTo>
                      <a:lnTo>
                        <a:pt x="39" y="20"/>
                      </a:lnTo>
                      <a:lnTo>
                        <a:pt x="29" y="20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90840" y="3382920"/>
                  <a:ext cx="83160" cy="8316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27" y="0"/>
                      </a:lnTo>
                      <a:lnTo>
                        <a:pt x="127" y="9"/>
                      </a:lnTo>
                      <a:lnTo>
                        <a:pt x="117" y="19"/>
                      </a:lnTo>
                      <a:lnTo>
                        <a:pt x="107" y="29"/>
                      </a:lnTo>
                      <a:lnTo>
                        <a:pt x="88" y="39"/>
                      </a:lnTo>
                      <a:lnTo>
                        <a:pt x="88" y="39"/>
                      </a:lnTo>
                      <a:lnTo>
                        <a:pt x="78" y="48"/>
                      </a:lnTo>
                      <a:lnTo>
                        <a:pt x="68" y="58"/>
                      </a:lnTo>
                      <a:lnTo>
                        <a:pt x="59" y="58"/>
                      </a:lnTo>
                      <a:lnTo>
                        <a:pt x="10" y="10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20" y="116"/>
                      </a:lnTo>
                      <a:lnTo>
                        <a:pt x="20" y="107"/>
                      </a:lnTo>
                      <a:lnTo>
                        <a:pt x="29" y="97"/>
                      </a:lnTo>
                      <a:lnTo>
                        <a:pt x="39" y="87"/>
                      </a:lnTo>
                      <a:lnTo>
                        <a:pt x="49" y="87"/>
                      </a:lnTo>
                      <a:lnTo>
                        <a:pt x="49" y="78"/>
                      </a:lnTo>
                      <a:lnTo>
                        <a:pt x="68" y="58"/>
                      </a:lnTo>
                      <a:lnTo>
                        <a:pt x="88" y="58"/>
                      </a:lnTo>
                      <a:lnTo>
                        <a:pt x="88" y="48"/>
                      </a:lnTo>
                      <a:lnTo>
                        <a:pt x="98" y="39"/>
                      </a:lnTo>
                      <a:lnTo>
                        <a:pt x="117" y="29"/>
                      </a:lnTo>
                      <a:lnTo>
                        <a:pt x="127" y="19"/>
                      </a:lnTo>
                      <a:lnTo>
                        <a:pt x="136" y="9"/>
                      </a:lnTo>
                      <a:lnTo>
                        <a:pt x="136" y="9"/>
                      </a:lnTo>
                      <a:lnTo>
                        <a:pt x="136" y="0"/>
                      </a:lnTo>
                      <a:lnTo>
                        <a:pt x="127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363200" y="3382920"/>
                  <a:ext cx="16920" cy="77040"/>
                </a:xfrm>
                <a:custGeom>
                  <a:avLst/>
                  <a:gdLst/>
                  <a:ahLst/>
                  <a:rect l="l" t="t" r="r" b="b"/>
                  <a:pathLst>
                    <a:path w="29" h="126">
                      <a:moveTo>
                        <a:pt x="0" y="126"/>
                      </a:moveTo>
                      <a:lnTo>
                        <a:pt x="10" y="126"/>
                      </a:lnTo>
                      <a:lnTo>
                        <a:pt x="10" y="116"/>
                      </a:lnTo>
                      <a:lnTo>
                        <a:pt x="19" y="97"/>
                      </a:lnTo>
                      <a:lnTo>
                        <a:pt x="19" y="87"/>
                      </a:lnTo>
                      <a:lnTo>
                        <a:pt x="29" y="68"/>
                      </a:lnTo>
                      <a:lnTo>
                        <a:pt x="29" y="48"/>
                      </a:lnTo>
                      <a:lnTo>
                        <a:pt x="29" y="39"/>
                      </a:lnTo>
                      <a:lnTo>
                        <a:pt x="29" y="19"/>
                      </a:ln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19" y="19"/>
                      </a:lnTo>
                      <a:lnTo>
                        <a:pt x="19" y="39"/>
                      </a:lnTo>
                      <a:lnTo>
                        <a:pt x="19" y="48"/>
                      </a:lnTo>
                      <a:lnTo>
                        <a:pt x="19" y="68"/>
                      </a:lnTo>
                      <a:lnTo>
                        <a:pt x="19" y="78"/>
                      </a:lnTo>
                      <a:lnTo>
                        <a:pt x="10" y="97"/>
                      </a:lnTo>
                      <a:lnTo>
                        <a:pt x="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10" y="126"/>
                      </a:lnTo>
                      <a:lnTo>
                        <a:pt x="1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303080" y="3400200"/>
                  <a:ext cx="70920" cy="6588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87" y="87"/>
                      </a:moveTo>
                      <a:lnTo>
                        <a:pt x="78" y="97"/>
                      </a:lnTo>
                      <a:lnTo>
                        <a:pt x="68" y="97"/>
                      </a:lnTo>
                      <a:lnTo>
                        <a:pt x="58" y="97"/>
                      </a:lnTo>
                      <a:lnTo>
                        <a:pt x="48" y="97"/>
                      </a:lnTo>
                      <a:lnTo>
                        <a:pt x="39" y="107"/>
                      </a:lnTo>
                      <a:lnTo>
                        <a:pt x="19" y="107"/>
                      </a:lnTo>
                      <a:lnTo>
                        <a:pt x="0" y="97"/>
                      </a:lnTo>
                      <a:lnTo>
                        <a:pt x="9" y="87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48" y="49"/>
                      </a:lnTo>
                      <a:lnTo>
                        <a:pt x="68" y="39"/>
                      </a:lnTo>
                      <a:lnTo>
                        <a:pt x="78" y="19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16" y="10"/>
                      </a:lnTo>
                      <a:lnTo>
                        <a:pt x="107" y="19"/>
                      </a:lnTo>
                      <a:lnTo>
                        <a:pt x="107" y="39"/>
                      </a:lnTo>
                      <a:lnTo>
                        <a:pt x="107" y="49"/>
                      </a:lnTo>
                      <a:lnTo>
                        <a:pt x="97" y="58"/>
                      </a:lnTo>
                      <a:lnTo>
                        <a:pt x="97" y="68"/>
                      </a:lnTo>
                      <a:lnTo>
                        <a:pt x="87" y="78"/>
                      </a:lnTo>
                      <a:lnTo>
                        <a:pt x="87" y="87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303080" y="3454200"/>
                  <a:ext cx="53640" cy="1224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19" y="20"/>
                      </a:lnTo>
                      <a:lnTo>
                        <a:pt x="48" y="20"/>
                      </a:lnTo>
                      <a:lnTo>
                        <a:pt x="58" y="20"/>
                      </a:lnTo>
                      <a:lnTo>
                        <a:pt x="68" y="10"/>
                      </a:lnTo>
                      <a:lnTo>
                        <a:pt x="78" y="1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8" y="0"/>
                      </a:lnTo>
                      <a:lnTo>
                        <a:pt x="68" y="10"/>
                      </a:lnTo>
                      <a:lnTo>
                        <a:pt x="58" y="10"/>
                      </a:lnTo>
                      <a:lnTo>
                        <a:pt x="48" y="10"/>
                      </a:lnTo>
                      <a:lnTo>
                        <a:pt x="3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303080" y="3393720"/>
                  <a:ext cx="70920" cy="6624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116" y="10"/>
                      </a:moveTo>
                      <a:lnTo>
                        <a:pt x="107" y="10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48" y="59"/>
                      </a:lnTo>
                      <a:lnTo>
                        <a:pt x="29" y="68"/>
                      </a:lnTo>
                      <a:lnTo>
                        <a:pt x="19" y="78"/>
                      </a:lnTo>
                      <a:lnTo>
                        <a:pt x="9" y="97"/>
                      </a:lnTo>
                      <a:lnTo>
                        <a:pt x="0" y="107"/>
                      </a:lnTo>
                      <a:lnTo>
                        <a:pt x="9" y="107"/>
                      </a:lnTo>
                      <a:lnTo>
                        <a:pt x="19" y="97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16" y="2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lnTo>
                        <a:pt x="116" y="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350960" y="3400200"/>
                  <a:ext cx="23040" cy="60120"/>
                </a:xfrm>
                <a:custGeom>
                  <a:avLst/>
                  <a:gdLst/>
                  <a:ahLst/>
                  <a:rect l="l" t="t" r="r" b="b"/>
                  <a:pathLst>
                    <a:path w="38" h="97">
                      <a:moveTo>
                        <a:pt x="9" y="97"/>
                      </a:moveTo>
                      <a:lnTo>
                        <a:pt x="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29" y="49"/>
                      </a:lnTo>
                      <a:lnTo>
                        <a:pt x="38" y="39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19" y="49"/>
                      </a:lnTo>
                      <a:lnTo>
                        <a:pt x="19" y="58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9" y="97"/>
                      </a:lnTo>
                      <a:lnTo>
                        <a:pt x="9" y="8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48" y="29"/>
                      </a:move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9" y="19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48" y="0"/>
                      </a:lnTo>
                      <a:lnTo>
                        <a:pt x="48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59800" y="3484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8840" y="346032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48" y="10"/>
                      </a:moveTo>
                      <a:lnTo>
                        <a:pt x="48" y="10"/>
                      </a:lnTo>
                      <a:lnTo>
                        <a:pt x="29" y="10"/>
                      </a:lnTo>
                      <a:lnTo>
                        <a:pt x="1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48" y="2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59800" y="346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10" y="2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1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267800" y="34912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9" y="29"/>
                      </a:lnTo>
                      <a:lnTo>
                        <a:pt x="39" y="39"/>
                      </a:lnTo>
                      <a:lnTo>
                        <a:pt x="30" y="39"/>
                      </a:lnTo>
                      <a:lnTo>
                        <a:pt x="30" y="39"/>
                      </a:lnTo>
                      <a:lnTo>
                        <a:pt x="20" y="29"/>
                      </a:lnTo>
                      <a:lnTo>
                        <a:pt x="10" y="29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286160" y="3502080"/>
                  <a:ext cx="10440" cy="1224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0" y="20"/>
                      </a:moveTo>
                      <a:lnTo>
                        <a:pt x="9" y="20"/>
                      </a:lnTo>
                      <a:lnTo>
                        <a:pt x="19" y="2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267800" y="349704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30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67800" y="3491280"/>
                  <a:ext cx="28800" cy="1080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49" y="19"/>
                      </a:moveTo>
                      <a:lnTo>
                        <a:pt x="39" y="1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2240" y="1778760"/>
                  <a:ext cx="1330920" cy="96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1156" name=""/>
            <p:cNvGraphicFramePr/>
            <p:nvPr/>
          </p:nvGraphicFramePr>
          <p:xfrm>
            <a:off x="5479200" y="3484080"/>
            <a:ext cx="511920" cy="66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9200" y="3484080"/>
                      <a:ext cx="5119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58" name="dotcomhpcint" descr=""/>
          <p:cNvPicPr/>
          <p:nvPr/>
        </p:nvPicPr>
        <p:blipFill>
          <a:blip r:embed="rId8"/>
          <a:stretch/>
        </p:blipFill>
        <p:spPr>
          <a:xfrm>
            <a:off x="2147760" y="5041800"/>
            <a:ext cx="3867120" cy="13431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47320" y="4600440"/>
            <a:ext cx="4336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cf01"/>
                </a:solidFill>
                <a:latin typeface="Arial"/>
              </a:rPr>
              <a:t>Leading to Portal (Super)Compu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Grid Application-Dri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ld and new applications getting enabled due to coupling of computers, databases, instruments, people, etc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distributed) Super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laborative engine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gh-throughput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imulation &amp; parameter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software access / Renting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-intensive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7:09:46Z</dcterms:modified>
  <cp:revision>95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