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47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878280" y="-36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07280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878280" y="8926200"/>
            <a:ext cx="2967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89C9-41B3-4235-A122-1A08ADD7F1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AAE0-E81F-4A6F-A45B-6B14C0E5B1A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78280" y="8926560"/>
            <a:ext cx="29671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7BB-8200-4F58-9738-C9264FF1D3A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73160" y="704880"/>
            <a:ext cx="4699080" cy="3524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2600" y="4463640"/>
            <a:ext cx="501948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560" y="38815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780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764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6472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56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764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6472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0780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50560" y="38815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0780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764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6472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5056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764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6472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0780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560" y="38815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0780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5764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64720" y="9907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5056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5764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64720" y="3881520"/>
            <a:ext cx="286344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07800" y="38815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56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07800" y="990720"/>
            <a:ext cx="433980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560" y="3881520"/>
            <a:ext cx="8893080" cy="26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6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Imagem 6" descr="brasao_UFSC_horizontal.jpg"/>
          <p:cNvPicPr/>
          <p:nvPr/>
        </p:nvPicPr>
        <p:blipFill>
          <a:blip r:embed="rId2"/>
          <a:stretch/>
        </p:blipFill>
        <p:spPr>
          <a:xfrm>
            <a:off x="6357960" y="6245280"/>
            <a:ext cx="2539800" cy="558720"/>
          </a:xfrm>
          <a:prstGeom prst="rect">
            <a:avLst/>
          </a:prstGeom>
          <a:ln w="0">
            <a:noFill/>
          </a:ln>
        </p:spPr>
      </p:pic>
      <p:sp>
        <p:nvSpPr>
          <p:cNvPr id="4" name="Conector reto 9"/>
          <p:cNvSpPr/>
          <p:nvPr/>
        </p:nvSpPr>
        <p:spPr>
          <a:xfrm>
            <a:off x="250920" y="6524640"/>
            <a:ext cx="5892840" cy="1440"/>
          </a:xfrm>
          <a:prstGeom prst="line">
            <a:avLst/>
          </a:prstGeom>
          <a:ln w="792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upo 9"/>
          <p:cNvGrpSpPr/>
          <p:nvPr/>
        </p:nvGrpSpPr>
        <p:grpSpPr>
          <a:xfrm>
            <a:off x="7038720" y="6595920"/>
            <a:ext cx="1578240" cy="261360"/>
            <a:chOff x="7038720" y="6595920"/>
            <a:chExt cx="1578240" cy="261360"/>
          </a:xfrm>
        </p:grpSpPr>
        <p:sp>
          <p:nvSpPr>
            <p:cNvPr id="6" name="CaixaDeTexto 7"/>
            <p:cNvSpPr/>
            <p:nvPr/>
          </p:nvSpPr>
          <p:spPr>
            <a:xfrm>
              <a:off x="7038720" y="6595920"/>
              <a:ext cx="1578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62ac"/>
                  </a:solidFill>
                  <a:latin typeface="Calibri"/>
                </a:rPr>
                <a:t>cc  C. G. v. Wangenheim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Elipse 8"/>
            <p:cNvSpPr/>
            <p:nvPr/>
          </p:nvSpPr>
          <p:spPr>
            <a:xfrm>
              <a:off x="7091280" y="6648120"/>
              <a:ext cx="164880" cy="18756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8"/>
          <p:cNvSpPr/>
          <p:nvPr/>
        </p:nvSpPr>
        <p:spPr>
          <a:xfrm>
            <a:off x="1440" y="30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1440" y="305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8"/>
          <p:cNvSpPr/>
          <p:nvPr/>
        </p:nvSpPr>
        <p:spPr>
          <a:xfrm>
            <a:off x="1440" y="30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1440" y="30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144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6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Imagem 6" descr="brasao_UFSC_horizontal.jpg"/>
          <p:cNvPicPr/>
          <p:nvPr/>
        </p:nvPicPr>
        <p:blipFill>
          <a:blip r:embed="rId2"/>
          <a:stretch/>
        </p:blipFill>
        <p:spPr>
          <a:xfrm>
            <a:off x="6357960" y="6245280"/>
            <a:ext cx="2539800" cy="558720"/>
          </a:xfrm>
          <a:prstGeom prst="rect">
            <a:avLst/>
          </a:prstGeom>
          <a:ln w="0">
            <a:noFill/>
          </a:ln>
        </p:spPr>
      </p:pic>
      <p:sp>
        <p:nvSpPr>
          <p:cNvPr id="89" name="Conector reto 9"/>
          <p:cNvSpPr/>
          <p:nvPr/>
        </p:nvSpPr>
        <p:spPr>
          <a:xfrm>
            <a:off x="250920" y="6524640"/>
            <a:ext cx="5892840" cy="1440"/>
          </a:xfrm>
          <a:prstGeom prst="line">
            <a:avLst/>
          </a:prstGeom>
          <a:ln w="792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upo 9"/>
          <p:cNvGrpSpPr/>
          <p:nvPr/>
        </p:nvGrpSpPr>
        <p:grpSpPr>
          <a:xfrm>
            <a:off x="7038720" y="6595920"/>
            <a:ext cx="1578240" cy="261360"/>
            <a:chOff x="7038720" y="6595920"/>
            <a:chExt cx="1578240" cy="261360"/>
          </a:xfrm>
        </p:grpSpPr>
        <p:sp>
          <p:nvSpPr>
            <p:cNvPr id="91" name="CaixaDeTexto 7"/>
            <p:cNvSpPr/>
            <p:nvPr/>
          </p:nvSpPr>
          <p:spPr>
            <a:xfrm>
              <a:off x="7038720" y="6595920"/>
              <a:ext cx="1578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62ac"/>
                  </a:solidFill>
                  <a:latin typeface="Calibri"/>
                </a:rPr>
                <a:t>cc  C. G. v. Wangenheim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Elipse 8"/>
            <p:cNvSpPr/>
            <p:nvPr/>
          </p:nvSpPr>
          <p:spPr>
            <a:xfrm>
              <a:off x="7091280" y="6648120"/>
              <a:ext cx="164880" cy="18756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upo 9"/>
          <p:cNvGrpSpPr/>
          <p:nvPr/>
        </p:nvGrpSpPr>
        <p:grpSpPr>
          <a:xfrm>
            <a:off x="7038720" y="6595920"/>
            <a:ext cx="1578240" cy="261360"/>
            <a:chOff x="7038720" y="6595920"/>
            <a:chExt cx="1578240" cy="261360"/>
          </a:xfrm>
        </p:grpSpPr>
        <p:sp>
          <p:nvSpPr>
            <p:cNvPr id="94" name="CaixaDeTexto 10"/>
            <p:cNvSpPr/>
            <p:nvPr/>
          </p:nvSpPr>
          <p:spPr>
            <a:xfrm>
              <a:off x="7038720" y="6595920"/>
              <a:ext cx="1578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62ac"/>
                  </a:solidFill>
                  <a:latin typeface="Calibri"/>
                </a:rPr>
                <a:t>cc  C. G. v. Wangenheim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Elipse 11"/>
            <p:cNvSpPr/>
            <p:nvPr/>
          </p:nvSpPr>
          <p:spPr>
            <a:xfrm>
              <a:off x="7091280" y="6648120"/>
              <a:ext cx="164880" cy="187560"/>
            </a:xfrm>
            <a:prstGeom prst="ellipse">
              <a:avLst/>
            </a:prstGeom>
            <a:noFill/>
            <a:ln w="1908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250560" y="990720"/>
            <a:ext cx="88930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2401"/>
              </a:spcBef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2401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2401"/>
              </a:spcBef>
              <a:buClr>
                <a:srgbClr val="00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1580760"/>
            <a:ext cx="821520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66"/>
                </a:solidFill>
                <a:latin typeface="Arial"/>
              </a:rPr>
              <a:t>APPLYING EARNED VALUE MANAGEMENT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0066"/>
                </a:solidFill>
                <a:latin typeface="Arial"/>
              </a:rPr>
              <a:t>Detective Game – what killed the project?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442872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etective game: what killed the project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560" y="828720"/>
            <a:ext cx="8537400" cy="56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ercise to be done in groups by about 4 students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struction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have been contracted by the software company SoftSolution as management consultants in order to identify the problems which have caused the failure of a project with the objective to develop a web-based pizza ordering system for Tio Chico’s pizzeria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You have 60 min to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 the earned value management calculation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dentify time and cost related problem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5" name="Picture 4" descr="MCj04283010000[1]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MCj04283010000[1]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98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244440" y="0"/>
            <a:ext cx="74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etective game: what killed the project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560" y="1071360"/>
            <a:ext cx="85374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inner of the game is the group with the largest number of point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ach correct EVM calculation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 poi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ach correctly identified problem </a:t>
            </a:r>
            <a:r>
              <a:rPr b="0" lang="en-US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 poi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4" descr="MCj04283010000[1]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etective game: what killed the project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0560" y="1071360"/>
            <a:ext cx="85374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Ready?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00006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me: 60 m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" name="Picture 4" descr="MCj04283010000[1]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Detective game: what killed the project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" name="Picture 4" descr="MCj04283010000[1]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9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0" y="947880"/>
            <a:ext cx="789624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ítulo 6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500040" y="1143000"/>
            <a:ext cx="8215200" cy="4812840"/>
          </a:xfrm>
          <a:prstGeom prst="rect">
            <a:avLst/>
          </a:prstGeom>
          <a:solidFill>
            <a:srgbClr val="ffffcc"/>
          </a:solidFill>
          <a:ln w="381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tribuição-Uso Não-Comercial-Compartilhamento pela Licença 2.5 Brasi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Você pode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copiar, distribuir, exibir e executar a obr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criar obras derivada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Sob as seguintes condições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tribuição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— Você deve dar crédito ao autor original, da forma especificada pelo autor ou licenciante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Uso Não-Comercial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— Você não pode utilizar esta obra com finalidades comerciais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ompartilhamento pela mesma Licença —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 você alterar, transformar, ou criar outra obra com base nesta, você somente poderá distribuir a obra resultante sob uma licença idêntica a esta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a ver uma cópia desta licença, visite http://creativecommons.org/licenses/by-nc-sa/2.5/br/ ou mande uma carta para Creative Commons, 171 Second Street, Suite 300, San Francisco, California, 94105, USA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-192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logo_deed"/>
          <p:cNvPicPr/>
          <p:nvPr/>
        </p:nvPicPr>
        <p:blipFill>
          <a:blip r:embed="rId1"/>
          <a:stretch/>
        </p:blipFill>
        <p:spPr>
          <a:xfrm>
            <a:off x="3433680" y="1238400"/>
            <a:ext cx="25099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1:31Z</dcterms:created>
  <dc:creator>Christiane Gresse von Wangenheim</dc:creator>
  <dc:description/>
  <dc:language>en-US</dc:language>
  <cp:lastModifiedBy>admin</cp:lastModifiedBy>
  <dcterms:modified xsi:type="dcterms:W3CDTF">2011-11-09T11:17:25Z</dcterms:modified>
  <cp:revision>1496</cp:revision>
  <dc:subject/>
  <dc:title>Apresentação do PowerPoint</dc:title>
</cp:coreProperties>
</file>