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A0CA-B275-4711-921E-CD9E6CB0E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A0D7-5ED8-4C0E-A6DF-23913E30F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FD57-47E6-43DB-B618-29A20D7C4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82DC-0F26-401B-9777-8F11CBB0A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9F09-BC33-40E3-8EB0-4C066C702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971FE-E0F0-40C0-A946-CFA5050D4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1DD9-AF72-4024-9D59-E94647D5C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E428-6D54-4518-ACEE-D54E0A00C8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0947-3782-444F-A3DC-FC272B342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EA10-7A1A-400B-9EBA-44FE88391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3F46-99E3-4B44-BA77-0B10B0E5A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51DF-9EA4-4A93-9504-04EF6606F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D12F-EDF1-465A-A6CD-F82A5248EA1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66680" y="203040"/>
            <a:ext cx="2506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Disciplina Computação Gráf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Curso de Ciência da Camputaçã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INE/CTC/UF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cyclops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34000" y="203040"/>
            <a:ext cx="27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sgi3d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0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553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f. Dr. rer.nat. Aldo v. Wangenheim - 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gi3d" descr=""/>
          <p:cNvPicPr/>
          <p:nvPr/>
        </p:nvPicPr>
        <p:blipFill>
          <a:blip r:embed="rId2"/>
          <a:stretch/>
        </p:blipFill>
        <p:spPr>
          <a:xfrm>
            <a:off x="2133720" y="1297080"/>
            <a:ext cx="5105160" cy="4995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cyclops2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97080" y="152280"/>
            <a:ext cx="366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ula 9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delos Hierárquicos em Computação Gráfica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8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 rot="6600">
            <a:off x="4114440" y="195588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403080" y="2361960"/>
            <a:ext cx="1416240" cy="2842200"/>
            <a:chOff x="3403080" y="2361960"/>
            <a:chExt cx="1416240" cy="2842200"/>
          </a:xfrm>
        </p:grpSpPr>
        <p:sp>
          <p:nvSpPr>
            <p:cNvPr id="283" name=""/>
            <p:cNvSpPr/>
            <p:nvPr/>
          </p:nvSpPr>
          <p:spPr>
            <a:xfrm rot="2094600">
              <a:off x="4203720" y="2421360"/>
              <a:ext cx="30456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2094600">
              <a:off x="3462840" y="3484800"/>
              <a:ext cx="30492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2094600">
              <a:off x="3758400" y="2647080"/>
              <a:ext cx="45720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476160" y="3680280"/>
              <a:ext cx="1343160" cy="1523880"/>
              <a:chOff x="3476160" y="3680280"/>
              <a:chExt cx="1343160" cy="1523880"/>
            </a:xfrm>
          </p:grpSpPr>
          <p:sp>
            <p:nvSpPr>
              <p:cNvPr id="287" name=""/>
              <p:cNvSpPr/>
              <p:nvPr/>
            </p:nvSpPr>
            <p:spPr>
              <a:xfrm rot="19353600">
                <a:off x="4168440" y="4532760"/>
                <a:ext cx="30492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9353600">
                <a:off x="3706920" y="3724920"/>
                <a:ext cx="45720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9353600">
                <a:off x="4202640" y="4813560"/>
                <a:ext cx="609840" cy="228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Movimentando o Modelo de Maneira Simp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557532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186696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6120" y="218448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rot="6600">
            <a:off x="4114440" y="210816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021480" y="2519280"/>
            <a:ext cx="1518120" cy="2670840"/>
            <a:chOff x="3021480" y="2519280"/>
            <a:chExt cx="1518120" cy="2670840"/>
          </a:xfrm>
        </p:grpSpPr>
        <p:sp>
          <p:nvSpPr>
            <p:cNvPr id="296" name=""/>
            <p:cNvSpPr/>
            <p:nvPr/>
          </p:nvSpPr>
          <p:spPr>
            <a:xfrm rot="3313800">
              <a:off x="4175280" y="2578680"/>
              <a:ext cx="30456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3313800">
              <a:off x="3111120" y="3318120"/>
              <a:ext cx="30492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3313800">
              <a:off x="3567960" y="2643120"/>
              <a:ext cx="45720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021480" y="3588840"/>
              <a:ext cx="955800" cy="1601280"/>
              <a:chOff x="3021480" y="3588840"/>
              <a:chExt cx="955800" cy="1601280"/>
            </a:xfrm>
          </p:grpSpPr>
          <p:sp>
            <p:nvSpPr>
              <p:cNvPr id="300" name=""/>
              <p:cNvSpPr/>
              <p:nvPr/>
            </p:nvSpPr>
            <p:spPr>
              <a:xfrm rot="20572800">
                <a:off x="3408120" y="4546080"/>
                <a:ext cx="30492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572800">
                <a:off x="3145680" y="3635640"/>
                <a:ext cx="45720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0572800">
                <a:off x="3346920" y="4876560"/>
                <a:ext cx="609840" cy="228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Movimentando o Modelo de Maneira Simp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557532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186696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6120" y="218448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 rot="6600">
            <a:off x="4114440" y="222264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3314400">
            <a:off x="4174920" y="2692440"/>
            <a:ext cx="304920" cy="30456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3314400">
            <a:off x="3109680" y="3431880"/>
            <a:ext cx="304560" cy="30456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3314400">
            <a:off x="3566880" y="2757240"/>
            <a:ext cx="457200" cy="914400"/>
          </a:xfrm>
          <a:prstGeom prst="rect">
            <a:avLst/>
          </a:prstGeom>
          <a:solidFill>
            <a:srgbClr val="6666ff">
              <a:alpha val="50000"/>
            </a:srgbClr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351160" y="3684240"/>
            <a:ext cx="1061640" cy="1601280"/>
            <a:chOff x="2351160" y="3684240"/>
            <a:chExt cx="1061640" cy="1601280"/>
          </a:xfrm>
        </p:grpSpPr>
        <p:sp>
          <p:nvSpPr>
            <p:cNvPr id="312" name=""/>
            <p:cNvSpPr/>
            <p:nvPr/>
          </p:nvSpPr>
          <p:spPr>
            <a:xfrm rot="1324800">
              <a:off x="2638440" y="4628520"/>
              <a:ext cx="30492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324800">
              <a:off x="2800440" y="3736440"/>
              <a:ext cx="45720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324800">
              <a:off x="2371680" y="4950720"/>
              <a:ext cx="609840" cy="228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Movimentando o Modelo de Maneira Simp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557532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186696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6120" y="218448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rot="6600">
            <a:off x="4114440" y="222264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3314400">
            <a:off x="4174920" y="2692440"/>
            <a:ext cx="304920" cy="30456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3314400">
            <a:off x="3109680" y="3431880"/>
            <a:ext cx="304560" cy="30456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3314400">
            <a:off x="3566880" y="2757240"/>
            <a:ext cx="457200" cy="914400"/>
          </a:xfrm>
          <a:prstGeom prst="rect">
            <a:avLst/>
          </a:prstGeom>
          <a:solidFill>
            <a:srgbClr val="6666ff">
              <a:alpha val="50000"/>
            </a:srgbClr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324800">
            <a:off x="2638080" y="4627440"/>
            <a:ext cx="304920" cy="30492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324800">
            <a:off x="2800440" y="3735000"/>
            <a:ext cx="457200" cy="914400"/>
          </a:xfrm>
          <a:prstGeom prst="rect">
            <a:avLst/>
          </a:prstGeom>
          <a:solidFill>
            <a:srgbClr val="6666ff">
              <a:alpha val="50000"/>
            </a:srgbClr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95200">
            <a:off x="2437920" y="4952880"/>
            <a:ext cx="609840" cy="228600"/>
          </a:xfrm>
          <a:prstGeom prst="rect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Movimentando o Modelo de Maneira Simp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557532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186696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6120" y="218448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rot="6600">
            <a:off x="4114440" y="222264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42560" y="2642040"/>
            <a:ext cx="1695960" cy="2919600"/>
            <a:chOff x="2842560" y="2642040"/>
            <a:chExt cx="1695960" cy="2919600"/>
          </a:xfrm>
        </p:grpSpPr>
        <p:sp>
          <p:nvSpPr>
            <p:cNvPr id="332" name=""/>
            <p:cNvSpPr/>
            <p:nvPr/>
          </p:nvSpPr>
          <p:spPr>
            <a:xfrm rot="2155800">
              <a:off x="4173120" y="2702520"/>
              <a:ext cx="304920" cy="30456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155800">
              <a:off x="3412440" y="3752640"/>
              <a:ext cx="304560" cy="30456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2155800">
              <a:off x="3717000" y="2922480"/>
              <a:ext cx="45720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2842560" y="4041720"/>
              <a:ext cx="852840" cy="1519920"/>
              <a:chOff x="2842560" y="4041720"/>
              <a:chExt cx="852840" cy="1519920"/>
            </a:xfrm>
          </p:grpSpPr>
          <p:sp>
            <p:nvSpPr>
              <p:cNvPr id="336" name=""/>
              <p:cNvSpPr/>
              <p:nvPr/>
            </p:nvSpPr>
            <p:spPr>
              <a:xfrm rot="985800">
                <a:off x="3015000" y="5000040"/>
                <a:ext cx="30456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985800">
                <a:off x="3118320" y="4087440"/>
                <a:ext cx="45684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1556800">
                <a:off x="2843640" y="5329080"/>
                <a:ext cx="609480" cy="228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Movimentando o Modelo de Maneira Simp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557532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186696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6120" y="218448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Cálculos do Deslocamento Vertic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4" name="pernas2" descr=""/>
          <p:cNvPicPr/>
          <p:nvPr/>
        </p:nvPicPr>
        <p:blipFill>
          <a:blip r:embed="rId1"/>
          <a:stretch/>
        </p:blipFill>
        <p:spPr>
          <a:xfrm>
            <a:off x="-317520" y="1981080"/>
            <a:ext cx="9524880" cy="33530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96560" y="5443560"/>
            <a:ext cx="906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Importante: Lembre-se de calcular o deslocamento para cada </a:t>
            </a:r>
            <a:br>
              <a:rPr sz="2400"/>
            </a:b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perna e depois tomar o menor deles como glob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Tahoma"/>
              </a:rPr>
              <a:t>Programando Modelos Hierárquic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Desenhando o tronc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void desenhaTronco(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99"/>
                </a:solidFill>
                <a:latin typeface="Courier New"/>
              </a:rPr>
              <a:t>glPushMatrix(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9966"/>
                </a:solidFill>
                <a:latin typeface="Courier New"/>
              </a:rPr>
              <a:t>glScalef(LARGTRONCO, ALTTRONCO, TORSO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glColor3f(0.0, 1.0, 1.0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glutSolidCube(1.0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99"/>
                </a:solidFill>
                <a:latin typeface="Courier New"/>
              </a:rPr>
              <a:t>glPopMatrix(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Desenhando a per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1950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desenhaPerna()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é uma função que reflete a hierarquia da perna: </a:t>
            </a:r>
            <a:r>
              <a:rPr b="0" lang="pt-BR" sz="2600" spc="-1" strike="noStrike">
                <a:solidFill>
                  <a:srgbClr val="ff9966"/>
                </a:solidFill>
                <a:latin typeface="Tahoma"/>
              </a:rPr>
              <a:t>dividida em três segmentos articulad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da um desse segmentos deve ser movido por uma função particular (com suas matrizes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A função </a:t>
            </a:r>
            <a:r>
              <a:rPr b="1" lang="pt-BR" sz="2600" spc="-1" strike="noStrike">
                <a:solidFill>
                  <a:srgbClr val="ffffff"/>
                </a:solidFill>
                <a:latin typeface="Courier New"/>
              </a:rPr>
              <a:t>desenhaPerna()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integra estas três funções, chamando-as com os ângulos adequados e também gerenciando as matrizes gloais da pern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Desenhando a Perna: #1, a Cox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10058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void desenhaCox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glPush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glColor3f(0.0, 1.0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glScalef(TAMARTQUADRIL,TAMARTQUADRIL,TAMARTQUADRI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glutSolidSphere(1.0,8,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glPop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9966"/>
                </a:solidFill>
                <a:latin typeface="Courier New"/>
              </a:rPr>
              <a:t>glTranslatef(0.0, - ALTCOXA * 0.75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Push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Color3f(0.0, 0.0, 1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Scalef(LARGCOXA, ALTCOXA, LARGCOX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utSolidCube(1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Pop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Técnica para representar estruturas articulad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3480" indent="-276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Animais, humanos, robôs humanóides, braços mecân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Usamos uma filosofia hierárquica para representar um objeto: árvor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3480" indent="-276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Cada parte móvel ou articulada do nosso objeto é um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33480" indent="-276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ependências de movimentos estão no modelo: hierarquia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53396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plícita: estrutura de dado árv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533960" indent="-2239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mplícita: açgoritmos hierárqu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Facilidade de aplicar transformaçõ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3480" indent="-276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Uma tranformação se reflete sobre o nodo sobre o qual é aplicada e todos os seus filh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Modelos Hierárquico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Desenhando a Pern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10058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void desenhaPerna(int ladoCorp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Push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glRotatef(angulos[ladoCorpo][</a:t>
            </a:r>
            <a:r>
              <a:rPr b="1" lang="pt-BR" sz="2000" spc="-1" strike="noStrike">
                <a:solidFill>
                  <a:srgbClr val="ff5050"/>
                </a:solidFill>
                <a:latin typeface="Courier New"/>
              </a:rPr>
              <a:t>0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], 1.0, 0.0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desenhaCoxa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glTranslatef(0.0, - ALTCOXA * 0.75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glRotatef(angulos[ladoCorpo][</a:t>
            </a:r>
            <a:r>
              <a:rPr b="1" lang="pt-BR" sz="2000" spc="-1" strike="noStrike">
                <a:solidFill>
                  <a:srgbClr val="ff5050"/>
                </a:solidFill>
                <a:latin typeface="Courier New"/>
              </a:rPr>
              <a:t>1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], 1.0, 0.0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desenhaCanela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glTranslatef(0.0, - ALTCANELA * 0.75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glRotatef(angulos[ladoCorpo][</a:t>
            </a:r>
            <a:r>
              <a:rPr b="1" lang="pt-BR" sz="2000" spc="-1" strike="noStrike">
                <a:solidFill>
                  <a:srgbClr val="ff5050"/>
                </a:solidFill>
                <a:latin typeface="Courier New"/>
              </a:rPr>
              <a:t>2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], 1.0, 0.0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desenhaPe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Pop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04920" y="2438280"/>
            <a:ext cx="685800" cy="3048120"/>
            <a:chOff x="304920" y="2438280"/>
            <a:chExt cx="685800" cy="3048120"/>
          </a:xfrm>
        </p:grpSpPr>
        <p:sp>
          <p:nvSpPr>
            <p:cNvPr id="356" name=""/>
            <p:cNvSpPr/>
            <p:nvPr/>
          </p:nvSpPr>
          <p:spPr>
            <a:xfrm>
              <a:off x="304920" y="2438280"/>
              <a:ext cx="6858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4920" y="5486400"/>
              <a:ext cx="6858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82760" y="3124080"/>
            <a:ext cx="405720" cy="1981440"/>
            <a:chOff x="482760" y="3124080"/>
            <a:chExt cx="405720" cy="1981440"/>
          </a:xfrm>
        </p:grpSpPr>
        <p:sp>
          <p:nvSpPr>
            <p:cNvPr id="359" name=""/>
            <p:cNvSpPr/>
            <p:nvPr/>
          </p:nvSpPr>
          <p:spPr>
            <a:xfrm>
              <a:off x="482760" y="5105520"/>
              <a:ext cx="38952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8600" y="3124080"/>
              <a:ext cx="38988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2760" y="4151160"/>
              <a:ext cx="389520" cy="0"/>
            </a:xfrm>
            <a:prstGeom prst="line">
              <a:avLst/>
            </a:prstGeom>
            <a:ln w="1908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Desenhando o Corp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10058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void desenhaTroncoEPernas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Push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glTranslatef(0.0, </a:t>
            </a:r>
            <a:r>
              <a:rPr b="1" lang="pt-BR" sz="2000" spc="-1" strike="noStrike">
                <a:solidFill>
                  <a:srgbClr val="ff5050"/>
                </a:solidFill>
                <a:latin typeface="Courier New"/>
              </a:rPr>
              <a:t>deslVertical()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desenhaTronco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glTranslatef(0.0, </a:t>
            </a:r>
            <a:r>
              <a:rPr b="1" lang="pt-BR" sz="2000" spc="-1" strike="noStrike">
                <a:solidFill>
                  <a:srgbClr val="ff5050"/>
                </a:solidFill>
                <a:latin typeface="Courier New"/>
              </a:rPr>
              <a:t>-(ALTTRONCO)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Push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glTranslatef(</a:t>
            </a:r>
            <a:r>
              <a:rPr b="1" lang="pt-BR" sz="2000" spc="-1" strike="noStrike">
                <a:solidFill>
                  <a:srgbClr val="ff5050"/>
                </a:solidFill>
                <a:latin typeface="Courier New"/>
              </a:rPr>
              <a:t>LARGTRONCO * 0.33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, 0.0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desenhaPerna(ESQUERD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Pop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glTranslatef(</a:t>
            </a:r>
            <a:r>
              <a:rPr b="1" lang="pt-BR" sz="2000" spc="-1" strike="noStrike">
                <a:solidFill>
                  <a:srgbClr val="ff5050"/>
                </a:solidFill>
                <a:latin typeface="Courier New"/>
              </a:rPr>
              <a:t>-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ff5050"/>
                </a:solidFill>
                <a:latin typeface="Courier New"/>
              </a:rPr>
              <a:t>LARGTRONCO * 0.33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, 0.0, 0.0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cc00"/>
                </a:solidFill>
                <a:latin typeface="Courier New"/>
              </a:rPr>
              <a:t>desenhaPerna(DIREI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 </a:t>
            </a:r>
            <a:r>
              <a:rPr b="1" lang="pt-BR" sz="2000" spc="-1" strike="noStrike">
                <a:solidFill>
                  <a:srgbClr val="99ffcc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Courier New"/>
              </a:rPr>
              <a:t>glPopMatrix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04920" y="2438280"/>
            <a:ext cx="685800" cy="3428640"/>
            <a:chOff x="304920" y="2438280"/>
            <a:chExt cx="685800" cy="3428640"/>
          </a:xfrm>
        </p:grpSpPr>
        <p:sp>
          <p:nvSpPr>
            <p:cNvPr id="365" name=""/>
            <p:cNvSpPr/>
            <p:nvPr/>
          </p:nvSpPr>
          <p:spPr>
            <a:xfrm>
              <a:off x="304920" y="2438280"/>
              <a:ext cx="6858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4920" y="5866920"/>
              <a:ext cx="6858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79360" y="3809880"/>
            <a:ext cx="685800" cy="990720"/>
            <a:chOff x="279360" y="3809880"/>
            <a:chExt cx="685800" cy="990720"/>
          </a:xfrm>
        </p:grpSpPr>
        <p:sp>
          <p:nvSpPr>
            <p:cNvPr id="368" name=""/>
            <p:cNvSpPr/>
            <p:nvPr/>
          </p:nvSpPr>
          <p:spPr>
            <a:xfrm>
              <a:off x="279360" y="3809880"/>
              <a:ext cx="6858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9360" y="4800600"/>
              <a:ext cx="6858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ernas" descr=""/>
          <p:cNvPicPr/>
          <p:nvPr/>
        </p:nvPicPr>
        <p:blipFill>
          <a:blip r:embed="rId1"/>
          <a:stretch/>
        </p:blipFill>
        <p:spPr>
          <a:xfrm>
            <a:off x="1295280" y="0"/>
            <a:ext cx="78487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Pernas: Componentes Básicos e sua Hierarqui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62040" y="1905120"/>
            <a:ext cx="1904760" cy="3644280"/>
            <a:chOff x="1562040" y="1905120"/>
            <a:chExt cx="1904760" cy="3644280"/>
          </a:xfrm>
        </p:grpSpPr>
        <p:sp>
          <p:nvSpPr>
            <p:cNvPr id="91" name=""/>
            <p:cNvSpPr/>
            <p:nvPr/>
          </p:nvSpPr>
          <p:spPr>
            <a:xfrm>
              <a:off x="1638000" y="1905120"/>
              <a:ext cx="1752840" cy="45684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14320" y="2400120"/>
              <a:ext cx="304920" cy="30456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09600" y="3695760"/>
              <a:ext cx="304920" cy="30420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14320" y="4978440"/>
              <a:ext cx="304920" cy="30420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09600" y="2400120"/>
              <a:ext cx="304920" cy="30456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14320" y="3695760"/>
              <a:ext cx="304920" cy="30420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8000" y="2743200"/>
              <a:ext cx="457200" cy="91404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38000" y="4038480"/>
              <a:ext cx="457200" cy="91404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33640" y="4038480"/>
              <a:ext cx="457200" cy="91404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33640" y="2743200"/>
              <a:ext cx="457200" cy="91404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9600" y="4978440"/>
              <a:ext cx="304920" cy="30420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62040" y="5321160"/>
              <a:ext cx="609480" cy="228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320" y="5321160"/>
              <a:ext cx="609480" cy="22824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07160" y="1905120"/>
            <a:ext cx="1014480" cy="37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Tron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Cox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Cane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85880" y="2286000"/>
            <a:ext cx="162684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66"/>
                </a:solidFill>
                <a:latin typeface="Tahoma"/>
              </a:rPr>
              <a:t>Articulação</a:t>
            </a:r>
            <a:br>
              <a:rPr sz="2000"/>
            </a:br>
            <a:r>
              <a:rPr b="0" lang="pt-BR" sz="2000" spc="-1" strike="noStrike">
                <a:solidFill>
                  <a:srgbClr val="ff9966"/>
                </a:solidFill>
                <a:latin typeface="Tahoma"/>
              </a:rPr>
              <a:t>dos Quad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66"/>
                </a:solidFill>
                <a:latin typeface="Tahoma"/>
              </a:rPr>
              <a:t>Articulação </a:t>
            </a:r>
            <a:br>
              <a:rPr sz="2000"/>
            </a:br>
            <a:r>
              <a:rPr b="0" lang="pt-BR" sz="2000" spc="-1" strike="noStrike">
                <a:solidFill>
                  <a:srgbClr val="ff9966"/>
                </a:solidFill>
                <a:latin typeface="Tahoma"/>
              </a:rPr>
              <a:t>do Joel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66"/>
                </a:solidFill>
                <a:latin typeface="Tahoma"/>
              </a:rPr>
              <a:t>Articulação </a:t>
            </a:r>
            <a:br>
              <a:rPr sz="2000"/>
            </a:br>
            <a:r>
              <a:rPr b="0" lang="pt-BR" sz="2000" spc="-1" strike="noStrike">
                <a:solidFill>
                  <a:srgbClr val="ff9966"/>
                </a:solidFill>
                <a:latin typeface="Tahoma"/>
              </a:rPr>
              <a:t>do P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660280" y="1536840"/>
            <a:ext cx="3233520" cy="4402080"/>
            <a:chOff x="5660280" y="1536840"/>
            <a:chExt cx="3233520" cy="4402080"/>
          </a:xfrm>
        </p:grpSpPr>
        <p:grpSp>
          <p:nvGrpSpPr>
            <p:cNvPr id="107" name=""/>
            <p:cNvGrpSpPr/>
            <p:nvPr/>
          </p:nvGrpSpPr>
          <p:grpSpPr>
            <a:xfrm>
              <a:off x="5660280" y="1905120"/>
              <a:ext cx="3233520" cy="4033800"/>
              <a:chOff x="5660280" y="1905120"/>
              <a:chExt cx="3233520" cy="4033800"/>
            </a:xfrm>
          </p:grpSpPr>
          <p:sp>
            <p:nvSpPr>
              <p:cNvPr id="108" name=""/>
              <p:cNvSpPr/>
              <p:nvPr/>
            </p:nvSpPr>
            <p:spPr>
              <a:xfrm>
                <a:off x="5660280" y="2514600"/>
                <a:ext cx="1557000" cy="34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Art.Quadri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Cox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Art.Joelh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Canel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Art.Pé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Pé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336800" y="2502000"/>
                <a:ext cx="1557000" cy="342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Art.Quadri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Cox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Art.Joelho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Canel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Art.Pé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3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Pé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684480" y="1905120"/>
                <a:ext cx="1080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ffff99"/>
                    </a:solidFill>
                    <a:latin typeface="Tahoma"/>
                  </a:rPr>
                  <a:t>Tronco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6553080" y="2286000"/>
                <a:ext cx="533520" cy="30492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91160" y="2286000"/>
                <a:ext cx="533520" cy="30492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00800" y="297180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400800" y="356868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00800" y="415296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413400" y="473724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38960" y="528336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064360" y="297180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64360" y="356868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064360" y="415296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076960" y="473724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102520" y="5283360"/>
                <a:ext cx="0" cy="228600"/>
              </a:xfrm>
              <a:prstGeom prst="line">
                <a:avLst/>
              </a:prstGeom>
              <a:ln w="936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022080" y="1536840"/>
              <a:ext cx="248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a4bff4"/>
                  </a:solidFill>
                  <a:latin typeface="Tahoma"/>
                </a:rPr>
                <a:t>Estrutura de Da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295280" y="1905120"/>
            <a:ext cx="3809880" cy="3695760"/>
            <a:chOff x="1295280" y="1905120"/>
            <a:chExt cx="3809880" cy="3695760"/>
          </a:xfrm>
        </p:grpSpPr>
        <p:grpSp>
          <p:nvGrpSpPr>
            <p:cNvPr id="125" name=""/>
            <p:cNvGrpSpPr/>
            <p:nvPr/>
          </p:nvGrpSpPr>
          <p:grpSpPr>
            <a:xfrm>
              <a:off x="1295280" y="1905120"/>
              <a:ext cx="609480" cy="3644640"/>
              <a:chOff x="1295280" y="1905120"/>
              <a:chExt cx="609480" cy="3644640"/>
            </a:xfrm>
          </p:grpSpPr>
          <p:sp>
            <p:nvSpPr>
              <p:cNvPr id="126" name=""/>
              <p:cNvSpPr/>
              <p:nvPr/>
            </p:nvSpPr>
            <p:spPr>
              <a:xfrm>
                <a:off x="1371240" y="1905120"/>
                <a:ext cx="495000" cy="457200"/>
              </a:xfrm>
              <a:prstGeom prst="rect">
                <a:avLst/>
              </a:prstGeom>
              <a:solidFill>
                <a:srgbClr val="4d4d4d">
                  <a:alpha val="50000"/>
                </a:srgbClr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447560" y="2400480"/>
                <a:ext cx="304200" cy="304560"/>
              </a:xfrm>
              <a:prstGeom prst="ellipse">
                <a:avLst/>
              </a:prstGeom>
              <a:solidFill>
                <a:srgbClr val="4d4d4d">
                  <a:alpha val="50000"/>
                </a:srgbClr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47560" y="4978440"/>
                <a:ext cx="304200" cy="304920"/>
              </a:xfrm>
              <a:prstGeom prst="ellipse">
                <a:avLst/>
              </a:prstGeom>
              <a:solidFill>
                <a:srgbClr val="4d4d4d">
                  <a:alpha val="50000"/>
                </a:srgbClr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47560" y="3695760"/>
                <a:ext cx="304200" cy="304920"/>
              </a:xfrm>
              <a:prstGeom prst="ellipse">
                <a:avLst/>
              </a:prstGeom>
              <a:solidFill>
                <a:srgbClr val="4d4d4d">
                  <a:alpha val="50000"/>
                </a:srgbClr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371240" y="2743200"/>
                <a:ext cx="456840" cy="914400"/>
              </a:xfrm>
              <a:prstGeom prst="rect">
                <a:avLst/>
              </a:prstGeom>
              <a:solidFill>
                <a:srgbClr val="4d4d4d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71240" y="4038480"/>
                <a:ext cx="456840" cy="914400"/>
              </a:xfrm>
              <a:prstGeom prst="rect">
                <a:avLst/>
              </a:prstGeom>
              <a:solidFill>
                <a:srgbClr val="4d4d4d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295280" y="5321160"/>
                <a:ext cx="609480" cy="228600"/>
              </a:xfrm>
              <a:prstGeom prst="rect">
                <a:avLst/>
              </a:prstGeom>
              <a:solidFill>
                <a:srgbClr val="4d4d4d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85360" y="2019240"/>
                <a:ext cx="228240" cy="228600"/>
              </a:xfrm>
              <a:prstGeom prst="ellipse">
                <a:avLst/>
              </a:prstGeom>
              <a:solidFill>
                <a:srgbClr val="4d4d4d">
                  <a:alpha val="50000"/>
                </a:srgbClr>
              </a:solidFill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495680" y="1955880"/>
              <a:ext cx="609480" cy="3645000"/>
              <a:chOff x="4495680" y="1955880"/>
              <a:chExt cx="609480" cy="36450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4495680" y="1955880"/>
                <a:ext cx="609480" cy="3645000"/>
                <a:chOff x="4495680" y="1955880"/>
                <a:chExt cx="609480" cy="36450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71640" y="1955880"/>
                  <a:ext cx="495000" cy="457200"/>
                </a:xfrm>
                <a:prstGeom prst="rect">
                  <a:avLst/>
                </a:prstGeom>
                <a:solidFill>
                  <a:srgbClr val="4d4d4d">
                    <a:alpha val="50000"/>
                  </a:srgbClr>
                </a:solidFill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647960" y="2451240"/>
                  <a:ext cx="304200" cy="304560"/>
                </a:xfrm>
                <a:prstGeom prst="ellipse">
                  <a:avLst/>
                </a:prstGeom>
                <a:solidFill>
                  <a:srgbClr val="4d4d4d">
                    <a:alpha val="50000"/>
                  </a:srgbClr>
                </a:solidFill>
                <a:ln w="28440">
                  <a:solidFill>
                    <a:srgbClr val="66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4647960" y="5029200"/>
                  <a:ext cx="304200" cy="304920"/>
                </a:xfrm>
                <a:prstGeom prst="ellipse">
                  <a:avLst/>
                </a:prstGeom>
                <a:solidFill>
                  <a:srgbClr val="4d4d4d">
                    <a:alpha val="50000"/>
                  </a:srgbClr>
                </a:solidFill>
                <a:ln w="28440">
                  <a:solidFill>
                    <a:srgbClr val="66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647960" y="3746520"/>
                  <a:ext cx="304200" cy="304920"/>
                </a:xfrm>
                <a:prstGeom prst="ellipse">
                  <a:avLst/>
                </a:prstGeom>
                <a:solidFill>
                  <a:srgbClr val="4d4d4d">
                    <a:alpha val="50000"/>
                  </a:srgbClr>
                </a:solidFill>
                <a:ln w="28440">
                  <a:solidFill>
                    <a:srgbClr val="66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571640" y="2793960"/>
                  <a:ext cx="456840" cy="914400"/>
                </a:xfrm>
                <a:prstGeom prst="rect">
                  <a:avLst/>
                </a:prstGeom>
                <a:solidFill>
                  <a:srgbClr val="4d4d4d">
                    <a:alpha val="50000"/>
                  </a:srgbClr>
                </a:solidFill>
                <a:ln w="2844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1640" y="4089240"/>
                  <a:ext cx="456840" cy="914400"/>
                </a:xfrm>
                <a:prstGeom prst="rect">
                  <a:avLst/>
                </a:prstGeom>
                <a:solidFill>
                  <a:srgbClr val="4d4d4d">
                    <a:alpha val="50000"/>
                  </a:srgbClr>
                </a:solidFill>
                <a:ln w="28440">
                  <a:solidFill>
                    <a:srgbClr val="66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495680" y="5372280"/>
                  <a:ext cx="609480" cy="228600"/>
                </a:xfrm>
                <a:prstGeom prst="rect">
                  <a:avLst/>
                </a:prstGeom>
                <a:solidFill>
                  <a:srgbClr val="4d4d4d">
                    <a:alpha val="50000"/>
                  </a:srgbClr>
                </a:solidFill>
                <a:ln w="28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4686120" y="3784680"/>
                <a:ext cx="228240" cy="228600"/>
              </a:xfrm>
              <a:prstGeom prst="ellipse">
                <a:avLst/>
              </a:prstGeom>
              <a:solidFill>
                <a:srgbClr val="4d4d4d">
                  <a:alpha val="50000"/>
                </a:srgbClr>
              </a:solidFill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Aplicando rotação em diferentes componentes do Model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295280" y="1905120"/>
            <a:ext cx="609840" cy="3644640"/>
            <a:chOff x="1295280" y="1905120"/>
            <a:chExt cx="609840" cy="3644640"/>
          </a:xfrm>
        </p:grpSpPr>
        <p:sp>
          <p:nvSpPr>
            <p:cNvPr id="146" name=""/>
            <p:cNvSpPr/>
            <p:nvPr/>
          </p:nvSpPr>
          <p:spPr>
            <a:xfrm>
              <a:off x="1371600" y="1905120"/>
              <a:ext cx="495360" cy="457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7920" y="2400480"/>
              <a:ext cx="304560" cy="30456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7920" y="4978440"/>
              <a:ext cx="30456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7920" y="3695760"/>
              <a:ext cx="30456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71600" y="2743200"/>
              <a:ext cx="45720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1600" y="4038480"/>
              <a:ext cx="45720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5321160"/>
              <a:ext cx="609840" cy="228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85720" y="201924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249920" y="1817640"/>
            <a:ext cx="2005560" cy="3545640"/>
            <a:chOff x="1249920" y="1817640"/>
            <a:chExt cx="2005560" cy="3545640"/>
          </a:xfrm>
        </p:grpSpPr>
        <p:grpSp>
          <p:nvGrpSpPr>
            <p:cNvPr id="155" name=""/>
            <p:cNvGrpSpPr/>
            <p:nvPr/>
          </p:nvGrpSpPr>
          <p:grpSpPr>
            <a:xfrm>
              <a:off x="1249920" y="1817640"/>
              <a:ext cx="2005560" cy="3545640"/>
              <a:chOff x="1249920" y="1817640"/>
              <a:chExt cx="2005560" cy="3545640"/>
            </a:xfrm>
          </p:grpSpPr>
          <p:sp>
            <p:nvSpPr>
              <p:cNvPr id="156" name=""/>
              <p:cNvSpPr/>
              <p:nvPr/>
            </p:nvSpPr>
            <p:spPr>
              <a:xfrm rot="20159400">
                <a:off x="2131920" y="3532680"/>
                <a:ext cx="30420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20159400">
                <a:off x="1604880" y="2349360"/>
                <a:ext cx="304200" cy="30456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159400">
                <a:off x="2319120" y="3819240"/>
                <a:ext cx="45684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0159400">
                <a:off x="1791720" y="2635920"/>
                <a:ext cx="45684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159400">
                <a:off x="2653920" y="4704120"/>
                <a:ext cx="30420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159400">
                <a:off x="2625480" y="5020560"/>
                <a:ext cx="609480" cy="228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0159400">
                <a:off x="1321200" y="1898280"/>
                <a:ext cx="495000" cy="45720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1460520" y="20188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95680" y="1955880"/>
            <a:ext cx="609840" cy="3645000"/>
            <a:chOff x="4495680" y="1955880"/>
            <a:chExt cx="609840" cy="3645000"/>
          </a:xfrm>
        </p:grpSpPr>
        <p:grpSp>
          <p:nvGrpSpPr>
            <p:cNvPr id="165" name=""/>
            <p:cNvGrpSpPr/>
            <p:nvPr/>
          </p:nvGrpSpPr>
          <p:grpSpPr>
            <a:xfrm>
              <a:off x="4495680" y="1955880"/>
              <a:ext cx="609840" cy="3645000"/>
              <a:chOff x="4495680" y="1955880"/>
              <a:chExt cx="609840" cy="3645000"/>
            </a:xfrm>
          </p:grpSpPr>
          <p:sp>
            <p:nvSpPr>
              <p:cNvPr id="166" name=""/>
              <p:cNvSpPr/>
              <p:nvPr/>
            </p:nvSpPr>
            <p:spPr>
              <a:xfrm>
                <a:off x="4572000" y="1955880"/>
                <a:ext cx="495360" cy="45720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648320" y="2451240"/>
                <a:ext cx="304560" cy="30456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648320" y="5029200"/>
                <a:ext cx="30456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48320" y="3746520"/>
                <a:ext cx="30456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72000" y="2793960"/>
                <a:ext cx="45720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72000" y="4089240"/>
                <a:ext cx="45720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95680" y="5372280"/>
                <a:ext cx="609840" cy="228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686480" y="3784680"/>
              <a:ext cx="228600" cy="228600"/>
            </a:xfrm>
            <a:prstGeom prst="ellipse">
              <a:avLst/>
            </a:pr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59400" y="1955880"/>
            <a:ext cx="1414080" cy="3549240"/>
            <a:chOff x="4559400" y="1955880"/>
            <a:chExt cx="1414080" cy="3549240"/>
          </a:xfrm>
        </p:grpSpPr>
        <p:sp>
          <p:nvSpPr>
            <p:cNvPr id="175" name=""/>
            <p:cNvSpPr/>
            <p:nvPr/>
          </p:nvSpPr>
          <p:spPr>
            <a:xfrm>
              <a:off x="4559400" y="1955880"/>
              <a:ext cx="495360" cy="45684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35720" y="2450880"/>
              <a:ext cx="304920" cy="30456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59400" y="2793960"/>
              <a:ext cx="457200" cy="91404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594680" y="3694320"/>
              <a:ext cx="1378800" cy="1810800"/>
              <a:chOff x="4594680" y="3694320"/>
              <a:chExt cx="1378800" cy="1810800"/>
            </a:xfrm>
          </p:grpSpPr>
          <p:sp>
            <p:nvSpPr>
              <p:cNvPr id="179" name=""/>
              <p:cNvSpPr/>
              <p:nvPr/>
            </p:nvSpPr>
            <p:spPr>
              <a:xfrm rot="19658400">
                <a:off x="5339160" y="4835520"/>
                <a:ext cx="304920" cy="30456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9658400">
                <a:off x="4652280" y="3751920"/>
                <a:ext cx="304920" cy="30456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658400">
                <a:off x="4923000" y="3994200"/>
                <a:ext cx="45720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9658400">
                <a:off x="5349960" y="5131080"/>
                <a:ext cx="609480" cy="228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9658400">
                <a:off x="4690440" y="3789720"/>
                <a:ext cx="228600" cy="228600"/>
              </a:xfrm>
              <a:prstGeom prst="ellipse">
                <a:avLst/>
              </a:prstGeom>
              <a:noFill/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6934320" y="1905120"/>
            <a:ext cx="175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Atingimos diferentes resultados e provocamos diferentes efeitos dependendo de onde aplicamos a rot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190512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2400480"/>
            <a:ext cx="304560" cy="30456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978440"/>
            <a:ext cx="304560" cy="30492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3695760"/>
            <a:ext cx="304560" cy="30492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743200"/>
            <a:ext cx="457200" cy="914400"/>
          </a:xfrm>
          <a:prstGeom prst="rect">
            <a:avLst/>
          </a:prstGeom>
          <a:solidFill>
            <a:srgbClr val="6666ff">
              <a:alpha val="50000"/>
            </a:srgbClr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4038480"/>
            <a:ext cx="457200" cy="914400"/>
          </a:xfrm>
          <a:prstGeom prst="rect">
            <a:avLst/>
          </a:prstGeom>
          <a:solidFill>
            <a:srgbClr val="6666ff">
              <a:alpha val="50000"/>
            </a:srgbClr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5321160"/>
            <a:ext cx="609840" cy="228600"/>
          </a:xfrm>
          <a:prstGeom prst="rect">
            <a:avLst/>
          </a:prstGeom>
          <a:solidFill>
            <a:srgbClr val="c0c0c0">
              <a:alpha val="50000"/>
            </a:srgbClr>
          </a:solidFill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Tornando o Modelo Realis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221640" y="2222640"/>
            <a:ext cx="1199160" cy="3330000"/>
            <a:chOff x="3221640" y="2222640"/>
            <a:chExt cx="1199160" cy="3330000"/>
          </a:xfrm>
        </p:grpSpPr>
        <p:sp>
          <p:nvSpPr>
            <p:cNvPr id="194" name=""/>
            <p:cNvSpPr/>
            <p:nvPr/>
          </p:nvSpPr>
          <p:spPr>
            <a:xfrm>
              <a:off x="3733920" y="2222640"/>
              <a:ext cx="495360" cy="457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276720" y="2651400"/>
              <a:ext cx="896400" cy="1296360"/>
              <a:chOff x="3276720" y="2651400"/>
              <a:chExt cx="896400" cy="1296360"/>
            </a:xfrm>
          </p:grpSpPr>
          <p:sp>
            <p:nvSpPr>
              <p:cNvPr id="196" name=""/>
              <p:cNvSpPr/>
              <p:nvPr/>
            </p:nvSpPr>
            <p:spPr>
              <a:xfrm rot="1570200">
                <a:off x="3816720" y="2702880"/>
                <a:ext cx="304920" cy="30456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570200">
                <a:off x="3454560" y="2979000"/>
                <a:ext cx="45720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rot="19658400">
              <a:off x="3966840" y="4974840"/>
              <a:ext cx="30492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9658400">
              <a:off x="3279240" y="3890520"/>
              <a:ext cx="30492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58400">
              <a:off x="3551400" y="4133520"/>
              <a:ext cx="45720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32400">
              <a:off x="3809520" y="5320800"/>
              <a:ext cx="609840" cy="228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3520" y="1790640"/>
            <a:ext cx="8381880" cy="3784680"/>
            <a:chOff x="533520" y="1790640"/>
            <a:chExt cx="8381880" cy="3784680"/>
          </a:xfrm>
        </p:grpSpPr>
        <p:sp>
          <p:nvSpPr>
            <p:cNvPr id="203" name=""/>
            <p:cNvSpPr/>
            <p:nvPr/>
          </p:nvSpPr>
          <p:spPr>
            <a:xfrm>
              <a:off x="5943600" y="1790640"/>
              <a:ext cx="2971800" cy="171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9966"/>
                  </a:solidFill>
                  <a:latin typeface="Tahoma"/>
                </a:rPr>
                <a:t>deslocamento vertic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O tronco </a:t>
              </a:r>
              <a:br>
                <a:rPr sz="2000"/>
              </a:b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desce a cada </a:t>
              </a:r>
              <a:br>
                <a:rPr sz="2000"/>
              </a:b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aso dado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520" y="5575320"/>
              <a:ext cx="769608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3520" y="1866960"/>
              <a:ext cx="769608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6120" y="2184480"/>
              <a:ext cx="769608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895480" y="2845800"/>
            <a:ext cx="3505320" cy="2326320"/>
            <a:chOff x="2895480" y="2845800"/>
            <a:chExt cx="3505320" cy="2326320"/>
          </a:xfrm>
        </p:grpSpPr>
        <p:sp>
          <p:nvSpPr>
            <p:cNvPr id="208" name=""/>
            <p:cNvSpPr/>
            <p:nvPr/>
          </p:nvSpPr>
          <p:spPr>
            <a:xfrm>
              <a:off x="4648320" y="3124080"/>
              <a:ext cx="175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Cada junta possui um ângulo diferent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2895480" y="3733920"/>
              <a:ext cx="571680" cy="685440"/>
              <a:chOff x="2895480" y="3733920"/>
              <a:chExt cx="571680" cy="68544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3390840" y="4000680"/>
                <a:ext cx="76320" cy="7596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2895480" y="4038120"/>
                <a:ext cx="533520" cy="3812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95480" y="3733920"/>
                <a:ext cx="533520" cy="3045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954600" y="2845800"/>
              <a:ext cx="586080" cy="264960"/>
              <a:chOff x="3954600" y="2845800"/>
              <a:chExt cx="586080" cy="264960"/>
            </a:xfrm>
          </p:grpSpPr>
          <p:sp>
            <p:nvSpPr>
              <p:cNvPr id="214" name=""/>
              <p:cNvSpPr/>
              <p:nvPr/>
            </p:nvSpPr>
            <p:spPr>
              <a:xfrm rot="631800">
                <a:off x="3956400" y="2852280"/>
                <a:ext cx="76320" cy="2952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3994560" y="2867400"/>
                <a:ext cx="497520" cy="2433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3994560" y="2848320"/>
                <a:ext cx="546120" cy="1908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4102200" y="4911840"/>
              <a:ext cx="591480" cy="260280"/>
              <a:chOff x="4102200" y="4911840"/>
              <a:chExt cx="591480" cy="260280"/>
            </a:xfrm>
          </p:grpSpPr>
          <p:sp>
            <p:nvSpPr>
              <p:cNvPr id="218" name=""/>
              <p:cNvSpPr/>
              <p:nvPr/>
            </p:nvSpPr>
            <p:spPr>
              <a:xfrm rot="20911200">
                <a:off x="4104360" y="5118840"/>
                <a:ext cx="75960" cy="29520"/>
              </a:xfrm>
              <a:prstGeom prst="ellipse">
                <a:avLst/>
              </a:prstGeom>
              <a:solidFill>
                <a:srgbClr val="ff5050"/>
              </a:solidFill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4141800" y="5133240"/>
                <a:ext cx="551880" cy="3888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141800" y="4911840"/>
                <a:ext cx="498960" cy="22176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607680" y="2362320"/>
            <a:ext cx="1526040" cy="1295280"/>
            <a:chOff x="607680" y="2362320"/>
            <a:chExt cx="1526040" cy="1295280"/>
          </a:xfrm>
        </p:grpSpPr>
        <p:sp>
          <p:nvSpPr>
            <p:cNvPr id="222" name=""/>
            <p:cNvSpPr/>
            <p:nvPr/>
          </p:nvSpPr>
          <p:spPr>
            <a:xfrm>
              <a:off x="1066680" y="2362320"/>
              <a:ext cx="1067040" cy="1295280"/>
            </a:xfrm>
            <a:prstGeom prst="rect">
              <a:avLst/>
            </a:prstGeom>
            <a:noFill/>
            <a:ln cap="rnd" w="12600">
              <a:solidFill>
                <a:srgbClr val="ff505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7680" y="2743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99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7680" y="3657600"/>
            <a:ext cx="1526040" cy="1295280"/>
            <a:chOff x="607680" y="3657600"/>
            <a:chExt cx="1526040" cy="1295280"/>
          </a:xfrm>
        </p:grpSpPr>
        <p:sp>
          <p:nvSpPr>
            <p:cNvPr id="225" name=""/>
            <p:cNvSpPr/>
            <p:nvPr/>
          </p:nvSpPr>
          <p:spPr>
            <a:xfrm>
              <a:off x="1066680" y="3657600"/>
              <a:ext cx="1067040" cy="1295280"/>
            </a:xfrm>
            <a:prstGeom prst="rect">
              <a:avLst/>
            </a:prstGeom>
            <a:noFill/>
            <a:ln cap="rnd" w="12600">
              <a:solidFill>
                <a:srgbClr val="ff505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680" y="4038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99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7680" y="4952880"/>
            <a:ext cx="1526040" cy="639000"/>
            <a:chOff x="607680" y="4952880"/>
            <a:chExt cx="1526040" cy="639000"/>
          </a:xfrm>
        </p:grpSpPr>
        <p:sp>
          <p:nvSpPr>
            <p:cNvPr id="228" name=""/>
            <p:cNvSpPr/>
            <p:nvPr/>
          </p:nvSpPr>
          <p:spPr>
            <a:xfrm>
              <a:off x="1066680" y="4952880"/>
              <a:ext cx="1067040" cy="609840"/>
            </a:xfrm>
            <a:prstGeom prst="rect">
              <a:avLst/>
            </a:prstGeom>
            <a:noFill/>
            <a:ln cap="rnd" w="12600">
              <a:solidFill>
                <a:srgbClr val="ff505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7680" y="5132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99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rot="6600">
            <a:off x="4114440" y="220968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Movimentando o Modelo de Maneira Simp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57532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86696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6120" y="218448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174560" y="2645280"/>
            <a:ext cx="2091240" cy="2894400"/>
            <a:chOff x="4174560" y="2645280"/>
            <a:chExt cx="2091240" cy="2894400"/>
          </a:xfrm>
        </p:grpSpPr>
        <p:sp>
          <p:nvSpPr>
            <p:cNvPr id="236" name=""/>
            <p:cNvSpPr/>
            <p:nvPr/>
          </p:nvSpPr>
          <p:spPr>
            <a:xfrm rot="19630800">
              <a:off x="4232520" y="2703240"/>
              <a:ext cx="304200" cy="30456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9630800">
              <a:off x="5630040" y="4869720"/>
              <a:ext cx="30420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9630800">
              <a:off x="4934880" y="3791880"/>
              <a:ext cx="30420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9630800">
              <a:off x="4507560" y="2942640"/>
              <a:ext cx="45684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9630800">
              <a:off x="5209560" y="4031280"/>
              <a:ext cx="45684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9630800">
              <a:off x="5642640" y="5163840"/>
              <a:ext cx="609480" cy="228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 rot="6600">
            <a:off x="4114440" y="220968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9664400">
            <a:off x="4237200" y="2693520"/>
            <a:ext cx="304560" cy="304920"/>
          </a:xfrm>
          <a:prstGeom prst="ellipse">
            <a:avLst/>
          </a:prstGeom>
          <a:solidFill>
            <a:srgbClr val="66ff66"/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9664400">
            <a:off x="4506480" y="2935440"/>
            <a:ext cx="457200" cy="914400"/>
          </a:xfrm>
          <a:prstGeom prst="rect">
            <a:avLst/>
          </a:prstGeom>
          <a:solidFill>
            <a:srgbClr val="6666ff">
              <a:alpha val="50000"/>
            </a:srgbClr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894200" y="3772080"/>
            <a:ext cx="1846080" cy="948600"/>
            <a:chOff x="4894200" y="3772080"/>
            <a:chExt cx="1846080" cy="948600"/>
          </a:xfrm>
        </p:grpSpPr>
        <p:sp>
          <p:nvSpPr>
            <p:cNvPr id="246" name=""/>
            <p:cNvSpPr/>
            <p:nvPr/>
          </p:nvSpPr>
          <p:spPr>
            <a:xfrm rot="21405000">
              <a:off x="4902480" y="3780360"/>
              <a:ext cx="304920" cy="30456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143320" y="3828960"/>
              <a:ext cx="1596960" cy="891720"/>
              <a:chOff x="5143320" y="3828960"/>
              <a:chExt cx="1596960" cy="891720"/>
            </a:xfrm>
          </p:grpSpPr>
          <p:sp>
            <p:nvSpPr>
              <p:cNvPr id="248" name=""/>
              <p:cNvSpPr/>
              <p:nvPr/>
            </p:nvSpPr>
            <p:spPr>
              <a:xfrm rot="17063400">
                <a:off x="6104520" y="4169520"/>
                <a:ext cx="30456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7063400">
                <a:off x="5414400" y="3706560"/>
                <a:ext cx="45684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7063400">
                <a:off x="6248880" y="4282560"/>
                <a:ext cx="609480" cy="228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Movimentando o Modelo de Maneira Simp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557532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86696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6120" y="218448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rot="6600">
            <a:off x="4114440" y="220968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179600" y="2635920"/>
            <a:ext cx="2625480" cy="1558800"/>
            <a:chOff x="4179600" y="2635920"/>
            <a:chExt cx="2625480" cy="1558800"/>
          </a:xfrm>
        </p:grpSpPr>
        <p:sp>
          <p:nvSpPr>
            <p:cNvPr id="257" name=""/>
            <p:cNvSpPr/>
            <p:nvPr/>
          </p:nvSpPr>
          <p:spPr>
            <a:xfrm rot="19664400">
              <a:off x="4237200" y="2693520"/>
              <a:ext cx="30456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9664400">
              <a:off x="4929120" y="3789000"/>
              <a:ext cx="30492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664400">
              <a:off x="4506480" y="2935440"/>
              <a:ext cx="45720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208480" y="3296520"/>
              <a:ext cx="1596600" cy="898200"/>
              <a:chOff x="5208480" y="3296520"/>
              <a:chExt cx="1596600" cy="898200"/>
            </a:xfrm>
          </p:grpSpPr>
          <p:sp>
            <p:nvSpPr>
              <p:cNvPr id="261" name=""/>
              <p:cNvSpPr/>
              <p:nvPr/>
            </p:nvSpPr>
            <p:spPr>
              <a:xfrm rot="15323400">
                <a:off x="6168960" y="3545640"/>
                <a:ext cx="30492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5323400">
                <a:off x="5479560" y="3400920"/>
                <a:ext cx="45720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5323400">
                <a:off x="6312600" y="3505680"/>
                <a:ext cx="609840" cy="228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Movimentando o Modelo de Maneira Simp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557532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186696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6120" y="218448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rot="6600">
            <a:off x="4114440" y="2082960"/>
            <a:ext cx="4953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226040" y="2518920"/>
            <a:ext cx="2214360" cy="1894680"/>
            <a:chOff x="4226040" y="2518920"/>
            <a:chExt cx="2214360" cy="1894680"/>
          </a:xfrm>
        </p:grpSpPr>
        <p:sp>
          <p:nvSpPr>
            <p:cNvPr id="270" name=""/>
            <p:cNvSpPr/>
            <p:nvPr/>
          </p:nvSpPr>
          <p:spPr>
            <a:xfrm rot="20696400">
              <a:off x="4260240" y="2553120"/>
              <a:ext cx="30456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0696400">
              <a:off x="4597560" y="3804120"/>
              <a:ext cx="304920" cy="304920"/>
            </a:xfrm>
            <a:prstGeom prst="ellipse">
              <a:avLst/>
            </a:prstGeom>
            <a:solidFill>
              <a:srgbClr val="66ff66"/>
            </a:solidFill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696400">
              <a:off x="4352760" y="2872440"/>
              <a:ext cx="457200" cy="914400"/>
            </a:xfrm>
            <a:prstGeom prst="rect">
              <a:avLst/>
            </a:prstGeom>
            <a:solidFill>
              <a:srgbClr val="6666ff">
                <a:alpha val="50000"/>
              </a:srgbClr>
            </a:solidFill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906440" y="3794040"/>
              <a:ext cx="1533960" cy="619560"/>
              <a:chOff x="4906440" y="3794040"/>
              <a:chExt cx="1533960" cy="619560"/>
            </a:xfrm>
          </p:grpSpPr>
          <p:sp>
            <p:nvSpPr>
              <p:cNvPr id="274" name=""/>
              <p:cNvSpPr/>
              <p:nvPr/>
            </p:nvSpPr>
            <p:spPr>
              <a:xfrm rot="16354800">
                <a:off x="5853600" y="3938040"/>
                <a:ext cx="304920" cy="304920"/>
              </a:xfrm>
              <a:prstGeom prst="ellipse">
                <a:avLst/>
              </a:prstGeom>
              <a:solidFill>
                <a:srgbClr val="66ff66"/>
              </a:solidFill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6354800">
                <a:off x="5144760" y="3604680"/>
                <a:ext cx="457200" cy="914400"/>
              </a:xfrm>
              <a:prstGeom prst="rect">
                <a:avLst/>
              </a:prstGeom>
              <a:solidFill>
                <a:srgbClr val="6666ff">
                  <a:alpha val="50000"/>
                </a:srgbClr>
              </a:solidFill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6354800">
                <a:off x="6007320" y="3989160"/>
                <a:ext cx="609840" cy="228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28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Movimentando o Modelo de Maneira Simpl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57532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86696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6120" y="2184480"/>
            <a:ext cx="7696080" cy="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23:05:24Z</dcterms:created>
  <dc:creator>Prof. Dr. rer. nat. Aldo v. Wangenheim</dc:creator>
  <dc:description/>
  <dc:language>en-US</dc:language>
  <cp:lastModifiedBy>awangenh</cp:lastModifiedBy>
  <dcterms:modified xsi:type="dcterms:W3CDTF">2002-03-25T23:20:04Z</dcterms:modified>
  <cp:revision>731</cp:revision>
  <dc:subject/>
  <dc:title>Integração de Gerência e Análise Informatizada de Imagens em Sistemas de Informatização Hospitalar  Prof. Dr. rer.nat. Aldo von Wangenheim</dc:title>
</cp:coreProperties>
</file>