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9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A0788-BF89-49B3-A56E-DBAEB18BEE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83818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840" y="4246920"/>
            <a:ext cx="83818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64C7C-5EB7-4F73-84AC-4C25E98E1A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52000" y="205740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424692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52000" y="424692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4F333-8C71-4DC1-A6DD-9D9F7F4F15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2698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90760" y="2057400"/>
            <a:ext cx="2698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4680" y="2057400"/>
            <a:ext cx="2698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840" y="4246920"/>
            <a:ext cx="2698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90760" y="4246920"/>
            <a:ext cx="2698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4680" y="4246920"/>
            <a:ext cx="2698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D62A1-C028-4A9D-A750-1889D14B2F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6840" y="2057400"/>
            <a:ext cx="83818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8381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4090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52000" y="2057400"/>
            <a:ext cx="4090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6840" y="990360"/>
            <a:ext cx="838188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52000" y="2057400"/>
            <a:ext cx="4090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6840" y="424692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6840" y="2057400"/>
            <a:ext cx="83818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273D8-539A-402B-9C86-E4B1408709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4090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2000" y="205740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52000" y="424692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2000" y="205740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4246920"/>
            <a:ext cx="83818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83818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6840" y="4246920"/>
            <a:ext cx="83818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52000" y="205740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424692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52000" y="424692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2698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90760" y="2057400"/>
            <a:ext cx="2698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24680" y="2057400"/>
            <a:ext cx="2698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6840" y="4246920"/>
            <a:ext cx="2698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90760" y="4246920"/>
            <a:ext cx="2698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24680" y="4246920"/>
            <a:ext cx="2698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8381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9285E-016B-4E84-8D4F-0F76D40769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4090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52000" y="2057400"/>
            <a:ext cx="4090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DF06A-8CD8-4EF7-940B-E4499E2EC2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C1AB9-3B92-4D25-995D-7C645CE0AE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990360"/>
            <a:ext cx="838188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3AEAB-2AF7-4825-A79A-843E2F0B49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2000" y="2057400"/>
            <a:ext cx="4090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6840" y="424692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AEB84-A039-42A1-95B8-02F5F86AF7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4090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2000" y="205740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52000" y="424692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FA3A3-2526-4294-A4AA-2079C53F88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52000" y="205740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4246920"/>
            <a:ext cx="83818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389D5-36CF-47A4-8209-586D60437A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2057400"/>
            <a:ext cx="8381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616680" indent="-23724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948600" indent="-1897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328040" indent="-1897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707480" indent="-1897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707480" indent="-1897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707480" indent="-1897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B8F96-2939-48A3-9430-A1C16679AEED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566680" y="203040"/>
            <a:ext cx="250632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Tahoma"/>
              </a:rPr>
              <a:t>Disciplina Computação Gráfi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Tahoma"/>
              </a:rPr>
              <a:t>Curso de Ciência da Camputação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Tahoma"/>
              </a:rPr>
              <a:t>INE/CTC/UFS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cyclops2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990720" cy="6192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1134000" y="203040"/>
            <a:ext cx="2782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Tahoma"/>
              </a:rPr>
              <a:t>The Cyclops Proj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ffffff"/>
                </a:solidFill>
                <a:latin typeface="Tahoma"/>
              </a:rPr>
              <a:t>German-Brazilian Cooperation Programme on I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ffffff"/>
                </a:solidFill>
                <a:latin typeface="Tahoma"/>
              </a:rPr>
              <a:t>CNPq GMD DLR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" name="sgi3d" descr=""/>
          <p:cNvPicPr/>
          <p:nvPr/>
        </p:nvPicPr>
        <p:blipFill>
          <a:blip r:embed="rId3"/>
          <a:stretch/>
        </p:blipFill>
        <p:spPr>
          <a:xfrm>
            <a:off x="8077320" y="0"/>
            <a:ext cx="1066680" cy="104292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228600" y="6553080"/>
            <a:ext cx="807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Prof. Dr. rer.nat. Aldo v. Wangenheim - Departamento de Informática e Estatística - INE/CTC/UFS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sgi3d" descr=""/>
          <p:cNvPicPr/>
          <p:nvPr/>
        </p:nvPicPr>
        <p:blipFill>
          <a:blip r:embed="rId2"/>
          <a:stretch/>
        </p:blipFill>
        <p:spPr>
          <a:xfrm>
            <a:off x="2133720" y="1297080"/>
            <a:ext cx="5105160" cy="49957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" name="cyclops2" descr=""/>
          <p:cNvPicPr/>
          <p:nvPr/>
        </p:nvPicPr>
        <p:blipFill>
          <a:blip r:embed="rId3"/>
          <a:stretch/>
        </p:blipFill>
        <p:spPr>
          <a:xfrm>
            <a:off x="7543800" y="0"/>
            <a:ext cx="1600200" cy="1000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997080" y="152280"/>
            <a:ext cx="36662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ahoma"/>
              </a:rPr>
              <a:t>The Cyclops Proje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ahoma"/>
              </a:rPr>
              <a:t>German-Brazilian Cooperation Programme on I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ahoma"/>
              </a:rPr>
              <a:t>CNPq GMD DL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lnSpc>
                <a:spcPct val="75000"/>
              </a:lnSpc>
              <a:spcBef>
                <a:spcPts val="751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lnSpc>
                <a:spcPct val="75000"/>
              </a:lnSpc>
              <a:spcBef>
                <a:spcPts val="675"/>
              </a:spcBef>
              <a:buClr>
                <a:srgbClr val="ffff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09480" y="6535800"/>
            <a:ext cx="80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Departamento de Informática e Estatística - INE/CTC/UFS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1760" y="3047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omputação Gráfica:</a:t>
            </a:r>
            <a:br>
              <a:rPr sz="4000"/>
            </a:br>
            <a:br>
              <a:rPr sz="40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Aula 6: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Representação 3D</a:t>
            </a:r>
            <a:br>
              <a:rPr sz="40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arte 3: Projeções em Perspectiva </a:t>
            </a:r>
            <a:br>
              <a:rPr sz="4800"/>
            </a:br>
            <a:br>
              <a:rPr sz="40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f. Dr. rer.nat. Aldo von Wangenhei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990720"/>
            <a:ext cx="838188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99"/>
                </a:solidFill>
                <a:latin typeface="Tahoma"/>
              </a:rPr>
              <a:t>6.7. Projeção em Perspectiva (Caso Especial)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2" name="formula6-2" descr=""/>
          <p:cNvPicPr/>
          <p:nvPr/>
        </p:nvPicPr>
        <p:blipFill>
          <a:blip r:embed="rId1"/>
          <a:stretch/>
        </p:blipFill>
        <p:spPr>
          <a:xfrm>
            <a:off x="-38160" y="1447920"/>
            <a:ext cx="923292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formula6-4" descr=""/>
          <p:cNvPicPr/>
          <p:nvPr/>
        </p:nvPicPr>
        <p:blipFill>
          <a:blip r:embed="rId1"/>
          <a:stretch/>
        </p:blipFill>
        <p:spPr>
          <a:xfrm>
            <a:off x="-50760" y="838080"/>
            <a:ext cx="929628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990720"/>
            <a:ext cx="838188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99"/>
                </a:solidFill>
                <a:latin typeface="Tahoma"/>
              </a:rPr>
              <a:t>6.7. Projeção em Perspectiva (Caso Especial)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5" name="formula6-6" descr=""/>
          <p:cNvPicPr/>
          <p:nvPr/>
        </p:nvPicPr>
        <p:blipFill>
          <a:blip r:embed="rId1"/>
          <a:stretch/>
        </p:blipFill>
        <p:spPr>
          <a:xfrm>
            <a:off x="-114480" y="1447920"/>
            <a:ext cx="93729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99"/>
                </a:solidFill>
                <a:latin typeface="Tahoma"/>
              </a:rPr>
              <a:t>6.7. Projeção em Perspectiva (Caso Geral)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447920" y="2057400"/>
            <a:ext cx="0" cy="300024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572000" y="2286000"/>
            <a:ext cx="0" cy="2743200"/>
          </a:xfrm>
          <a:prstGeom prst="line">
            <a:avLst/>
          </a:prstGeom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90720" y="5029200"/>
            <a:ext cx="6629400" cy="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932520" y="3500280"/>
            <a:ext cx="100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99"/>
                </a:solidFill>
                <a:latin typeface="Tahoma"/>
              </a:rPr>
              <a:t>P(x,y,z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924200" y="2514600"/>
            <a:ext cx="1480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99"/>
                </a:solidFill>
                <a:latin typeface="Tahoma"/>
              </a:rPr>
              <a:t>COP </a:t>
            </a:r>
            <a:r>
              <a:rPr b="1" lang="pt-BR" sz="2000" spc="-1" strike="noStrike" baseline="-25000">
                <a:solidFill>
                  <a:srgbClr val="ffff99"/>
                </a:solidFill>
                <a:latin typeface="Tahoma"/>
              </a:rPr>
              <a:t>arbitrá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09680" y="3124080"/>
            <a:ext cx="4876920" cy="836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010280" y="3894120"/>
            <a:ext cx="152640" cy="1332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495680" y="3467160"/>
            <a:ext cx="152640" cy="1332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131920" y="3505320"/>
            <a:ext cx="38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ahoma"/>
              </a:rPr>
              <a:t>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707000" y="3027240"/>
            <a:ext cx="1781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99"/>
                </a:solidFill>
                <a:latin typeface="Tahoma"/>
              </a:rPr>
              <a:t>P</a:t>
            </a:r>
            <a:r>
              <a:rPr b="0" lang="pt-BR" sz="2000" spc="-1" strike="noStrike" baseline="-25000">
                <a:solidFill>
                  <a:srgbClr val="ffff99"/>
                </a:solidFill>
                <a:latin typeface="Tahoma"/>
              </a:rPr>
              <a:t>p</a:t>
            </a:r>
            <a:r>
              <a:rPr b="0" lang="pt-BR" sz="2000" spc="-1" strike="noStrike">
                <a:solidFill>
                  <a:srgbClr val="ffff99"/>
                </a:solidFill>
                <a:latin typeface="Tahoma"/>
              </a:rPr>
              <a:t> = (x</a:t>
            </a:r>
            <a:r>
              <a:rPr b="0" lang="pt-BR" sz="2000" spc="-1" strike="noStrike" baseline="-25000">
                <a:solidFill>
                  <a:srgbClr val="ffff99"/>
                </a:solidFill>
                <a:latin typeface="Tahoma"/>
              </a:rPr>
              <a:t>p</a:t>
            </a:r>
            <a:r>
              <a:rPr b="0" lang="pt-BR" sz="2000" spc="-1" strike="noStrike">
                <a:solidFill>
                  <a:srgbClr val="ffff99"/>
                </a:solidFill>
                <a:latin typeface="Tahoma"/>
              </a:rPr>
              <a:t>, y</a:t>
            </a:r>
            <a:r>
              <a:rPr b="0" lang="pt-BR" sz="2000" spc="-1" strike="noStrike" baseline="-25000">
                <a:solidFill>
                  <a:srgbClr val="ffff99"/>
                </a:solidFill>
                <a:latin typeface="Tahoma"/>
              </a:rPr>
              <a:t>p</a:t>
            </a:r>
            <a:r>
              <a:rPr b="0" lang="pt-BR" sz="2000" spc="-1" strike="noStrike">
                <a:solidFill>
                  <a:srgbClr val="ffff99"/>
                </a:solidFill>
                <a:latin typeface="Tahoma"/>
              </a:rPr>
              <a:t>, z</a:t>
            </a:r>
            <a:r>
              <a:rPr b="0" lang="pt-BR" sz="2000" spc="-1" strike="noStrike" baseline="-25000">
                <a:solidFill>
                  <a:srgbClr val="ffff99"/>
                </a:solidFill>
                <a:latin typeface="Tahoma"/>
              </a:rPr>
              <a:t>p</a:t>
            </a:r>
            <a:r>
              <a:rPr b="0" lang="pt-BR" sz="2000" spc="-1" strike="noStrike">
                <a:solidFill>
                  <a:srgbClr val="ffff99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4960" y="1981080"/>
            <a:ext cx="91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ahoma"/>
              </a:rPr>
              <a:t>x</a:t>
            </a:r>
            <a:r>
              <a:rPr b="0" lang="pt-BR" sz="2000" spc="-1" strike="noStrike">
                <a:solidFill>
                  <a:srgbClr val="ffff99"/>
                </a:solidFill>
                <a:latin typeface="Tahoma"/>
              </a:rPr>
              <a:t> ou</a:t>
            </a:r>
            <a:r>
              <a:rPr b="1" lang="pt-BR" sz="2000" spc="-1" strike="noStrike">
                <a:solidFill>
                  <a:srgbClr val="ffff99"/>
                </a:solidFill>
                <a:latin typeface="Tahoma"/>
              </a:rPr>
              <a:t> 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245360" y="462744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ahoma"/>
              </a:rPr>
              <a:t>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09680" y="3124080"/>
            <a:ext cx="2362320" cy="190512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 flipV="1">
            <a:off x="3733920" y="4343040"/>
            <a:ext cx="838080" cy="68580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386800" y="4267080"/>
            <a:ext cx="1295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99"/>
                </a:solidFill>
                <a:latin typeface="Tahoma"/>
              </a:rPr>
              <a:t>(d</a:t>
            </a:r>
            <a:r>
              <a:rPr b="0" lang="pt-BR" sz="2000" spc="-1" strike="noStrike" baseline="-25000">
                <a:solidFill>
                  <a:srgbClr val="ffff99"/>
                </a:solidFill>
                <a:latin typeface="Tahoma"/>
              </a:rPr>
              <a:t>x</a:t>
            </a:r>
            <a:r>
              <a:rPr b="0" lang="pt-BR" sz="2000" spc="-1" strike="noStrike">
                <a:solidFill>
                  <a:srgbClr val="ffff99"/>
                </a:solidFill>
                <a:latin typeface="Tahoma"/>
              </a:rPr>
              <a:t>, d</a:t>
            </a:r>
            <a:r>
              <a:rPr b="0" lang="pt-BR" sz="2000" spc="-1" strike="noStrike" baseline="-25000">
                <a:solidFill>
                  <a:srgbClr val="ffff99"/>
                </a:solidFill>
                <a:latin typeface="Tahoma"/>
              </a:rPr>
              <a:t>y</a:t>
            </a:r>
            <a:r>
              <a:rPr b="0" lang="pt-BR" sz="2000" spc="-1" strike="noStrike">
                <a:solidFill>
                  <a:srgbClr val="ffff99"/>
                </a:solidFill>
                <a:latin typeface="Tahoma"/>
              </a:rPr>
              <a:t>, d</a:t>
            </a:r>
            <a:r>
              <a:rPr b="0" lang="pt-BR" sz="2000" spc="-1" strike="noStrike" baseline="-25000">
                <a:solidFill>
                  <a:srgbClr val="ffff99"/>
                </a:solidFill>
                <a:latin typeface="Tahoma"/>
              </a:rPr>
              <a:t>z</a:t>
            </a:r>
            <a:r>
              <a:rPr b="0" lang="pt-BR" sz="2000" spc="-1" strike="noStrike">
                <a:solidFill>
                  <a:srgbClr val="ffff99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133720" y="3048120"/>
            <a:ext cx="152280" cy="1332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604040" y="5105520"/>
            <a:ext cx="1104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99"/>
                </a:solidFill>
                <a:latin typeface="Tahoma"/>
              </a:rPr>
              <a:t>(0, 0, z</a:t>
            </a:r>
            <a:r>
              <a:rPr b="0" lang="pt-BR" sz="2000" spc="-1" strike="noStrike" baseline="-25000">
                <a:solidFill>
                  <a:srgbClr val="ffff99"/>
                </a:solidFill>
                <a:latin typeface="Tahoma"/>
              </a:rPr>
              <a:t>p</a:t>
            </a:r>
            <a:r>
              <a:rPr b="0" lang="pt-BR" sz="2000" spc="-1" strike="noStrike">
                <a:solidFill>
                  <a:srgbClr val="ffff99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8381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Tahoma"/>
              </a:rPr>
              <a:t>Para o cálculo do caso geral supomos que COP está a uma distância escalar </a:t>
            </a:r>
            <a:r>
              <a:rPr b="1" lang="pt-BR" sz="3000" spc="-1" strike="noStrike">
                <a:solidFill>
                  <a:srgbClr val="ffffff"/>
                </a:solidFill>
                <a:latin typeface="Tahoma"/>
              </a:rPr>
              <a:t>Q</a:t>
            </a:r>
            <a:r>
              <a:rPr b="0" lang="pt-BR" sz="3000" spc="-1" strike="noStrike">
                <a:solidFill>
                  <a:srgbClr val="ffffff"/>
                </a:solidFill>
                <a:latin typeface="Tahoma"/>
              </a:rPr>
              <a:t> do ponto </a:t>
            </a:r>
            <a:r>
              <a:rPr b="1" lang="pt-BR" sz="3000" spc="-1" strike="noStrike">
                <a:solidFill>
                  <a:srgbClr val="ffffff"/>
                </a:solidFill>
                <a:latin typeface="Tahoma"/>
              </a:rPr>
              <a:t>(0, 0, z</a:t>
            </a:r>
            <a:r>
              <a:rPr b="0" lang="pt-BR" sz="3000" spc="-1" strike="noStrike" baseline="-25000">
                <a:solidFill>
                  <a:srgbClr val="ffffff"/>
                </a:solidFill>
                <a:latin typeface="Tahoma"/>
              </a:rPr>
              <a:t>p</a:t>
            </a:r>
            <a:r>
              <a:rPr b="0" lang="pt-BR" sz="3000" spc="-1" strike="noStrike">
                <a:solidFill>
                  <a:srgbClr val="ffffff"/>
                </a:solidFill>
                <a:latin typeface="Tahoma"/>
              </a:rPr>
              <a:t>) onde o plano de projeção intersecta o eixo </a:t>
            </a:r>
            <a:r>
              <a:rPr b="1" lang="pt-BR" sz="30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pt-BR" sz="3000" spc="-1" strike="noStrike">
                <a:solidFill>
                  <a:srgbClr val="ffffff"/>
                </a:solidFill>
                <a:latin typeface="Tahoma"/>
              </a:rPr>
              <a:t>. Esta distância é vetorialmente representada por (</a:t>
            </a:r>
            <a:r>
              <a:rPr b="1" lang="pt-BR" sz="30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1" lang="pt-BR" sz="3000" spc="-1" strike="noStrike" baseline="-25000">
                <a:solidFill>
                  <a:srgbClr val="ffffff"/>
                </a:solidFill>
                <a:latin typeface="Tahoma"/>
              </a:rPr>
              <a:t>x</a:t>
            </a:r>
            <a:r>
              <a:rPr b="1" lang="pt-BR" sz="3000" spc="-1" strike="noStrike">
                <a:solidFill>
                  <a:srgbClr val="ffffff"/>
                </a:solidFill>
                <a:latin typeface="Tahoma"/>
              </a:rPr>
              <a:t>, d</a:t>
            </a:r>
            <a:r>
              <a:rPr b="1" lang="pt-BR" sz="3000" spc="-1" strike="noStrike" baseline="-25000">
                <a:solidFill>
                  <a:srgbClr val="ffffff"/>
                </a:solidFill>
                <a:latin typeface="Tahoma"/>
              </a:rPr>
              <a:t>y</a:t>
            </a:r>
            <a:r>
              <a:rPr b="1" lang="pt-BR" sz="3000" spc="-1" strike="noStrike">
                <a:solidFill>
                  <a:srgbClr val="ffffff"/>
                </a:solidFill>
                <a:latin typeface="Tahoma"/>
              </a:rPr>
              <a:t>, d</a:t>
            </a:r>
            <a:r>
              <a:rPr b="1" lang="pt-BR" sz="3000" spc="-1" strike="noStrike" baseline="-25000">
                <a:solidFill>
                  <a:srgbClr val="ffffff"/>
                </a:solidFill>
                <a:latin typeface="Tahoma"/>
              </a:rPr>
              <a:t>z</a:t>
            </a:r>
            <a:r>
              <a:rPr b="0" lang="pt-BR" sz="3000" spc="-1" strike="noStrike">
                <a:solidFill>
                  <a:srgbClr val="ffffff"/>
                </a:solidFill>
                <a:latin typeface="Tahoma"/>
              </a:rPr>
              <a:t>)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Tahoma"/>
              </a:rPr>
              <a:t>Neste caso podemos reformular </a:t>
            </a:r>
            <a:r>
              <a:rPr b="1" lang="pt-BR" sz="30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pt-BR" sz="3000" spc="-1" strike="noStrike" baseline="-25000">
                <a:solidFill>
                  <a:srgbClr val="ffffff"/>
                </a:solidFill>
                <a:latin typeface="Tahoma"/>
              </a:rPr>
              <a:t>PER</a:t>
            </a:r>
            <a:r>
              <a:rPr b="0" lang="pt-BR" sz="3000" spc="-1" strike="noStrike">
                <a:solidFill>
                  <a:srgbClr val="ffffff"/>
                </a:solidFill>
                <a:latin typeface="Tahoma"/>
              </a:rPr>
              <a:t> em coordenadas homogêneas da seguinte forma (veja Foley &amp; van Dam para dedução) gerando </a:t>
            </a:r>
            <a:r>
              <a:rPr b="1" lang="pt-BR" sz="30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pt-BR" sz="3000" spc="-1" strike="noStrike" baseline="-25000">
                <a:solidFill>
                  <a:srgbClr val="ffffff"/>
                </a:solidFill>
                <a:latin typeface="Tahoma"/>
              </a:rPr>
              <a:t>GER</a:t>
            </a:r>
            <a:r>
              <a:rPr b="0" lang="pt-BR" sz="3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456840" y="99072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99"/>
                </a:solidFill>
                <a:latin typeface="Tahoma"/>
              </a:rPr>
              <a:t>6.7. Projeção em Perspectiva (Caso Geral)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formula6-7" descr=""/>
          <p:cNvPicPr/>
          <p:nvPr/>
        </p:nvPicPr>
        <p:blipFill>
          <a:blip r:embed="rId1"/>
          <a:stretch/>
        </p:blipFill>
        <p:spPr>
          <a:xfrm>
            <a:off x="127080" y="990720"/>
            <a:ext cx="8915400" cy="52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1.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Translade COP para a origem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2.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Determine os ângulos de VPN com X e Y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3.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Rotacione o mundo em torno de X e Y de forma a alinhar VPN com o eixo Z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4.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Projete, calculando </a:t>
            </a:r>
            <a:r>
              <a:rPr b="1" lang="pt-BR" sz="2600" spc="-1" strike="noStrike">
                <a:solidFill>
                  <a:srgbClr val="ffff99"/>
                </a:solidFill>
                <a:latin typeface="Tahoma"/>
              </a:rPr>
              <a:t>x</a:t>
            </a:r>
            <a:r>
              <a:rPr b="1" lang="pt-BR" sz="2600" spc="-1" strike="noStrike" baseline="-25000">
                <a:solidFill>
                  <a:srgbClr val="ffff99"/>
                </a:solidFill>
                <a:latin typeface="Tahoma"/>
              </a:rPr>
              <a:t>p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 e </a:t>
            </a:r>
            <a:r>
              <a:rPr b="1" lang="pt-BR" sz="2600" spc="-1" strike="noStrike">
                <a:solidFill>
                  <a:srgbClr val="ffff99"/>
                </a:solidFill>
                <a:latin typeface="Tahoma"/>
              </a:rPr>
              <a:t>y</a:t>
            </a:r>
            <a:r>
              <a:rPr b="1" lang="pt-BR" sz="2600" spc="-1" strike="noStrike" baseline="-25000">
                <a:solidFill>
                  <a:srgbClr val="ffff99"/>
                </a:solidFill>
                <a:latin typeface="Tahoma"/>
              </a:rPr>
              <a:t>p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 usando </a:t>
            </a:r>
            <a:r>
              <a:rPr b="0" lang="pt-BR" sz="2600" spc="-1" strike="noStrike">
                <a:solidFill>
                  <a:srgbClr val="ffff99"/>
                </a:solidFill>
                <a:latin typeface="Tahoma"/>
              </a:rPr>
              <a:t>6.2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5.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Normalize </a:t>
            </a:r>
            <a:r>
              <a:rPr b="1" lang="pt-BR" sz="2600" spc="-1" strike="noStrike">
                <a:solidFill>
                  <a:srgbClr val="ffff99"/>
                </a:solidFill>
                <a:latin typeface="Tahoma"/>
              </a:rPr>
              <a:t>x</a:t>
            </a:r>
            <a:r>
              <a:rPr b="1" lang="pt-BR" sz="2600" spc="-1" strike="noStrike" baseline="-25000">
                <a:solidFill>
                  <a:srgbClr val="ffff99"/>
                </a:solidFill>
                <a:latin typeface="Tahoma"/>
              </a:rPr>
              <a:t>p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 e </a:t>
            </a:r>
            <a:r>
              <a:rPr b="1" lang="pt-BR" sz="2600" spc="-1" strike="noStrike">
                <a:solidFill>
                  <a:srgbClr val="ffff99"/>
                </a:solidFill>
                <a:latin typeface="Tahoma"/>
              </a:rPr>
              <a:t>y</a:t>
            </a:r>
            <a:r>
              <a:rPr b="1" lang="pt-BR" sz="2600" spc="-1" strike="noStrike" baseline="-25000">
                <a:solidFill>
                  <a:srgbClr val="ffff99"/>
                </a:solidFill>
                <a:latin typeface="Tahoma"/>
              </a:rPr>
              <a:t>p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 (coordenadas de window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6.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Clippe 2D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7.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Transforme para coordenadas de Viewport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304920" y="914400"/>
            <a:ext cx="8839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1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99"/>
                </a:solidFill>
                <a:latin typeface="Tahoma"/>
              </a:rPr>
              <a:t>6.8. Algoritmo Projeção em Perspectiva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 flipH="1">
            <a:off x="1294920" y="4114800"/>
            <a:ext cx="3048120" cy="1905120"/>
          </a:xfrm>
          <a:prstGeom prst="line">
            <a:avLst/>
          </a:prstGeom>
          <a:ln w="2844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4343400" y="1218960"/>
            <a:ext cx="0" cy="2895480"/>
          </a:xfrm>
          <a:prstGeom prst="line">
            <a:avLst/>
          </a:prstGeom>
          <a:ln w="2844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343400" y="4114800"/>
            <a:ext cx="3124080" cy="1905120"/>
          </a:xfrm>
          <a:prstGeom prst="line">
            <a:avLst/>
          </a:prstGeom>
          <a:ln w="2844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56680" y="5315040"/>
            <a:ext cx="34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99"/>
                </a:solidFill>
                <a:latin typeface="Tahoma"/>
              </a:rPr>
              <a:t>x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150560" y="5334120"/>
            <a:ext cx="316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99"/>
                </a:solidFill>
                <a:latin typeface="Tahoma"/>
              </a:rPr>
              <a:t>z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574520" y="1295280"/>
            <a:ext cx="33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99"/>
                </a:solidFill>
                <a:latin typeface="Tahoma"/>
              </a:rPr>
              <a:t>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990720"/>
            <a:ext cx="268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0. Plano de Projeção Qualqu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rot="18663600">
            <a:off x="2624760" y="3318480"/>
            <a:ext cx="4776840" cy="1492200"/>
          </a:xfrm>
          <a:prstGeom prst="parallelogram">
            <a:avLst>
              <a:gd name="adj" fmla="val 94302"/>
            </a:avLst>
          </a:prstGeom>
          <a:gradFill rotWithShape="0">
            <a:gsLst>
              <a:gs pos="0">
                <a:srgbClr val="acacac"/>
              </a:gs>
              <a:gs pos="100000">
                <a:srgbClr val="4f4f4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5105520" y="3581280"/>
            <a:ext cx="2438280" cy="609840"/>
          </a:xfrm>
          <a:prstGeom prst="line">
            <a:avLst/>
          </a:prstGeom>
          <a:ln w="28440">
            <a:solidFill>
              <a:srgbClr val="66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029200" y="4100400"/>
            <a:ext cx="152280" cy="152640"/>
          </a:xfrm>
          <a:prstGeom prst="ellipse">
            <a:avLst/>
          </a:prstGeom>
          <a:solidFill>
            <a:srgbClr val="a4bff4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3809880" y="4191120"/>
            <a:ext cx="1295640" cy="304560"/>
          </a:xfrm>
          <a:prstGeom prst="line">
            <a:avLst/>
          </a:prstGeom>
          <a:ln w="28440">
            <a:solidFill>
              <a:srgbClr val="66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1828800" y="4495680"/>
            <a:ext cx="1981080" cy="533520"/>
          </a:xfrm>
          <a:prstGeom prst="line">
            <a:avLst/>
          </a:prstGeom>
          <a:ln w="284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892760" y="4343400"/>
            <a:ext cx="67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5050"/>
                </a:solidFill>
                <a:latin typeface="Tahoma"/>
              </a:rPr>
              <a:t>VR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620120" y="2895480"/>
            <a:ext cx="842040" cy="1295640"/>
            <a:chOff x="7620120" y="2895480"/>
            <a:chExt cx="842040" cy="1295640"/>
          </a:xfrm>
        </p:grpSpPr>
        <p:grpSp>
          <p:nvGrpSpPr>
            <p:cNvPr id="243" name=""/>
            <p:cNvGrpSpPr/>
            <p:nvPr/>
          </p:nvGrpSpPr>
          <p:grpSpPr>
            <a:xfrm>
              <a:off x="7621200" y="2895480"/>
              <a:ext cx="840960" cy="1295280"/>
              <a:chOff x="7621200" y="2895480"/>
              <a:chExt cx="840960" cy="1295280"/>
            </a:xfrm>
          </p:grpSpPr>
          <p:sp>
            <p:nvSpPr>
              <p:cNvPr id="244" name=""/>
              <p:cNvSpPr/>
              <p:nvPr/>
            </p:nvSpPr>
            <p:spPr>
              <a:xfrm rot="5399400">
                <a:off x="7660800" y="2855880"/>
                <a:ext cx="609480" cy="688680"/>
              </a:xfrm>
              <a:prstGeom prst="parallelogram">
                <a:avLst>
                  <a:gd name="adj" fmla="val 32551"/>
                </a:avLst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1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5399400">
                <a:off x="7851960" y="3580560"/>
                <a:ext cx="533160" cy="686880"/>
              </a:xfrm>
              <a:prstGeom prst="parallelogram">
                <a:avLst>
                  <a:gd name="adj" fmla="val 29463"/>
                </a:avLst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1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7620120" y="2971800"/>
              <a:ext cx="837720" cy="1219320"/>
              <a:chOff x="7620120" y="2971800"/>
              <a:chExt cx="837720" cy="1219320"/>
            </a:xfrm>
          </p:grpSpPr>
          <p:sp>
            <p:nvSpPr>
              <p:cNvPr id="247" name=""/>
              <p:cNvSpPr/>
              <p:nvPr/>
            </p:nvSpPr>
            <p:spPr>
              <a:xfrm>
                <a:off x="8292960" y="3098880"/>
                <a:ext cx="151920" cy="685800"/>
              </a:xfrm>
              <a:prstGeom prst="line">
                <a:avLst/>
              </a:prstGeom>
              <a:ln w="936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620120" y="3352680"/>
                <a:ext cx="152280" cy="685800"/>
              </a:xfrm>
              <a:prstGeom prst="line">
                <a:avLst/>
              </a:prstGeom>
              <a:ln w="936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8305560" y="3505320"/>
                <a:ext cx="152280" cy="685800"/>
              </a:xfrm>
              <a:prstGeom prst="line">
                <a:avLst/>
              </a:prstGeom>
              <a:ln w="936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20120" y="2971800"/>
                <a:ext cx="152280" cy="685800"/>
              </a:xfrm>
              <a:prstGeom prst="line">
                <a:avLst/>
              </a:prstGeom>
              <a:ln w="936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1" name=""/>
          <p:cNvSpPr/>
          <p:nvPr/>
        </p:nvSpPr>
        <p:spPr>
          <a:xfrm>
            <a:off x="1224720" y="457200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5050"/>
                </a:solidFill>
                <a:latin typeface="Tahoma"/>
              </a:rPr>
              <a:t>CO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752480" y="4952880"/>
            <a:ext cx="152640" cy="152640"/>
          </a:xfrm>
          <a:prstGeom prst="ellipse">
            <a:avLst/>
          </a:prstGeom>
          <a:solidFill>
            <a:srgbClr val="a4bff4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152280" y="990720"/>
            <a:ext cx="268308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1" lang="pt-BR" sz="2000" spc="-1" strike="noStrike">
                <a:solidFill>
                  <a:srgbClr val="ffffff"/>
                </a:solidFill>
                <a:latin typeface="Tahoma"/>
              </a:rPr>
              <a:t>Translade COP para a origem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Translade o mundo com CO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236160" y="1221480"/>
            <a:ext cx="8601120" cy="5103000"/>
            <a:chOff x="236160" y="1221480"/>
            <a:chExt cx="8601120" cy="5103000"/>
          </a:xfrm>
        </p:grpSpPr>
        <p:grpSp>
          <p:nvGrpSpPr>
            <p:cNvPr id="255" name=""/>
            <p:cNvGrpSpPr/>
            <p:nvPr/>
          </p:nvGrpSpPr>
          <p:grpSpPr>
            <a:xfrm>
              <a:off x="2521080" y="1221480"/>
              <a:ext cx="6316200" cy="4466520"/>
              <a:chOff x="2521080" y="1221480"/>
              <a:chExt cx="6316200" cy="4466520"/>
            </a:xfrm>
          </p:grpSpPr>
          <p:sp>
            <p:nvSpPr>
              <p:cNvPr id="256" name=""/>
              <p:cNvSpPr/>
              <p:nvPr/>
            </p:nvSpPr>
            <p:spPr>
              <a:xfrm rot="18663600">
                <a:off x="3473640" y="2796120"/>
                <a:ext cx="4776840" cy="1316520"/>
              </a:xfrm>
              <a:prstGeom prst="parallelogram">
                <a:avLst>
                  <a:gd name="adj" fmla="val 106886"/>
                </a:avLst>
              </a:prstGeom>
              <a:gradFill rotWithShape="0">
                <a:gsLst>
                  <a:gs pos="0">
                    <a:srgbClr val="acacac"/>
                  </a:gs>
                  <a:gs pos="100000">
                    <a:srgbClr val="4f4f4f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V="1">
                <a:off x="5943240" y="2971440"/>
                <a:ext cx="2151360" cy="609480"/>
              </a:xfrm>
              <a:prstGeom prst="line">
                <a:avLst/>
              </a:prstGeom>
              <a:ln w="28440">
                <a:solidFill>
                  <a:srgbClr val="66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4800240" y="3580920"/>
                <a:ext cx="1142640" cy="304920"/>
              </a:xfrm>
              <a:prstGeom prst="line">
                <a:avLst/>
              </a:prstGeom>
              <a:ln w="28440">
                <a:solidFill>
                  <a:srgbClr val="6666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6093720" y="2895480"/>
                <a:ext cx="674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000" spc="-1" strike="noStrike">
                    <a:solidFill>
                      <a:srgbClr val="ff5050"/>
                    </a:solidFill>
                    <a:latin typeface="Tahoma"/>
                  </a:rPr>
                  <a:t>VRP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V="1">
                <a:off x="3052080" y="3885840"/>
                <a:ext cx="1748160" cy="533160"/>
              </a:xfrm>
              <a:prstGeom prst="line">
                <a:avLst/>
              </a:prstGeom>
              <a:ln w="2844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61" name=""/>
              <p:cNvGrpSpPr/>
              <p:nvPr/>
            </p:nvGrpSpPr>
            <p:grpSpPr>
              <a:xfrm>
                <a:off x="8094600" y="2286000"/>
                <a:ext cx="742680" cy="1295280"/>
                <a:chOff x="8094600" y="2286000"/>
                <a:chExt cx="742680" cy="1295280"/>
              </a:xfrm>
            </p:grpSpPr>
            <p:grpSp>
              <p:nvGrpSpPr>
                <p:cNvPr id="262" name=""/>
                <p:cNvGrpSpPr/>
                <p:nvPr/>
              </p:nvGrpSpPr>
              <p:grpSpPr>
                <a:xfrm>
                  <a:off x="8096040" y="2286000"/>
                  <a:ext cx="741240" cy="1295280"/>
                  <a:chOff x="8096040" y="2286000"/>
                  <a:chExt cx="741240" cy="1295280"/>
                </a:xfrm>
              </p:grpSpPr>
              <p:sp>
                <p:nvSpPr>
                  <p:cNvPr id="263" name=""/>
                  <p:cNvSpPr/>
                  <p:nvPr/>
                </p:nvSpPr>
                <p:spPr>
                  <a:xfrm rot="5399400">
                    <a:off x="8094960" y="2286720"/>
                    <a:ext cx="609480" cy="607680"/>
                  </a:xfrm>
                  <a:prstGeom prst="parallelogram">
                    <a:avLst>
                      <a:gd name="adj" fmla="val 32647"/>
                    </a:avLst>
                  </a:prstGeom>
                  <a:noFill/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31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 rot="5399400">
                    <a:off x="8267760" y="3011760"/>
                    <a:ext cx="533160" cy="605880"/>
                  </a:xfrm>
                  <a:prstGeom prst="parallelogram">
                    <a:avLst>
                      <a:gd name="adj" fmla="val 29463"/>
                    </a:avLst>
                  </a:prstGeom>
                  <a:noFill/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31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5" name=""/>
                <p:cNvGrpSpPr/>
                <p:nvPr/>
              </p:nvGrpSpPr>
              <p:grpSpPr>
                <a:xfrm>
                  <a:off x="8094600" y="2361960"/>
                  <a:ext cx="739080" cy="1218600"/>
                  <a:chOff x="8094600" y="2361960"/>
                  <a:chExt cx="739080" cy="121860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8688240" y="2488680"/>
                    <a:ext cx="134280" cy="685440"/>
                  </a:xfrm>
                  <a:prstGeom prst="line">
                    <a:avLst/>
                  </a:prstGeom>
                  <a:ln w="9360">
                    <a:solidFill>
                      <a:srgbClr val="ff505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8094600" y="2742480"/>
                    <a:ext cx="134280" cy="685440"/>
                  </a:xfrm>
                  <a:prstGeom prst="line">
                    <a:avLst/>
                  </a:prstGeom>
                  <a:ln w="9360">
                    <a:solidFill>
                      <a:srgbClr val="ff505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8699400" y="2895120"/>
                    <a:ext cx="134280" cy="685440"/>
                  </a:xfrm>
                  <a:prstGeom prst="line">
                    <a:avLst/>
                  </a:prstGeom>
                  <a:ln w="9360">
                    <a:solidFill>
                      <a:srgbClr val="ff505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8094600" y="2361960"/>
                    <a:ext cx="134280" cy="685440"/>
                  </a:xfrm>
                  <a:prstGeom prst="line">
                    <a:avLst/>
                  </a:prstGeom>
                  <a:ln w="9360">
                    <a:solidFill>
                      <a:srgbClr val="ff505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70" name=""/>
              <p:cNvSpPr/>
              <p:nvPr/>
            </p:nvSpPr>
            <p:spPr>
              <a:xfrm>
                <a:off x="2521080" y="3960720"/>
                <a:ext cx="704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000" spc="-1" strike="noStrike">
                    <a:solidFill>
                      <a:srgbClr val="ffff99"/>
                    </a:solidFill>
                    <a:latin typeface="Tahoma"/>
                  </a:rPr>
                  <a:t>COP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985120" y="4343400"/>
                <a:ext cx="134280" cy="152280"/>
              </a:xfrm>
              <a:prstGeom prst="ellipse">
                <a:avLst/>
              </a:prstGeom>
              <a:solidFill>
                <a:srgbClr val="a4bff4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236160" y="1523520"/>
              <a:ext cx="5904720" cy="4800960"/>
              <a:chOff x="236160" y="1523520"/>
              <a:chExt cx="5904720" cy="4800960"/>
            </a:xfrm>
          </p:grpSpPr>
          <p:sp>
            <p:nvSpPr>
              <p:cNvPr id="273" name=""/>
              <p:cNvSpPr/>
              <p:nvPr/>
            </p:nvSpPr>
            <p:spPr>
              <a:xfrm flipH="1">
                <a:off x="362880" y="4419360"/>
                <a:ext cx="2689200" cy="1905120"/>
              </a:xfrm>
              <a:prstGeom prst="line">
                <a:avLst/>
              </a:prstGeom>
              <a:ln w="28440">
                <a:solidFill>
                  <a:srgbClr val="ff505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3052440" y="1523520"/>
                <a:ext cx="0" cy="2895480"/>
              </a:xfrm>
              <a:prstGeom prst="line">
                <a:avLst/>
              </a:prstGeom>
              <a:ln w="28440">
                <a:solidFill>
                  <a:srgbClr val="ff505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052440" y="4419360"/>
                <a:ext cx="2756520" cy="1905120"/>
              </a:xfrm>
              <a:prstGeom prst="line">
                <a:avLst/>
              </a:prstGeom>
              <a:ln w="28440">
                <a:solidFill>
                  <a:srgbClr val="ff505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798520" y="5619600"/>
                <a:ext cx="3423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6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200" spc="-1" strike="noStrike">
                    <a:solidFill>
                      <a:srgbClr val="ffff99"/>
                    </a:solidFill>
                    <a:latin typeface="Tahoma"/>
                  </a:rPr>
                  <a:t>x</a:t>
                </a: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36160" y="5638680"/>
                <a:ext cx="3164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6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200" spc="-1" strike="noStrike">
                    <a:solidFill>
                      <a:srgbClr val="ffff99"/>
                    </a:solidFill>
                    <a:latin typeface="Tahoma"/>
                  </a:rPr>
                  <a:t>z</a:t>
                </a: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256560" y="1598400"/>
                <a:ext cx="33912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6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200" spc="-1" strike="noStrike">
                    <a:solidFill>
                      <a:srgbClr val="ffff99"/>
                    </a:solidFill>
                    <a:latin typeface="Tahoma"/>
                  </a:rPr>
                  <a:t>y</a:t>
                </a: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V="1">
                <a:off x="3052440" y="3047760"/>
                <a:ext cx="0" cy="1371600"/>
              </a:xfrm>
              <a:prstGeom prst="line">
                <a:avLst/>
              </a:prstGeom>
              <a:ln w="28440">
                <a:solidFill>
                  <a:srgbClr val="ff505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H="1">
                <a:off x="1976040" y="4381200"/>
                <a:ext cx="1131480" cy="800280"/>
              </a:xfrm>
              <a:prstGeom prst="line">
                <a:avLst/>
              </a:prstGeom>
              <a:ln w="28440">
                <a:solidFill>
                  <a:srgbClr val="ff505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808960" y="3504960"/>
                <a:ext cx="134640" cy="152280"/>
              </a:xfrm>
              <a:prstGeom prst="ellipse">
                <a:avLst/>
              </a:prstGeom>
              <a:solidFill>
                <a:srgbClr val="a4bff4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52280" y="990720"/>
            <a:ext cx="2683080" cy="18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1" lang="pt-BR" sz="2000" spc="-1" strike="noStrike">
                <a:solidFill>
                  <a:srgbClr val="ffffff"/>
                </a:solidFill>
                <a:latin typeface="Tahoma"/>
              </a:rPr>
              <a:t>Determine VPN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Determine </a:t>
            </a:r>
            <a:r>
              <a:rPr b="1" lang="pt-BR" sz="2800" spc="-1" strike="noStrike">
                <a:solidFill>
                  <a:srgbClr val="ffff99"/>
                </a:solidFill>
                <a:latin typeface="Symbol"/>
                <a:ea typeface="Symbol"/>
              </a:rPr>
              <a:t></a:t>
            </a:r>
            <a:r>
              <a:rPr b="1" lang="pt-BR" sz="2800" spc="-1" strike="noStrike" baseline="-25000">
                <a:solidFill>
                  <a:srgbClr val="ffff99"/>
                </a:solidFill>
                <a:latin typeface="Tahoma"/>
              </a:rPr>
              <a:t>x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Determine </a:t>
            </a:r>
            <a:r>
              <a:rPr b="1" lang="pt-BR" sz="2800" spc="-1" strike="noStrike">
                <a:solidFill>
                  <a:srgbClr val="ffff99"/>
                </a:solidFill>
                <a:latin typeface="Symbol"/>
                <a:ea typeface="Symbol"/>
              </a:rPr>
              <a:t></a:t>
            </a:r>
            <a:r>
              <a:rPr b="1" lang="pt-BR" sz="2800" spc="-1" strike="noStrike" baseline="-25000">
                <a:solidFill>
                  <a:srgbClr val="ffff99"/>
                </a:solidFill>
                <a:latin typeface="Tahoma"/>
              </a:rPr>
              <a:t>y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201920" y="4419720"/>
            <a:ext cx="46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99"/>
                </a:solidFill>
                <a:latin typeface="Symbol"/>
                <a:ea typeface="Symbol"/>
              </a:rPr>
              <a:t></a:t>
            </a:r>
            <a:r>
              <a:rPr b="1" lang="pt-BR" sz="2800" spc="-1" strike="noStrike" baseline="-25000">
                <a:solidFill>
                  <a:srgbClr val="ffff99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211200" y="3505320"/>
            <a:ext cx="46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99"/>
                </a:solidFill>
                <a:latin typeface="Symbol"/>
                <a:ea typeface="Symbol"/>
              </a:rPr>
              <a:t></a:t>
            </a:r>
            <a:r>
              <a:rPr b="1" lang="pt-BR" sz="2800" spc="-1" strike="noStrike" baseline="-25000">
                <a:solidFill>
                  <a:srgbClr val="ffff99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236160" y="1221480"/>
            <a:ext cx="8601120" cy="5103000"/>
            <a:chOff x="236160" y="1221480"/>
            <a:chExt cx="8601120" cy="5103000"/>
          </a:xfrm>
        </p:grpSpPr>
        <p:grpSp>
          <p:nvGrpSpPr>
            <p:cNvPr id="286" name=""/>
            <p:cNvGrpSpPr/>
            <p:nvPr/>
          </p:nvGrpSpPr>
          <p:grpSpPr>
            <a:xfrm>
              <a:off x="2521080" y="1221480"/>
              <a:ext cx="6316200" cy="4466520"/>
              <a:chOff x="2521080" y="1221480"/>
              <a:chExt cx="6316200" cy="4466520"/>
            </a:xfrm>
          </p:grpSpPr>
          <p:sp>
            <p:nvSpPr>
              <p:cNvPr id="287" name=""/>
              <p:cNvSpPr/>
              <p:nvPr/>
            </p:nvSpPr>
            <p:spPr>
              <a:xfrm rot="18663600">
                <a:off x="3473640" y="2796120"/>
                <a:ext cx="4776840" cy="1316520"/>
              </a:xfrm>
              <a:prstGeom prst="parallelogram">
                <a:avLst>
                  <a:gd name="adj" fmla="val 106886"/>
                </a:avLst>
              </a:prstGeom>
              <a:gradFill rotWithShape="0">
                <a:gsLst>
                  <a:gs pos="0">
                    <a:srgbClr val="acacac"/>
                  </a:gs>
                  <a:gs pos="100000">
                    <a:srgbClr val="4f4f4f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V="1">
                <a:off x="5943240" y="2971440"/>
                <a:ext cx="2151360" cy="609480"/>
              </a:xfrm>
              <a:prstGeom prst="line">
                <a:avLst/>
              </a:prstGeom>
              <a:ln w="28440">
                <a:solidFill>
                  <a:srgbClr val="66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V="1">
                <a:off x="4800240" y="3580920"/>
                <a:ext cx="1142640" cy="304920"/>
              </a:xfrm>
              <a:prstGeom prst="line">
                <a:avLst/>
              </a:prstGeom>
              <a:ln w="28440">
                <a:solidFill>
                  <a:srgbClr val="6666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093720" y="2895480"/>
                <a:ext cx="674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000" spc="-1" strike="noStrike">
                    <a:solidFill>
                      <a:srgbClr val="ff5050"/>
                    </a:solidFill>
                    <a:latin typeface="Tahoma"/>
                  </a:rPr>
                  <a:t>VRP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V="1">
                <a:off x="3052080" y="3885840"/>
                <a:ext cx="1748160" cy="533160"/>
              </a:xfrm>
              <a:prstGeom prst="line">
                <a:avLst/>
              </a:prstGeom>
              <a:ln w="2844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92" name=""/>
              <p:cNvGrpSpPr/>
              <p:nvPr/>
            </p:nvGrpSpPr>
            <p:grpSpPr>
              <a:xfrm>
                <a:off x="8094600" y="2286000"/>
                <a:ext cx="742680" cy="1295280"/>
                <a:chOff x="8094600" y="2286000"/>
                <a:chExt cx="742680" cy="1295280"/>
              </a:xfrm>
            </p:grpSpPr>
            <p:grpSp>
              <p:nvGrpSpPr>
                <p:cNvPr id="293" name=""/>
                <p:cNvGrpSpPr/>
                <p:nvPr/>
              </p:nvGrpSpPr>
              <p:grpSpPr>
                <a:xfrm>
                  <a:off x="8096040" y="2286000"/>
                  <a:ext cx="741240" cy="1295280"/>
                  <a:chOff x="8096040" y="2286000"/>
                  <a:chExt cx="741240" cy="1295280"/>
                </a:xfrm>
              </p:grpSpPr>
              <p:sp>
                <p:nvSpPr>
                  <p:cNvPr id="294" name=""/>
                  <p:cNvSpPr/>
                  <p:nvPr/>
                </p:nvSpPr>
                <p:spPr>
                  <a:xfrm rot="5399400">
                    <a:off x="8094960" y="2286720"/>
                    <a:ext cx="609480" cy="607680"/>
                  </a:xfrm>
                  <a:prstGeom prst="parallelogram">
                    <a:avLst>
                      <a:gd name="adj" fmla="val 32647"/>
                    </a:avLst>
                  </a:prstGeom>
                  <a:noFill/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31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 rot="5399400">
                    <a:off x="8267760" y="3011760"/>
                    <a:ext cx="533160" cy="605880"/>
                  </a:xfrm>
                  <a:prstGeom prst="parallelogram">
                    <a:avLst>
                      <a:gd name="adj" fmla="val 29463"/>
                    </a:avLst>
                  </a:prstGeom>
                  <a:noFill/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31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6" name=""/>
                <p:cNvGrpSpPr/>
                <p:nvPr/>
              </p:nvGrpSpPr>
              <p:grpSpPr>
                <a:xfrm>
                  <a:off x="8094600" y="2361960"/>
                  <a:ext cx="739080" cy="1218600"/>
                  <a:chOff x="8094600" y="2361960"/>
                  <a:chExt cx="739080" cy="1218600"/>
                </a:xfrm>
              </p:grpSpPr>
              <p:sp>
                <p:nvSpPr>
                  <p:cNvPr id="297" name=""/>
                  <p:cNvSpPr/>
                  <p:nvPr/>
                </p:nvSpPr>
                <p:spPr>
                  <a:xfrm>
                    <a:off x="8688240" y="2488680"/>
                    <a:ext cx="134280" cy="685440"/>
                  </a:xfrm>
                  <a:prstGeom prst="line">
                    <a:avLst/>
                  </a:prstGeom>
                  <a:ln w="9360">
                    <a:solidFill>
                      <a:srgbClr val="ff505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8094600" y="2742480"/>
                    <a:ext cx="134280" cy="685440"/>
                  </a:xfrm>
                  <a:prstGeom prst="line">
                    <a:avLst/>
                  </a:prstGeom>
                  <a:ln w="9360">
                    <a:solidFill>
                      <a:srgbClr val="ff505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8699400" y="2895120"/>
                    <a:ext cx="134280" cy="685440"/>
                  </a:xfrm>
                  <a:prstGeom prst="line">
                    <a:avLst/>
                  </a:prstGeom>
                  <a:ln w="9360">
                    <a:solidFill>
                      <a:srgbClr val="ff505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>
                    <a:off x="8094600" y="2361960"/>
                    <a:ext cx="134280" cy="685440"/>
                  </a:xfrm>
                  <a:prstGeom prst="line">
                    <a:avLst/>
                  </a:prstGeom>
                  <a:ln w="9360">
                    <a:solidFill>
                      <a:srgbClr val="ff505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01" name=""/>
              <p:cNvSpPr/>
              <p:nvPr/>
            </p:nvSpPr>
            <p:spPr>
              <a:xfrm>
                <a:off x="2521080" y="3960720"/>
                <a:ext cx="704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000" spc="-1" strike="noStrike">
                    <a:solidFill>
                      <a:srgbClr val="ffff99"/>
                    </a:solidFill>
                    <a:latin typeface="Tahoma"/>
                  </a:rPr>
                  <a:t>COP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985120" y="4343400"/>
                <a:ext cx="134280" cy="152280"/>
              </a:xfrm>
              <a:prstGeom prst="ellipse">
                <a:avLst/>
              </a:prstGeom>
              <a:solidFill>
                <a:srgbClr val="a4bff4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236160" y="1523520"/>
              <a:ext cx="5904720" cy="4800960"/>
              <a:chOff x="236160" y="1523520"/>
              <a:chExt cx="5904720" cy="4800960"/>
            </a:xfrm>
          </p:grpSpPr>
          <p:sp>
            <p:nvSpPr>
              <p:cNvPr id="304" name=""/>
              <p:cNvSpPr/>
              <p:nvPr/>
            </p:nvSpPr>
            <p:spPr>
              <a:xfrm flipH="1">
                <a:off x="362880" y="4419360"/>
                <a:ext cx="2689200" cy="1905120"/>
              </a:xfrm>
              <a:prstGeom prst="line">
                <a:avLst/>
              </a:prstGeom>
              <a:ln w="28440">
                <a:solidFill>
                  <a:srgbClr val="ff505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V="1">
                <a:off x="3052440" y="1523520"/>
                <a:ext cx="0" cy="2895480"/>
              </a:xfrm>
              <a:prstGeom prst="line">
                <a:avLst/>
              </a:prstGeom>
              <a:ln w="28440">
                <a:solidFill>
                  <a:srgbClr val="ff505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052440" y="4419360"/>
                <a:ext cx="2756520" cy="1905120"/>
              </a:xfrm>
              <a:prstGeom prst="line">
                <a:avLst/>
              </a:prstGeom>
              <a:ln w="28440">
                <a:solidFill>
                  <a:srgbClr val="ff505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798520" y="5619600"/>
                <a:ext cx="3423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6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200" spc="-1" strike="noStrike">
                    <a:solidFill>
                      <a:srgbClr val="ffff99"/>
                    </a:solidFill>
                    <a:latin typeface="Tahoma"/>
                  </a:rPr>
                  <a:t>x</a:t>
                </a: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36160" y="5638680"/>
                <a:ext cx="3164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6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200" spc="-1" strike="noStrike">
                    <a:solidFill>
                      <a:srgbClr val="ffff99"/>
                    </a:solidFill>
                    <a:latin typeface="Tahoma"/>
                  </a:rPr>
                  <a:t>z</a:t>
                </a: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256560" y="1598400"/>
                <a:ext cx="33912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6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200" spc="-1" strike="noStrike">
                    <a:solidFill>
                      <a:srgbClr val="ffff99"/>
                    </a:solidFill>
                    <a:latin typeface="Tahoma"/>
                  </a:rPr>
                  <a:t>y</a:t>
                </a: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3052440" y="3047760"/>
                <a:ext cx="0" cy="1371600"/>
              </a:xfrm>
              <a:prstGeom prst="line">
                <a:avLst/>
              </a:prstGeom>
              <a:ln w="28440">
                <a:solidFill>
                  <a:srgbClr val="ff505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H="1">
                <a:off x="1976040" y="4381200"/>
                <a:ext cx="1131480" cy="800280"/>
              </a:xfrm>
              <a:prstGeom prst="line">
                <a:avLst/>
              </a:prstGeom>
              <a:ln w="28440">
                <a:solidFill>
                  <a:srgbClr val="ff505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808960" y="3504960"/>
                <a:ext cx="134640" cy="152280"/>
              </a:xfrm>
              <a:prstGeom prst="ellipse">
                <a:avLst/>
              </a:prstGeom>
              <a:solidFill>
                <a:srgbClr val="a4bff4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3" name=""/>
          <p:cNvSpPr/>
          <p:nvPr/>
        </p:nvSpPr>
        <p:spPr>
          <a:xfrm>
            <a:off x="3048120" y="3429000"/>
            <a:ext cx="685800" cy="762120"/>
          </a:xfrm>
          <a:custGeom>
            <a:avLst/>
            <a:gdLst/>
            <a:ahLst/>
            <a:rect l="l" t="t" r="r" b="b"/>
            <a:pathLst>
              <a:path w="432" h="528">
                <a:moveTo>
                  <a:pt x="0" y="0"/>
                </a:moveTo>
                <a:cubicBezTo>
                  <a:pt x="132" y="4"/>
                  <a:pt x="264" y="8"/>
                  <a:pt x="336" y="96"/>
                </a:cubicBezTo>
                <a:cubicBezTo>
                  <a:pt x="408" y="184"/>
                  <a:pt x="420" y="356"/>
                  <a:pt x="432" y="528"/>
                </a:cubicBezTo>
              </a:path>
            </a:pathLst>
          </a:custGeom>
          <a:noFill/>
          <a:ln w="936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886200" y="4114800"/>
            <a:ext cx="343080" cy="914400"/>
          </a:xfrm>
          <a:custGeom>
            <a:avLst/>
            <a:gdLst/>
            <a:ahLst/>
            <a:rect l="l" t="t" r="r" b="b"/>
            <a:pathLst>
              <a:path w="216" h="576">
                <a:moveTo>
                  <a:pt x="144" y="0"/>
                </a:moveTo>
                <a:cubicBezTo>
                  <a:pt x="180" y="96"/>
                  <a:pt x="216" y="192"/>
                  <a:pt x="192" y="288"/>
                </a:cubicBezTo>
                <a:cubicBezTo>
                  <a:pt x="168" y="384"/>
                  <a:pt x="84" y="480"/>
                  <a:pt x="0" y="576"/>
                </a:cubicBezTo>
              </a:path>
            </a:pathLst>
          </a:custGeom>
          <a:noFill/>
          <a:ln w="936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80520" y="15998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5050"/>
                </a:solidFill>
                <a:latin typeface="Tahoma"/>
              </a:rPr>
              <a:t>VRC - 3D Viewing Reference Coordina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914400"/>
            <a:ext cx="8839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21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99"/>
                </a:solidFill>
                <a:latin typeface="Tahoma"/>
              </a:rPr>
              <a:t>6.7. Conceitos Básicos em Projeção em Perspectiva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5399400">
            <a:off x="3277800" y="2436480"/>
            <a:ext cx="3276720" cy="3736800"/>
          </a:xfrm>
          <a:prstGeom prst="parallelogram">
            <a:avLst>
              <a:gd name="adj" fmla="val 42079"/>
            </a:avLst>
          </a:prstGeom>
          <a:solidFill>
            <a:srgbClr val="969696"/>
          </a:solidFill>
          <a:ln w="28440">
            <a:solidFill>
              <a:srgbClr val="acaca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5399400">
            <a:off x="3733200" y="3047760"/>
            <a:ext cx="2286000" cy="2590920"/>
          </a:xfrm>
          <a:prstGeom prst="parallelogram">
            <a:avLst>
              <a:gd name="adj" fmla="val 42079"/>
            </a:avLst>
          </a:prstGeom>
          <a:solidFill>
            <a:srgbClr val="00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543480" y="4457880"/>
            <a:ext cx="75960" cy="75960"/>
          </a:xfrm>
          <a:prstGeom prst="ellipse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124680" y="4124160"/>
            <a:ext cx="75960" cy="76320"/>
          </a:xfrm>
          <a:prstGeom prst="ellipse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1371240" y="4419720"/>
            <a:ext cx="335268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2057400" y="4400640"/>
            <a:ext cx="2743200" cy="838080"/>
          </a:xfrm>
          <a:prstGeom prst="line">
            <a:avLst/>
          </a:prstGeom>
          <a:ln w="572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78360" y="5492880"/>
            <a:ext cx="34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ahoma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363760" y="5257800"/>
            <a:ext cx="71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ahoma"/>
              </a:rPr>
              <a:t>VP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772160" y="2133720"/>
            <a:ext cx="0" cy="2209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237800" y="5410080"/>
            <a:ext cx="34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ahoma"/>
              </a:rPr>
              <a:t>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879800" y="213372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ahoma"/>
              </a:rPr>
              <a:t>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00600" y="4419720"/>
            <a:ext cx="289548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695840" y="4314960"/>
            <a:ext cx="152280" cy="152280"/>
          </a:xfrm>
          <a:prstGeom prst="ellipse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2960" y="3657600"/>
            <a:ext cx="1418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ahoma"/>
              </a:rPr>
              <a:t>(U</a:t>
            </a:r>
            <a:r>
              <a:rPr b="1" lang="pt-BR" sz="2000" spc="-1" strike="noStrike" baseline="-25000">
                <a:solidFill>
                  <a:srgbClr val="ffff99"/>
                </a:solidFill>
                <a:latin typeface="Tahoma"/>
              </a:rPr>
              <a:t>max</a:t>
            </a:r>
            <a:r>
              <a:rPr b="1" lang="pt-BR" sz="2000" spc="-1" strike="noStrike">
                <a:solidFill>
                  <a:srgbClr val="ffff99"/>
                </a:solidFill>
                <a:latin typeface="Tahoma"/>
              </a:rPr>
              <a:t> V</a:t>
            </a:r>
            <a:r>
              <a:rPr b="1" lang="pt-BR" sz="2000" spc="-1" strike="noStrike" baseline="-25000">
                <a:solidFill>
                  <a:srgbClr val="ffff99"/>
                </a:solidFill>
                <a:latin typeface="Tahoma"/>
              </a:rPr>
              <a:t>max</a:t>
            </a:r>
            <a:r>
              <a:rPr b="1" lang="pt-BR" sz="2000" spc="-1" strike="noStrike">
                <a:solidFill>
                  <a:srgbClr val="ffff99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32080" y="4191120"/>
            <a:ext cx="1353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ahoma"/>
              </a:rPr>
              <a:t>(U</a:t>
            </a:r>
            <a:r>
              <a:rPr b="1" lang="pt-BR" sz="2000" spc="-1" strike="noStrike" baseline="-25000">
                <a:solidFill>
                  <a:srgbClr val="ffff99"/>
                </a:solidFill>
                <a:latin typeface="Tahoma"/>
              </a:rPr>
              <a:t>min</a:t>
            </a:r>
            <a:r>
              <a:rPr b="1" lang="pt-BR" sz="2000" spc="-1" strike="noStrike">
                <a:solidFill>
                  <a:srgbClr val="ffff99"/>
                </a:solidFill>
                <a:latin typeface="Tahoma"/>
              </a:rPr>
              <a:t> V</a:t>
            </a:r>
            <a:r>
              <a:rPr b="1" lang="pt-BR" sz="2000" spc="-1" strike="noStrike" baseline="-25000">
                <a:solidFill>
                  <a:srgbClr val="ffff99"/>
                </a:solidFill>
                <a:latin typeface="Tahoma"/>
              </a:rPr>
              <a:t>min</a:t>
            </a:r>
            <a:r>
              <a:rPr b="1" lang="pt-BR" sz="2000" spc="-1" strike="noStrike">
                <a:solidFill>
                  <a:srgbClr val="ffff99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128120" y="3962520"/>
            <a:ext cx="5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ahoma"/>
              </a:rPr>
              <a:t>C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19520" y="4495680"/>
            <a:ext cx="609480" cy="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248160" y="3886200"/>
            <a:ext cx="533160" cy="22860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733280" y="5791320"/>
            <a:ext cx="120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ahoma"/>
              </a:rPr>
              <a:t>Windo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5029200" y="5105160"/>
            <a:ext cx="76320" cy="60948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29760" y="297180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ahoma"/>
              </a:rPr>
              <a:t>View Pla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19520" y="3200400"/>
            <a:ext cx="152280" cy="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92760" y="4038480"/>
            <a:ext cx="67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5050"/>
                </a:solidFill>
                <a:latin typeface="Tahoma"/>
              </a:rPr>
              <a:t>VR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32720" y="2666880"/>
            <a:ext cx="3155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99"/>
                </a:solidFill>
                <a:latin typeface="Tahoma"/>
              </a:rPr>
              <a:t>uv: Plano de Projeçã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52280" y="990720"/>
            <a:ext cx="268308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3. </a:t>
            </a: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Rotacione o mundo em torno de X e Y de forma a alinhar VPN com o eixo Z</a:t>
            </a: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220680" y="609480"/>
            <a:ext cx="8335080" cy="5849640"/>
            <a:chOff x="220680" y="609480"/>
            <a:chExt cx="8335080" cy="5849640"/>
          </a:xfrm>
        </p:grpSpPr>
        <p:sp>
          <p:nvSpPr>
            <p:cNvPr id="317" name=""/>
            <p:cNvSpPr/>
            <p:nvPr/>
          </p:nvSpPr>
          <p:spPr>
            <a:xfrm flipV="1" rot="1802400">
              <a:off x="2687400" y="2751480"/>
              <a:ext cx="2452680" cy="2571840"/>
            </a:xfrm>
            <a:prstGeom prst="parallelogram">
              <a:avLst>
                <a:gd name="adj" fmla="val 59255"/>
              </a:avLst>
            </a:prstGeom>
            <a:solidFill>
              <a:srgbClr val="acaca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1215720" y="4253040"/>
              <a:ext cx="2803320" cy="1785960"/>
            </a:xfrm>
            <a:prstGeom prst="line">
              <a:avLst/>
            </a:prstGeom>
            <a:ln w="28440">
              <a:solidFill>
                <a:srgbClr val="ff505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3703680" y="4038480"/>
              <a:ext cx="650880" cy="400320"/>
            </a:xfrm>
            <a:prstGeom prst="line">
              <a:avLst/>
            </a:prstGeom>
            <a:ln w="38160">
              <a:solidFill>
                <a:srgbClr val="66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4354200" y="3335400"/>
              <a:ext cx="996840" cy="703080"/>
            </a:xfrm>
            <a:prstGeom prst="line">
              <a:avLst/>
            </a:prstGeom>
            <a:ln w="381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083960" y="5396040"/>
              <a:ext cx="3164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200" spc="-1" strike="noStrike">
                  <a:solidFill>
                    <a:srgbClr val="ffff99"/>
                  </a:solidFill>
                  <a:latin typeface="Tahoma"/>
                </a:rPr>
                <a:t>z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2" name=""/>
            <p:cNvGrpSpPr/>
            <p:nvPr/>
          </p:nvGrpSpPr>
          <p:grpSpPr>
            <a:xfrm>
              <a:off x="5351400" y="609480"/>
              <a:ext cx="3204360" cy="4500360"/>
              <a:chOff x="5351400" y="609480"/>
              <a:chExt cx="3204360" cy="4500360"/>
            </a:xfrm>
          </p:grpSpPr>
          <p:sp>
            <p:nvSpPr>
              <p:cNvPr id="323" name=""/>
              <p:cNvSpPr/>
              <p:nvPr/>
            </p:nvSpPr>
            <p:spPr>
              <a:xfrm flipV="1">
                <a:off x="5351400" y="609480"/>
                <a:ext cx="0" cy="2714400"/>
              </a:xfrm>
              <a:prstGeom prst="line">
                <a:avLst/>
              </a:prstGeom>
              <a:ln w="28440">
                <a:solidFill>
                  <a:srgbClr val="ff505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351400" y="3323880"/>
                <a:ext cx="2872800" cy="1785960"/>
              </a:xfrm>
              <a:prstGeom prst="line">
                <a:avLst/>
              </a:prstGeom>
              <a:ln w="28440">
                <a:solidFill>
                  <a:srgbClr val="ff505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8213400" y="4449240"/>
                <a:ext cx="3423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6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200" spc="-1" strike="noStrike">
                    <a:solidFill>
                      <a:srgbClr val="ffff99"/>
                    </a:solidFill>
                    <a:latin typeface="Tahoma"/>
                  </a:rPr>
                  <a:t>x</a:t>
                </a: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563800" y="680400"/>
                <a:ext cx="33912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6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200" spc="-1" strike="noStrike">
                    <a:solidFill>
                      <a:srgbClr val="ffff99"/>
                    </a:solidFill>
                    <a:latin typeface="Tahoma"/>
                  </a:rPr>
                  <a:t>y</a:t>
                </a: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7" name=""/>
            <p:cNvSpPr/>
            <p:nvPr/>
          </p:nvSpPr>
          <p:spPr>
            <a:xfrm flipH="1">
              <a:off x="2896920" y="4216320"/>
              <a:ext cx="1181160" cy="750960"/>
            </a:xfrm>
            <a:prstGeom prst="line">
              <a:avLst/>
            </a:prstGeom>
            <a:ln w="28440">
              <a:solidFill>
                <a:srgbClr val="ff505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2477880" y="4253040"/>
              <a:ext cx="1541160" cy="981000"/>
            </a:xfrm>
            <a:prstGeom prst="line">
              <a:avLst/>
            </a:prstGeom>
            <a:ln w="38160">
              <a:solidFill>
                <a:srgbClr val="66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9" name=""/>
            <p:cNvGrpSpPr/>
            <p:nvPr/>
          </p:nvGrpSpPr>
          <p:grpSpPr>
            <a:xfrm>
              <a:off x="220680" y="4538880"/>
              <a:ext cx="1420560" cy="1920240"/>
              <a:chOff x="220680" y="4538880"/>
              <a:chExt cx="1420560" cy="1920240"/>
            </a:xfrm>
          </p:grpSpPr>
          <p:sp>
            <p:nvSpPr>
              <p:cNvPr id="330" name=""/>
              <p:cNvSpPr/>
              <p:nvPr/>
            </p:nvSpPr>
            <p:spPr>
              <a:xfrm rot="11775600">
                <a:off x="368640" y="4672800"/>
                <a:ext cx="1127160" cy="1195200"/>
              </a:xfrm>
              <a:prstGeom prst="parallelogram">
                <a:avLst>
                  <a:gd name="adj" fmla="val 42079"/>
                </a:avLst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1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11775600">
                <a:off x="365400" y="5130000"/>
                <a:ext cx="1127160" cy="1195200"/>
              </a:xfrm>
              <a:prstGeom prst="parallelogram">
                <a:avLst>
                  <a:gd name="adj" fmla="val 42079"/>
                </a:avLst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1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H="1">
                <a:off x="1638000" y="4854600"/>
                <a:ext cx="3240" cy="4572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H="1">
                <a:off x="852840" y="5869080"/>
                <a:ext cx="2880" cy="4568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H="1">
                <a:off x="1006560" y="4670280"/>
                <a:ext cx="3240" cy="4575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H="1">
                <a:off x="221760" y="5684760"/>
                <a:ext cx="3240" cy="4572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6" name=""/>
            <p:cNvSpPr/>
            <p:nvPr/>
          </p:nvSpPr>
          <p:spPr>
            <a:xfrm>
              <a:off x="5286600" y="2895480"/>
              <a:ext cx="7567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200" spc="-1" strike="noStrike">
                  <a:solidFill>
                    <a:srgbClr val="ffff99"/>
                  </a:solidFill>
                  <a:latin typeface="Tahoma"/>
                </a:rPr>
                <a:t>COP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949560" y="4167360"/>
              <a:ext cx="139680" cy="142560"/>
            </a:xfrm>
            <a:prstGeom prst="ellipse">
              <a:avLst/>
            </a:prstGeom>
            <a:solidFill>
              <a:srgbClr val="a4bff4"/>
            </a:soli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283360" y="3238560"/>
              <a:ext cx="139680" cy="142920"/>
            </a:xfrm>
            <a:prstGeom prst="ellipse">
              <a:avLst/>
            </a:prstGeom>
            <a:solidFill>
              <a:srgbClr val="a4bff4"/>
            </a:soli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152280" y="990720"/>
            <a:ext cx="26830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4..... </a:t>
            </a: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o resto é fácil.....</a:t>
            </a: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220680" y="609480"/>
            <a:ext cx="8335080" cy="5849640"/>
            <a:chOff x="220680" y="609480"/>
            <a:chExt cx="8335080" cy="5849640"/>
          </a:xfrm>
        </p:grpSpPr>
        <p:sp>
          <p:nvSpPr>
            <p:cNvPr id="341" name=""/>
            <p:cNvSpPr/>
            <p:nvPr/>
          </p:nvSpPr>
          <p:spPr>
            <a:xfrm flipV="1" rot="1802400">
              <a:off x="2687400" y="2751480"/>
              <a:ext cx="2452680" cy="2571840"/>
            </a:xfrm>
            <a:prstGeom prst="parallelogram">
              <a:avLst>
                <a:gd name="adj" fmla="val 59255"/>
              </a:avLst>
            </a:prstGeom>
            <a:solidFill>
              <a:srgbClr val="acaca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1215720" y="4253040"/>
              <a:ext cx="2803320" cy="1785960"/>
            </a:xfrm>
            <a:prstGeom prst="line">
              <a:avLst/>
            </a:prstGeom>
            <a:ln w="28440">
              <a:solidFill>
                <a:srgbClr val="ff505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3703680" y="4038480"/>
              <a:ext cx="650880" cy="400320"/>
            </a:xfrm>
            <a:prstGeom prst="line">
              <a:avLst/>
            </a:prstGeom>
            <a:ln w="38160">
              <a:solidFill>
                <a:srgbClr val="66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4354200" y="3335400"/>
              <a:ext cx="996840" cy="703080"/>
            </a:xfrm>
            <a:prstGeom prst="line">
              <a:avLst/>
            </a:prstGeom>
            <a:ln w="381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083960" y="5396040"/>
              <a:ext cx="3164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200" spc="-1" strike="noStrike">
                  <a:solidFill>
                    <a:srgbClr val="ffff99"/>
                  </a:solidFill>
                  <a:latin typeface="Tahoma"/>
                </a:rPr>
                <a:t>z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46" name=""/>
            <p:cNvGrpSpPr/>
            <p:nvPr/>
          </p:nvGrpSpPr>
          <p:grpSpPr>
            <a:xfrm>
              <a:off x="5351400" y="609480"/>
              <a:ext cx="3204360" cy="4500360"/>
              <a:chOff x="5351400" y="609480"/>
              <a:chExt cx="3204360" cy="4500360"/>
            </a:xfrm>
          </p:grpSpPr>
          <p:sp>
            <p:nvSpPr>
              <p:cNvPr id="347" name=""/>
              <p:cNvSpPr/>
              <p:nvPr/>
            </p:nvSpPr>
            <p:spPr>
              <a:xfrm flipV="1">
                <a:off x="5351400" y="609480"/>
                <a:ext cx="0" cy="2714400"/>
              </a:xfrm>
              <a:prstGeom prst="line">
                <a:avLst/>
              </a:prstGeom>
              <a:ln w="28440">
                <a:solidFill>
                  <a:srgbClr val="ff505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351400" y="3323880"/>
                <a:ext cx="2872800" cy="1785960"/>
              </a:xfrm>
              <a:prstGeom prst="line">
                <a:avLst/>
              </a:prstGeom>
              <a:ln w="28440">
                <a:solidFill>
                  <a:srgbClr val="ff505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8213400" y="4449240"/>
                <a:ext cx="3423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6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200" spc="-1" strike="noStrike">
                    <a:solidFill>
                      <a:srgbClr val="ffff99"/>
                    </a:solidFill>
                    <a:latin typeface="Tahoma"/>
                  </a:rPr>
                  <a:t>x</a:t>
                </a: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563800" y="680400"/>
                <a:ext cx="33912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6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200" spc="-1" strike="noStrike">
                    <a:solidFill>
                      <a:srgbClr val="ffff99"/>
                    </a:solidFill>
                    <a:latin typeface="Tahoma"/>
                  </a:rPr>
                  <a:t>y</a:t>
                </a: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1" name=""/>
            <p:cNvSpPr/>
            <p:nvPr/>
          </p:nvSpPr>
          <p:spPr>
            <a:xfrm flipH="1">
              <a:off x="2896920" y="4216320"/>
              <a:ext cx="1181160" cy="750960"/>
            </a:xfrm>
            <a:prstGeom prst="line">
              <a:avLst/>
            </a:prstGeom>
            <a:ln w="28440">
              <a:solidFill>
                <a:srgbClr val="ff505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2477880" y="4253040"/>
              <a:ext cx="1541160" cy="981000"/>
            </a:xfrm>
            <a:prstGeom prst="line">
              <a:avLst/>
            </a:prstGeom>
            <a:ln w="38160">
              <a:solidFill>
                <a:srgbClr val="66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53" name=""/>
            <p:cNvGrpSpPr/>
            <p:nvPr/>
          </p:nvGrpSpPr>
          <p:grpSpPr>
            <a:xfrm>
              <a:off x="220680" y="4538880"/>
              <a:ext cx="1420560" cy="1920240"/>
              <a:chOff x="220680" y="4538880"/>
              <a:chExt cx="1420560" cy="1920240"/>
            </a:xfrm>
          </p:grpSpPr>
          <p:sp>
            <p:nvSpPr>
              <p:cNvPr id="354" name=""/>
              <p:cNvSpPr/>
              <p:nvPr/>
            </p:nvSpPr>
            <p:spPr>
              <a:xfrm rot="11775600">
                <a:off x="368640" y="4672800"/>
                <a:ext cx="1127160" cy="1195200"/>
              </a:xfrm>
              <a:prstGeom prst="parallelogram">
                <a:avLst>
                  <a:gd name="adj" fmla="val 42079"/>
                </a:avLst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1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rot="11775600">
                <a:off x="365400" y="5130000"/>
                <a:ext cx="1127160" cy="1195200"/>
              </a:xfrm>
              <a:prstGeom prst="parallelogram">
                <a:avLst>
                  <a:gd name="adj" fmla="val 42079"/>
                </a:avLst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1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H="1">
                <a:off x="1638000" y="4854600"/>
                <a:ext cx="3240" cy="4572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H="1">
                <a:off x="852840" y="5869080"/>
                <a:ext cx="2880" cy="4568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H="1">
                <a:off x="1006560" y="4670280"/>
                <a:ext cx="3240" cy="4575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H="1">
                <a:off x="221760" y="5684760"/>
                <a:ext cx="3240" cy="4572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60" name=""/>
            <p:cNvSpPr/>
            <p:nvPr/>
          </p:nvSpPr>
          <p:spPr>
            <a:xfrm>
              <a:off x="5286600" y="2895480"/>
              <a:ext cx="7567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200" spc="-1" strike="noStrike">
                  <a:solidFill>
                    <a:srgbClr val="ffff99"/>
                  </a:solidFill>
                  <a:latin typeface="Tahoma"/>
                </a:rPr>
                <a:t>COP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949560" y="4167360"/>
              <a:ext cx="139680" cy="142560"/>
            </a:xfrm>
            <a:prstGeom prst="ellipse">
              <a:avLst/>
            </a:prstGeom>
            <a:solidFill>
              <a:srgbClr val="a4bff4"/>
            </a:soli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283360" y="3238560"/>
              <a:ext cx="139680" cy="142920"/>
            </a:xfrm>
            <a:prstGeom prst="ellipse">
              <a:avLst/>
            </a:prstGeom>
            <a:solidFill>
              <a:srgbClr val="a4bff4"/>
            </a:soli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3" name=""/>
          <p:cNvSpPr/>
          <p:nvPr/>
        </p:nvSpPr>
        <p:spPr>
          <a:xfrm flipV="1">
            <a:off x="990720" y="3276720"/>
            <a:ext cx="4343400" cy="1371600"/>
          </a:xfrm>
          <a:prstGeom prst="line">
            <a:avLst/>
          </a:prstGeom>
          <a:ln cap="rnd" w="9360">
            <a:solidFill>
              <a:srgbClr val="ffff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838080" y="3352320"/>
            <a:ext cx="4496040" cy="2514600"/>
          </a:xfrm>
          <a:prstGeom prst="line">
            <a:avLst/>
          </a:prstGeom>
          <a:ln cap="rnd" w="9360">
            <a:solidFill>
              <a:srgbClr val="ffff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ffff99"/>
                </a:solidFill>
                <a:latin typeface="Tahoma"/>
              </a:rPr>
              <a:t>6.9. Clipping em 3D: Volume Canônico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8915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Tahoma"/>
              </a:rPr>
              <a:t>Até agora vimos como fazer para calcular a projeção de todo um mundo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Clipping tinha de ser feito em 2d: </a:t>
            </a:r>
            <a:r>
              <a:rPr b="1" lang="pt-BR" sz="3000" spc="-1" strike="noStrike">
                <a:solidFill>
                  <a:srgbClr val="ffffff"/>
                </a:solidFill>
                <a:latin typeface="Tahoma"/>
              </a:rPr>
              <a:t>+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Processamento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Tahoma"/>
              </a:rPr>
              <a:t>Para Clipping em 3D temos de definir um Volume do Mundo que deverá ser representado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Denominado de Volume Canônico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É um cubo para Projeções Paralelas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É uma Pirâmide Truncada para Proj. em Perspectiva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ffff99"/>
                </a:solidFill>
                <a:latin typeface="Tahoma"/>
              </a:rPr>
              <a:t>6.9.1. Clipping em Projeções Paralelas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8381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Tahoma"/>
              </a:rPr>
              <a:t>Em projeções paralelas podemos utilizar um paralelepípedo como volume canônico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Definimos um subvolume antes do plano de projeção e outro depoi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Tahoma"/>
              </a:rPr>
              <a:t>Neste caso podemos normalizar o volume antes de realizar a projeção, ao invés de normalizar no window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Tahoma"/>
              </a:rPr>
              <a:t>Fácil de fazer clipping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9" name=""/>
          <p:cNvGraphicFramePr/>
          <p:nvPr/>
        </p:nvGraphicFramePr>
        <p:xfrm>
          <a:off x="228600" y="914400"/>
          <a:ext cx="8686800" cy="558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14400"/>
                    <a:ext cx="8686800" cy="558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"/>
          <p:cNvSpPr/>
          <p:nvPr/>
        </p:nvSpPr>
        <p:spPr>
          <a:xfrm>
            <a:off x="7211880" y="4038480"/>
            <a:ext cx="1118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99"/>
                </a:solidFill>
                <a:latin typeface="Tahoma"/>
              </a:rPr>
              <a:t>z = -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108440" y="762120"/>
            <a:ext cx="99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99"/>
                </a:solidFill>
                <a:latin typeface="Tahoma"/>
              </a:rPr>
              <a:t>z = 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99"/>
                </a:solidFill>
                <a:latin typeface="Tahoma"/>
              </a:rPr>
              <a:t>6.9.1. Clipping em Projeções Paralelas: Cohen-Stherland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Tahoma"/>
              </a:rPr>
              <a:t>Em projeções paralelas podemos extender o Algoritmo de Cohen-Sutherland para 6 bits englobando o volume canônico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Tahoma"/>
              </a:rPr>
              <a:t>Extensão bastante simple de se fazer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Tahoma"/>
              </a:rPr>
              <a:t>Computacionalmente eficiente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228600" y="2057400"/>
            <a:ext cx="8305560" cy="3885840"/>
            <a:chOff x="228600" y="2057400"/>
            <a:chExt cx="8305560" cy="3885840"/>
          </a:xfrm>
        </p:grpSpPr>
        <p:sp>
          <p:nvSpPr>
            <p:cNvPr id="376" name=""/>
            <p:cNvSpPr/>
            <p:nvPr/>
          </p:nvSpPr>
          <p:spPr>
            <a:xfrm>
              <a:off x="228600" y="2057400"/>
              <a:ext cx="8305560" cy="3885840"/>
            </a:xfrm>
            <a:prstGeom prst="rect">
              <a:avLst/>
            </a:prstGeom>
            <a:solidFill>
              <a:srgbClr val="3939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7" name=""/>
            <p:cNvGrpSpPr/>
            <p:nvPr/>
          </p:nvGrpSpPr>
          <p:grpSpPr>
            <a:xfrm>
              <a:off x="1133280" y="2520000"/>
              <a:ext cx="6811920" cy="3144600"/>
              <a:chOff x="1133280" y="2520000"/>
              <a:chExt cx="6811920" cy="3144600"/>
            </a:xfrm>
          </p:grpSpPr>
          <p:grpSp>
            <p:nvGrpSpPr>
              <p:cNvPr id="378" name=""/>
              <p:cNvGrpSpPr/>
              <p:nvPr/>
            </p:nvGrpSpPr>
            <p:grpSpPr>
              <a:xfrm>
                <a:off x="1133280" y="2520000"/>
                <a:ext cx="4521960" cy="3144600"/>
                <a:chOff x="1133280" y="2520000"/>
                <a:chExt cx="4521960" cy="3144600"/>
              </a:xfrm>
            </p:grpSpPr>
            <p:sp>
              <p:nvSpPr>
                <p:cNvPr id="379" name=""/>
                <p:cNvSpPr/>
                <p:nvPr/>
              </p:nvSpPr>
              <p:spPr>
                <a:xfrm>
                  <a:off x="2530800" y="3444840"/>
                  <a:ext cx="1644480" cy="129456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1133280" y="3444840"/>
                  <a:ext cx="4521960" cy="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1133280" y="4739760"/>
                  <a:ext cx="4521960" cy="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2530800" y="2520000"/>
                  <a:ext cx="0" cy="31446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4175280" y="2520000"/>
                  <a:ext cx="0" cy="31446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2800080" y="3675960"/>
                  <a:ext cx="110124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0 0 0 0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Window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1257480" y="2708640"/>
                  <a:ext cx="884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1 0 0 1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1257480" y="3859200"/>
                  <a:ext cx="884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0 0 0 1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1257480" y="5016960"/>
                  <a:ext cx="884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0 1 0 1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2894400" y="2710800"/>
                  <a:ext cx="884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1 0 0 0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4455360" y="2710800"/>
                  <a:ext cx="884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1 0 1 0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4455360" y="3859200"/>
                  <a:ext cx="884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0 0 1 0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4455360" y="5016960"/>
                  <a:ext cx="884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0 1 1 0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2894400" y="5016960"/>
                  <a:ext cx="884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0 1 0 0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3" name=""/>
              <p:cNvSpPr/>
              <p:nvPr/>
            </p:nvSpPr>
            <p:spPr>
              <a:xfrm>
                <a:off x="6459840" y="3086640"/>
                <a:ext cx="1485360" cy="150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Bit 1: lef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Bit 2: righ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Bit 3: below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Bit 4: above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99"/>
                </a:solidFill>
                <a:latin typeface="Tahoma"/>
              </a:rPr>
              <a:t>6.9.1. Clipping em Projeções Paralelas: Cohen-Stherland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51920" y="2057400"/>
            <a:ext cx="8991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Bit 1 - Ponto está acima do volume canônico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pt-BR" sz="2600" spc="-1" strike="noStrike">
                <a:solidFill>
                  <a:srgbClr val="ffff99"/>
                </a:solidFill>
                <a:latin typeface="Tahoma"/>
              </a:rPr>
              <a:t>y &gt; 1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Bit 2 - Ponto está abaixo do volume canônico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pt-BR" sz="2600" spc="-1" strike="noStrike">
                <a:solidFill>
                  <a:srgbClr val="ffff99"/>
                </a:solidFill>
                <a:latin typeface="Tahoma"/>
              </a:rPr>
              <a:t>y &lt; -1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Bit 3 - Ponto está à direita do volume canônico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pt-BR" sz="2600" spc="-1" strike="noStrike">
                <a:solidFill>
                  <a:srgbClr val="ffff99"/>
                </a:solidFill>
                <a:latin typeface="Tahoma"/>
              </a:rPr>
              <a:t>x &gt; 1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Bit 4 - Ponto está à esquerda do volume canônico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pt-BR" sz="2600" spc="-1" strike="noStrike">
                <a:solidFill>
                  <a:srgbClr val="ffff99"/>
                </a:solidFill>
                <a:latin typeface="Tahoma"/>
              </a:rPr>
              <a:t>x &lt; -1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Bit 5 - Ponto está à frente do volume canônico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pt-BR" sz="2600" spc="-1" strike="noStrike">
                <a:solidFill>
                  <a:srgbClr val="ffff99"/>
                </a:solidFill>
                <a:latin typeface="Tahoma"/>
              </a:rPr>
              <a:t>z &gt; 1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Bit 6 - Ponto está atrás do volume canônico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pt-BR" sz="2600" spc="-1" strike="noStrike">
                <a:solidFill>
                  <a:srgbClr val="ffff99"/>
                </a:solidFill>
                <a:latin typeface="Tahoma"/>
              </a:rPr>
              <a:t>z &lt; -1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99"/>
                </a:solidFill>
                <a:latin typeface="Tahoma"/>
              </a:rPr>
              <a:t>6.9.2. Clipping em Projeções em Perspectiva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8381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Tahoma"/>
              </a:rPr>
              <a:t>Para realizar o clipping em perspectiva temos de definir uma pirâmide truncada como volume canônico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Cálculo menos trivia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Tahoma"/>
              </a:rPr>
              <a:t>2 Enfoques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Métodos genéricos utilizando a pirâmide diretament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Métodos que transformam a pirâmide em um cubo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8" name=""/>
          <p:cNvGraphicFramePr/>
          <p:nvPr/>
        </p:nvGraphicFramePr>
        <p:xfrm>
          <a:off x="152280" y="861840"/>
          <a:ext cx="8991720" cy="560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861840"/>
                    <a:ext cx="8991720" cy="560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/>
          </p:nvPr>
        </p:nvSpPr>
        <p:spPr>
          <a:xfrm>
            <a:off x="456840" y="2057400"/>
            <a:ext cx="8381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Tahoma"/>
              </a:rPr>
              <a:t>Para clipar </a:t>
            </a:r>
            <a:r>
              <a:rPr b="1" lang="pt-BR" sz="3000" spc="-1" strike="noStrike">
                <a:solidFill>
                  <a:srgbClr val="ffff99"/>
                </a:solidFill>
                <a:latin typeface="Tahoma"/>
              </a:rPr>
              <a:t>sem modificar</a:t>
            </a:r>
            <a:r>
              <a:rPr b="0" lang="pt-BR" sz="3000" spc="-1" strike="noStrike">
                <a:solidFill>
                  <a:srgbClr val="ffffff"/>
                </a:solidFill>
                <a:latin typeface="Tahoma"/>
              </a:rPr>
              <a:t> os dados no volume canônico utilizamos o algoritmo de Cyrus-Beck ou Liang-Barsky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Tahoma"/>
              </a:rPr>
              <a:t>Ao invés de calcularmos intersecção com as linhas que definem o Window (em forma paramétrica), calculamos interseção com os planos que definem o volume canônico (também em forma paramétrica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99"/>
                </a:solidFill>
                <a:latin typeface="Tahoma"/>
              </a:rPr>
              <a:t>6.9.2. Clipping em Projeções em Perspectiva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04920" y="914400"/>
            <a:ext cx="8839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21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99"/>
                </a:solidFill>
                <a:latin typeface="Tahoma"/>
              </a:rPr>
              <a:t>6.7. Conceitos Básicos em Projeção em Perspectiva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5399400">
            <a:off x="3887280" y="1827000"/>
            <a:ext cx="3276720" cy="3736800"/>
          </a:xfrm>
          <a:prstGeom prst="parallelogram">
            <a:avLst>
              <a:gd name="adj" fmla="val 42079"/>
            </a:avLst>
          </a:prstGeom>
          <a:gradFill rotWithShape="0">
            <a:gsLst>
              <a:gs pos="0">
                <a:srgbClr val="ffffff"/>
              </a:gs>
              <a:gs pos="100000">
                <a:srgbClr val="39393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acaca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5399400">
            <a:off x="4343040" y="2438280"/>
            <a:ext cx="2286000" cy="2590560"/>
          </a:xfrm>
          <a:prstGeom prst="parallelogram">
            <a:avLst>
              <a:gd name="adj" fmla="val 42079"/>
            </a:avLst>
          </a:prstGeom>
          <a:solidFill>
            <a:srgbClr val="00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52960" y="3848040"/>
            <a:ext cx="76320" cy="76320"/>
          </a:xfrm>
          <a:prstGeom prst="ellipse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734160" y="3514680"/>
            <a:ext cx="76320" cy="76320"/>
          </a:xfrm>
          <a:prstGeom prst="ellipse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4863960" y="5295960"/>
            <a:ext cx="2438640" cy="780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5549760" y="5295960"/>
            <a:ext cx="1828800" cy="552240"/>
          </a:xfrm>
          <a:prstGeom prst="line">
            <a:avLst/>
          </a:prstGeom>
          <a:ln w="572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71080" y="6083280"/>
            <a:ext cx="34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ahoma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856120" y="5848200"/>
            <a:ext cx="71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ahoma"/>
              </a:rPr>
              <a:t>VP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05320" y="3705120"/>
            <a:ext cx="152640" cy="1526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737600" y="3352680"/>
            <a:ext cx="5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ahoma"/>
              </a:rPr>
              <a:t>C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1447560" y="3835440"/>
            <a:ext cx="3848040" cy="1574640"/>
          </a:xfrm>
          <a:prstGeom prst="line">
            <a:avLst/>
          </a:prstGeom>
          <a:ln w="57240">
            <a:solidFill>
              <a:srgbClr val="ffff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7240" y="5410080"/>
            <a:ext cx="2565720" cy="6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ahoma"/>
              </a:rPr>
              <a:t>CO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99"/>
                </a:solidFill>
                <a:latin typeface="Tahoma"/>
              </a:rPr>
              <a:t>Center of Proje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55560" y="457200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ahoma"/>
              </a:rPr>
              <a:t>DO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1447920" y="1447920"/>
            <a:ext cx="3886200" cy="3962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1447920" y="1523520"/>
            <a:ext cx="7010280" cy="3886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1523880" y="2743200"/>
            <a:ext cx="7620120" cy="2666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1447920" y="4648320"/>
            <a:ext cx="7696080" cy="761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5334120"/>
            <a:ext cx="152280" cy="152280"/>
          </a:xfrm>
          <a:prstGeom prst="ellipse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80520" y="15998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5050"/>
                </a:solidFill>
                <a:latin typeface="Tahoma"/>
              </a:rPr>
              <a:t>Projeção em Perspectiva: Pirâmide Infinita de Projeçã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417960" y="2286000"/>
            <a:ext cx="6107400" cy="7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5050"/>
                </a:solidFill>
                <a:latin typeface="Tahoma"/>
              </a:rPr>
              <a:t>Projeção determinada por raios qu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5050"/>
                </a:solidFill>
                <a:latin typeface="Tahoma"/>
              </a:rPr>
              <a:t>convergem para o centro de projeção COP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456840" y="2057400"/>
            <a:ext cx="8381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Tahoma"/>
              </a:rPr>
              <a:t>Para clipar </a:t>
            </a:r>
            <a:r>
              <a:rPr b="1" lang="pt-BR" sz="3000" spc="-1" strike="noStrike">
                <a:solidFill>
                  <a:srgbClr val="ffff99"/>
                </a:solidFill>
                <a:latin typeface="Tahoma"/>
              </a:rPr>
              <a:t>em coordenadas homogêneas</a:t>
            </a:r>
            <a:r>
              <a:rPr b="0" lang="pt-BR" sz="3000" spc="-1" strike="noStrike">
                <a:solidFill>
                  <a:srgbClr val="ffffff"/>
                </a:solidFill>
                <a:latin typeface="Tahoma"/>
              </a:rPr>
              <a:t> podemos normalizar os dados do volume canônico para transformá-lo em um paralelepípedo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Tahoma"/>
              </a:rPr>
              <a:t>Feito isto podemos utilizar uma clipagem simples e eficiente como Cohen-Sutherland ou mesmo versões mais eficientes de Liang ou Cyrus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99"/>
                </a:solidFill>
                <a:latin typeface="Tahoma"/>
              </a:rPr>
              <a:t>6.9.2. Clipping em Projeções em Perspectiva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4" name=""/>
          <p:cNvGrpSpPr/>
          <p:nvPr/>
        </p:nvGrpSpPr>
        <p:grpSpPr>
          <a:xfrm>
            <a:off x="444240" y="1981080"/>
            <a:ext cx="7506360" cy="4399560"/>
            <a:chOff x="444240" y="1981080"/>
            <a:chExt cx="7506360" cy="4399560"/>
          </a:xfrm>
        </p:grpSpPr>
        <p:sp>
          <p:nvSpPr>
            <p:cNvPr id="405" name=""/>
            <p:cNvSpPr/>
            <p:nvPr/>
          </p:nvSpPr>
          <p:spPr>
            <a:xfrm flipV="1">
              <a:off x="1219320" y="2256840"/>
              <a:ext cx="0" cy="379368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85800" y="4050360"/>
              <a:ext cx="7238880" cy="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44240" y="3569040"/>
              <a:ext cx="64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ff99"/>
                  </a:solidFill>
                  <a:latin typeface="Tahoma"/>
                </a:rPr>
                <a:t>PR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2590920" y="2256480"/>
              <a:ext cx="3352680" cy="1103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143000" y="3981600"/>
              <a:ext cx="152280" cy="13752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219320" y="4257000"/>
              <a:ext cx="3200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056400" y="1981080"/>
              <a:ext cx="232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ff99"/>
                  </a:solidFill>
                  <a:latin typeface="Tahoma"/>
                </a:rPr>
                <a:t>Plano de Projeçã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297800" y="2394720"/>
              <a:ext cx="32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99"/>
                  </a:solidFill>
                  <a:latin typeface="Tahoma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563960" y="3636360"/>
              <a:ext cx="38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99"/>
                  </a:solidFill>
                  <a:latin typeface="Tahoma"/>
                </a:rPr>
                <a:t>-z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590920" y="3360600"/>
              <a:ext cx="0" cy="1448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590920" y="4809240"/>
              <a:ext cx="3352680" cy="1172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5943600" y="2256840"/>
              <a:ext cx="0" cy="372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4419720" y="2394720"/>
              <a:ext cx="0" cy="372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363400" y="2877840"/>
              <a:ext cx="35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99"/>
                  </a:solidFill>
                  <a:latin typeface="Tahoma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365920" y="494712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99"/>
                  </a:solidFill>
                  <a:latin typeface="Tahoma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131880" y="1981080"/>
              <a:ext cx="109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99"/>
                  </a:solidFill>
                  <a:latin typeface="Tahoma"/>
                </a:rPr>
                <a:t>D </a:t>
              </a:r>
              <a:r>
                <a:rPr b="0" lang="pt-BR" sz="2000" spc="-1" strike="noStrike">
                  <a:solidFill>
                    <a:srgbClr val="ffff99"/>
                  </a:solidFill>
                  <a:latin typeface="Tahoma"/>
                </a:rPr>
                <a:t>(1, -1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139080" y="5981760"/>
              <a:ext cx="115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99"/>
                  </a:solidFill>
                  <a:latin typeface="Tahoma"/>
                </a:rPr>
                <a:t>C </a:t>
              </a:r>
              <a:r>
                <a:rPr b="0" lang="pt-BR" sz="2000" spc="-1" strike="noStrike">
                  <a:solidFill>
                    <a:srgbClr val="ffff99"/>
                  </a:solidFill>
                  <a:latin typeface="Tahoma"/>
                </a:rPr>
                <a:t>(-1, -1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658680" y="4303080"/>
              <a:ext cx="34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99"/>
                  </a:solidFill>
                  <a:latin typeface="Tahoma"/>
                </a:rPr>
                <a:t>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597040" y="3636360"/>
              <a:ext cx="5922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99"/>
                  </a:solidFill>
                  <a:latin typeface="Tahoma"/>
                </a:rPr>
                <a:t>z</a:t>
              </a:r>
              <a:r>
                <a:rPr b="1" lang="pt-BR" sz="2000" spc="-1" strike="noStrike" baseline="-25000">
                  <a:solidFill>
                    <a:srgbClr val="ffff99"/>
                  </a:solidFill>
                  <a:latin typeface="Tahoma"/>
                </a:rPr>
                <a:t>mi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28600" y="1066680"/>
            <a:ext cx="8381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52560" indent="-952560">
              <a:lnSpc>
                <a:spcPct val="9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99"/>
                </a:solidFill>
                <a:latin typeface="Tahoma"/>
              </a:rPr>
              <a:t>6.9.2. Clipping em Projeções em Perspectiva: Normalizando a pirâmide canônic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5" name=""/>
          <p:cNvGrpSpPr/>
          <p:nvPr/>
        </p:nvGrpSpPr>
        <p:grpSpPr>
          <a:xfrm>
            <a:off x="685800" y="2057400"/>
            <a:ext cx="7264800" cy="4190760"/>
            <a:chOff x="685800" y="2057400"/>
            <a:chExt cx="7264800" cy="4190760"/>
          </a:xfrm>
        </p:grpSpPr>
        <p:sp>
          <p:nvSpPr>
            <p:cNvPr id="426" name=""/>
            <p:cNvSpPr/>
            <p:nvPr/>
          </p:nvSpPr>
          <p:spPr>
            <a:xfrm flipV="1">
              <a:off x="1219320" y="2469240"/>
              <a:ext cx="0" cy="37789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85800" y="4255560"/>
              <a:ext cx="7238880" cy="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590920" y="2469600"/>
              <a:ext cx="3352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208680" y="2057400"/>
              <a:ext cx="232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ff99"/>
                  </a:solidFill>
                  <a:latin typeface="Tahoma"/>
                </a:rPr>
                <a:t>Plano de Projeçã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297800" y="2606760"/>
              <a:ext cx="32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99"/>
                  </a:solidFill>
                  <a:latin typeface="Tahoma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563960" y="3843360"/>
              <a:ext cx="38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99"/>
                  </a:solidFill>
                  <a:latin typeface="Tahoma"/>
                </a:rPr>
                <a:t>-z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590920" y="2469600"/>
              <a:ext cx="0" cy="3709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590920" y="6179400"/>
              <a:ext cx="3352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5943600" y="2469240"/>
              <a:ext cx="0" cy="3709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4267080" y="2469240"/>
              <a:ext cx="0" cy="3709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142360" y="2538360"/>
              <a:ext cx="41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99"/>
                  </a:solidFill>
                  <a:latin typeface="Tahoma"/>
                </a:rPr>
                <a:t>A’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144520" y="5836320"/>
              <a:ext cx="406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99"/>
                  </a:solidFill>
                  <a:latin typeface="Tahoma"/>
                </a:rPr>
                <a:t>B’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131880" y="2469600"/>
              <a:ext cx="109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99"/>
                  </a:solidFill>
                  <a:latin typeface="Tahoma"/>
                </a:rPr>
                <a:t>D </a:t>
              </a:r>
              <a:r>
                <a:rPr b="0" lang="pt-BR" sz="2000" spc="-1" strike="noStrike">
                  <a:solidFill>
                    <a:srgbClr val="ffff99"/>
                  </a:solidFill>
                  <a:latin typeface="Tahoma"/>
                </a:rPr>
                <a:t>(1, -1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139080" y="5767200"/>
              <a:ext cx="115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99"/>
                  </a:solidFill>
                  <a:latin typeface="Tahoma"/>
                </a:rPr>
                <a:t>C </a:t>
              </a:r>
              <a:r>
                <a:rPr b="0" lang="pt-BR" sz="2000" spc="-1" strike="noStrike">
                  <a:solidFill>
                    <a:srgbClr val="ffff99"/>
                  </a:solidFill>
                  <a:latin typeface="Tahoma"/>
                </a:rPr>
                <a:t>(-1, -1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597040" y="3843360"/>
              <a:ext cx="5922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99"/>
                  </a:solidFill>
                  <a:latin typeface="Tahoma"/>
                </a:rPr>
                <a:t>z</a:t>
              </a:r>
              <a:r>
                <a:rPr b="1" lang="pt-BR" sz="2000" spc="-1" strike="noStrike" baseline="-25000">
                  <a:solidFill>
                    <a:srgbClr val="ffff99"/>
                  </a:solidFill>
                  <a:latin typeface="Tahoma"/>
                </a:rPr>
                <a:t>mi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1" name=""/>
          <p:cNvSpPr/>
          <p:nvPr/>
        </p:nvSpPr>
        <p:spPr>
          <a:xfrm>
            <a:off x="228600" y="1066680"/>
            <a:ext cx="8381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52560" indent="-952560">
              <a:lnSpc>
                <a:spcPct val="9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99"/>
                </a:solidFill>
                <a:latin typeface="Tahoma"/>
              </a:rPr>
              <a:t>6.9.2. Clipping em Projeções em Perspectiva: Normalizando a pirâmide canônic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52560"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99"/>
                </a:solidFill>
                <a:latin typeface="Tahoma"/>
              </a:rPr>
              <a:t>6.9.2. Clipping em Projeções em Perspectiva: Normalizando a pirâmide canônica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3" name="formula6-8" descr="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/>
          </p:nvPr>
        </p:nvSpPr>
        <p:spPr>
          <a:xfrm>
            <a:off x="30456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Superfícies Bicúbicas 3D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952560" indent="-28260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380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Tahoma"/>
              </a:rPr>
              <a:t>Spline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952560" indent="-28260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380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Tahoma"/>
              </a:rPr>
              <a:t>Bézier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Exercício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Implemente projeção em perspectiva realizando Clipping somente em 2D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"/>
          <p:cNvSpPr/>
          <p:nvPr/>
        </p:nvSpPr>
        <p:spPr>
          <a:xfrm>
            <a:off x="304920" y="914400"/>
            <a:ext cx="8839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1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99"/>
                </a:solidFill>
                <a:latin typeface="Tahoma"/>
              </a:rPr>
              <a:t>6.10. Próxima Aula: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3535200" y="2354400"/>
          <a:ext cx="2071800" cy="21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35200" y="2354400"/>
                    <a:ext cx="2071800" cy="21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2805120" y="1649520"/>
          <a:ext cx="3532320" cy="3557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05120" y="1649520"/>
                    <a:ext cx="3532320" cy="35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1935000" y="919080"/>
          <a:ext cx="5274000" cy="5019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35000" y="919080"/>
                    <a:ext cx="5274000" cy="501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1600200" y="609480"/>
          <a:ext cx="5477040" cy="5631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00200" y="609480"/>
                    <a:ext cx="5477040" cy="563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1666800" y="861840"/>
          <a:ext cx="5808600" cy="5134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66800" y="861840"/>
                    <a:ext cx="5808600" cy="513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304920" y="914400"/>
            <a:ext cx="8839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1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99"/>
                </a:solidFill>
                <a:latin typeface="Tahoma"/>
              </a:rPr>
              <a:t>6.7. Projeção em Perspectiva (Impressão Visual)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49840" y="4191120"/>
            <a:ext cx="5542200" cy="7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5050"/>
                </a:solidFill>
                <a:latin typeface="Tahoma"/>
              </a:rPr>
              <a:t>Objetos distantes aparecem menores,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5050"/>
                </a:solidFill>
                <a:latin typeface="Tahoma"/>
              </a:rPr>
              <a:t>desvanecedndo à distância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73600" y="5943600"/>
            <a:ext cx="7683480" cy="328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5050"/>
                </a:solidFill>
                <a:latin typeface="Tahoma"/>
              </a:rPr>
              <a:t>Objetos distorcem-se quando vistos de forma oblíqua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533520" y="878040"/>
          <a:ext cx="7162560" cy="53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878040"/>
                    <a:ext cx="7162560" cy="53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685800" y="1066680"/>
          <a:ext cx="7391520" cy="5294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1066680"/>
                    <a:ext cx="7391520" cy="529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762120" y="1066680"/>
          <a:ext cx="7162560" cy="5335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1066680"/>
                    <a:ext cx="7162560" cy="533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304920" y="914400"/>
            <a:ext cx="8839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1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99"/>
                </a:solidFill>
                <a:latin typeface="Tahoma"/>
              </a:rPr>
              <a:t>6.7. Projeção em Perspectiva (Plano de Projeção)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280" y="9903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99"/>
                </a:solidFill>
                <a:latin typeface="Tahoma"/>
              </a:rPr>
              <a:t>6.7. Projeção em Perspectiva (Projeção dos Pontos)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7296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Tahoma"/>
              </a:rPr>
              <a:t>A)Realizamos os 3 primeiros passos do método para projeção paralela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9392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Tahoma"/>
              </a:rPr>
              <a:t>1.</a:t>
            </a:r>
            <a:r>
              <a:rPr b="0" lang="pt-BR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200" spc="-1" strike="noStrike">
                <a:solidFill>
                  <a:srgbClr val="ffffff"/>
                </a:solidFill>
                <a:latin typeface="Tahoma"/>
              </a:rPr>
              <a:t>Translade </a:t>
            </a:r>
            <a:r>
              <a:rPr b="1" lang="pt-BR" sz="3000" spc="-1" strike="noStrike">
                <a:solidFill>
                  <a:srgbClr val="ff5050"/>
                </a:solidFill>
                <a:latin typeface="Tahoma"/>
              </a:rPr>
              <a:t>COP</a:t>
            </a:r>
            <a:r>
              <a:rPr b="0" lang="pt-BR" sz="2200" spc="-1" strike="noStrike">
                <a:solidFill>
                  <a:srgbClr val="ffffff"/>
                </a:solidFill>
                <a:latin typeface="Tahoma"/>
              </a:rPr>
              <a:t> para a origem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9392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Tahoma"/>
              </a:rPr>
              <a:t>2.</a:t>
            </a:r>
            <a:r>
              <a:rPr b="0" lang="pt-BR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200" spc="-1" strike="noStrike">
                <a:solidFill>
                  <a:srgbClr val="ffffff"/>
                </a:solidFill>
                <a:latin typeface="Tahoma"/>
              </a:rPr>
              <a:t>Determine VPN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1350360" indent="-223920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Decomponha e determine os ângulos de VPN com X e 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392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Tahoma"/>
              </a:rPr>
              <a:t>3.</a:t>
            </a:r>
            <a:r>
              <a:rPr b="0" lang="pt-BR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200" spc="-1" strike="noStrike">
                <a:solidFill>
                  <a:srgbClr val="ffffff"/>
                </a:solidFill>
                <a:latin typeface="Tahoma"/>
              </a:rPr>
              <a:t>Rotacione o mundo em torno de X e Y de forma a alinhar VPN com o eixo Z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296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Tahoma"/>
              </a:rPr>
              <a:t>B)Projetamos uma linha imaginária de cada ponto do objeto ao </a:t>
            </a:r>
            <a:r>
              <a:rPr b="1" lang="pt-BR" sz="3000" spc="-1" strike="noStrike">
                <a:solidFill>
                  <a:srgbClr val="ff5050"/>
                </a:solidFill>
                <a:latin typeface="Tahoma"/>
              </a:rPr>
              <a:t>COP</a:t>
            </a:r>
            <a:r>
              <a:rPr b="0" lang="pt-BR" sz="3000" spc="-1" strike="noStrike">
                <a:solidFill>
                  <a:srgbClr val="ffffff"/>
                </a:solidFill>
                <a:latin typeface="Tahoma"/>
              </a:rPr>
              <a:t> e calculamos a intersecção com o Plano de Projeção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0" y="1308240"/>
          <a:ext cx="9144000" cy="530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08240"/>
                    <a:ext cx="9144000" cy="53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8" name=""/>
          <p:cNvGrpSpPr/>
          <p:nvPr/>
        </p:nvGrpSpPr>
        <p:grpSpPr>
          <a:xfrm>
            <a:off x="228600" y="914400"/>
            <a:ext cx="9144000" cy="5672160"/>
            <a:chOff x="228600" y="914400"/>
            <a:chExt cx="9144000" cy="5672160"/>
          </a:xfrm>
        </p:grpSpPr>
        <p:grpSp>
          <p:nvGrpSpPr>
            <p:cNvPr id="159" name=""/>
            <p:cNvGrpSpPr/>
            <p:nvPr/>
          </p:nvGrpSpPr>
          <p:grpSpPr>
            <a:xfrm>
              <a:off x="228600" y="914400"/>
              <a:ext cx="9144000" cy="5672160"/>
              <a:chOff x="228600" y="914400"/>
              <a:chExt cx="9144000" cy="5672160"/>
            </a:xfrm>
          </p:grpSpPr>
          <p:grpSp>
            <p:nvGrpSpPr>
              <p:cNvPr id="160" name=""/>
              <p:cNvGrpSpPr/>
              <p:nvPr/>
            </p:nvGrpSpPr>
            <p:grpSpPr>
              <a:xfrm>
                <a:off x="228600" y="914400"/>
                <a:ext cx="9144000" cy="5672160"/>
                <a:chOff x="228600" y="914400"/>
                <a:chExt cx="9144000" cy="5672160"/>
              </a:xfrm>
            </p:grpSpPr>
            <p:graphicFrame>
              <p:nvGraphicFramePr>
                <p:cNvPr id="161" name=""/>
                <p:cNvGraphicFramePr/>
                <p:nvPr/>
              </p:nvGraphicFramePr>
              <p:xfrm>
                <a:off x="228600" y="914400"/>
                <a:ext cx="9144000" cy="567216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162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228600" y="914400"/>
                          <a:ext cx="9144000" cy="56721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163" name=""/>
                <p:cNvSpPr/>
                <p:nvPr/>
              </p:nvSpPr>
              <p:spPr>
                <a:xfrm>
                  <a:off x="4432320" y="1143000"/>
                  <a:ext cx="279360" cy="5257800"/>
                </a:xfrm>
                <a:prstGeom prst="line">
                  <a:avLst/>
                </a:prstGeom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4" name=""/>
              <p:cNvSpPr/>
              <p:nvPr/>
            </p:nvSpPr>
            <p:spPr>
              <a:xfrm>
                <a:off x="235080" y="3505320"/>
                <a:ext cx="75672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6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200" spc="-1" strike="noStrike">
                    <a:solidFill>
                      <a:srgbClr val="ffff99"/>
                    </a:solidFill>
                    <a:latin typeface="Tahoma"/>
                  </a:rPr>
                  <a:t>COP</a:t>
                </a: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279360" y="4064040"/>
              <a:ext cx="152280" cy="15228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152280" y="888840"/>
            <a:ext cx="8686800" cy="609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62120" indent="-76212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99"/>
                </a:solidFill>
                <a:latin typeface="Tahoma"/>
              </a:rPr>
              <a:t>6.7. Projeção em Perspectiva (Projeção dos Pontos)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2280" y="9903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99"/>
                </a:solidFill>
                <a:latin typeface="Tahoma"/>
              </a:rPr>
              <a:t>6.7. Projeção em Perspectiva (Projeção dos Pontos)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72960" indent="-37296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Tahoma"/>
              </a:rPr>
              <a:t>O cálculo a intersecção da linha P(x,y,z) </a:t>
            </a:r>
            <a:r>
              <a:rPr b="1" lang="pt-BR" sz="3000" spc="-1" strike="noStrike">
                <a:solidFill>
                  <a:srgbClr val="ff5050"/>
                </a:solidFill>
                <a:latin typeface="Tahoma"/>
              </a:rPr>
              <a:t>COP</a:t>
            </a:r>
            <a:r>
              <a:rPr b="0" lang="pt-BR" sz="3000" spc="-1" strike="noStrike">
                <a:solidFill>
                  <a:srgbClr val="ffffff"/>
                </a:solidFill>
                <a:latin typeface="Tahoma"/>
              </a:rPr>
              <a:t>  com o Plano de Projeção pode ser realizado  de duas formas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939240" indent="-379080"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5050"/>
                </a:solidFill>
                <a:latin typeface="Tahoma"/>
              </a:rPr>
              <a:t>Especial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: Supomos COP na origem e podemos reduzir o cálculo a duas fórmulas (projeções </a:t>
            </a:r>
            <a:r>
              <a:rPr b="1" lang="pt-BR" sz="2600" spc="-1" strike="noStrike">
                <a:solidFill>
                  <a:srgbClr val="ffff99"/>
                </a:solidFill>
                <a:latin typeface="Tahoma"/>
              </a:rPr>
              <a:t>x</a:t>
            </a:r>
            <a:r>
              <a:rPr b="1" lang="pt-BR" sz="2600" spc="-1" strike="noStrike" baseline="-25000">
                <a:solidFill>
                  <a:srgbClr val="ffff99"/>
                </a:solidFill>
                <a:latin typeface="Tahoma"/>
              </a:rPr>
              <a:t>p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 e </a:t>
            </a:r>
            <a:r>
              <a:rPr b="1" lang="pt-BR" sz="2600" spc="-1" strike="noStrike">
                <a:solidFill>
                  <a:srgbClr val="ffff99"/>
                </a:solidFill>
                <a:latin typeface="Tahoma"/>
              </a:rPr>
              <a:t>y</a:t>
            </a:r>
            <a:r>
              <a:rPr b="1" lang="pt-BR" sz="2600" spc="-1" strike="noStrike" baseline="-25000">
                <a:solidFill>
                  <a:srgbClr val="ffff99"/>
                </a:solidFill>
                <a:latin typeface="Tahoma"/>
              </a:rPr>
              <a:t>p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) ou uma matriz homogênea </a:t>
            </a:r>
            <a:r>
              <a:rPr b="1" lang="pt-BR" sz="2600" spc="-1" strike="noStrike">
                <a:solidFill>
                  <a:srgbClr val="ffff99"/>
                </a:solidFill>
                <a:latin typeface="Tahoma"/>
              </a:rPr>
              <a:t>M</a:t>
            </a:r>
            <a:r>
              <a:rPr b="1" lang="pt-BR" sz="2600" spc="-1" strike="noStrike" baseline="-25000">
                <a:solidFill>
                  <a:srgbClr val="ffff99"/>
                </a:solidFill>
                <a:latin typeface="Tahoma"/>
              </a:rPr>
              <a:t>PER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939240" indent="-379080"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5050"/>
                </a:solidFill>
                <a:latin typeface="Tahoma"/>
              </a:rPr>
              <a:t>Geral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: COP está em qualquer lugar, porém o Plano de Projeção é perpendicular a </a:t>
            </a:r>
            <a:r>
              <a:rPr b="1" lang="pt-BR" sz="2600" spc="-1" strike="noStrike">
                <a:solidFill>
                  <a:srgbClr val="ffff99"/>
                </a:solidFill>
                <a:latin typeface="Tahoma"/>
              </a:rPr>
              <a:t>z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. Neste caso podemos usar uma matriz </a:t>
            </a:r>
            <a:r>
              <a:rPr b="1" lang="pt-BR" sz="2600" spc="-1" strike="noStrike">
                <a:solidFill>
                  <a:srgbClr val="ffff99"/>
                </a:solidFill>
                <a:latin typeface="Tahoma"/>
              </a:rPr>
              <a:t>M</a:t>
            </a:r>
            <a:r>
              <a:rPr b="1" lang="pt-BR" sz="2600" spc="-1" strike="noStrike" baseline="-25000">
                <a:solidFill>
                  <a:srgbClr val="ffff99"/>
                </a:solidFill>
                <a:latin typeface="Tahoma"/>
              </a:rPr>
              <a:t>GER 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que é o caso geral de </a:t>
            </a:r>
            <a:r>
              <a:rPr b="1" lang="pt-BR" sz="2600" spc="-1" strike="noStrike">
                <a:solidFill>
                  <a:srgbClr val="ffff99"/>
                </a:solidFill>
                <a:latin typeface="Tahoma"/>
              </a:rPr>
              <a:t>M</a:t>
            </a:r>
            <a:r>
              <a:rPr b="1" lang="pt-BR" sz="2600" spc="-1" strike="noStrike" baseline="-25000">
                <a:solidFill>
                  <a:srgbClr val="ffff99"/>
                </a:solidFill>
                <a:latin typeface="Tahoma"/>
              </a:rPr>
              <a:t>PER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6095880" y="1676520"/>
            <a:ext cx="228600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 flipV="1">
            <a:off x="1523880" y="1752120"/>
            <a:ext cx="0" cy="18018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4648320" y="1723680"/>
            <a:ext cx="0" cy="1801800"/>
          </a:xfrm>
          <a:prstGeom prst="line">
            <a:avLst/>
          </a:prstGeom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66680" y="3525840"/>
            <a:ext cx="6629400" cy="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08480" y="1996920"/>
            <a:ext cx="100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99"/>
                </a:solidFill>
                <a:latin typeface="Tahoma"/>
              </a:rPr>
              <a:t>P(x,y,z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2680" y="3057480"/>
            <a:ext cx="69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99"/>
                </a:solidFill>
                <a:latin typeface="Tahoma"/>
              </a:rPr>
              <a:t>CO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1523880" y="2457360"/>
            <a:ext cx="5639040" cy="1068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124520" y="2523960"/>
            <a:ext cx="421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ahoma"/>
              </a:rPr>
              <a:t>x</a:t>
            </a:r>
            <a:r>
              <a:rPr b="1" lang="pt-BR" sz="2000" spc="-1" strike="noStrike" baseline="-25000">
                <a:solidFill>
                  <a:srgbClr val="ffff99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447920" y="3459240"/>
            <a:ext cx="152280" cy="1332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086600" y="2390760"/>
            <a:ext cx="152280" cy="1332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2857680"/>
            <a:ext cx="152280" cy="1332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23880" y="3726000"/>
            <a:ext cx="31244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896560" y="3792600"/>
            <a:ext cx="3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ahoma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656600" y="1523880"/>
            <a:ext cx="232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99"/>
                </a:solidFill>
                <a:latin typeface="Tahoma"/>
              </a:rPr>
              <a:t>Plano de Proje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04880" y="1752480"/>
            <a:ext cx="3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ahoma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321680" y="312408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ahoma"/>
              </a:rPr>
              <a:t>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55680" y="82548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62120" indent="-76212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99"/>
                </a:solidFill>
                <a:latin typeface="Tahoma"/>
              </a:rPr>
              <a:t>6.7. Projeção em Perspectiva (Caso Especial)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742680" y="4206960"/>
            <a:ext cx="7059600" cy="2001240"/>
            <a:chOff x="742680" y="4206960"/>
            <a:chExt cx="7059600" cy="2001240"/>
          </a:xfrm>
        </p:grpSpPr>
        <p:sp>
          <p:nvSpPr>
            <p:cNvPr id="187" name=""/>
            <p:cNvSpPr/>
            <p:nvPr/>
          </p:nvSpPr>
          <p:spPr>
            <a:xfrm>
              <a:off x="1549440" y="4406760"/>
              <a:ext cx="0" cy="180036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92240" y="4392720"/>
              <a:ext cx="6629400" cy="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549440" y="4406760"/>
              <a:ext cx="5638680" cy="1067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1473120" y="4339440"/>
              <a:ext cx="152640" cy="13356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7112160" y="5407200"/>
              <a:ext cx="152280" cy="13320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4597560" y="4940280"/>
              <a:ext cx="152280" cy="13320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549440" y="4206960"/>
              <a:ext cx="3124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42680" y="4591080"/>
              <a:ext cx="69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ff99"/>
                  </a:solidFill>
                  <a:latin typeface="Tahoma"/>
                </a:rPr>
                <a:t>CO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473960" y="4524480"/>
              <a:ext cx="30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99"/>
                  </a:solidFill>
                  <a:latin typeface="Tahoma"/>
                </a:rPr>
                <a:t>z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795720" y="5659560"/>
              <a:ext cx="100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ff99"/>
                  </a:solidFill>
                  <a:latin typeface="Tahoma"/>
                </a:rPr>
                <a:t>P(x,y,z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294280" y="5526000"/>
              <a:ext cx="232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ff99"/>
                  </a:solidFill>
                  <a:latin typeface="Tahoma"/>
                </a:rPr>
                <a:t>Plano de Projeçã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564200" y="5638680"/>
              <a:ext cx="32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99"/>
                  </a:solidFill>
                  <a:latin typeface="Tahoma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262040" y="4959360"/>
              <a:ext cx="4183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99"/>
                  </a:solidFill>
                  <a:latin typeface="Tahoma"/>
                </a:rPr>
                <a:t>y</a:t>
              </a:r>
              <a:r>
                <a:rPr b="1" lang="pt-BR" sz="2000" spc="-1" strike="noStrike" baseline="-25000">
                  <a:solidFill>
                    <a:srgbClr val="ffff99"/>
                  </a:solidFill>
                  <a:latin typeface="Tahoma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4686480" y="4406400"/>
              <a:ext cx="0" cy="1801800"/>
            </a:xfrm>
            <a:prstGeom prst="line">
              <a:avLst/>
            </a:prstGeom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26T23:05:24Z</dcterms:created>
  <dc:creator>Prof. Dr. rer. nat. Aldo v. Wangenheim</dc:creator>
  <dc:description/>
  <dc:language>en-US</dc:language>
  <cp:lastModifiedBy> </cp:lastModifiedBy>
  <dcterms:modified xsi:type="dcterms:W3CDTF">2001-05-08T13:30:00Z</dcterms:modified>
  <cp:revision>594</cp:revision>
  <dc:subject/>
  <dc:title>Integração de Gerência e Análise Informatizada de Imagens em Sistemas de Informatização Hospitalar  Prof. Dr. rer.nat. Aldo von Wangenheim</dc:title>
</cp:coreProperties>
</file>