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8A536-D7CC-4687-9668-5937EA19E7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381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4246920"/>
            <a:ext cx="8381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35EE2-6E45-416D-85E8-F7B90CA609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52000" y="205740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24692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52000" y="424692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223D7-5DD9-4207-B4BA-8630BDEB14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2698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90760" y="2057400"/>
            <a:ext cx="2698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4680" y="2057400"/>
            <a:ext cx="2698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4246920"/>
            <a:ext cx="2698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90760" y="4246920"/>
            <a:ext cx="2698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4680" y="4246920"/>
            <a:ext cx="2698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6570E-F49F-4617-83AB-2C2E35783A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205740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4090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2000" y="2057400"/>
            <a:ext cx="4090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6840" y="990360"/>
            <a:ext cx="838188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2000" y="2057400"/>
            <a:ext cx="4090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424692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205740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BDCC8-6145-429F-AE40-E87EC1E8AF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4090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2000" y="205740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52000" y="424692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2000" y="205740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4246920"/>
            <a:ext cx="8381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381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840" y="4246920"/>
            <a:ext cx="8381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2000" y="205740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424692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52000" y="424692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2698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0760" y="2057400"/>
            <a:ext cx="2698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24680" y="2057400"/>
            <a:ext cx="2698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6840" y="4246920"/>
            <a:ext cx="2698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0760" y="4246920"/>
            <a:ext cx="2698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24680" y="4246920"/>
            <a:ext cx="2698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C83EF-00EA-433F-A9FB-75BC750295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4090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52000" y="2057400"/>
            <a:ext cx="4090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4C2C8-45FB-4009-8437-389C9B3AFD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F05FA-8465-44AF-B7D8-2C7A5A3D45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990360"/>
            <a:ext cx="838188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3C214-D8DB-4259-AC9D-D446E770BF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2000" y="2057400"/>
            <a:ext cx="4090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424692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33F50-D9AC-4E0B-8A5B-9F14ACDA5B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4090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2000" y="205740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52000" y="424692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F0E7C-AFA5-4E5B-9125-A9F211417D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2000" y="205740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4246920"/>
            <a:ext cx="8381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82BC8-FDE2-4818-97E2-A890022C34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205740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16680" indent="-23724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948600" indent="-1897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328040" indent="-1897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707480" indent="-1897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707480" indent="-1897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707480" indent="-1897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A6514-AC0B-490B-9060-7D59477144AD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566680" y="203040"/>
            <a:ext cx="25063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Tahoma"/>
              </a:rPr>
              <a:t>Disciplina Computação Gráf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Tahoma"/>
              </a:rPr>
              <a:t>Curso de Ciência da Camputação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Tahoma"/>
              </a:rPr>
              <a:t>INE/CTC/UFS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cyclops2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90720" cy="6192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1134000" y="203040"/>
            <a:ext cx="2782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Tahoma"/>
              </a:rPr>
              <a:t>The Cyclops Proj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ffffff"/>
                </a:solidFill>
                <a:latin typeface="Tahoma"/>
              </a:rPr>
              <a:t>German-Brazilian Cooperation Programme on I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ffffff"/>
                </a:solidFill>
                <a:latin typeface="Tahoma"/>
              </a:rPr>
              <a:t>CNPq GMD DLR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sgi3d" descr=""/>
          <p:cNvPicPr/>
          <p:nvPr/>
        </p:nvPicPr>
        <p:blipFill>
          <a:blip r:embed="rId3"/>
          <a:stretch/>
        </p:blipFill>
        <p:spPr>
          <a:xfrm>
            <a:off x="8077320" y="0"/>
            <a:ext cx="1066680" cy="10429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28600" y="6553080"/>
            <a:ext cx="807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rof. Dr. rer.nat. Aldo v. Wangenheim - Departamento de Informática e Estatística - INE/CTC/UFS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gi3d" descr=""/>
          <p:cNvPicPr/>
          <p:nvPr/>
        </p:nvPicPr>
        <p:blipFill>
          <a:blip r:embed="rId2"/>
          <a:stretch/>
        </p:blipFill>
        <p:spPr>
          <a:xfrm>
            <a:off x="2133720" y="1297080"/>
            <a:ext cx="5105160" cy="49957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" name="cyclops2" descr=""/>
          <p:cNvPicPr/>
          <p:nvPr/>
        </p:nvPicPr>
        <p:blipFill>
          <a:blip r:embed="rId3"/>
          <a:stretch/>
        </p:blipFill>
        <p:spPr>
          <a:xfrm>
            <a:off x="7543800" y="0"/>
            <a:ext cx="1600200" cy="1000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997080" y="152280"/>
            <a:ext cx="36662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ahoma"/>
              </a:rPr>
              <a:t>The Cyclops Proje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</a:rPr>
              <a:t>German-Brazilian Cooperation Programme on 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</a:rPr>
              <a:t>CNPq GMD DL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lnSpc>
                <a:spcPct val="75000"/>
              </a:lnSpc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lnSpc>
                <a:spcPct val="75000"/>
              </a:lnSpc>
              <a:spcBef>
                <a:spcPts val="675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09480" y="6535800"/>
            <a:ext cx="80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Departamento de Informática e Estatística - INE/CTC/UFS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1760" y="3047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mputação Gráfica:</a:t>
            </a:r>
            <a:br>
              <a:rPr sz="4000"/>
            </a:br>
            <a:br>
              <a:rPr sz="40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Aula 6: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epresentação 3D</a:t>
            </a:r>
            <a:br>
              <a:rPr sz="40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arte 2: Projeções Paralelas </a:t>
            </a:r>
            <a:br>
              <a:rPr sz="4800"/>
            </a:br>
            <a:br>
              <a:rPr sz="40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f. Dr. rer.nat. Aldo von Wangenhei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04920" y="914400"/>
            <a:ext cx="8839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Tahoma"/>
              </a:rPr>
              <a:t>6.6. Projeção Paralela Ortogonal </a:t>
            </a:r>
            <a:r>
              <a:rPr b="0" lang="en-US" sz="2500" spc="-1" strike="noStrike">
                <a:solidFill>
                  <a:srgbClr val="ffff99"/>
                </a:solidFill>
                <a:latin typeface="Tahoma"/>
              </a:rPr>
              <a:t>(Objeto Rotacionado)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5399400">
            <a:off x="3466800" y="1562040"/>
            <a:ext cx="4267080" cy="4953240"/>
          </a:xfrm>
          <a:prstGeom prst="parallelogram">
            <a:avLst>
              <a:gd name="adj" fmla="val 42079"/>
            </a:avLst>
          </a:prstGeom>
          <a:gradFill rotWithShape="0">
            <a:gsLst>
              <a:gs pos="0">
                <a:srgbClr val="ffffff"/>
              </a:gs>
              <a:gs pos="100000">
                <a:srgbClr val="39393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acaca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5399400">
            <a:off x="3809880" y="1981080"/>
            <a:ext cx="3429000" cy="4038480"/>
          </a:xfrm>
          <a:prstGeom prst="parallelogram">
            <a:avLst>
              <a:gd name="adj" fmla="val 42079"/>
            </a:avLst>
          </a:prstGeom>
          <a:solidFill>
            <a:srgbClr val="0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131480" y="4035240"/>
            <a:ext cx="1534680" cy="2055960"/>
            <a:chOff x="1131480" y="4035240"/>
            <a:chExt cx="1534680" cy="2055960"/>
          </a:xfrm>
        </p:grpSpPr>
        <p:sp>
          <p:nvSpPr>
            <p:cNvPr id="206" name=""/>
            <p:cNvSpPr/>
            <p:nvPr/>
          </p:nvSpPr>
          <p:spPr>
            <a:xfrm rot="11775600">
              <a:off x="1285920" y="4181400"/>
              <a:ext cx="1225800" cy="1275120"/>
            </a:xfrm>
            <a:prstGeom prst="parallelogram">
              <a:avLst>
                <a:gd name="adj" fmla="val 42079"/>
              </a:avLst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31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11775600">
              <a:off x="1285200" y="4669920"/>
              <a:ext cx="1225800" cy="1275120"/>
            </a:xfrm>
            <a:prstGeom prst="parallelogram">
              <a:avLst>
                <a:gd name="adj" fmla="val 42079"/>
              </a:avLst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31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2665440" y="4378680"/>
              <a:ext cx="720" cy="4885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19080" y="5458320"/>
              <a:ext cx="360" cy="4885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1979640" y="4178520"/>
              <a:ext cx="360" cy="4885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1131840" y="5258160"/>
              <a:ext cx="720" cy="4881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141200" y="3352680"/>
            <a:ext cx="4576680" cy="2590920"/>
            <a:chOff x="1141200" y="3352680"/>
            <a:chExt cx="4576680" cy="2590920"/>
          </a:xfrm>
        </p:grpSpPr>
        <p:grpSp>
          <p:nvGrpSpPr>
            <p:cNvPr id="213" name=""/>
            <p:cNvGrpSpPr/>
            <p:nvPr/>
          </p:nvGrpSpPr>
          <p:grpSpPr>
            <a:xfrm>
              <a:off x="1141200" y="3352680"/>
              <a:ext cx="4572000" cy="2590920"/>
              <a:chOff x="1141200" y="3352680"/>
              <a:chExt cx="4572000" cy="2590920"/>
            </a:xfrm>
          </p:grpSpPr>
          <p:sp>
            <p:nvSpPr>
              <p:cNvPr id="214" name=""/>
              <p:cNvSpPr/>
              <p:nvPr/>
            </p:nvSpPr>
            <p:spPr>
              <a:xfrm flipH="1">
                <a:off x="1979280" y="3352680"/>
                <a:ext cx="2895480" cy="838440"/>
              </a:xfrm>
              <a:prstGeom prst="line">
                <a:avLst/>
              </a:prstGeom>
              <a:ln w="12600">
                <a:solidFill>
                  <a:srgbClr val="ffff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2665080" y="3581280"/>
                <a:ext cx="2895480" cy="838440"/>
              </a:xfrm>
              <a:prstGeom prst="line">
                <a:avLst/>
              </a:prstGeom>
              <a:ln w="12600">
                <a:solidFill>
                  <a:srgbClr val="ffff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>
                <a:off x="2665080" y="3962520"/>
                <a:ext cx="2895480" cy="914400"/>
              </a:xfrm>
              <a:prstGeom prst="line">
                <a:avLst/>
              </a:prstGeom>
              <a:ln w="12600">
                <a:solidFill>
                  <a:srgbClr val="ffff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>
                <a:off x="1979280" y="3809880"/>
                <a:ext cx="2895480" cy="851040"/>
              </a:xfrm>
              <a:prstGeom prst="line">
                <a:avLst/>
              </a:prstGeom>
              <a:ln w="12600">
                <a:solidFill>
                  <a:srgbClr val="ffff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1827000" y="4648320"/>
                <a:ext cx="3886200" cy="1295280"/>
              </a:xfrm>
              <a:prstGeom prst="line">
                <a:avLst/>
              </a:prstGeom>
              <a:ln w="12600">
                <a:solidFill>
                  <a:srgbClr val="ffff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1141200" y="4495680"/>
                <a:ext cx="3886200" cy="1244880"/>
              </a:xfrm>
              <a:prstGeom prst="line">
                <a:avLst/>
              </a:prstGeom>
              <a:ln w="12600">
                <a:solidFill>
                  <a:srgbClr val="ffff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4875120" y="3352680"/>
              <a:ext cx="842760" cy="1295640"/>
              <a:chOff x="4875120" y="3352680"/>
              <a:chExt cx="842760" cy="1295640"/>
            </a:xfrm>
          </p:grpSpPr>
          <p:grpSp>
            <p:nvGrpSpPr>
              <p:cNvPr id="221" name=""/>
              <p:cNvGrpSpPr/>
              <p:nvPr/>
            </p:nvGrpSpPr>
            <p:grpSpPr>
              <a:xfrm>
                <a:off x="4876920" y="3352680"/>
                <a:ext cx="840960" cy="1295280"/>
                <a:chOff x="4876920" y="3352680"/>
                <a:chExt cx="840960" cy="1295280"/>
              </a:xfrm>
            </p:grpSpPr>
            <p:sp>
              <p:nvSpPr>
                <p:cNvPr id="222" name=""/>
                <p:cNvSpPr/>
                <p:nvPr/>
              </p:nvSpPr>
              <p:spPr>
                <a:xfrm rot="5399400">
                  <a:off x="4916520" y="3312720"/>
                  <a:ext cx="609480" cy="689040"/>
                </a:xfrm>
                <a:prstGeom prst="parallelogram">
                  <a:avLst>
                    <a:gd name="adj" fmla="val 32551"/>
                  </a:avLst>
                </a:prstGeom>
                <a:noFill/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31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rot="5399400">
                  <a:off x="5107680" y="4037760"/>
                  <a:ext cx="533160" cy="687240"/>
                </a:xfrm>
                <a:prstGeom prst="parallelogram">
                  <a:avLst>
                    <a:gd name="adj" fmla="val 29463"/>
                  </a:avLst>
                </a:prstGeom>
                <a:noFill/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31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4875120" y="3429000"/>
                <a:ext cx="838440" cy="1219320"/>
                <a:chOff x="4875120" y="3429000"/>
                <a:chExt cx="838440" cy="121932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548320" y="3556080"/>
                  <a:ext cx="152280" cy="685800"/>
                </a:xfrm>
                <a:prstGeom prst="line">
                  <a:avLst/>
                </a:prstGeom>
                <a:ln w="936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4875120" y="3809880"/>
                  <a:ext cx="152640" cy="685800"/>
                </a:xfrm>
                <a:prstGeom prst="line">
                  <a:avLst/>
                </a:prstGeom>
                <a:ln w="936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5560920" y="3962520"/>
                  <a:ext cx="152640" cy="685800"/>
                </a:xfrm>
                <a:prstGeom prst="line">
                  <a:avLst/>
                </a:prstGeom>
                <a:ln w="936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4875120" y="3429000"/>
                  <a:ext cx="152640" cy="685800"/>
                </a:xfrm>
                <a:prstGeom prst="line">
                  <a:avLst/>
                </a:prstGeom>
                <a:ln w="936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304560" y="1599840"/>
            <a:ext cx="8839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65400"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Translade VRP para a origem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65400"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Determine VP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271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380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Decomponha e determine os ângulos de VPN com X e Y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65400"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Rotacione o mundo em torno de X e Y de forma a alinhar VPN com o eixo Z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65400"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4.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Ignore todas as coordenadas Z dos objeto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65400"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5.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Normalize os resto (coordenadas de window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65400"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6.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Clipp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65400"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7.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Transforme para coordenadas de Viewport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914400"/>
            <a:ext cx="8839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1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Tahoma"/>
              </a:rPr>
              <a:t>6.6. Algoritmo Projeção Paralela Ortogonal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 flipH="1">
            <a:off x="1294920" y="4114800"/>
            <a:ext cx="3048120" cy="1905120"/>
          </a:xfrm>
          <a:prstGeom prst="line">
            <a:avLst/>
          </a:prstGeom>
          <a:ln w="284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343400" y="1218960"/>
            <a:ext cx="0" cy="2895480"/>
          </a:xfrm>
          <a:prstGeom prst="line">
            <a:avLst/>
          </a:prstGeom>
          <a:ln w="284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4114800"/>
            <a:ext cx="3124080" cy="1905120"/>
          </a:xfrm>
          <a:prstGeom prst="line">
            <a:avLst/>
          </a:prstGeom>
          <a:ln w="284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456680" y="5315040"/>
            <a:ext cx="34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99"/>
                </a:solidFill>
                <a:latin typeface="Tahoma"/>
              </a:rPr>
              <a:t>x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150560" y="5334120"/>
            <a:ext cx="316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99"/>
                </a:solidFill>
                <a:latin typeface="Tahoma"/>
              </a:rPr>
              <a:t>z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574520" y="1295280"/>
            <a:ext cx="33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99"/>
                </a:solidFill>
                <a:latin typeface="Tahoma"/>
              </a:rPr>
              <a:t>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52280" y="990720"/>
            <a:ext cx="268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0. Plano de Projeção Qualqu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828800" y="1773720"/>
            <a:ext cx="5715000" cy="4582080"/>
            <a:chOff x="1828800" y="1773720"/>
            <a:chExt cx="5715000" cy="4582080"/>
          </a:xfrm>
        </p:grpSpPr>
        <p:sp>
          <p:nvSpPr>
            <p:cNvPr id="239" name=""/>
            <p:cNvSpPr/>
            <p:nvPr/>
          </p:nvSpPr>
          <p:spPr>
            <a:xfrm rot="18663600">
              <a:off x="2624760" y="3318480"/>
              <a:ext cx="4776840" cy="1492200"/>
            </a:xfrm>
            <a:prstGeom prst="parallelogram">
              <a:avLst>
                <a:gd name="adj" fmla="val 94302"/>
              </a:avLst>
            </a:prstGeom>
            <a:gradFill rotWithShape="0">
              <a:gsLst>
                <a:gs pos="0">
                  <a:srgbClr val="acacac"/>
                </a:gs>
                <a:gs pos="100000">
                  <a:srgbClr val="4f4f4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105520" y="3581280"/>
              <a:ext cx="2438280" cy="609840"/>
            </a:xfrm>
            <a:prstGeom prst="line">
              <a:avLst/>
            </a:prstGeom>
            <a:ln w="28440">
              <a:solidFill>
                <a:srgbClr val="66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029200" y="4100400"/>
              <a:ext cx="152280" cy="152640"/>
            </a:xfrm>
            <a:prstGeom prst="ellipse">
              <a:avLst/>
            </a:prstGeom>
            <a:solidFill>
              <a:srgbClr val="a4bff4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3809880" y="4191120"/>
              <a:ext cx="1295640" cy="304560"/>
            </a:xfrm>
            <a:prstGeom prst="line">
              <a:avLst/>
            </a:prstGeom>
            <a:ln w="28440">
              <a:solidFill>
                <a:srgbClr val="66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1828800" y="4495680"/>
              <a:ext cx="1981080" cy="533520"/>
            </a:xfrm>
            <a:prstGeom prst="line">
              <a:avLst/>
            </a:prstGeom>
            <a:ln w="2844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4892760" y="4343400"/>
            <a:ext cx="67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5050"/>
                </a:solidFill>
                <a:latin typeface="Tahoma"/>
              </a:rPr>
              <a:t>VR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7620120" y="2895480"/>
            <a:ext cx="842040" cy="1295640"/>
            <a:chOff x="7620120" y="2895480"/>
            <a:chExt cx="842040" cy="1295640"/>
          </a:xfrm>
        </p:grpSpPr>
        <p:grpSp>
          <p:nvGrpSpPr>
            <p:cNvPr id="246" name=""/>
            <p:cNvGrpSpPr/>
            <p:nvPr/>
          </p:nvGrpSpPr>
          <p:grpSpPr>
            <a:xfrm>
              <a:off x="7621200" y="2895480"/>
              <a:ext cx="840960" cy="1295280"/>
              <a:chOff x="7621200" y="2895480"/>
              <a:chExt cx="840960" cy="1295280"/>
            </a:xfrm>
          </p:grpSpPr>
          <p:sp>
            <p:nvSpPr>
              <p:cNvPr id="247" name=""/>
              <p:cNvSpPr/>
              <p:nvPr/>
            </p:nvSpPr>
            <p:spPr>
              <a:xfrm rot="5399400">
                <a:off x="7660800" y="2855880"/>
                <a:ext cx="609480" cy="688680"/>
              </a:xfrm>
              <a:prstGeom prst="parallelogram">
                <a:avLst>
                  <a:gd name="adj" fmla="val 32551"/>
                </a:avLst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1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5399400">
                <a:off x="7851960" y="3580560"/>
                <a:ext cx="533160" cy="686880"/>
              </a:xfrm>
              <a:prstGeom prst="parallelogram">
                <a:avLst>
                  <a:gd name="adj" fmla="val 29463"/>
                </a:avLst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1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7620120" y="2971800"/>
              <a:ext cx="837720" cy="1219320"/>
              <a:chOff x="7620120" y="2971800"/>
              <a:chExt cx="837720" cy="1219320"/>
            </a:xfrm>
          </p:grpSpPr>
          <p:sp>
            <p:nvSpPr>
              <p:cNvPr id="250" name=""/>
              <p:cNvSpPr/>
              <p:nvPr/>
            </p:nvSpPr>
            <p:spPr>
              <a:xfrm>
                <a:off x="8292960" y="3098880"/>
                <a:ext cx="151920" cy="685800"/>
              </a:xfrm>
              <a:prstGeom prst="line">
                <a:avLst/>
              </a:prstGeom>
              <a:ln w="936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620120" y="3352680"/>
                <a:ext cx="152280" cy="685800"/>
              </a:xfrm>
              <a:prstGeom prst="line">
                <a:avLst/>
              </a:prstGeom>
              <a:ln w="936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8305560" y="3505320"/>
                <a:ext cx="152280" cy="685800"/>
              </a:xfrm>
              <a:prstGeom prst="line">
                <a:avLst/>
              </a:prstGeom>
              <a:ln w="936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620120" y="2971800"/>
                <a:ext cx="152280" cy="685800"/>
              </a:xfrm>
              <a:prstGeom prst="line">
                <a:avLst/>
              </a:prstGeom>
              <a:ln w="936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 flipH="1">
            <a:off x="1294920" y="4114800"/>
            <a:ext cx="3048120" cy="1905120"/>
          </a:xfrm>
          <a:prstGeom prst="line">
            <a:avLst/>
          </a:prstGeom>
          <a:ln w="284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4343400" y="1218960"/>
            <a:ext cx="0" cy="2895480"/>
          </a:xfrm>
          <a:prstGeom prst="line">
            <a:avLst/>
          </a:prstGeom>
          <a:ln w="284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18663600">
            <a:off x="1863000" y="3242160"/>
            <a:ext cx="4776840" cy="1492200"/>
          </a:xfrm>
          <a:prstGeom prst="parallelogram">
            <a:avLst>
              <a:gd name="adj" fmla="val 94302"/>
            </a:avLst>
          </a:prstGeom>
          <a:gradFill rotWithShape="0">
            <a:gsLst>
              <a:gs pos="0">
                <a:srgbClr val="acacac"/>
              </a:gs>
              <a:gs pos="100000">
                <a:srgbClr val="4f4f4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343400" y="3504960"/>
            <a:ext cx="2438280" cy="609480"/>
          </a:xfrm>
          <a:prstGeom prst="line">
            <a:avLst/>
          </a:prstGeom>
          <a:ln w="2844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3048120" y="4114440"/>
            <a:ext cx="1295280" cy="304920"/>
          </a:xfrm>
          <a:prstGeom prst="line">
            <a:avLst/>
          </a:prstGeom>
          <a:ln w="28440">
            <a:solidFill>
              <a:srgbClr val="66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1066680" y="4419360"/>
            <a:ext cx="1981440" cy="533160"/>
          </a:xfrm>
          <a:prstGeom prst="line">
            <a:avLst/>
          </a:prstGeom>
          <a:ln w="284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343400" y="4114800"/>
            <a:ext cx="3124080" cy="1905120"/>
          </a:xfrm>
          <a:prstGeom prst="line">
            <a:avLst/>
          </a:prstGeom>
          <a:ln w="284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456680" y="5315040"/>
            <a:ext cx="34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99"/>
                </a:solidFill>
                <a:latin typeface="Tahoma"/>
              </a:rPr>
              <a:t>x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150560" y="5334120"/>
            <a:ext cx="316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99"/>
                </a:solidFill>
                <a:latin typeface="Tahoma"/>
              </a:rPr>
              <a:t>z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74520" y="1295280"/>
            <a:ext cx="33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99"/>
                </a:solidFill>
                <a:latin typeface="Tahoma"/>
              </a:rPr>
              <a:t>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2280" y="990720"/>
            <a:ext cx="26830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1" lang="pt-BR" sz="2000" spc="-1" strike="noStrike">
                <a:solidFill>
                  <a:srgbClr val="ffffff"/>
                </a:solidFill>
                <a:latin typeface="Tahoma"/>
              </a:rPr>
              <a:t>Translade VRP para a origem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Translade o mundo com VR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4343400" y="2743200"/>
            <a:ext cx="0" cy="1371600"/>
          </a:xfrm>
          <a:prstGeom prst="line">
            <a:avLst/>
          </a:prstGeom>
          <a:ln w="28440">
            <a:solidFill>
              <a:srgbClr val="ff5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123720" y="4076640"/>
            <a:ext cx="1282680" cy="800280"/>
          </a:xfrm>
          <a:prstGeom prst="line">
            <a:avLst/>
          </a:prstGeom>
          <a:ln w="28440">
            <a:solidFill>
              <a:srgbClr val="ff5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267080" y="4024440"/>
            <a:ext cx="152640" cy="152280"/>
          </a:xfrm>
          <a:prstGeom prst="ellipse">
            <a:avLst/>
          </a:prstGeom>
          <a:solidFill>
            <a:srgbClr val="a4bff4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511520" y="3429000"/>
            <a:ext cx="67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5050"/>
                </a:solidFill>
                <a:latin typeface="Tahoma"/>
              </a:rPr>
              <a:t>VR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6781680" y="2819520"/>
            <a:ext cx="842760" cy="1295280"/>
            <a:chOff x="6781680" y="2819520"/>
            <a:chExt cx="842760" cy="1295280"/>
          </a:xfrm>
        </p:grpSpPr>
        <p:grpSp>
          <p:nvGrpSpPr>
            <p:cNvPr id="270" name=""/>
            <p:cNvGrpSpPr/>
            <p:nvPr/>
          </p:nvGrpSpPr>
          <p:grpSpPr>
            <a:xfrm>
              <a:off x="6783480" y="2819520"/>
              <a:ext cx="840960" cy="1295280"/>
              <a:chOff x="6783480" y="2819520"/>
              <a:chExt cx="840960" cy="1295280"/>
            </a:xfrm>
          </p:grpSpPr>
          <p:sp>
            <p:nvSpPr>
              <p:cNvPr id="271" name=""/>
              <p:cNvSpPr/>
              <p:nvPr/>
            </p:nvSpPr>
            <p:spPr>
              <a:xfrm rot="5399400">
                <a:off x="6823080" y="2779560"/>
                <a:ext cx="609480" cy="689040"/>
              </a:xfrm>
              <a:prstGeom prst="parallelogram">
                <a:avLst>
                  <a:gd name="adj" fmla="val 32551"/>
                </a:avLst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1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5399400">
                <a:off x="7014240" y="3504600"/>
                <a:ext cx="533160" cy="687240"/>
              </a:xfrm>
              <a:prstGeom prst="parallelogram">
                <a:avLst>
                  <a:gd name="adj" fmla="val 29463"/>
                </a:avLst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1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6781680" y="2895480"/>
              <a:ext cx="838440" cy="1218600"/>
              <a:chOff x="6781680" y="2895480"/>
              <a:chExt cx="838440" cy="1218600"/>
            </a:xfrm>
          </p:grpSpPr>
          <p:sp>
            <p:nvSpPr>
              <p:cNvPr id="274" name=""/>
              <p:cNvSpPr/>
              <p:nvPr/>
            </p:nvSpPr>
            <p:spPr>
              <a:xfrm>
                <a:off x="7454880" y="3022200"/>
                <a:ext cx="152280" cy="685440"/>
              </a:xfrm>
              <a:prstGeom prst="line">
                <a:avLst/>
              </a:prstGeom>
              <a:ln w="936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781680" y="3276000"/>
                <a:ext cx="152640" cy="685440"/>
              </a:xfrm>
              <a:prstGeom prst="line">
                <a:avLst/>
              </a:prstGeom>
              <a:ln w="936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467480" y="3428640"/>
                <a:ext cx="152640" cy="685440"/>
              </a:xfrm>
              <a:prstGeom prst="line">
                <a:avLst/>
              </a:prstGeom>
              <a:ln w="936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781680" y="2895480"/>
                <a:ext cx="152640" cy="685440"/>
              </a:xfrm>
              <a:prstGeom prst="line">
                <a:avLst/>
              </a:prstGeom>
              <a:ln w="936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 flipH="1">
            <a:off x="1294920" y="4114800"/>
            <a:ext cx="3048120" cy="1905120"/>
          </a:xfrm>
          <a:prstGeom prst="line">
            <a:avLst/>
          </a:prstGeom>
          <a:ln w="284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4343400" y="1218960"/>
            <a:ext cx="0" cy="2895480"/>
          </a:xfrm>
          <a:prstGeom prst="line">
            <a:avLst/>
          </a:prstGeom>
          <a:ln w="284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066680" y="1697400"/>
            <a:ext cx="5715000" cy="4582080"/>
            <a:chOff x="1066680" y="1697400"/>
            <a:chExt cx="5715000" cy="4582080"/>
          </a:xfrm>
        </p:grpSpPr>
        <p:sp>
          <p:nvSpPr>
            <p:cNvPr id="281" name=""/>
            <p:cNvSpPr/>
            <p:nvPr/>
          </p:nvSpPr>
          <p:spPr>
            <a:xfrm rot="18663600">
              <a:off x="1862640" y="3242160"/>
              <a:ext cx="4776840" cy="1492200"/>
            </a:xfrm>
            <a:prstGeom prst="parallelogram">
              <a:avLst>
                <a:gd name="adj" fmla="val 94302"/>
              </a:avLst>
            </a:prstGeom>
            <a:gradFill rotWithShape="0">
              <a:gsLst>
                <a:gs pos="0">
                  <a:srgbClr val="acacac"/>
                </a:gs>
                <a:gs pos="100000">
                  <a:srgbClr val="4f4f4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4343400" y="3504960"/>
              <a:ext cx="2438280" cy="609840"/>
            </a:xfrm>
            <a:prstGeom prst="line">
              <a:avLst/>
            </a:prstGeom>
            <a:ln w="28440">
              <a:solidFill>
                <a:srgbClr val="66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67080" y="4024080"/>
              <a:ext cx="152280" cy="152640"/>
            </a:xfrm>
            <a:prstGeom prst="ellipse">
              <a:avLst/>
            </a:prstGeom>
            <a:solidFill>
              <a:srgbClr val="a4bff4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3047760" y="4114800"/>
              <a:ext cx="1295640" cy="304560"/>
            </a:xfrm>
            <a:prstGeom prst="line">
              <a:avLst/>
            </a:prstGeom>
            <a:ln w="28440">
              <a:solidFill>
                <a:srgbClr val="66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1066680" y="4419360"/>
              <a:ext cx="1981080" cy="533520"/>
            </a:xfrm>
            <a:prstGeom prst="line">
              <a:avLst/>
            </a:prstGeom>
            <a:ln w="2844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4343400" y="4114800"/>
            <a:ext cx="3124080" cy="1905120"/>
          </a:xfrm>
          <a:prstGeom prst="line">
            <a:avLst/>
          </a:prstGeom>
          <a:ln w="284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456680" y="5315040"/>
            <a:ext cx="34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99"/>
                </a:solidFill>
                <a:latin typeface="Tahoma"/>
              </a:rPr>
              <a:t>x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150560" y="5334120"/>
            <a:ext cx="316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99"/>
                </a:solidFill>
                <a:latin typeface="Tahoma"/>
              </a:rPr>
              <a:t>z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574520" y="1295280"/>
            <a:ext cx="33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99"/>
                </a:solidFill>
                <a:latin typeface="Tahoma"/>
              </a:rPr>
              <a:t>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52280" y="990720"/>
            <a:ext cx="2683080" cy="18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1" lang="pt-BR" sz="2000" spc="-1" strike="noStrike">
                <a:solidFill>
                  <a:srgbClr val="ffffff"/>
                </a:solidFill>
                <a:latin typeface="Tahoma"/>
              </a:rPr>
              <a:t>Determine VPN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Determine </a:t>
            </a:r>
            <a:r>
              <a:rPr b="1" lang="pt-BR" sz="2800" spc="-1" strike="noStrike">
                <a:solidFill>
                  <a:srgbClr val="ffff99"/>
                </a:solidFill>
                <a:latin typeface="Symbol"/>
                <a:ea typeface="Symbol"/>
              </a:rPr>
              <a:t></a:t>
            </a:r>
            <a:r>
              <a:rPr b="1" lang="pt-BR" sz="2800" spc="-1" strike="noStrike" baseline="-25000">
                <a:solidFill>
                  <a:srgbClr val="ffff99"/>
                </a:solidFill>
                <a:latin typeface="Tahoma"/>
              </a:rPr>
              <a:t>x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Determine </a:t>
            </a:r>
            <a:r>
              <a:rPr b="1" lang="pt-BR" sz="2800" spc="-1" strike="noStrike">
                <a:solidFill>
                  <a:srgbClr val="ffff99"/>
                </a:solidFill>
                <a:latin typeface="Symbol"/>
                <a:ea typeface="Symbol"/>
              </a:rPr>
              <a:t></a:t>
            </a:r>
            <a:r>
              <a:rPr b="1" lang="pt-BR" sz="2800" spc="-1" strike="noStrike" baseline="-25000">
                <a:solidFill>
                  <a:srgbClr val="ffff99"/>
                </a:solidFill>
                <a:latin typeface="Tahoma"/>
              </a:rPr>
              <a:t>y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343400" y="2743200"/>
            <a:ext cx="0" cy="1371600"/>
          </a:xfrm>
          <a:prstGeom prst="line">
            <a:avLst/>
          </a:prstGeom>
          <a:ln w="28440">
            <a:solidFill>
              <a:srgbClr val="ff5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3123720" y="4076640"/>
            <a:ext cx="1282680" cy="800280"/>
          </a:xfrm>
          <a:prstGeom prst="line">
            <a:avLst/>
          </a:prstGeom>
          <a:ln w="28440">
            <a:solidFill>
              <a:srgbClr val="ff5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97200" y="4114800"/>
            <a:ext cx="46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Symbol"/>
                <a:ea typeface="Symbol"/>
              </a:rPr>
              <a:t></a:t>
            </a:r>
            <a:r>
              <a:rPr b="1" lang="pt-BR" sz="2800" spc="-1" strike="noStrike" baseline="-25000">
                <a:solidFill>
                  <a:srgbClr val="ffff99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659120" y="3048120"/>
            <a:ext cx="46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Symbol"/>
                <a:ea typeface="Symbol"/>
              </a:rPr>
              <a:t></a:t>
            </a:r>
            <a:r>
              <a:rPr b="1" lang="pt-BR" sz="2800" spc="-1" strike="noStrike" baseline="-25000">
                <a:solidFill>
                  <a:srgbClr val="ffff99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6781680" y="2819520"/>
            <a:ext cx="842760" cy="1295280"/>
            <a:chOff x="6781680" y="2819520"/>
            <a:chExt cx="842760" cy="1295280"/>
          </a:xfrm>
        </p:grpSpPr>
        <p:grpSp>
          <p:nvGrpSpPr>
            <p:cNvPr id="296" name=""/>
            <p:cNvGrpSpPr/>
            <p:nvPr/>
          </p:nvGrpSpPr>
          <p:grpSpPr>
            <a:xfrm>
              <a:off x="6783480" y="2819520"/>
              <a:ext cx="840960" cy="1295280"/>
              <a:chOff x="6783480" y="2819520"/>
              <a:chExt cx="840960" cy="1295280"/>
            </a:xfrm>
          </p:grpSpPr>
          <p:sp>
            <p:nvSpPr>
              <p:cNvPr id="297" name=""/>
              <p:cNvSpPr/>
              <p:nvPr/>
            </p:nvSpPr>
            <p:spPr>
              <a:xfrm rot="5399400">
                <a:off x="6823080" y="2779560"/>
                <a:ext cx="609480" cy="689040"/>
              </a:xfrm>
              <a:prstGeom prst="parallelogram">
                <a:avLst>
                  <a:gd name="adj" fmla="val 32551"/>
                </a:avLst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1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5399400">
                <a:off x="7014240" y="3504600"/>
                <a:ext cx="533160" cy="687240"/>
              </a:xfrm>
              <a:prstGeom prst="parallelogram">
                <a:avLst>
                  <a:gd name="adj" fmla="val 29463"/>
                </a:avLst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1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6781680" y="2895480"/>
              <a:ext cx="838440" cy="1218600"/>
              <a:chOff x="6781680" y="2895480"/>
              <a:chExt cx="838440" cy="1218600"/>
            </a:xfrm>
          </p:grpSpPr>
          <p:sp>
            <p:nvSpPr>
              <p:cNvPr id="300" name=""/>
              <p:cNvSpPr/>
              <p:nvPr/>
            </p:nvSpPr>
            <p:spPr>
              <a:xfrm>
                <a:off x="7454880" y="3022200"/>
                <a:ext cx="152280" cy="685440"/>
              </a:xfrm>
              <a:prstGeom prst="line">
                <a:avLst/>
              </a:prstGeom>
              <a:ln w="936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781680" y="3276000"/>
                <a:ext cx="152640" cy="685440"/>
              </a:xfrm>
              <a:prstGeom prst="line">
                <a:avLst/>
              </a:prstGeom>
              <a:ln w="936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467480" y="3428640"/>
                <a:ext cx="152640" cy="685440"/>
              </a:xfrm>
              <a:prstGeom prst="line">
                <a:avLst/>
              </a:prstGeom>
              <a:ln w="936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781680" y="2895480"/>
                <a:ext cx="152640" cy="685440"/>
              </a:xfrm>
              <a:prstGeom prst="line">
                <a:avLst/>
              </a:prstGeom>
              <a:ln w="936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4" name=""/>
          <p:cNvSpPr/>
          <p:nvPr/>
        </p:nvSpPr>
        <p:spPr>
          <a:xfrm>
            <a:off x="915840" y="4343400"/>
            <a:ext cx="71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ahoma"/>
              </a:rPr>
              <a:t>VP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 flipV="1" rot="1802400">
            <a:off x="2895120" y="2513520"/>
            <a:ext cx="2667240" cy="2742840"/>
          </a:xfrm>
          <a:prstGeom prst="parallelogram">
            <a:avLst>
              <a:gd name="adj" fmla="val 59255"/>
            </a:avLst>
          </a:prstGeom>
          <a:solidFill>
            <a:srgbClr val="acac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1294920" y="4114800"/>
            <a:ext cx="3048120" cy="1905120"/>
          </a:xfrm>
          <a:prstGeom prst="line">
            <a:avLst/>
          </a:prstGeom>
          <a:ln w="284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4343400" y="1218960"/>
            <a:ext cx="0" cy="2895480"/>
          </a:xfrm>
          <a:prstGeom prst="line">
            <a:avLst/>
          </a:prstGeom>
          <a:ln w="284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67080" y="4024440"/>
            <a:ext cx="152640" cy="152280"/>
          </a:xfrm>
          <a:prstGeom prst="ellipse">
            <a:avLst/>
          </a:prstGeom>
          <a:solidFill>
            <a:srgbClr val="a4bff4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4000680" y="3886200"/>
            <a:ext cx="707760" cy="426960"/>
          </a:xfrm>
          <a:prstGeom prst="line">
            <a:avLst/>
          </a:prstGeom>
          <a:ln w="38160">
            <a:solidFill>
              <a:srgbClr val="66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708440" y="3137040"/>
            <a:ext cx="1082880" cy="749160"/>
          </a:xfrm>
          <a:prstGeom prst="line">
            <a:avLst/>
          </a:prstGeom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4114800"/>
            <a:ext cx="3124080" cy="1905120"/>
          </a:xfrm>
          <a:prstGeom prst="line">
            <a:avLst/>
          </a:prstGeom>
          <a:ln w="284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456680" y="5315040"/>
            <a:ext cx="34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99"/>
                </a:solidFill>
                <a:latin typeface="Tahoma"/>
              </a:rPr>
              <a:t>x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150560" y="5334120"/>
            <a:ext cx="316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99"/>
                </a:solidFill>
                <a:latin typeface="Tahoma"/>
              </a:rPr>
              <a:t>z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574520" y="1295280"/>
            <a:ext cx="33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99"/>
                </a:solidFill>
                <a:latin typeface="Tahoma"/>
              </a:rPr>
              <a:t>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52280" y="990720"/>
            <a:ext cx="26830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Rotacione o mundo em torno de X e Y de forma a alinhar VPN com o eixo Z</a:t>
            </a: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343400" y="2743200"/>
            <a:ext cx="0" cy="1371600"/>
          </a:xfrm>
          <a:prstGeom prst="line">
            <a:avLst/>
          </a:prstGeom>
          <a:ln w="28440">
            <a:solidFill>
              <a:srgbClr val="ff5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3123720" y="4076640"/>
            <a:ext cx="1282680" cy="800280"/>
          </a:xfrm>
          <a:prstGeom prst="line">
            <a:avLst/>
          </a:prstGeom>
          <a:ln w="28440">
            <a:solidFill>
              <a:srgbClr val="ff5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2666520" y="4114800"/>
            <a:ext cx="1676520" cy="1046160"/>
          </a:xfrm>
          <a:prstGeom prst="line">
            <a:avLst/>
          </a:prstGeom>
          <a:ln w="3816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218160" y="4416120"/>
            <a:ext cx="1534680" cy="2055960"/>
            <a:chOff x="218160" y="4416120"/>
            <a:chExt cx="1534680" cy="2055960"/>
          </a:xfrm>
        </p:grpSpPr>
        <p:sp>
          <p:nvSpPr>
            <p:cNvPr id="320" name=""/>
            <p:cNvSpPr/>
            <p:nvPr/>
          </p:nvSpPr>
          <p:spPr>
            <a:xfrm rot="11775600">
              <a:off x="372600" y="4562280"/>
              <a:ext cx="1225800" cy="1275120"/>
            </a:xfrm>
            <a:prstGeom prst="parallelogram">
              <a:avLst>
                <a:gd name="adj" fmla="val 42079"/>
              </a:avLst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31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11775600">
              <a:off x="371880" y="5050800"/>
              <a:ext cx="1225800" cy="1275120"/>
            </a:xfrm>
            <a:prstGeom prst="parallelogram">
              <a:avLst>
                <a:gd name="adj" fmla="val 42079"/>
              </a:avLst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31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1752120" y="4759560"/>
              <a:ext cx="720" cy="4885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905400" y="5839200"/>
              <a:ext cx="720" cy="4885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1066320" y="4559400"/>
              <a:ext cx="720" cy="4885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218520" y="5638680"/>
              <a:ext cx="720" cy="4885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 flipV="1" rot="1802400">
            <a:off x="2895120" y="2513520"/>
            <a:ext cx="2667240" cy="2742840"/>
          </a:xfrm>
          <a:prstGeom prst="parallelogram">
            <a:avLst>
              <a:gd name="adj" fmla="val 59255"/>
            </a:avLst>
          </a:prstGeom>
          <a:solidFill>
            <a:srgbClr val="acac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1294920" y="4114800"/>
            <a:ext cx="3048120" cy="1905120"/>
          </a:xfrm>
          <a:prstGeom prst="line">
            <a:avLst/>
          </a:prstGeom>
          <a:ln w="284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4343400" y="1218960"/>
            <a:ext cx="0" cy="2895480"/>
          </a:xfrm>
          <a:prstGeom prst="line">
            <a:avLst/>
          </a:prstGeom>
          <a:ln w="284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267080" y="4024440"/>
            <a:ext cx="152640" cy="152280"/>
          </a:xfrm>
          <a:prstGeom prst="ellipse">
            <a:avLst/>
          </a:prstGeom>
          <a:solidFill>
            <a:srgbClr val="a4bff4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4000680" y="3886200"/>
            <a:ext cx="707760" cy="426960"/>
          </a:xfrm>
          <a:prstGeom prst="line">
            <a:avLst/>
          </a:prstGeom>
          <a:ln w="38160">
            <a:solidFill>
              <a:srgbClr val="66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4708440" y="3137040"/>
            <a:ext cx="1082880" cy="749160"/>
          </a:xfrm>
          <a:prstGeom prst="line">
            <a:avLst/>
          </a:prstGeom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343400" y="4114800"/>
            <a:ext cx="3124080" cy="1905120"/>
          </a:xfrm>
          <a:prstGeom prst="line">
            <a:avLst/>
          </a:prstGeom>
          <a:ln w="284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456680" y="5315040"/>
            <a:ext cx="34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99"/>
                </a:solidFill>
                <a:latin typeface="Tahoma"/>
              </a:rPr>
              <a:t>x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150560" y="5334120"/>
            <a:ext cx="316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99"/>
                </a:solidFill>
                <a:latin typeface="Tahoma"/>
              </a:rPr>
              <a:t>z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574520" y="1295280"/>
            <a:ext cx="33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99"/>
                </a:solidFill>
                <a:latin typeface="Tahoma"/>
              </a:rPr>
              <a:t>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52280" y="990720"/>
            <a:ext cx="2683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4..... </a:t>
            </a: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o resto é fácil.....</a:t>
            </a: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4343400" y="2743200"/>
            <a:ext cx="0" cy="1371600"/>
          </a:xfrm>
          <a:prstGeom prst="line">
            <a:avLst/>
          </a:prstGeom>
          <a:ln w="28440">
            <a:solidFill>
              <a:srgbClr val="ff5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3123720" y="4076640"/>
            <a:ext cx="1282680" cy="800280"/>
          </a:xfrm>
          <a:prstGeom prst="line">
            <a:avLst/>
          </a:prstGeom>
          <a:ln w="28440">
            <a:solidFill>
              <a:srgbClr val="ff5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2666520" y="4114800"/>
            <a:ext cx="1676520" cy="1046160"/>
          </a:xfrm>
          <a:prstGeom prst="line">
            <a:avLst/>
          </a:prstGeom>
          <a:ln w="3816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218160" y="4416120"/>
            <a:ext cx="1534680" cy="2055960"/>
            <a:chOff x="218160" y="4416120"/>
            <a:chExt cx="1534680" cy="2055960"/>
          </a:xfrm>
        </p:grpSpPr>
        <p:sp>
          <p:nvSpPr>
            <p:cNvPr id="341" name=""/>
            <p:cNvSpPr/>
            <p:nvPr/>
          </p:nvSpPr>
          <p:spPr>
            <a:xfrm rot="11775600">
              <a:off x="372600" y="4562280"/>
              <a:ext cx="1225800" cy="1275120"/>
            </a:xfrm>
            <a:prstGeom prst="parallelogram">
              <a:avLst>
                <a:gd name="adj" fmla="val 42079"/>
              </a:avLst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31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11775600">
              <a:off x="371880" y="5050800"/>
              <a:ext cx="1225800" cy="1275120"/>
            </a:xfrm>
            <a:prstGeom prst="parallelogram">
              <a:avLst>
                <a:gd name="adj" fmla="val 42079"/>
              </a:avLst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31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1752120" y="4759560"/>
              <a:ext cx="720" cy="4885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905400" y="5839200"/>
              <a:ext cx="720" cy="4885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1066320" y="4559400"/>
              <a:ext cx="720" cy="4885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218520" y="5638680"/>
              <a:ext cx="720" cy="4885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228240" y="3733920"/>
            <a:ext cx="4576680" cy="2590200"/>
            <a:chOff x="228240" y="3733920"/>
            <a:chExt cx="4576680" cy="2590200"/>
          </a:xfrm>
        </p:grpSpPr>
        <p:grpSp>
          <p:nvGrpSpPr>
            <p:cNvPr id="348" name=""/>
            <p:cNvGrpSpPr/>
            <p:nvPr/>
          </p:nvGrpSpPr>
          <p:grpSpPr>
            <a:xfrm>
              <a:off x="228240" y="3733920"/>
              <a:ext cx="4572000" cy="2590200"/>
              <a:chOff x="228240" y="3733920"/>
              <a:chExt cx="4572000" cy="2590200"/>
            </a:xfrm>
          </p:grpSpPr>
          <p:sp>
            <p:nvSpPr>
              <p:cNvPr id="349" name=""/>
              <p:cNvSpPr/>
              <p:nvPr/>
            </p:nvSpPr>
            <p:spPr>
              <a:xfrm flipH="1">
                <a:off x="1066320" y="3733920"/>
                <a:ext cx="2895480" cy="838080"/>
              </a:xfrm>
              <a:prstGeom prst="line">
                <a:avLst/>
              </a:prstGeom>
              <a:ln w="12600">
                <a:solidFill>
                  <a:srgbClr val="ffff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>
                <a:off x="1752120" y="3962160"/>
                <a:ext cx="2895480" cy="838080"/>
              </a:xfrm>
              <a:prstGeom prst="line">
                <a:avLst/>
              </a:prstGeom>
              <a:ln w="12600">
                <a:solidFill>
                  <a:srgbClr val="ffff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H="1">
                <a:off x="1752120" y="4343400"/>
                <a:ext cx="2895480" cy="914040"/>
              </a:xfrm>
              <a:prstGeom prst="line">
                <a:avLst/>
              </a:prstGeom>
              <a:ln w="12600">
                <a:solidFill>
                  <a:srgbClr val="ffff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>
                <a:off x="1066320" y="4190760"/>
                <a:ext cx="2895480" cy="850680"/>
              </a:xfrm>
              <a:prstGeom prst="line">
                <a:avLst/>
              </a:prstGeom>
              <a:ln w="12600">
                <a:solidFill>
                  <a:srgbClr val="ffff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>
                <a:off x="914040" y="5029200"/>
                <a:ext cx="3886200" cy="1294920"/>
              </a:xfrm>
              <a:prstGeom prst="line">
                <a:avLst/>
              </a:prstGeom>
              <a:ln w="12600">
                <a:solidFill>
                  <a:srgbClr val="ffff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>
                <a:off x="228240" y="4876560"/>
                <a:ext cx="3886200" cy="1244520"/>
              </a:xfrm>
              <a:prstGeom prst="line">
                <a:avLst/>
              </a:prstGeom>
              <a:ln w="12600">
                <a:solidFill>
                  <a:srgbClr val="ffff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3962160" y="3733920"/>
              <a:ext cx="842760" cy="1295280"/>
              <a:chOff x="3962160" y="3733920"/>
              <a:chExt cx="842760" cy="1295280"/>
            </a:xfrm>
          </p:grpSpPr>
          <p:grpSp>
            <p:nvGrpSpPr>
              <p:cNvPr id="356" name=""/>
              <p:cNvGrpSpPr/>
              <p:nvPr/>
            </p:nvGrpSpPr>
            <p:grpSpPr>
              <a:xfrm>
                <a:off x="3963960" y="3733920"/>
                <a:ext cx="840960" cy="1295280"/>
                <a:chOff x="3963960" y="3733920"/>
                <a:chExt cx="840960" cy="1295280"/>
              </a:xfrm>
            </p:grpSpPr>
            <p:sp>
              <p:nvSpPr>
                <p:cNvPr id="357" name=""/>
                <p:cNvSpPr/>
                <p:nvPr/>
              </p:nvSpPr>
              <p:spPr>
                <a:xfrm rot="5399400">
                  <a:off x="4003560" y="3693960"/>
                  <a:ext cx="609480" cy="689040"/>
                </a:xfrm>
                <a:prstGeom prst="parallelogram">
                  <a:avLst>
                    <a:gd name="adj" fmla="val 32551"/>
                  </a:avLst>
                </a:prstGeom>
                <a:noFill/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31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 rot="5399400">
                  <a:off x="4194720" y="4419000"/>
                  <a:ext cx="533160" cy="687240"/>
                </a:xfrm>
                <a:prstGeom prst="parallelogram">
                  <a:avLst>
                    <a:gd name="adj" fmla="val 29463"/>
                  </a:avLst>
                </a:prstGeom>
                <a:noFill/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31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"/>
              <p:cNvGrpSpPr/>
              <p:nvPr/>
            </p:nvGrpSpPr>
            <p:grpSpPr>
              <a:xfrm>
                <a:off x="3962160" y="3809880"/>
                <a:ext cx="838440" cy="1218600"/>
                <a:chOff x="3962160" y="3809880"/>
                <a:chExt cx="838440" cy="121860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4635360" y="3936600"/>
                  <a:ext cx="152280" cy="685440"/>
                </a:xfrm>
                <a:prstGeom prst="line">
                  <a:avLst/>
                </a:prstGeom>
                <a:ln w="936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3962160" y="4190400"/>
                  <a:ext cx="152640" cy="685440"/>
                </a:xfrm>
                <a:prstGeom prst="line">
                  <a:avLst/>
                </a:prstGeom>
                <a:ln w="936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4647960" y="4343040"/>
                  <a:ext cx="152640" cy="685440"/>
                </a:xfrm>
                <a:prstGeom prst="line">
                  <a:avLst/>
                </a:prstGeom>
                <a:ln w="936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3962160" y="3809880"/>
                  <a:ext cx="152640" cy="685440"/>
                </a:xfrm>
                <a:prstGeom prst="line">
                  <a:avLst/>
                </a:prstGeom>
                <a:ln w="936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64" name=""/>
          <p:cNvSpPr/>
          <p:nvPr/>
        </p:nvSpPr>
        <p:spPr>
          <a:xfrm>
            <a:off x="4699080" y="2209680"/>
            <a:ext cx="457200" cy="3962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304560" y="1599840"/>
            <a:ext cx="8839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Clipping 3D e Volume Canônico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Perspectiva com um Ponto de Fuga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Exercício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Implemente o que foi visto hoj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Defina um VPN qquer fornecendo dois pontos sobre uma reta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O primeiro ponto pode ser o VRP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"/>
          <p:cNvSpPr/>
          <p:nvPr/>
        </p:nvSpPr>
        <p:spPr>
          <a:xfrm>
            <a:off x="304920" y="914400"/>
            <a:ext cx="8839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1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Tahoma"/>
              </a:rPr>
              <a:t>6.7. Próxima Aula: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fridgeworld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04560" y="1599840"/>
            <a:ext cx="8839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Para representar objetos de um mundo 3D em uma tela inerenrtemente 2D utilizamos uma técnica denominada </a:t>
            </a:r>
            <a:r>
              <a:rPr b="1" lang="pt-BR" sz="2400" spc="-1" strike="noStrike">
                <a:solidFill>
                  <a:srgbClr val="ffff99"/>
                </a:solidFill>
                <a:latin typeface="Tahoma"/>
              </a:rPr>
              <a:t>projeção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Vimos que existem 2 tipos possíveis de projeçã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23760" indent="-27396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5050"/>
                </a:solidFill>
                <a:latin typeface="Tahoma"/>
              </a:rPr>
              <a:t>Paralela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518120" indent="-22140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Distância do plano de projeção não import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23760" indent="-27396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5050"/>
                </a:solidFill>
                <a:latin typeface="Tahoma"/>
              </a:rPr>
              <a:t>Perspectiva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518120" indent="-22140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Reproduz realisticamente efeitos causados pela distânci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Veremos inicialmente a projeção paralela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914400"/>
            <a:ext cx="8839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1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Tahoma"/>
              </a:rPr>
              <a:t>6.5. Conceitos Básicos em Projeção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80520" y="15998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5050"/>
                </a:solidFill>
                <a:latin typeface="Tahoma"/>
              </a:rPr>
              <a:t>VRC - 3D Viewing Reference Coordina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914400"/>
            <a:ext cx="8839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1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Tahoma"/>
              </a:rPr>
              <a:t>6.5. Conceitos Básicos em Projeção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5399400">
            <a:off x="3277800" y="2436480"/>
            <a:ext cx="3276720" cy="3736800"/>
          </a:xfrm>
          <a:prstGeom prst="parallelogram">
            <a:avLst>
              <a:gd name="adj" fmla="val 42079"/>
            </a:avLst>
          </a:prstGeom>
          <a:solidFill>
            <a:srgbClr val="969696"/>
          </a:solidFill>
          <a:ln w="28440">
            <a:solidFill>
              <a:srgbClr val="acaca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5399400">
            <a:off x="3733200" y="3047760"/>
            <a:ext cx="2286000" cy="2590920"/>
          </a:xfrm>
          <a:prstGeom prst="parallelogram">
            <a:avLst>
              <a:gd name="adj" fmla="val 42079"/>
            </a:avLst>
          </a:prstGeom>
          <a:solidFill>
            <a:srgbClr val="0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43480" y="4457880"/>
            <a:ext cx="75960" cy="759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124680" y="4124160"/>
            <a:ext cx="75960" cy="763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1371240" y="4419720"/>
            <a:ext cx="335268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2057400" y="4400640"/>
            <a:ext cx="2743200" cy="838080"/>
          </a:xfrm>
          <a:prstGeom prst="line">
            <a:avLst/>
          </a:prstGeom>
          <a:ln w="572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78360" y="5492880"/>
            <a:ext cx="34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ahoma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63760" y="5257800"/>
            <a:ext cx="71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ahoma"/>
              </a:rPr>
              <a:t>VP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4772160" y="2133720"/>
            <a:ext cx="0" cy="2209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7800" y="5410080"/>
            <a:ext cx="34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ahoma"/>
              </a:rPr>
              <a:t>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79800" y="213372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ahoma"/>
              </a:rPr>
              <a:t>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00600" y="4419720"/>
            <a:ext cx="289548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95840" y="4314960"/>
            <a:ext cx="152280" cy="1522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2960" y="3657600"/>
            <a:ext cx="1418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ahoma"/>
              </a:rPr>
              <a:t>(U</a:t>
            </a:r>
            <a:r>
              <a:rPr b="1" lang="pt-BR" sz="2000" spc="-1" strike="noStrike" baseline="-25000">
                <a:solidFill>
                  <a:srgbClr val="ffff99"/>
                </a:solidFill>
                <a:latin typeface="Tahoma"/>
              </a:rPr>
              <a:t>max</a:t>
            </a:r>
            <a:r>
              <a:rPr b="1" lang="pt-BR" sz="2000" spc="-1" strike="noStrike">
                <a:solidFill>
                  <a:srgbClr val="ffff99"/>
                </a:solidFill>
                <a:latin typeface="Tahoma"/>
              </a:rPr>
              <a:t> V</a:t>
            </a:r>
            <a:r>
              <a:rPr b="1" lang="pt-BR" sz="2000" spc="-1" strike="noStrike" baseline="-25000">
                <a:solidFill>
                  <a:srgbClr val="ffff99"/>
                </a:solidFill>
                <a:latin typeface="Tahoma"/>
              </a:rPr>
              <a:t>max</a:t>
            </a:r>
            <a:r>
              <a:rPr b="1" lang="pt-BR" sz="2000" spc="-1" strike="noStrike">
                <a:solidFill>
                  <a:srgbClr val="ffff99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32080" y="4191120"/>
            <a:ext cx="1353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ahoma"/>
              </a:rPr>
              <a:t>(U</a:t>
            </a:r>
            <a:r>
              <a:rPr b="1" lang="pt-BR" sz="2000" spc="-1" strike="noStrike" baseline="-25000">
                <a:solidFill>
                  <a:srgbClr val="ffff99"/>
                </a:solidFill>
                <a:latin typeface="Tahoma"/>
              </a:rPr>
              <a:t>min</a:t>
            </a:r>
            <a:r>
              <a:rPr b="1" lang="pt-BR" sz="2000" spc="-1" strike="noStrike">
                <a:solidFill>
                  <a:srgbClr val="ffff99"/>
                </a:solidFill>
                <a:latin typeface="Tahoma"/>
              </a:rPr>
              <a:t> V</a:t>
            </a:r>
            <a:r>
              <a:rPr b="1" lang="pt-BR" sz="2000" spc="-1" strike="noStrike" baseline="-25000">
                <a:solidFill>
                  <a:srgbClr val="ffff99"/>
                </a:solidFill>
                <a:latin typeface="Tahoma"/>
              </a:rPr>
              <a:t>min</a:t>
            </a:r>
            <a:r>
              <a:rPr b="1" lang="pt-BR" sz="2000" spc="-1" strike="noStrike">
                <a:solidFill>
                  <a:srgbClr val="ffff99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28120" y="3962520"/>
            <a:ext cx="5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ahoma"/>
              </a:rPr>
              <a:t>C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19520" y="4495680"/>
            <a:ext cx="609480" cy="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6248160" y="3886200"/>
            <a:ext cx="533160" cy="22860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33280" y="5791320"/>
            <a:ext cx="120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ahoma"/>
              </a:rPr>
              <a:t>Windo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5029200" y="5105160"/>
            <a:ext cx="76320" cy="60948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29760" y="297180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ahoma"/>
              </a:rPr>
              <a:t>View Pla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19520" y="3200400"/>
            <a:ext cx="152280" cy="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46520" y="3402000"/>
            <a:ext cx="4184280" cy="1398600"/>
            <a:chOff x="2846520" y="3402000"/>
            <a:chExt cx="4184280" cy="1398600"/>
          </a:xfrm>
        </p:grpSpPr>
        <p:sp>
          <p:nvSpPr>
            <p:cNvPr id="115" name=""/>
            <p:cNvSpPr/>
            <p:nvPr/>
          </p:nvSpPr>
          <p:spPr>
            <a:xfrm>
              <a:off x="2846520" y="3402000"/>
              <a:ext cx="4184280" cy="4899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9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600" spc="-1" strike="noStrike">
                  <a:solidFill>
                    <a:srgbClr val="ffff99"/>
                  </a:solidFill>
                  <a:latin typeface="Tahoma"/>
                </a:rPr>
                <a:t>VPN: View Plane Normal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3124080" y="4114800"/>
              <a:ext cx="60984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94840" y="2335320"/>
            <a:ext cx="4309200" cy="1703160"/>
            <a:chOff x="294840" y="2335320"/>
            <a:chExt cx="4309200" cy="1703160"/>
          </a:xfrm>
        </p:grpSpPr>
        <p:sp>
          <p:nvSpPr>
            <p:cNvPr id="118" name=""/>
            <p:cNvSpPr/>
            <p:nvPr/>
          </p:nvSpPr>
          <p:spPr>
            <a:xfrm>
              <a:off x="294840" y="2335320"/>
              <a:ext cx="4309200" cy="8859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9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600" spc="-1" strike="noStrike">
                  <a:solidFill>
                    <a:srgbClr val="ffff99"/>
                  </a:solidFill>
                  <a:latin typeface="Tahoma"/>
                </a:rPr>
                <a:t>CW: Center of Window</a:t>
              </a:r>
              <a:br>
                <a:rPr sz="2600"/>
              </a:br>
              <a:r>
                <a:rPr b="1" lang="pt-BR" sz="2600" spc="-1" strike="noStrike">
                  <a:solidFill>
                    <a:srgbClr val="ffff99"/>
                  </a:solidFill>
                  <a:latin typeface="Tahoma"/>
                </a:rPr>
                <a:t>VRP: View Refrence Point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05120" y="2971800"/>
              <a:ext cx="2133360" cy="1066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4892760" y="4038480"/>
            <a:ext cx="67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5050"/>
                </a:solidFill>
                <a:latin typeface="Tahoma"/>
              </a:rPr>
              <a:t>VR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32720" y="2666880"/>
            <a:ext cx="3155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99"/>
                </a:solidFill>
                <a:latin typeface="Tahoma"/>
              </a:rPr>
              <a:t>uv: Plano de Projeçã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80520" y="15998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5050"/>
                </a:solidFill>
                <a:latin typeface="Tahoma"/>
              </a:rPr>
              <a:t>Projeção Paralela: Paralelepípedo Infinito de Projeçã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914400"/>
            <a:ext cx="8839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1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Tahoma"/>
              </a:rPr>
              <a:t>6.5. Conceitos Básicos em Projeção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5399400">
            <a:off x="3887280" y="1827000"/>
            <a:ext cx="3276720" cy="3736800"/>
          </a:xfrm>
          <a:prstGeom prst="parallelogram">
            <a:avLst>
              <a:gd name="adj" fmla="val 42079"/>
            </a:avLst>
          </a:prstGeom>
          <a:gradFill rotWithShape="0">
            <a:gsLst>
              <a:gs pos="0">
                <a:srgbClr val="ffffff"/>
              </a:gs>
              <a:gs pos="100000">
                <a:srgbClr val="39393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acaca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5399400">
            <a:off x="4343040" y="2438280"/>
            <a:ext cx="2286000" cy="2590560"/>
          </a:xfrm>
          <a:prstGeom prst="parallelogram">
            <a:avLst>
              <a:gd name="adj" fmla="val 42079"/>
            </a:avLst>
          </a:prstGeom>
          <a:solidFill>
            <a:srgbClr val="0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52960" y="3848040"/>
            <a:ext cx="76320" cy="763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734160" y="3514680"/>
            <a:ext cx="76320" cy="763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863960" y="5295960"/>
            <a:ext cx="2438640" cy="780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5549760" y="5295960"/>
            <a:ext cx="1828800" cy="552240"/>
          </a:xfrm>
          <a:prstGeom prst="line">
            <a:avLst/>
          </a:prstGeom>
          <a:ln w="572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71080" y="6083280"/>
            <a:ext cx="34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ahoma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56120" y="5848200"/>
            <a:ext cx="71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ahoma"/>
              </a:rPr>
              <a:t>VP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05320" y="3705120"/>
            <a:ext cx="152640" cy="1526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737600" y="3352680"/>
            <a:ext cx="5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ahoma"/>
              </a:rPr>
              <a:t>C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2552760" y="3835440"/>
            <a:ext cx="2743200" cy="857160"/>
          </a:xfrm>
          <a:prstGeom prst="line">
            <a:avLst/>
          </a:prstGeom>
          <a:ln w="57240">
            <a:solidFill>
              <a:srgbClr val="ffff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02000" y="4610160"/>
            <a:ext cx="152280" cy="1522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02560" y="48769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ahoma"/>
              </a:rPr>
              <a:t>PR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355560" y="457200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ahoma"/>
              </a:rPr>
              <a:t>DO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80880" y="2895480"/>
            <a:ext cx="7315200" cy="2133720"/>
          </a:xfrm>
          <a:prstGeom prst="line">
            <a:avLst/>
          </a:prstGeom>
          <a:ln w="12600">
            <a:solidFill>
              <a:srgbClr val="acaca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80880" y="1523880"/>
            <a:ext cx="7315200" cy="2210040"/>
          </a:xfrm>
          <a:prstGeom prst="line">
            <a:avLst/>
          </a:prstGeom>
          <a:ln w="12600">
            <a:solidFill>
              <a:srgbClr val="acaca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971440" y="2819520"/>
            <a:ext cx="6172200" cy="1904760"/>
          </a:xfrm>
          <a:prstGeom prst="line">
            <a:avLst/>
          </a:prstGeom>
          <a:ln w="12600">
            <a:solidFill>
              <a:srgbClr val="acaca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971440" y="4191120"/>
            <a:ext cx="6172200" cy="1828800"/>
          </a:xfrm>
          <a:prstGeom prst="line">
            <a:avLst/>
          </a:prstGeom>
          <a:ln w="12600">
            <a:solidFill>
              <a:srgbClr val="acaca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5399400">
            <a:off x="532800" y="3581280"/>
            <a:ext cx="2286000" cy="2590920"/>
          </a:xfrm>
          <a:prstGeom prst="parallelogram">
            <a:avLst>
              <a:gd name="adj" fmla="val 42079"/>
            </a:avLst>
          </a:prstGeom>
          <a:noFill/>
          <a:ln cap="rnd" w="19080">
            <a:solidFill>
              <a:srgbClr val="acaca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5399400">
            <a:off x="7848000" y="1371240"/>
            <a:ext cx="2286000" cy="2590920"/>
          </a:xfrm>
          <a:prstGeom prst="parallelogram">
            <a:avLst>
              <a:gd name="adj" fmla="val 42079"/>
            </a:avLst>
          </a:prstGeom>
          <a:noFill/>
          <a:ln cap="rnd" w="19080">
            <a:solidFill>
              <a:srgbClr val="acaca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80520" y="15998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5050"/>
                </a:solidFill>
                <a:latin typeface="Tahoma"/>
              </a:rPr>
              <a:t>Direção de Projeção DOP </a:t>
            </a:r>
            <a:r>
              <a:rPr b="1" lang="pt-BR" sz="2400" spc="-1" strike="noStrike">
                <a:solidFill>
                  <a:srgbClr val="ffff99"/>
                </a:solidFill>
                <a:latin typeface="Tahoma"/>
              </a:rPr>
              <a:t>sempre</a:t>
            </a:r>
            <a:r>
              <a:rPr b="1" lang="pt-BR" sz="2400" spc="-1" strike="noStrike">
                <a:solidFill>
                  <a:srgbClr val="ff5050"/>
                </a:solidFill>
                <a:latin typeface="Tahoma"/>
              </a:rPr>
              <a:t> Perpendicular ao Plano de Projeção</a:t>
            </a:r>
            <a:br>
              <a:rPr sz="2400"/>
            </a:br>
            <a:r>
              <a:rPr b="0" lang="pt-BR" sz="2400" spc="-1" strike="noStrike">
                <a:solidFill>
                  <a:srgbClr val="ff5050"/>
                </a:solidFill>
                <a:latin typeface="Tahoma"/>
              </a:rPr>
              <a:t>(Paralela ao VP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914400"/>
            <a:ext cx="8839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1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Tahoma"/>
              </a:rPr>
              <a:t>6.5. Projeção Paralela Ortogonal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5399400">
            <a:off x="3887280" y="1827000"/>
            <a:ext cx="3276720" cy="3736800"/>
          </a:xfrm>
          <a:prstGeom prst="parallelogram">
            <a:avLst>
              <a:gd name="adj" fmla="val 42079"/>
            </a:avLst>
          </a:prstGeom>
          <a:gradFill rotWithShape="0">
            <a:gsLst>
              <a:gs pos="0">
                <a:srgbClr val="ffffff"/>
              </a:gs>
              <a:gs pos="100000">
                <a:srgbClr val="39393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acaca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5399400">
            <a:off x="4343040" y="2438280"/>
            <a:ext cx="2286000" cy="2590560"/>
          </a:xfrm>
          <a:prstGeom prst="parallelogram">
            <a:avLst>
              <a:gd name="adj" fmla="val 42079"/>
            </a:avLst>
          </a:prstGeom>
          <a:solidFill>
            <a:srgbClr val="0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52960" y="3848040"/>
            <a:ext cx="76320" cy="763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34160" y="3514680"/>
            <a:ext cx="76320" cy="763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4863960" y="5295960"/>
            <a:ext cx="2438640" cy="780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5549760" y="5295960"/>
            <a:ext cx="1828800" cy="552240"/>
          </a:xfrm>
          <a:prstGeom prst="line">
            <a:avLst/>
          </a:prstGeom>
          <a:ln w="572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771080" y="6083280"/>
            <a:ext cx="34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ahoma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856120" y="5848200"/>
            <a:ext cx="71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ahoma"/>
              </a:rPr>
              <a:t>VP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552760" y="3835440"/>
            <a:ext cx="2743200" cy="857160"/>
          </a:xfrm>
          <a:prstGeom prst="line">
            <a:avLst/>
          </a:prstGeom>
          <a:ln w="19080">
            <a:solidFill>
              <a:srgbClr val="ffff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02000" y="4610160"/>
            <a:ext cx="152280" cy="1522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02560" y="48769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ahoma"/>
              </a:rPr>
              <a:t>PR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355560" y="457200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ahoma"/>
              </a:rPr>
              <a:t>DO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5032800" y="3413880"/>
            <a:ext cx="373680" cy="10656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5029200" y="3505320"/>
            <a:ext cx="0" cy="38088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410080" y="3429000"/>
            <a:ext cx="0" cy="38088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05320" y="3705120"/>
            <a:ext cx="152640" cy="1526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04560" y="1599840"/>
            <a:ext cx="8839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Formas mais antigas de se simular Perspectiva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Usam sistema de coordenadas não-ortogona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952560" indent="-282600"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DOP (geralmente em relação a x) não é perpendicular ao plano de projeção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Principais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Cavaleira (30</a:t>
            </a:r>
            <a:r>
              <a:rPr b="0" lang="pt-BR" sz="2600" spc="-1" strike="noStrike" baseline="30000">
                <a:solidFill>
                  <a:srgbClr val="ffffff"/>
                </a:solidFill>
                <a:latin typeface="Tahoma"/>
              </a:rPr>
              <a:t>o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Cabinet (60</a:t>
            </a:r>
            <a:r>
              <a:rPr b="0" lang="pt-BR" sz="2600" spc="-1" strike="noStrike" baseline="30000">
                <a:solidFill>
                  <a:srgbClr val="ffffff"/>
                </a:solidFill>
                <a:latin typeface="Tahoma"/>
              </a:rPr>
              <a:t>o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Não veremos nesta disciplina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914400"/>
            <a:ext cx="8839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1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Tahoma"/>
              </a:rPr>
              <a:t>6.5. Projeção Paralela Não-Ortogonal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04920" y="914400"/>
            <a:ext cx="8839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1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Tahoma"/>
              </a:rPr>
              <a:t>6.6. Projeção Paralela Ortogonal (Isométrica)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5399400">
            <a:off x="4000320" y="1714320"/>
            <a:ext cx="4267080" cy="4952880"/>
          </a:xfrm>
          <a:prstGeom prst="parallelogram">
            <a:avLst>
              <a:gd name="adj" fmla="val 42079"/>
            </a:avLst>
          </a:prstGeom>
          <a:gradFill rotWithShape="0">
            <a:gsLst>
              <a:gs pos="0">
                <a:srgbClr val="ffffff"/>
              </a:gs>
              <a:gs pos="100000">
                <a:srgbClr val="39393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acaca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5399400">
            <a:off x="4341600" y="2133360"/>
            <a:ext cx="3429000" cy="4038480"/>
          </a:xfrm>
          <a:prstGeom prst="parallelogram">
            <a:avLst>
              <a:gd name="adj" fmla="val 42079"/>
            </a:avLst>
          </a:prstGeom>
          <a:solidFill>
            <a:srgbClr val="0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666880" y="4571640"/>
            <a:ext cx="1983240" cy="1524600"/>
            <a:chOff x="2666880" y="4571640"/>
            <a:chExt cx="1983240" cy="1524600"/>
          </a:xfrm>
        </p:grpSpPr>
        <p:sp>
          <p:nvSpPr>
            <p:cNvPr id="168" name=""/>
            <p:cNvSpPr/>
            <p:nvPr/>
          </p:nvSpPr>
          <p:spPr>
            <a:xfrm rot="5399400">
              <a:off x="2705760" y="4685400"/>
              <a:ext cx="1371600" cy="1449360"/>
            </a:xfrm>
            <a:prstGeom prst="parallelogram">
              <a:avLst>
                <a:gd name="adj" fmla="val 42079"/>
              </a:avLst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spcBef>
                  <a:spcPts val="31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5399400">
              <a:off x="3239280" y="4533120"/>
              <a:ext cx="1371600" cy="1449360"/>
            </a:xfrm>
            <a:prstGeom prst="parallelogram">
              <a:avLst>
                <a:gd name="adj" fmla="val 42079"/>
              </a:avLst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spcBef>
                  <a:spcPts val="31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2666880" y="4571640"/>
              <a:ext cx="533520" cy="152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4114800" y="5143320"/>
              <a:ext cx="533160" cy="152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2666880" y="5371920"/>
              <a:ext cx="533520" cy="152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114800" y="5943240"/>
              <a:ext cx="533160" cy="152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200400" y="3886200"/>
            <a:ext cx="3735720" cy="2044800"/>
            <a:chOff x="3200400" y="3886200"/>
            <a:chExt cx="3735720" cy="2044800"/>
          </a:xfrm>
        </p:grpSpPr>
        <p:sp>
          <p:nvSpPr>
            <p:cNvPr id="175" name=""/>
            <p:cNvSpPr/>
            <p:nvPr/>
          </p:nvSpPr>
          <p:spPr>
            <a:xfrm flipH="1">
              <a:off x="3200400" y="3886200"/>
              <a:ext cx="2286000" cy="685800"/>
            </a:xfrm>
            <a:prstGeom prst="line">
              <a:avLst/>
            </a:prstGeom>
            <a:ln w="12600">
              <a:solidFill>
                <a:srgbClr val="ffff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5399400">
              <a:off x="5525280" y="3847320"/>
              <a:ext cx="1371600" cy="1449360"/>
            </a:xfrm>
            <a:prstGeom prst="parallelogram">
              <a:avLst>
                <a:gd name="adj" fmla="val 39352"/>
              </a:avLst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spcBef>
                  <a:spcPts val="31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4648320" y="4432320"/>
              <a:ext cx="2286000" cy="685800"/>
            </a:xfrm>
            <a:prstGeom prst="line">
              <a:avLst/>
            </a:prstGeom>
            <a:ln w="12600">
              <a:solidFill>
                <a:srgbClr val="ffff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4648320" y="5245200"/>
              <a:ext cx="2286000" cy="685800"/>
            </a:xfrm>
            <a:prstGeom prst="line">
              <a:avLst/>
            </a:prstGeom>
            <a:ln w="12600">
              <a:solidFill>
                <a:srgbClr val="ffff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3200400" y="4724280"/>
              <a:ext cx="2286000" cy="622440"/>
            </a:xfrm>
            <a:prstGeom prst="line">
              <a:avLst/>
            </a:prstGeom>
            <a:ln w="12600">
              <a:solidFill>
                <a:srgbClr val="ffff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04920" y="914400"/>
            <a:ext cx="8839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1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Tahoma"/>
              </a:rPr>
              <a:t>6.6. Projeção Paralela Cavaleira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5399400">
            <a:off x="4000320" y="1714320"/>
            <a:ext cx="4267080" cy="4952880"/>
          </a:xfrm>
          <a:prstGeom prst="parallelogram">
            <a:avLst>
              <a:gd name="adj" fmla="val 42079"/>
            </a:avLst>
          </a:prstGeom>
          <a:gradFill rotWithShape="0">
            <a:gsLst>
              <a:gs pos="0">
                <a:srgbClr val="ffffff"/>
              </a:gs>
              <a:gs pos="100000">
                <a:srgbClr val="39393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acaca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5399400">
            <a:off x="4341600" y="2133360"/>
            <a:ext cx="3429000" cy="4038480"/>
          </a:xfrm>
          <a:prstGeom prst="parallelogram">
            <a:avLst>
              <a:gd name="adj" fmla="val 42079"/>
            </a:avLst>
          </a:prstGeom>
          <a:solidFill>
            <a:srgbClr val="0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143000" y="3580920"/>
            <a:ext cx="1983240" cy="1524600"/>
            <a:chOff x="1143000" y="3580920"/>
            <a:chExt cx="1983240" cy="1524600"/>
          </a:xfrm>
        </p:grpSpPr>
        <p:sp>
          <p:nvSpPr>
            <p:cNvPr id="184" name=""/>
            <p:cNvSpPr/>
            <p:nvPr/>
          </p:nvSpPr>
          <p:spPr>
            <a:xfrm rot="5399400">
              <a:off x="1181880" y="3694680"/>
              <a:ext cx="1371600" cy="1449360"/>
            </a:xfrm>
            <a:prstGeom prst="parallelogram">
              <a:avLst>
                <a:gd name="adj" fmla="val 42079"/>
              </a:avLst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spcBef>
                  <a:spcPts val="31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5399400">
              <a:off x="1715400" y="3542400"/>
              <a:ext cx="1371600" cy="1449360"/>
            </a:xfrm>
            <a:prstGeom prst="parallelogram">
              <a:avLst>
                <a:gd name="adj" fmla="val 42079"/>
              </a:avLst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spcBef>
                  <a:spcPts val="31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1143000" y="3580920"/>
              <a:ext cx="533520" cy="152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2590920" y="4152600"/>
              <a:ext cx="533160" cy="152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143000" y="4381200"/>
              <a:ext cx="533520" cy="152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2590920" y="4952520"/>
              <a:ext cx="533160" cy="152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 flipH="1" flipV="1">
            <a:off x="1676520" y="3580920"/>
            <a:ext cx="4038480" cy="381240"/>
          </a:xfrm>
          <a:prstGeom prst="line">
            <a:avLst/>
          </a:prstGeom>
          <a:ln w="12600">
            <a:solidFill>
              <a:srgbClr val="ffff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5399400">
            <a:off x="6287400" y="4152240"/>
            <a:ext cx="1371600" cy="1449360"/>
          </a:xfrm>
          <a:prstGeom prst="parallelogram">
            <a:avLst>
              <a:gd name="adj" fmla="val 39352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3124080" y="4191120"/>
            <a:ext cx="4114800" cy="380880"/>
          </a:xfrm>
          <a:prstGeom prst="line">
            <a:avLst/>
          </a:prstGeom>
          <a:ln w="12600">
            <a:solidFill>
              <a:srgbClr val="ffff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3048120" y="4952520"/>
            <a:ext cx="3962160" cy="381240"/>
          </a:xfrm>
          <a:prstGeom prst="line">
            <a:avLst/>
          </a:prstGeom>
          <a:ln w="12600">
            <a:solidFill>
              <a:srgbClr val="ffff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1676520" y="4419720"/>
            <a:ext cx="4038480" cy="380880"/>
          </a:xfrm>
          <a:prstGeom prst="line">
            <a:avLst/>
          </a:prstGeom>
          <a:ln w="12600">
            <a:solidFill>
              <a:srgbClr val="ffff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5399400">
            <a:off x="5753880" y="3948840"/>
            <a:ext cx="1371600" cy="1449360"/>
          </a:xfrm>
          <a:prstGeom prst="parallelogram">
            <a:avLst>
              <a:gd name="adj" fmla="val 39352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2590560" y="5105520"/>
            <a:ext cx="5105160" cy="457200"/>
          </a:xfrm>
          <a:prstGeom prst="line">
            <a:avLst/>
          </a:prstGeom>
          <a:ln w="12600">
            <a:solidFill>
              <a:srgbClr val="ffff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2590560" y="4267080"/>
            <a:ext cx="5105160" cy="457200"/>
          </a:xfrm>
          <a:prstGeom prst="line">
            <a:avLst/>
          </a:prstGeom>
          <a:ln w="12600">
            <a:solidFill>
              <a:srgbClr val="ffff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1143000" y="4508640"/>
            <a:ext cx="5105520" cy="457200"/>
          </a:xfrm>
          <a:prstGeom prst="line">
            <a:avLst/>
          </a:prstGeom>
          <a:ln w="12600">
            <a:solidFill>
              <a:srgbClr val="ffff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4419720" y="3505320"/>
            <a:ext cx="129528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241880" y="3505320"/>
            <a:ext cx="177840" cy="304560"/>
          </a:xfrm>
          <a:custGeom>
            <a:avLst/>
            <a:gdLst/>
            <a:ahLst/>
            <a:rect l="l" t="t" r="r" b="b"/>
            <a:pathLst>
              <a:path w="112" h="192">
                <a:moveTo>
                  <a:pt x="16" y="192"/>
                </a:moveTo>
                <a:cubicBezTo>
                  <a:pt x="8" y="136"/>
                  <a:pt x="0" y="80"/>
                  <a:pt x="16" y="48"/>
                </a:cubicBezTo>
                <a:cubicBezTo>
                  <a:pt x="32" y="16"/>
                  <a:pt x="96" y="8"/>
                  <a:pt x="112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94360" y="3048120"/>
            <a:ext cx="68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(30</a:t>
            </a:r>
            <a:r>
              <a:rPr b="1" lang="pt-BR" sz="2000" spc="-1" strike="noStrike" baseline="30000">
                <a:solidFill>
                  <a:srgbClr val="ffff99"/>
                </a:solidFill>
                <a:latin typeface="Times New Roman"/>
              </a:rPr>
              <a:t>o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26T23:05:24Z</dcterms:created>
  <dc:creator>Prof. Dr. rer. nat. Aldo v. Wangenheim</dc:creator>
  <dc:description/>
  <dc:language>en-US</dc:language>
  <cp:lastModifiedBy> </cp:lastModifiedBy>
  <dcterms:modified xsi:type="dcterms:W3CDTF">2001-04-24T14:04:13Z</dcterms:modified>
  <cp:revision>535</cp:revision>
  <dc:subject/>
  <dc:title>Integração de Gerência e Análise Informatizada de Imagens em Sistemas de Informatização Hospitalar  Prof. Dr. rer.nat. Aldo von Wangenheim</dc:title>
</cp:coreProperties>
</file>